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5FC-DBF8-49EE-A178-9CDA1A36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8E8-DC6B-4452-AD69-3B8F20B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349-D3F4-4558-8307-70473B77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49-666E-40D4-8E7E-6576355F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4B6-8FB3-447D-A53D-6627FDC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E910-597A-42C5-92D9-356B4B5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9673-A104-454F-ABFC-5ED9260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4626-0D6D-4C22-B4D8-551C037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A5E-F4DD-4376-B271-1E590D1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D02-7B6F-405B-A6A8-128B879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AFE-9659-4183-9758-939285E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000-9652-4797-800D-A0387830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DE0-A11B-48D3-B0A7-356B583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049-E023-440C-AB03-73ABD528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C0DE-26FA-43AA-86BA-F7E39C6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ED0B-FD0B-49FF-9329-C93C3025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9BAA-696F-4A4C-B317-0F5495FD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698-99FB-4659-868E-CFF42FD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5A4-8274-47D1-9082-1B1D483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328-FA57-4F9C-876D-0C5BFC27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604-A749-40BC-97EE-86BEF4BA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DAC-EF82-465B-981B-92C7E778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EFF-7617-4A48-918A-07EE3B0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9E0-6C0E-4D2E-9F26-9A4ECE0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E8F-D538-41FE-B198-8E26812D2C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469-C132-40A4-8B66-2E328560F6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Symbolic Mathematic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ic mathema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eb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pl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8471160" cy="469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pand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expand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is used to expand an expression by expanding the products of factors in an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xpand the numerator of 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410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2*x^2 + 12*x +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5480" y="4114800"/>
            <a:ext cx="8547120" cy="46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factor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is used to factor an expression into a product of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xample: Factor the expression fo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05520"/>
            <a:ext cx="8229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x +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1800" y="3886200"/>
            <a:ext cx="8623080" cy="909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implify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219320"/>
            <a:ext cx="830556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implify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uses the Maple simplification algorithm to simplify  each part of an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nter the expre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3341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12*a - a^3 + 3*a^2 - 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5480" y="3352680"/>
            <a:ext cx="8242200" cy="470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imple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imple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executes many techniques to simplify an expression; its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is the simplest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2670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3*a - (a + 3)*(a -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: The simple() command displays  the results of all simplification methods; only the final result, i.e., the answ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) is shown 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5480" y="2666880"/>
            <a:ext cx="8470800" cy="90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2sym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7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2sym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uses an array of coefficients to create a polynom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9625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b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x^2 + 3*x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2578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ym2poly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inverse of poly2sym(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5480" y="3429000"/>
            <a:ext cx="8470800" cy="90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ve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400" y="1294920"/>
            <a:ext cx="8078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olve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sets an expression equal to zero, then solves the equation for its roo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952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5480" y="1752480"/>
            <a:ext cx="8470800" cy="4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080" y="2590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1/2/a*( -b + (b^2 - 4*a*c)^(1/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1/2/a*( -b - (b^2 - 4*a*c)^(1/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: The expression is in single quotes; if the symbolic variables in the expression have not been defined previously, then the single quotes are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5480" y="18288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124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-(b*x + c)/x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952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ote that this solves the expression for “a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5480" y="2514600"/>
            <a:ext cx="8547120" cy="1785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stems of equ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solve() to find the solution of a system of equ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x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45720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y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45720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z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638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Note that the solve function produces symbolic output.  You can change the output to numerical values with the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double()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omm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446640"/>
            <a:ext cx="8471160" cy="1201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bstitution with subs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37160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bs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allows you to substitute a symbol with another symbol or assign a number to a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5334120"/>
            <a:ext cx="3124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yquadratic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*y^2 + b*y +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ymbolic” toolbox allows you to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expressions in symbolic form with symbolic data t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and or simplify symbolic expres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symbolic roots, limits, minima, maxim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iate and integrate symbolic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te Taylor series of functions (among other tool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 algebraic and differential equations symbolic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 simultaneous equations (even some nonlinear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variable precision arithmet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graphical representations of symbolic fun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50292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ple substitu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5760" y="16002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the subs() command to do multiple substitutions in one command.  This is done by grouping the variables and their substitutes (other variables or numerical values) in bra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1320" y="434340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ourier New"/>
              </a:rPr>
              <a:t>subs(symbolic_functio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{substitutant}, {substitute}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4640" y="4419720"/>
            <a:ext cx="8469360" cy="777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lotting symbol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455760" y="1370160"/>
            <a:ext cx="845496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symbolic functions in MATLAB is done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zplot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 of comman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ntax of ezplot() when y is a function of x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9040" y="365760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zplot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4120" y="400212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fferenti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1370160"/>
            <a:ext cx="84549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allows you to differentiate  symbolic funct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iff()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ntax of diff(), when f is a symbolic function of the variable x and n is the order of the derivative to be determined,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9040" y="304812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1320" y="43434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diff(f,'x'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,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791320"/>
            <a:ext cx="136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*x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57913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a second derivative. Your result should b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48006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5760" y="1370160"/>
            <a:ext cx="84549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allows you to integrate symbolic funct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t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. Either definite integrals, with assigned numeric or symbolic bounds, or indefinite integrals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(note that when you compute indefinite integrals, the constant of integration does </a:t>
            </a: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appear explicitl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1320" y="411480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nt(y,'x',a,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1320" y="5410080"/>
            <a:ext cx="350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1/3*x^3-x^2+3*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5364000"/>
            <a:ext cx="5257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a definite integral for 1&lt;x&lt;2. The result should be 7/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consta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ant to display the integration constant when applying the int() function, you can do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syms x y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y = 2*x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int(y,’a’,’x’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ns =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x^2–a^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symbolic toolbox to solve the following system of equ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+ 2y - z =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x + 8y + 7z =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x + 7y + 9z = 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elocity of a car is v = t^2 – 3t + 5. Find the displacement for 1&lt;t&lt;5 and the acceleration at t=1.5.  Plot the equations for distance, velocity, and acceleration on one grap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Symbolic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(‘x’), syms x, expressions i.e. e=sym(‘m*c^2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den, expand, factor, collect, simplify, simple, poly2sy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ve, su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o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zp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(y, ‘x’, 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(y, ‘x’, a, 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5480" y="5105520"/>
            <a:ext cx="847080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8471160" cy="470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eating Symbolic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rder to use the symbolic toolbox, you must creat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symbolic vari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one symbolic variable, typ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You can also use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y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3200" y="29718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eating Multiple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several symbolic variables use the syms command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80988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is creates the symbolic variables  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K, T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P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; execute the command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wh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to check that this is indeed the c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5480" y="350532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reating a symbolic expression with symbolic variab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an expression using existing symbolic variables, typ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reates a symbolic expression that includes the exponential function. It could represent the exponential growth of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reating an expression with sym()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778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also create symbolic express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ym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95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5480" y="3124080"/>
            <a:ext cx="847080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mbolic equ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possible to write equations with the symbolic toolbox. Type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equation is the ideal gas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Manipulating symbolic express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umden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xpand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ctor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ollect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implify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impl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2sym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5480" y="3886200"/>
            <a:ext cx="8547120" cy="90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den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umden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used to separate the numerator and denominator of a quoti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numden() on the following express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9528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numerator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2*(x +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enominator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x^2 + 6*x + 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54Z</dcterms:modified>
  <cp:revision>74</cp:revision>
  <dc:subject/>
  <dc:title>ES100: Lecture 08 Symbolic Mathematics</dc:title>
</cp:coreProperties>
</file>