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C576-4485-4678-AC89-F312AFC8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6E6-6FD3-43BD-B62B-FDD64B0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4E2-0D51-4BDD-B44F-8D3A013A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2E0C-57D8-438F-A474-7B8E8032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A53F-B154-4DA8-8F99-149A83FF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817D-1436-49C9-A3FF-458457AE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237F-B9F2-423D-941C-E67C6DF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0E5D-0367-4582-8F0C-E061668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F0D6-9FC4-44F0-B8B5-43B8FA90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4F85-156B-4B5D-BF7F-3AAB90EA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0305-2FF5-4596-A5F4-88494FE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911-0D47-4DE0-9FBD-30988C36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FC83-89AE-42E4-A041-C3FBCAD5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D935-B153-4EA9-82D8-63265A9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866B-7899-45E1-8E71-492085E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3255-4D76-4A7E-AB6A-B4BE13A8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042C-8A83-4EAB-A6B4-62D7B140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6BC-B397-453F-B042-581549D3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3B7-647C-46ED-9C0C-5098B7D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204-FCA3-4B28-9564-76DB3EB8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FDD-0D91-466D-B2D3-3229A363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72F-C49B-48CF-BFAB-AA71D8EA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596-B336-467B-8970-ABBEAAF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FAE-89C1-47C0-821E-557418D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CBF3-7798-4723-A0B2-2A6FE31A92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BEAF-864D-4F2B-A377-CAE72EB213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Symbolic Mathematic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mbolic mathematic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eb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zplo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4648320"/>
            <a:ext cx="8471160" cy="469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pand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expand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is used to expand an expression by expanding the products of factors in an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xpand the numerator of 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4100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2*x^2 + 12*x + 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5480" y="4114800"/>
            <a:ext cx="8547120" cy="469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factor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is used to factor an expression into a product of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xample: Factor the expression for the denominat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05520"/>
            <a:ext cx="8229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x +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1800" y="3886200"/>
            <a:ext cx="8623080" cy="9097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implify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219320"/>
            <a:ext cx="830556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implify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uses the Maple simplification algorithm to simplify  each part of an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Enter the express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533412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12*a - a^3 + 3*a^2 - 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25480" y="3352680"/>
            <a:ext cx="8242200" cy="4701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imple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371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imple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 executes many techniques to simplify an expression; its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a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is the simplest ex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42670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3*a - (a + 3)*(a -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: The simple() command displays  the results of all simplification methods; only the final result, i.e., the answ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) is shown 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5480" y="2666880"/>
            <a:ext cx="8470800" cy="9097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oly2sym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37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2sym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uses an array of coefficients to create a polynom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9625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b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x^2 + 3*x +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25780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unction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ym2poly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the inverse of poly2sym(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5480" y="3429000"/>
            <a:ext cx="8470800" cy="90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olve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400" y="1294920"/>
            <a:ext cx="8078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olve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sets an expression equal to zero, then solves the equation for its roo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952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25480" y="1752480"/>
            <a:ext cx="8470800" cy="470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080" y="2590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1/2/a*( -b + (b^2 - 4*a*c)^(1/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1/2/a*( -b - (b^2 - 4*a*c)^(1/2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441972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: The expression is in single quotes; if the symbolic variables in the expression have not been defined previously, then the single quotes are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5480" y="18288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3124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urier New"/>
                <a:ea typeface="Arial"/>
              </a:rPr>
              <a:t>-(b*x + c)/x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49528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ote that this solves the expression for “a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25480" y="2514600"/>
            <a:ext cx="8547120" cy="17859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stems of equ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solve() to find the solution of a system of equ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457200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x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45720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y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457200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z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638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Note that the solve function produces symbolic output.  You can change the output to numerical values with the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double()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comm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446640"/>
            <a:ext cx="8471160" cy="1201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bstitution with subs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37160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ubs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allows you to substitute a symbol with another symbol or assign a number to a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5334120"/>
            <a:ext cx="3124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yquadratic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a*y^2 + b*y +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ymbolic” toolbox allows you to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expressions in symbolic form with symbolic data typ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and or simplify symbolic expres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d symbolic roots, limits, minima, maxima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iate and integrate symbolic fun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te Taylor series of functions (among other tool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 algebraic and differential equations symbolic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ve simultaneous equations (even some nonlinear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variable precision arithmeti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graphical representations of symbolic funct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6920" y="50292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ultiple substitu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455760" y="16002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use the subs() command to do multiple substitutions in one command.  This is done by grouping the variables and their substitutes (other variables or numerical values) in brac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791320"/>
            <a:ext cx="1371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1320" y="434340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Courier New"/>
              </a:rPr>
              <a:t>subs(symbolic_function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{substitutant}, {substitute}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74640" y="4419720"/>
            <a:ext cx="8469360" cy="7776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lotting symbol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455760" y="1370160"/>
            <a:ext cx="845496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ting symbolic functions in MATLAB is done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zplot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et of comman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ntax of ezplot() when y is a function of x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9040" y="365760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zplot(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334120" y="400212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38080" y="50292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fferenti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55760" y="1370160"/>
            <a:ext cx="845496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allows you to differentiate  symbolic funct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iff()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yntax of diff(), when f is a symbolic function of the variable x and n is the order of the derivative to be determined,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9040" y="3048120"/>
            <a:ext cx="845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1320" y="43434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diff(f,'x'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,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791320"/>
            <a:ext cx="136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*x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5791320"/>
            <a:ext cx="541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a second derivative. Your result should b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26920" y="4800600"/>
            <a:ext cx="8469360" cy="4698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455760" y="1370160"/>
            <a:ext cx="845496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TLAB allows you to integrate symbolic funct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nt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. Either definite integrals, with assigned numeric or symbolic bounds, or indefinite integrals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(note that when you compute indefinite integrals, the constant of integration does </a:t>
            </a:r>
            <a:r>
              <a:rPr b="0" i="1" lang="en-US" sz="2000" spc="-1" strike="noStrike">
                <a:solidFill>
                  <a:srgbClr val="ff6600"/>
                </a:solidFill>
                <a:latin typeface="Tahoma"/>
              </a:rPr>
              <a:t>not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 appear explicitl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1320" y="4114800"/>
            <a:ext cx="281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nt(y,'x',a,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41320" y="5410080"/>
            <a:ext cx="350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1/3*x^3-x^2+3*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5364000"/>
            <a:ext cx="5257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a definite integral for 1&lt;x&lt;2. The result should be 7/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consta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ant to display the integration constant when applying the int() function, you can do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syms x y 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y = 2*x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int(y,’a’,’x’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ns =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x^2–a^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symbolic toolbox to solve the following system of equ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+ 2y - z =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x + 8y + 7z =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x + 7y + 9z = 2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elocity of a car is v = t^2 – 3t + 5. Find the displacement for 1&lt;t&lt;5 and the acceleration at t=1.5.  Plot the equations for distance, velocity, and acceleration on one grap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ing Symbolic Expre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m(‘x’), syms x, expressions i.e. e=sym(‘m*c^2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mden, expand, factor, collect, simplify, simple, poly2sy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ve, su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o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zpl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ff(y, ‘x’, 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(y, ‘x’, a, b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5480" y="5105520"/>
            <a:ext cx="8470800" cy="46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8471160" cy="470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eating Symbolic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order to use the symbolic toolbox, you must creat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symbolic variabl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one symbolic variable, typ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You can also use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  <a:ea typeface="Arial"/>
              </a:rPr>
              <a:t>sy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3200" y="29718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eating Multiple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several symbolic variables use the syms command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048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809880"/>
            <a:ext cx="8077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This creates the symbolic variables  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K, T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P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; execute the command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  <a:ea typeface="Arial"/>
              </a:rPr>
              <a:t>wh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to check that this is indeed the c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5480" y="350532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reating a symbolic expression with symbolic variab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05380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create an expression using existing symbolic variables, typ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34340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reates a symbolic expression that includes the exponential function. It could represent the exponential growth of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8470800" cy="469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Creating an expression with sym()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77840"/>
            <a:ext cx="8229600" cy="11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also create symbolic expressions with 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ym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495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5480" y="3124080"/>
            <a:ext cx="847080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mbolic equ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possible to write equations with the symbolic toolbox. Type the follow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equation is the ideal gas la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Manipulating symbolic express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umden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xpand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factor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ollect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implify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simple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oly2sym(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5480" y="3886200"/>
            <a:ext cx="8547120" cy="909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umden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numden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used to separate the numerator and denominator of a quoti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numden() on the following express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95288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numerator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2*(x + 3)^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enominator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Arial"/>
              </a:rPr>
              <a:t>(x^2 + 6*x + 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54Z</dcterms:modified>
  <cp:revision>74</cp:revision>
  <dc:subject/>
  <dc:title>ES100: Lecture 08 Symbolic Mathematics</dc:title>
</cp:coreProperties>
</file>