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147-97F8-4E15-BCDD-8DBC29E7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AC3-FAC0-48F0-8583-6FA988DF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D65-D756-486C-93D9-034BFEA2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0D5-9225-4B7D-A947-5DD204BD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EEFA-AC6F-492C-894F-1175CF97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E863-0025-4411-9DE5-6DC0541A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835A-E19D-4D29-B3A9-0C3F2B19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39D7-9D8A-45C3-9A1F-95C57B9E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8EA7-1C11-4DC4-A46E-769BEA98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FC7D-801F-433C-BCD5-6187A760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5CBB-F1D3-4D0B-BEE4-A2F8616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835-0C16-4F0A-AF26-B047889E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8483-7D52-4574-8E52-D409CC95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BA35-E6F0-40B1-81B4-D74BC207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8453-08C8-4A60-83AB-1B1E7215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6AE1-884F-4BD6-ACAA-7A340252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1003-B789-483F-B5B0-692AE731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EFEC-8BFF-463A-BBD2-5F35CCF8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69EC-25D7-4266-974C-A60AEA1F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C33B3-C671-44A7-9D1D-3C527E06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FF08-2BAB-480B-B56B-B4ADEA8A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85BC-2D07-4ECB-B447-486B6DDF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6FB-1DFC-4E3A-9B29-A4ADBC05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1161E-C039-47DB-A941-0CD351D3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DF7D2-B684-4E6D-A0D0-D38DC55F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A9B1D-718F-49F3-9845-081CAB84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76FD-3980-4F37-B788-119C47E2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D6833-6388-448C-A88B-2263A30A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21634-D01D-4571-BB48-8AAA0D7F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7906-99CE-4800-8D50-140A77D2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CE88F-86AE-4F24-8680-03AD22C6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1659E-BE78-4FF1-A6EA-A32BB522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DC22-8368-4B39-AD46-774D8FBC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422-70B7-4486-B87B-3D222A91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9E13D-0374-4D67-BDB9-DEB706EB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5D12F-8A99-4F12-99D9-E8A300E4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B7549-6321-4E70-B631-CDCBD4CB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44D7-927D-4799-BB50-C0C29CD0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78BD7-A472-4A39-831E-1FA9D755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A08AE-005F-429C-8D4E-D4578955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EB547-BC55-4E9D-BB48-EA5A91AA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56B97-E663-4DE0-98D4-BBC663BB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3A85F-AD2F-42D3-B377-02E8BC9C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E3F39-2AAB-4190-8640-C27F140E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E86-9C48-45C7-A8C6-D15A5165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E4F8B-FB86-45F8-9E48-BE2C09A8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B1643-F1CB-4B31-88FA-82B4196E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7E01D-70EC-498C-AF61-661328FD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FC6B1-A275-46A2-8291-36964155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010FE-13AB-4603-ABA2-5834788C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D0825-2662-42DF-AC66-527CBAAC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9933E-5D3B-4371-B319-07F9A388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2FEFB-601F-455A-BB85-1F2EF552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50121-2C44-44A4-B7C5-A3C2D900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4B8DD-DE56-4CB8-A3E3-FA1FC482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FA6-F3EB-4208-BC32-8950BFAA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B99F7-A0E7-4ED7-8D8F-074D877F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1FB-37E2-4D2D-8910-519C882B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2626-3D17-4220-8999-2A27A4B9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8DD-CA99-4F10-B876-030612E1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10F1-13E7-409C-8640-08122765AFF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196D-6169-45B9-B14F-94C7C0D404B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65D5-8599-4992-817C-00F6FEC601D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733B-7B48-43C1-991E-7A04243248D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969B-91DE-4CA2-ABCB-E7C718CFC4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ealth.howstuffworks.com/sunscreen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000000"/>
              </a:solidFill>
              <a:latin typeface="Perpetua"/>
              <a:ea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Sweat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6c5d"/>
                </a:solidFill>
                <a:latin typeface="Perpetua"/>
              </a:rPr>
              <a:t>Characteris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ahoma"/>
              </a:rPr>
              <a:t>Composition of the primary secretion is very similar to that of plasma except that it does not contain plasma protei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ahoma"/>
              </a:rPr>
              <a:t>S.G: 1.002 – 1.005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ahoma"/>
              </a:rPr>
              <a:t>PH: 4.5 – 7.5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Na+ : 30-70 mg ( less)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K+ : 0-5mg  (same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Cl- : 30-70 mg (less)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Urea: 4-6 times higher than in plasm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Lactic acid : higher than in plasma specially in athlet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ahoma"/>
              </a:rPr>
              <a:t>[Glucose] in a very small amou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6c5d"/>
                </a:solidFill>
                <a:latin typeface="Perpetua"/>
              </a:rPr>
              <a:t>Factors affecting the composition of swe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352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4a3d"/>
                </a:solidFill>
                <a:uFillTx/>
                <a:latin typeface="Perpetua"/>
              </a:rPr>
              <a:t>Low sweat rate</a:t>
            </a:r>
            <a:r>
              <a:rPr b="0" lang="en-US" sz="2800" spc="-1" strike="noStrike" u="sng">
                <a:solidFill>
                  <a:srgbClr val="704a3d"/>
                </a:solidFill>
                <a:uFillTx/>
                <a:latin typeface="Perpetua"/>
              </a:rPr>
              <a:t> </a:t>
            </a:r>
            <a:r>
              <a:rPr b="1" lang="en-US" sz="2800" spc="-1" strike="noStrike" u="sng">
                <a:solidFill>
                  <a:srgbClr val="704a3d"/>
                </a:solidFill>
                <a:uFillTx/>
                <a:latin typeface="Perpetua"/>
              </a:rPr>
              <a:t>(rest, cool temperature)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ahoma"/>
              </a:rPr>
              <a:t>The primary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luid passes through the duct very slowly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-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re reabsorbed which reduces the osmotic pressure of the fluid leading to water reabsorption and concentrating  most of the other constituents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us ,at low sweating rates, the sweat produced is low in volume and is more concentrated in  constituents such as urea, lactic and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less concentrated in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-     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696464"/>
              </a:solidFill>
              <a:latin typeface="Franklin Gothic Book"/>
              <a:ea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600" y="17524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4a3d"/>
                </a:solidFill>
                <a:uFillTx/>
                <a:latin typeface="Perpetua"/>
              </a:rPr>
              <a:t>High sweat rate</a:t>
            </a:r>
            <a:r>
              <a:rPr b="0" lang="en-US" sz="2800" spc="-1" strike="noStrike" u="sng">
                <a:solidFill>
                  <a:srgbClr val="704a3d"/>
                </a:solidFill>
                <a:uFillTx/>
                <a:latin typeface="Perpetua"/>
              </a:rPr>
              <a:t> </a:t>
            </a:r>
            <a:r>
              <a:rPr b="1" lang="en-US" sz="2800" spc="-1" strike="noStrike" u="sng">
                <a:solidFill>
                  <a:srgbClr val="704a3d"/>
                </a:solidFill>
                <a:uFillTx/>
                <a:latin typeface="Perpetua"/>
              </a:rPr>
              <a:t>(work, exercise, hot temperature)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en the sweat glands are strongly stimulated, large amount of primary secretion are formed which will  flow too rapidly through the sweat duct reducing the chance of 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reabsorption , thus water reabsorption is also reduced leading eventually to the production of a large volume and  less concentrated sweat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sweat"/>
          <p:cNvPicPr/>
          <p:nvPr/>
        </p:nvPicPr>
        <p:blipFill>
          <a:blip r:embed="rId1"/>
          <a:stretch/>
        </p:blipFill>
        <p:spPr>
          <a:xfrm>
            <a:off x="1447920" y="380880"/>
            <a:ext cx="60195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8c6a"/>
                </a:solidFill>
                <a:latin typeface="Times New Roman"/>
                <a:ea typeface="Times New Roman"/>
              </a:rPr>
              <a:t>Sweating control and stimulation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ing is controlled  from a center i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othalam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thermosensitive neurons are located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 glands are stimulated in response to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high temperature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exercis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hormon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emotional stres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d0d0d"/>
                </a:solidFill>
                <a:latin typeface="Perpetu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8c6a"/>
                </a:solidFill>
                <a:latin typeface="Times New Roman"/>
                <a:ea typeface="Times New Roman"/>
              </a:rPr>
              <a:t>Sweating Abnormaliti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3611"/>
                </a:solidFill>
                <a:latin typeface="Times New Roman"/>
                <a:ea typeface="Times New Roman"/>
              </a:rPr>
              <a:t>Hyperhidros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t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ly  increased sweating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known causes include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esity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hyroidism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bete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medication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8c6a"/>
                </a:solidFill>
                <a:latin typeface="Franklin Gothic Book"/>
              </a:rPr>
              <a:t>Sweating Abnormaliti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088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e3611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9e3611"/>
                </a:solidFill>
                <a:latin typeface="Times New Roman"/>
                <a:ea typeface="Times New Roman"/>
              </a:rPr>
              <a:t>Hypohidrosis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partial loss of sweating, while </a:t>
            </a:r>
            <a:r>
              <a:rPr b="1" lang="en-US" sz="2800" spc="-1" strike="noStrike">
                <a:solidFill>
                  <a:srgbClr val="9e3611"/>
                </a:solidFill>
                <a:latin typeface="Times New Roman"/>
                <a:ea typeface="Times New Roman"/>
              </a:rPr>
              <a:t>anhidr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omplete lack of sweating. This can occur for a number of reasons, which include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skin disorder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 to skin that damage the sweat gland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active thyroid (hypothyroidism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hydration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8c6a"/>
                </a:solidFill>
                <a:latin typeface="Times New Roman"/>
                <a:ea typeface="Times New Roman"/>
              </a:rPr>
              <a:t>Sweat tes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Chloride sweat test ;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measures the concentration of chloride that is excreted in sweat, and is used to screen for cystic fibrosis(CF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Cystic fibrosis transmembrane conductance regulator (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CFTR),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hloride channel is defective. Thus, preventing chloride to be reabsorbed into sweat duct cells . Consequently, more chloride stays in the duct leading to an elevated concentrations of  chloride in sweat of  individuals with cystic fibrosi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685800" y="3581280"/>
            <a:ext cx="746748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The average person ha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.6 million sweat glan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 their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Verdana"/>
                <a:hlinkClick r:id="rId1"/>
              </a:rPr>
              <a:t>ski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! Sweat glands are distributed over the entire body -- except for the lips, nipples and external genital org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380880" y="91440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- It is a clear, salty liquid secreted from the skin by the sweat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- sweat glands are small tubular glands situated within and under the sk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diagram of skin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249880"/>
          </a:xfrm>
          <a:prstGeom prst="rect">
            <a:avLst/>
          </a:prstGeom>
          <a:ln w="0">
            <a:noFill/>
          </a:ln>
        </p:spPr>
      </p:pic>
      <p:cxnSp>
        <p:nvCxnSpPr>
          <p:cNvPr id="233" name="Straight Arrow Connector 4"/>
          <p:cNvCxnSpPr/>
          <p:nvPr/>
        </p:nvCxnSpPr>
        <p:spPr>
          <a:xfrm flipV="1">
            <a:off x="1371240" y="3047760"/>
            <a:ext cx="1067400" cy="3052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34" name="TextBox 7"/>
          <p:cNvSpPr/>
          <p:nvPr/>
        </p:nvSpPr>
        <p:spPr>
          <a:xfrm>
            <a:off x="838080" y="3200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Straight Arrow Connector 10"/>
          <p:cNvCxnSpPr/>
          <p:nvPr/>
        </p:nvCxnSpPr>
        <p:spPr>
          <a:xfrm>
            <a:off x="1599840" y="1676160"/>
            <a:ext cx="762840" cy="6865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36" name="TextBox 11"/>
          <p:cNvSpPr/>
          <p:nvPr/>
        </p:nvSpPr>
        <p:spPr>
          <a:xfrm>
            <a:off x="990720" y="1523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228600" y="145080"/>
            <a:ext cx="876312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f6c5d"/>
              </a:buClr>
              <a:buFont typeface="Perpetu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6c5d"/>
                </a:solidFill>
                <a:latin typeface="Perpetua"/>
              </a:rPr>
              <a:t> </a:t>
            </a:r>
            <a:r>
              <a:rPr b="1" lang="en-US" sz="3200" spc="-1" strike="noStrike">
                <a:solidFill>
                  <a:srgbClr val="df6c5d"/>
                </a:solidFill>
                <a:latin typeface="Perpetua"/>
              </a:rPr>
              <a:t>Eccrine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 most numerous type that are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ll over the body, particularly o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ms of the ha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es of the f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head  and armp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f6c5d"/>
              </a:buClr>
              <a:buFont typeface="Perpetu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6c5d"/>
                </a:solidFill>
                <a:latin typeface="Perpetua"/>
              </a:rPr>
              <a:t> </a:t>
            </a:r>
            <a:r>
              <a:rPr b="1" lang="en-US" sz="3200" spc="-1" strike="noStrike">
                <a:solidFill>
                  <a:srgbClr val="df6c5d"/>
                </a:solidFill>
                <a:latin typeface="Perpetua"/>
              </a:rPr>
              <a:t>Apocrine -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ostly confined to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mpits (axillae) and the anal-genital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y typically end in hair follicles rather than p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1721880" y="152280"/>
            <a:ext cx="575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6c5d"/>
                </a:solidFill>
                <a:latin typeface="Perpetua"/>
              </a:rPr>
              <a:t>Types of sweat gl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sn7_sweat_glands.jpg"/>
          <p:cNvPicPr/>
          <p:nvPr/>
        </p:nvPicPr>
        <p:blipFill>
          <a:blip r:embed="rId1"/>
          <a:stretch/>
        </p:blipFill>
        <p:spPr>
          <a:xfrm>
            <a:off x="1905120" y="882720"/>
            <a:ext cx="510516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380880" y="43920"/>
            <a:ext cx="799956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6c5d"/>
                </a:solidFill>
                <a:latin typeface="Arial"/>
                <a:ea typeface="Times New Roman"/>
              </a:rPr>
              <a:t>    </a:t>
            </a:r>
            <a:r>
              <a:rPr b="1" lang="en-US" sz="3600" spc="-1" strike="noStrike" u="sng">
                <a:solidFill>
                  <a:srgbClr val="df6c5d"/>
                </a:solidFill>
                <a:uFillTx/>
                <a:latin typeface="Perpetua"/>
                <a:ea typeface="Times New Roman"/>
              </a:rPr>
              <a:t>Eccrine gland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maller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eter (50 – 100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ctive from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ocrine glands become active only at puber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 a sweat that is free of proteins and fatty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057400" y="6094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amount of sweat produced depends upon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ur states of emotio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physical activit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1.bmp"/>
          <p:cNvPicPr/>
          <p:nvPr/>
        </p:nvPicPr>
        <p:blipFill>
          <a:blip r:embed="rId1"/>
          <a:stretch/>
        </p:blipFill>
        <p:spPr>
          <a:xfrm>
            <a:off x="1295280" y="2057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2.bmp"/>
          <p:cNvPicPr/>
          <p:nvPr/>
        </p:nvPicPr>
        <p:blipFill>
          <a:blip r:embed="rId2"/>
          <a:stretch/>
        </p:blipFill>
        <p:spPr>
          <a:xfrm>
            <a:off x="4952880" y="2057400"/>
            <a:ext cx="2543400" cy="17924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5"/>
          <p:cNvSpPr/>
          <p:nvPr/>
        </p:nvSpPr>
        <p:spPr>
          <a:xfrm>
            <a:off x="1611360" y="396252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rve st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5722560" y="39625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3.bmp"/>
          <p:cNvPicPr/>
          <p:nvPr/>
        </p:nvPicPr>
        <p:blipFill>
          <a:blip r:embed="rId3"/>
          <a:stretch/>
        </p:blipFill>
        <p:spPr>
          <a:xfrm>
            <a:off x="3429000" y="44197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8c6a"/>
                </a:solidFill>
                <a:latin typeface="Times New Roman"/>
                <a:ea typeface="Times New Roman"/>
              </a:rPr>
              <a:t>Function of sweat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0520" y="12193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hermoregulation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hich is the  principle function of sweat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weating  allows the body to rid itself of excessive heat production through the evaporation of water which  brings about cooling of the body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Characteris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240" y="21337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weat has no odor, but reaction with bacteria on the skin can produce an unpleasant smel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Maximum volumes of sweat is around 1 liter /hour in a hot climat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9:18:53Z</dcterms:created>
  <dc:creator>Rehab</dc:creator>
  <dc:description/>
  <dc:language>en-US</dc:language>
  <cp:lastModifiedBy>aalbity</cp:lastModifiedBy>
  <dcterms:modified xsi:type="dcterms:W3CDTF">2016-11-22T09:09:38Z</dcterms:modified>
  <cp:revision>40</cp:revision>
  <dc:subject/>
  <dc:title>The sweat gland</dc:title>
</cp:coreProperties>
</file>