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EC2-0D78-46C5-93E2-B68799DC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2C0-BC3D-446B-BD26-D03A2F1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D34-577B-47AB-A9C4-C590E3D4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DEA-A8EC-49E9-98EF-76F485E4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53C6-F163-49D7-9842-72F15B2F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D9CC-97CB-4112-9112-FCA62B4C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AB05-4254-468C-9F6D-360047E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31F-35F8-41CA-8AFB-2D564DC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2EF-875B-4FE4-B0E8-7F1F500A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A160-8151-4B15-A55B-2DCBE973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B41A-91FA-489B-88CA-F3B32D1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F08-5634-4DAA-9643-084C193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9AE-1278-4D61-B35F-464CDA6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344D-FE51-4993-A5EA-8060BF5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3139-569F-4356-B75F-BCB0C2B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878D-0D9D-4681-A0ED-E1CED2DE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5108-DA1A-4B75-B645-E22EE9ED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1AE2-6827-4E54-B445-D9B781BC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A177-DDB4-4660-8321-50E8567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52D8-40CE-42C3-A76A-63A3A785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2C36-323D-4B10-BE4B-28CCB3E1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67C9-BDA1-4FC0-B496-301CC387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63E-DC70-4812-B192-98F288A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70A2-A523-4F21-B894-E7714E2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26D2-E142-4D60-A803-AFB4492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D73F-B5F1-432B-9D64-745E7EC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B8E7-C963-444B-A1B6-D3C6F02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050D-EF7E-4E1F-9173-D3D0B7F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F1676-1BAD-4DC0-B276-1DF7A720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76C1-C68D-448D-A2A2-6E927458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91A9-FEF5-40F1-891D-E8747B12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ED7D-60F4-4158-BF37-92E89B5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9BF7-F246-4FDC-BC22-3F503B8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A16-9176-4ECB-8DF8-F0C58E5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EF30-5330-4FB2-95B6-BABA68A9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1834-70B3-4566-8B06-D618ECA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A148-FAE5-453A-8E37-F6C8B7AA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54BB-77D4-479A-A699-223E479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B35B-729D-43EB-87F2-07B09AD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3494-62BC-46C6-84BB-2480B7B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D5FB-9F0E-4FAA-87AF-1C70BB3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F74E-20F5-43DE-9A64-1EAF1C30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5A7E6-959F-450C-A155-740A45D1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61B8F-2D04-4220-A64A-5AFB582F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ED6-7F62-4D18-8088-8C66675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7E05-892D-4B30-9C48-B614F73A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5CB6-966D-4F51-9513-A52CD7CC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2407-41F4-4CE7-A7F9-EE40FCEE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701A-BF1D-4590-AD0C-05486EF7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15749-2A49-45F9-B7D9-341C78F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21BB-5815-4D87-A20F-98BDAB2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3B1C-56A9-42A9-B9E5-4F61548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1A046-C284-4436-A7A2-C32F28F2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3BFE-DA15-407F-9813-4747587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5859-D89B-4343-993D-C4DF142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630-449B-4F46-B0B1-8C00C2EE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6B02-7863-416C-AAC5-0755D8C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59D-CBB0-43EC-B635-02EAA49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E05-C6CE-4679-9508-7994866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DD8-5B69-45CC-8049-B43A252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8739-18E1-4C2F-BE6B-FEA04CF721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E53-4EED-47A2-BC01-5F94DEED8A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2062-B193-4139-985B-99A09A9F6F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1E79-0CBC-4247-A474-A41B99C619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932F-F09F-4484-9069-1C9BDBDF4F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ealth.howstuffworks.com/sunscreen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Perpetua"/>
              <a:ea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weat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6c5d"/>
                </a:solidFill>
                <a:latin typeface="Perpetua"/>
              </a:rPr>
              <a:t>Characteris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Composition of the primary secretion is very similar to that of plasma except that it does not contain plasma protei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S.G: 1.002 – 1.005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PH: 4.5 – 7.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Na+ : 30-70 mg ( less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K+ : 0-5mg  (same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Cl- : 30-70 mg (less)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Urea: 4-6 times higher than in plasm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Lactic acid : higher than in plasma specially in athlet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ahoma"/>
              </a:rPr>
              <a:t>[Glucose] in a very small amou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Perpetua"/>
              </a:rPr>
              <a:t>Factors affecting the composition of swe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5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Low sweat rate</a:t>
            </a:r>
            <a:r>
              <a:rPr b="0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 </a:t>
            </a: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(rest, cool temperature)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ahoma"/>
              </a:rPr>
              <a:t>The primary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luid passes through the duct very slowl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re reabsorbed which reduces the osmotic pressure of the fluid leading to water reabsorption and concentrating  most of the other constituents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us ,at low sweating rates, the sweat produced is low in volume and is more concentrated in  constituents such as urea, lactic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less concentrated 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   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696464"/>
              </a:solidFill>
              <a:latin typeface="Franklin Gothic Book"/>
              <a:ea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High sweat rate</a:t>
            </a:r>
            <a:r>
              <a:rPr b="0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 </a:t>
            </a:r>
            <a:r>
              <a:rPr b="1" lang="en-US" sz="2800" spc="-1" strike="noStrike" u="sng">
                <a:solidFill>
                  <a:srgbClr val="704a3d"/>
                </a:solidFill>
                <a:uFillTx/>
                <a:latin typeface="Perpetua"/>
              </a:rPr>
              <a:t>(work, exercise, hot temperature)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en the sweat glands are strongly stimulated, large amount of primary secretion are formed which will  flow too rapidly through the sweat duct reducing the chance of 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and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reabsorption , thus water reabsorption is also reduced leading eventually to the production of a large volume and  less concentrated swea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sweat"/>
          <p:cNvPicPr/>
          <p:nvPr/>
        </p:nvPicPr>
        <p:blipFill>
          <a:blip r:embed="rId1"/>
          <a:stretch/>
        </p:blipFill>
        <p:spPr>
          <a:xfrm>
            <a:off x="1447920" y="380880"/>
            <a:ext cx="60195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ing control and stimulatio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is controlled  from a center i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othalam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hermosensitive neurons are located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 glands are stimulated in response to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igh temperature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xercis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orm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emotional stre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d0d0d"/>
                </a:solidFill>
                <a:latin typeface="Perpetu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ing Abnormalit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Hyperhidros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t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ly  increased sweating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nown causes includ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sity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yroidism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medication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8c6a"/>
                </a:solidFill>
                <a:latin typeface="Franklin Gothic Book"/>
              </a:rPr>
              <a:t>Sweating Abnormalit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e3611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Hypohidrosis,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tial loss of sweating, while </a:t>
            </a:r>
            <a:r>
              <a:rPr b="1" lang="en-US" sz="28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anhidr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mplete lack of sweating. This can occur for a number of reasons, which includ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kin disorder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 to skin that damage the sweat gland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active thyroid (hypothyroidism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Sweat tes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Chloride sweat test ;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measures the concentration of chloride that is excreted in sweat, and is used to screen for cystic fibrosis(CF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Cystic fibrosis transmembrane conductance regulator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FTR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loride channel is defective. Thus, preventing chloride to be reabsorbed into sweat duct cells . Consequently, more chloride stays in the duct leading to an elevated concentrations of  chloride in sweat of  individuals with cystic fibrosi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685800" y="3581280"/>
            <a:ext cx="74674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The average person ha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6 million sweat glan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ir </a:t>
            </a:r>
            <a:r>
              <a:rPr b="0" lang="en-US" sz="32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sk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 Sweat glands are distributed over the entire body -- except for the lips, nipples and external genital org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80880" y="9144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- It is a clear, salty liquid secreted from the skin by the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- sweat glands are small tubular glands situated within and under the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iagram of skin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249880"/>
          </a:xfrm>
          <a:prstGeom prst="rect">
            <a:avLst/>
          </a:prstGeom>
          <a:ln w="0">
            <a:noFill/>
          </a:ln>
        </p:spPr>
      </p:pic>
      <p:cxnSp>
        <p:nvCxnSpPr>
          <p:cNvPr id="233" name="Straight Arrow Connector 4"/>
          <p:cNvCxnSpPr/>
          <p:nvPr/>
        </p:nvCxnSpPr>
        <p:spPr>
          <a:xfrm flipV="1">
            <a:off x="1371240" y="3047760"/>
            <a:ext cx="1067400" cy="305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4" name="TextBox 7"/>
          <p:cNvSpPr/>
          <p:nvPr/>
        </p:nvSpPr>
        <p:spPr>
          <a:xfrm>
            <a:off x="83808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10"/>
          <p:cNvCxnSpPr/>
          <p:nvPr/>
        </p:nvCxnSpPr>
        <p:spPr>
          <a:xfrm>
            <a:off x="1599840" y="1676160"/>
            <a:ext cx="762840" cy="686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36" name="TextBox 11"/>
          <p:cNvSpPr/>
          <p:nvPr/>
        </p:nvSpPr>
        <p:spPr>
          <a:xfrm>
            <a:off x="990720" y="1523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28600" y="145080"/>
            <a:ext cx="876312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f6c5d"/>
              </a:buClr>
              <a:buFont typeface="Perpetu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Eccrine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 most numerous type that are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l over the body, particularly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s of the ha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es of the f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head  and arm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f6c5d"/>
              </a:buClr>
              <a:buFont typeface="Perpetu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df6c5d"/>
                </a:solidFill>
                <a:latin typeface="Perpetua"/>
              </a:rPr>
              <a:t>Apocrine -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stly confined to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pits (axillae) and the anal-genital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typically end in hair follicles rather than p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721880" y="152280"/>
            <a:ext cx="575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Perpetua"/>
              </a:rPr>
              <a:t>Types of sweat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sn7_sweat_glands.jpg"/>
          <p:cNvPicPr/>
          <p:nvPr/>
        </p:nvPicPr>
        <p:blipFill>
          <a:blip r:embed="rId1"/>
          <a:stretch/>
        </p:blipFill>
        <p:spPr>
          <a:xfrm>
            <a:off x="1905120" y="882720"/>
            <a:ext cx="510516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80880" y="43920"/>
            <a:ext cx="79995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6c5d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df6c5d"/>
                </a:solidFill>
                <a:uFillTx/>
                <a:latin typeface="Perpetua"/>
                <a:ea typeface="Times New Roman"/>
              </a:rPr>
              <a:t>Eccrine gland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malle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meter (50 – 100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tive from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ocrine glands become active only at puber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a sweat that is free of proteins and 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057400" y="6094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mount of sweat produced depends upon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ur states of emo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hysical activi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1.bmp"/>
          <p:cNvPicPr/>
          <p:nvPr/>
        </p:nvPicPr>
        <p:blipFill>
          <a:blip r:embed="rId1"/>
          <a:stretch/>
        </p:blipFill>
        <p:spPr>
          <a:xfrm>
            <a:off x="1295280" y="2057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2.bmp"/>
          <p:cNvPicPr/>
          <p:nvPr/>
        </p:nvPicPr>
        <p:blipFill>
          <a:blip r:embed="rId2"/>
          <a:stretch/>
        </p:blipFill>
        <p:spPr>
          <a:xfrm>
            <a:off x="4952880" y="2057400"/>
            <a:ext cx="2543400" cy="17924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611360" y="39625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e st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722560" y="39625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3.bmp"/>
          <p:cNvPicPr/>
          <p:nvPr/>
        </p:nvPicPr>
        <p:blipFill>
          <a:blip r:embed="rId3"/>
          <a:stretch/>
        </p:blipFill>
        <p:spPr>
          <a:xfrm>
            <a:off x="34290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8c6a"/>
                </a:solidFill>
                <a:latin typeface="Times New Roman"/>
                <a:ea typeface="Times New Roman"/>
              </a:rPr>
              <a:t>Function of sweat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219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rmoregula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hich is the  principle function of swea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weating  allows the body to rid itself of excessive heat production through the evaporation of water which  brings about cooling of the body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Franklin Gothic Book"/>
              </a:rPr>
              <a:t>Characteristic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240" y="21337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weat has no odor, but reaction with bacteria on the skin can produce an unpleasant smel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aximum volumes of sweat is around 1 liter /hour in a hot clim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9:18:53Z</dcterms:created>
  <dc:creator>Rehab</dc:creator>
  <dc:description/>
  <dc:language>en-US</dc:language>
  <cp:lastModifiedBy>aalbity</cp:lastModifiedBy>
  <dcterms:modified xsi:type="dcterms:W3CDTF">2016-11-22T09:09:38Z</dcterms:modified>
  <cp:revision>40</cp:revision>
  <dc:subject/>
  <dc:title>The sweat gland</dc:title>
</cp:coreProperties>
</file>