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wmf" ContentType="image/x-wmf"/>
  <Override PartName="/ppt/media/image24.png" ContentType="image/png"/>
  <Override PartName="/ppt/media/image11.jpeg" ContentType="image/jpeg"/>
  <Override PartName="/ppt/media/image22.wmf" ContentType="image/x-wmf"/>
  <Override PartName="/ppt/media/image21.wmf" ContentType="image/x-wmf"/>
  <Override PartName="/ppt/media/image7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20.png" ContentType="image/png"/>
  <Override PartName="/ppt/media/image18.wmf" ContentType="image/x-wmf"/>
  <Override PartName="/ppt/media/image26.jpeg" ContentType="image/jpeg"/>
  <Override PartName="/ppt/media/image2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3.png" ContentType="image/png"/>
  <Override PartName="/ppt/media/image16.png" ContentType="image/png"/>
  <Override PartName="/ppt/media/image17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DE3-3B19-4C5A-9559-D5860EFC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ED5-AA17-4371-BACF-98C4259F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9BB-472D-4994-A72C-80450A75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C2D-82D4-4A50-821A-21E8107C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08D8-D520-4C58-B14E-A5CC7194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F9C0-2544-4952-9968-FE4EE39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AC4E-080A-4A6A-802F-9477D9F9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581E-EE04-4398-9AC2-0F08368F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100D-B6A6-441C-8A1C-F3E78FEF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B4C4-588C-4551-B1D6-9A4F47E6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A130-A9B8-44F8-97EC-A6E83646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A8C-E6E1-4010-BC4F-1BC1D168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A607-348C-4109-A7C0-641C224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55FC-8AA1-46FA-972B-2B8F9FA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DC97-2EF4-47B5-A468-ABE2A9CD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C6E1-283D-4C7C-B27D-29795ACC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44A2-4C9D-4B7A-91DE-853EF03E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18C-041A-4937-AD75-3EB4FE5D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F92-245B-4DC6-92FB-5FFC56F0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CF3-C689-4E81-B06E-766AFF5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1AA-1372-47E7-9B6F-E5DE254C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44C-E664-401B-B2F4-0C0D0B18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E48-A7A2-4ADE-ABC3-CC19AFA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506-6351-4150-A4CF-87BCD13A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1602-D016-466E-8B00-77FC13D94308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CD01-9A53-4006-90F6-58949ACBE521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مستطيل 5" descr=""/>
          <p:cNvPicPr/>
          <p:nvPr/>
        </p:nvPicPr>
        <p:blipFill>
          <a:blip r:embed="rId1"/>
          <a:stretch/>
        </p:blipFill>
        <p:spPr>
          <a:xfrm>
            <a:off x="426960" y="2511360"/>
            <a:ext cx="8936280" cy="3121200"/>
          </a:xfrm>
          <a:prstGeom prst="rect">
            <a:avLst/>
          </a:prstGeom>
          <a:ln w="0">
            <a:noFill/>
          </a:ln>
        </p:spPr>
      </p:pic>
      <p:pic>
        <p:nvPicPr>
          <p:cNvPr id="90" name="صورة 6" descr="بدون عنوان.png"/>
          <p:cNvPicPr/>
          <p:nvPr/>
        </p:nvPicPr>
        <p:blipFill>
          <a:blip r:embed="rId2"/>
          <a:stretch/>
        </p:blipFill>
        <p:spPr>
          <a:xfrm>
            <a:off x="7358040" y="285840"/>
            <a:ext cx="1500120" cy="189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rZqnZUowK5wWBHQjS5-LIw_m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453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11934360"/>
            <a:ext cx="36972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5877000"/>
            <a:ext cx="585720" cy="2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68360" y="333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OMMON CENTRAL LINE INSERTION SITES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2492280"/>
            <a:ext cx="52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internal ju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internal ju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subcl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subcl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o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1934720"/>
            <a:ext cx="44280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5805000"/>
            <a:ext cx="29844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24000" y="981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6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peripherally inserted central catheters (PICC) which are inserted via the antecubital veins in the arm and is advanced into the central ve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picc%20for%20procedure"/>
          <p:cNvPicPr/>
          <p:nvPr/>
        </p:nvPicPr>
        <p:blipFill>
          <a:blip r:embed="rId1"/>
          <a:stretch/>
        </p:blipFill>
        <p:spPr>
          <a:xfrm>
            <a:off x="900000" y="2708280"/>
            <a:ext cx="7602480" cy="378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1652120"/>
            <a:ext cx="15408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 rot="10800000">
            <a:off x="324000" y="6125400"/>
            <a:ext cx="133200" cy="1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70000"/>
              </a:lnSpc>
              <a:spcBef>
                <a:spcPts val="2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128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TYPES OF CENTRAL LINE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50920" y="1557360"/>
            <a:ext cx="482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LE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UPLE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single_lumen"/>
          <p:cNvPicPr/>
          <p:nvPr/>
        </p:nvPicPr>
        <p:blipFill>
          <a:blip r:embed="rId1"/>
          <a:stretch/>
        </p:blipFill>
        <p:spPr>
          <a:xfrm>
            <a:off x="4788000" y="1557360"/>
            <a:ext cx="2138400" cy="178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8" name="Picture 7" descr="triple_lumen"/>
          <p:cNvPicPr/>
          <p:nvPr/>
        </p:nvPicPr>
        <p:blipFill>
          <a:blip r:embed="rId2"/>
          <a:stretch/>
        </p:blipFill>
        <p:spPr>
          <a:xfrm>
            <a:off x="6877080" y="2997360"/>
            <a:ext cx="2016000" cy="1684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9" name="Picture 8" descr="quad_lumen"/>
          <p:cNvPicPr/>
          <p:nvPr/>
        </p:nvPicPr>
        <p:blipFill>
          <a:blip r:embed="rId3"/>
          <a:stretch/>
        </p:blipFill>
        <p:spPr>
          <a:xfrm>
            <a:off x="4788000" y="4508640"/>
            <a:ext cx="2138400" cy="178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Central_venous_cath_PI"/>
          <p:cNvPicPr/>
          <p:nvPr/>
        </p:nvPicPr>
        <p:blipFill>
          <a:blip r:embed="rId1"/>
          <a:stretch/>
        </p:blipFill>
        <p:spPr>
          <a:xfrm>
            <a:off x="5651640" y="1413000"/>
            <a:ext cx="3170160" cy="525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11934360"/>
            <a:ext cx="22716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 rot="10800000">
            <a:off x="456480" y="6125400"/>
            <a:ext cx="227160" cy="1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260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entral venous pressure  ( CV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50920" y="1268280"/>
            <a:ext cx="583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is CVP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ESSURE WITHIN THE SUPERIOR VENA CAVA OR THE RIGHT ATRI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information about the body volume status &amp; right ventricular fu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rmal CVP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- 8 mmHg or 3-8 cm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79280" y="486900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If l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0 mean Hypovol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If mo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8 mean Hypervol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8848440"/>
            <a:ext cx="514440" cy="104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6021000"/>
            <a:ext cx="7300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42920" y="260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VP READINGS ARE USED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79280" y="162864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RVE AS A GUIDE TO FLUID BALANCE IN CRITICALLY ILL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THE CIRCULATING BLOO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SSIST IN MONITORING CIRCUL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11652120"/>
            <a:ext cx="36972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 rot="10800000">
            <a:off x="457200" y="6125400"/>
            <a:ext cx="442800" cy="1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70000"/>
              </a:lnSpc>
              <a:spcBef>
                <a:spcPts val="2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050920" y="333360"/>
            <a:ext cx="48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Site of insertion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39640" y="227664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vian vein ( RT/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jugular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or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dialysisline"/>
          <p:cNvPicPr/>
          <p:nvPr/>
        </p:nvPicPr>
        <p:blipFill>
          <a:blip r:embed="rId1"/>
          <a:stretch/>
        </p:blipFill>
        <p:spPr>
          <a:xfrm>
            <a:off x="5292720" y="1268280"/>
            <a:ext cx="3382920" cy="504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549960"/>
            <a:ext cx="9460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4360" y="76500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auses of increase CVP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volem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ardit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tampo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auses of decrease CVP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vo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d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-11934360"/>
            <a:ext cx="824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5733720"/>
            <a:ext cx="6588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692360" y="333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Nursing management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Before the insert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for equi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During the insert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procedure to the 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the site of insertion ( cleaning &amp; shav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the doctor during in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continuous assessment of the pt cardiac &amp; respiratory 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After the insert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the IV i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 integrity of the skin at the site of in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site of insertion with sterile gau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pt for 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CV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4498920"/>
            <a:ext cx="801720" cy="59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021000"/>
            <a:ext cx="8244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9640" y="33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METHODS OF CVP MONITORING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1773360"/>
            <a:ext cx="496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methods of CVP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nometer system</a:t>
            </a:r>
            <a:r>
              <a:rPr b="1" i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intermittent readings and is less accurate than the transduc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6504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405240"/>
            <a:ext cx="9460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"/>
          <p:cNvSpPr txBox="1"/>
          <p:nvPr/>
        </p:nvSpPr>
        <p:spPr>
          <a:xfrm rot="10800000">
            <a:off x="457200" y="6126120"/>
            <a:ext cx="4428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24000" y="981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ansducer system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continuous readings which are displayed on a monito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5759640" cy="27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HEMODYNAMIC MONITER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2" name="Picture 2" descr="C:\Users\UMA HARI\Desktop\New folder\hemodynamic-monitor-77962-140345.jpg"/>
          <p:cNvPicPr/>
          <p:nvPr/>
        </p:nvPicPr>
        <p:blipFill>
          <a:blip r:embed="rId1"/>
          <a:stretch/>
        </p:blipFill>
        <p:spPr>
          <a:xfrm>
            <a:off x="0" y="1650960"/>
            <a:ext cx="77868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-11436120"/>
            <a:ext cx="28908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"/>
          <p:cNvSpPr txBox="1"/>
          <p:nvPr/>
        </p:nvSpPr>
        <p:spPr>
          <a:xfrm rot="10800000">
            <a:off x="456480" y="6126120"/>
            <a:ext cx="101916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95280" y="33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Measuring central venous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211640" y="3284640"/>
            <a:ext cx="4235400" cy="316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5" name="Text Box 6"/>
          <p:cNvSpPr/>
          <p:nvPr/>
        </p:nvSpPr>
        <p:spPr>
          <a:xfrm>
            <a:off x="395280" y="1341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VC will be attached to intravenous fluid within a pressure bag. Ensure that the pressure bag is inflated up to 300mmH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832560"/>
            <a:ext cx="9460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6021000"/>
            <a:ext cx="9460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68360" y="62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s differ between manufacturers, however, the white or proximal lumen is suitable for measuring CV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688000" cy="363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-11934720"/>
            <a:ext cx="2984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6021000"/>
            <a:ext cx="123516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981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patient flat in a supine position if po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572000" y="2205000"/>
            <a:ext cx="4089240" cy="2733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3838680" cy="273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360" y="-11934720"/>
            <a:ext cx="698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5733720"/>
            <a:ext cx="116208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9079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the transducer to the phlebostaticaxis or as near to the right atrium as po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553440" cy="352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11652120"/>
            <a:ext cx="2984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5589720"/>
            <a:ext cx="51444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68360" y="692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tap off to the patient and open to the air by removing the cap from the three-way port opening the system to the atmosphe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7040880" cy="365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5686200"/>
            <a:ext cx="730080" cy="74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"/>
          <p:cNvSpPr txBox="1"/>
          <p:nvPr/>
        </p:nvSpPr>
        <p:spPr>
          <a:xfrm rot="10800000">
            <a:off x="457200" y="6126120"/>
            <a:ext cx="20988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84360" y="83664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the zero button on the monitor and wait while calibration occu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191280" cy="3382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-11934720"/>
            <a:ext cx="22716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5445000"/>
            <a:ext cx="946080" cy="681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539640" y="54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'zeroed' is displayed on the monitor, replace the cap on the three-way tap and turn the tap on to the pat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6632640" cy="3714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-4429080"/>
            <a:ext cx="801720" cy="59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6021000"/>
            <a:ext cx="7300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620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CVP trace on the moni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769080" cy="393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5830920"/>
            <a:ext cx="730080" cy="74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5733720"/>
            <a:ext cx="44280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9640" y="68256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inclu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a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 &amp; time of insertion cathe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b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 &amp; location of the catheter , including NO. of the lume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c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e &amp; maintain procedure perform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d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earance of insertion s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e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 noted such as resistance to flus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f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ient tolerance to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4643280" y="4076640"/>
            <a:ext cx="3800520" cy="253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-11934360"/>
            <a:ext cx="20628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6021000"/>
            <a:ext cx="29844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258920" y="47628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omplications of CVP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84360" y="162864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 oc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em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-pneu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Arial Black"/>
                <a:ea typeface="Arabic Typesetting"/>
              </a:rPr>
              <a:t>Definition</a:t>
            </a:r>
            <a:r>
              <a:rPr b="0" lang="en-US" sz="5400" spc="-1" strike="noStrike">
                <a:solidFill>
                  <a:srgbClr val="2f5897"/>
                </a:solidFill>
                <a:latin typeface="Arabic Typesetting"/>
                <a:ea typeface="Arabic Typesetting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rtl="1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f7f7f"/>
                </a:solidFill>
                <a:uFillTx/>
                <a:latin typeface="Arial Black"/>
                <a:ea typeface="Aldhabi"/>
              </a:rPr>
              <a:t>Hemodynamic</a:t>
            </a:r>
            <a:r>
              <a:rPr b="1" lang="en-US" sz="2000" spc="-1" strike="noStrike" u="sng">
                <a:solidFill>
                  <a:srgbClr val="7f7f7f"/>
                </a:solidFill>
                <a:uFillTx/>
                <a:latin typeface="Century Gothic"/>
              </a:rPr>
              <a:t>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is a term to describe intravascular pressure, oxygenation, and blood flow occurring within the cardiovascular system</a:t>
            </a: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.</a:t>
            </a: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en-US" sz="2000" spc="-1" strike="noStrike" u="sng">
                <a:solidFill>
                  <a:srgbClr val="7f7f7f"/>
                </a:solidFill>
                <a:uFillTx/>
                <a:latin typeface="Arial Black"/>
              </a:rPr>
              <a:t>Hemodynamic monitoring</a:t>
            </a:r>
            <a:r>
              <a:rPr b="0" lang="en-US" sz="1600" spc="-1" strike="noStrike">
                <a:solidFill>
                  <a:srgbClr val="7f7f7f"/>
                </a:solidFill>
                <a:latin typeface="Arial Black"/>
              </a:rPr>
              <a:t> :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Using invasive technology to provide quantitative information about vascular capacity, blood volume, pump effectiveness and tissue perfusion</a:t>
            </a:r>
            <a:r>
              <a:rPr b="1" lang="en-US" sz="2000" spc="-1" strike="noStrike">
                <a:solidFill>
                  <a:srgbClr val="7f7f7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It is an essential part of critical care nursing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.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-3832200"/>
            <a:ext cx="101916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"/>
          <p:cNvSpPr txBox="1"/>
          <p:nvPr/>
        </p:nvSpPr>
        <p:spPr>
          <a:xfrm rot="10800000">
            <a:off x="456480" y="6126120"/>
            <a:ext cx="36972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95280" y="32220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WHAT IS AN ARTERIAL LINE</a:t>
            </a: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50920" y="126828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RTERIAL LINE IS A CANNULA USUALLY POSITIONED IN A PERIPHER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is pedis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or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urpose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monitoring of hemodynamic status by providing information about ABP read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hemodynamic data necessary for regulating vasoactive medication &amp; fluid admini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line-fig8"/>
          <p:cNvPicPr/>
          <p:nvPr/>
        </p:nvPicPr>
        <p:blipFill>
          <a:blip r:embed="rId1"/>
          <a:stretch/>
        </p:blipFill>
        <p:spPr>
          <a:xfrm>
            <a:off x="5364000" y="2276640"/>
            <a:ext cx="3237120" cy="2446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7360" y="-11934720"/>
            <a:ext cx="6984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5661000"/>
            <a:ext cx="442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00000" y="260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THE ARTERIAL WAVE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95280" y="1268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erial waveform reflects the pressure generated in the arteries following ventricular contraction and can be described as hav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crotic no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systolic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rotic no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stolic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Project1"/>
          <p:cNvPicPr/>
          <p:nvPr/>
        </p:nvPicPr>
        <p:blipFill>
          <a:blip r:embed="rId1"/>
          <a:stretch/>
        </p:blipFill>
        <p:spPr>
          <a:xfrm>
            <a:off x="3564000" y="3284640"/>
            <a:ext cx="5298840" cy="3232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-4568760"/>
            <a:ext cx="801720" cy="59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" name=""/>
          <p:cNvSpPr txBox="1"/>
          <p:nvPr/>
        </p:nvSpPr>
        <p:spPr>
          <a:xfrm rot="10800000">
            <a:off x="456480" y="6125400"/>
            <a:ext cx="801720" cy="1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187280" y="1566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Arterial Pressure ( AP )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4000" y="126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of the circulating blood on the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6042240"/>
            <a:ext cx="730080" cy="74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7360" y="6021000"/>
            <a:ext cx="6984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60000"/>
              </a:lnSpc>
              <a:spcBef>
                <a:spcPts val="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619280" y="333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COMPLICATIONS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95280" y="206064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VOLA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AL INTR-ARTERIAL INJECTION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MAGE TO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2195640" y="119700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ulmonary artery cathe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l_fi" descr="Swan-Ganz%20Catheter%20-%20LSC%20Access%20Site"/>
          <p:cNvPicPr/>
          <p:nvPr/>
        </p:nvPicPr>
        <p:blipFill>
          <a:blip r:embed="rId2"/>
          <a:stretch/>
        </p:blipFill>
        <p:spPr>
          <a:xfrm>
            <a:off x="2340000" y="2997360"/>
            <a:ext cx="424800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Text Box 9"/>
          <p:cNvSpPr/>
          <p:nvPr/>
        </p:nvSpPr>
        <p:spPr>
          <a:xfrm>
            <a:off x="2627280" y="5157720"/>
            <a:ext cx="381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1116000" y="549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Outline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1557360"/>
            <a:ext cx="66596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on s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en ty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values of commonly measured parame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547640" y="333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ulmonary artery cathe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0" y="1773360"/>
            <a:ext cx="50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catheter (PAC) is also know as Swan Ganz catheteriz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ght flexible balloon-tipped tube that is introduced into the pulmonary artery (the artery from the right ventricle of the heart to the lung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Pulmonary_artery_catheter_english"/>
          <p:cNvPicPr/>
          <p:nvPr/>
        </p:nvPicPr>
        <p:blipFill>
          <a:blip r:embed="rId2"/>
          <a:stretch/>
        </p:blipFill>
        <p:spPr>
          <a:xfrm>
            <a:off x="5435640" y="1484280"/>
            <a:ext cx="37083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3059280" y="549360"/>
            <a:ext cx="38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Purpose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63528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0" y="1341360"/>
            <a:ext cx="500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monitoring of hemodynamic status , providing information a bout right &amp; left side intracardiac pressure , cardiac output , mixed oxygen satu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hemodynamic data necessary for regulating vasoactive medication and fluid admini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image012"/>
          <p:cNvPicPr/>
          <p:nvPr/>
        </p:nvPicPr>
        <p:blipFill>
          <a:blip r:embed="rId2"/>
          <a:stretch/>
        </p:blipFill>
        <p:spPr>
          <a:xfrm>
            <a:off x="5348160" y="1557360"/>
            <a:ext cx="3471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1692360" y="260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Indication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0" y="1341360"/>
            <a:ext cx="72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and management of shock st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of pulmonary edema (cardiogenic vs ARD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ation of cardiac index in cardiogenic sh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and drug titration for severe pulmonary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evaluation of left-to-right cardiac shu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aid to optimize peri-operative clinical status in high-risk surgical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2411280" y="6094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ontraindication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16280"/>
            <a:ext cx="66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trolled ventricular or atrial dysrhythm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mural thromb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ar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tic congenital heart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 masses or other structural abnorma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5897"/>
                </a:solidFill>
                <a:latin typeface="Palatino Linotype"/>
              </a:rPr>
              <a:t>Indications</a:t>
            </a:r>
            <a:r>
              <a:rPr b="1" lang="en-US" sz="5400" spc="-1" strike="noStrike">
                <a:solidFill>
                  <a:srgbClr val="2f5897"/>
                </a:solidFill>
                <a:latin typeface="Palatino Linotype"/>
              </a:rPr>
              <a:t>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Continuous, real-time blood pressure monitoring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Planned pharmacologic or mechanical cardiovascular manipulatio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Repeated blood samplin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Determination of volume responsiveness from systolic pressure or pulse -pressure variatio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Supplementary diagnostic information from the arterial wavefor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-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Failure of indirect arterial blood pressure measurement</a:t>
            </a:r>
            <a:br>
              <a:rPr sz="2400"/>
            </a:b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2484360" y="69228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Insertion site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0" y="1844640"/>
            <a:ext cx="47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 of the right side of the heart and pulmonary artery v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internal jugular ve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vian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veins"/>
          <p:cNvPicPr/>
          <p:nvPr/>
        </p:nvPicPr>
        <p:blipFill>
          <a:blip r:embed="rId2"/>
          <a:stretch/>
        </p:blipFill>
        <p:spPr>
          <a:xfrm>
            <a:off x="4932360" y="1773360"/>
            <a:ext cx="39355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"/>
          <p:cNvSpPr/>
          <p:nvPr/>
        </p:nvSpPr>
        <p:spPr>
          <a:xfrm>
            <a:off x="2195640" y="62064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Type of lumen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1341360"/>
            <a:ext cx="565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PAC has 4-5 lumens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 thermistor located proximal to balloon to measure pulmonary artery blood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port located 30 cm from tip for CVP monitoring, fluid and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port at catheter tip for PAP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/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infusion port (VIP) for fluid and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on at catheter t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VIP464x348"/>
          <p:cNvPicPr/>
          <p:nvPr/>
        </p:nvPicPr>
        <p:blipFill>
          <a:blip r:embed="rId2"/>
          <a:stretch/>
        </p:blipFill>
        <p:spPr>
          <a:xfrm>
            <a:off x="6156360" y="1484280"/>
            <a:ext cx="2768400" cy="2016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vipxsection248x163"/>
          <p:cNvPicPr/>
          <p:nvPr/>
        </p:nvPicPr>
        <p:blipFill>
          <a:blip r:embed="rId3"/>
          <a:stretch/>
        </p:blipFill>
        <p:spPr>
          <a:xfrm>
            <a:off x="6300720" y="4076640"/>
            <a:ext cx="2592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Normal values of commonly measured parameters are as follows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50920" y="148428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systolic pressure: 20-30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mean pressure: 9-17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diastolic pressure: 5-15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capillary wedge pressure: 8-12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atrial pressure: 2-6mmH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index: 2.5-4 L/min/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output (CO) L/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1763640" y="33336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omplication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79280" y="1484280"/>
            <a:ext cx="734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al puncture of adjacent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pathy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embo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rhyth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mature ventricular and atrial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ntricular tachycardia or fibr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clou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0" y="4665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T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0" y="1628640"/>
            <a:ext cx="61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mboembo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, catheter k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Infar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,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ardial damage, cardiac valv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Artery Rup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thank-you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979640" y="33336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24000" y="134136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 E (2007) Measuring central venous pressur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Standar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(7) 40-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ilton H(2006a) Complications associated with venous access devices: part on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Standar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26, 43-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milton H(2006b) Complications associated with venous access devices: part two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Standar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27, 59-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von P, Ewens B (Eds)(2007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the Critically Ill Pati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edition. Blackwell Science, Oxf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Types of Hemodynamic Monitoring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f7f7f"/>
                </a:solidFill>
                <a:uFillTx/>
                <a:latin typeface="Century Gothic"/>
              </a:rPr>
              <a:t>Noninvasive Hemodynamic Monitoring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Noninvasive BP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Heart Rate, pulses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Mental Status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Skin Temperature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Capillary Refill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Urine Output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- </a:t>
            </a: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Pulse Oxymetry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f7f7f"/>
                </a:solidFill>
                <a:uFillTx/>
                <a:latin typeface="Century Gothic"/>
              </a:rPr>
              <a:t>Invasive Hemodynamic Monitoring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CVP,</a:t>
            </a:r>
            <a:r>
              <a:rPr b="0" lang="en-US" sz="1800" spc="-1" strike="noStrike" u="sng">
                <a:solidFill>
                  <a:srgbClr val="7f7f7f"/>
                </a:solidFill>
                <a:uFillTx/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7f7f7f"/>
                </a:solidFill>
                <a:latin typeface="Century Gothic"/>
              </a:rPr>
              <a:t>ARTERIAL LINE</a:t>
            </a: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 , </a:t>
            </a:r>
            <a:r>
              <a:rPr b="0" lang="en-US" sz="1800" spc="-1" strike="noStrike">
                <a:solidFill>
                  <a:srgbClr val="7f7f7f"/>
                </a:solidFill>
                <a:latin typeface="Century Gothic"/>
              </a:rPr>
              <a:t>PAC</a:t>
            </a:r>
            <a:r>
              <a:rPr b="0" lang="en-GB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-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1403280" y="105264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Central line &amp; Arterial 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magesCAJ16BYC"/>
          <p:cNvPicPr/>
          <p:nvPr/>
        </p:nvPicPr>
        <p:blipFill>
          <a:blip r:embed="rId1"/>
          <a:stretch/>
        </p:blipFill>
        <p:spPr>
          <a:xfrm>
            <a:off x="2916360" y="2492280"/>
            <a:ext cx="3065400" cy="2341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1855160"/>
            <a:ext cx="44280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5733720"/>
            <a:ext cx="29844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348000" y="404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Outline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1268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CENTRAL LINE INSERTION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ENTRA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- Central venous pressure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CV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of increase &amp; decrease C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in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OF CVP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central venous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762360"/>
            <a:ext cx="101916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840" y="5516280"/>
            <a:ext cx="22716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348000" y="333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Cont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95280" y="134136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ERIAL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-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rterial Pressure ( AP )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lin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ARTERIA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11794680"/>
            <a:ext cx="133200" cy="133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 rot="10800000">
            <a:off x="456480" y="6125400"/>
            <a:ext cx="369720" cy="3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4360" y="260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WHAT IS A CENTRAL LINE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1773360"/>
            <a:ext cx="51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catheter that provides venous access via the superior vena cava or right atriu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urpose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administration of medication &amp; nutritional support that should not be given via a peripheral route or when standard peripheral route cannot be us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imagesCAJ16BYC"/>
          <p:cNvPicPr/>
          <p:nvPr/>
        </p:nvPicPr>
        <p:blipFill>
          <a:blip r:embed="rId1"/>
          <a:stretch/>
        </p:blipFill>
        <p:spPr>
          <a:xfrm>
            <a:off x="5796000" y="3429000"/>
            <a:ext cx="3065400" cy="234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0:31:24Z</dcterms:created>
  <dc:creator>sony-k</dc:creator>
  <dc:description/>
  <dc:language>en-US</dc:language>
  <cp:lastModifiedBy>Nasima Yahya Awaji</cp:lastModifiedBy>
  <dcterms:modified xsi:type="dcterms:W3CDTF">2017-02-08T06:05:38Z</dcterms:modified>
  <cp:revision>9</cp:revision>
  <dc:subject/>
  <dc:title>الشريحة 1</dc:title>
</cp:coreProperties>
</file>