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EC5-7CA8-4C80-95EF-D8D5E238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084-209E-44D9-897B-400CD55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600-A1F9-4331-9033-D37C5809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702-A883-4426-8163-7B15C919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A68-ADC4-4455-850C-52F53661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C0C-7225-4927-A7ED-05C53840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4A8-0AC9-4B48-84E7-62DF050A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A9B-878F-40D6-8577-D24CC43C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FDF-C4E5-4092-9589-EC6D4FF0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7D5-8B1D-4FC7-84D7-935FCEAD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F12-710C-4721-8B73-A799BCC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1D6-6117-4711-993D-6FF39E8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0C3F-1950-429D-81F1-49F49620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0574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lectronic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1447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352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5867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1148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4419720"/>
            <a:ext cx="3124440" cy="838080"/>
          </a:xfrm>
          <a:prstGeom prst="wedgeEllipseCallout">
            <a:avLst>
              <a:gd name="adj1" fmla="val -58384"/>
              <a:gd name="adj2" fmla="val 106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ance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666880"/>
            <a:ext cx="2743200" cy="838440"/>
          </a:xfrm>
          <a:prstGeom prst="wedgeEllipseCallout">
            <a:avLst>
              <a:gd name="adj1" fmla="val -75231"/>
              <a:gd name="adj2" fmla="val 97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bidde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1066680"/>
            <a:ext cx="2743200" cy="762120"/>
          </a:xfrm>
          <a:prstGeom prst="wedgeEllipseCallout">
            <a:avLst>
              <a:gd name="adj1" fmla="val -68634"/>
              <a:gd name="adj2" fmla="val 9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io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3623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225080" y="35053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g=1e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semicondu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istivity of a semiconductor is less than an insulator but more than a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791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295280" y="3429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5181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ulator                        semiconductor                     met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505920" y="59436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iv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emiconductors have –ve temperature coefficient of resistance. For example the resistance of semiconductor decreases with the increase i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a suitable metallic impurity is added to semiconductor its current conducting property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tion of semicondu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miconductors may be classified based on its constructure into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insic semicond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insic semicond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 Intrinsic semicond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miconductor is 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oom temperature, electrons and holes are created due to thermal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uction through the semiconductor is due to both electrons and h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tal current inside the semiconductor is the sum of currents due to free electrons and h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: Germanium  and 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 Extrinsic semicond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ductivity of an intrinsic semiconductor can be increased by adding certain impurity atoms to the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impurity added extremely sm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atom of impurity for 10e6 intrinsic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through the semiconductor is due to both electrons and h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current inside the semiconductor is the sum of currents due to free electrons and h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: Germanium  and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ing upon the type of impurity atoms added, the extrinsic semiconductor can be classified into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N-type semi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P-type semi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-type semicondu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intrinsic semiconductor is doped with pentavalent elements such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rs the resulting conductor is a N-type semicondu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 atom or the Si atom is having only 4 valence electrons. The pentavalent atoms form four covalent bond with four parent Ge or Si atom leaving one electron free for conduc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impurity atoms donates an electron for conductance, it is called donor impurity or N-type impu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14800" y="2514600"/>
            <a:ext cx="129528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80880"/>
            <a:ext cx="12952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457200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59092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51460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4290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99840" y="281952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29528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19720" y="12952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89548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57800" y="34290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5812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181480" y="34290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133720"/>
            <a:ext cx="3049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60958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-type semiconduct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type semicond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intrinsic semiconductor is doped with trivalent elements such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on the resulting conductor is a P-type semicondu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 atom or the Si atom is having only 4 valence electrons. The boron atom form three covalent bond with three parent Ge or Si atom the fourth bond constitutes a h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trivalent impurity which creates holes which can accept electrons it is known as acceptors or P-typ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and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/o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te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/l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14800" y="2514600"/>
            <a:ext cx="129528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80880"/>
            <a:ext cx="12952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57200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259092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51460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4290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99840" y="281952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19720" y="12952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9548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257800" y="34290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5812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181480" y="34290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905120"/>
            <a:ext cx="30456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60958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-type semiconduct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ion of PN-J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piece of semiconductor material, if one half is P-type and another half is N-type, a PN-Junction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N-type has high concentration of free electrons and P-type material has high concentration of fre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Junction, the free electrons move across the junction from N-type to P-type. The donor ions become 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ion of PN-Junction-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ve charge is built on the N-side of the junction. The free electrons that cross the junction combines with the holes creating a negative charge on the p-side of the j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of mobile carriers occurs mainly in a narrow region around the junction. This region is called as the depletion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negative charge on the P-side prevents further diffusion of electrons in to the P-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ion of PN-Junction-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the net positive charge on the N-side repels the hole crossing from P-side to N-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tential difference is a barrier is set up near the junction which prevent further movement of charge carriers is electrons and h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1992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7524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5627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45820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7524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243828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50532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457200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44956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43828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35053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44956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44956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5053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251460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35053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23623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0"/>
            <a:ext cx="2590920" cy="1600200"/>
          </a:xfrm>
          <a:prstGeom prst="wedgeRectCallout">
            <a:avLst>
              <a:gd name="adj1" fmla="val -71078"/>
              <a:gd name="adj2" fmla="val 79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656000" y="533520"/>
            <a:ext cx="3044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sed ionised Accep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0"/>
            <a:ext cx="2590920" cy="1600200"/>
          </a:xfrm>
          <a:prstGeom prst="wedgeRectCallout">
            <a:avLst>
              <a:gd name="adj1" fmla="val -50430"/>
              <a:gd name="adj2" fmla="val 81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463080" y="533520"/>
            <a:ext cx="2774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sed ionised Don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gnitude of the contact potential varies with doping levels and temperature. Its 0.3 V for germanium and 0.70 V for 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conductor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26668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may be classified  depend on its energy band structure into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 Ins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very poor conductor of electricit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bidden band which separates the valance band and conduction band is very large ( order of 6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ergy which can be supplied to an electron from an applied field is too small to carry the practice from the filled valance band to vacant conduction b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: Wood ,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1447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438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5867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572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4419720"/>
            <a:ext cx="3124440" cy="838080"/>
          </a:xfrm>
          <a:prstGeom prst="wedgeEllipseCallout">
            <a:avLst>
              <a:gd name="adj1" fmla="val -58384"/>
              <a:gd name="adj2" fmla="val 106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ance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666880"/>
            <a:ext cx="2743200" cy="838440"/>
          </a:xfrm>
          <a:prstGeom prst="wedgeEllipseCallout">
            <a:avLst>
              <a:gd name="adj1" fmla="val -75231"/>
              <a:gd name="adj2" fmla="val 97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bidde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066680"/>
            <a:ext cx="2743200" cy="762120"/>
          </a:xfrm>
          <a:prstGeom prst="wedgeEllipseCallout">
            <a:avLst>
              <a:gd name="adj1" fmla="val -68634"/>
              <a:gd name="adj2" fmla="val 9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io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 Met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n excellent conductor of electricit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led valance band and the empty conduction band overlap each other with no forbidden energy b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influence of an applied electric field, the electron acquire additional energy and move in to higher energy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: Copper , Silver, Alumin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447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3124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5867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886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733920"/>
            <a:ext cx="2590920" cy="838080"/>
          </a:xfrm>
          <a:prstGeom prst="wedgeEllipseCallout">
            <a:avLst>
              <a:gd name="adj1" fmla="val -60111"/>
              <a:gd name="adj2" fmla="val 106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ance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2362320" cy="762120"/>
          </a:xfrm>
          <a:prstGeom prst="wedgeEllipseCallout">
            <a:avLst>
              <a:gd name="adj1" fmla="val -71638"/>
              <a:gd name="adj2" fmla="val 9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io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715000" y="1447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400800" y="3123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400800" y="5105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semicondu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ductivity of semiconductors lies in between the insulators and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bidden energy band is relatively small ( order of 1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: Silicon, Germaniu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0:17:38Z</dcterms:created>
  <dc:creator>telsarnagawy</dc:creator>
  <dc:description/>
  <dc:language>en-US</dc:language>
  <cp:lastModifiedBy>admin</cp:lastModifiedBy>
  <dcterms:modified xsi:type="dcterms:W3CDTF">2011-05-10T12:25:55Z</dcterms:modified>
  <cp:revision>27</cp:revision>
  <dc:subject/>
  <dc:title>Slide 1</dc:title>
</cp:coreProperties>
</file>