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440"/>
            <a:ext cx="3353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609480" y="990720"/>
            <a:ext cx="8153640" cy="52578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28600" y="146160"/>
            <a:ext cx="2209680" cy="6858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b727"/>
              </a:gs>
              <a:gs pos="100000">
                <a:srgbClr val="996633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304920" y="152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533520" y="914400"/>
            <a:ext cx="8153280" cy="5486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3353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5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3"/>
          </p:nvPr>
        </p:nvSpPr>
        <p:spPr>
          <a:xfrm>
            <a:off x="3124080" y="6400440"/>
            <a:ext cx="3353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5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4"/>
          </p:nvPr>
        </p:nvSpPr>
        <p:spPr>
          <a:xfrm>
            <a:off x="3124080" y="6400440"/>
            <a:ext cx="3353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5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5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6"/>
          </p:nvPr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5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7"/>
          </p:nvPr>
        </p:nvSpPr>
        <p:spPr>
          <a:xfrm>
            <a:off x="3124080" y="6400440"/>
            <a:ext cx="3353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Line 5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Line 5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9"/>
          </p:nvPr>
        </p:nvSpPr>
        <p:spPr>
          <a:xfrm>
            <a:off x="3124080" y="6400440"/>
            <a:ext cx="3353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T. Elsarnagawy, mde 207, semester 311, r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</a:rPr>
              <a:t>Diode characteristics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itle 4"/>
          <p:cNvSpPr/>
          <p:nvPr/>
        </p:nvSpPr>
        <p:spPr>
          <a:xfrm>
            <a:off x="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- Reverse bias con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472428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 the diode is connected in reverse bias. The ammeter is connected in series and the voltmeter is Connected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05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28600" y="3808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s the reverse voltage is increased above zero in suitable steps, the depletion region gets enlarged due to reverse bias condit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he is very small due to minority carriers. It is in the range of micro amper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s the reverse bias further increase, break down of covalent bonds  occur due to the phenomenon of a avalanche break down and the current increase rapid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295280" y="5638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Reverse characteristi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PN Junction Dio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286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ulting device which get after junction formation is called a Diod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ymbolic represent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52680" y="426708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352680" y="472428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133720" y="46483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4400" y="39276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699520" y="40798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04920" y="38052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gion connected to the P-region of the diode is called “Anode”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gion connected to the N-region is called “Cathode”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iode can conduct current only in one direct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iode can be biased in two ways:-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- Forward Bias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- Reverse Bias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ositive terminal of battery is connected to the anode and the negative terminal of battery is connected to the cathod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ied external voltage cancel the potential barrier, permitting current flow through the junct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current is called forward current, it is in the range of milli amperes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itle 4"/>
          <p:cNvSpPr/>
          <p:nvPr/>
        </p:nvSpPr>
        <p:spPr>
          <a:xfrm>
            <a:off x="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1- Forward bia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he positive terminal of the battery is connected to the cathode and the negative terminal to the anode, the resulting bias is known as the reverse bia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ied voltage increases the potential barrier, preventing the flow of charge carriers across the junct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mall current flows due to the movement of minority carriers. This is known as reverse current. It is in the range of micro amperes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itle 4"/>
          <p:cNvSpPr/>
          <p:nvPr/>
        </p:nvSpPr>
        <p:spPr>
          <a:xfrm>
            <a:off x="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2- Reverse bia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VI characteristic of PN junction Diode is the curve drown between voltage across the junction in the x-axis and the diode current in the y-axi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haracteristic is obtained under two conditions:-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 forward bias condi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- Reverse bias condit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itle 4"/>
          <p:cNvSpPr/>
          <p:nvPr/>
        </p:nvSpPr>
        <p:spPr>
          <a:xfrm>
            <a:off x="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 characteristic of PN junction Di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04920" y="4495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itle 4"/>
          <p:cNvSpPr/>
          <p:nvPr/>
        </p:nvSpPr>
        <p:spPr>
          <a:xfrm>
            <a:off x="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- Forward bias con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441972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ase the diode is connected in forward bias. The ammeter is connected in series to measure the current and the voltmeter is Connected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parallel to the diode to measure the voltage across the di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0" y="3045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the forward bias is increased from zer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forward current If is zero until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the potential barrier prevents the holes and electrons to flow across the depletion region in the opposite directio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or                the potential barrier at the junction completely disappear, the holes cross the junction from P- type to N-type  and the electrons cross the junction in the opposite dire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848720" y="380880"/>
                <a:ext cx="1295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7010280" y="914400"/>
                <a:ext cx="129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143000" y="3657600"/>
                <a:ext cx="129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04920" y="44197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voltage at which the potential barrier is over come by the forward voltage is call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ut 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threshold voltag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Content Placeholder 5"/>
          <p:cNvSpPr/>
          <p:nvPr/>
        </p:nvSpPr>
        <p:spPr>
          <a:xfrm>
            <a:off x="152388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Forward character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467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5:29:44Z</dcterms:created>
  <dc:creator>David  Buchla</dc:creator>
  <dc:description/>
  <dc:language>en-US</dc:language>
  <cp:lastModifiedBy>magdy gamal el ghatwary</cp:lastModifiedBy>
  <dcterms:modified xsi:type="dcterms:W3CDTF">2010-11-02T10:50:12Z</dcterms:modified>
  <cp:revision>101</cp:revision>
  <dc:subject/>
  <dc:title>PowerPoint Presentation</dc:title>
</cp:coreProperties>
</file>