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3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6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9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Diode Application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04920" y="12952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quating these equations and solving for C gives us a design equation that valid only for small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809880" y="434880"/>
                <a:ext cx="2210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347840" y="3297240"/>
                <a:ext cx="652788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f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38858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Positive half-cyc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ode 1 is ON and diode 2 is OF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Negative half-cyc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ode 1 is OFF and Diode 2 is 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itle 4"/>
          <p:cNvSpPr/>
          <p:nvPr/>
        </p:nvSpPr>
        <p:spPr>
          <a:xfrm>
            <a:off x="3808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4- The Filtered Half-Wave Rectif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1920" y="3045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ad voltage in this case is represented a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24560" cy="28432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45240" y="472428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wave rec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- The Half-Wave Rectifi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ode application changes ac into d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oltage is most often a sinusoidal and diode is ideal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6019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04920" y="3805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uring Positive half-cyc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ode conduct  (“ON”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uring Negative half-cyc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ode conduct  (“OFF”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,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5812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920" y="16002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 the Fig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ATT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presents the battery to be charg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2- A Typical Battery Charging Circu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01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04920" y="4568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cludes all resistance (wiring, diode, battery) reflected to the transformer secondary wind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ing current flows only when 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&gt;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ATTR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rtia of meter movement allows indication of average curren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0492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 called a peak rectifier, a half-wave rectifier with smoothing capacitor, or a half-wave rectifier with a capacitor-input fil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In this fig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itle 4"/>
          <p:cNvSpPr/>
          <p:nvPr/>
        </p:nvSpPr>
        <p:spPr>
          <a:xfrm>
            <a:off x="3808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3- The Filtered Half-Wave Rectif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315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04920" y="3049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In this fig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When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&gt;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, the diode is on, and the voltage source charges the capacito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When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&lt;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, the diode is off, and C discharge exponentially through R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We define peak to peak ripple voltage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, as the total change in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over one cycl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ecause the diode is off for nearly the entire period, T, the capacitor must supply the “dc” load current during this interv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charge taken from the capacitor in this interval i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capacitor voltage decreases by V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in this interval, which requires a decrease in the charge stored in the capaci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itle 4"/>
          <p:cNvSpPr/>
          <p:nvPr/>
        </p:nvSpPr>
        <p:spPr>
          <a:xfrm>
            <a:off x="38088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Relating Capacitance to Ripple Vol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0400" y="3505320"/>
                <a:ext cx="3505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magdy gamal el ghatwary</cp:lastModifiedBy>
  <dcterms:modified xsi:type="dcterms:W3CDTF">2010-11-02T10:52:02Z</dcterms:modified>
  <cp:revision>95</cp:revision>
  <dc:subject/>
  <dc:title>PowerPoint Presentation</dc:title>
</cp:coreProperties>
</file>