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D14F-FEBE-477B-BE76-DD99F9EB2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4123-1271-46EF-97F2-BDEABFE7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ECC-35E6-4347-BE30-9A96C9F5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F408-B346-4DE7-A4C1-44E4CF0A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0" y="1371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3e4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OZIER &amp; ER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s </a:t>
            </a:r>
            <a:r>
              <a:rPr b="0" i="1" lang="en-US" sz="3200" spc="-1" strike="noStrike">
                <a:solidFill>
                  <a:srgbClr val="66a1cb"/>
                </a:solidFill>
                <a:latin typeface="Arial"/>
                <a:ea typeface="Arial"/>
              </a:rPr>
              <a:t>of</a:t>
            </a:r>
            <a:r>
              <a:rPr b="0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NUR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5002200" y="29671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487d"/>
                </a:solidFill>
                <a:latin typeface="Arial"/>
              </a:rPr>
              <a:t>CHAPTER</a:t>
            </a:r>
            <a:r>
              <a:rPr b="0" lang="en-US" sz="2400" spc="-1" strike="noStrike">
                <a:solidFill>
                  <a:srgbClr val="3e48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333440" y="129528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, Process, an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berman_cvr2b.jpg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34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1143000" y="3886200"/>
            <a:ext cx="76960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487d"/>
                </a:solidFill>
                <a:latin typeface="Arial"/>
              </a:rPr>
              <a:t>Health, Wellnes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e487d"/>
                </a:solidFill>
                <a:latin typeface="Arial"/>
              </a:rPr>
              <a:t>and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  <a:ea typeface="Times New Roman"/>
              </a:rPr>
              <a:t>Dr. Wajed Hatam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1600200" y="2468520"/>
            <a:ext cx="616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487d"/>
                </a:solidFill>
                <a:latin typeface="Arial"/>
              </a:rPr>
              <a:t>Chapter 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0" y="-4680"/>
            <a:ext cx="9140760" cy="138096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tudents into groups and assign each a component of well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the students to provide examples of wellness behavior in each compon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ci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maintain inti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respect and tolerance for those with different opinion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motion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manage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express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llectu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se information eff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ing for continue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to deal with new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ritu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 in some force that serves to u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aning and purpose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’s own morals, values and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ccupation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achieve balance between work and lei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promote health measure that impr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of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ces such as food, water, and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l-be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ive perception of vitality and feeling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 objectively, experienced, mea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plotted on a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-Illness Continu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erson’s perceived level of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nd illness/disease opposite ends of a health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-Illness Continuum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back and forth within this continuum day b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people perceive themselves and how others see them will affect where their placement on the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influences on clients’ definitions of health, wellness, and well-be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five components of we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various models of health outlined in this chap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variables affecting health status, beliefs, and pract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 Influencing Health Status, Beliefs, and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riables Influencing Health Status, Beliefs, and Pract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factors may or may not be under conscious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can usually control their health behaviors and can choose healthy or unhealthy activ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ontrast, people have little or no choices over their genetic makeup, age, gender, culture, and sometimes their geographic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al Variab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makeup, gender, age, and development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-body interactions and self-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 choices and spiritual and religious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rnal Variab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of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and cultur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suppor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Belief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to help determine whether an individual is likely to participate in disease prevention and health promotion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Belief Model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enstock’s and Becker’s Health Belie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’s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Adh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lifestyl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ived severity of health car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placed on reducing the threat of i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understand and perform specific behavi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Adherenc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inconvenience of the illness itself or of the regi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fs that the prescribed therapy or regimen will or will not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 Care Adher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, side effects, and duration of the proposed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al heritage, beliefs, or practices that support or conflict with the reg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 of satisfaction and quality and type of relationship with the health car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cost of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llnes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ighly personal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’s physical, emotional, intellectual, social, developmental, or spiritual functioning is dim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synonymous with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related to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erson can say he or she is 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factors affecting health care adh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illness from disease and acute illness from chronic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arsons’ four aspects of the sick r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Suchman’s stages of il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ation in body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duction of capacities or a shortening of the normal life s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ation of disease is called et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ute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d by symptoms of relatively short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toms often appear abruptly, subside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require intervention by health care professi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people return to normal level of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nic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s for an extended period, usually 6 months or 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has a slow on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have periods of remissions, when the symptoms disappear and exacerbations, when the symptoms reap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onic Illn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includes promoting independence, sense of control, and wel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how to live with physical limitations and discom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son’s Four Aspect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the Sick Ro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not held responsible for their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excused from certain social roles an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son’s Four Aspect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f the Sick Rol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are obligated to try to get well as quickly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s or their families are obligated to seek competen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hman’s Stages of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1: Symptom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something i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2: Assumption of the sick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the sick role and seeks confi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3: Medical care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s advice of a health profess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hman’s Stages of Illn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4: Dependent client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dependent on the professional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 5: Recovery or rehabil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nquish the dependent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me former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I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 on the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al and emotional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concept and body imag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Illn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 of the family who is 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ness and length of the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 and social customs the family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effects of illness on individuals’ and family members’ roles and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n the Famil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reassig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demands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stress due to anxiety about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about unaccustomed responsib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n the Family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eliness as a result of separation and pending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social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, Wellness, Wellbe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efinitions and interpre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amiliar with most common aspects of th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how they may be individualized with specific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r absence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physical, mental, social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maintain normal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al and behavioral potential is realized to the fullest extent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ving toward optimal func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ln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of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aspects include 5 compone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responsi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ultimat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ynamic, grow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ily decision-making in areas of nutrition, stress management, physical fitness, preventive health care, and emotional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being of 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7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he seven components of wellness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Wellness: Concepts and Applications, 7th ed. (p. 4), by D. J. Anspaugh, M. H. Hamrick, and F. D. Rosato, 2009, New York, NY: McGraw-Hill. Reprinted with permiss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AAJNZHO0.jpg" descr="AAJNZHO0"/>
          <p:cNvPicPr/>
          <p:nvPr/>
        </p:nvPicPr>
        <p:blipFill>
          <a:blip r:embed="rId1"/>
          <a:stretch/>
        </p:blipFill>
        <p:spPr>
          <a:xfrm>
            <a:off x="1998720" y="1066680"/>
            <a:ext cx="514836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carry out daily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 fit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abusing drugs and alcohol or 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positive lifestyle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6:35:45Z</dcterms:created>
  <dc:creator>James Ramsey</dc:creator>
  <dc:description/>
  <dc:language>en-US</dc:language>
  <cp:lastModifiedBy>Mutazz</cp:lastModifiedBy>
  <dcterms:modified xsi:type="dcterms:W3CDTF">2011-11-27T17:58:58Z</dcterms:modified>
  <cp:revision>11</cp:revision>
  <dc:subject/>
  <dc:title>PowerPoint Presentation</dc:title>
</cp:coreProperties>
</file>