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A970-817C-40A3-85F7-E9FAAA37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E4D-0F63-40D5-8B43-D7A4C5DE6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4C5-6E65-4CC3-9F59-68978ADDE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0EE-706B-4E12-97C3-DE119852C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0" y="1371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3e4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OZIER &amp; ER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s </a:t>
            </a:r>
            <a:r>
              <a:rPr b="0" i="1" lang="en-US" sz="3200" spc="-1" strike="noStrike">
                <a:solidFill>
                  <a:srgbClr val="66a1cb"/>
                </a:solidFill>
                <a:latin typeface="Arial"/>
                <a:ea typeface="Arial"/>
              </a:rPr>
              <a:t>of</a:t>
            </a:r>
            <a:r>
              <a:rPr b="0" lang="en-US" sz="4800" spc="-1" strike="noStrike">
                <a:solidFill>
                  <a:srgbClr val="66a1cb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a1cb"/>
                </a:solidFill>
                <a:latin typeface="Arial"/>
                <a:ea typeface="Arial"/>
              </a:rPr>
              <a:t>NUR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5002200" y="29671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487d"/>
                </a:solidFill>
                <a:latin typeface="Arial"/>
              </a:rPr>
              <a:t>CHAPTER</a:t>
            </a:r>
            <a:r>
              <a:rPr b="0" lang="en-US" sz="2400" spc="-1" strike="noStrike">
                <a:solidFill>
                  <a:srgbClr val="3e48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1333440" y="129528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s, Process, an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berman_cvr2b.jpg"/>
          <p:cNvPicPr/>
          <p:nvPr/>
        </p:nvPicPr>
        <p:blipFill>
          <a:blip r:embed="rId3"/>
          <a:stretch/>
        </p:blipFill>
        <p:spPr>
          <a:xfrm>
            <a:off x="609480" y="1828800"/>
            <a:ext cx="3353040" cy="434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1143000" y="3886200"/>
            <a:ext cx="76960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487d"/>
                </a:solidFill>
                <a:latin typeface="Arial"/>
              </a:rPr>
              <a:t>Health, Wel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487d"/>
                </a:solidFill>
                <a:latin typeface="Arial"/>
              </a:rPr>
              <a:t>and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  <a:ea typeface="Times New Roman"/>
              </a:rPr>
              <a:t>Dr. Wajed Hatam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1600200" y="2468520"/>
            <a:ext cx="61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487d"/>
                </a:solidFill>
                <a:latin typeface="Arial"/>
              </a:rPr>
              <a:t>Chapter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0" y="-4680"/>
            <a:ext cx="9140760" cy="138096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tudents into groups and assign each a component of well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the students to provide examples of wellness behavior in each com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 success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maintain inti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respect and tolerance for those with different opinion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otion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manage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express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llectu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use information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ing for continue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deal with new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itu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 in some force that serves to un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aning and purpose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’s own morals, values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achieve balance between work and lei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vironment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promote health measure that im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s such as food, water, and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l-be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 perception of vitality and feeling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d objectively, experienced,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plotted on a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-Illness Continu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person’s perceived level of 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and illness/disease opposite ends of a health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-Illness Continuum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back and forth within this continuum day b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people perceive themselves and how others see them will affect where their placement on the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fluences on clients’ definitions of health, wellness, and well-be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five components of we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various models of health outlined in this chap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variables affecting health status, beliefs, and pract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 Influencing Health Status, Beliefs, and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 Influencing Health Status, Beliefs, and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factors may or may not be under conscious contr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usually control their health behaviors and can choose healthy or unhealthy activ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, people have little or no choices over their genetic makeup, age, gender, culture, and sometimes their geographic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al Variab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 dim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makeup, gender, age, and development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 dim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-body interactions and self-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dim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 choices and spiritual and religious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ernal Variab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of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and cultural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uppor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Belief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to help determine whether an individual is likely to participate in disease prevention and health promo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Belief Model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nstock’s and Becker’s Health Belie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’s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Adh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lifestyl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ived severity of health c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placed on reducing the threat of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understand and perform specific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Adherence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inconvenience of the illness itself or of the regi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s that the prescribed therapy or regimen will or will not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Adh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, side effects, and duration of the proposed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heritage, beliefs, or practices that support or conflict with the reg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satisfaction and quality and type of relationship with the health ca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cost of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lnes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ghly person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’s physical, emotional, intellectual, social, developmental, or spiritual functioning is dim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ynonymous with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related to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erson can say he or she is 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factors affecting health care adh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illness from disease and acute illness from chronic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arsons’ four aspects of the sick r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Suchman’s stages of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 in body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duction of capacities or a shortening of the normal lif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tion of disease is called et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ute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d by symptoms of relatively short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often appear abruptly, subside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require intervention by health care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return to normal level of 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onic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s for an extended period, usually 6 months or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s a slow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periods of remissions, when the symptoms disappear and exacerbations, when the symptoms re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onic Illnes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includes promoting independence, sense of control, and 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how to live with physical limitations and discom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son’s Four Aspect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the Sick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are not held responsible for their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are excused from certain social role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son’s Four Aspect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the Sick Role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are obligated to try to get well as quick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or their families are obligated to seek competen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hman’s Stages of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1: Symptom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 something i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2: Assumption of the sick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the sick role and seeks confi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3: Medical care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advice of a health profess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hman’s Stages of Illnes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4: Dependent client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dependent on the professional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5: Recovery or rehabil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nquish the dependent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 former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 of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n 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and emotion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cept and body imag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 of Illnes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 of the family who is 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ness and length of the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nd social customs the family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effects of illness on individuals’ and family members’ roles an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act on the Famil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re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mands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tress due to anxiety about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about unaccustomed responsi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act on the Family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eliness as a result of separation and pending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ocial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, Wellness, Wellbe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efinitions and interpre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amiliar with most common aspects of th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ow they may be individualized with specific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r absence 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physical, mental, social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maintain normal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al and behavioral potential is realized to the fullest extent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ing toward optimal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aspects include 5 compon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respons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ltimat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ynamic, grow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decision-making in areas of nutrition, stress management, physical fitness, preventive health care, and emotion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being of th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7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The seven components of wellness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 Wellness: Concepts and Applications, 7th ed. (p. 4), by D. J. Anspaugh, M. H. Hamrick, and F. D. Rosato, 2009, New York, NY: McGraw-Hill. Reprinted with permiss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AAJNZHO0.jpg" descr="AAJNZHO0"/>
          <p:cNvPicPr/>
          <p:nvPr/>
        </p:nvPicPr>
        <p:blipFill>
          <a:blip r:embed="rId1"/>
          <a:stretch/>
        </p:blipFill>
        <p:spPr>
          <a:xfrm>
            <a:off x="1998720" y="1066680"/>
            <a:ext cx="514836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arry out daily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busing drugs and alcohol or sm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positive lifestyle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6:35:45Z</dcterms:created>
  <dc:creator>James Ramsey</dc:creator>
  <dc:description/>
  <dc:language>en-US</dc:language>
  <cp:lastModifiedBy>Mutazz</cp:lastModifiedBy>
  <dcterms:modified xsi:type="dcterms:W3CDTF">2011-11-27T17:58:58Z</dcterms:modified>
  <cp:revision>11</cp:revision>
  <dc:subject/>
  <dc:title>PowerPoint Presentation</dc:title>
</cp:coreProperties>
</file>