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363F-DBB1-4C6F-B25B-964722BD04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5B3A-2AE7-426C-B6DC-3EF1DBBF279C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58F-F265-439A-A3E4-034AEE6E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66C-7F06-4DEF-B43F-8E392B94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7D6-CADB-405E-B117-5788049C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8E1-342B-4B14-8FE5-2F224557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F4A-F2DB-44C1-987E-EBF0129D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7EA-089C-4800-BBA9-174F231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8AA-31E1-4BEB-A865-A7B6864E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288-328D-4B08-8B7A-D4BB9690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342-C2BA-411F-9DE5-E541C942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313-EFE8-4EFE-9B70-76E1944C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2BB-A65A-4CC3-926E-8128751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294-2A4C-478B-B0F7-FD128312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5CBB-2F11-4C48-82E0-9E21A7890C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3F4A-11D2-447C-88B8-6C46061C15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5B87-A67E-471A-9D3D-E4858F7EC3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AF25-7B0B-4D0E-B5E5-AB84E3B383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7640" y="1278000"/>
            <a:ext cx="2987280" cy="2331360"/>
            <a:chOff x="1277640" y="1278000"/>
            <a:chExt cx="2987280" cy="233136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3360" y="2958120"/>
              <a:ext cx="12974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7640" y="1278000"/>
              <a:ext cx="1830240" cy="1812600"/>
              <a:chOff x="1277640" y="1278000"/>
              <a:chExt cx="1830240" cy="181260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960" y="1879560"/>
                <a:ext cx="1907280" cy="609480"/>
              </a:xfrm>
              <a:prstGeom prst="rightArrow">
                <a:avLst>
                  <a:gd name="adj1" fmla="val 50000"/>
                  <a:gd name="adj2" fmla="val 7823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1520" y="2091960"/>
                <a:ext cx="13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1F36-CA1E-465B-B533-E6971E2D54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ralajmi</cp:lastModifiedBy>
  <dcterms:modified xsi:type="dcterms:W3CDTF">2014-02-02T04:41:05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