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AD58-0B36-4BD4-A5F9-9966D5BA995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A187-87DC-4325-8D99-8D40D7496F49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B8C-7631-48B5-A3DD-80150800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05C-F8BA-4402-8607-5116B727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34E-28AD-4F07-BB4B-C732AFC5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C88-DA14-4A2D-B57D-AB15AB33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5A6-399A-4C4B-B455-A8DA3E0C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97C-5DF3-4603-ADF3-03BAE9C9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59C-7B33-48CD-AEC2-0D50A8A9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A42-5577-4C5B-8CE1-37122679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1C1-E607-45D8-BC71-CDB49ACA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375-3F07-423C-9580-B5811241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344-221B-45B1-A3BB-7F5C7592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3805-E18F-4238-8E8C-75644014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3E1E-AC00-415B-8A5A-A160EBEB25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F5CD-C6F5-4910-86F5-7DABBE273F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5D5E-D0A6-4708-90E6-18A4F5771A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685800" y="3962520"/>
            <a:ext cx="2209680" cy="1651320"/>
            <a:chOff x="685800" y="3962520"/>
            <a:chExt cx="2209680" cy="1651320"/>
          </a:xfrm>
        </p:grpSpPr>
        <p:grpSp>
          <p:nvGrpSpPr>
            <p:cNvPr id="311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312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15"/>
            <p:cNvSpPr/>
            <p:nvPr/>
          </p:nvSpPr>
          <p:spPr>
            <a:xfrm>
              <a:off x="808560" y="457524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20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22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DC89-BC97-4D1B-9C3F-0B52CB2FEF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1278720" y="1278360"/>
            <a:ext cx="2986560" cy="2330640"/>
            <a:chOff x="1278720" y="1278360"/>
            <a:chExt cx="2986560" cy="2330640"/>
          </a:xfrm>
        </p:grpSpPr>
        <p:sp>
          <p:nvSpPr>
            <p:cNvPr id="159" name="Text Box 34"/>
            <p:cNvSpPr/>
            <p:nvPr/>
          </p:nvSpPr>
          <p:spPr>
            <a:xfrm rot="1477200">
              <a:off x="2944440" y="2958120"/>
              <a:ext cx="129636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5"/>
            <p:cNvGrpSpPr/>
            <p:nvPr/>
          </p:nvGrpSpPr>
          <p:grpSpPr>
            <a:xfrm>
              <a:off x="1278720" y="1278360"/>
              <a:ext cx="1828080" cy="1812240"/>
              <a:chOff x="1278720" y="1278360"/>
              <a:chExt cx="1828080" cy="1812240"/>
            </a:xfrm>
          </p:grpSpPr>
          <p:sp>
            <p:nvSpPr>
              <p:cNvPr id="161" name="AutoShape 36"/>
              <p:cNvSpPr/>
              <p:nvPr/>
            </p:nvSpPr>
            <p:spPr>
              <a:xfrm rot="2828400">
                <a:off x="1281600" y="1879560"/>
                <a:ext cx="1906560" cy="609480"/>
              </a:xfrm>
              <a:prstGeom prst="rightArrow">
                <a:avLst>
                  <a:gd name="adj1" fmla="val 50000"/>
                  <a:gd name="adj2" fmla="val 7820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 rot="2828400">
                <a:off x="1182600" y="2093040"/>
                <a:ext cx="13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64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73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E498-8319-4085-B35E-20D51A7ADB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82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83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86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9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01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02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05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09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23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26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29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32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35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38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41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44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47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54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5:46Z</dcterms:modified>
  <cp:revision>603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