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E8C-4AE0-443A-823A-9CC78363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EF1-08E9-40C8-9494-59B38984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6CEE-E45D-41BF-8A46-6F0254DB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9DD-AF45-486E-A963-D42107F0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B0F-C40C-4743-ACBF-13FED447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AFF-F056-462E-AC66-6885838C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D2A-A887-4B2C-9509-3967B108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CC94-385B-4E6F-AF2A-D8931B70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01FD-CCE1-4486-8F4C-300B73A0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6FA-6A2C-44DD-BBF6-6EC9B222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3D1-1743-4578-AF94-A8D6FE5F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1C8-4E03-4A27-B6C6-8F8D480A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6F47-9474-4288-AD58-0E933180A85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FB7F-1E60-46A6-8CDA-9CA4B2E9192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An Introductory Overview of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Cells, Chemical Bonds &amp; Energy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Part-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52280" y="5715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BCH 361/ Section: 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228600"/>
            <a:ext cx="2470320" cy="173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87B6-D388-48E7-989E-F69CF133856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6DCA-A860-4D41-ABB6-45772234A65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68360" y="4762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Hydrogen Bonds In Bi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69960" y="2373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24000" y="1628640"/>
            <a:ext cx="504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ydrogen has a low electronegativity (it has only one proton to attract electrons with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xygen and nitrogen are highly electro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en there is a bond between O and H, or N and H, the molecule forms a dipole -- the O or N will become </a:t>
            </a:r>
            <a:r>
              <a:rPr b="0" lang="el-GR" sz="2200" spc="-1" strike="noStrike">
                <a:solidFill>
                  <a:srgbClr val="000000"/>
                </a:solidFill>
                <a:latin typeface="Cambria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- (hydrogen bond acceptor), and the H will become </a:t>
            </a:r>
            <a:r>
              <a:rPr b="0" lang="el-GR" sz="2200" spc="-1" strike="noStrike">
                <a:solidFill>
                  <a:srgbClr val="000000"/>
                </a:solidFill>
                <a:latin typeface="Cambria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+ (hydrogen bond dono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eptidebond.jpg"/>
          <p:cNvPicPr/>
          <p:nvPr/>
        </p:nvPicPr>
        <p:blipFill>
          <a:blip r:embed="rId1"/>
          <a:stretch/>
        </p:blipFill>
        <p:spPr>
          <a:xfrm>
            <a:off x="5435640" y="2565360"/>
            <a:ext cx="3328920" cy="259236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TextBox 6"/>
          <p:cNvSpPr/>
          <p:nvPr/>
        </p:nvSpPr>
        <p:spPr>
          <a:xfrm>
            <a:off x="7308720" y="260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66BB-11FB-49C2-BE4D-2365C594094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3BD5-D73E-49D4-8260-527B4728BD7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50920" y="282600"/>
            <a:ext cx="82072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Hydrogen Bonds Hold The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DNA Double Helix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69960" y="2373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79280" y="1773360"/>
            <a:ext cx="432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T pair has 2 H bonds, while a CG pair has 3 H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helix is harder to unwind in a CG-rich region than in an AT-rich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-bonds play pivotal roles in different aspects of the central dogma of MB 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double helix"/>
          <p:cNvPicPr/>
          <p:nvPr/>
        </p:nvPicPr>
        <p:blipFill>
          <a:blip r:embed="rId1"/>
          <a:srcRect l="0" t="2862" r="0" b="5713"/>
          <a:stretch/>
        </p:blipFill>
        <p:spPr>
          <a:xfrm>
            <a:off x="4572000" y="2133720"/>
            <a:ext cx="4367160" cy="3024000"/>
          </a:xfrm>
          <a:prstGeom prst="rect">
            <a:avLst/>
          </a:prstGeom>
          <a:ln w="9360">
            <a:solidFill>
              <a:srgbClr val="10253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TextBox 12"/>
          <p:cNvSpPr/>
          <p:nvPr/>
        </p:nvSpPr>
        <p:spPr>
          <a:xfrm>
            <a:off x="7380360" y="260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5A0C-2E38-4FDC-9F5B-514FA32159C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93E2-08E8-4C96-AFB8-4CA6100F31E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228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Noncovalent Bonds Influence Molecular Structure--Hydrophobic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01600" y="2154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52280" y="1752480"/>
            <a:ext cx="4203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ipids form micelles, in which the hydrophilic groups line the outside of the micelle and the hydrophobic groups cluster inside it, away from th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first stage of lipid digestion involves breaking up huge globs of fat into smaller globs and mic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222720" cy="3189600"/>
          </a:xfrm>
          <a:prstGeom prst="rect">
            <a:avLst/>
          </a:prstGeom>
          <a:ln w="9360">
            <a:solidFill>
              <a:srgbClr val="10253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TextBox 8"/>
          <p:cNvSpPr/>
          <p:nvPr/>
        </p:nvSpPr>
        <p:spPr>
          <a:xfrm>
            <a:off x="7524720" y="18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F814-1B3C-47AB-91CB-45F6E0C1953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76F7-8AAC-4371-87DB-8E7D9B04E8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determine the shape of macromolecules (i.e. the double stranded helical shape of DNA is determined by hydrogen bonds between complementary base pairs A-T and G-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produce reversible self-assembly of pre-synthesized subunits into specific structures (i.e. membrane lipid bi-layer, protein "polymers" like microtubul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determine the specificity of most molecular interactions (i.e. enzyme substrate specificity and catalysi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lecules or supramolecular aggregates denature (unfold) upon environmental changes (pH, temperature, or ionic strength) which affect the strengths of weak bond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B368-F114-4DB4-9F0B-981455F2682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14C3-0A9E-4AF5-9005-D20E305DAD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conclusion.png"/>
          <p:cNvPicPr/>
          <p:nvPr/>
        </p:nvPicPr>
        <p:blipFill>
          <a:blip r:embed="rId1"/>
          <a:stretch/>
        </p:blipFill>
        <p:spPr>
          <a:xfrm>
            <a:off x="611280" y="333360"/>
            <a:ext cx="1947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57200" y="1916280"/>
            <a:ext cx="4475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emoglobin is a heterotetramer-2 alpha globin chains plus 2 beta-globin chai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lutamic acid (negative charge) is replaced by valine (uncharged) in the beta-globin polypept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f beta-globin shape changes, hemoglobin's solubility decreases, hemoglobin precipitates into rod-like aggregates in red blood ce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755200" y="4479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900000" y="476280"/>
            <a:ext cx="77724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mbria"/>
              </a:rPr>
              <a:t>Disrupting Noncovalent Bonding </a:t>
            </a:r>
            <a:br>
              <a:rPr sz="3400"/>
            </a:br>
            <a:r>
              <a:rPr b="0" lang="en-US" sz="3400" spc="-1" strike="noStrike">
                <a:solidFill>
                  <a:srgbClr val="0000ff"/>
                </a:solidFill>
                <a:latin typeface="Cambria"/>
              </a:rPr>
              <a:t>Causes Sickle-Cell Anem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829320" cy="27432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6" descr="undefined"/>
          <p:cNvPicPr/>
          <p:nvPr/>
        </p:nvPicPr>
        <p:blipFill>
          <a:blip r:embed="rId2"/>
          <a:stretch/>
        </p:blipFill>
        <p:spPr>
          <a:xfrm>
            <a:off x="298440" y="878040"/>
            <a:ext cx="1474920" cy="190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7524720" y="18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EFE0-DEE1-40DC-B37F-A96E50010BE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5518-8E91-4F65-B05C-7F915494325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http://cornellbiochem.wikispaces.com/file/view/sickle_cell_anemia2.jpg/126218139/sickle_cell_anemia2.jpg"/>
          <p:cNvPicPr/>
          <p:nvPr/>
        </p:nvPicPr>
        <p:blipFill>
          <a:blip r:embed="rId1"/>
          <a:stretch/>
        </p:blipFill>
        <p:spPr>
          <a:xfrm>
            <a:off x="2627280" y="1413000"/>
            <a:ext cx="3762360" cy="31240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" name="Rounded Rectangle 8"/>
          <p:cNvSpPr/>
          <p:nvPr/>
        </p:nvSpPr>
        <p:spPr>
          <a:xfrm>
            <a:off x="611280" y="4724280"/>
            <a:ext cx="8064360" cy="11527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moglobin aggregation causes sickling of the red blood cell, and the aggregates punctures the cell when it gets squeezed through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undefined"/>
          <p:cNvPicPr/>
          <p:nvPr/>
        </p:nvPicPr>
        <p:blipFill>
          <a:blip r:embed="rId2"/>
          <a:stretch/>
        </p:blipFill>
        <p:spPr>
          <a:xfrm>
            <a:off x="658800" y="3828960"/>
            <a:ext cx="1474920" cy="19065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5877-AC84-46A5-A857-7FE3C2556E9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D66E-C1AA-4DB5-9BC0-13B68129989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Molecules of Li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1468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s are 70% water, nearly 30% carbon compou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68200" y="2938320"/>
            <a:ext cx="2840040" cy="3651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165480" cy="23050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Right Arrow 6"/>
          <p:cNvSpPr/>
          <p:nvPr/>
        </p:nvSpPr>
        <p:spPr>
          <a:xfrm>
            <a:off x="4284720" y="1700280"/>
            <a:ext cx="107928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33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7"/>
          <p:cNvSpPr/>
          <p:nvPr/>
        </p:nvSpPr>
        <p:spPr>
          <a:xfrm rot="10800000">
            <a:off x="2700000" y="4220640"/>
            <a:ext cx="1079640" cy="28764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33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7AB8-FC33-4AD6-B82D-31B685C00CD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9D60-5E1B-4BCE-AD56-09A9DFF97E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8FD0-2C00-4E3B-A050-40F8359AFA2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60D2-71AE-4734-BB7C-D8C891F0D44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705360" cy="268596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Rounded Rectangle 6"/>
          <p:cNvSpPr/>
          <p:nvPr/>
        </p:nvSpPr>
        <p:spPr>
          <a:xfrm>
            <a:off x="826920" y="4724280"/>
            <a:ext cx="7705800" cy="1368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ll living things are made up of four classes of large biological molecules: carbohydrates, lipids, proteins, and nucleic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50920" y="191628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1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Macromolecules are polymers, built from monom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2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arbohydrates serve as fuel and building mater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3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Lipids are a diverse group of hydrophobic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4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roteins include a diversity of structures, resulting in a wide range of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5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Nucleic acids store, transmit, and help express hereditary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5210-08CF-4AC2-A548-EBF6435879F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0ADF-E3EE-4D66-9740-778D8E4C46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verview: The Molecules of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738036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Monosacchar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5040360" cy="3835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71000"/>
          </a:bodyPr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simplest carbohydrates for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serve as a major fuel for cells and raw material for building molecu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olysaccharides, polymers composed of many sugar building block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nosaccharides are classified b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location of the carbonyl group (as aldose or ketos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number of carbons in the carbon skelet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210360" y="1413000"/>
            <a:ext cx="2728800" cy="460836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3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E200-0EB0-40CD-9F92-B812BE088A8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0350-E5B8-4041-A024-3649B7028F5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What We Will Be Covering-II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000" y="1988640"/>
            <a:ext cx="8496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ovalent and non-covalent bo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four macromolecules and their building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hemical reactions and delta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oupling chemical reactions to ATP hydro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72B3-6B3A-4D96-BC8F-D41F903289E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6C4D-4D85-454D-9215-C11F457B6E8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Lip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113080" cy="26035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61000"/>
          </a:bodyPr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ipids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the one class of large biological molecules that do not form poly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unifying feature of lipids is having little or no affinity for wat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ipids are hydrophobic because they consist mostly of hydrocarbons, which form nonpolar covalent bo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most biologically important lipids are fats, phospholipids, and steroi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5651640" y="1973160"/>
            <a:ext cx="3187440" cy="33274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9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D0D1-3991-4C7D-AA76-299CB033D42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849C-B952-4E9D-9E94-26E67BF9234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754440" cy="41925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4248000" cy="4276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bunits of prot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0 major types of amino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de groups of amino acids dictate protein structure (non-polar, polar, and charged subgroup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0E67-3054-49FD-8E0E-FEEF024F0FC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9690-3B17-46BC-9C2A-E400A5350B5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4249800" cy="38484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de up of 5 carbon sugar, phosphate &amp; nitrogenous  base (adenine, cytosine, thymosine, guanine, Uraci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ubunits of DNA and R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P - the main energy sour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Nucleotid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5"/>
          <p:cNvPicPr/>
          <p:nvPr/>
        </p:nvPicPr>
        <p:blipFill>
          <a:blip r:embed="rId1"/>
          <a:srcRect l="0" t="0" r="0" b="4461"/>
          <a:stretch/>
        </p:blipFill>
        <p:spPr>
          <a:xfrm>
            <a:off x="4473720" y="1916280"/>
            <a:ext cx="4532040" cy="40338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1" name="TextBox 5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9C1D-E171-418D-954C-FA629401A9D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D807-9BCB-4BB2-AFA3-B47C9A77E9F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CD8D-3691-4B93-A496-8B390D3833F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5976-A705-439A-84EF-930D653B2D3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5184720" cy="506592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 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Adenosine triphosphate (ATP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denosine-5'-triphosphate (ATP) is a multifunctional nucleotide used in cells as a coenzy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transports chemical energy within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is produced by phosphorylation and cellular respiration and used by enzymes and structural proteins in many cellular processes, inclu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Metabolism, synthesis, and active transport.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Roles in cell structure and locomotion.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Cell signal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380360" y="189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9B3E-FD79-4696-8744-9339E82206D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64B0-570B-4F96-A6EF-FDCD862F6EA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24EC-0BE0-421D-B80D-925D1D86DEE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6EE0-1B12-4D6D-BC81-F754710076B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ATP"/>
          <p:cNvPicPr/>
          <p:nvPr/>
        </p:nvPicPr>
        <p:blipFill>
          <a:blip r:embed="rId1"/>
          <a:stretch/>
        </p:blipFill>
        <p:spPr>
          <a:xfrm>
            <a:off x="2627280" y="2781360"/>
            <a:ext cx="4059360" cy="202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7" name="Rectangle 6"/>
          <p:cNvSpPr/>
          <p:nvPr/>
        </p:nvSpPr>
        <p:spPr>
          <a:xfrm>
            <a:off x="468360" y="1790640"/>
            <a:ext cx="8064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phosphoryl groups, starting with the group closest to the ribose, are referred to as the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α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,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β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, and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γ)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phosph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molecule as it exists in the intact cell is highly charged at pH 7, the three phosphate groups are completely ionized (4 negative charges) near the linear phosphat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processes that use ATP as an energy source convert it back into its precurs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 is therefore continuously recycled in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69BA-A653-4864-B338-0E8732AF606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04FC-4854-4D53-A29C-10095BE624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atp_cycle"/>
          <p:cNvPicPr/>
          <p:nvPr/>
        </p:nvPicPr>
        <p:blipFill>
          <a:blip r:embed="rId1"/>
          <a:stretch/>
        </p:blipFill>
        <p:spPr>
          <a:xfrm>
            <a:off x="5292720" y="3429000"/>
            <a:ext cx="2852640" cy="26938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395280" y="1700280"/>
            <a:ext cx="44640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has several negatively-charged groups in neutral solution, it can</a:t>
            </a:r>
            <a:r>
              <a:rPr b="0" lang="ar-S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helate</a:t>
            </a:r>
            <a:r>
              <a:rPr b="0" lang="ar-S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metals with very high affi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forms stable complexes with certain divalent cations as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Most of ATP in the cell present as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complex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995640" cy="18003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8" name="TextBox 5"/>
          <p:cNvSpPr/>
          <p:nvPr/>
        </p:nvSpPr>
        <p:spPr>
          <a:xfrm>
            <a:off x="684360" y="4762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  <a:ea typeface="Times New Roman"/>
              </a:rPr>
              <a:t>Ionization in biological systems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F11A-8D45-4469-BF75-15C29CB903B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2DAF-CA02-471E-AD7F-D050E796187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Gibbs Free Energy (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energy associated with a chemical reaction that can be used to do wor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Reactions can also be classified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exergenic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&lt; 0)    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endergenic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&gt; 0)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3FB8-2E2B-43F6-807A-50EF2B8B0E6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AF59-0D06-4F2E-A7FE-FC4CEB8E82F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684360" y="3862080"/>
            <a:ext cx="2050920" cy="2227680"/>
            <a:chOff x="684360" y="3862080"/>
            <a:chExt cx="2050920" cy="2227680"/>
          </a:xfrm>
        </p:grpSpPr>
        <p:pic>
          <p:nvPicPr>
            <p:cNvPr id="226" name="Picture 5" descr="08_06a"/>
            <p:cNvPicPr/>
            <p:nvPr/>
          </p:nvPicPr>
          <p:blipFill>
            <a:blip r:embed="rId1"/>
            <a:srcRect l="21650" t="12488" r="23971" b="19181"/>
            <a:stretch/>
          </p:blipFill>
          <p:spPr>
            <a:xfrm>
              <a:off x="684360" y="3919680"/>
              <a:ext cx="2050920" cy="21398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Rectangle 6"/>
            <p:cNvSpPr/>
            <p:nvPr/>
          </p:nvSpPr>
          <p:spPr>
            <a:xfrm>
              <a:off x="1050840" y="51256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>
              <a:off x="1871640" y="41364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8"/>
            <p:cNvSpPr/>
            <p:nvPr/>
          </p:nvSpPr>
          <p:spPr>
            <a:xfrm>
              <a:off x="2135160" y="4518000"/>
              <a:ext cx="59076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t b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lied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 rot="16200000">
              <a:off x="318600" y="4321440"/>
              <a:ext cx="11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suppli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0"/>
            <p:cNvSpPr/>
            <p:nvPr/>
          </p:nvSpPr>
          <p:spPr>
            <a:xfrm rot="16200000">
              <a:off x="320760" y="5388480"/>
              <a:ext cx="115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relea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1"/>
          <p:cNvGrpSpPr/>
          <p:nvPr/>
        </p:nvGrpSpPr>
        <p:grpSpPr>
          <a:xfrm>
            <a:off x="4067280" y="3933720"/>
            <a:ext cx="2520360" cy="2133720"/>
            <a:chOff x="4067280" y="3933720"/>
            <a:chExt cx="2520360" cy="2133720"/>
          </a:xfrm>
        </p:grpSpPr>
        <p:pic>
          <p:nvPicPr>
            <p:cNvPr id="233" name="Picture 12" descr="08_06b"/>
            <p:cNvPicPr/>
            <p:nvPr/>
          </p:nvPicPr>
          <p:blipFill>
            <a:blip r:embed="rId2"/>
            <a:srcRect l="18680" t="0" r="6248" b="9795"/>
            <a:stretch/>
          </p:blipFill>
          <p:spPr>
            <a:xfrm>
              <a:off x="4067280" y="3933720"/>
              <a:ext cx="2409120" cy="2133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34" name="Rectangle 13"/>
            <p:cNvSpPr/>
            <p:nvPr/>
          </p:nvSpPr>
          <p:spPr>
            <a:xfrm>
              <a:off x="4360320" y="51969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4"/>
            <p:cNvSpPr/>
            <p:nvPr/>
          </p:nvSpPr>
          <p:spPr>
            <a:xfrm>
              <a:off x="5408640" y="58896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5"/>
            <p:cNvSpPr/>
            <p:nvPr/>
          </p:nvSpPr>
          <p:spPr>
            <a:xfrm>
              <a:off x="5913360" y="5264280"/>
              <a:ext cx="67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eased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ibbs Free Energy (G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phosphorylation of glucose to glucose 6-phosphat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lucose + phosphate               G-6 phosphate     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    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G°' = +3.3 kcal/mol (unfavor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onsider the hydrolysis of ATP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                   ADP + Pi    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   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G°' = - 7.3 kcal/mol (favorabl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Summing these reactions togeth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+ glucose               ADP + G- 6-phosphate     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 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G°' = +3.3 + (-7.3) = -4kcal/mol (still favor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6C68-99CB-440D-B257-C745025AF83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C58B-7272-4965-9F0B-E2730BB813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3635280" y="2421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1619280" y="378936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2771640" y="515772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Chemical Hierarchy structure in living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3317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rganization of molecules in cel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mall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cro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pramolecular aggreg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3120" indent="-5335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48AD-9634-47BC-AAD1-A7C1203F497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F879-0243-440C-B69A-9A207F355A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339A-DB07-45C8-84E6-B04919EE3BA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CF91-41EE-49D8-8C8D-93400E06285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400720" cy="40068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6A77-35F9-439B-AA29-16A012A225E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5968-7F97-4EC8-9D93-93FC0C01516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ounded Rectangle 7"/>
          <p:cNvSpPr/>
          <p:nvPr/>
        </p:nvSpPr>
        <p:spPr>
          <a:xfrm>
            <a:off x="1476360" y="4149720"/>
            <a:ext cx="6551640" cy="1440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The energy released in the formation of noncovalent bonds is on the order of 1-5 kcal per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118280" cy="20034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57" name="TextBox 11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1979640" y="3500280"/>
            <a:ext cx="1660320" cy="2671920"/>
          </a:xfrm>
          <a:prstGeom prst="rect">
            <a:avLst/>
          </a:prstGeom>
          <a:ln w="0">
            <a:noFill/>
          </a:ln>
        </p:spPr>
      </p:pic>
      <p:sp>
        <p:nvSpPr>
          <p:cNvPr id="259" name="Cloud Callout 5"/>
          <p:cNvSpPr/>
          <p:nvPr/>
        </p:nvSpPr>
        <p:spPr>
          <a:xfrm>
            <a:off x="3492360" y="981000"/>
            <a:ext cx="5183280" cy="2879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4211640" y="1484280"/>
            <a:ext cx="37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Time to relax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Later we will start with the main part of the cou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“</a:t>
            </a: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Nucleic acids”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Good 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F91C-61F9-43B2-9C5E-EF7271FFE3F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318C-E5F4-4D6B-B4C8-1599FA7CD15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7524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1E49-B6D5-4CA1-8848-DA420933656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C273-6D5C-4CC0-823D-9068E2F353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121440" cy="471168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1187280" y="5877000"/>
            <a:ext cx="6121440" cy="720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rganization is the key to the chemistry of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imagesCAZCN1OD.jpg"/>
          <p:cNvPicPr/>
          <p:nvPr/>
        </p:nvPicPr>
        <p:blipFill>
          <a:blip r:embed="rId2"/>
          <a:stretch/>
        </p:blipFill>
        <p:spPr>
          <a:xfrm>
            <a:off x="6804000" y="5013360"/>
            <a:ext cx="1360440" cy="1359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560" y="1341000"/>
            <a:ext cx="482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atom has a nucleus (protons and neutrons) with electrons orbiting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, C, O, and N make up 96.5% weight of a living org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, K, Cl, Ca, Fe, Zn are each present at less than 1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types of atomic interaction: Covalent &amp; Non-covalent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6E0D-322F-4FCB-ADD5-E5F9A16E447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7C71-BFF8-4B2F-B88B-D24D3109AB0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208320" cy="3456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F63B-C278-4D90-990A-96479C21217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7130-B0F4-46B2-9A9A-3353D95179C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771640" y="1341360"/>
            <a:ext cx="3672000" cy="64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Atomic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6"/>
          <p:cNvSpPr/>
          <p:nvPr/>
        </p:nvSpPr>
        <p:spPr>
          <a:xfrm>
            <a:off x="826920" y="2349360"/>
            <a:ext cx="1873440" cy="93528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valent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7"/>
          <p:cNvSpPr/>
          <p:nvPr/>
        </p:nvSpPr>
        <p:spPr>
          <a:xfrm>
            <a:off x="5940360" y="2349360"/>
            <a:ext cx="1871640" cy="93528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on-Covalent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8"/>
          <p:cNvSpPr/>
          <p:nvPr/>
        </p:nvSpPr>
        <p:spPr>
          <a:xfrm>
            <a:off x="2195640" y="407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on-pola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9"/>
          <p:cNvSpPr/>
          <p:nvPr/>
        </p:nvSpPr>
        <p:spPr>
          <a:xfrm>
            <a:off x="250920" y="407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la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14"/>
          <p:cNvSpPr/>
          <p:nvPr/>
        </p:nvSpPr>
        <p:spPr>
          <a:xfrm>
            <a:off x="5148360" y="37162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ydrogen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15"/>
          <p:cNvSpPr/>
          <p:nvPr/>
        </p:nvSpPr>
        <p:spPr>
          <a:xfrm>
            <a:off x="7308720" y="37162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16"/>
          <p:cNvSpPr/>
          <p:nvPr/>
        </p:nvSpPr>
        <p:spPr>
          <a:xfrm>
            <a:off x="7236000" y="522936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ydrophobic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17"/>
          <p:cNvSpPr/>
          <p:nvPr/>
        </p:nvSpPr>
        <p:spPr>
          <a:xfrm>
            <a:off x="5148360" y="5229360"/>
            <a:ext cx="1584360" cy="936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onic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0"/>
          <p:cNvSpPr/>
          <p:nvPr/>
        </p:nvSpPr>
        <p:spPr>
          <a:xfrm>
            <a:off x="108000" y="371628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1"/>
          <p:cNvSpPr/>
          <p:nvPr/>
        </p:nvSpPr>
        <p:spPr>
          <a:xfrm>
            <a:off x="2050920" y="3789360"/>
            <a:ext cx="4701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2"/>
          <p:cNvSpPr/>
          <p:nvPr/>
        </p:nvSpPr>
        <p:spPr>
          <a:xfrm>
            <a:off x="5003640" y="342900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3"/>
          <p:cNvSpPr/>
          <p:nvPr/>
        </p:nvSpPr>
        <p:spPr>
          <a:xfrm>
            <a:off x="7093080" y="342900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4"/>
          <p:cNvSpPr/>
          <p:nvPr/>
        </p:nvSpPr>
        <p:spPr>
          <a:xfrm>
            <a:off x="4932360" y="4941720"/>
            <a:ext cx="4683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5"/>
          <p:cNvSpPr/>
          <p:nvPr/>
        </p:nvSpPr>
        <p:spPr>
          <a:xfrm>
            <a:off x="7020000" y="4941720"/>
            <a:ext cx="4683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39"/>
          <p:cNvSpPr/>
          <p:nvPr/>
        </p:nvSpPr>
        <p:spPr>
          <a:xfrm>
            <a:off x="4572000" y="198900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42"/>
          <p:cNvSpPr/>
          <p:nvPr/>
        </p:nvSpPr>
        <p:spPr>
          <a:xfrm>
            <a:off x="2700360" y="2781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B9F7-CDFE-45F0-865B-7BD5725CCA6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2B7B-B21C-4710-89DA-E08C283442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tick-man-thinking-clip-art.jpg"/>
          <p:cNvPicPr/>
          <p:nvPr/>
        </p:nvPicPr>
        <p:blipFill>
          <a:blip r:embed="rId1"/>
          <a:stretch/>
        </p:blipFill>
        <p:spPr>
          <a:xfrm>
            <a:off x="5580000" y="4221000"/>
            <a:ext cx="1341360" cy="2160720"/>
          </a:xfrm>
          <a:prstGeom prst="rect">
            <a:avLst/>
          </a:prstGeom>
          <a:ln w="0">
            <a:noFill/>
          </a:ln>
        </p:spPr>
      </p:pic>
      <p:sp>
        <p:nvSpPr>
          <p:cNvPr id="94" name="Cloud Callout 6"/>
          <p:cNvSpPr/>
          <p:nvPr/>
        </p:nvSpPr>
        <p:spPr>
          <a:xfrm>
            <a:off x="3851280" y="836640"/>
            <a:ext cx="5040360" cy="2808360"/>
          </a:xfrm>
          <a:prstGeom prst="cloudCallout">
            <a:avLst>
              <a:gd name="adj1" fmla="val -4148"/>
              <a:gd name="adj2" fmla="val 71884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4356000" y="1341360"/>
            <a:ext cx="446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Hi, plz remember this regarding the covalent bo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t form the backbones of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lectrons are shared between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ingle bonds allow ro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ouble bonds are ri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50920" y="3933720"/>
            <a:ext cx="42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lecules are covalently bonded atoms,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valent bond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sult from sharing electrons and depend on valence (C: +4, N: -3, O: -2, H:+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Nonpolar Hormones Pass Through Cell Membranes; Polar Hormones Use Extracellular Receptor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124840" cy="37814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20"/>
          <p:cNvSpPr/>
          <p:nvPr/>
        </p:nvSpPr>
        <p:spPr>
          <a:xfrm>
            <a:off x="7380360" y="4046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F844-DFE0-44F7-B96B-33E06ECA943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D7B9-12B1-4AD2-8046-5F4452E744E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36600" y="2826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Covalent And Noncovalent Bonds Play Different Roles In Maintaining Mole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50920" y="1916280"/>
            <a:ext cx="4825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valent bonds assemble atoms into molecules, but noncovalent bonds determine the shape of large molecules and the way in which molecules interact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valent bond = approx. 350 kJ/mol and difficult to break, Noncovalent bond = 1-  30 kJ/mol and readily reversible by thermal movement or interactions with other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610080" cy="273672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" name="TextBox 6"/>
          <p:cNvSpPr/>
          <p:nvPr/>
        </p:nvSpPr>
        <p:spPr>
          <a:xfrm>
            <a:off x="7380360" y="115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72A6-F798-4C4D-A472-9035889FD10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F597-FA23-48E2-97C6-AF675665FA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Sooad</cp:lastModifiedBy>
  <dcterms:modified xsi:type="dcterms:W3CDTF">2012-08-05T10:49:48Z</dcterms:modified>
  <cp:revision>18</cp:revision>
  <dc:subject/>
  <dc:title>An Introductory Overview of  Cells, Chemical Bonds &amp; Energy</dc:title>
</cp:coreProperties>
</file>