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C43-7437-44BE-8372-21AB10DE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1ED-2015-4ECC-B001-53BAFD23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876-A5E8-45BF-AAE3-FEB20245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65C-0EFE-4B3F-B905-27FCC417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42B-ABBE-46DB-96F4-0A55F23B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D5F-B74B-4345-B056-0139BE7C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287-3942-4ECB-8E06-AA189926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0EC-D5B8-40F1-86C5-1D9B1A67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E2D-A52C-4E8F-BBE4-498A6D37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02A-6267-4584-ADC2-D83DE80D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0E4-B2E6-4D49-BE3D-AE89F890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2C1-D096-433C-AF05-CDDC1A98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DBC7-6E37-43D7-B338-40BCABD82A9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E467-637A-4D9D-88BE-AFE75BC71E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An Introductory Overview of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Cells, Chemical Bonds &amp; Energy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Part-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52280" y="5715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BCH 361/ Section: 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228600"/>
            <a:ext cx="2470320" cy="173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C6F9-26CE-4220-A19F-BCDF3EC84CE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DB9D-E549-4C20-87B2-43CC3543915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68360" y="4762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Hydrogen Bonds In Bi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69960" y="2373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24000" y="1628640"/>
            <a:ext cx="504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ydrogen has a low electronegativity (it has only one proton to attract electrons with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xygen and nitrogen are highly electro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en there is a bond between O and H, or N and H, the molecule forms a dipole -- the O or N will become </a:t>
            </a:r>
            <a:r>
              <a:rPr b="0" lang="el-GR" sz="2200" spc="-1" strike="noStrike">
                <a:solidFill>
                  <a:srgbClr val="000000"/>
                </a:solidFill>
                <a:latin typeface="Cambria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- (hydrogen bond acceptor), and the H will become </a:t>
            </a:r>
            <a:r>
              <a:rPr b="0" lang="el-GR" sz="2200" spc="-1" strike="noStrike">
                <a:solidFill>
                  <a:srgbClr val="000000"/>
                </a:solidFill>
                <a:latin typeface="Cambria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+ (hydrogen bond dono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eptidebond.jpg"/>
          <p:cNvPicPr/>
          <p:nvPr/>
        </p:nvPicPr>
        <p:blipFill>
          <a:blip r:embed="rId1"/>
          <a:stretch/>
        </p:blipFill>
        <p:spPr>
          <a:xfrm>
            <a:off x="5435640" y="2565360"/>
            <a:ext cx="3328920" cy="259236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TextBox 6"/>
          <p:cNvSpPr/>
          <p:nvPr/>
        </p:nvSpPr>
        <p:spPr>
          <a:xfrm>
            <a:off x="7308720" y="260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0641-BAB0-4E25-8C61-3CFA9B8890D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4F83-1CB2-4606-8094-ED52902DCD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50920" y="282600"/>
            <a:ext cx="82072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Hydrogen Bonds Hold The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DNA Double Helix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69960" y="2373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79280" y="1773360"/>
            <a:ext cx="432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T pair has 2 H bonds, while a CG pair has 3 H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helix is harder to unwind in a CG-rich region than in an AT-rich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-bonds play pivotal roles in different aspects of the central dogma of MB 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double helix"/>
          <p:cNvPicPr/>
          <p:nvPr/>
        </p:nvPicPr>
        <p:blipFill>
          <a:blip r:embed="rId1"/>
          <a:srcRect l="0" t="2862" r="0" b="5713"/>
          <a:stretch/>
        </p:blipFill>
        <p:spPr>
          <a:xfrm>
            <a:off x="4572000" y="2133720"/>
            <a:ext cx="4367160" cy="3024000"/>
          </a:xfrm>
          <a:prstGeom prst="rect">
            <a:avLst/>
          </a:prstGeom>
          <a:ln w="9360">
            <a:solidFill>
              <a:srgbClr val="10253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TextBox 12"/>
          <p:cNvSpPr/>
          <p:nvPr/>
        </p:nvSpPr>
        <p:spPr>
          <a:xfrm>
            <a:off x="7380360" y="260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2842-23CB-4215-98DA-900AA6EFF76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B344-B917-4BA4-A999-95C27C5E21A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228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Noncovalent Bonds Influence Molecular Structure--Hydrophobic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01600" y="2154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52280" y="1752480"/>
            <a:ext cx="4203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ipids form micelles, in which the hydrophilic groups line the outside of the micelle and the hydrophobic groups cluster inside it, away from th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first stage of lipid digestion involves breaking up huge globs of fat into smaller globs and mic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222720" cy="3189600"/>
          </a:xfrm>
          <a:prstGeom prst="rect">
            <a:avLst/>
          </a:prstGeom>
          <a:ln w="9360">
            <a:solidFill>
              <a:srgbClr val="10253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TextBox 8"/>
          <p:cNvSpPr/>
          <p:nvPr/>
        </p:nvSpPr>
        <p:spPr>
          <a:xfrm>
            <a:off x="7524720" y="18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6CE5-559C-40A6-BEF9-71724A2C01B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A4D8-3CDC-478E-949B-B8BD3419D8A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determine the shape of macromolecules (i.e. the double stranded helical shape of DNA is determined by hydrogen bonds between complementary base pairs A-T and G-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produce reversible self-assembly of pre-synthesized subunits into specific structures (i.e. membrane lipid bi-layer, protein "polymers" like microtubul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determine the specificity of most molecular interactions (i.e. enzyme substrate specificity and catalysi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lecules or supramolecular aggregates denature (unfold) upon environmental changes (pH, temperature, or ionic strength) which affect the strengths of weak bond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1F12-8C1C-4A15-B657-4D937D2F7C7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91FE-878E-432D-8EAF-1A6670EA954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conclusion.png"/>
          <p:cNvPicPr/>
          <p:nvPr/>
        </p:nvPicPr>
        <p:blipFill>
          <a:blip r:embed="rId1"/>
          <a:stretch/>
        </p:blipFill>
        <p:spPr>
          <a:xfrm>
            <a:off x="611280" y="333360"/>
            <a:ext cx="1947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57200" y="1916280"/>
            <a:ext cx="4475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emoglobin is a heterotetramer-2 alpha globin chains plus 2 beta-globin chai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lutamic acid (negative charge) is replaced by valine (uncharged) in the beta-globin polypept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f beta-globin shape changes, hemoglobin's solubility decreases, hemoglobin precipitates into rod-like aggregates in red blood ce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755200" y="4479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900000" y="476280"/>
            <a:ext cx="77724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mbria"/>
              </a:rPr>
              <a:t>Disrupting Noncovalent Bonding </a:t>
            </a:r>
            <a:br>
              <a:rPr sz="3400"/>
            </a:br>
            <a:r>
              <a:rPr b="0" lang="en-US" sz="3400" spc="-1" strike="noStrike">
                <a:solidFill>
                  <a:srgbClr val="0000ff"/>
                </a:solidFill>
                <a:latin typeface="Cambria"/>
              </a:rPr>
              <a:t>Causes Sickle-Cell Anem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829320" cy="27432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6" descr="undefined"/>
          <p:cNvPicPr/>
          <p:nvPr/>
        </p:nvPicPr>
        <p:blipFill>
          <a:blip r:embed="rId2"/>
          <a:stretch/>
        </p:blipFill>
        <p:spPr>
          <a:xfrm>
            <a:off x="298440" y="878040"/>
            <a:ext cx="1474920" cy="190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7524720" y="18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7F8C-267C-4FC1-B395-2476C6AEA30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F455-5A50-4922-8C77-5F7DF57CA1E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http://cornellbiochem.wikispaces.com/file/view/sickle_cell_anemia2.jpg/126218139/sickle_cell_anemia2.jpg"/>
          <p:cNvPicPr/>
          <p:nvPr/>
        </p:nvPicPr>
        <p:blipFill>
          <a:blip r:embed="rId1"/>
          <a:stretch/>
        </p:blipFill>
        <p:spPr>
          <a:xfrm>
            <a:off x="2627280" y="1413000"/>
            <a:ext cx="3762360" cy="31240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" name="Rounded Rectangle 8"/>
          <p:cNvSpPr/>
          <p:nvPr/>
        </p:nvSpPr>
        <p:spPr>
          <a:xfrm>
            <a:off x="611280" y="4724280"/>
            <a:ext cx="8064360" cy="11527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moglobin aggregation causes sickling of the red blood cell, and the aggregates punctures the cell when it gets squeezed through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undefined"/>
          <p:cNvPicPr/>
          <p:nvPr/>
        </p:nvPicPr>
        <p:blipFill>
          <a:blip r:embed="rId2"/>
          <a:stretch/>
        </p:blipFill>
        <p:spPr>
          <a:xfrm>
            <a:off x="658800" y="3828960"/>
            <a:ext cx="1474920" cy="19065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5DAE-D58C-45A2-A492-43E0F9698B3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F6E3-0E9D-4FE0-8777-8D0AF97E8C6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Molecules of Li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1468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s are 70% water, nearly 30% carbon compou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68200" y="2938320"/>
            <a:ext cx="2840040" cy="3651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165480" cy="23050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Right Arrow 6"/>
          <p:cNvSpPr/>
          <p:nvPr/>
        </p:nvSpPr>
        <p:spPr>
          <a:xfrm>
            <a:off x="4284720" y="1700280"/>
            <a:ext cx="107928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33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7"/>
          <p:cNvSpPr/>
          <p:nvPr/>
        </p:nvSpPr>
        <p:spPr>
          <a:xfrm rot="10800000">
            <a:off x="2700000" y="4220640"/>
            <a:ext cx="1079640" cy="28764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33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586B-B72B-49FD-86D9-8C33F96B288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7390-6A9A-4CE6-9B05-848C30614C1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AD8A-6C4F-4A45-9525-71D0039FF90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2F98-0040-419A-8071-799EF0CAA51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705360" cy="268596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Rounded Rectangle 6"/>
          <p:cNvSpPr/>
          <p:nvPr/>
        </p:nvSpPr>
        <p:spPr>
          <a:xfrm>
            <a:off x="826920" y="4724280"/>
            <a:ext cx="7705800" cy="1368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ll living things are made up of four classes of large biological molecules: carbohydrates, lipids, proteins, and nucleic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50920" y="191628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1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Macromolecules are polymers, built from monom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2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arbohydrates serve as fuel and building mater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3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Lipids are a diverse group of hydrophobic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4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roteins include a diversity of structures, resulting in a wide range of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5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Nucleic acids store, transmit, and help express hereditary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5CED-70B3-4A21-877B-FEF9B4AB8E7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31B2-0186-4FEB-8804-7D6F11A27F1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verview: The Molecules of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738036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Monosacchar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5040360" cy="3835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71000"/>
          </a:bodyPr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simplest carbohydrates for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serve as a major fuel for cells and raw material for building molecu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olysaccharides, polymers composed of many sugar building block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nosaccharides are classified b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location of the carbonyl group (as aldose or ketos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number of carbons in the carbon skelet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210360" y="1413000"/>
            <a:ext cx="2728800" cy="460836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3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EEBE-7CC0-413C-95B6-540907D8BE7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DF8C-04EF-4EED-8837-70A87375E0D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What We Will Be Covering-II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000" y="1988640"/>
            <a:ext cx="8496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ovalent and non-covalent bo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four macromolecules and their building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hemical reactions and delta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oupling chemical reactions to ATP hydro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A761-C95F-4752-884A-C0DE93394DC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2A4E-7A33-4405-8AD9-D96C57D9195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Lip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113080" cy="26035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61000"/>
          </a:bodyPr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ipids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the one class of large biological molecules that do not form poly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unifying feature of lipids is having little or no affinity for wat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ipids are hydrophobic because they consist mostly of hydrocarbons, which form nonpolar covalent bo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most biologically important lipids are fats, phospholipids, and steroi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5651640" y="1973160"/>
            <a:ext cx="3187440" cy="33274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9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FD87-246F-4762-A6AE-692030BB75F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862A-D9A7-40F0-AE2B-05A30FEE0FB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754440" cy="41925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4248000" cy="4276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bunits of prot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0 major types of amino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de groups of amino acids dictate protein structure (non-polar, polar, and charged subgroup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D56D-0127-49D4-A7E5-104B3F43F12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152E-2BEA-42E5-B741-5D71909518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4249800" cy="38484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de up of 5 carbon sugar, phosphate &amp; nitrogenous  base (adenine, cytosine, thymosine, guanine, Uraci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ubunits of DNA and R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P - the main energy sour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Nucleotid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5"/>
          <p:cNvPicPr/>
          <p:nvPr/>
        </p:nvPicPr>
        <p:blipFill>
          <a:blip r:embed="rId1"/>
          <a:srcRect l="0" t="0" r="0" b="4461"/>
          <a:stretch/>
        </p:blipFill>
        <p:spPr>
          <a:xfrm>
            <a:off x="4473720" y="1916280"/>
            <a:ext cx="4532040" cy="40338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1" name="TextBox 5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BB26-F3DB-414A-80A2-480162394F0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DB7E-361A-43BC-B15A-C24FF3DC2E1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0DAF-07C2-4821-9F99-FB8E4F39472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3007-E747-4C1F-8BC0-A9BA8B39C5E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5184720" cy="506592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 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Adenosine triphosphate (ATP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denosine-5'-triphosphate (ATP) is a multifunctional nucleotide used in cells as a coenzy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transports chemical energy within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is produced by phosphorylation and cellular respiration and used by enzymes and structural proteins in many cellular processes, inclu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Metabolism, synthesis, and active transport.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Roles in cell structure and locomotion.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Cell signal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380360" y="189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9287-841F-4A60-8CCC-6F4F59D934F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27AB-3A1F-4713-9DAB-53B80D841A0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2943-5529-4A1C-9D2E-01BBFC2AFD3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C426-B496-4296-B41D-16CB1C93352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ATP"/>
          <p:cNvPicPr/>
          <p:nvPr/>
        </p:nvPicPr>
        <p:blipFill>
          <a:blip r:embed="rId1"/>
          <a:stretch/>
        </p:blipFill>
        <p:spPr>
          <a:xfrm>
            <a:off x="2627280" y="2781360"/>
            <a:ext cx="4059360" cy="202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7" name="Rectangle 6"/>
          <p:cNvSpPr/>
          <p:nvPr/>
        </p:nvSpPr>
        <p:spPr>
          <a:xfrm>
            <a:off x="468360" y="1790640"/>
            <a:ext cx="8064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phosphoryl groups, starting with the group closest to the ribose, are referred to as the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α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,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β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, and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γ)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phosph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molecule as it exists in the intact cell is highly charged at pH 7, the three phosphate groups are completely ionized (4 negative charges) near the linear phosphat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processes that use ATP as an energy source convert it back into its precurs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 is therefore continuously recycled in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08C9-C40D-4424-A124-C4648EE339F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9D2E-E554-4421-AA5E-4F21C2E73CA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atp_cycle"/>
          <p:cNvPicPr/>
          <p:nvPr/>
        </p:nvPicPr>
        <p:blipFill>
          <a:blip r:embed="rId1"/>
          <a:stretch/>
        </p:blipFill>
        <p:spPr>
          <a:xfrm>
            <a:off x="5292720" y="3429000"/>
            <a:ext cx="2852640" cy="26938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395280" y="1700280"/>
            <a:ext cx="44640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has several negatively-charged groups in neutral solution, it can</a:t>
            </a:r>
            <a:r>
              <a:rPr b="0" lang="ar-S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helate</a:t>
            </a:r>
            <a:r>
              <a:rPr b="0" lang="ar-S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metals with very high affi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forms stable complexes with certain divalent cations as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Most of ATP in the cell present as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complex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995640" cy="18003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8" name="TextBox 5"/>
          <p:cNvSpPr/>
          <p:nvPr/>
        </p:nvSpPr>
        <p:spPr>
          <a:xfrm>
            <a:off x="684360" y="4762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  <a:ea typeface="Times New Roman"/>
              </a:rPr>
              <a:t>Ionization in biological systems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9F6F-4B8F-4789-9A22-BCCEFF9ADDD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DDFC-DCE3-486C-AB7A-0090CA2544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Gibbs Free Energy (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energy associated with a chemical reaction that can be used to do wor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Reactions can also be classified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exergenic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&lt; 0)    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endergenic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&gt; 0)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8B54-E31A-4655-ADC4-BCBB4E19990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6B74-01DD-474A-B770-C909F811208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684360" y="3862080"/>
            <a:ext cx="2050920" cy="2227680"/>
            <a:chOff x="684360" y="3862080"/>
            <a:chExt cx="2050920" cy="2227680"/>
          </a:xfrm>
        </p:grpSpPr>
        <p:pic>
          <p:nvPicPr>
            <p:cNvPr id="226" name="Picture 5" descr="08_06a"/>
            <p:cNvPicPr/>
            <p:nvPr/>
          </p:nvPicPr>
          <p:blipFill>
            <a:blip r:embed="rId1"/>
            <a:srcRect l="21650" t="12488" r="23971" b="19181"/>
            <a:stretch/>
          </p:blipFill>
          <p:spPr>
            <a:xfrm>
              <a:off x="684360" y="3919680"/>
              <a:ext cx="2050920" cy="21398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Rectangle 6"/>
            <p:cNvSpPr/>
            <p:nvPr/>
          </p:nvSpPr>
          <p:spPr>
            <a:xfrm>
              <a:off x="1050840" y="51256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>
              <a:off x="1871640" y="41364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8"/>
            <p:cNvSpPr/>
            <p:nvPr/>
          </p:nvSpPr>
          <p:spPr>
            <a:xfrm>
              <a:off x="2135160" y="4518000"/>
              <a:ext cx="59076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t b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lied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 rot="16200000">
              <a:off x="318600" y="4321440"/>
              <a:ext cx="11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suppli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0"/>
            <p:cNvSpPr/>
            <p:nvPr/>
          </p:nvSpPr>
          <p:spPr>
            <a:xfrm rot="16200000">
              <a:off x="320760" y="5388480"/>
              <a:ext cx="115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relea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1"/>
          <p:cNvGrpSpPr/>
          <p:nvPr/>
        </p:nvGrpSpPr>
        <p:grpSpPr>
          <a:xfrm>
            <a:off x="4067280" y="3933720"/>
            <a:ext cx="2520360" cy="2133720"/>
            <a:chOff x="4067280" y="3933720"/>
            <a:chExt cx="2520360" cy="2133720"/>
          </a:xfrm>
        </p:grpSpPr>
        <p:pic>
          <p:nvPicPr>
            <p:cNvPr id="233" name="Picture 12" descr="08_06b"/>
            <p:cNvPicPr/>
            <p:nvPr/>
          </p:nvPicPr>
          <p:blipFill>
            <a:blip r:embed="rId2"/>
            <a:srcRect l="18680" t="0" r="6248" b="9795"/>
            <a:stretch/>
          </p:blipFill>
          <p:spPr>
            <a:xfrm>
              <a:off x="4067280" y="3933720"/>
              <a:ext cx="2409120" cy="2133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34" name="Rectangle 13"/>
            <p:cNvSpPr/>
            <p:nvPr/>
          </p:nvSpPr>
          <p:spPr>
            <a:xfrm>
              <a:off x="4360320" y="51969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4"/>
            <p:cNvSpPr/>
            <p:nvPr/>
          </p:nvSpPr>
          <p:spPr>
            <a:xfrm>
              <a:off x="5408640" y="58896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5"/>
            <p:cNvSpPr/>
            <p:nvPr/>
          </p:nvSpPr>
          <p:spPr>
            <a:xfrm>
              <a:off x="5913360" y="5264280"/>
              <a:ext cx="67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eased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ibbs Free Energy (G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phosphorylation of glucose to glucose 6-phosphat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lucose + phosphate               G-6 phosphate     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    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G°' = +3.3 kcal/mol (unfavor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onsider the hydrolysis of ATP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                   ADP + Pi    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   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G°' = - 7.3 kcal/mol (favorabl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Summing these reactions togeth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+ glucose               ADP + G- 6-phosphate     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 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G°' = +3.3 + (-7.3) = -4kcal/mol (still favor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F212-83CE-4851-BA8C-94EA3957124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F465-73BE-40C8-8BFB-D602CF4ED9A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3635280" y="2421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1619280" y="378936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2771640" y="515772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Chemical Hierarchy structure in living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3317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rganization of molecules in cel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mall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cro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pramolecular aggreg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3120" indent="-5335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71BB-232A-4B9F-BACE-2C7FC5A0F7C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EC99-0814-4690-BBB2-CC1E598B2A3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26B8-F1D5-40B5-9A7B-F81FE1650BE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4441-7190-48C8-AF53-E87001335BC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400720" cy="40068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3703-158A-42F6-9F46-9AF2627C084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EEA3-6B24-4A83-90AC-7653F3517A7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ounded Rectangle 7"/>
          <p:cNvSpPr/>
          <p:nvPr/>
        </p:nvSpPr>
        <p:spPr>
          <a:xfrm>
            <a:off x="1476360" y="4149720"/>
            <a:ext cx="6551640" cy="1440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The energy released in the formation of noncovalent bonds is on the order of 1-5 kcal per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118280" cy="20034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57" name="TextBox 11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1979640" y="3500280"/>
            <a:ext cx="1660320" cy="2671920"/>
          </a:xfrm>
          <a:prstGeom prst="rect">
            <a:avLst/>
          </a:prstGeom>
          <a:ln w="0">
            <a:noFill/>
          </a:ln>
        </p:spPr>
      </p:pic>
      <p:sp>
        <p:nvSpPr>
          <p:cNvPr id="259" name="Cloud Callout 5"/>
          <p:cNvSpPr/>
          <p:nvPr/>
        </p:nvSpPr>
        <p:spPr>
          <a:xfrm>
            <a:off x="3492360" y="981000"/>
            <a:ext cx="5183280" cy="2879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4211640" y="1484280"/>
            <a:ext cx="37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Time to relax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Later we will start with the main part of the cou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“</a:t>
            </a: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Nucleic acids”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Good 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C726-0AFC-47FA-9FD1-835FB7D4799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DC63-5AA1-4D44-B842-C7DE64A77A5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7524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A435-6B00-4DFA-B306-092B4214E2B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74BA-6C89-41F0-9698-F114A6CCA5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121440" cy="471168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1187280" y="5877000"/>
            <a:ext cx="6121440" cy="720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rganization is the key to the chemistry of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imagesCAZCN1OD.jpg"/>
          <p:cNvPicPr/>
          <p:nvPr/>
        </p:nvPicPr>
        <p:blipFill>
          <a:blip r:embed="rId2"/>
          <a:stretch/>
        </p:blipFill>
        <p:spPr>
          <a:xfrm>
            <a:off x="6804000" y="5013360"/>
            <a:ext cx="1360440" cy="1359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560" y="1341000"/>
            <a:ext cx="482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atom has a nucleus (protons and neutrons) with electrons orbiting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, C, O, and N make up 96.5% weight of a living org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, K, Cl, Ca, Fe, Zn are each present at less than 1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types of atomic interaction: Covalent &amp; Non-covalent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9526-B71F-4259-8106-A7B2F1D34CB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72FE-CB28-4097-B0B1-C559E778EFD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208320" cy="3456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B2AC-8126-47F3-B258-18102284779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A1DB-804F-44D1-81E0-16A51CB6240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771640" y="1341360"/>
            <a:ext cx="3672000" cy="64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Atomic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6"/>
          <p:cNvSpPr/>
          <p:nvPr/>
        </p:nvSpPr>
        <p:spPr>
          <a:xfrm>
            <a:off x="826920" y="2349360"/>
            <a:ext cx="1873440" cy="93528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valent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7"/>
          <p:cNvSpPr/>
          <p:nvPr/>
        </p:nvSpPr>
        <p:spPr>
          <a:xfrm>
            <a:off x="5940360" y="2349360"/>
            <a:ext cx="1871640" cy="93528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on-Covalent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8"/>
          <p:cNvSpPr/>
          <p:nvPr/>
        </p:nvSpPr>
        <p:spPr>
          <a:xfrm>
            <a:off x="2195640" y="407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on-pola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9"/>
          <p:cNvSpPr/>
          <p:nvPr/>
        </p:nvSpPr>
        <p:spPr>
          <a:xfrm>
            <a:off x="250920" y="407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la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14"/>
          <p:cNvSpPr/>
          <p:nvPr/>
        </p:nvSpPr>
        <p:spPr>
          <a:xfrm>
            <a:off x="5148360" y="37162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ydrogen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15"/>
          <p:cNvSpPr/>
          <p:nvPr/>
        </p:nvSpPr>
        <p:spPr>
          <a:xfrm>
            <a:off x="7308720" y="37162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16"/>
          <p:cNvSpPr/>
          <p:nvPr/>
        </p:nvSpPr>
        <p:spPr>
          <a:xfrm>
            <a:off x="7236000" y="522936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ydrophobic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17"/>
          <p:cNvSpPr/>
          <p:nvPr/>
        </p:nvSpPr>
        <p:spPr>
          <a:xfrm>
            <a:off x="5148360" y="5229360"/>
            <a:ext cx="1584360" cy="936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onic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0"/>
          <p:cNvSpPr/>
          <p:nvPr/>
        </p:nvSpPr>
        <p:spPr>
          <a:xfrm>
            <a:off x="108000" y="371628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1"/>
          <p:cNvSpPr/>
          <p:nvPr/>
        </p:nvSpPr>
        <p:spPr>
          <a:xfrm>
            <a:off x="2050920" y="3789360"/>
            <a:ext cx="4701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2"/>
          <p:cNvSpPr/>
          <p:nvPr/>
        </p:nvSpPr>
        <p:spPr>
          <a:xfrm>
            <a:off x="5003640" y="342900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3"/>
          <p:cNvSpPr/>
          <p:nvPr/>
        </p:nvSpPr>
        <p:spPr>
          <a:xfrm>
            <a:off x="7093080" y="342900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4"/>
          <p:cNvSpPr/>
          <p:nvPr/>
        </p:nvSpPr>
        <p:spPr>
          <a:xfrm>
            <a:off x="4932360" y="4941720"/>
            <a:ext cx="4683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5"/>
          <p:cNvSpPr/>
          <p:nvPr/>
        </p:nvSpPr>
        <p:spPr>
          <a:xfrm>
            <a:off x="7020000" y="4941720"/>
            <a:ext cx="4683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39"/>
          <p:cNvSpPr/>
          <p:nvPr/>
        </p:nvSpPr>
        <p:spPr>
          <a:xfrm>
            <a:off x="4572000" y="198900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42"/>
          <p:cNvSpPr/>
          <p:nvPr/>
        </p:nvSpPr>
        <p:spPr>
          <a:xfrm>
            <a:off x="2700360" y="2781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F916-014C-4AB5-8915-AE1EA58B5DE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B004-F04E-49EB-B788-C870D534DAF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tick-man-thinking-clip-art.jpg"/>
          <p:cNvPicPr/>
          <p:nvPr/>
        </p:nvPicPr>
        <p:blipFill>
          <a:blip r:embed="rId1"/>
          <a:stretch/>
        </p:blipFill>
        <p:spPr>
          <a:xfrm>
            <a:off x="5580000" y="4221000"/>
            <a:ext cx="1341360" cy="2160720"/>
          </a:xfrm>
          <a:prstGeom prst="rect">
            <a:avLst/>
          </a:prstGeom>
          <a:ln w="0">
            <a:noFill/>
          </a:ln>
        </p:spPr>
      </p:pic>
      <p:sp>
        <p:nvSpPr>
          <p:cNvPr id="94" name="Cloud Callout 6"/>
          <p:cNvSpPr/>
          <p:nvPr/>
        </p:nvSpPr>
        <p:spPr>
          <a:xfrm>
            <a:off x="3851280" y="836640"/>
            <a:ext cx="5040360" cy="2808360"/>
          </a:xfrm>
          <a:prstGeom prst="cloudCallout">
            <a:avLst>
              <a:gd name="adj1" fmla="val -4148"/>
              <a:gd name="adj2" fmla="val 71884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4356000" y="1341360"/>
            <a:ext cx="446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Hi, plz remember this regarding the covalent bo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t form the backbones of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lectrons are shared between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ingle bonds allow ro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ouble bonds are ri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50920" y="3933720"/>
            <a:ext cx="42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lecules are covalently bonded atoms,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valent bond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sult from sharing electrons and depend on valence (C: +4, N: -3, O: -2, H:+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Nonpolar Hormones Pass Through Cell Membranes; Polar Hormones Use Extracellular Receptor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124840" cy="37814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20"/>
          <p:cNvSpPr/>
          <p:nvPr/>
        </p:nvSpPr>
        <p:spPr>
          <a:xfrm>
            <a:off x="7380360" y="4046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B6E1-0B94-4C56-B8BA-2E10F7B7A17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C5D2-719E-43B3-9563-9B0A1EFB21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36600" y="2826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Covalent And Noncovalent Bonds Play Different Roles In Maintaining Mole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50920" y="1916280"/>
            <a:ext cx="4825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valent bonds assemble atoms into molecules, but noncovalent bonds determine the shape of large molecules and the way in which molecules interact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valent bond = approx. 350 kJ/mol and difficult to break, Noncovalent bond = 1-  30 kJ/mol and readily reversible by thermal movement or interactions with other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610080" cy="273672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" name="TextBox 6"/>
          <p:cNvSpPr/>
          <p:nvPr/>
        </p:nvSpPr>
        <p:spPr>
          <a:xfrm>
            <a:off x="7380360" y="115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E70B-5540-4BE1-B5D2-2A370F1B756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6BB6-A0F1-47F5-BBB2-DC1F9F81457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Sooad</cp:lastModifiedBy>
  <dcterms:modified xsi:type="dcterms:W3CDTF">2012-08-05T10:49:48Z</dcterms:modified>
  <cp:revision>18</cp:revision>
  <dc:subject/>
  <dc:title>An Introductory Overview of  Cells, Chemical Bonds &amp; Energy</dc:title>
</cp:coreProperties>
</file>