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49EE-17FC-4350-93A3-BB8680E0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C69-6BC6-4F8C-98FE-351B293A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B38-42A5-4C96-B32B-FCF32262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341-EED6-47D4-BDC9-8F118C1E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28D0-C598-40F2-A947-F2ECABEC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265-4E80-448C-9616-3FA5DDE6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AFB-7A04-4BC1-9DB5-B192C7CF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455-352A-47EF-A007-ADC80F6A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5B-4450-480E-8458-97D47FC1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73C-35EC-48BC-96F2-C3C5728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704-35A6-4626-AD09-8509E84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C14-13CD-4AFE-903D-F5C819CE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B62A-FDD1-4FE3-8458-2AB1EF074A5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0B9F-060F-4514-BFFD-9F0F79DEEE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B88-3F97-4E5C-A47A-BE727918D6F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16CA-BB8D-479A-8814-35CD55E162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68360" y="47628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Hydrogen Bonds In Bi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24000" y="1628640"/>
            <a:ext cx="504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gen has a low electronegativity (it has only one proton to attract electrons with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xygen and nitrogen are highly electronega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When there is a bond between O and H, or N and H, the molecule forms a dipole -- the O or N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- (hydrogen bond acceptor), and the H will become </a:t>
            </a:r>
            <a:r>
              <a:rPr b="0" lang="el-GR" sz="2200" spc="-1" strike="noStrike">
                <a:solidFill>
                  <a:srgbClr val="000000"/>
                </a:solidFill>
                <a:latin typeface="Cambria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+ (hydrogen bon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ptidebond.jpg"/>
          <p:cNvPicPr/>
          <p:nvPr/>
        </p:nvPicPr>
        <p:blipFill>
          <a:blip r:embed="rId1"/>
          <a:stretch/>
        </p:blipFill>
        <p:spPr>
          <a:xfrm>
            <a:off x="5435640" y="2565360"/>
            <a:ext cx="3328920" cy="259236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TextBox 6"/>
          <p:cNvSpPr/>
          <p:nvPr/>
        </p:nvSpPr>
        <p:spPr>
          <a:xfrm>
            <a:off x="7308720" y="260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547A-9902-44DC-8B47-F2BB3F8894B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6FE9-42D7-4167-836D-AD5675D7E9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250920" y="282600"/>
            <a:ext cx="82072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ydrogen Bonds Hold The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DNA Double Helix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69960" y="2373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79280" y="1773360"/>
            <a:ext cx="43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n AT pair has 2 H bonds, while a CG pair has 3 H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helix is harder to unwind in a CG-rich region than in an AT-rich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-bonds play pivotal roles in different aspects of the central dogma of MB 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double helix"/>
          <p:cNvPicPr/>
          <p:nvPr/>
        </p:nvPicPr>
        <p:blipFill>
          <a:blip r:embed="rId1"/>
          <a:srcRect l="0" t="2862" r="0" b="5713"/>
          <a:stretch/>
        </p:blipFill>
        <p:spPr>
          <a:xfrm>
            <a:off x="4572000" y="2133720"/>
            <a:ext cx="4367160" cy="30240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TextBox 12"/>
          <p:cNvSpPr/>
          <p:nvPr/>
        </p:nvSpPr>
        <p:spPr>
          <a:xfrm>
            <a:off x="7380360" y="260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BDC-EEE9-4726-AE6C-0EADE5581C8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85A8-1454-4369-8B5F-CF92456BC6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228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covalent Bonds Influence Molecular Structure--Hydrophobic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01600" y="2154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52280" y="1752480"/>
            <a:ext cx="4203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ipids form micelles, in which the hydrophilic groups line the outside of the micelle and the hydrophobic groups cluster inside it, away from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first stage of lipid digestion involves breaking up huge globs of fat into smaller globs and mic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5219640" y="2349360"/>
            <a:ext cx="3222720" cy="3189600"/>
          </a:xfrm>
          <a:prstGeom prst="rect">
            <a:avLst/>
          </a:prstGeom>
          <a:ln w="9360">
            <a:solidFill>
              <a:srgbClr val="10253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A52-9769-49E6-91CD-E0CC764617D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86AE-6E33-47E9-99FF-7988365EDE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hape of macromolecules (i.e. the double stranded helical shape of DNA is determined by hydrogen bonds between complementary base pairs A-T and G-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produce reversible self-assembly of pre-synthesized subunits into specific structures (i.e. membrane lipid bi-layer, protein "polymers" like microtub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y determine the specificity of most molecular interactions (i.e. enzyme substrate specificity and catalysi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lecules or supramolecular aggregates denature (unfold) upon environmental changes (pH, temperature, or ionic strength) which affect the strengths of weak bond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165F-C6CA-4A3E-A744-3C103BB56F0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E34-EE7B-4817-AA6F-D9162F9AEF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conclusion.png"/>
          <p:cNvPicPr/>
          <p:nvPr/>
        </p:nvPicPr>
        <p:blipFill>
          <a:blip r:embed="rId1"/>
          <a:stretch/>
        </p:blipFill>
        <p:spPr>
          <a:xfrm>
            <a:off x="611280" y="333360"/>
            <a:ext cx="194760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16280"/>
            <a:ext cx="4475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emoglobin is a heterotetramer-2 alpha globin chains plus 2 beta-globin cha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lutamic acid (negative charge) is replaced by valine (uncharged) in the beta-globin polypept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f beta-globin shape changes, hemoglobin's solubility decreases, hemoglobin precipitates into rod-like aggregates in red blood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755200" y="44798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900000" y="476280"/>
            <a:ext cx="77724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Disrupting Noncovalent Bonding </a:t>
            </a:r>
            <a:br>
              <a:rPr sz="3400"/>
            </a:br>
            <a:r>
              <a:rPr b="0" lang="en-US" sz="3400" spc="-1" strike="noStrike">
                <a:solidFill>
                  <a:srgbClr val="0000ff"/>
                </a:solidFill>
                <a:latin typeface="Cambria"/>
              </a:rPr>
              <a:t>Causes Sickle-Cell Anem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076720" y="2708280"/>
            <a:ext cx="3829320" cy="27432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6" descr="undefined"/>
          <p:cNvPicPr/>
          <p:nvPr/>
        </p:nvPicPr>
        <p:blipFill>
          <a:blip r:embed="rId2"/>
          <a:stretch/>
        </p:blipFill>
        <p:spPr>
          <a:xfrm>
            <a:off x="298440" y="878040"/>
            <a:ext cx="1474920" cy="190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8"/>
          <p:cNvSpPr/>
          <p:nvPr/>
        </p:nvSpPr>
        <p:spPr>
          <a:xfrm>
            <a:off x="7524720" y="189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F9F0-DE5C-4B89-9EEF-D7B284FB626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A874-235E-4E32-8691-5CD18FD9470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2509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ttp://cornellbiochem.wikispaces.com/file/view/sickle_cell_anemia2.jpg/126218139/sickle_cell_anemia2.jpg"/>
          <p:cNvPicPr/>
          <p:nvPr/>
        </p:nvPicPr>
        <p:blipFill>
          <a:blip r:embed="rId1"/>
          <a:stretch/>
        </p:blipFill>
        <p:spPr>
          <a:xfrm>
            <a:off x="2627280" y="1413000"/>
            <a:ext cx="3762360" cy="3124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Rounded Rectangle 8"/>
          <p:cNvSpPr/>
          <p:nvPr/>
        </p:nvSpPr>
        <p:spPr>
          <a:xfrm>
            <a:off x="611280" y="4724280"/>
            <a:ext cx="8064360" cy="11527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emoglobin aggregation causes sickling of the red blood cell, and the aggregates punctures the cell when it gets squeezed through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ndefined"/>
          <p:cNvPicPr/>
          <p:nvPr/>
        </p:nvPicPr>
        <p:blipFill>
          <a:blip r:embed="rId2"/>
          <a:stretch/>
        </p:blipFill>
        <p:spPr>
          <a:xfrm>
            <a:off x="658800" y="3828960"/>
            <a:ext cx="1474920" cy="19065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EE65-534E-43B5-83D2-E7602AB79AC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E68-0D42-4DD8-A8AF-90DCAF9D5D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Molecule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1468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70% water, nearly 30% carbon compou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268200" y="2938320"/>
            <a:ext cx="2840040" cy="3651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435640" y="1268280"/>
            <a:ext cx="3165480" cy="2305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Right Arrow 6"/>
          <p:cNvSpPr/>
          <p:nvPr/>
        </p:nvSpPr>
        <p:spPr>
          <a:xfrm>
            <a:off x="4284720" y="1700280"/>
            <a:ext cx="107928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7"/>
          <p:cNvSpPr/>
          <p:nvPr/>
        </p:nvSpPr>
        <p:spPr>
          <a:xfrm rot="10800000">
            <a:off x="2700000" y="4220640"/>
            <a:ext cx="1079640" cy="287640"/>
          </a:xfrm>
          <a:prstGeom prst="rightArrow">
            <a:avLst>
              <a:gd name="adj1" fmla="val 50000"/>
              <a:gd name="adj2" fmla="val 49959"/>
            </a:avLst>
          </a:prstGeom>
          <a:solidFill>
            <a:srgbClr val="3399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EB91-4612-4B28-8F41-D9EA1DAEED4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23E3-6748-4B18-808F-47FB4DFC14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B91B-5578-40F9-B88F-7DA02E18947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BA2A-0AC2-49B7-A914-DFEE16178D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05360" cy="26859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3" name="Rounded Rectangle 6"/>
          <p:cNvSpPr/>
          <p:nvPr/>
        </p:nvSpPr>
        <p:spPr>
          <a:xfrm>
            <a:off x="826920" y="4724280"/>
            <a:ext cx="7705800" cy="1368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ll living things are made up of four classes of large biological molecules: carbohydrates, lipids, proteins, and nucleic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50920" y="191628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1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Macromolecules are polymers, built from mon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2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arbohydrates serve as fuel and building materi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3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pids are a diverse group of hydrophobic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4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roteins include a diversity of structures, resulting in a wide range of fun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ncept 5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Nucleic acids store, transmit, and help express hereditary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1634-B816-4543-A808-79A9A910856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6BE4-4B86-4AF7-A2B5-1C73A3F3DE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: The Molecules of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738036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onosacchar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5040360" cy="38354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implest carbohydrates for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serve as a major fuel for cells and raw material for building molecu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olysaccharides, polymers composed of many sugar building block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nosaccharides are classified by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location of the carbonyl group (as aldose or ketos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number of carbons in the carbon skelet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433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210360" y="1413000"/>
            <a:ext cx="2728800" cy="460836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3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0AC5-1863-4AB6-9A64-6754EB3ACBD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C210-D5B9-4428-89F3-2905D19741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valent and non-covalent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four macromolecules and their building blo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hemical reactions and delta 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oupling chemical reactions to ATP hydr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2A14-72A6-43B5-ABDD-229A021BF1F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F0E8-FF48-4CAC-9277-1E13181BD9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ip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113080" cy="26035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61000"/>
          </a:bodyPr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the one class of large biological molecules that do not form poly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nifying feature of lipids is having little or no affinity for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ipids are hydrophobic because they consist mostly of hydrocarbons, which form nonpolar covalent bo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most biologically important lipids are fats, phospholipids, and steroi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091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5651640" y="1973160"/>
            <a:ext cx="3187440" cy="33274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9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A975-035D-4844-AD66-2825C409FBE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F39-2290-472E-8641-CE156A4040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754440" cy="41925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4248000" cy="4276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bunit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0 major types of amino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2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ide groups of amino acids dictate protein structure (non-polar, polar, and charged subgroup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3680-1BEB-4C6F-85F1-4620228C0F9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42D2-3B15-4E2A-B3C0-BEE3ADCE11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4249800" cy="38484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de up of 5 carbon sugar, phosphate &amp; nitrogenous  base (adenine, cytosine, thymosine, guanine, Uraci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ubunits of DNA and R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- the main energy sour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Nucleotid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5"/>
          <p:cNvPicPr/>
          <p:nvPr/>
        </p:nvPicPr>
        <p:blipFill>
          <a:blip r:embed="rId1"/>
          <a:srcRect l="0" t="0" r="0" b="4461"/>
          <a:stretch/>
        </p:blipFill>
        <p:spPr>
          <a:xfrm>
            <a:off x="4473720" y="1916280"/>
            <a:ext cx="4532040" cy="4033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1" name="TextBox 5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4E26-9D26-4752-914B-5D6616EE1E0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D4C4-1727-4D5F-ADC8-8338AA2366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332-74E6-4D4A-BB3E-04B9BD2329E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CAAC-D59C-4B67-A843-C4877A78C6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5184720" cy="5065920"/>
          </a:xfrm>
          <a:prstGeom prst="rect">
            <a:avLst/>
          </a:prstGeom>
          <a:ln w="2844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denosine triphosphate (ATP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denosine-5'-triphosphate (ATP) is a multifunctional nucleotide used in cells as a coenzy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transports chemical energy within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is produced by phosphorylation and cellular respiration and used by enzymes and structural proteins in many cellular processes, 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bolism, synthesis, and active transport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Roles in cell structure and locomotion.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Cell signal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7380360" y="1890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798-58C6-4952-80B9-50613F6AAC2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791C-4B9D-46D2-A026-4C59ED1D51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0A74-14E9-4CAC-B860-03BA74D3622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9EB-1D17-46BD-B1FB-ECFE44E3A2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ATP"/>
          <p:cNvPicPr/>
          <p:nvPr/>
        </p:nvPicPr>
        <p:blipFill>
          <a:blip r:embed="rId1"/>
          <a:stretch/>
        </p:blipFill>
        <p:spPr>
          <a:xfrm>
            <a:off x="2627280" y="2781360"/>
            <a:ext cx="4059360" cy="202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ectangle 6"/>
          <p:cNvSpPr/>
          <p:nvPr/>
        </p:nvSpPr>
        <p:spPr>
          <a:xfrm>
            <a:off x="468360" y="1790640"/>
            <a:ext cx="8064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 groups, starting with the group closest to the ribose, are referred to as the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α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β)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and (</a:t>
            </a:r>
            <a:r>
              <a:rPr b="0" lang="el-GR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γ)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phosph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molecule as it exists in the intact cell is highly charged at pH 7, the three phosphate groups are completely ionized (4 negative charges) near the linear phosphat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processes that use ATP as an energy source convert it back into its precurs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is therefore continuously recycled in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45D6-641C-4DE7-BE9D-01D254FF47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62D6-C8D4-4516-92B2-C61DDE9097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9" descr="atp_cycle"/>
          <p:cNvPicPr/>
          <p:nvPr/>
        </p:nvPicPr>
        <p:blipFill>
          <a:blip r:embed="rId1"/>
          <a:stretch/>
        </p:blipFill>
        <p:spPr>
          <a:xfrm>
            <a:off x="5292720" y="3429000"/>
            <a:ext cx="2852640" cy="26938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95280" y="1700280"/>
            <a:ext cx="446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has several negatively-charged groups in neutral solution, it can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helate</a:t>
            </a:r>
            <a:r>
              <a:rPr b="0" lang="ar-S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etals with very high affi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forms stable complexes with certain divalent cations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Most of ATP in the cell present as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complex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  <a:ea typeface="Times New Roman"/>
              </a:rPr>
              <a:t>2+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4932360" y="2492280"/>
            <a:ext cx="3995640" cy="1800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8" name="TextBox 5"/>
          <p:cNvSpPr/>
          <p:nvPr/>
        </p:nvSpPr>
        <p:spPr>
          <a:xfrm>
            <a:off x="684360" y="47628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Ionization in biological systems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925-2702-48D2-AFC1-26DDE0F1852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5FD9-8C4E-4302-B759-9CFA9FF3EB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Gibbs Free Energy (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energy associated with a chemical reaction that can be used to do work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eactions can also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xergenic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lt; 0)    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endergenic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&gt; 0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35C-291B-4EB9-9388-C6D911A33DD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AE35-AD24-4B27-BB2F-F809BA9C9F7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684360" y="3862080"/>
            <a:ext cx="2050920" cy="2227680"/>
            <a:chOff x="684360" y="3862080"/>
            <a:chExt cx="2050920" cy="2227680"/>
          </a:xfrm>
        </p:grpSpPr>
        <p:pic>
          <p:nvPicPr>
            <p:cNvPr id="226" name="Picture 5" descr="08_06a"/>
            <p:cNvPicPr/>
            <p:nvPr/>
          </p:nvPicPr>
          <p:blipFill>
            <a:blip r:embed="rId1"/>
            <a:srcRect l="21650" t="12488" r="23971" b="19181"/>
            <a:stretch/>
          </p:blipFill>
          <p:spPr>
            <a:xfrm>
              <a:off x="684360" y="3919680"/>
              <a:ext cx="2050920" cy="21398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Rectangle 6"/>
            <p:cNvSpPr/>
            <p:nvPr/>
          </p:nvSpPr>
          <p:spPr>
            <a:xfrm>
              <a:off x="1050840" y="51256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>
              <a:off x="1871640" y="41364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"/>
            <p:cNvSpPr/>
            <p:nvPr/>
          </p:nvSpPr>
          <p:spPr>
            <a:xfrm>
              <a:off x="2135160" y="4518000"/>
              <a:ext cx="59076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st 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ppli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9"/>
            <p:cNvSpPr/>
            <p:nvPr/>
          </p:nvSpPr>
          <p:spPr>
            <a:xfrm rot="16200000">
              <a:off x="318600" y="4321440"/>
              <a:ext cx="116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suppli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0"/>
            <p:cNvSpPr/>
            <p:nvPr/>
          </p:nvSpPr>
          <p:spPr>
            <a:xfrm rot="16200000">
              <a:off x="320760" y="5388480"/>
              <a:ext cx="1155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releas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1"/>
          <p:cNvGrpSpPr/>
          <p:nvPr/>
        </p:nvGrpSpPr>
        <p:grpSpPr>
          <a:xfrm>
            <a:off x="4067280" y="3933720"/>
            <a:ext cx="2520360" cy="2133720"/>
            <a:chOff x="4067280" y="3933720"/>
            <a:chExt cx="2520360" cy="2133720"/>
          </a:xfrm>
        </p:grpSpPr>
        <p:pic>
          <p:nvPicPr>
            <p:cNvPr id="233" name="Picture 12" descr="08_06b"/>
            <p:cNvPicPr/>
            <p:nvPr/>
          </p:nvPicPr>
          <p:blipFill>
            <a:blip r:embed="rId2"/>
            <a:srcRect l="18680" t="0" r="6248" b="9795"/>
            <a:stretch/>
          </p:blipFill>
          <p:spPr>
            <a:xfrm>
              <a:off x="4067280" y="3933720"/>
              <a:ext cx="2409120" cy="2133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34" name="Rectangle 13"/>
            <p:cNvSpPr/>
            <p:nvPr/>
          </p:nvSpPr>
          <p:spPr>
            <a:xfrm>
              <a:off x="4360320" y="519696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ac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4"/>
            <p:cNvSpPr/>
            <p:nvPr/>
          </p:nvSpPr>
          <p:spPr>
            <a:xfrm>
              <a:off x="5408640" y="58896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5"/>
            <p:cNvSpPr/>
            <p:nvPr/>
          </p:nvSpPr>
          <p:spPr>
            <a:xfrm>
              <a:off x="5913360" y="5264280"/>
              <a:ext cx="674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nergy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leased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ibbs Free Energy (G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  <a:ea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phosphorylation of glucose to glucose 6-phosphat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ucose + phosphate               G-6 phosphate     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G°' = +3.3 kcal/mol (un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nsider the hydrolysis of ATP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                   ADP + Pi    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   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- 7.3 kcal/mol (favorabl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Summing these reactions togeth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TP + glucose               ADP + G- 6-phosphate     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   </a:t>
            </a:r>
            <a:r>
              <a:rPr b="0" lang="el-GR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 G°' = +3.3 + (-7.3) = -4kcal/mol (still favor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EDC1-A316-431C-903D-857F15C4154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9398-A59F-4ABB-BC18-2A58147FBD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635280" y="2421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1619280" y="3789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771640" y="515772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9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hemical Hierarchy structure in living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33172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rganization of molecules in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mall 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acromolecu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303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upramolecular aggre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3120" indent="-5335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DAEE-38C8-4E5A-9178-7D6B38882D6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8188-D935-4781-BC51-E2222AB6BB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6869-252A-4A58-AE1C-58822A5C942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ABAE-4DCD-46F5-BCBD-FD72ED38C0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400720" cy="40068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TextBox 8"/>
          <p:cNvSpPr/>
          <p:nvPr/>
        </p:nvSpPr>
        <p:spPr>
          <a:xfrm>
            <a:off x="7236000" y="33336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C715-7860-4819-880E-D03790B01D7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FAF-9980-4D12-B6E6-8F022F8D0C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1476360" y="4149720"/>
            <a:ext cx="6551640" cy="14400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The energy released in the formation of noncovalent bonds is on the order of 1-5 kcal per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7118280" cy="20034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57" name="TextBox 11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1979640" y="3500280"/>
            <a:ext cx="1660320" cy="2671920"/>
          </a:xfrm>
          <a:prstGeom prst="rect">
            <a:avLst/>
          </a:prstGeom>
          <a:ln w="0">
            <a:noFill/>
          </a:ln>
        </p:spPr>
      </p:pic>
      <p:sp>
        <p:nvSpPr>
          <p:cNvPr id="259" name="Cloud Callout 5"/>
          <p:cNvSpPr/>
          <p:nvPr/>
        </p:nvSpPr>
        <p:spPr>
          <a:xfrm>
            <a:off x="3492360" y="981000"/>
            <a:ext cx="5183280" cy="2879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211640" y="1484280"/>
            <a:ext cx="374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Time to relax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Later we will start with the main part of the cou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“</a:t>
            </a: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Nucleic acids”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Good l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43A0-B8D8-4953-B915-522458BEC0D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8D2-ECD0-4E2B-ACA1-FD683DA268E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7524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5BDC-DF51-4AE0-BB54-BCBA4089EA1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ABDB-8091-4CC6-A4C2-44CFDDA8E8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121440" cy="4711680"/>
          </a:xfrm>
          <a:prstGeom prst="rect">
            <a:avLst/>
          </a:prstGeom>
          <a:ln w="1908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1187280" y="5877000"/>
            <a:ext cx="6121440" cy="720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ganization is the key to the chemistry of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imagesCAZCN1OD.jpg"/>
          <p:cNvPicPr/>
          <p:nvPr/>
        </p:nvPicPr>
        <p:blipFill>
          <a:blip r:embed="rId2"/>
          <a:stretch/>
        </p:blipFill>
        <p:spPr>
          <a:xfrm>
            <a:off x="6804000" y="5013360"/>
            <a:ext cx="1360440" cy="1359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560" y="1341000"/>
            <a:ext cx="482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ach atom has a nucleus (protons and neutrons) with electrons orbiting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, C, O, and N make up 96.5% weight of a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, K, Cl, Ca, Fe, Zn are each present at less than 1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wo types of atomic interaction: Covalent &amp; Non-covalent Bo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4075-4564-40F2-8163-E8739C0D17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A46-1771-45FC-84F7-963A6AAA32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208320" cy="3456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7378-18EF-436B-A016-ED38C800995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70F-2F6B-40FF-BFFC-8F09B2350A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71640" y="1341360"/>
            <a:ext cx="3672000" cy="647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Atom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826920" y="2349360"/>
            <a:ext cx="1873440" cy="93528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5940360" y="2349360"/>
            <a:ext cx="1871640" cy="93528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Covalent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219564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Non-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250920" y="407664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Polar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>
            <a:off x="514836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gen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15"/>
          <p:cNvSpPr/>
          <p:nvPr/>
        </p:nvSpPr>
        <p:spPr>
          <a:xfrm>
            <a:off x="7308720" y="3716280"/>
            <a:ext cx="1584360" cy="936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Van der Wa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16"/>
          <p:cNvSpPr/>
          <p:nvPr/>
        </p:nvSpPr>
        <p:spPr>
          <a:xfrm>
            <a:off x="7236000" y="5229360"/>
            <a:ext cx="172872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ydrophobic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17"/>
          <p:cNvSpPr/>
          <p:nvPr/>
        </p:nvSpPr>
        <p:spPr>
          <a:xfrm>
            <a:off x="5148360" y="5229360"/>
            <a:ext cx="1584360" cy="9363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Ionic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0"/>
          <p:cNvSpPr/>
          <p:nvPr/>
        </p:nvSpPr>
        <p:spPr>
          <a:xfrm>
            <a:off x="108000" y="371628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1"/>
          <p:cNvSpPr/>
          <p:nvPr/>
        </p:nvSpPr>
        <p:spPr>
          <a:xfrm>
            <a:off x="2050920" y="3789360"/>
            <a:ext cx="4701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622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32"/>
          <p:cNvSpPr/>
          <p:nvPr/>
        </p:nvSpPr>
        <p:spPr>
          <a:xfrm>
            <a:off x="500364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33"/>
          <p:cNvSpPr/>
          <p:nvPr/>
        </p:nvSpPr>
        <p:spPr>
          <a:xfrm>
            <a:off x="7093080" y="3429000"/>
            <a:ext cx="46836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4"/>
          <p:cNvSpPr/>
          <p:nvPr/>
        </p:nvSpPr>
        <p:spPr>
          <a:xfrm>
            <a:off x="493236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5"/>
          <p:cNvSpPr/>
          <p:nvPr/>
        </p:nvSpPr>
        <p:spPr>
          <a:xfrm>
            <a:off x="7020000" y="4941720"/>
            <a:ext cx="468360" cy="503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8480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39"/>
          <p:cNvSpPr/>
          <p:nvPr/>
        </p:nvSpPr>
        <p:spPr>
          <a:xfrm>
            <a:off x="4572000" y="19890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42"/>
          <p:cNvSpPr/>
          <p:nvPr/>
        </p:nvSpPr>
        <p:spPr>
          <a:xfrm>
            <a:off x="2700360" y="278136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0D21-8BB0-40CA-A53F-EB399F1092C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B6C-3127-4BC8-B686-0256D81AAE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tick-man-thinking-clip-art.jpg"/>
          <p:cNvPicPr/>
          <p:nvPr/>
        </p:nvPicPr>
        <p:blipFill>
          <a:blip r:embed="rId1"/>
          <a:stretch/>
        </p:blipFill>
        <p:spPr>
          <a:xfrm>
            <a:off x="5580000" y="4221000"/>
            <a:ext cx="1341360" cy="2160720"/>
          </a:xfrm>
          <a:prstGeom prst="rect">
            <a:avLst/>
          </a:prstGeom>
          <a:ln w="0">
            <a:noFill/>
          </a:ln>
        </p:spPr>
      </p:pic>
      <p:sp>
        <p:nvSpPr>
          <p:cNvPr id="94" name="Cloud Callout 6"/>
          <p:cNvSpPr/>
          <p:nvPr/>
        </p:nvSpPr>
        <p:spPr>
          <a:xfrm>
            <a:off x="3851280" y="836640"/>
            <a:ext cx="5040360" cy="2808360"/>
          </a:xfrm>
          <a:prstGeom prst="cloudCallout">
            <a:avLst>
              <a:gd name="adj1" fmla="val -4148"/>
              <a:gd name="adj2" fmla="val 71884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356000" y="1341360"/>
            <a:ext cx="446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Hi, plz remember this regarding the covalent bon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It form the backbones of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Electrons are shared betwe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ingle bonds allow rot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ouble bonds are ri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50920" y="3933720"/>
            <a:ext cx="42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lecules are covalently bonded atoms,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ovalent bond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result from sharing electrons and depend on valence (C: +4, N: -3, O: -2, H:+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Nonpolar Hormones Pass Through Cell Membranes; Polar Hormones Use Extracellular Receptor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8124840" cy="37814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20"/>
          <p:cNvSpPr/>
          <p:nvPr/>
        </p:nvSpPr>
        <p:spPr>
          <a:xfrm>
            <a:off x="7380360" y="4046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A3C3-1875-48A1-B263-35BE69EA18A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4F7C-23D2-4577-8BA9-C9280CEC3AC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36600" y="282600"/>
            <a:ext cx="84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Covalent And Noncovalent Bonds Play Different Roles In Maintaining Molecular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0920" y="1916280"/>
            <a:ext cx="4825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s assemble atoms into molecules, but noncovalent bonds determine the shape of large molecules and the way in which molecules interact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valent bond = approx. 350 kJ/mol and difficult to break, Noncovalent bond = 1-  30 kJ/mol and readily reversible by thermal movement or interactions with other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5292720" y="2205000"/>
            <a:ext cx="3610080" cy="2736720"/>
          </a:xfrm>
          <a:prstGeom prst="rect">
            <a:avLst/>
          </a:prstGeom>
          <a:ln w="9360">
            <a:solidFill>
              <a:srgbClr val="008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TextBox 6"/>
          <p:cNvSpPr/>
          <p:nvPr/>
        </p:nvSpPr>
        <p:spPr>
          <a:xfrm>
            <a:off x="7380360" y="115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959D-EA1A-4A3F-BF1C-73B8968780B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56AC-0927-4AA1-82BC-D56186AA55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10:49:48Z</dcterms:modified>
  <cp:revision>18</cp:revision>
  <dc:subject/>
  <dc:title>An Introductory Overview of  Cells, Chemical Bonds &amp; Energy</dc:title>
</cp:coreProperties>
</file>