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907-F7C4-48D2-98AB-52591847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DEB-5D52-4F6F-BA16-6620920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2ED-B3F7-4F19-B8C9-316D4758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078-AFE9-44B5-885D-4111560F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EF4-3B38-42A2-98EA-702E4F3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274-AE4C-4705-A696-CFD9E2D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B3E-8EF6-4E2E-8E4E-040596AF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E0B-1E1A-4456-93E6-5EC0F7D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4B9-AF23-4FA5-8F7F-50BAD9A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5F0-8AAF-46BA-B0AE-A602151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74A-05E1-4E25-9128-7B5DCFA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DA6-81C6-48C6-BD8E-A34F047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30CF-D49C-4C13-B802-2B4375C2A31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6E6D-E8AF-4DC0-B145-C46A154CCE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FBE-3174-44FE-833E-EDC3CDAB3E3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D4CC-9D4A-40BE-BD6A-9C7B985BFF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68360" y="4762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Hydrogen Bonds In Bi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628640"/>
            <a:ext cx="504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gen has a low electronegativity (it has only one proton to attract electrons with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xygen and nitrogen are highly electro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there is a bond between O and H, or N and H, the molecule forms a dipole -- the O or N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(hydrogen bond acceptor), and the H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+ (hydrogen bon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ptidebond.jpg"/>
          <p:cNvPicPr/>
          <p:nvPr/>
        </p:nvPicPr>
        <p:blipFill>
          <a:blip r:embed="rId1"/>
          <a:stretch/>
        </p:blipFill>
        <p:spPr>
          <a:xfrm>
            <a:off x="5435640" y="2565360"/>
            <a:ext cx="3328920" cy="2592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TextBox 6"/>
          <p:cNvSpPr/>
          <p:nvPr/>
        </p:nvSpPr>
        <p:spPr>
          <a:xfrm>
            <a:off x="7308720" y="260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E3F-6120-4660-B8FC-4B95F78E6B4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D6A-9E7C-4BA4-8DF3-35E7700210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282600"/>
            <a:ext cx="8207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ydrogen Bonds Hold The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DNA Double Helix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773360"/>
            <a:ext cx="43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T pair has 2 H bonds, while a CG pair has 3 H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elix is harder to unwind in a CG-rich region than in an AT-rich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-bonds play pivotal roles in different aspects of the central dogma of MB 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double helix"/>
          <p:cNvPicPr/>
          <p:nvPr/>
        </p:nvPicPr>
        <p:blipFill>
          <a:blip r:embed="rId1"/>
          <a:srcRect l="0" t="2862" r="0" b="5713"/>
          <a:stretch/>
        </p:blipFill>
        <p:spPr>
          <a:xfrm>
            <a:off x="4572000" y="2133720"/>
            <a:ext cx="4367160" cy="30240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TextBox 12"/>
          <p:cNvSpPr/>
          <p:nvPr/>
        </p:nvSpPr>
        <p:spPr>
          <a:xfrm>
            <a:off x="7380360" y="260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5FD-9B63-4DFE-A8AE-A9472DFFA7C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781-DE8F-417F-8E2D-54C7F8EC6F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228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covalent Bonds Influence Molecular Structure--Hydrophobic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01600" y="2154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280" y="1752480"/>
            <a:ext cx="4203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pids form micelles, in which the hydrophilic groups line the outside of the micelle and the hydrophobic groups cluster inside it, away 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stage of lipid digestion involves breaking up huge globs of fat into smaller globs and mic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222720" cy="31896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CC9-F659-4CFA-8C26-0F9B14FAE17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736-46C9-4330-81AC-3D6B785599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hape of macromolecules (i.e. the double stranded helical shape of DNA is determined by hydrogen bonds between complementary base pairs A-T and G-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duce reversible self-assembly of pre-synthesized subunits into specific structures (i.e. membrane lipid bi-layer, protein "polymers" like microtub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pecificity of most molecular interactions (i.e. enzyme substrate specificity and catalysi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lecules or supramolecular aggregates denature (unfold) upon environmental changes (pH, temperature, or ionic strength) which affect the strengths of weak bo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1D12-2D4D-488E-84A2-C2468C849A2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F1B-165C-4F08-9F4E-C081FD8E7C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onclusion.png"/>
          <p:cNvPicPr/>
          <p:nvPr/>
        </p:nvPicPr>
        <p:blipFill>
          <a:blip r:embed="rId1"/>
          <a:stretch/>
        </p:blipFill>
        <p:spPr>
          <a:xfrm>
            <a:off x="611280" y="333360"/>
            <a:ext cx="1947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16280"/>
            <a:ext cx="4475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moglobin is a heterotetramer-2 alpha globin chains plus 2 beta-globin ch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lutamic acid (negative charge) is replaced by valine (uncharged) in the beta-globin polypept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beta-globin shape changes, hemoglobin's solubility decreases, hemoglobin precipitates into rod-like aggregates in red blood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755200" y="4479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00000" y="476280"/>
            <a:ext cx="7772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Disrupting Noncovalent Bonding </a:t>
            </a:r>
            <a:br>
              <a:rPr sz="3400"/>
            </a:b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Causes Sickle-Cell Anem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829320" cy="2743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6" descr="undefined"/>
          <p:cNvPicPr/>
          <p:nvPr/>
        </p:nvPicPr>
        <p:blipFill>
          <a:blip r:embed="rId2"/>
          <a:stretch/>
        </p:blipFill>
        <p:spPr>
          <a:xfrm>
            <a:off x="298440" y="878040"/>
            <a:ext cx="1474920" cy="190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776B-9313-406C-BEE4-CCF1FCE03E4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6BD5-8C41-4F6C-B4A5-AEA95D7025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ttp://cornellbiochem.wikispaces.com/file/view/sickle_cell_anemia2.jpg/126218139/sickle_cell_anemia2.jpg"/>
          <p:cNvPicPr/>
          <p:nvPr/>
        </p:nvPicPr>
        <p:blipFill>
          <a:blip r:embed="rId1"/>
          <a:stretch/>
        </p:blipFill>
        <p:spPr>
          <a:xfrm>
            <a:off x="2627280" y="1413000"/>
            <a:ext cx="3762360" cy="3124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Rounded Rectangle 8"/>
          <p:cNvSpPr/>
          <p:nvPr/>
        </p:nvSpPr>
        <p:spPr>
          <a:xfrm>
            <a:off x="611280" y="4724280"/>
            <a:ext cx="8064360" cy="11527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moglobin aggregation causes sickling of the red blood cell, and the aggregates punctures the cell when it gets squeezed through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ndefined"/>
          <p:cNvPicPr/>
          <p:nvPr/>
        </p:nvPicPr>
        <p:blipFill>
          <a:blip r:embed="rId2"/>
          <a:stretch/>
        </p:blipFill>
        <p:spPr>
          <a:xfrm>
            <a:off x="658800" y="3828960"/>
            <a:ext cx="1474920" cy="1906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C444-8111-4F78-8FB0-CE2090EF3C6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279B-05EC-4D00-B5C7-5455F13045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Molecule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1468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70% water, nearly 30% carbon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68200" y="2938320"/>
            <a:ext cx="2840040" cy="365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165480" cy="2305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Right Arrow 6"/>
          <p:cNvSpPr/>
          <p:nvPr/>
        </p:nvSpPr>
        <p:spPr>
          <a:xfrm>
            <a:off x="4284720" y="1700280"/>
            <a:ext cx="107928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7"/>
          <p:cNvSpPr/>
          <p:nvPr/>
        </p:nvSpPr>
        <p:spPr>
          <a:xfrm rot="10800000">
            <a:off x="2700000" y="4220640"/>
            <a:ext cx="1079640" cy="287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C4E-0868-40CE-9BF1-AB6D1B7999E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CE88-33F2-4C73-9B88-B1FE60D1F1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48D7-3928-4483-A523-4893CA42608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AF3-8982-44F6-98E7-19998FF389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05360" cy="26859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Rounded Rectangle 6"/>
          <p:cNvSpPr/>
          <p:nvPr/>
        </p:nvSpPr>
        <p:spPr>
          <a:xfrm>
            <a:off x="826920" y="4724280"/>
            <a:ext cx="7705800" cy="1368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ll living things are made up of four classes of large biological molecules: carbohydrates, lipids, proteins, and nucleic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91628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cromolecules are polymers, built from mon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rbohydrates serve as fuel and building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pids are a diverse group of hydrophobic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4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roteins include a diversity of structures, resulting in a wide range of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5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ucleic acids store, transmit, and help express heredit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0EE-CB85-4F88-B14C-2BC5100CA91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1645-EC33-4B61-B3FB-808CEAEDC3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: The Molecules of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38036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onosacchar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040360" cy="383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implest carbohydrates for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serve as a major fuel for cells and raw material for building molecu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olysaccharides, polymers composed of many sugar building bloc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nosaccharides are classified b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location of the carbonyl group (as aldose or ketos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number of carbons in the carbon skelet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210360" y="1413000"/>
            <a:ext cx="2728800" cy="46083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3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029E-F65B-430B-BF0C-D645E178E02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963-08B3-47E2-BEB6-B396112000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valent and non-covalent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macromolecules and their build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hemical reactions and delta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upling chemical reactions to ATP hydr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0909-955A-456D-AD8F-206B90A0A64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8199-2952-46E4-AA4E-01321408B0E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ip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113080" cy="2603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61000"/>
          </a:bodyPr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the one class of large biological molecules that do not form poly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nifying feature of lipids is having little or no affinity for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 are hydrophobic because they consist mostly of hydrocarbons, which form nonpolar covalent b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most biologically important lipids are fats, phospholipids, and steroi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651640" y="1973160"/>
            <a:ext cx="3187440" cy="33274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6E0-D063-4EFA-8445-74EEC264A25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4116-D7A0-4BD2-B83C-01755D9130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54440" cy="41925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248000" cy="4276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unit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0 major types of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groups of amino acids dictate protein structure (non-polar, polar, and charged subgroup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7B56-1B54-40D2-B3D0-E57198B1CF1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F889-19D7-44AB-8277-EBB8CA864D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4249800" cy="3848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de up of 5 carbon sugar, phosphate &amp; nitrogenous  base (adenine, cytosine, thymosine, guanine, Uraci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ubunits of DNA and R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- the main energy sour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Nucleot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5"/>
          <p:cNvPicPr/>
          <p:nvPr/>
        </p:nvPicPr>
        <p:blipFill>
          <a:blip r:embed="rId1"/>
          <a:srcRect l="0" t="0" r="0" b="4461"/>
          <a:stretch/>
        </p:blipFill>
        <p:spPr>
          <a:xfrm>
            <a:off x="4473720" y="1916280"/>
            <a:ext cx="4532040" cy="4033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" name="TextBox 5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061-8190-4574-A19C-B67CCB5F05D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099-D56D-4BA0-AC89-7241A89974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7A92-D4DA-494C-93F3-D69C9EBD6AB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38A-7F27-45C6-96FB-D0EF223AB4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84720" cy="506592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denosine triphosphate (ATP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denosine-5'-triphosphate (ATP) is a multifunctional nucleotide used in cells as a coenzy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transports chemical energy within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is produced by phosphorylation and cellular respiration and used by enzymes and structural proteins in many cellular processes, 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bolism, synthesis, and active transport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Roles in cell structure and locomotion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Cell signal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380360" y="189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6D5-A695-4391-96CF-E1D26BC6757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759-F3EA-4949-BA89-09D3C2F4015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1B9-0177-45D2-935E-50C0691E226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0734-678F-4EFA-84F9-36834FF9BC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ATP"/>
          <p:cNvPicPr/>
          <p:nvPr/>
        </p:nvPicPr>
        <p:blipFill>
          <a:blip r:embed="rId1"/>
          <a:stretch/>
        </p:blipFill>
        <p:spPr>
          <a:xfrm>
            <a:off x="2627280" y="2781360"/>
            <a:ext cx="405936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ctangle 6"/>
          <p:cNvSpPr/>
          <p:nvPr/>
        </p:nvSpPr>
        <p:spPr>
          <a:xfrm>
            <a:off x="468360" y="1790640"/>
            <a:ext cx="8064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 groups, starting with the group closest to the ribose, are referred to as the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α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β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and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γ)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phosph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molecule as it exists in the intact cell is highly charged at pH 7, the three phosphate groups are completely ionized (4 negative charges) near the linear phosphat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processes that use ATP as an energy source convert it back into its precurs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therefore continuously recycled in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CCC-599E-455D-A7C8-6774AC4AE49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46F5-4CDC-4ECD-BF0C-265522A7DC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atp_cycle"/>
          <p:cNvPicPr/>
          <p:nvPr/>
        </p:nvPicPr>
        <p:blipFill>
          <a:blip r:embed="rId1"/>
          <a:stretch/>
        </p:blipFill>
        <p:spPr>
          <a:xfrm>
            <a:off x="5292720" y="3429000"/>
            <a:ext cx="2852640" cy="26938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95280" y="1700280"/>
            <a:ext cx="446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has several negatively-charged groups in neutral solution, it can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helate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ls with very high aff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forms stable complexes with certain divalent cations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ost of ATP in the cell present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complex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95640" cy="1800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684360" y="47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Ionization in biological systems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F4A2-E3DD-45D7-8497-DCDC414140A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6DD8-6B60-4BCD-A195-CA3766158E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Gibbs Free Energy (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energy associated with a chemical reaction that can be used to do 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eactions can also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xergen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lt; 0)    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ndergenic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gt; 0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514-9E88-4230-A9F7-C7AEA5BFBED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FD6-E6BF-4510-8332-44FD57A48B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684360" y="3862080"/>
            <a:ext cx="2050920" cy="2227680"/>
            <a:chOff x="684360" y="3862080"/>
            <a:chExt cx="2050920" cy="2227680"/>
          </a:xfrm>
        </p:grpSpPr>
        <p:pic>
          <p:nvPicPr>
            <p:cNvPr id="226" name="Picture 5" descr="08_06a"/>
            <p:cNvPicPr/>
            <p:nvPr/>
          </p:nvPicPr>
          <p:blipFill>
            <a:blip r:embed="rId1"/>
            <a:srcRect l="21650" t="12488" r="23971" b="19181"/>
            <a:stretch/>
          </p:blipFill>
          <p:spPr>
            <a:xfrm>
              <a:off x="684360" y="3919680"/>
              <a:ext cx="2050920" cy="21398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Rectangle 6"/>
            <p:cNvSpPr/>
            <p:nvPr/>
          </p:nvSpPr>
          <p:spPr>
            <a:xfrm>
              <a:off x="1050840" y="51256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1871640" y="41364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"/>
            <p:cNvSpPr/>
            <p:nvPr/>
          </p:nvSpPr>
          <p:spPr>
            <a:xfrm>
              <a:off x="2135160" y="4518000"/>
              <a:ext cx="5907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t 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 rot="16200000">
              <a:off x="318600" y="432144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su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 rot="16200000">
              <a:off x="320760" y="538848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4067280" y="3933720"/>
            <a:ext cx="2520360" cy="2133720"/>
            <a:chOff x="4067280" y="3933720"/>
            <a:chExt cx="2520360" cy="2133720"/>
          </a:xfrm>
        </p:grpSpPr>
        <p:pic>
          <p:nvPicPr>
            <p:cNvPr id="233" name="Picture 12" descr="08_06b"/>
            <p:cNvPicPr/>
            <p:nvPr/>
          </p:nvPicPr>
          <p:blipFill>
            <a:blip r:embed="rId2"/>
            <a:srcRect l="18680" t="0" r="6248" b="9795"/>
            <a:stretch/>
          </p:blipFill>
          <p:spPr>
            <a:xfrm>
              <a:off x="4067280" y="3933720"/>
              <a:ext cx="2409120" cy="2133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4" name="Rectangle 13"/>
            <p:cNvSpPr/>
            <p:nvPr/>
          </p:nvSpPr>
          <p:spPr>
            <a:xfrm>
              <a:off x="4360320" y="51969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5408640" y="58896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"/>
            <p:cNvSpPr/>
            <p:nvPr/>
          </p:nvSpPr>
          <p:spPr>
            <a:xfrm>
              <a:off x="5913360" y="5264280"/>
              <a:ext cx="67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ibbs Free Energy (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ation of glucose to glucose 6-phospha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ucose + phosphate               G-6 phosphate     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G°' = +3.3 kcal/mol (un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nsider the hydrolysis of AT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                   ADP + Pi    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- 7.3 kcal/mol (favorabl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Summing these reactions togeth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+ glucose               ADP + G- 6-phosphate     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 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+3.3 + (-7.3) = -4kcal/mol (still 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744-40B1-4F74-AE1C-FA7011536FB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193-6227-4BFC-8884-5B742C0541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635280" y="2421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619280" y="3789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771640" y="5157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hemical Hierarchy structure in living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31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ganization of molecules in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all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cro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ramolecular aggre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3120" indent="-533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3C9B-164D-438E-803B-D8604D69BFA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6B3B-1A0E-49DB-B65E-F75008C0D2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B942-CE97-4BB9-84D3-4716F874935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33E7-B1E8-42CE-AAF9-BA8ACCDB06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00720" cy="4006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88B-CD57-4CEE-89CF-57EEBF5A72B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A119-3E20-4C12-9DA6-1BA89B6F54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1476360" y="4149720"/>
            <a:ext cx="655164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The energy released in the formation of noncovalent bonds is on the order of 1-5 kcal per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118280" cy="20034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57" name="TextBox 11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1979640" y="3500280"/>
            <a:ext cx="1660320" cy="2671920"/>
          </a:xfrm>
          <a:prstGeom prst="rect">
            <a:avLst/>
          </a:prstGeom>
          <a:ln w="0">
            <a:noFill/>
          </a:ln>
        </p:spPr>
      </p:pic>
      <p:sp>
        <p:nvSpPr>
          <p:cNvPr id="259" name="Cloud Callout 5"/>
          <p:cNvSpPr/>
          <p:nvPr/>
        </p:nvSpPr>
        <p:spPr>
          <a:xfrm>
            <a:off x="3492360" y="981000"/>
            <a:ext cx="5183280" cy="2879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211640" y="1484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Time to relax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Later we will start with the main part of the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“</a:t>
            </a: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Nucleic acid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Goo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1F8-D8C1-48E2-9082-BEF01CDDE00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53BA-69BC-4B5D-B9C6-F20FCC7348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7524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982-4D04-4E5B-B445-4F218E12B7F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E83-0268-474B-B9E9-44EFED9F20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121440" cy="47116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187280" y="587700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ganization is the key to the chemistry of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ZCN1OD.jpg"/>
          <p:cNvPicPr/>
          <p:nvPr/>
        </p:nvPicPr>
        <p:blipFill>
          <a:blip r:embed="rId2"/>
          <a:stretch/>
        </p:blipFill>
        <p:spPr>
          <a:xfrm>
            <a:off x="6804000" y="501336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341000"/>
            <a:ext cx="482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atom has a nucleus (protons and neutrons) with electrons orbit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, C, O, and N make up 96.5% weight of a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, K, Cl, Ca, Fe, Zn are each present at less than 1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types of atomic interaction: Covalent &amp; Non-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1E36-FB99-4E3A-9152-9F789EA6FA9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D6BE-13FA-4329-8B1D-BBFC3552EA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08320" cy="3456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D58-3073-4796-8FCF-2BAE8BB1AE2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595-A75B-43C8-A97A-B03D0D97BE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71640" y="1341360"/>
            <a:ext cx="367200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Atom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26920" y="2349360"/>
            <a:ext cx="1873440" cy="9352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5940360" y="2349360"/>
            <a:ext cx="1871640" cy="9352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219564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25092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>
            <a:off x="514836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5"/>
          <p:cNvSpPr/>
          <p:nvPr/>
        </p:nvSpPr>
        <p:spPr>
          <a:xfrm>
            <a:off x="730872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6"/>
          <p:cNvSpPr/>
          <p:nvPr/>
        </p:nvSpPr>
        <p:spPr>
          <a:xfrm>
            <a:off x="7236000" y="522936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phobic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17"/>
          <p:cNvSpPr/>
          <p:nvPr/>
        </p:nvSpPr>
        <p:spPr>
          <a:xfrm>
            <a:off x="5148360" y="5229360"/>
            <a:ext cx="158436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onic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0"/>
          <p:cNvSpPr/>
          <p:nvPr/>
        </p:nvSpPr>
        <p:spPr>
          <a:xfrm>
            <a:off x="108000" y="371628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2050920" y="3789360"/>
            <a:ext cx="4701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500364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3"/>
          <p:cNvSpPr/>
          <p:nvPr/>
        </p:nvSpPr>
        <p:spPr>
          <a:xfrm>
            <a:off x="709308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4"/>
          <p:cNvSpPr/>
          <p:nvPr/>
        </p:nvSpPr>
        <p:spPr>
          <a:xfrm>
            <a:off x="493236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5"/>
          <p:cNvSpPr/>
          <p:nvPr/>
        </p:nvSpPr>
        <p:spPr>
          <a:xfrm>
            <a:off x="702000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39"/>
          <p:cNvSpPr/>
          <p:nvPr/>
        </p:nvSpPr>
        <p:spPr>
          <a:xfrm>
            <a:off x="4572000" y="19890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42"/>
          <p:cNvSpPr/>
          <p:nvPr/>
        </p:nvSpPr>
        <p:spPr>
          <a:xfrm>
            <a:off x="2700360" y="2781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9E56-43C1-4584-9163-D2D333FC394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028-E779-4815-9599-75446455C5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tick-man-thinking-clip-art.jpg"/>
          <p:cNvPicPr/>
          <p:nvPr/>
        </p:nvPicPr>
        <p:blipFill>
          <a:blip r:embed="rId1"/>
          <a:stretch/>
        </p:blipFill>
        <p:spPr>
          <a:xfrm>
            <a:off x="5580000" y="4221000"/>
            <a:ext cx="134136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loud Callout 6"/>
          <p:cNvSpPr/>
          <p:nvPr/>
        </p:nvSpPr>
        <p:spPr>
          <a:xfrm>
            <a:off x="3851280" y="836640"/>
            <a:ext cx="5040360" cy="2808360"/>
          </a:xfrm>
          <a:prstGeom prst="cloudCallout">
            <a:avLst>
              <a:gd name="adj1" fmla="val -4148"/>
              <a:gd name="adj2" fmla="val 71884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356000" y="134136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i, plz remember this regarding the covalent bo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t form the backbones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lectrons are shared betwe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ingle bonds allow ro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ouble bonds are ri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0920" y="393372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ecules are covalently bonded atoms,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valent bond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 from sharing electrons and depend on valence (C: +4, N: -3, O: -2, H: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polar Hormones Pass Through Cell Membranes; Polar Hormones Use Extracellular Recep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24840" cy="3781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0"/>
          <p:cNvSpPr/>
          <p:nvPr/>
        </p:nvSpPr>
        <p:spPr>
          <a:xfrm>
            <a:off x="7380360" y="404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C58D-C0DB-4A1F-98FF-B781BCCCCDD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8B2-743C-4A8A-97AA-EB5C362619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36600" y="2826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Covalent And Noncovalent Bonds Play Different Roles In Maintaining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916280"/>
            <a:ext cx="482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s assemble atoms into molecules, but noncovalent bonds determine the shape of large molecules and the way in which molecules interact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 = approx. 350 kJ/mol and difficult to break, Noncovalent bond = 1-  30 kJ/mol and readily reversible by thermal movement or interactions with oth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610080" cy="273672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TextBox 6"/>
          <p:cNvSpPr/>
          <p:nvPr/>
        </p:nvSpPr>
        <p:spPr>
          <a:xfrm>
            <a:off x="7380360" y="115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3C2-116F-4F36-8463-C813B1F8D74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3C7D-52AC-4EDA-B4EB-74C468D6DA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10:49:48Z</dcterms:modified>
  <cp:revision>18</cp:revision>
  <dc:subject/>
  <dc:title>An Introductory Overview of  Cells, Chemical Bonds &amp; Energy</dc:title>
</cp:coreProperties>
</file>