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FAA41-A09D-4850-9188-B75132A274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8543C-3D5C-4374-96B8-D2B879BA95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77D21-1612-4D66-8512-9BE3923D4F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376A1-B37B-41CC-8A9E-EEF44386D7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71693-5324-4815-9933-2DBBC17742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29489-A272-430B-800C-7244F25990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CEAEA-B314-40F2-8B28-AD6187453C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FBD52-2E4B-4328-8536-6C9031C188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D0037-7590-4119-8248-91B21721B5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7B3C1-35A1-4CED-BB32-03303BC946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1B202-784E-4724-99A0-ACD09ADB96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B539D-B297-4582-8856-C500023290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AAAD8-9BD9-49D6-BECC-ADB3DBFC51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4F9AE-F97E-43B6-A376-9424909732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4347A-6C89-49BB-8799-AFFA5F84BD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63661-C849-4298-9B26-6122B44AA4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7EAAE-40D3-480D-9D09-7D2F7CB512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72423-54C4-4CAE-A7EF-6F4E393F11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744FB-E135-4ABD-B672-DA9488B16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652B2-816B-4396-B9EF-074812AB65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4F7D4-BE4B-4F6C-9FF2-3BC67ECC9F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46905-76D2-4B9C-B8F9-A2957FF606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391DE-EC9B-4190-9882-38D2024B7F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F2CE8-5B21-43E0-957D-52D020D913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1898640" y="1600200"/>
            <a:ext cx="8007480" cy="5257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EB7A-5F3F-4E57-8ABE-65646D53F3E2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Num" idx="2"/>
          </p:nvPr>
        </p:nvSpPr>
        <p:spPr>
          <a:xfrm>
            <a:off x="709884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6E88-E43E-4556-9F91-876DE9C1E785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96640" y="1298520"/>
            <a:ext cx="7512120" cy="236232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 Area Networks and Interne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14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96640" y="3580920"/>
            <a:ext cx="751212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ecture-6: Internet Network L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93EF-A5E4-47C6-850F-2689D97783E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AutoShape 1"/>
          <p:cNvSpPr/>
          <p:nvPr/>
        </p:nvSpPr>
        <p:spPr>
          <a:xfrm>
            <a:off x="743040" y="6494400"/>
            <a:ext cx="206352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66760" y="930240"/>
            <a:ext cx="86724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33ff"/>
                </a:solidFill>
                <a:latin typeface="Times New Roman"/>
                <a:ea typeface="Times New Roman"/>
              </a:rPr>
              <a:t>Classes of IP Addr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5" descr="pasted-image.png"/>
          <p:cNvPicPr/>
          <p:nvPr/>
        </p:nvPicPr>
        <p:blipFill>
          <a:blip r:embed="rId1"/>
          <a:stretch/>
        </p:blipFill>
        <p:spPr>
          <a:xfrm>
            <a:off x="1492200" y="1949400"/>
            <a:ext cx="6693120" cy="4305240"/>
          </a:xfrm>
          <a:prstGeom prst="rect">
            <a:avLst/>
          </a:prstGeom>
          <a:ln w="0">
            <a:noFill/>
          </a:ln>
        </p:spPr>
      </p:pic>
      <p:sp>
        <p:nvSpPr>
          <p:cNvPr id="463" name="Slide Number Placeholder 7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EE78-CC4A-4FB8-812A-106438080C6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AutoShape 1"/>
          <p:cNvSpPr/>
          <p:nvPr/>
        </p:nvSpPr>
        <p:spPr>
          <a:xfrm>
            <a:off x="743040" y="6494400"/>
            <a:ext cx="206352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2"/>
          <p:cNvSpPr/>
          <p:nvPr/>
        </p:nvSpPr>
        <p:spPr>
          <a:xfrm>
            <a:off x="3384720" y="6570720"/>
            <a:ext cx="313668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T14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AutoShape 3"/>
          <p:cNvSpPr/>
          <p:nvPr/>
        </p:nvSpPr>
        <p:spPr>
          <a:xfrm>
            <a:off x="7099200" y="6494400"/>
            <a:ext cx="206388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79640" y="488880"/>
            <a:ext cx="86724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33ff"/>
                </a:solidFill>
                <a:latin typeface="Times New Roman"/>
                <a:ea typeface="Times New Roman"/>
              </a:rPr>
              <a:t>Classes of IP Addr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5" descr="pasted-image.png"/>
          <p:cNvPicPr/>
          <p:nvPr/>
        </p:nvPicPr>
        <p:blipFill>
          <a:blip r:embed="rId1"/>
          <a:stretch/>
        </p:blipFill>
        <p:spPr>
          <a:xfrm>
            <a:off x="-406440" y="1692360"/>
            <a:ext cx="10395000" cy="5111640"/>
          </a:xfrm>
          <a:prstGeom prst="rect">
            <a:avLst/>
          </a:prstGeom>
          <a:ln w="0">
            <a:noFill/>
          </a:ln>
        </p:spPr>
      </p:pic>
      <p:sp>
        <p:nvSpPr>
          <p:cNvPr id="469" name="Slide Number Placeholder 7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910B-A932-4B5B-A276-A8B3C9F530D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AutoShape 1"/>
          <p:cNvSpPr/>
          <p:nvPr/>
        </p:nvSpPr>
        <p:spPr>
          <a:xfrm>
            <a:off x="743040" y="6494400"/>
            <a:ext cx="206352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2"/>
          <p:cNvSpPr/>
          <p:nvPr/>
        </p:nvSpPr>
        <p:spPr>
          <a:xfrm>
            <a:off x="3384720" y="6570720"/>
            <a:ext cx="313668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T14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42440" y="422280"/>
            <a:ext cx="867276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i="1" lang="en-US" sz="3000" spc="-1" strike="noStrike">
                <a:solidFill>
                  <a:srgbClr val="0433ff"/>
                </a:solidFill>
                <a:latin typeface="Times New Roman"/>
                <a:ea typeface="Times New Roman"/>
              </a:rPr>
              <a:t>Classes of IP Addresses: How to count no. of Networks and Hosts within each Clas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80600" y="1779120"/>
            <a:ext cx="8596440" cy="38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65400" indent="-365400" algn="just">
              <a:lnSpc>
                <a:spcPct val="100000"/>
              </a:lnSpc>
              <a:spcBef>
                <a:spcPts val="4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د الشبكا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 Bold"/>
              </a:rPr>
              <a:t>(Class 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2 = 12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بك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 algn="just">
              <a:lnSpc>
                <a:spcPct val="100000"/>
              </a:lnSpc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قصى عدد الطرفيات في كل شبك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 Bold"/>
              </a:rPr>
              <a:t>(Class 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2 = 1677721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رفي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 algn="just">
              <a:lnSpc>
                <a:spcPct val="100000"/>
              </a:lnSpc>
              <a:spcBef>
                <a:spcPts val="4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د الشبكا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 Bold"/>
              </a:rPr>
              <a:t>(Class B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2 = 1638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بك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 algn="just">
              <a:lnSpc>
                <a:spcPct val="100000"/>
              </a:lnSpc>
              <a:spcBef>
                <a:spcPts val="49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قصى عدد الطرفيات في كل شبك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 Bold"/>
              </a:rPr>
              <a:t>(Class B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2 = 6553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رفي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 algn="just">
              <a:lnSpc>
                <a:spcPct val="100000"/>
              </a:lnSpc>
              <a:spcBef>
                <a:spcPts val="499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د الشبكا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 Bold"/>
              </a:rPr>
              <a:t>(Class 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2 = 209715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بك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 algn="just">
              <a:lnSpc>
                <a:spcPct val="100000"/>
              </a:lnSpc>
              <a:spcBef>
                <a:spcPts val="499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قصى عدد الطرفيات في كل شبك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 Bold"/>
              </a:rPr>
              <a:t>(Class 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2 = 25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رفي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6"/>
          <p:cNvSpPr/>
          <p:nvPr/>
        </p:nvSpPr>
        <p:spPr>
          <a:xfrm>
            <a:off x="4721400" y="3271680"/>
            <a:ext cx="461880" cy="312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AutoShape 7"/>
          <p:cNvSpPr/>
          <p:nvPr/>
        </p:nvSpPr>
        <p:spPr>
          <a:xfrm>
            <a:off x="4975200" y="3525840"/>
            <a:ext cx="461880" cy="312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AutoShape 8"/>
          <p:cNvSpPr/>
          <p:nvPr/>
        </p:nvSpPr>
        <p:spPr>
          <a:xfrm>
            <a:off x="471600" y="5565600"/>
            <a:ext cx="2063520" cy="719280"/>
          </a:xfrm>
          <a:prstGeom prst="pie">
            <a:avLst/>
          </a:prstGeom>
          <a:noFill/>
          <a:ln w="25560">
            <a:solidFill>
              <a:srgbClr val="b5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eference: This slide is created by Dr. Mohammad Arafa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10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7532-991E-43AA-8F34-790CAA17D10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AutoShape 1"/>
          <p:cNvSpPr/>
          <p:nvPr/>
        </p:nvSpPr>
        <p:spPr>
          <a:xfrm>
            <a:off x="743040" y="6494400"/>
            <a:ext cx="206352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61440" y="438120"/>
            <a:ext cx="867276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33ff"/>
                </a:solidFill>
                <a:latin typeface="Times New Roman"/>
                <a:ea typeface="Times New Roman"/>
              </a:rPr>
              <a:t>Classes of IP Addr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88520" y="1638000"/>
            <a:ext cx="842004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-324000" algn="r">
              <a:lnSpc>
                <a:spcPct val="100000"/>
              </a:lnSpc>
              <a:spcBef>
                <a:spcPts val="40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يمتان صفر (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  و 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 لهما معنيان خاصان، فالقيمة صفر تعني هذه الشبكة،  أما القيمة   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فتعني بث الرسالة لجميع الطرفيات للشبكة المعنون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6" descr="pasted-image.png"/>
          <p:cNvPicPr/>
          <p:nvPr/>
        </p:nvPicPr>
        <p:blipFill>
          <a:blip r:embed="rId2"/>
          <a:stretch/>
        </p:blipFill>
        <p:spPr>
          <a:xfrm>
            <a:off x="1219320" y="2343240"/>
            <a:ext cx="7467480" cy="3873240"/>
          </a:xfrm>
          <a:prstGeom prst="rect">
            <a:avLst/>
          </a:prstGeom>
          <a:ln w="0">
            <a:noFill/>
          </a:ln>
        </p:spPr>
      </p:pic>
      <p:sp>
        <p:nvSpPr>
          <p:cNvPr id="482" name="Slide Number Placeholder 8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2C22-F9F9-431B-8696-872001C44B0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AutoShape 2"/>
          <p:cNvSpPr/>
          <p:nvPr/>
        </p:nvSpPr>
        <p:spPr>
          <a:xfrm>
            <a:off x="4584600" y="3297240"/>
            <a:ext cx="1866960" cy="739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33ff"/>
                </a:solidFill>
                <a:latin typeface="Gill Sans MT"/>
              </a:rPr>
              <a:t>Subn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Slide Number Placeholder 4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AB69-7713-44B5-B5A0-B9BF59E20D2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370188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ubn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57160" y="133344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IP addr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1954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net part - high order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1954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part - low order b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what’s a subne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1954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vice interfaces with same subnet part of IP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1954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physically reach each other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ithout intervening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>
            <a:off x="5118120" y="5199120"/>
            <a:ext cx="3378240" cy="395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etwork consisting of 3 subn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Picture 7" descr="underline_base"/>
          <p:cNvPicPr/>
          <p:nvPr/>
        </p:nvPicPr>
        <p:blipFill>
          <a:blip r:embed="rId1"/>
          <a:stretch/>
        </p:blipFill>
        <p:spPr>
          <a:xfrm>
            <a:off x="1003320" y="855720"/>
            <a:ext cx="2011320" cy="17316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8"/>
          <p:cNvSpPr/>
          <p:nvPr/>
        </p:nvSpPr>
        <p:spPr>
          <a:xfrm>
            <a:off x="5346720" y="3354480"/>
            <a:ext cx="847800" cy="179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AutoShape 9"/>
          <p:cNvSpPr/>
          <p:nvPr/>
        </p:nvSpPr>
        <p:spPr>
          <a:xfrm>
            <a:off x="4775040" y="1347840"/>
            <a:ext cx="1906920" cy="194940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AutoShape 10"/>
          <p:cNvSpPr/>
          <p:nvPr/>
        </p:nvSpPr>
        <p:spPr>
          <a:xfrm>
            <a:off x="7305840" y="1628640"/>
            <a:ext cx="1850760" cy="192744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11"/>
          <p:cNvSpPr/>
          <p:nvPr/>
        </p:nvSpPr>
        <p:spPr>
          <a:xfrm>
            <a:off x="6005520" y="3057480"/>
            <a:ext cx="1977840" cy="193680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12"/>
          <p:cNvSpPr/>
          <p:nvPr/>
        </p:nvSpPr>
        <p:spPr>
          <a:xfrm>
            <a:off x="5396040" y="1816200"/>
            <a:ext cx="27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13"/>
          <p:cNvSpPr/>
          <p:nvPr/>
        </p:nvSpPr>
        <p:spPr>
          <a:xfrm flipV="1">
            <a:off x="5397480" y="2460600"/>
            <a:ext cx="277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14"/>
          <p:cNvSpPr/>
          <p:nvPr/>
        </p:nvSpPr>
        <p:spPr>
          <a:xfrm>
            <a:off x="5405400" y="3087720"/>
            <a:ext cx="27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5"/>
          <p:cNvSpPr/>
          <p:nvPr/>
        </p:nvSpPr>
        <p:spPr>
          <a:xfrm>
            <a:off x="5899320" y="2660760"/>
            <a:ext cx="82224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16"/>
          <p:cNvSpPr/>
          <p:nvPr/>
        </p:nvSpPr>
        <p:spPr>
          <a:xfrm>
            <a:off x="5356080" y="1490760"/>
            <a:ext cx="846360" cy="331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17"/>
          <p:cNvSpPr/>
          <p:nvPr/>
        </p:nvSpPr>
        <p:spPr>
          <a:xfrm>
            <a:off x="5241960" y="3116160"/>
            <a:ext cx="846000" cy="33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1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18"/>
          <p:cNvSpPr/>
          <p:nvPr/>
        </p:nvSpPr>
        <p:spPr>
          <a:xfrm>
            <a:off x="5987880" y="2355840"/>
            <a:ext cx="846360" cy="33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1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19"/>
          <p:cNvSpPr/>
          <p:nvPr/>
        </p:nvSpPr>
        <p:spPr>
          <a:xfrm>
            <a:off x="7236000" y="2666880"/>
            <a:ext cx="63972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20"/>
          <p:cNvSpPr/>
          <p:nvPr/>
        </p:nvSpPr>
        <p:spPr>
          <a:xfrm>
            <a:off x="7108920" y="2357280"/>
            <a:ext cx="846000" cy="33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2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21"/>
          <p:cNvSpPr/>
          <p:nvPr/>
        </p:nvSpPr>
        <p:spPr>
          <a:xfrm>
            <a:off x="8259840" y="1978200"/>
            <a:ext cx="23472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22"/>
          <p:cNvSpPr/>
          <p:nvPr/>
        </p:nvSpPr>
        <p:spPr>
          <a:xfrm>
            <a:off x="8259840" y="3249720"/>
            <a:ext cx="23472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23"/>
          <p:cNvSpPr/>
          <p:nvPr/>
        </p:nvSpPr>
        <p:spPr>
          <a:xfrm>
            <a:off x="6996240" y="3005280"/>
            <a:ext cx="4680" cy="64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24"/>
          <p:cNvSpPr/>
          <p:nvPr/>
        </p:nvSpPr>
        <p:spPr>
          <a:xfrm flipH="1" flipV="1">
            <a:off x="6382800" y="4279680"/>
            <a:ext cx="3240" cy="23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25"/>
          <p:cNvSpPr/>
          <p:nvPr/>
        </p:nvSpPr>
        <p:spPr>
          <a:xfrm flipH="1" flipV="1">
            <a:off x="7561440" y="4284720"/>
            <a:ext cx="288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26"/>
          <p:cNvSpPr/>
          <p:nvPr/>
        </p:nvSpPr>
        <p:spPr>
          <a:xfrm>
            <a:off x="7532640" y="4162320"/>
            <a:ext cx="846360" cy="33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3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27"/>
          <p:cNvSpPr/>
          <p:nvPr/>
        </p:nvSpPr>
        <p:spPr>
          <a:xfrm>
            <a:off x="5362560" y="4257720"/>
            <a:ext cx="846000" cy="33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3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Group 28"/>
          <p:cNvGrpSpPr/>
          <p:nvPr/>
        </p:nvGrpSpPr>
        <p:grpSpPr>
          <a:xfrm>
            <a:off x="4754520" y="1517760"/>
            <a:ext cx="641520" cy="558720"/>
            <a:chOff x="4754520" y="1517760"/>
            <a:chExt cx="641520" cy="558720"/>
          </a:xfrm>
        </p:grpSpPr>
        <p:pic>
          <p:nvPicPr>
            <p:cNvPr id="511" name="Picture 29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754520" y="151776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AutoShape 30"/>
            <p:cNvSpPr/>
            <p:nvPr/>
          </p:nvSpPr>
          <p:spPr>
            <a:xfrm flipH="1">
              <a:off x="5027760" y="1571040"/>
              <a:ext cx="311760" cy="255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Group 31"/>
          <p:cNvGrpSpPr/>
          <p:nvPr/>
        </p:nvGrpSpPr>
        <p:grpSpPr>
          <a:xfrm>
            <a:off x="4749480" y="2127240"/>
            <a:ext cx="641160" cy="558720"/>
            <a:chOff x="4749480" y="2127240"/>
            <a:chExt cx="641160" cy="558720"/>
          </a:xfrm>
        </p:grpSpPr>
        <p:pic>
          <p:nvPicPr>
            <p:cNvPr id="514" name="Picture 32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749480" y="212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AutoShape 33"/>
            <p:cNvSpPr/>
            <p:nvPr/>
          </p:nvSpPr>
          <p:spPr>
            <a:xfrm flipH="1">
              <a:off x="5023080" y="2180520"/>
              <a:ext cx="311760" cy="255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Group 34"/>
          <p:cNvGrpSpPr/>
          <p:nvPr/>
        </p:nvGrpSpPr>
        <p:grpSpPr>
          <a:xfrm>
            <a:off x="4778280" y="2736720"/>
            <a:ext cx="641520" cy="559080"/>
            <a:chOff x="4778280" y="2736720"/>
            <a:chExt cx="641520" cy="559080"/>
          </a:xfrm>
        </p:grpSpPr>
        <p:pic>
          <p:nvPicPr>
            <p:cNvPr id="517" name="Picture 35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4778280" y="27367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AutoShape 36"/>
            <p:cNvSpPr/>
            <p:nvPr/>
          </p:nvSpPr>
          <p:spPr>
            <a:xfrm flipH="1">
              <a:off x="5051520" y="2790360"/>
              <a:ext cx="311760" cy="255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37"/>
          <p:cNvGrpSpPr/>
          <p:nvPr/>
        </p:nvGrpSpPr>
        <p:grpSpPr>
          <a:xfrm>
            <a:off x="8486640" y="1685880"/>
            <a:ext cx="641520" cy="558720"/>
            <a:chOff x="8486640" y="1685880"/>
            <a:chExt cx="641520" cy="558720"/>
          </a:xfrm>
        </p:grpSpPr>
        <p:pic>
          <p:nvPicPr>
            <p:cNvPr id="520" name="Picture 38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486640" y="168588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AutoShape 39"/>
            <p:cNvSpPr/>
            <p:nvPr/>
          </p:nvSpPr>
          <p:spPr>
            <a:xfrm>
              <a:off x="8542800" y="1739160"/>
              <a:ext cx="311760" cy="255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Group 40"/>
          <p:cNvGrpSpPr/>
          <p:nvPr/>
        </p:nvGrpSpPr>
        <p:grpSpPr>
          <a:xfrm>
            <a:off x="8561520" y="2965320"/>
            <a:ext cx="641160" cy="559080"/>
            <a:chOff x="8561520" y="2965320"/>
            <a:chExt cx="641160" cy="559080"/>
          </a:xfrm>
        </p:grpSpPr>
        <p:pic>
          <p:nvPicPr>
            <p:cNvPr id="523" name="Picture 41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8561520" y="29653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AutoShape 42"/>
            <p:cNvSpPr/>
            <p:nvPr/>
          </p:nvSpPr>
          <p:spPr>
            <a:xfrm>
              <a:off x="8617680" y="3018960"/>
              <a:ext cx="311760" cy="255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Group 43"/>
          <p:cNvGrpSpPr/>
          <p:nvPr/>
        </p:nvGrpSpPr>
        <p:grpSpPr>
          <a:xfrm>
            <a:off x="7353360" y="4489560"/>
            <a:ext cx="641160" cy="558720"/>
            <a:chOff x="7353360" y="4489560"/>
            <a:chExt cx="641160" cy="558720"/>
          </a:xfrm>
        </p:grpSpPr>
        <p:pic>
          <p:nvPicPr>
            <p:cNvPr id="526" name="Picture 44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7353360" y="44895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AutoShape 45"/>
            <p:cNvSpPr/>
            <p:nvPr/>
          </p:nvSpPr>
          <p:spPr>
            <a:xfrm>
              <a:off x="7409520" y="4542840"/>
              <a:ext cx="311760" cy="255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Group 46"/>
          <p:cNvGrpSpPr/>
          <p:nvPr/>
        </p:nvGrpSpPr>
        <p:grpSpPr>
          <a:xfrm>
            <a:off x="6189840" y="4530600"/>
            <a:ext cx="641160" cy="559080"/>
            <a:chOff x="6189840" y="4530600"/>
            <a:chExt cx="641160" cy="559080"/>
          </a:xfrm>
        </p:grpSpPr>
        <p:pic>
          <p:nvPicPr>
            <p:cNvPr id="529" name="Picture 47" descr="desktop_computer_stylized_medium"/>
            <p:cNvPicPr/>
            <p:nvPr/>
          </p:nvPicPr>
          <p:blipFill>
            <a:blip r:embed="rId8"/>
            <a:stretch/>
          </p:blipFill>
          <p:spPr>
            <a:xfrm>
              <a:off x="6189840" y="453060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AutoShape 48"/>
            <p:cNvSpPr/>
            <p:nvPr/>
          </p:nvSpPr>
          <p:spPr>
            <a:xfrm>
              <a:off x="6246000" y="4584240"/>
              <a:ext cx="311760" cy="255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Group 49"/>
          <p:cNvGrpSpPr/>
          <p:nvPr/>
        </p:nvGrpSpPr>
        <p:grpSpPr>
          <a:xfrm>
            <a:off x="6618240" y="2624040"/>
            <a:ext cx="698400" cy="355680"/>
            <a:chOff x="6618240" y="2624040"/>
            <a:chExt cx="698400" cy="355680"/>
          </a:xfrm>
        </p:grpSpPr>
        <p:sp>
          <p:nvSpPr>
            <p:cNvPr id="532" name="AutoShape 50"/>
            <p:cNvSpPr/>
            <p:nvPr/>
          </p:nvSpPr>
          <p:spPr>
            <a:xfrm>
              <a:off x="6621120" y="2781720"/>
              <a:ext cx="692280" cy="19800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AutoShape 51"/>
            <p:cNvSpPr/>
            <p:nvPr/>
          </p:nvSpPr>
          <p:spPr>
            <a:xfrm>
              <a:off x="6621120" y="2758680"/>
              <a:ext cx="695520" cy="12312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AutoShape 52"/>
            <p:cNvSpPr/>
            <p:nvPr/>
          </p:nvSpPr>
          <p:spPr>
            <a:xfrm>
              <a:off x="6618240" y="2624040"/>
              <a:ext cx="693360" cy="23256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" name="Group 53"/>
            <p:cNvGrpSpPr/>
            <p:nvPr/>
          </p:nvGrpSpPr>
          <p:grpSpPr>
            <a:xfrm>
              <a:off x="6757560" y="2684160"/>
              <a:ext cx="391680" cy="107640"/>
              <a:chOff x="6757560" y="2684160"/>
              <a:chExt cx="391680" cy="107640"/>
            </a:xfrm>
          </p:grpSpPr>
          <p:sp>
            <p:nvSpPr>
              <p:cNvPr id="536" name="AutoShape 54"/>
              <p:cNvSpPr/>
              <p:nvPr/>
            </p:nvSpPr>
            <p:spPr>
              <a:xfrm>
                <a:off x="6757560" y="2684160"/>
                <a:ext cx="391680" cy="1076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AutoShape 55"/>
              <p:cNvSpPr/>
              <p:nvPr/>
            </p:nvSpPr>
            <p:spPr>
              <a:xfrm>
                <a:off x="6775200" y="2684160"/>
                <a:ext cx="356400" cy="1076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8" name="Line 56"/>
            <p:cNvSpPr/>
            <p:nvPr/>
          </p:nvSpPr>
          <p:spPr>
            <a:xfrm>
              <a:off x="6621120" y="2733120"/>
              <a:ext cx="0" cy="15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57"/>
            <p:cNvSpPr/>
            <p:nvPr/>
          </p:nvSpPr>
          <p:spPr>
            <a:xfrm>
              <a:off x="7311600" y="2740320"/>
              <a:ext cx="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Group 58"/>
          <p:cNvGrpSpPr/>
          <p:nvPr/>
        </p:nvGrpSpPr>
        <p:grpSpPr>
          <a:xfrm>
            <a:off x="7229520" y="3527280"/>
            <a:ext cx="857160" cy="574920"/>
            <a:chOff x="7229520" y="3527280"/>
            <a:chExt cx="857160" cy="574920"/>
          </a:xfrm>
        </p:grpSpPr>
        <p:sp>
          <p:nvSpPr>
            <p:cNvPr id="541" name="AutoShape 59"/>
            <p:cNvSpPr/>
            <p:nvPr/>
          </p:nvSpPr>
          <p:spPr>
            <a:xfrm>
              <a:off x="7365960" y="3527280"/>
              <a:ext cx="720720" cy="359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Gill Sans MT"/>
                </a:rPr>
                <a:t>sub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60"/>
            <p:cNvSpPr/>
            <p:nvPr/>
          </p:nvSpPr>
          <p:spPr>
            <a:xfrm flipH="1">
              <a:off x="7229520" y="3796560"/>
              <a:ext cx="171360" cy="305640"/>
            </a:xfrm>
            <a:prstGeom prst="line">
              <a:avLst/>
            </a:prstGeom>
            <a:ln w="3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AutoShape 61"/>
          <p:cNvSpPr/>
          <p:nvPr/>
        </p:nvSpPr>
        <p:spPr>
          <a:xfrm>
            <a:off x="5511960" y="2163600"/>
            <a:ext cx="288720" cy="23364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62"/>
          <p:cNvSpPr/>
          <p:nvPr/>
        </p:nvSpPr>
        <p:spPr>
          <a:xfrm>
            <a:off x="5356080" y="2133720"/>
            <a:ext cx="846360" cy="331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1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utoShape 63"/>
          <p:cNvSpPr/>
          <p:nvPr/>
        </p:nvSpPr>
        <p:spPr>
          <a:xfrm>
            <a:off x="8217000" y="2149560"/>
            <a:ext cx="288720" cy="23328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64"/>
          <p:cNvSpPr/>
          <p:nvPr/>
        </p:nvSpPr>
        <p:spPr>
          <a:xfrm>
            <a:off x="8213760" y="2949480"/>
            <a:ext cx="288720" cy="23328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AutoShape 65"/>
          <p:cNvSpPr/>
          <p:nvPr/>
        </p:nvSpPr>
        <p:spPr>
          <a:xfrm>
            <a:off x="6861240" y="3135240"/>
            <a:ext cx="288720" cy="23328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AutoShape 66"/>
          <p:cNvSpPr/>
          <p:nvPr/>
        </p:nvSpPr>
        <p:spPr>
          <a:xfrm>
            <a:off x="6384960" y="3097080"/>
            <a:ext cx="947880" cy="33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3.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67"/>
          <p:cNvSpPr/>
          <p:nvPr/>
        </p:nvSpPr>
        <p:spPr>
          <a:xfrm>
            <a:off x="7570800" y="2887560"/>
            <a:ext cx="846000" cy="33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68"/>
          <p:cNvSpPr/>
          <p:nvPr/>
        </p:nvSpPr>
        <p:spPr>
          <a:xfrm>
            <a:off x="7967520" y="2128680"/>
            <a:ext cx="846360" cy="33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2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Slide Number Placeholder 70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CAD0-482B-4B04-912C-BC2010D92BB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2"/>
          <p:cNvSpPr/>
          <p:nvPr/>
        </p:nvSpPr>
        <p:spPr>
          <a:xfrm>
            <a:off x="5913360" y="6467400"/>
            <a:ext cx="28940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3"/>
          <p:cNvSpPr/>
          <p:nvPr/>
        </p:nvSpPr>
        <p:spPr>
          <a:xfrm>
            <a:off x="8705880" y="6462720"/>
            <a:ext cx="6746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-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4"/>
          <p:cNvSpPr/>
          <p:nvPr/>
        </p:nvSpPr>
        <p:spPr>
          <a:xfrm>
            <a:off x="896760" y="1703520"/>
            <a:ext cx="3810240" cy="3431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eci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determine the subnets, detach each interface from its host or router, creating islands of isolated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isolated network is called a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ub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5"/>
          <p:cNvSpPr/>
          <p:nvPr/>
        </p:nvSpPr>
        <p:spPr>
          <a:xfrm>
            <a:off x="5938920" y="5781600"/>
            <a:ext cx="1638360" cy="357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ubnet mask: /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370188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ubn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7" descr="underline_base"/>
          <p:cNvPicPr/>
          <p:nvPr/>
        </p:nvPicPr>
        <p:blipFill>
          <a:blip r:embed="rId1"/>
          <a:stretch/>
        </p:blipFill>
        <p:spPr>
          <a:xfrm>
            <a:off x="1003320" y="855720"/>
            <a:ext cx="2011320" cy="173160"/>
          </a:xfrm>
          <a:prstGeom prst="rect">
            <a:avLst/>
          </a:prstGeom>
          <a:ln w="0">
            <a:noFill/>
          </a:ln>
        </p:spPr>
      </p:pic>
      <p:grpSp>
        <p:nvGrpSpPr>
          <p:cNvPr id="559" name="Group 8"/>
          <p:cNvGrpSpPr/>
          <p:nvPr/>
        </p:nvGrpSpPr>
        <p:grpSpPr>
          <a:xfrm>
            <a:off x="4749480" y="906480"/>
            <a:ext cx="4453200" cy="4653000"/>
            <a:chOff x="4749480" y="906480"/>
            <a:chExt cx="4453200" cy="4653000"/>
          </a:xfrm>
        </p:grpSpPr>
        <p:sp>
          <p:nvSpPr>
            <p:cNvPr id="560" name="AutoShape 9"/>
            <p:cNvSpPr/>
            <p:nvPr/>
          </p:nvSpPr>
          <p:spPr>
            <a:xfrm>
              <a:off x="4865400" y="906480"/>
              <a:ext cx="1384920" cy="396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Gill Sans MT"/>
                </a:rPr>
                <a:t>223.1.1.0/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AutoShape 10"/>
            <p:cNvSpPr/>
            <p:nvPr/>
          </p:nvSpPr>
          <p:spPr>
            <a:xfrm>
              <a:off x="7396200" y="1149120"/>
              <a:ext cx="1384920" cy="396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Gill Sans MT"/>
                </a:rPr>
                <a:t>223.1.2.0/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AutoShape 11"/>
            <p:cNvSpPr/>
            <p:nvPr/>
          </p:nvSpPr>
          <p:spPr>
            <a:xfrm>
              <a:off x="6323040" y="5163480"/>
              <a:ext cx="1384920" cy="396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Gill Sans MT"/>
                </a:rPr>
                <a:t>223.1.3.0/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AutoShape 12"/>
            <p:cNvSpPr/>
            <p:nvPr/>
          </p:nvSpPr>
          <p:spPr>
            <a:xfrm>
              <a:off x="5346720" y="3353040"/>
              <a:ext cx="847440" cy="180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AutoShape 13"/>
            <p:cNvSpPr/>
            <p:nvPr/>
          </p:nvSpPr>
          <p:spPr>
            <a:xfrm>
              <a:off x="4775400" y="1347480"/>
              <a:ext cx="1906920" cy="195012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AutoShape 14"/>
            <p:cNvSpPr/>
            <p:nvPr/>
          </p:nvSpPr>
          <p:spPr>
            <a:xfrm>
              <a:off x="7306200" y="1628280"/>
              <a:ext cx="1851480" cy="192708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AutoShape 15"/>
            <p:cNvSpPr/>
            <p:nvPr/>
          </p:nvSpPr>
          <p:spPr>
            <a:xfrm>
              <a:off x="6005880" y="3057120"/>
              <a:ext cx="1977840" cy="193644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16"/>
            <p:cNvSpPr/>
            <p:nvPr/>
          </p:nvSpPr>
          <p:spPr>
            <a:xfrm>
              <a:off x="5397480" y="1814400"/>
              <a:ext cx="277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17"/>
            <p:cNvSpPr/>
            <p:nvPr/>
          </p:nvSpPr>
          <p:spPr>
            <a:xfrm flipV="1">
              <a:off x="5397480" y="2459160"/>
              <a:ext cx="2775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18"/>
            <p:cNvSpPr/>
            <p:nvPr/>
          </p:nvSpPr>
          <p:spPr>
            <a:xfrm>
              <a:off x="5406840" y="3086280"/>
              <a:ext cx="272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AutoShape 19"/>
            <p:cNvSpPr/>
            <p:nvPr/>
          </p:nvSpPr>
          <p:spPr>
            <a:xfrm>
              <a:off x="5356080" y="1488960"/>
              <a:ext cx="847080" cy="332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223.1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AutoShape 20"/>
            <p:cNvSpPr/>
            <p:nvPr/>
          </p:nvSpPr>
          <p:spPr>
            <a:xfrm>
              <a:off x="5241960" y="3115080"/>
              <a:ext cx="847080" cy="332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223.1.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AutoShape 21"/>
            <p:cNvSpPr/>
            <p:nvPr/>
          </p:nvSpPr>
          <p:spPr>
            <a:xfrm>
              <a:off x="5987880" y="2354400"/>
              <a:ext cx="847080" cy="332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223.1.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AutoShape 22"/>
            <p:cNvSpPr/>
            <p:nvPr/>
          </p:nvSpPr>
          <p:spPr>
            <a:xfrm>
              <a:off x="7108920" y="2355840"/>
              <a:ext cx="847080" cy="332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223.1.2.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23"/>
            <p:cNvSpPr/>
            <p:nvPr/>
          </p:nvSpPr>
          <p:spPr>
            <a:xfrm>
              <a:off x="8259840" y="1976400"/>
              <a:ext cx="23472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4"/>
            <p:cNvSpPr/>
            <p:nvPr/>
          </p:nvSpPr>
          <p:spPr>
            <a:xfrm>
              <a:off x="8259840" y="3248280"/>
              <a:ext cx="23472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5"/>
            <p:cNvSpPr/>
            <p:nvPr/>
          </p:nvSpPr>
          <p:spPr>
            <a:xfrm flipH="1" flipV="1">
              <a:off x="6384960" y="4278960"/>
              <a:ext cx="288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26"/>
            <p:cNvSpPr/>
            <p:nvPr/>
          </p:nvSpPr>
          <p:spPr>
            <a:xfrm flipH="1" flipV="1">
              <a:off x="7561440" y="4283640"/>
              <a:ext cx="288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AutoShape 27"/>
            <p:cNvSpPr/>
            <p:nvPr/>
          </p:nvSpPr>
          <p:spPr>
            <a:xfrm>
              <a:off x="7532640" y="4161240"/>
              <a:ext cx="847080" cy="332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223.1.3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AutoShape 28"/>
            <p:cNvSpPr/>
            <p:nvPr/>
          </p:nvSpPr>
          <p:spPr>
            <a:xfrm>
              <a:off x="5362560" y="4256640"/>
              <a:ext cx="847080" cy="332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223.1.3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0" name="Group 29"/>
            <p:cNvGrpSpPr/>
            <p:nvPr/>
          </p:nvGrpSpPr>
          <p:grpSpPr>
            <a:xfrm>
              <a:off x="4754160" y="1515960"/>
              <a:ext cx="641160" cy="558720"/>
              <a:chOff x="4754160" y="1515960"/>
              <a:chExt cx="641160" cy="558720"/>
            </a:xfrm>
          </p:grpSpPr>
          <p:pic>
            <p:nvPicPr>
              <p:cNvPr id="581" name="Picture 30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4754160" y="151596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2" name="AutoShape 31"/>
              <p:cNvSpPr/>
              <p:nvPr/>
            </p:nvSpPr>
            <p:spPr>
              <a:xfrm flipH="1">
                <a:off x="5027760" y="1569240"/>
                <a:ext cx="311760" cy="25596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Group 32"/>
            <p:cNvGrpSpPr/>
            <p:nvPr/>
          </p:nvGrpSpPr>
          <p:grpSpPr>
            <a:xfrm>
              <a:off x="4749480" y="2125800"/>
              <a:ext cx="641160" cy="558720"/>
              <a:chOff x="4749480" y="2125800"/>
              <a:chExt cx="641160" cy="558720"/>
            </a:xfrm>
          </p:grpSpPr>
          <p:pic>
            <p:nvPicPr>
              <p:cNvPr id="584" name="Picture 33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4749480" y="212580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5" name="AutoShape 34"/>
              <p:cNvSpPr/>
              <p:nvPr/>
            </p:nvSpPr>
            <p:spPr>
              <a:xfrm flipH="1">
                <a:off x="5023080" y="2179080"/>
                <a:ext cx="311760" cy="25596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Group 35"/>
            <p:cNvGrpSpPr/>
            <p:nvPr/>
          </p:nvGrpSpPr>
          <p:grpSpPr>
            <a:xfrm>
              <a:off x="4777920" y="2735640"/>
              <a:ext cx="641160" cy="558720"/>
              <a:chOff x="4777920" y="2735640"/>
              <a:chExt cx="641160" cy="558720"/>
            </a:xfrm>
          </p:grpSpPr>
          <p:pic>
            <p:nvPicPr>
              <p:cNvPr id="587" name="Picture 36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4777920" y="273564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8" name="AutoShape 37"/>
              <p:cNvSpPr/>
              <p:nvPr/>
            </p:nvSpPr>
            <p:spPr>
              <a:xfrm flipH="1">
                <a:off x="5051520" y="2788920"/>
                <a:ext cx="311760" cy="25596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Group 38"/>
            <p:cNvGrpSpPr/>
            <p:nvPr/>
          </p:nvGrpSpPr>
          <p:grpSpPr>
            <a:xfrm>
              <a:off x="8487000" y="1684440"/>
              <a:ext cx="641160" cy="558720"/>
              <a:chOff x="8487000" y="1684440"/>
              <a:chExt cx="641160" cy="558720"/>
            </a:xfrm>
          </p:grpSpPr>
          <p:pic>
            <p:nvPicPr>
              <p:cNvPr id="590" name="Picture 39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>
                <a:off x="8487000" y="168444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1" name="AutoShape 40"/>
              <p:cNvSpPr/>
              <p:nvPr/>
            </p:nvSpPr>
            <p:spPr>
              <a:xfrm>
                <a:off x="8543160" y="1737720"/>
                <a:ext cx="311760" cy="25596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Group 41"/>
            <p:cNvGrpSpPr/>
            <p:nvPr/>
          </p:nvGrpSpPr>
          <p:grpSpPr>
            <a:xfrm>
              <a:off x="8561520" y="2964240"/>
              <a:ext cx="641160" cy="558720"/>
              <a:chOff x="8561520" y="2964240"/>
              <a:chExt cx="641160" cy="558720"/>
            </a:xfrm>
          </p:grpSpPr>
          <p:pic>
            <p:nvPicPr>
              <p:cNvPr id="593" name="Picture 42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>
                <a:off x="8561520" y="296424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4" name="AutoShape 43"/>
              <p:cNvSpPr/>
              <p:nvPr/>
            </p:nvSpPr>
            <p:spPr>
              <a:xfrm>
                <a:off x="8617680" y="3017520"/>
                <a:ext cx="311760" cy="25596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Group 44"/>
            <p:cNvGrpSpPr/>
            <p:nvPr/>
          </p:nvGrpSpPr>
          <p:grpSpPr>
            <a:xfrm>
              <a:off x="7353360" y="4488480"/>
              <a:ext cx="641160" cy="558720"/>
              <a:chOff x="7353360" y="4488480"/>
              <a:chExt cx="641160" cy="558720"/>
            </a:xfrm>
          </p:grpSpPr>
          <p:pic>
            <p:nvPicPr>
              <p:cNvPr id="596" name="Picture 45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>
                <a:off x="7353360" y="448848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7" name="AutoShape 46"/>
              <p:cNvSpPr/>
              <p:nvPr/>
            </p:nvSpPr>
            <p:spPr>
              <a:xfrm>
                <a:off x="7409520" y="4541760"/>
                <a:ext cx="311760" cy="25596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Group 47"/>
            <p:cNvGrpSpPr/>
            <p:nvPr/>
          </p:nvGrpSpPr>
          <p:grpSpPr>
            <a:xfrm>
              <a:off x="6189480" y="4529880"/>
              <a:ext cx="641160" cy="558720"/>
              <a:chOff x="6189480" y="4529880"/>
              <a:chExt cx="641160" cy="558720"/>
            </a:xfrm>
          </p:grpSpPr>
          <p:pic>
            <p:nvPicPr>
              <p:cNvPr id="599" name="Picture 48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>
                <a:off x="6189480" y="452988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AutoShape 49"/>
              <p:cNvSpPr/>
              <p:nvPr/>
            </p:nvSpPr>
            <p:spPr>
              <a:xfrm>
                <a:off x="6245640" y="4583160"/>
                <a:ext cx="311760" cy="25596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Group 50"/>
            <p:cNvGrpSpPr/>
            <p:nvPr/>
          </p:nvGrpSpPr>
          <p:grpSpPr>
            <a:xfrm>
              <a:off x="6618240" y="2622600"/>
              <a:ext cx="698400" cy="355320"/>
              <a:chOff x="6618240" y="2622600"/>
              <a:chExt cx="698400" cy="355320"/>
            </a:xfrm>
          </p:grpSpPr>
          <p:sp>
            <p:nvSpPr>
              <p:cNvPr id="602" name="AutoShape 51"/>
              <p:cNvSpPr/>
              <p:nvPr/>
            </p:nvSpPr>
            <p:spPr>
              <a:xfrm>
                <a:off x="6621120" y="2780280"/>
                <a:ext cx="692280" cy="197640"/>
              </a:xfrm>
              <a:prstGeom prst="pi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AutoShape 52"/>
              <p:cNvSpPr/>
              <p:nvPr/>
            </p:nvSpPr>
            <p:spPr>
              <a:xfrm>
                <a:off x="6621120" y="2757240"/>
                <a:ext cx="695520" cy="123120"/>
              </a:xfrm>
              <a:prstGeom prst="pi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AutoShape 53"/>
              <p:cNvSpPr/>
              <p:nvPr/>
            </p:nvSpPr>
            <p:spPr>
              <a:xfrm>
                <a:off x="6618240" y="2622600"/>
                <a:ext cx="693360" cy="232200"/>
              </a:xfrm>
              <a:prstGeom prst="pi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5" name="Group 54"/>
              <p:cNvGrpSpPr/>
              <p:nvPr/>
            </p:nvGrpSpPr>
            <p:grpSpPr>
              <a:xfrm>
                <a:off x="6757560" y="2682720"/>
                <a:ext cx="391680" cy="107280"/>
                <a:chOff x="6757560" y="2682720"/>
                <a:chExt cx="391680" cy="107280"/>
              </a:xfrm>
            </p:grpSpPr>
            <p:sp>
              <p:nvSpPr>
                <p:cNvPr id="606" name="AutoShape 55"/>
                <p:cNvSpPr/>
                <p:nvPr/>
              </p:nvSpPr>
              <p:spPr>
                <a:xfrm>
                  <a:off x="6757560" y="2682720"/>
                  <a:ext cx="391680" cy="10728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AutoShape 56"/>
                <p:cNvSpPr/>
                <p:nvPr/>
              </p:nvSpPr>
              <p:spPr>
                <a:xfrm>
                  <a:off x="6775200" y="2682720"/>
                  <a:ext cx="356400" cy="10728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8" name="Line 57"/>
              <p:cNvSpPr/>
              <p:nvPr/>
            </p:nvSpPr>
            <p:spPr>
              <a:xfrm>
                <a:off x="6621120" y="2731320"/>
                <a:ext cx="0" cy="156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Line 58"/>
              <p:cNvSpPr/>
              <p:nvPr/>
            </p:nvSpPr>
            <p:spPr>
              <a:xfrm>
                <a:off x="7311600" y="2738520"/>
                <a:ext cx="0" cy="15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Group 59"/>
            <p:cNvGrpSpPr/>
            <p:nvPr/>
          </p:nvGrpSpPr>
          <p:grpSpPr>
            <a:xfrm>
              <a:off x="7230960" y="3528000"/>
              <a:ext cx="857160" cy="573120"/>
              <a:chOff x="7230960" y="3528000"/>
              <a:chExt cx="857160" cy="573120"/>
            </a:xfrm>
          </p:grpSpPr>
          <p:sp>
            <p:nvSpPr>
              <p:cNvPr id="611" name="AutoShape 60"/>
              <p:cNvSpPr/>
              <p:nvPr/>
            </p:nvSpPr>
            <p:spPr>
              <a:xfrm>
                <a:off x="7367400" y="3528000"/>
                <a:ext cx="720720" cy="358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Gill Sans MT"/>
                  </a:rPr>
                  <a:t>subn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Line 61"/>
              <p:cNvSpPr/>
              <p:nvPr/>
            </p:nvSpPr>
            <p:spPr>
              <a:xfrm flipH="1">
                <a:off x="7230960" y="3796200"/>
                <a:ext cx="171360" cy="30492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3" name="AutoShape 62"/>
            <p:cNvSpPr/>
            <p:nvPr/>
          </p:nvSpPr>
          <p:spPr>
            <a:xfrm>
              <a:off x="5511600" y="2162160"/>
              <a:ext cx="288720" cy="23328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AutoShape 63"/>
            <p:cNvSpPr/>
            <p:nvPr/>
          </p:nvSpPr>
          <p:spPr>
            <a:xfrm>
              <a:off x="5356080" y="2132280"/>
              <a:ext cx="847080" cy="332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223.1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AutoShape 64"/>
            <p:cNvSpPr/>
            <p:nvPr/>
          </p:nvSpPr>
          <p:spPr>
            <a:xfrm>
              <a:off x="8217000" y="2148120"/>
              <a:ext cx="288720" cy="23328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AutoShape 65"/>
            <p:cNvSpPr/>
            <p:nvPr/>
          </p:nvSpPr>
          <p:spPr>
            <a:xfrm>
              <a:off x="8213760" y="2948400"/>
              <a:ext cx="288720" cy="23328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AutoShape 66"/>
            <p:cNvSpPr/>
            <p:nvPr/>
          </p:nvSpPr>
          <p:spPr>
            <a:xfrm>
              <a:off x="6861240" y="3134160"/>
              <a:ext cx="288720" cy="23328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AutoShape 67"/>
            <p:cNvSpPr/>
            <p:nvPr/>
          </p:nvSpPr>
          <p:spPr>
            <a:xfrm>
              <a:off x="6384960" y="3096000"/>
              <a:ext cx="948960" cy="332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223.1.3.2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AutoShape 68"/>
            <p:cNvSpPr/>
            <p:nvPr/>
          </p:nvSpPr>
          <p:spPr>
            <a:xfrm>
              <a:off x="7570800" y="2886480"/>
              <a:ext cx="847080" cy="332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223.1.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AutoShape 69"/>
            <p:cNvSpPr/>
            <p:nvPr/>
          </p:nvSpPr>
          <p:spPr>
            <a:xfrm>
              <a:off x="7967880" y="2127240"/>
              <a:ext cx="847080" cy="332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223.1.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Line 70"/>
          <p:cNvSpPr/>
          <p:nvPr/>
        </p:nvSpPr>
        <p:spPr>
          <a:xfrm>
            <a:off x="5899320" y="2660760"/>
            <a:ext cx="82224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71"/>
          <p:cNvSpPr/>
          <p:nvPr/>
        </p:nvSpPr>
        <p:spPr>
          <a:xfrm>
            <a:off x="7236000" y="2666880"/>
            <a:ext cx="63972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72"/>
          <p:cNvSpPr/>
          <p:nvPr/>
        </p:nvSpPr>
        <p:spPr>
          <a:xfrm>
            <a:off x="6996240" y="3005280"/>
            <a:ext cx="4680" cy="64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74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A211-1805-495A-92D9-98003FDEF10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AutoShape 2"/>
          <p:cNvSpPr/>
          <p:nvPr/>
        </p:nvSpPr>
        <p:spPr>
          <a:xfrm>
            <a:off x="5913360" y="6467400"/>
            <a:ext cx="28940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AutoShape 3"/>
          <p:cNvSpPr/>
          <p:nvPr/>
        </p:nvSpPr>
        <p:spPr>
          <a:xfrm>
            <a:off x="8705880" y="6462720"/>
            <a:ext cx="6746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-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AutoShape 4"/>
          <p:cNvSpPr/>
          <p:nvPr/>
        </p:nvSpPr>
        <p:spPr>
          <a:xfrm>
            <a:off x="6504120" y="2819520"/>
            <a:ext cx="1220760" cy="142704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AutoShape 5"/>
          <p:cNvSpPr/>
          <p:nvPr/>
        </p:nvSpPr>
        <p:spPr>
          <a:xfrm>
            <a:off x="5241960" y="4346640"/>
            <a:ext cx="2144520" cy="28080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AutoShape 6"/>
          <p:cNvSpPr/>
          <p:nvPr/>
        </p:nvSpPr>
        <p:spPr>
          <a:xfrm>
            <a:off x="4943520" y="2789280"/>
            <a:ext cx="1128600" cy="147312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AutoShape 7"/>
          <p:cNvSpPr/>
          <p:nvPr/>
        </p:nvSpPr>
        <p:spPr>
          <a:xfrm rot="5265600">
            <a:off x="5665320" y="557280"/>
            <a:ext cx="1584360" cy="205740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963720" y="133668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how ma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Determined by subnet ma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9"/>
          <p:cNvSpPr/>
          <p:nvPr/>
        </p:nvSpPr>
        <p:spPr>
          <a:xfrm flipH="1" flipV="1">
            <a:off x="7106760" y="1401840"/>
            <a:ext cx="324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Line 10"/>
          <p:cNvSpPr/>
          <p:nvPr/>
        </p:nvSpPr>
        <p:spPr>
          <a:xfrm flipH="1">
            <a:off x="5606640" y="1346040"/>
            <a:ext cx="3240" cy="2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11"/>
          <p:cNvSpPr/>
          <p:nvPr/>
        </p:nvSpPr>
        <p:spPr>
          <a:xfrm flipH="1">
            <a:off x="6235560" y="1790640"/>
            <a:ext cx="5040" cy="5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AutoShape 12"/>
          <p:cNvSpPr/>
          <p:nvPr/>
        </p:nvSpPr>
        <p:spPr>
          <a:xfrm>
            <a:off x="4618080" y="1346040"/>
            <a:ext cx="846000" cy="33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AutoShape 13"/>
          <p:cNvSpPr/>
          <p:nvPr/>
        </p:nvSpPr>
        <p:spPr>
          <a:xfrm>
            <a:off x="6110280" y="2052720"/>
            <a:ext cx="309600" cy="17928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AutoShape 14"/>
          <p:cNvSpPr/>
          <p:nvPr/>
        </p:nvSpPr>
        <p:spPr>
          <a:xfrm>
            <a:off x="5753160" y="1954080"/>
            <a:ext cx="846000" cy="33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1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AutoShape 15"/>
          <p:cNvSpPr/>
          <p:nvPr/>
        </p:nvSpPr>
        <p:spPr>
          <a:xfrm>
            <a:off x="7066080" y="1351080"/>
            <a:ext cx="846000" cy="331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1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AutoShape 16"/>
          <p:cNvSpPr/>
          <p:nvPr/>
        </p:nvSpPr>
        <p:spPr>
          <a:xfrm>
            <a:off x="4010040" y="4495680"/>
            <a:ext cx="1496880" cy="157644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17"/>
          <p:cNvSpPr/>
          <p:nvPr/>
        </p:nvSpPr>
        <p:spPr>
          <a:xfrm>
            <a:off x="4759200" y="4665600"/>
            <a:ext cx="7920" cy="56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18"/>
          <p:cNvSpPr/>
          <p:nvPr/>
        </p:nvSpPr>
        <p:spPr>
          <a:xfrm flipH="1" flipV="1">
            <a:off x="4250880" y="5386320"/>
            <a:ext cx="324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19"/>
          <p:cNvSpPr/>
          <p:nvPr/>
        </p:nvSpPr>
        <p:spPr>
          <a:xfrm flipH="1" flipV="1">
            <a:off x="5244840" y="5373720"/>
            <a:ext cx="324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AutoShape 20"/>
          <p:cNvSpPr/>
          <p:nvPr/>
        </p:nvSpPr>
        <p:spPr>
          <a:xfrm>
            <a:off x="5194440" y="5261040"/>
            <a:ext cx="846000" cy="331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AutoShape 21"/>
          <p:cNvSpPr/>
          <p:nvPr/>
        </p:nvSpPr>
        <p:spPr>
          <a:xfrm>
            <a:off x="3298680" y="5256360"/>
            <a:ext cx="846360" cy="331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2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22"/>
          <p:cNvSpPr/>
          <p:nvPr/>
        </p:nvSpPr>
        <p:spPr>
          <a:xfrm>
            <a:off x="4700520" y="4767120"/>
            <a:ext cx="128520" cy="17964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AutoShape 23"/>
          <p:cNvSpPr/>
          <p:nvPr/>
        </p:nvSpPr>
        <p:spPr>
          <a:xfrm>
            <a:off x="4257720" y="4707000"/>
            <a:ext cx="846000" cy="331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2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AutoShape 24"/>
          <p:cNvSpPr/>
          <p:nvPr/>
        </p:nvSpPr>
        <p:spPr>
          <a:xfrm>
            <a:off x="7027920" y="4475160"/>
            <a:ext cx="1496880" cy="158760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25"/>
          <p:cNvSpPr/>
          <p:nvPr/>
        </p:nvSpPr>
        <p:spPr>
          <a:xfrm>
            <a:off x="7786800" y="4684680"/>
            <a:ext cx="144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Line 26"/>
          <p:cNvSpPr/>
          <p:nvPr/>
        </p:nvSpPr>
        <p:spPr>
          <a:xfrm flipH="1" flipV="1">
            <a:off x="7279920" y="5405400"/>
            <a:ext cx="324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27"/>
          <p:cNvSpPr/>
          <p:nvPr/>
        </p:nvSpPr>
        <p:spPr>
          <a:xfrm flipH="1" flipV="1">
            <a:off x="8275320" y="5392800"/>
            <a:ext cx="324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28"/>
          <p:cNvSpPr/>
          <p:nvPr/>
        </p:nvSpPr>
        <p:spPr>
          <a:xfrm>
            <a:off x="8223120" y="5280120"/>
            <a:ext cx="846360" cy="331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3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AutoShape 29"/>
          <p:cNvSpPr/>
          <p:nvPr/>
        </p:nvSpPr>
        <p:spPr>
          <a:xfrm>
            <a:off x="6327720" y="5275440"/>
            <a:ext cx="846360" cy="331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3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AutoShape 30"/>
          <p:cNvSpPr/>
          <p:nvPr/>
        </p:nvSpPr>
        <p:spPr>
          <a:xfrm>
            <a:off x="7729560" y="4786200"/>
            <a:ext cx="128520" cy="17964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AutoShape 31"/>
          <p:cNvSpPr/>
          <p:nvPr/>
        </p:nvSpPr>
        <p:spPr>
          <a:xfrm>
            <a:off x="7280280" y="4751280"/>
            <a:ext cx="947880" cy="33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3.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32"/>
          <p:cNvSpPr/>
          <p:nvPr/>
        </p:nvSpPr>
        <p:spPr>
          <a:xfrm flipH="1" flipV="1">
            <a:off x="6488280" y="1304640"/>
            <a:ext cx="288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AutoShape 33"/>
          <p:cNvSpPr/>
          <p:nvPr/>
        </p:nvSpPr>
        <p:spPr>
          <a:xfrm>
            <a:off x="5999040" y="557280"/>
            <a:ext cx="846360" cy="331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1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34"/>
          <p:cNvSpPr/>
          <p:nvPr/>
        </p:nvSpPr>
        <p:spPr>
          <a:xfrm flipV="1">
            <a:off x="4971960" y="2760840"/>
            <a:ext cx="1112760" cy="154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35"/>
          <p:cNvSpPr/>
          <p:nvPr/>
        </p:nvSpPr>
        <p:spPr>
          <a:xfrm flipH="1" flipV="1">
            <a:off x="6486120" y="2741760"/>
            <a:ext cx="1274760" cy="154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36"/>
          <p:cNvSpPr/>
          <p:nvPr/>
        </p:nvSpPr>
        <p:spPr>
          <a:xfrm flipH="1" flipV="1">
            <a:off x="5162040" y="4505400"/>
            <a:ext cx="230508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AutoShape 37"/>
          <p:cNvSpPr/>
          <p:nvPr/>
        </p:nvSpPr>
        <p:spPr>
          <a:xfrm>
            <a:off x="6566040" y="2655720"/>
            <a:ext cx="846000" cy="33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7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AutoShape 38"/>
          <p:cNvSpPr/>
          <p:nvPr/>
        </p:nvSpPr>
        <p:spPr>
          <a:xfrm>
            <a:off x="7642080" y="3941640"/>
            <a:ext cx="846360" cy="33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7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AutoShape 39"/>
          <p:cNvSpPr/>
          <p:nvPr/>
        </p:nvSpPr>
        <p:spPr>
          <a:xfrm>
            <a:off x="6404040" y="4199040"/>
            <a:ext cx="846000" cy="331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8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40"/>
          <p:cNvSpPr/>
          <p:nvPr/>
        </p:nvSpPr>
        <p:spPr>
          <a:xfrm>
            <a:off x="5156280" y="4199040"/>
            <a:ext cx="846000" cy="331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8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41"/>
          <p:cNvSpPr/>
          <p:nvPr/>
        </p:nvSpPr>
        <p:spPr>
          <a:xfrm>
            <a:off x="4079880" y="3903840"/>
            <a:ext cx="846000" cy="331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9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AutoShape 42"/>
          <p:cNvSpPr/>
          <p:nvPr/>
        </p:nvSpPr>
        <p:spPr>
          <a:xfrm>
            <a:off x="4946760" y="2665440"/>
            <a:ext cx="846000" cy="33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223.1.9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title"/>
          </p:nvPr>
        </p:nvSpPr>
        <p:spPr>
          <a:xfrm>
            <a:off x="914040" y="228240"/>
            <a:ext cx="370188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ubn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44" descr="underline_base"/>
          <p:cNvPicPr/>
          <p:nvPr/>
        </p:nvPicPr>
        <p:blipFill>
          <a:blip r:embed="rId1"/>
          <a:stretch/>
        </p:blipFill>
        <p:spPr>
          <a:xfrm>
            <a:off x="1003320" y="855720"/>
            <a:ext cx="2011320" cy="173160"/>
          </a:xfrm>
          <a:prstGeom prst="rect">
            <a:avLst/>
          </a:prstGeom>
          <a:ln w="0">
            <a:noFill/>
          </a:ln>
        </p:spPr>
      </p:pic>
      <p:grpSp>
        <p:nvGrpSpPr>
          <p:cNvPr id="669" name="Group 45"/>
          <p:cNvGrpSpPr/>
          <p:nvPr/>
        </p:nvGrpSpPr>
        <p:grpSpPr>
          <a:xfrm>
            <a:off x="5924520" y="2378160"/>
            <a:ext cx="744480" cy="390600"/>
            <a:chOff x="5924520" y="2378160"/>
            <a:chExt cx="744480" cy="390600"/>
          </a:xfrm>
        </p:grpSpPr>
        <p:sp>
          <p:nvSpPr>
            <p:cNvPr id="670" name="AutoShape 46"/>
            <p:cNvSpPr/>
            <p:nvPr/>
          </p:nvSpPr>
          <p:spPr>
            <a:xfrm>
              <a:off x="5927760" y="2551320"/>
              <a:ext cx="738000" cy="21744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AutoShape 47"/>
            <p:cNvSpPr/>
            <p:nvPr/>
          </p:nvSpPr>
          <p:spPr>
            <a:xfrm>
              <a:off x="5927760" y="2526120"/>
              <a:ext cx="741240" cy="13536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AutoShape 48"/>
            <p:cNvSpPr/>
            <p:nvPr/>
          </p:nvSpPr>
          <p:spPr>
            <a:xfrm>
              <a:off x="5924520" y="2378160"/>
              <a:ext cx="739080" cy="25524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3" name="Group 49"/>
            <p:cNvGrpSpPr/>
            <p:nvPr/>
          </p:nvGrpSpPr>
          <p:grpSpPr>
            <a:xfrm>
              <a:off x="6072840" y="2444040"/>
              <a:ext cx="417600" cy="118080"/>
              <a:chOff x="6072840" y="2444040"/>
              <a:chExt cx="417600" cy="118080"/>
            </a:xfrm>
          </p:grpSpPr>
          <p:sp>
            <p:nvSpPr>
              <p:cNvPr id="674" name="AutoShape 50"/>
              <p:cNvSpPr/>
              <p:nvPr/>
            </p:nvSpPr>
            <p:spPr>
              <a:xfrm>
                <a:off x="6072840" y="2444040"/>
                <a:ext cx="417600" cy="1180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AutoShape 51"/>
              <p:cNvSpPr/>
              <p:nvPr/>
            </p:nvSpPr>
            <p:spPr>
              <a:xfrm>
                <a:off x="6091560" y="2444040"/>
                <a:ext cx="380160" cy="1180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Line 52"/>
            <p:cNvSpPr/>
            <p:nvPr/>
          </p:nvSpPr>
          <p:spPr>
            <a:xfrm>
              <a:off x="5927760" y="2497680"/>
              <a:ext cx="0" cy="17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53"/>
            <p:cNvSpPr/>
            <p:nvPr/>
          </p:nvSpPr>
          <p:spPr>
            <a:xfrm>
              <a:off x="6664680" y="2505600"/>
              <a:ext cx="0" cy="16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Group 54"/>
          <p:cNvGrpSpPr/>
          <p:nvPr/>
        </p:nvGrpSpPr>
        <p:grpSpPr>
          <a:xfrm>
            <a:off x="7459560" y="4270320"/>
            <a:ext cx="744480" cy="390600"/>
            <a:chOff x="7459560" y="4270320"/>
            <a:chExt cx="744480" cy="390600"/>
          </a:xfrm>
        </p:grpSpPr>
        <p:sp>
          <p:nvSpPr>
            <p:cNvPr id="679" name="AutoShape 55"/>
            <p:cNvSpPr/>
            <p:nvPr/>
          </p:nvSpPr>
          <p:spPr>
            <a:xfrm>
              <a:off x="7462800" y="4443480"/>
              <a:ext cx="738000" cy="21744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AutoShape 56"/>
            <p:cNvSpPr/>
            <p:nvPr/>
          </p:nvSpPr>
          <p:spPr>
            <a:xfrm>
              <a:off x="7462800" y="4418280"/>
              <a:ext cx="741240" cy="13536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AutoShape 57"/>
            <p:cNvSpPr/>
            <p:nvPr/>
          </p:nvSpPr>
          <p:spPr>
            <a:xfrm>
              <a:off x="7459560" y="4270320"/>
              <a:ext cx="739080" cy="25524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2" name="Group 58"/>
            <p:cNvGrpSpPr/>
            <p:nvPr/>
          </p:nvGrpSpPr>
          <p:grpSpPr>
            <a:xfrm>
              <a:off x="7607880" y="4336200"/>
              <a:ext cx="417600" cy="118080"/>
              <a:chOff x="7607880" y="4336200"/>
              <a:chExt cx="417600" cy="118080"/>
            </a:xfrm>
          </p:grpSpPr>
          <p:sp>
            <p:nvSpPr>
              <p:cNvPr id="683" name="AutoShape 59"/>
              <p:cNvSpPr/>
              <p:nvPr/>
            </p:nvSpPr>
            <p:spPr>
              <a:xfrm>
                <a:off x="7607880" y="4336200"/>
                <a:ext cx="417600" cy="1180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AutoShape 60"/>
              <p:cNvSpPr/>
              <p:nvPr/>
            </p:nvSpPr>
            <p:spPr>
              <a:xfrm>
                <a:off x="7626600" y="4336200"/>
                <a:ext cx="380160" cy="1180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5" name="Line 61"/>
            <p:cNvSpPr/>
            <p:nvPr/>
          </p:nvSpPr>
          <p:spPr>
            <a:xfrm>
              <a:off x="7462800" y="4389840"/>
              <a:ext cx="0" cy="17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62"/>
            <p:cNvSpPr/>
            <p:nvPr/>
          </p:nvSpPr>
          <p:spPr>
            <a:xfrm>
              <a:off x="8199720" y="4397760"/>
              <a:ext cx="0" cy="16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Group 63"/>
          <p:cNvGrpSpPr/>
          <p:nvPr/>
        </p:nvGrpSpPr>
        <p:grpSpPr>
          <a:xfrm>
            <a:off x="4467240" y="4278240"/>
            <a:ext cx="744480" cy="390600"/>
            <a:chOff x="4467240" y="4278240"/>
            <a:chExt cx="744480" cy="390600"/>
          </a:xfrm>
        </p:grpSpPr>
        <p:sp>
          <p:nvSpPr>
            <p:cNvPr id="688" name="AutoShape 64"/>
            <p:cNvSpPr/>
            <p:nvPr/>
          </p:nvSpPr>
          <p:spPr>
            <a:xfrm>
              <a:off x="4470480" y="4451400"/>
              <a:ext cx="738000" cy="21744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AutoShape 65"/>
            <p:cNvSpPr/>
            <p:nvPr/>
          </p:nvSpPr>
          <p:spPr>
            <a:xfrm>
              <a:off x="4470480" y="4426200"/>
              <a:ext cx="741240" cy="13536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AutoShape 66"/>
            <p:cNvSpPr/>
            <p:nvPr/>
          </p:nvSpPr>
          <p:spPr>
            <a:xfrm>
              <a:off x="4467240" y="4278240"/>
              <a:ext cx="739080" cy="25524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Group 67"/>
            <p:cNvGrpSpPr/>
            <p:nvPr/>
          </p:nvGrpSpPr>
          <p:grpSpPr>
            <a:xfrm>
              <a:off x="4615560" y="4344120"/>
              <a:ext cx="417600" cy="118080"/>
              <a:chOff x="4615560" y="4344120"/>
              <a:chExt cx="417600" cy="118080"/>
            </a:xfrm>
          </p:grpSpPr>
          <p:sp>
            <p:nvSpPr>
              <p:cNvPr id="692" name="AutoShape 68"/>
              <p:cNvSpPr/>
              <p:nvPr/>
            </p:nvSpPr>
            <p:spPr>
              <a:xfrm>
                <a:off x="4615560" y="4344120"/>
                <a:ext cx="417600" cy="1180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AutoShape 69"/>
              <p:cNvSpPr/>
              <p:nvPr/>
            </p:nvSpPr>
            <p:spPr>
              <a:xfrm>
                <a:off x="4634280" y="4344120"/>
                <a:ext cx="380160" cy="1180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Line 70"/>
            <p:cNvSpPr/>
            <p:nvPr/>
          </p:nvSpPr>
          <p:spPr>
            <a:xfrm>
              <a:off x="4470480" y="4397760"/>
              <a:ext cx="0" cy="17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Line 71"/>
            <p:cNvSpPr/>
            <p:nvPr/>
          </p:nvSpPr>
          <p:spPr>
            <a:xfrm>
              <a:off x="5207400" y="4405680"/>
              <a:ext cx="0" cy="16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72"/>
          <p:cNvGrpSpPr/>
          <p:nvPr/>
        </p:nvGrpSpPr>
        <p:grpSpPr>
          <a:xfrm>
            <a:off x="6696000" y="880920"/>
            <a:ext cx="641520" cy="559080"/>
            <a:chOff x="6696000" y="880920"/>
            <a:chExt cx="641520" cy="559080"/>
          </a:xfrm>
        </p:grpSpPr>
        <p:pic>
          <p:nvPicPr>
            <p:cNvPr id="697" name="Picture 7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6696000" y="8809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AutoShape 74"/>
            <p:cNvSpPr/>
            <p:nvPr/>
          </p:nvSpPr>
          <p:spPr>
            <a:xfrm flipH="1">
              <a:off x="6969240" y="934560"/>
              <a:ext cx="311760" cy="255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75"/>
          <p:cNvGrpSpPr/>
          <p:nvPr/>
        </p:nvGrpSpPr>
        <p:grpSpPr>
          <a:xfrm>
            <a:off x="5298840" y="898560"/>
            <a:ext cx="641160" cy="558720"/>
            <a:chOff x="5298840" y="898560"/>
            <a:chExt cx="641160" cy="558720"/>
          </a:xfrm>
        </p:grpSpPr>
        <p:pic>
          <p:nvPicPr>
            <p:cNvPr id="700" name="Picture 76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298840" y="8985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AutoShape 77"/>
            <p:cNvSpPr/>
            <p:nvPr/>
          </p:nvSpPr>
          <p:spPr>
            <a:xfrm flipH="1">
              <a:off x="5572440" y="951840"/>
              <a:ext cx="311760" cy="255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Group 78"/>
          <p:cNvGrpSpPr/>
          <p:nvPr/>
        </p:nvGrpSpPr>
        <p:grpSpPr>
          <a:xfrm>
            <a:off x="6130800" y="849240"/>
            <a:ext cx="641520" cy="558720"/>
            <a:chOff x="6130800" y="849240"/>
            <a:chExt cx="641520" cy="558720"/>
          </a:xfrm>
        </p:grpSpPr>
        <p:pic>
          <p:nvPicPr>
            <p:cNvPr id="703" name="Picture 79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130800" y="84924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AutoShape 80"/>
            <p:cNvSpPr/>
            <p:nvPr/>
          </p:nvSpPr>
          <p:spPr>
            <a:xfrm flipH="1">
              <a:off x="6404040" y="902520"/>
              <a:ext cx="311760" cy="255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Group 81"/>
          <p:cNvGrpSpPr/>
          <p:nvPr/>
        </p:nvGrpSpPr>
        <p:grpSpPr>
          <a:xfrm>
            <a:off x="7854840" y="5551560"/>
            <a:ext cx="641520" cy="558720"/>
            <a:chOff x="7854840" y="5551560"/>
            <a:chExt cx="641520" cy="558720"/>
          </a:xfrm>
        </p:grpSpPr>
        <p:pic>
          <p:nvPicPr>
            <p:cNvPr id="706" name="Picture 82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7854840" y="555156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AutoShape 83"/>
            <p:cNvSpPr/>
            <p:nvPr/>
          </p:nvSpPr>
          <p:spPr>
            <a:xfrm flipH="1">
              <a:off x="8128080" y="5604840"/>
              <a:ext cx="311760" cy="255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Group 84"/>
          <p:cNvGrpSpPr/>
          <p:nvPr/>
        </p:nvGrpSpPr>
        <p:grpSpPr>
          <a:xfrm>
            <a:off x="6903720" y="5514840"/>
            <a:ext cx="641160" cy="559080"/>
            <a:chOff x="6903720" y="5514840"/>
            <a:chExt cx="641160" cy="559080"/>
          </a:xfrm>
        </p:grpSpPr>
        <p:pic>
          <p:nvPicPr>
            <p:cNvPr id="709" name="Picture 85" descr="desktop_computer_stylized_medium"/>
            <p:cNvPicPr/>
            <p:nvPr/>
          </p:nvPicPr>
          <p:blipFill>
            <a:blip r:embed="rId6"/>
            <a:stretch/>
          </p:blipFill>
          <p:spPr>
            <a:xfrm flipH="1">
              <a:off x="6903720" y="551484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AutoShape 86"/>
            <p:cNvSpPr/>
            <p:nvPr/>
          </p:nvSpPr>
          <p:spPr>
            <a:xfrm flipH="1">
              <a:off x="7177320" y="5568480"/>
              <a:ext cx="311760" cy="255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Group 87"/>
          <p:cNvGrpSpPr/>
          <p:nvPr/>
        </p:nvGrpSpPr>
        <p:grpSpPr>
          <a:xfrm>
            <a:off x="3877920" y="5522760"/>
            <a:ext cx="641160" cy="559080"/>
            <a:chOff x="3877920" y="5522760"/>
            <a:chExt cx="641160" cy="559080"/>
          </a:xfrm>
        </p:grpSpPr>
        <p:pic>
          <p:nvPicPr>
            <p:cNvPr id="712" name="Picture 88" descr="desktop_computer_stylized_medium"/>
            <p:cNvPicPr/>
            <p:nvPr/>
          </p:nvPicPr>
          <p:blipFill>
            <a:blip r:embed="rId7"/>
            <a:stretch/>
          </p:blipFill>
          <p:spPr>
            <a:xfrm flipH="1">
              <a:off x="3877920" y="552276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AutoShape 89"/>
            <p:cNvSpPr/>
            <p:nvPr/>
          </p:nvSpPr>
          <p:spPr>
            <a:xfrm flipH="1">
              <a:off x="4151520" y="5576400"/>
              <a:ext cx="311760" cy="255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Group 90"/>
          <p:cNvGrpSpPr/>
          <p:nvPr/>
        </p:nvGrpSpPr>
        <p:grpSpPr>
          <a:xfrm>
            <a:off x="4800600" y="5564160"/>
            <a:ext cx="641520" cy="558720"/>
            <a:chOff x="4800600" y="5564160"/>
            <a:chExt cx="641520" cy="558720"/>
          </a:xfrm>
        </p:grpSpPr>
        <p:pic>
          <p:nvPicPr>
            <p:cNvPr id="715" name="Picture 91" descr="desktop_computer_stylized_medium"/>
            <p:cNvPicPr/>
            <p:nvPr/>
          </p:nvPicPr>
          <p:blipFill>
            <a:blip r:embed="rId8"/>
            <a:stretch/>
          </p:blipFill>
          <p:spPr>
            <a:xfrm flipH="1">
              <a:off x="4800600" y="556416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AutoShape 92"/>
            <p:cNvSpPr/>
            <p:nvPr/>
          </p:nvSpPr>
          <p:spPr>
            <a:xfrm flipH="1">
              <a:off x="5073840" y="5617440"/>
              <a:ext cx="311760" cy="255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Slide Number Placeholder 94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5F88-02B4-4C8D-B140-0BE82CDF69A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AutoShape 1"/>
          <p:cNvSpPr/>
          <p:nvPr/>
        </p:nvSpPr>
        <p:spPr>
          <a:xfrm>
            <a:off x="7429680" y="6494400"/>
            <a:ext cx="206352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E837-10E5-4FF6-AD04-140C1AD58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/>
          </p:nvPr>
        </p:nvSpPr>
        <p:spPr>
          <a:xfrm>
            <a:off x="495000" y="1599840"/>
            <a:ext cx="89154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30120" indent="-330120">
              <a:lnSpc>
                <a:spcPct val="100000"/>
              </a:lnSpc>
              <a:spcBef>
                <a:spcPts val="499"/>
              </a:spcBef>
              <a:buClr>
                <a:srgbClr val="9521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52193"/>
                </a:solidFill>
                <a:latin typeface="Times New Roman"/>
                <a:ea typeface="Times New Roman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address is stored in S.Addr, D.Addr fields in IP heade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erarchical, unlike Ethernet address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s of network and host portio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330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(prefix): same for all hosts in network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330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guous block of IP address spac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ted decimal notation: e.g. 128.208.2.151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title"/>
          </p:nvPr>
        </p:nvSpPr>
        <p:spPr>
          <a:xfrm>
            <a:off x="495000" y="90360"/>
            <a:ext cx="891540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Sub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lide Number Placeholder 5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5F09-7E00-4FEC-85FB-9BB821F2BF1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66400" y="799920"/>
            <a:ext cx="8420040" cy="9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Sub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79440" y="2027160"/>
            <a:ext cx="870408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es are allocated in blocks called prefi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fix is determined by the network p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2</a:t>
            </a:r>
            <a:r>
              <a:rPr b="0" lang="en-US" sz="2400" spc="-1" strike="noStrike" baseline="32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dresses aligned on 2</a:t>
            </a:r>
            <a:r>
              <a:rPr b="0" lang="en-US" sz="2400" spc="-1" strike="noStrike" baseline="32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ou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/length        ===&gt;        e.g.             18.0.31.0/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AutoShape 3"/>
          <p:cNvSpPr/>
          <p:nvPr/>
        </p:nvSpPr>
        <p:spPr>
          <a:xfrm>
            <a:off x="743040" y="6494400"/>
            <a:ext cx="206352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AutoShape 4"/>
          <p:cNvSpPr/>
          <p:nvPr/>
        </p:nvSpPr>
        <p:spPr>
          <a:xfrm>
            <a:off x="3384720" y="6570720"/>
            <a:ext cx="313668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T14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Slide Number Placeholder 7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BF01-8158-4836-B461-1EFA206D58E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1"/>
          <p:cNvSpPr/>
          <p:nvPr/>
        </p:nvSpPr>
        <p:spPr>
          <a:xfrm>
            <a:off x="743040" y="6494400"/>
            <a:ext cx="206352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2"/>
          <p:cNvSpPr/>
          <p:nvPr/>
        </p:nvSpPr>
        <p:spPr>
          <a:xfrm>
            <a:off x="3384720" y="6570720"/>
            <a:ext cx="313668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T14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6400" y="930240"/>
            <a:ext cx="842004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33ff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9840" y="1888920"/>
            <a:ext cx="8505720" cy="46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9880" indent="-2998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gram format, fragmentation and assembl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addressing: Classes, Subne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DR: Classless Interdomain Rout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HCP: Dynamic Host Configuration Protoco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7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78E5-EB9F-400E-9454-68E9EC73A53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AutoShape 1"/>
          <p:cNvSpPr/>
          <p:nvPr/>
        </p:nvSpPr>
        <p:spPr>
          <a:xfrm>
            <a:off x="743040" y="6494400"/>
            <a:ext cx="206352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2"/>
          <p:cNvSpPr/>
          <p:nvPr/>
        </p:nvSpPr>
        <p:spPr>
          <a:xfrm>
            <a:off x="3384720" y="6570720"/>
            <a:ext cx="313668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T14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66760" y="799920"/>
            <a:ext cx="8672400" cy="9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Sub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742680" y="1979280"/>
            <a:ext cx="84200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8800" indent="-388800" algn="r">
              <a:lnSpc>
                <a:spcPct val="100000"/>
              </a:lnSpc>
              <a:spcBef>
                <a:spcPts val="4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المثال التالي، تجزئ الخانات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خاصة </a:t>
            </a:r>
            <a:r>
              <a:rPr b="0" lang="en-US" sz="2400" spc="-1" strike="noStrike">
                <a:solidFill>
                  <a:srgbClr val="800000"/>
                </a:solidFill>
                <a:latin typeface="Times New Roman Bold"/>
              </a:rPr>
              <a:t>برقم الطرفي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ف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Address (Class 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لى قسمين، القسم الأول مكون من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تات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cs typeface="Times New Roman"/>
              </a:rPr>
              <a:t>للدلالة على الشبكة الجزئي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قسم الثاني مكون من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تات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cs typeface="Times New Roman"/>
              </a:rPr>
              <a:t>للدلالة على الطرفية في تلك الشبكة الجزئي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Group 6"/>
          <p:cNvGrpSpPr/>
          <p:nvPr/>
        </p:nvGrpSpPr>
        <p:grpSpPr>
          <a:xfrm>
            <a:off x="1211400" y="3347640"/>
            <a:ext cx="6567480" cy="2750040"/>
            <a:chOff x="1211400" y="3347640"/>
            <a:chExt cx="6567480" cy="2750040"/>
          </a:xfrm>
        </p:grpSpPr>
        <p:grpSp>
          <p:nvGrpSpPr>
            <p:cNvPr id="732" name="Group 7"/>
            <p:cNvGrpSpPr/>
            <p:nvPr/>
          </p:nvGrpSpPr>
          <p:grpSpPr>
            <a:xfrm>
              <a:off x="2606400" y="3741480"/>
              <a:ext cx="318960" cy="525240"/>
              <a:chOff x="2606400" y="3741480"/>
              <a:chExt cx="318960" cy="525240"/>
            </a:xfrm>
          </p:grpSpPr>
          <p:sp>
            <p:nvSpPr>
              <p:cNvPr id="733" name="AutoShape 8"/>
              <p:cNvSpPr/>
              <p:nvPr/>
            </p:nvSpPr>
            <p:spPr>
              <a:xfrm>
                <a:off x="2606400" y="3741480"/>
                <a:ext cx="318960" cy="525240"/>
              </a:xfrm>
              <a:prstGeom prst="pi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AutoShape 9"/>
              <p:cNvSpPr/>
              <p:nvPr/>
            </p:nvSpPr>
            <p:spPr>
              <a:xfrm>
                <a:off x="2606400" y="3875400"/>
                <a:ext cx="318960" cy="257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 Bold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Group 10"/>
            <p:cNvGrpSpPr/>
            <p:nvPr/>
          </p:nvGrpSpPr>
          <p:grpSpPr>
            <a:xfrm>
              <a:off x="2922480" y="3727080"/>
              <a:ext cx="2279160" cy="528480"/>
              <a:chOff x="2922480" y="3727080"/>
              <a:chExt cx="2279160" cy="528480"/>
            </a:xfrm>
          </p:grpSpPr>
          <p:sp>
            <p:nvSpPr>
              <p:cNvPr id="736" name="AutoShape 11"/>
              <p:cNvSpPr/>
              <p:nvPr/>
            </p:nvSpPr>
            <p:spPr>
              <a:xfrm>
                <a:off x="2922480" y="3727080"/>
                <a:ext cx="2279160" cy="528480"/>
              </a:xfrm>
              <a:prstGeom prst="pi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AutoShape 12"/>
              <p:cNvSpPr/>
              <p:nvPr/>
            </p:nvSpPr>
            <p:spPr>
              <a:xfrm>
                <a:off x="2922480" y="3836520"/>
                <a:ext cx="2279160" cy="309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Arial"/>
                    <a:cs typeface="Arial"/>
                  </a:rPr>
                  <a:t>شبك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8" name="Group 13"/>
            <p:cNvGrpSpPr/>
            <p:nvPr/>
          </p:nvGrpSpPr>
          <p:grpSpPr>
            <a:xfrm>
              <a:off x="5185800" y="3727080"/>
              <a:ext cx="2590200" cy="528480"/>
              <a:chOff x="5185800" y="3727080"/>
              <a:chExt cx="2590200" cy="528480"/>
            </a:xfrm>
          </p:grpSpPr>
          <p:sp>
            <p:nvSpPr>
              <p:cNvPr id="739" name="AutoShape 14"/>
              <p:cNvSpPr/>
              <p:nvPr/>
            </p:nvSpPr>
            <p:spPr>
              <a:xfrm>
                <a:off x="5185800" y="3727080"/>
                <a:ext cx="2590200" cy="528480"/>
              </a:xfrm>
              <a:prstGeom prst="pi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AutoShape 15"/>
              <p:cNvSpPr/>
              <p:nvPr/>
            </p:nvSpPr>
            <p:spPr>
              <a:xfrm>
                <a:off x="5185800" y="3836520"/>
                <a:ext cx="2590200" cy="309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Arial"/>
                    <a:cs typeface="Arial"/>
                  </a:rPr>
                  <a:t>طرفي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1" name="AutoShape 16"/>
            <p:cNvSpPr/>
            <p:nvPr/>
          </p:nvSpPr>
          <p:spPr>
            <a:xfrm>
              <a:off x="1235160" y="3904200"/>
              <a:ext cx="1136160" cy="25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00"/>
                  </a:solidFill>
                  <a:latin typeface="Times New Roman Bold"/>
                </a:rPr>
                <a:t>Class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17"/>
            <p:cNvSpPr/>
            <p:nvPr/>
          </p:nvSpPr>
          <p:spPr>
            <a:xfrm flipV="1">
              <a:off x="5203080" y="3347640"/>
              <a:ext cx="0" cy="2588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AutoShape 18"/>
            <p:cNvSpPr/>
            <p:nvPr/>
          </p:nvSpPr>
          <p:spPr>
            <a:xfrm>
              <a:off x="1211400" y="5183640"/>
              <a:ext cx="1136160" cy="25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00"/>
                  </a:solidFill>
                  <a:latin typeface="Times New Roman Bold"/>
                </a:rPr>
                <a:t>Class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19"/>
            <p:cNvSpPr/>
            <p:nvPr/>
          </p:nvSpPr>
          <p:spPr>
            <a:xfrm flipV="1">
              <a:off x="7778880" y="3442680"/>
              <a:ext cx="0" cy="2547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5" name="Group 20"/>
            <p:cNvGrpSpPr/>
            <p:nvPr/>
          </p:nvGrpSpPr>
          <p:grpSpPr>
            <a:xfrm>
              <a:off x="2603160" y="5022360"/>
              <a:ext cx="318960" cy="544320"/>
              <a:chOff x="2603160" y="5022360"/>
              <a:chExt cx="318960" cy="544320"/>
            </a:xfrm>
          </p:grpSpPr>
          <p:sp>
            <p:nvSpPr>
              <p:cNvPr id="746" name="AutoShape 21"/>
              <p:cNvSpPr/>
              <p:nvPr/>
            </p:nvSpPr>
            <p:spPr>
              <a:xfrm>
                <a:off x="2603160" y="5022360"/>
                <a:ext cx="318960" cy="544320"/>
              </a:xfrm>
              <a:prstGeom prst="pi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AutoShape 22"/>
              <p:cNvSpPr/>
              <p:nvPr/>
            </p:nvSpPr>
            <p:spPr>
              <a:xfrm>
                <a:off x="2603160" y="5166000"/>
                <a:ext cx="318960" cy="257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 Bold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8" name="Group 23"/>
            <p:cNvGrpSpPr/>
            <p:nvPr/>
          </p:nvGrpSpPr>
          <p:grpSpPr>
            <a:xfrm>
              <a:off x="2919240" y="5027400"/>
              <a:ext cx="2279160" cy="528480"/>
              <a:chOff x="2919240" y="5027400"/>
              <a:chExt cx="2279160" cy="528480"/>
            </a:xfrm>
          </p:grpSpPr>
          <p:sp>
            <p:nvSpPr>
              <p:cNvPr id="749" name="AutoShape 24"/>
              <p:cNvSpPr/>
              <p:nvPr/>
            </p:nvSpPr>
            <p:spPr>
              <a:xfrm>
                <a:off x="2919240" y="5027400"/>
                <a:ext cx="2279160" cy="528480"/>
              </a:xfrm>
              <a:prstGeom prst="pi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AutoShape 25"/>
              <p:cNvSpPr/>
              <p:nvPr/>
            </p:nvSpPr>
            <p:spPr>
              <a:xfrm>
                <a:off x="2919240" y="5136840"/>
                <a:ext cx="2279160" cy="309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Arial"/>
                    <a:cs typeface="Arial"/>
                  </a:rPr>
                  <a:t>شبك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1" name="Group 26"/>
            <p:cNvGrpSpPr/>
            <p:nvPr/>
          </p:nvGrpSpPr>
          <p:grpSpPr>
            <a:xfrm>
              <a:off x="6277680" y="5027400"/>
              <a:ext cx="1498320" cy="528480"/>
              <a:chOff x="6277680" y="5027400"/>
              <a:chExt cx="1498320" cy="528480"/>
            </a:xfrm>
          </p:grpSpPr>
          <p:sp>
            <p:nvSpPr>
              <p:cNvPr id="752" name="AutoShape 27"/>
              <p:cNvSpPr/>
              <p:nvPr/>
            </p:nvSpPr>
            <p:spPr>
              <a:xfrm>
                <a:off x="6277680" y="5027400"/>
                <a:ext cx="1498320" cy="528480"/>
              </a:xfrm>
              <a:prstGeom prst="pi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AutoShape 28"/>
              <p:cNvSpPr/>
              <p:nvPr/>
            </p:nvSpPr>
            <p:spPr>
              <a:xfrm>
                <a:off x="6277680" y="5136840"/>
                <a:ext cx="1498320" cy="309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Arial"/>
                    <a:cs typeface="Arial"/>
                  </a:rPr>
                  <a:t>طرفي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4" name="Line 29"/>
            <p:cNvSpPr/>
            <p:nvPr/>
          </p:nvSpPr>
          <p:spPr>
            <a:xfrm flipV="1">
              <a:off x="2602800" y="3403440"/>
              <a:ext cx="0" cy="2528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AutoShape 30"/>
            <p:cNvSpPr/>
            <p:nvPr/>
          </p:nvSpPr>
          <p:spPr>
            <a:xfrm>
              <a:off x="6069960" y="4414680"/>
              <a:ext cx="563400" cy="409320"/>
            </a:xfrm>
            <a:prstGeom prst="pie">
              <a:avLst/>
            </a:prstGeom>
            <a:solidFill>
              <a:srgbClr val="e5d09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6" name="Group 31"/>
            <p:cNvGrpSpPr/>
            <p:nvPr/>
          </p:nvGrpSpPr>
          <p:grpSpPr>
            <a:xfrm>
              <a:off x="5187240" y="4969800"/>
              <a:ext cx="1088640" cy="642960"/>
              <a:chOff x="5187240" y="4969800"/>
              <a:chExt cx="1088640" cy="642960"/>
            </a:xfrm>
          </p:grpSpPr>
          <p:sp>
            <p:nvSpPr>
              <p:cNvPr id="757" name="AutoShape 32"/>
              <p:cNvSpPr/>
              <p:nvPr/>
            </p:nvSpPr>
            <p:spPr>
              <a:xfrm>
                <a:off x="5187240" y="5027040"/>
                <a:ext cx="1088640" cy="528480"/>
              </a:xfrm>
              <a:prstGeom prst="pie">
                <a:avLst/>
              </a:prstGeom>
              <a:solidFill>
                <a:srgbClr val="99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AutoShape 33"/>
              <p:cNvSpPr/>
              <p:nvPr/>
            </p:nvSpPr>
            <p:spPr>
              <a:xfrm>
                <a:off x="5187240" y="4969800"/>
                <a:ext cx="1088640" cy="642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Arial"/>
                    <a:cs typeface="Arial"/>
                  </a:rPr>
                  <a:t>شبكة جزئي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" name="Line 34"/>
            <p:cNvSpPr/>
            <p:nvPr/>
          </p:nvSpPr>
          <p:spPr>
            <a:xfrm>
              <a:off x="5193720" y="5738400"/>
              <a:ext cx="111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AutoShape 35"/>
            <p:cNvSpPr/>
            <p:nvPr/>
          </p:nvSpPr>
          <p:spPr>
            <a:xfrm>
              <a:off x="5174640" y="5841000"/>
              <a:ext cx="1136160" cy="25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6 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36"/>
            <p:cNvSpPr/>
            <p:nvPr/>
          </p:nvSpPr>
          <p:spPr>
            <a:xfrm>
              <a:off x="6282720" y="5563800"/>
              <a:ext cx="0" cy="388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37"/>
            <p:cNvSpPr/>
            <p:nvPr/>
          </p:nvSpPr>
          <p:spPr>
            <a:xfrm>
              <a:off x="6338160" y="5736600"/>
              <a:ext cx="142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AutoShape 38"/>
            <p:cNvSpPr/>
            <p:nvPr/>
          </p:nvSpPr>
          <p:spPr>
            <a:xfrm>
              <a:off x="6476400" y="5839200"/>
              <a:ext cx="1136160" cy="25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10 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Slide Number Placeholder 40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86DA-2285-4ECE-B2A5-23757487311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AutoShape 8"/>
          <p:cNvSpPr/>
          <p:nvPr/>
        </p:nvSpPr>
        <p:spPr>
          <a:xfrm>
            <a:off x="471600" y="5943600"/>
            <a:ext cx="2063520" cy="719280"/>
          </a:xfrm>
          <a:prstGeom prst="pie">
            <a:avLst/>
          </a:prstGeom>
          <a:noFill/>
          <a:ln w="25560">
            <a:solidFill>
              <a:srgbClr val="b5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eference: This slide is created by Dr. Mohammad Arafa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AutoShape 2"/>
          <p:cNvSpPr/>
          <p:nvPr/>
        </p:nvSpPr>
        <p:spPr>
          <a:xfrm>
            <a:off x="1979640" y="3314880"/>
            <a:ext cx="7078680" cy="1387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33ff"/>
                </a:solidFill>
                <a:latin typeface="Gill Sans MT"/>
              </a:rPr>
              <a:t>CID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33ff"/>
                </a:solidFill>
                <a:latin typeface="Gill Sans MT"/>
              </a:rPr>
              <a:t> </a:t>
            </a:r>
            <a:r>
              <a:rPr b="0" lang="en-US" sz="4400" spc="-1" strike="noStrike">
                <a:solidFill>
                  <a:srgbClr val="0433ff"/>
                </a:solidFill>
                <a:latin typeface="Gill Sans MT"/>
              </a:rPr>
              <a:t>Classless Interdomain Rou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Slide Number Placeholder 4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6186-0861-40F1-826A-7C584EE5248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9" name="Picture 4" descr="underline_base"/>
          <p:cNvPicPr/>
          <p:nvPr/>
        </p:nvPicPr>
        <p:blipFill>
          <a:blip r:embed="rId1"/>
          <a:stretch/>
        </p:blipFill>
        <p:spPr>
          <a:xfrm>
            <a:off x="922320" y="8730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80920" y="19512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addressing: CI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945720" y="1528920"/>
            <a:ext cx="8107560" cy="31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CIDR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ssless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ter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main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33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bnet portion of address of arbitrary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33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ress format: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a.b.c.d/x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where x is # bits in subnet portion of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7"/>
          <p:cNvSpPr/>
          <p:nvPr/>
        </p:nvSpPr>
        <p:spPr>
          <a:xfrm>
            <a:off x="1704960" y="4459320"/>
            <a:ext cx="4141800" cy="357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Gill Sans MT"/>
              </a:rPr>
              <a:t>11001000  00010111  0001000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0  00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AutoShape 8"/>
          <p:cNvSpPr/>
          <p:nvPr/>
        </p:nvSpPr>
        <p:spPr>
          <a:xfrm>
            <a:off x="3409920" y="3914640"/>
            <a:ext cx="782640" cy="623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Gill Sans MT"/>
              </a:rPr>
              <a:t>sub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Gill Sans MT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AutoShape 9"/>
          <p:cNvSpPr/>
          <p:nvPr/>
        </p:nvSpPr>
        <p:spPr>
          <a:xfrm>
            <a:off x="6667560" y="3878280"/>
            <a:ext cx="573120" cy="623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Line 10"/>
          <p:cNvSpPr/>
          <p:nvPr/>
        </p:nvSpPr>
        <p:spPr>
          <a:xfrm>
            <a:off x="4373640" y="4224240"/>
            <a:ext cx="162072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11"/>
          <p:cNvSpPr/>
          <p:nvPr/>
        </p:nvSpPr>
        <p:spPr>
          <a:xfrm>
            <a:off x="7164360" y="4213080"/>
            <a:ext cx="595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AutoShape 12"/>
          <p:cNvSpPr/>
          <p:nvPr/>
        </p:nvSpPr>
        <p:spPr>
          <a:xfrm>
            <a:off x="3641760" y="5045040"/>
            <a:ext cx="1460520" cy="357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200.23.16.0/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Line 13"/>
          <p:cNvSpPr/>
          <p:nvPr/>
        </p:nvSpPr>
        <p:spPr>
          <a:xfrm flipH="1">
            <a:off x="1774440" y="4214880"/>
            <a:ext cx="14382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Line 14"/>
          <p:cNvSpPr/>
          <p:nvPr/>
        </p:nvSpPr>
        <p:spPr>
          <a:xfrm flipH="1">
            <a:off x="6033960" y="422604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Slide Number Placeholder 16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1A88-4784-440C-804A-B65102EB195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Picture 4" descr="underline_base"/>
          <p:cNvPicPr/>
          <p:nvPr/>
        </p:nvPicPr>
        <p:blipFill>
          <a:blip r:embed="rId1"/>
          <a:stretch/>
        </p:blipFill>
        <p:spPr>
          <a:xfrm>
            <a:off x="922320" y="8730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880920" y="19512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lang="en-US" sz="3800" spc="-1" strike="noStrike">
                <a:solidFill>
                  <a:srgbClr val="000099"/>
                </a:solidFill>
                <a:latin typeface="Gill Sans MT"/>
              </a:rPr>
              <a:t>Classless Interdomain Routing : CID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898560" y="1494000"/>
            <a:ext cx="81072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9360" indent="-2793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eneralizes the notation of subnet addres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 within the subnet addressing, the 32-bit address is divided into two parts (net#, host # ) and has the dotted decimal form (a.b.c.d/x), where x indicates the number of bits in the first part of the addr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IDR replaces Classful addressing, where the network portion of IP addresses were constrained to 8, 16, or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assful addressing waists IP addres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lide Number Placeholder 8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6CA7-5308-4673-A08D-5747F3CAF2B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AutoShape 2"/>
          <p:cNvSpPr/>
          <p:nvPr/>
        </p:nvSpPr>
        <p:spPr>
          <a:xfrm>
            <a:off x="5913360" y="6467400"/>
            <a:ext cx="28940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8" name="Picture 4" descr="underline_base"/>
          <p:cNvPicPr/>
          <p:nvPr/>
        </p:nvPicPr>
        <p:blipFill>
          <a:blip r:embed="rId1"/>
          <a:stretch/>
        </p:blipFill>
        <p:spPr>
          <a:xfrm>
            <a:off x="922320" y="8730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80920" y="19512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lang="en-US" sz="3800" spc="-1" strike="noStrike">
                <a:solidFill>
                  <a:srgbClr val="000099"/>
                </a:solidFill>
                <a:latin typeface="Gill Sans MT"/>
              </a:rPr>
              <a:t>Classless Interdomain Routing : CID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98560" y="1493640"/>
            <a:ext cx="810720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9360" indent="-2793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st organizations needs more than class C but less than class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IDR allocates IP address blocks of variable size without regard to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793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site needs 2000 addres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sign a block of 2048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ith CIDR address lookup is more complic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lide Number Placeholder 8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18DB-AC51-4C5D-ADDD-0BDC8B94D50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AutoShape 1"/>
          <p:cNvSpPr/>
          <p:nvPr/>
        </p:nvSpPr>
        <p:spPr>
          <a:xfrm>
            <a:off x="743040" y="6494400"/>
            <a:ext cx="206352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utoShape 2"/>
          <p:cNvSpPr/>
          <p:nvPr/>
        </p:nvSpPr>
        <p:spPr>
          <a:xfrm>
            <a:off x="3384720" y="6570720"/>
            <a:ext cx="313668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T14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66760" y="779400"/>
            <a:ext cx="86724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33ff"/>
                </a:solidFill>
                <a:latin typeface="Times New Roman"/>
                <a:ea typeface="Times New Roman"/>
              </a:rPr>
              <a:t>CIDR Ex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011240" y="1573200"/>
            <a:ext cx="8096400" cy="46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 algn="r">
              <a:lnSpc>
                <a:spcPct val="100000"/>
              </a:lnSpc>
              <a:spcBef>
                <a:spcPts val="499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3399"/>
                </a:solidFill>
                <a:uFillTx/>
                <a:latin typeface="Times New Roman Bold"/>
              </a:rPr>
              <a:t>مثال </a:t>
            </a:r>
            <a:r>
              <a:rPr b="0" lang="en-US" sz="2200" spc="-1" strike="noStrike" u="sng">
                <a:solidFill>
                  <a:srgbClr val="003399"/>
                </a:solidFill>
                <a:uFillTx/>
                <a:latin typeface="Times New Roman Bold"/>
              </a:rPr>
              <a:t>6</a:t>
            </a:r>
            <a:r>
              <a:rPr b="0" lang="en-US" sz="2200" spc="-1" strike="noStrike" u="sng">
                <a:solidFill>
                  <a:srgbClr val="003399"/>
                </a:solidFill>
                <a:uFillTx/>
                <a:latin typeface="Times New Roman Bold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قناع الشبكة الفرعية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ubnet Mask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</a:t>
            </a:r>
            <a:r>
              <a:rPr b="0" lang="en-US" sz="2200" spc="-1" strike="noStrike">
                <a:solidFill>
                  <a:srgbClr val="003399"/>
                </a:solidFill>
                <a:latin typeface="Times New Roman Bold"/>
              </a:rPr>
              <a:t>(/</a:t>
            </a:r>
            <a:r>
              <a:rPr b="0" lang="en-US" sz="2200" spc="-1" strike="noStrike">
                <a:solidFill>
                  <a:srgbClr val="003399"/>
                </a:solidFill>
                <a:latin typeface="Times New Roman Bold"/>
              </a:rPr>
              <a:t>30</a:t>
            </a:r>
            <a:r>
              <a:rPr b="0" lang="en-US" sz="2200" spc="-1" strike="noStrike">
                <a:solidFill>
                  <a:srgbClr val="003399"/>
                </a:solidFill>
                <a:latin typeface="Times New Roman Bold"/>
              </a:rPr>
              <a:t>)</a:t>
            </a:r>
            <a:r>
              <a:rPr b="0" lang="en-US" sz="2200" spc="-1" strike="noStrike">
                <a:solidFill>
                  <a:srgbClr val="003399"/>
                </a:solidFill>
                <a:latin typeface="Times New Roman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6" name="Group 6"/>
          <p:cNvGrpSpPr/>
          <p:nvPr/>
        </p:nvGrpSpPr>
        <p:grpSpPr>
          <a:xfrm>
            <a:off x="652320" y="2711520"/>
            <a:ext cx="9023400" cy="1711080"/>
            <a:chOff x="652320" y="2711520"/>
            <a:chExt cx="9023400" cy="1711080"/>
          </a:xfrm>
        </p:grpSpPr>
        <p:grpSp>
          <p:nvGrpSpPr>
            <p:cNvPr id="797" name="Group 7"/>
            <p:cNvGrpSpPr/>
            <p:nvPr/>
          </p:nvGrpSpPr>
          <p:grpSpPr>
            <a:xfrm>
              <a:off x="3728520" y="3055680"/>
              <a:ext cx="5778000" cy="369720"/>
              <a:chOff x="3728520" y="3055680"/>
              <a:chExt cx="5778000" cy="369720"/>
            </a:xfrm>
          </p:grpSpPr>
          <p:sp>
            <p:nvSpPr>
              <p:cNvPr id="798" name="AutoShape 8"/>
              <p:cNvSpPr/>
              <p:nvPr/>
            </p:nvSpPr>
            <p:spPr>
              <a:xfrm>
                <a:off x="3728520" y="3055680"/>
                <a:ext cx="5778000" cy="369720"/>
              </a:xfrm>
              <a:prstGeom prst="pie">
                <a:avLst/>
              </a:prstGeom>
              <a:solidFill>
                <a:srgbClr val="99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AutoShape 9"/>
              <p:cNvSpPr/>
              <p:nvPr/>
            </p:nvSpPr>
            <p:spPr>
              <a:xfrm>
                <a:off x="3728520" y="3099960"/>
                <a:ext cx="4918680" cy="281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 Bold"/>
                  </a:rPr>
                  <a:t>11111111 .  11111111  .  11111111   .   111111   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0" name="AutoShape 10"/>
            <p:cNvSpPr/>
            <p:nvPr/>
          </p:nvSpPr>
          <p:spPr>
            <a:xfrm>
              <a:off x="968040" y="2938320"/>
              <a:ext cx="1711080" cy="348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990000"/>
                  </a:solidFill>
                  <a:latin typeface="Times New Roman Bold"/>
                  <a:cs typeface="Arial"/>
                </a:rPr>
                <a:t>قناع الشبكة الفرعي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11"/>
            <p:cNvSpPr/>
            <p:nvPr/>
          </p:nvSpPr>
          <p:spPr>
            <a:xfrm>
              <a:off x="3353760" y="3756960"/>
              <a:ext cx="49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12"/>
            <p:cNvSpPr/>
            <p:nvPr/>
          </p:nvSpPr>
          <p:spPr>
            <a:xfrm>
              <a:off x="8354160" y="3752280"/>
              <a:ext cx="52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AutoShape 13"/>
            <p:cNvSpPr/>
            <p:nvPr/>
          </p:nvSpPr>
          <p:spPr>
            <a:xfrm>
              <a:off x="5252400" y="3861720"/>
              <a:ext cx="1614240" cy="348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990000"/>
                  </a:solidFill>
                  <a:latin typeface="Times New Roman Bold"/>
                  <a:cs typeface="Arial"/>
                </a:rPr>
                <a:t>ثابتة (رقم الشبكة</a:t>
              </a:r>
              <a:r>
                <a:rPr b="0" lang="en-US" sz="1800" spc="-1" strike="noStrike">
                  <a:solidFill>
                    <a:srgbClr val="990000"/>
                  </a:solidFill>
                  <a:latin typeface="Times New Roman Bold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AutoShape 14"/>
            <p:cNvSpPr/>
            <p:nvPr/>
          </p:nvSpPr>
          <p:spPr>
            <a:xfrm>
              <a:off x="8332920" y="3782520"/>
              <a:ext cx="1342800" cy="64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990000"/>
                  </a:solidFill>
                  <a:latin typeface="Times New Roman Bold"/>
                  <a:cs typeface="Arial"/>
                </a:rPr>
                <a:t>متغيرة</a:t>
              </a:r>
              <a:r>
                <a:rPr b="0" lang="en-US" sz="1800" spc="-1" strike="noStrike">
                  <a:solidFill>
                    <a:srgbClr val="990000"/>
                  </a:solidFill>
                  <a:latin typeface="Times New Roman Bol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00"/>
                  </a:solidFill>
                  <a:latin typeface="Times New Roman Bold"/>
                </a:rPr>
                <a:t>(</a:t>
              </a:r>
              <a:r>
                <a:rPr b="0" lang="ar-SA" sz="1800" spc="-1" strike="noStrike">
                  <a:solidFill>
                    <a:srgbClr val="990000"/>
                  </a:solidFill>
                  <a:latin typeface="Times New Roman Bold"/>
                  <a:cs typeface="Arial"/>
                </a:rPr>
                <a:t>رقم الطرفية</a:t>
              </a:r>
              <a:r>
                <a:rPr b="0" lang="en-US" sz="1800" spc="-1" strike="noStrike">
                  <a:solidFill>
                    <a:srgbClr val="990000"/>
                  </a:solidFill>
                  <a:latin typeface="Times New Roman Bold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15"/>
            <p:cNvSpPr/>
            <p:nvPr/>
          </p:nvSpPr>
          <p:spPr>
            <a:xfrm>
              <a:off x="8322480" y="2793960"/>
              <a:ext cx="1440" cy="1340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16"/>
            <p:cNvSpPr/>
            <p:nvPr/>
          </p:nvSpPr>
          <p:spPr>
            <a:xfrm>
              <a:off x="8879400" y="2800080"/>
              <a:ext cx="1440" cy="130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17"/>
            <p:cNvSpPr/>
            <p:nvPr/>
          </p:nvSpPr>
          <p:spPr>
            <a:xfrm flipH="1">
              <a:off x="3345840" y="2711520"/>
              <a:ext cx="10800" cy="1323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AutoShape 18"/>
            <p:cNvSpPr/>
            <p:nvPr/>
          </p:nvSpPr>
          <p:spPr>
            <a:xfrm>
              <a:off x="652320" y="3168360"/>
              <a:ext cx="2317320" cy="348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00"/>
                  </a:solidFill>
                  <a:latin typeface="Times New Roman Bold"/>
                </a:rPr>
                <a:t>255.255.255.252 (/2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09" name=""/>
          <p:cNvGraphicFramePr/>
          <p:nvPr/>
        </p:nvGraphicFramePr>
        <p:xfrm>
          <a:off x="1155600" y="4762440"/>
          <a:ext cx="7807320" cy="1224000"/>
        </p:xfrm>
        <a:graphic>
          <a:graphicData uri="http://schemas.openxmlformats.org/drawingml/2006/table">
            <a:tbl>
              <a:tblPr/>
              <a:tblGrid>
                <a:gridCol w="3895920"/>
                <a:gridCol w="3911400"/>
              </a:tblGrid>
              <a:tr h="696960">
                <a:tc>
                  <a:txBody>
                    <a:bodyPr lIns="45720" rIns="45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 Bold"/>
                          <a:ea typeface="Times New Roman Bold"/>
                        </a:rPr>
                        <a:t>255.255.255.2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 Bold"/>
                          <a:cs typeface="Arial"/>
                        </a:rPr>
                        <a:t>قناع الشبكة الفرع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(Dotted Decimal Nota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45720" rIns="45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800000"/>
                          </a:solidFill>
                          <a:latin typeface="Times New Roman Bold"/>
                          <a:ea typeface="Times New Roman Bold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800000"/>
                          </a:solidFill>
                          <a:latin typeface="Times New Roman Bold"/>
                          <a:ea typeface="Times New Roman Bold"/>
                        </a:rPr>
                        <a:t>2 -  2 = 2 </a:t>
                      </a:r>
                      <a:r>
                        <a:rPr b="0" lang="ar-SA" sz="2400" spc="-1" strike="noStrike">
                          <a:solidFill>
                            <a:srgbClr val="800000"/>
                          </a:solidFill>
                          <a:latin typeface="Times New Roman Bold"/>
                          <a:cs typeface="Arial"/>
                        </a:rPr>
                        <a:t>طرف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 Bold"/>
                          <a:cs typeface="Arial"/>
                        </a:rPr>
                        <a:t>عدد الطرفيات التي تدعمها الشبك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0" name="Slide Number Placeholder 37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4CDA-ECE3-4E40-AA13-64E32B3AC4D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AutoShape 8"/>
          <p:cNvSpPr/>
          <p:nvPr/>
        </p:nvSpPr>
        <p:spPr>
          <a:xfrm>
            <a:off x="471600" y="6062760"/>
            <a:ext cx="2063520" cy="718920"/>
          </a:xfrm>
          <a:prstGeom prst="pie">
            <a:avLst/>
          </a:prstGeom>
          <a:noFill/>
          <a:ln w="25560">
            <a:solidFill>
              <a:srgbClr val="b5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eference: This slide was created by Dr. Mohammad Arafa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3" name="Picture 4" descr="underline_base"/>
          <p:cNvPicPr/>
          <p:nvPr/>
        </p:nvPicPr>
        <p:blipFill>
          <a:blip r:embed="rId1"/>
          <a:stretch/>
        </p:blipFill>
        <p:spPr>
          <a:xfrm>
            <a:off x="2354400" y="3733920"/>
            <a:ext cx="4113000" cy="172800"/>
          </a:xfrm>
          <a:prstGeom prst="rect">
            <a:avLst/>
          </a:prstGeom>
          <a:ln w="0">
            <a:noFill/>
          </a:ln>
        </p:spPr>
      </p:pic>
      <p:sp>
        <p:nvSpPr>
          <p:cNvPr id="814" name="AutoShape 5"/>
          <p:cNvSpPr/>
          <p:nvPr/>
        </p:nvSpPr>
        <p:spPr>
          <a:xfrm>
            <a:off x="1727280" y="2579760"/>
            <a:ext cx="7772400" cy="739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Obtaining IP Address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Slide Number Placeholder 7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3B68-E466-428A-B7C4-7E9E4DC6610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7" name="Picture 4" descr="underline_base"/>
          <p:cNvPicPr/>
          <p:nvPr/>
        </p:nvPicPr>
        <p:blipFill>
          <a:blip r:embed="rId1"/>
          <a:stretch/>
        </p:blipFill>
        <p:spPr>
          <a:xfrm>
            <a:off x="949320" y="104760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914400" y="2268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addresses: how to get o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892080" y="1507680"/>
            <a:ext cx="80344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does a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hos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et IP addr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rd-coded by system administrator in a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s: control-panel-&gt;network-&gt;configuration-&gt;tcp/ip-&gt;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IX: /etc/rc.conf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re often using ===&gt;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HCP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ynamic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st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figuration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tocol: dynamically get address from as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lug-and-play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lide Number Placeholder 8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1015-01F8-4914-8B29-A77032271CC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AutoShape 3"/>
          <p:cNvSpPr/>
          <p:nvPr/>
        </p:nvSpPr>
        <p:spPr>
          <a:xfrm>
            <a:off x="8705880" y="6462720"/>
            <a:ext cx="6746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3" name="Picture 4" descr="underline_base"/>
          <p:cNvPicPr/>
          <p:nvPr/>
        </p:nvPicPr>
        <p:blipFill>
          <a:blip r:embed="rId1"/>
          <a:stretch/>
        </p:blipFill>
        <p:spPr>
          <a:xfrm>
            <a:off x="588960" y="1025640"/>
            <a:ext cx="8228160" cy="172800"/>
          </a:xfrm>
          <a:prstGeom prst="rect">
            <a:avLst/>
          </a:prstGeom>
          <a:ln w="0">
            <a:noFill/>
          </a:ln>
        </p:spPr>
      </p:pic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58720" y="266400"/>
            <a:ext cx="88264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</a:t>
            </a:r>
            <a:r>
              <a:rPr b="0" lang="en-US" sz="3400" spc="-1" strike="noStrike">
                <a:solidFill>
                  <a:srgbClr val="000099"/>
                </a:solidFill>
                <a:latin typeface="Gill Sans MT"/>
              </a:rPr>
              <a:t>Dynamic Host Configuration Protoco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92080" y="1587240"/>
            <a:ext cx="8632800" cy="33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allow host to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dynamically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btain its IP address from network server when it join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43720">
              <a:lnSpc>
                <a:spcPct val="85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n renew its lease on address 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43720">
              <a:lnSpc>
                <a:spcPct val="85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llows reuse of addresses (only hold address while connected/“on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43720">
              <a:lnSpc>
                <a:spcPct val="85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pport for mobile users who want to join network (more short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DHCP overvie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43720">
              <a:lnSpc>
                <a:spcPct val="85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st broadcasts </a:t>
            </a: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“DHCP discover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msg [optional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43720">
              <a:lnSpc>
                <a:spcPct val="85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HCP server responds with </a:t>
            </a: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“DHCP offer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msg [optional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43720">
              <a:lnSpc>
                <a:spcPct val="85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st requests IP address: </a:t>
            </a: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“DHCP request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m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43720">
              <a:lnSpc>
                <a:spcPct val="85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HCP server sends address: </a:t>
            </a: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“DHCP ack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ms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Slide Number Placeholder 8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BB79-A175-4EC7-B0CB-C17D6480DFC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AutoShape 2"/>
          <p:cNvSpPr/>
          <p:nvPr/>
        </p:nvSpPr>
        <p:spPr>
          <a:xfrm>
            <a:off x="5913360" y="6467400"/>
            <a:ext cx="28940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AutoShape 3"/>
          <p:cNvSpPr/>
          <p:nvPr/>
        </p:nvSpPr>
        <p:spPr>
          <a:xfrm>
            <a:off x="8705880" y="6462720"/>
            <a:ext cx="6746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819000" y="255600"/>
            <a:ext cx="682488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HCP client-server scen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5"/>
          <p:cNvSpPr/>
          <p:nvPr/>
        </p:nvSpPr>
        <p:spPr>
          <a:xfrm>
            <a:off x="2789280" y="6037200"/>
            <a:ext cx="4978440" cy="319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AutoShape 6"/>
          <p:cNvSpPr/>
          <p:nvPr/>
        </p:nvSpPr>
        <p:spPr>
          <a:xfrm>
            <a:off x="6591240" y="6770520"/>
            <a:ext cx="127080" cy="366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AutoShape 7"/>
          <p:cNvSpPr/>
          <p:nvPr/>
        </p:nvSpPr>
        <p:spPr>
          <a:xfrm>
            <a:off x="1251000" y="1903320"/>
            <a:ext cx="1181160" cy="33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ill Sans MT"/>
              </a:rPr>
              <a:t>223.1.1.0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AutoShape 8"/>
          <p:cNvSpPr/>
          <p:nvPr/>
        </p:nvSpPr>
        <p:spPr>
          <a:xfrm>
            <a:off x="4729320" y="4398840"/>
            <a:ext cx="1180800" cy="33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ill Sans MT"/>
              </a:rPr>
              <a:t>223.1.2.0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AutoShape 9"/>
          <p:cNvSpPr/>
          <p:nvPr/>
        </p:nvSpPr>
        <p:spPr>
          <a:xfrm>
            <a:off x="3032280" y="5992920"/>
            <a:ext cx="1180800" cy="331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ill Sans MT"/>
              </a:rPr>
              <a:t>223.1.3.0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AutoShape 10"/>
          <p:cNvSpPr/>
          <p:nvPr/>
        </p:nvSpPr>
        <p:spPr>
          <a:xfrm>
            <a:off x="2044800" y="4233960"/>
            <a:ext cx="847800" cy="179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AutoShape 11"/>
          <p:cNvSpPr/>
          <p:nvPr/>
        </p:nvSpPr>
        <p:spPr>
          <a:xfrm>
            <a:off x="1473120" y="2227320"/>
            <a:ext cx="1906560" cy="194940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AutoShape 12"/>
          <p:cNvSpPr/>
          <p:nvPr/>
        </p:nvSpPr>
        <p:spPr>
          <a:xfrm>
            <a:off x="4003560" y="2508120"/>
            <a:ext cx="1851120" cy="192744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AutoShape 13"/>
          <p:cNvSpPr/>
          <p:nvPr/>
        </p:nvSpPr>
        <p:spPr>
          <a:xfrm>
            <a:off x="2703600" y="3936960"/>
            <a:ext cx="1977840" cy="193680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Line 14"/>
          <p:cNvSpPr/>
          <p:nvPr/>
        </p:nvSpPr>
        <p:spPr>
          <a:xfrm>
            <a:off x="2004840" y="2695680"/>
            <a:ext cx="27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Line 15"/>
          <p:cNvSpPr/>
          <p:nvPr/>
        </p:nvSpPr>
        <p:spPr>
          <a:xfrm flipV="1">
            <a:off x="2054160" y="3416400"/>
            <a:ext cx="277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Line 16"/>
          <p:cNvSpPr/>
          <p:nvPr/>
        </p:nvSpPr>
        <p:spPr>
          <a:xfrm>
            <a:off x="2014560" y="3967200"/>
            <a:ext cx="27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Line 17"/>
          <p:cNvSpPr/>
          <p:nvPr/>
        </p:nvSpPr>
        <p:spPr>
          <a:xfrm flipV="1">
            <a:off x="2857680" y="3543480"/>
            <a:ext cx="56196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AutoShape 18"/>
          <p:cNvSpPr/>
          <p:nvPr/>
        </p:nvSpPr>
        <p:spPr>
          <a:xfrm>
            <a:off x="2054160" y="2370240"/>
            <a:ext cx="75420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23.1.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AutoShape 19"/>
          <p:cNvSpPr/>
          <p:nvPr/>
        </p:nvSpPr>
        <p:spPr>
          <a:xfrm>
            <a:off x="1940040" y="3995640"/>
            <a:ext cx="75384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23.1.1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AutoShape 20"/>
          <p:cNvSpPr/>
          <p:nvPr/>
        </p:nvSpPr>
        <p:spPr>
          <a:xfrm>
            <a:off x="2685960" y="3235320"/>
            <a:ext cx="75420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23.1.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Line 21"/>
          <p:cNvSpPr/>
          <p:nvPr/>
        </p:nvSpPr>
        <p:spPr>
          <a:xfrm>
            <a:off x="3933720" y="3546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AutoShape 22"/>
          <p:cNvSpPr/>
          <p:nvPr/>
        </p:nvSpPr>
        <p:spPr>
          <a:xfrm>
            <a:off x="3807000" y="3236760"/>
            <a:ext cx="75384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23.1.2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Line 23"/>
          <p:cNvSpPr/>
          <p:nvPr/>
        </p:nvSpPr>
        <p:spPr>
          <a:xfrm>
            <a:off x="5124600" y="2857680"/>
            <a:ext cx="23472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Line 24"/>
          <p:cNvSpPr/>
          <p:nvPr/>
        </p:nvSpPr>
        <p:spPr>
          <a:xfrm>
            <a:off x="5178600" y="4133880"/>
            <a:ext cx="23472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Line 25"/>
          <p:cNvSpPr/>
          <p:nvPr/>
        </p:nvSpPr>
        <p:spPr>
          <a:xfrm flipH="1">
            <a:off x="3692160" y="3884760"/>
            <a:ext cx="3240" cy="70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Line 26"/>
          <p:cNvSpPr/>
          <p:nvPr/>
        </p:nvSpPr>
        <p:spPr>
          <a:xfrm flipH="1" flipV="1">
            <a:off x="3115800" y="5230800"/>
            <a:ext cx="324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Line 27"/>
          <p:cNvSpPr/>
          <p:nvPr/>
        </p:nvSpPr>
        <p:spPr>
          <a:xfrm flipH="1" flipV="1">
            <a:off x="4257360" y="5164200"/>
            <a:ext cx="324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28"/>
          <p:cNvSpPr/>
          <p:nvPr/>
        </p:nvSpPr>
        <p:spPr>
          <a:xfrm>
            <a:off x="4230720" y="5041800"/>
            <a:ext cx="75420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23.1.3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29"/>
          <p:cNvSpPr/>
          <p:nvPr/>
        </p:nvSpPr>
        <p:spPr>
          <a:xfrm>
            <a:off x="2082960" y="5052960"/>
            <a:ext cx="75384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23.1.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Group 30"/>
          <p:cNvGrpSpPr/>
          <p:nvPr/>
        </p:nvGrpSpPr>
        <p:grpSpPr>
          <a:xfrm>
            <a:off x="1452240" y="2397240"/>
            <a:ext cx="641160" cy="558720"/>
            <a:chOff x="1452240" y="2397240"/>
            <a:chExt cx="641160" cy="558720"/>
          </a:xfrm>
        </p:grpSpPr>
        <p:pic>
          <p:nvPicPr>
            <p:cNvPr id="857" name="Picture 31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452240" y="239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AutoShape 32"/>
            <p:cNvSpPr/>
            <p:nvPr/>
          </p:nvSpPr>
          <p:spPr>
            <a:xfrm flipH="1">
              <a:off x="1725840" y="2450520"/>
              <a:ext cx="311760" cy="255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Group 33"/>
          <p:cNvGrpSpPr/>
          <p:nvPr/>
        </p:nvGrpSpPr>
        <p:grpSpPr>
          <a:xfrm>
            <a:off x="1447560" y="3006720"/>
            <a:ext cx="641160" cy="558720"/>
            <a:chOff x="1447560" y="3006720"/>
            <a:chExt cx="641160" cy="558720"/>
          </a:xfrm>
        </p:grpSpPr>
        <p:pic>
          <p:nvPicPr>
            <p:cNvPr id="860" name="Picture 34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447560" y="300672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AutoShape 35"/>
            <p:cNvSpPr/>
            <p:nvPr/>
          </p:nvSpPr>
          <p:spPr>
            <a:xfrm flipH="1">
              <a:off x="1721160" y="3060000"/>
              <a:ext cx="311760" cy="255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36"/>
          <p:cNvGrpSpPr/>
          <p:nvPr/>
        </p:nvGrpSpPr>
        <p:grpSpPr>
          <a:xfrm>
            <a:off x="1476360" y="3616200"/>
            <a:ext cx="641520" cy="559080"/>
            <a:chOff x="1476360" y="3616200"/>
            <a:chExt cx="641520" cy="559080"/>
          </a:xfrm>
        </p:grpSpPr>
        <p:pic>
          <p:nvPicPr>
            <p:cNvPr id="863" name="Picture 37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1476360" y="36162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AutoShape 38"/>
            <p:cNvSpPr/>
            <p:nvPr/>
          </p:nvSpPr>
          <p:spPr>
            <a:xfrm flipH="1">
              <a:off x="1749600" y="3669840"/>
              <a:ext cx="311760" cy="255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Group 39"/>
          <p:cNvGrpSpPr/>
          <p:nvPr/>
        </p:nvGrpSpPr>
        <p:grpSpPr>
          <a:xfrm>
            <a:off x="5184720" y="2565360"/>
            <a:ext cx="641520" cy="558720"/>
            <a:chOff x="5184720" y="2565360"/>
            <a:chExt cx="641520" cy="558720"/>
          </a:xfrm>
        </p:grpSpPr>
        <p:pic>
          <p:nvPicPr>
            <p:cNvPr id="866" name="Picture 40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5184720" y="256536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AutoShape 41"/>
            <p:cNvSpPr/>
            <p:nvPr/>
          </p:nvSpPr>
          <p:spPr>
            <a:xfrm>
              <a:off x="5240880" y="2618640"/>
              <a:ext cx="311760" cy="255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Group 42"/>
          <p:cNvGrpSpPr/>
          <p:nvPr/>
        </p:nvGrpSpPr>
        <p:grpSpPr>
          <a:xfrm>
            <a:off x="5259240" y="3844800"/>
            <a:ext cx="641520" cy="559080"/>
            <a:chOff x="5259240" y="3844800"/>
            <a:chExt cx="641520" cy="559080"/>
          </a:xfrm>
        </p:grpSpPr>
        <p:pic>
          <p:nvPicPr>
            <p:cNvPr id="869" name="Picture 43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5259240" y="38448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AutoShape 44"/>
            <p:cNvSpPr/>
            <p:nvPr/>
          </p:nvSpPr>
          <p:spPr>
            <a:xfrm>
              <a:off x="5315400" y="3898440"/>
              <a:ext cx="311760" cy="255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Group 45"/>
          <p:cNvGrpSpPr/>
          <p:nvPr/>
        </p:nvGrpSpPr>
        <p:grpSpPr>
          <a:xfrm>
            <a:off x="4051440" y="5369040"/>
            <a:ext cx="641160" cy="558720"/>
            <a:chOff x="4051440" y="5369040"/>
            <a:chExt cx="641160" cy="558720"/>
          </a:xfrm>
        </p:grpSpPr>
        <p:pic>
          <p:nvPicPr>
            <p:cNvPr id="872" name="Picture 46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4051440" y="53690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AutoShape 47"/>
            <p:cNvSpPr/>
            <p:nvPr/>
          </p:nvSpPr>
          <p:spPr>
            <a:xfrm>
              <a:off x="4107600" y="5422320"/>
              <a:ext cx="311760" cy="255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Group 48"/>
          <p:cNvGrpSpPr/>
          <p:nvPr/>
        </p:nvGrpSpPr>
        <p:grpSpPr>
          <a:xfrm>
            <a:off x="2887560" y="5410080"/>
            <a:ext cx="641520" cy="559080"/>
            <a:chOff x="2887560" y="5410080"/>
            <a:chExt cx="641520" cy="559080"/>
          </a:xfrm>
        </p:grpSpPr>
        <p:pic>
          <p:nvPicPr>
            <p:cNvPr id="875" name="Picture 49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2887560" y="541008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AutoShape 50"/>
            <p:cNvSpPr/>
            <p:nvPr/>
          </p:nvSpPr>
          <p:spPr>
            <a:xfrm>
              <a:off x="2943720" y="5463720"/>
              <a:ext cx="311760" cy="255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Group 51"/>
          <p:cNvGrpSpPr/>
          <p:nvPr/>
        </p:nvGrpSpPr>
        <p:grpSpPr>
          <a:xfrm>
            <a:off x="3316320" y="3503520"/>
            <a:ext cx="698400" cy="355680"/>
            <a:chOff x="3316320" y="3503520"/>
            <a:chExt cx="698400" cy="355680"/>
          </a:xfrm>
        </p:grpSpPr>
        <p:sp>
          <p:nvSpPr>
            <p:cNvPr id="878" name="AutoShape 52"/>
            <p:cNvSpPr/>
            <p:nvPr/>
          </p:nvSpPr>
          <p:spPr>
            <a:xfrm>
              <a:off x="3319200" y="3661200"/>
              <a:ext cx="692280" cy="19800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AutoShape 53"/>
            <p:cNvSpPr/>
            <p:nvPr/>
          </p:nvSpPr>
          <p:spPr>
            <a:xfrm>
              <a:off x="3319200" y="3638160"/>
              <a:ext cx="695520" cy="12312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AutoShape 54"/>
            <p:cNvSpPr/>
            <p:nvPr/>
          </p:nvSpPr>
          <p:spPr>
            <a:xfrm>
              <a:off x="3316320" y="3503520"/>
              <a:ext cx="693360" cy="23256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1" name="Group 55"/>
            <p:cNvGrpSpPr/>
            <p:nvPr/>
          </p:nvGrpSpPr>
          <p:grpSpPr>
            <a:xfrm>
              <a:off x="3455640" y="3563640"/>
              <a:ext cx="391680" cy="107640"/>
              <a:chOff x="3455640" y="3563640"/>
              <a:chExt cx="391680" cy="107640"/>
            </a:xfrm>
          </p:grpSpPr>
          <p:sp>
            <p:nvSpPr>
              <p:cNvPr id="882" name="AutoShape 56"/>
              <p:cNvSpPr/>
              <p:nvPr/>
            </p:nvSpPr>
            <p:spPr>
              <a:xfrm>
                <a:off x="3455640" y="3563640"/>
                <a:ext cx="391680" cy="1076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AutoShape 57"/>
              <p:cNvSpPr/>
              <p:nvPr/>
            </p:nvSpPr>
            <p:spPr>
              <a:xfrm>
                <a:off x="3473280" y="3563640"/>
                <a:ext cx="356400" cy="1076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4" name="Line 58"/>
            <p:cNvSpPr/>
            <p:nvPr/>
          </p:nvSpPr>
          <p:spPr>
            <a:xfrm>
              <a:off x="3319200" y="3612600"/>
              <a:ext cx="0" cy="15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Line 59"/>
            <p:cNvSpPr/>
            <p:nvPr/>
          </p:nvSpPr>
          <p:spPr>
            <a:xfrm>
              <a:off x="4009680" y="3619800"/>
              <a:ext cx="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6" name="AutoShape 60"/>
          <p:cNvSpPr/>
          <p:nvPr/>
        </p:nvSpPr>
        <p:spPr>
          <a:xfrm>
            <a:off x="2170080" y="3119400"/>
            <a:ext cx="289080" cy="23328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AutoShape 61"/>
          <p:cNvSpPr/>
          <p:nvPr/>
        </p:nvSpPr>
        <p:spPr>
          <a:xfrm>
            <a:off x="2004840" y="3025800"/>
            <a:ext cx="75420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23.1.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AutoShape 62"/>
          <p:cNvSpPr/>
          <p:nvPr/>
        </p:nvSpPr>
        <p:spPr>
          <a:xfrm>
            <a:off x="4911840" y="3828960"/>
            <a:ext cx="288720" cy="23328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AutoShape 63"/>
          <p:cNvSpPr/>
          <p:nvPr/>
        </p:nvSpPr>
        <p:spPr>
          <a:xfrm>
            <a:off x="3559320" y="4014720"/>
            <a:ext cx="288720" cy="23328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AutoShape 64"/>
          <p:cNvSpPr/>
          <p:nvPr/>
        </p:nvSpPr>
        <p:spPr>
          <a:xfrm>
            <a:off x="3182760" y="3976560"/>
            <a:ext cx="84312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23.1.3.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AutoShape 65"/>
          <p:cNvSpPr/>
          <p:nvPr/>
        </p:nvSpPr>
        <p:spPr>
          <a:xfrm>
            <a:off x="4281480" y="3843360"/>
            <a:ext cx="75420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23.1.2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AutoShape 66"/>
          <p:cNvSpPr/>
          <p:nvPr/>
        </p:nvSpPr>
        <p:spPr>
          <a:xfrm>
            <a:off x="5111640" y="2327400"/>
            <a:ext cx="754200" cy="293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23.1.2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AutoShape 67"/>
          <p:cNvSpPr/>
          <p:nvPr/>
        </p:nvSpPr>
        <p:spPr>
          <a:xfrm>
            <a:off x="3846600" y="1760400"/>
            <a:ext cx="771480" cy="654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DH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AutoShape 68"/>
          <p:cNvSpPr/>
          <p:nvPr/>
        </p:nvSpPr>
        <p:spPr>
          <a:xfrm>
            <a:off x="7008840" y="3059280"/>
            <a:ext cx="1544760" cy="117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arriving </a:t>
            </a: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DH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client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 nee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address in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69"/>
          <p:cNvGrpSpPr/>
          <p:nvPr/>
        </p:nvGrpSpPr>
        <p:grpSpPr>
          <a:xfrm>
            <a:off x="4253040" y="2394000"/>
            <a:ext cx="403200" cy="682560"/>
            <a:chOff x="4253040" y="2394000"/>
            <a:chExt cx="403200" cy="682560"/>
          </a:xfrm>
        </p:grpSpPr>
        <p:sp>
          <p:nvSpPr>
            <p:cNvPr id="896" name="AutoShape 70"/>
            <p:cNvSpPr/>
            <p:nvPr/>
          </p:nvSpPr>
          <p:spPr>
            <a:xfrm>
              <a:off x="4572360" y="2395080"/>
              <a:ext cx="79920" cy="65124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AutoShape 71"/>
            <p:cNvSpPr/>
            <p:nvPr/>
          </p:nvSpPr>
          <p:spPr>
            <a:xfrm>
              <a:off x="4272120" y="2394000"/>
              <a:ext cx="296640" cy="650880"/>
            </a:xfrm>
            <a:prstGeom prst="pi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AutoShape 72"/>
            <p:cNvSpPr/>
            <p:nvPr/>
          </p:nvSpPr>
          <p:spPr>
            <a:xfrm>
              <a:off x="4588920" y="2433960"/>
              <a:ext cx="46080" cy="59436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AutoShape 73"/>
            <p:cNvSpPr/>
            <p:nvPr/>
          </p:nvSpPr>
          <p:spPr>
            <a:xfrm>
              <a:off x="4576680" y="2738880"/>
              <a:ext cx="74160" cy="53640"/>
            </a:xfrm>
            <a:prstGeom prst="pi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AutoShape 74"/>
            <p:cNvSpPr/>
            <p:nvPr/>
          </p:nvSpPr>
          <p:spPr>
            <a:xfrm>
              <a:off x="4273560" y="2468520"/>
              <a:ext cx="168840" cy="1404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1" name="Group 75"/>
            <p:cNvGrpSpPr/>
            <p:nvPr/>
          </p:nvGrpSpPr>
          <p:grpSpPr>
            <a:xfrm>
              <a:off x="4425120" y="2462400"/>
              <a:ext cx="164160" cy="41040"/>
              <a:chOff x="4425120" y="2462400"/>
              <a:chExt cx="164160" cy="41040"/>
            </a:xfrm>
          </p:grpSpPr>
          <p:sp>
            <p:nvSpPr>
              <p:cNvPr id="902" name="AutoShape 76"/>
              <p:cNvSpPr/>
              <p:nvPr/>
            </p:nvSpPr>
            <p:spPr>
              <a:xfrm>
                <a:off x="4425120" y="2462400"/>
                <a:ext cx="164160" cy="41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AutoShape 77"/>
              <p:cNvSpPr/>
              <p:nvPr/>
            </p:nvSpPr>
            <p:spPr>
              <a:xfrm>
                <a:off x="4428000" y="2467080"/>
                <a:ext cx="1562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4" name="AutoShape 78"/>
            <p:cNvSpPr/>
            <p:nvPr/>
          </p:nvSpPr>
          <p:spPr>
            <a:xfrm>
              <a:off x="4276800" y="2562480"/>
              <a:ext cx="168840" cy="1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5" name="Group 79"/>
            <p:cNvGrpSpPr/>
            <p:nvPr/>
          </p:nvGrpSpPr>
          <p:grpSpPr>
            <a:xfrm>
              <a:off x="4425120" y="2554560"/>
              <a:ext cx="164160" cy="38160"/>
              <a:chOff x="4425120" y="2554560"/>
              <a:chExt cx="164160" cy="38160"/>
            </a:xfrm>
          </p:grpSpPr>
          <p:sp>
            <p:nvSpPr>
              <p:cNvPr id="906" name="AutoShape 80"/>
              <p:cNvSpPr/>
              <p:nvPr/>
            </p:nvSpPr>
            <p:spPr>
              <a:xfrm>
                <a:off x="4425120" y="2554560"/>
                <a:ext cx="16416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AutoShape 81"/>
              <p:cNvSpPr/>
              <p:nvPr/>
            </p:nvSpPr>
            <p:spPr>
              <a:xfrm>
                <a:off x="4428000" y="2559240"/>
                <a:ext cx="15624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8" name="AutoShape 82"/>
            <p:cNvSpPr/>
            <p:nvPr/>
          </p:nvSpPr>
          <p:spPr>
            <a:xfrm>
              <a:off x="4275360" y="2657880"/>
              <a:ext cx="167040" cy="1404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AutoShape 83"/>
            <p:cNvSpPr/>
            <p:nvPr/>
          </p:nvSpPr>
          <p:spPr>
            <a:xfrm>
              <a:off x="4278240" y="2744280"/>
              <a:ext cx="167040" cy="1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0" name="Group 84"/>
            <p:cNvGrpSpPr/>
            <p:nvPr/>
          </p:nvGrpSpPr>
          <p:grpSpPr>
            <a:xfrm>
              <a:off x="4421880" y="2736360"/>
              <a:ext cx="164160" cy="42840"/>
              <a:chOff x="4421880" y="2736360"/>
              <a:chExt cx="164160" cy="42840"/>
            </a:xfrm>
          </p:grpSpPr>
          <p:sp>
            <p:nvSpPr>
              <p:cNvPr id="911" name="AutoShape 85"/>
              <p:cNvSpPr/>
              <p:nvPr/>
            </p:nvSpPr>
            <p:spPr>
              <a:xfrm>
                <a:off x="4421880" y="2736360"/>
                <a:ext cx="16416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AutoShape 86"/>
              <p:cNvSpPr/>
              <p:nvPr/>
            </p:nvSpPr>
            <p:spPr>
              <a:xfrm>
                <a:off x="4424760" y="2740680"/>
                <a:ext cx="1562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3" name="AutoShape 87"/>
            <p:cNvSpPr/>
            <p:nvPr/>
          </p:nvSpPr>
          <p:spPr>
            <a:xfrm>
              <a:off x="4578120" y="2657520"/>
              <a:ext cx="74160" cy="53280"/>
            </a:xfrm>
            <a:prstGeom prst="pi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4" name="Group 88"/>
            <p:cNvGrpSpPr/>
            <p:nvPr/>
          </p:nvGrpSpPr>
          <p:grpSpPr>
            <a:xfrm>
              <a:off x="4421880" y="2649960"/>
              <a:ext cx="165600" cy="39600"/>
              <a:chOff x="4421880" y="2649960"/>
              <a:chExt cx="165600" cy="39600"/>
            </a:xfrm>
          </p:grpSpPr>
          <p:sp>
            <p:nvSpPr>
              <p:cNvPr id="915" name="AutoShape 89"/>
              <p:cNvSpPr/>
              <p:nvPr/>
            </p:nvSpPr>
            <p:spPr>
              <a:xfrm>
                <a:off x="4421880" y="2649960"/>
                <a:ext cx="165600" cy="396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AutoShape 90"/>
              <p:cNvSpPr/>
              <p:nvPr/>
            </p:nvSpPr>
            <p:spPr>
              <a:xfrm>
                <a:off x="4424760" y="2654640"/>
                <a:ext cx="15768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7" name="AutoShape 91"/>
            <p:cNvSpPr/>
            <p:nvPr/>
          </p:nvSpPr>
          <p:spPr>
            <a:xfrm>
              <a:off x="4567320" y="2394000"/>
              <a:ext cx="19080" cy="652680"/>
            </a:xfrm>
            <a:prstGeom prst="pie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AutoShape 92"/>
            <p:cNvSpPr/>
            <p:nvPr/>
          </p:nvSpPr>
          <p:spPr>
            <a:xfrm>
              <a:off x="4584600" y="2558520"/>
              <a:ext cx="66960" cy="60480"/>
            </a:xfrm>
            <a:prstGeom prst="pi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AutoShape 93"/>
            <p:cNvSpPr/>
            <p:nvPr/>
          </p:nvSpPr>
          <p:spPr>
            <a:xfrm>
              <a:off x="4585680" y="2465280"/>
              <a:ext cx="68760" cy="68400"/>
            </a:xfrm>
            <a:prstGeom prst="pi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AutoShape 94"/>
            <p:cNvSpPr/>
            <p:nvPr/>
          </p:nvSpPr>
          <p:spPr>
            <a:xfrm>
              <a:off x="4641840" y="3016440"/>
              <a:ext cx="14400" cy="2700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AutoShape 95"/>
            <p:cNvSpPr/>
            <p:nvPr/>
          </p:nvSpPr>
          <p:spPr>
            <a:xfrm>
              <a:off x="4582080" y="3016440"/>
              <a:ext cx="69120" cy="5688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AutoShape 96"/>
            <p:cNvSpPr/>
            <p:nvPr/>
          </p:nvSpPr>
          <p:spPr>
            <a:xfrm>
              <a:off x="4253040" y="3035520"/>
              <a:ext cx="339840" cy="410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AutoShape 97"/>
            <p:cNvSpPr/>
            <p:nvPr/>
          </p:nvSpPr>
          <p:spPr>
            <a:xfrm>
              <a:off x="4272120" y="3044880"/>
              <a:ext cx="302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AutoShape 98"/>
            <p:cNvSpPr/>
            <p:nvPr/>
          </p:nvSpPr>
          <p:spPr>
            <a:xfrm>
              <a:off x="4300560" y="2950920"/>
              <a:ext cx="44640" cy="39600"/>
            </a:xfrm>
            <a:prstGeom prst="pi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AutoShape 99"/>
            <p:cNvSpPr/>
            <p:nvPr/>
          </p:nvSpPr>
          <p:spPr>
            <a:xfrm>
              <a:off x="4350240" y="2950920"/>
              <a:ext cx="46080" cy="410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AutoShape 100"/>
            <p:cNvSpPr/>
            <p:nvPr/>
          </p:nvSpPr>
          <p:spPr>
            <a:xfrm>
              <a:off x="4401360" y="2950920"/>
              <a:ext cx="44640" cy="39600"/>
            </a:xfrm>
            <a:prstGeom prst="pi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AutoShape 101"/>
            <p:cNvSpPr/>
            <p:nvPr/>
          </p:nvSpPr>
          <p:spPr>
            <a:xfrm>
              <a:off x="4514400" y="2794680"/>
              <a:ext cx="23760" cy="216360"/>
            </a:xfrm>
            <a:prstGeom prst="pie">
              <a:avLst/>
            </a:prstGeom>
            <a:solidFill>
              <a:srgbClr val="29292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8" name="Group 102"/>
          <p:cNvGrpSpPr/>
          <p:nvPr/>
        </p:nvGrpSpPr>
        <p:grpSpPr>
          <a:xfrm>
            <a:off x="5867280" y="3139920"/>
            <a:ext cx="1101960" cy="571320"/>
            <a:chOff x="5867280" y="3139920"/>
            <a:chExt cx="1101960" cy="571320"/>
          </a:xfrm>
        </p:grpSpPr>
        <p:grpSp>
          <p:nvGrpSpPr>
            <p:cNvPr id="929" name="Group 103"/>
            <p:cNvGrpSpPr/>
            <p:nvPr/>
          </p:nvGrpSpPr>
          <p:grpSpPr>
            <a:xfrm>
              <a:off x="6175800" y="3139920"/>
              <a:ext cx="793440" cy="571320"/>
              <a:chOff x="6175800" y="3139920"/>
              <a:chExt cx="793440" cy="571320"/>
            </a:xfrm>
          </p:grpSpPr>
          <p:pic>
            <p:nvPicPr>
              <p:cNvPr id="930" name="Picture 104" descr="laptop_keyboard"/>
              <p:cNvPicPr/>
              <p:nvPr/>
            </p:nvPicPr>
            <p:blipFill>
              <a:blip r:embed="rId8"/>
              <a:stretch/>
            </p:blipFill>
            <p:spPr>
              <a:xfrm flipH="1" rot="109800">
                <a:off x="6180120" y="3421080"/>
                <a:ext cx="677160" cy="27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1" name="AutoShape 105"/>
              <p:cNvSpPr/>
              <p:nvPr/>
            </p:nvSpPr>
            <p:spPr>
              <a:xfrm>
                <a:off x="6405120" y="3152160"/>
                <a:ext cx="544680" cy="363600"/>
              </a:xfrm>
              <a:prstGeom prst="pi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32" name="Picture 106" descr="screen"/>
              <p:cNvPicPr/>
              <p:nvPr/>
            </p:nvPicPr>
            <p:blipFill>
              <a:blip r:embed="rId9"/>
              <a:stretch/>
            </p:blipFill>
            <p:spPr>
              <a:xfrm>
                <a:off x="6432120" y="3160440"/>
                <a:ext cx="494640" cy="33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3" name="AutoShape 107"/>
              <p:cNvSpPr/>
              <p:nvPr/>
            </p:nvSpPr>
            <p:spPr>
              <a:xfrm>
                <a:off x="6504120" y="3141000"/>
                <a:ext cx="461160" cy="67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AutoShape 108"/>
              <p:cNvSpPr/>
              <p:nvPr/>
            </p:nvSpPr>
            <p:spPr>
              <a:xfrm>
                <a:off x="6400080" y="3139920"/>
                <a:ext cx="128520" cy="281520"/>
              </a:xfrm>
              <a:prstGeom prst="pi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AutoShape 109"/>
              <p:cNvSpPr/>
              <p:nvPr/>
            </p:nvSpPr>
            <p:spPr>
              <a:xfrm>
                <a:off x="6824160" y="3191040"/>
                <a:ext cx="138600" cy="324360"/>
              </a:xfrm>
              <a:prstGeom prst="pi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AutoShape 110"/>
              <p:cNvSpPr/>
              <p:nvPr/>
            </p:nvSpPr>
            <p:spPr>
              <a:xfrm>
                <a:off x="6398640" y="3407760"/>
                <a:ext cx="471960" cy="108720"/>
              </a:xfrm>
              <a:prstGeom prst="pie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AutoShape 111"/>
              <p:cNvSpPr/>
              <p:nvPr/>
            </p:nvSpPr>
            <p:spPr>
              <a:xfrm>
                <a:off x="6839640" y="3193560"/>
                <a:ext cx="129600" cy="325440"/>
              </a:xfrm>
              <a:prstGeom prst="pi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AutoShape 112"/>
              <p:cNvSpPr/>
              <p:nvPr/>
            </p:nvSpPr>
            <p:spPr>
              <a:xfrm>
                <a:off x="6398640" y="3422520"/>
                <a:ext cx="451080" cy="10764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9" name="Group 113"/>
              <p:cNvGrpSpPr/>
              <p:nvPr/>
            </p:nvGrpSpPr>
            <p:grpSpPr>
              <a:xfrm>
                <a:off x="6391080" y="3537720"/>
                <a:ext cx="152640" cy="64800"/>
                <a:chOff x="6391080" y="3537720"/>
                <a:chExt cx="152640" cy="64800"/>
              </a:xfrm>
            </p:grpSpPr>
            <p:sp>
              <p:nvSpPr>
                <p:cNvPr id="940" name="AutoShape 114"/>
                <p:cNvSpPr/>
                <p:nvPr/>
              </p:nvSpPr>
              <p:spPr>
                <a:xfrm>
                  <a:off x="6391080" y="3537720"/>
                  <a:ext cx="152640" cy="64800"/>
                </a:xfrm>
                <a:prstGeom prst="pi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AutoShape 115"/>
                <p:cNvSpPr/>
                <p:nvPr/>
              </p:nvSpPr>
              <p:spPr>
                <a:xfrm>
                  <a:off x="6393600" y="3538800"/>
                  <a:ext cx="147600" cy="6192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AutoShape 116"/>
                <p:cNvSpPr/>
                <p:nvPr/>
              </p:nvSpPr>
              <p:spPr>
                <a:xfrm>
                  <a:off x="6404760" y="3562920"/>
                  <a:ext cx="52200" cy="19800"/>
                </a:xfrm>
                <a:prstGeom prst="pie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AutoShape 117"/>
                <p:cNvSpPr/>
                <p:nvPr/>
              </p:nvSpPr>
              <p:spPr>
                <a:xfrm>
                  <a:off x="6402960" y="3572280"/>
                  <a:ext cx="39240" cy="12240"/>
                </a:xfrm>
                <a:prstGeom prst="pi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AutoShape 118"/>
                <p:cNvSpPr/>
                <p:nvPr/>
              </p:nvSpPr>
              <p:spPr>
                <a:xfrm>
                  <a:off x="6447960" y="3575880"/>
                  <a:ext cx="52200" cy="20160"/>
                </a:xfrm>
                <a:prstGeom prst="pie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AutoShape 119"/>
                <p:cNvSpPr/>
                <p:nvPr/>
              </p:nvSpPr>
              <p:spPr>
                <a:xfrm>
                  <a:off x="6446160" y="3585240"/>
                  <a:ext cx="39240" cy="12240"/>
                </a:xfrm>
                <a:prstGeom prst="pi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6" name="AutoShape 120"/>
              <p:cNvSpPr/>
              <p:nvPr/>
            </p:nvSpPr>
            <p:spPr>
              <a:xfrm>
                <a:off x="6653160" y="3547440"/>
                <a:ext cx="185040" cy="141840"/>
              </a:xfrm>
              <a:prstGeom prst="pi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AutoShape 121"/>
              <p:cNvSpPr/>
              <p:nvPr/>
            </p:nvSpPr>
            <p:spPr>
              <a:xfrm>
                <a:off x="6180480" y="3558600"/>
                <a:ext cx="474120" cy="129600"/>
              </a:xfrm>
              <a:prstGeom prst="pi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AutoShape 122"/>
              <p:cNvSpPr/>
              <p:nvPr/>
            </p:nvSpPr>
            <p:spPr>
              <a:xfrm>
                <a:off x="6180480" y="3535200"/>
                <a:ext cx="5040" cy="25560"/>
              </a:xfrm>
              <a:prstGeom prst="pi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AutoShape 123"/>
              <p:cNvSpPr/>
              <p:nvPr/>
            </p:nvSpPr>
            <p:spPr>
              <a:xfrm>
                <a:off x="6181560" y="3428640"/>
                <a:ext cx="219600" cy="107640"/>
              </a:xfrm>
              <a:prstGeom prst="pi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AutoShape 124"/>
              <p:cNvSpPr/>
              <p:nvPr/>
            </p:nvSpPr>
            <p:spPr>
              <a:xfrm>
                <a:off x="6195600" y="3540240"/>
                <a:ext cx="449640" cy="124560"/>
              </a:xfrm>
              <a:prstGeom prst="pi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AutoShape 125"/>
              <p:cNvSpPr/>
              <p:nvPr/>
            </p:nvSpPr>
            <p:spPr>
              <a:xfrm flipH="1" rot="10800000">
                <a:off x="6645600" y="3531240"/>
                <a:ext cx="182160" cy="128520"/>
              </a:xfrm>
              <a:prstGeom prst="pi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2" name="Line 126"/>
            <p:cNvSpPr/>
            <p:nvPr/>
          </p:nvSpPr>
          <p:spPr>
            <a:xfrm flipH="1">
              <a:off x="5867280" y="3464280"/>
              <a:ext cx="434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3" name="AutoShape 127"/>
          <p:cNvSpPr/>
          <p:nvPr/>
        </p:nvSpPr>
        <p:spPr>
          <a:xfrm>
            <a:off x="6135840" y="3699000"/>
            <a:ext cx="976320" cy="374400"/>
          </a:xfrm>
          <a:prstGeom prst="leftArrow">
            <a:avLst>
              <a:gd name="adj1" fmla="val 50000"/>
              <a:gd name="adj2" fmla="val 65192"/>
            </a:avLst>
          </a:prstGeom>
          <a:gradFill rotWithShape="0">
            <a:gsLst>
              <a:gs pos="0">
                <a:srgbClr val="cc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Line 128"/>
          <p:cNvSpPr/>
          <p:nvPr/>
        </p:nvSpPr>
        <p:spPr>
          <a:xfrm flipH="1">
            <a:off x="4647960" y="2952720"/>
            <a:ext cx="3142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5" name="Picture 129" descr="underline_base"/>
          <p:cNvPicPr/>
          <p:nvPr/>
        </p:nvPicPr>
        <p:blipFill>
          <a:blip r:embed="rId10"/>
          <a:stretch/>
        </p:blipFill>
        <p:spPr>
          <a:xfrm>
            <a:off x="895320" y="93204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956" name="Slide Number Placeholder 131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98AB-E06D-476F-99C6-E6387EB5057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>
            <a:off x="3292560" y="3297240"/>
            <a:ext cx="4451400" cy="3025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19240" indent="-219240" algn="ctr">
              <a:lnSpc>
                <a:spcPct val="100000"/>
              </a:lnSpc>
              <a:buClr>
                <a:srgbClr val="0433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33ff"/>
                </a:solidFill>
                <a:latin typeface="Gill Sans MT"/>
              </a:rPr>
              <a:t>datagram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3120" indent="-330120" algn="ctr"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433ff"/>
                </a:solidFill>
                <a:latin typeface="Gill Sans MT"/>
                <a:ea typeface="Arial"/>
              </a:rPr>
              <a:t>Fragmentation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3120" indent="-330120" algn="ctr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433ff"/>
                </a:solidFill>
                <a:latin typeface="Gill Sans MT"/>
                <a:ea typeface="Arial"/>
              </a:rPr>
              <a:t>Reassembly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B0FE-334F-4F04-9E20-FF1D1735587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AutoShape 2"/>
          <p:cNvSpPr/>
          <p:nvPr/>
        </p:nvSpPr>
        <p:spPr>
          <a:xfrm>
            <a:off x="5913360" y="6467400"/>
            <a:ext cx="28940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AutoShape 3"/>
          <p:cNvSpPr/>
          <p:nvPr/>
        </p:nvSpPr>
        <p:spPr>
          <a:xfrm>
            <a:off x="8705880" y="6462720"/>
            <a:ext cx="6746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-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AutoShape 4"/>
          <p:cNvSpPr/>
          <p:nvPr/>
        </p:nvSpPr>
        <p:spPr>
          <a:xfrm>
            <a:off x="1398600" y="1270080"/>
            <a:ext cx="2066760" cy="331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Gill Sans MT"/>
              </a:rPr>
              <a:t>DHCP server: 223.1.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AutoShape 5"/>
          <p:cNvSpPr/>
          <p:nvPr/>
        </p:nvSpPr>
        <p:spPr>
          <a:xfrm>
            <a:off x="6456240" y="1311120"/>
            <a:ext cx="771480" cy="536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Gill Sans MT"/>
              </a:rPr>
              <a:t>arri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Gill Sans MT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Line 6"/>
          <p:cNvSpPr/>
          <p:nvPr/>
        </p:nvSpPr>
        <p:spPr>
          <a:xfrm flipH="1">
            <a:off x="2239560" y="2206800"/>
            <a:ext cx="4397400" cy="53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Line 7"/>
          <p:cNvSpPr/>
          <p:nvPr/>
        </p:nvSpPr>
        <p:spPr>
          <a:xfrm flipH="1">
            <a:off x="2196720" y="2163600"/>
            <a:ext cx="9720" cy="4026240"/>
          </a:xfrm>
          <a:prstGeom prst="line">
            <a:avLst/>
          </a:prstGeom>
          <a:ln w="3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Line 8"/>
          <p:cNvSpPr/>
          <p:nvPr/>
        </p:nvSpPr>
        <p:spPr>
          <a:xfrm flipH="1">
            <a:off x="6722640" y="2238480"/>
            <a:ext cx="9720" cy="4141800"/>
          </a:xfrm>
          <a:prstGeom prst="line">
            <a:avLst/>
          </a:prstGeom>
          <a:ln w="3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Group 9"/>
          <p:cNvGrpSpPr/>
          <p:nvPr/>
        </p:nvGrpSpPr>
        <p:grpSpPr>
          <a:xfrm>
            <a:off x="3770280" y="1343160"/>
            <a:ext cx="2671920" cy="1114200"/>
            <a:chOff x="3770280" y="1343160"/>
            <a:chExt cx="2671920" cy="1114200"/>
          </a:xfrm>
        </p:grpSpPr>
        <p:grpSp>
          <p:nvGrpSpPr>
            <p:cNvPr id="966" name="Group 10"/>
            <p:cNvGrpSpPr/>
            <p:nvPr/>
          </p:nvGrpSpPr>
          <p:grpSpPr>
            <a:xfrm>
              <a:off x="3770280" y="1343160"/>
              <a:ext cx="1481040" cy="433080"/>
              <a:chOff x="3770280" y="1343160"/>
              <a:chExt cx="1481040" cy="433080"/>
            </a:xfrm>
          </p:grpSpPr>
          <p:sp>
            <p:nvSpPr>
              <p:cNvPr id="967" name="AutoShape 11"/>
              <p:cNvSpPr/>
              <p:nvPr/>
            </p:nvSpPr>
            <p:spPr>
              <a:xfrm>
                <a:off x="3770280" y="1343160"/>
                <a:ext cx="1481040" cy="43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AutoShape 12"/>
              <p:cNvSpPr/>
              <p:nvPr/>
            </p:nvSpPr>
            <p:spPr>
              <a:xfrm>
                <a:off x="3770280" y="1343160"/>
                <a:ext cx="1481040" cy="268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ill Sans MT"/>
                  </a:rPr>
                  <a:t>DHCP disco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Group 13"/>
            <p:cNvGrpSpPr/>
            <p:nvPr/>
          </p:nvGrpSpPr>
          <p:grpSpPr>
            <a:xfrm>
              <a:off x="3877920" y="1649160"/>
              <a:ext cx="2564280" cy="808200"/>
              <a:chOff x="3877920" y="1649160"/>
              <a:chExt cx="2564280" cy="808200"/>
            </a:xfrm>
          </p:grpSpPr>
          <p:sp>
            <p:nvSpPr>
              <p:cNvPr id="970" name="AutoShape 14"/>
              <p:cNvSpPr/>
              <p:nvPr/>
            </p:nvSpPr>
            <p:spPr>
              <a:xfrm>
                <a:off x="3877920" y="1649160"/>
                <a:ext cx="2564280" cy="808200"/>
              </a:xfrm>
              <a:prstGeom prst="pi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AutoShape 15"/>
              <p:cNvSpPr/>
              <p:nvPr/>
            </p:nvSpPr>
            <p:spPr>
              <a:xfrm>
                <a:off x="3877920" y="1649160"/>
                <a:ext cx="2564280" cy="801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Gill Sans MT"/>
                  </a:rPr>
                  <a:t>src : 0.0.0.0, 68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Gill Sans MT"/>
                  </a:rPr>
                  <a:t>dest.: 255.255.255.255,6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Gill Sans MT"/>
                  </a:rPr>
                  <a:t>yiaddr:    0.0.0.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Gill Sans MT"/>
                  </a:rPr>
                  <a:t>transaction ID: 65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2" name="Line 16"/>
          <p:cNvSpPr/>
          <p:nvPr/>
        </p:nvSpPr>
        <p:spPr>
          <a:xfrm>
            <a:off x="2282760" y="3193920"/>
            <a:ext cx="4397400" cy="53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Group 17"/>
          <p:cNvGrpSpPr/>
          <p:nvPr/>
        </p:nvGrpSpPr>
        <p:grpSpPr>
          <a:xfrm>
            <a:off x="3943440" y="2577960"/>
            <a:ext cx="1379520" cy="331920"/>
            <a:chOff x="3943440" y="2577960"/>
            <a:chExt cx="1379520" cy="331920"/>
          </a:xfrm>
        </p:grpSpPr>
        <p:sp>
          <p:nvSpPr>
            <p:cNvPr id="974" name="AutoShape 18"/>
            <p:cNvSpPr/>
            <p:nvPr/>
          </p:nvSpPr>
          <p:spPr>
            <a:xfrm>
              <a:off x="3943440" y="2577960"/>
              <a:ext cx="1379520" cy="33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AutoShape 19"/>
            <p:cNvSpPr/>
            <p:nvPr/>
          </p:nvSpPr>
          <p:spPr>
            <a:xfrm>
              <a:off x="3943440" y="2577960"/>
              <a:ext cx="1379520" cy="270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</a:rPr>
                <a:t>DHCP off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Group 20"/>
          <p:cNvGrpSpPr/>
          <p:nvPr/>
        </p:nvGrpSpPr>
        <p:grpSpPr>
          <a:xfrm>
            <a:off x="4040280" y="2832120"/>
            <a:ext cx="2423880" cy="979560"/>
            <a:chOff x="4040280" y="2832120"/>
            <a:chExt cx="2423880" cy="979560"/>
          </a:xfrm>
        </p:grpSpPr>
        <p:sp>
          <p:nvSpPr>
            <p:cNvPr id="977" name="AutoShape 21"/>
            <p:cNvSpPr/>
            <p:nvPr/>
          </p:nvSpPr>
          <p:spPr>
            <a:xfrm>
              <a:off x="4040280" y="2832120"/>
              <a:ext cx="2423880" cy="964440"/>
            </a:xfrm>
            <a:prstGeom prst="pi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AutoShape 22"/>
            <p:cNvSpPr/>
            <p:nvPr/>
          </p:nvSpPr>
          <p:spPr>
            <a:xfrm>
              <a:off x="4040280" y="2832120"/>
              <a:ext cx="2423880" cy="979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src: 223.1.2.5, 67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dest:  255.255.255.255, 6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yiaddrr: 223.1.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transaction ID: 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lifetime: 3600 se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Line 23"/>
          <p:cNvSpPr/>
          <p:nvPr/>
        </p:nvSpPr>
        <p:spPr>
          <a:xfrm flipH="1">
            <a:off x="2174400" y="4421160"/>
            <a:ext cx="4397400" cy="538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0" name="Group 24"/>
          <p:cNvGrpSpPr/>
          <p:nvPr/>
        </p:nvGrpSpPr>
        <p:grpSpPr>
          <a:xfrm>
            <a:off x="2347920" y="3763800"/>
            <a:ext cx="1379520" cy="330480"/>
            <a:chOff x="2347920" y="3763800"/>
            <a:chExt cx="1379520" cy="330480"/>
          </a:xfrm>
        </p:grpSpPr>
        <p:sp>
          <p:nvSpPr>
            <p:cNvPr id="981" name="AutoShape 25"/>
            <p:cNvSpPr/>
            <p:nvPr/>
          </p:nvSpPr>
          <p:spPr>
            <a:xfrm>
              <a:off x="2347920" y="3763800"/>
              <a:ext cx="1379520" cy="33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AutoShape 26"/>
            <p:cNvSpPr/>
            <p:nvPr/>
          </p:nvSpPr>
          <p:spPr>
            <a:xfrm>
              <a:off x="2347920" y="3763800"/>
              <a:ext cx="1379520" cy="270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</a:rPr>
                <a:t>DHCP requ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Group 27"/>
          <p:cNvGrpSpPr/>
          <p:nvPr/>
        </p:nvGrpSpPr>
        <p:grpSpPr>
          <a:xfrm>
            <a:off x="2478240" y="4027320"/>
            <a:ext cx="2757240" cy="998640"/>
            <a:chOff x="2478240" y="4027320"/>
            <a:chExt cx="2757240" cy="998640"/>
          </a:xfrm>
        </p:grpSpPr>
        <p:sp>
          <p:nvSpPr>
            <p:cNvPr id="984" name="AutoShape 28"/>
            <p:cNvSpPr/>
            <p:nvPr/>
          </p:nvSpPr>
          <p:spPr>
            <a:xfrm>
              <a:off x="2478240" y="4027320"/>
              <a:ext cx="2757240" cy="998640"/>
            </a:xfrm>
            <a:prstGeom prst="pi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AutoShape 29"/>
            <p:cNvSpPr/>
            <p:nvPr/>
          </p:nvSpPr>
          <p:spPr>
            <a:xfrm>
              <a:off x="2478240" y="4027320"/>
              <a:ext cx="2757240" cy="980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src:  0.0.0.0, 68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dest::  255.255.255.255, 6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yiaddrr: 223.1.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transaction ID: 65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lifetime: 3600 se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Line 30"/>
          <p:cNvSpPr/>
          <p:nvPr/>
        </p:nvSpPr>
        <p:spPr>
          <a:xfrm>
            <a:off x="2260440" y="5452920"/>
            <a:ext cx="4397400" cy="53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Group 31"/>
          <p:cNvGrpSpPr/>
          <p:nvPr/>
        </p:nvGrpSpPr>
        <p:grpSpPr>
          <a:xfrm>
            <a:off x="3900600" y="5167440"/>
            <a:ext cx="1379520" cy="330120"/>
            <a:chOff x="3900600" y="5167440"/>
            <a:chExt cx="1379520" cy="330120"/>
          </a:xfrm>
        </p:grpSpPr>
        <p:sp>
          <p:nvSpPr>
            <p:cNvPr id="988" name="AutoShape 32"/>
            <p:cNvSpPr/>
            <p:nvPr/>
          </p:nvSpPr>
          <p:spPr>
            <a:xfrm>
              <a:off x="3900600" y="5167440"/>
              <a:ext cx="1379520" cy="330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AutoShape 33"/>
            <p:cNvSpPr/>
            <p:nvPr/>
          </p:nvSpPr>
          <p:spPr>
            <a:xfrm>
              <a:off x="3900600" y="5167440"/>
              <a:ext cx="1379520" cy="270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</a:rPr>
                <a:t>DHCP 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Group 34"/>
          <p:cNvGrpSpPr/>
          <p:nvPr/>
        </p:nvGrpSpPr>
        <p:grpSpPr>
          <a:xfrm>
            <a:off x="3997440" y="5421240"/>
            <a:ext cx="2412720" cy="1019160"/>
            <a:chOff x="3997440" y="5421240"/>
            <a:chExt cx="2412720" cy="1019160"/>
          </a:xfrm>
        </p:grpSpPr>
        <p:sp>
          <p:nvSpPr>
            <p:cNvPr id="991" name="AutoShape 35"/>
            <p:cNvSpPr/>
            <p:nvPr/>
          </p:nvSpPr>
          <p:spPr>
            <a:xfrm>
              <a:off x="3997440" y="5421240"/>
              <a:ext cx="2412720" cy="1019160"/>
            </a:xfrm>
            <a:prstGeom prst="pi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AutoShape 36"/>
            <p:cNvSpPr/>
            <p:nvPr/>
          </p:nvSpPr>
          <p:spPr>
            <a:xfrm>
              <a:off x="3997440" y="5421240"/>
              <a:ext cx="2412720" cy="980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src: 223.1.2.5, 67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dest:  255.255.255.255, 6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yiaddrr: 223.1.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transaction ID: 65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lifetime: 3600 se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Group 37"/>
          <p:cNvGrpSpPr/>
          <p:nvPr/>
        </p:nvGrpSpPr>
        <p:grpSpPr>
          <a:xfrm>
            <a:off x="6666120" y="1781280"/>
            <a:ext cx="793440" cy="569520"/>
            <a:chOff x="6666120" y="1781280"/>
            <a:chExt cx="793440" cy="569520"/>
          </a:xfrm>
        </p:grpSpPr>
        <p:pic>
          <p:nvPicPr>
            <p:cNvPr id="994" name="Picture 38" descr="laptop_keyboard"/>
            <p:cNvPicPr/>
            <p:nvPr/>
          </p:nvPicPr>
          <p:blipFill>
            <a:blip r:embed="rId1"/>
            <a:stretch/>
          </p:blipFill>
          <p:spPr>
            <a:xfrm flipH="1" rot="109800">
              <a:off x="6670440" y="2061360"/>
              <a:ext cx="677160" cy="27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5" name="AutoShape 39"/>
            <p:cNvSpPr/>
            <p:nvPr/>
          </p:nvSpPr>
          <p:spPr>
            <a:xfrm>
              <a:off x="6895440" y="1793160"/>
              <a:ext cx="544680" cy="36252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6" name="Picture 40" descr="screen"/>
            <p:cNvPicPr/>
            <p:nvPr/>
          </p:nvPicPr>
          <p:blipFill>
            <a:blip r:embed="rId2"/>
            <a:stretch/>
          </p:blipFill>
          <p:spPr>
            <a:xfrm>
              <a:off x="6922440" y="1801800"/>
              <a:ext cx="49464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7" name="AutoShape 41"/>
            <p:cNvSpPr/>
            <p:nvPr/>
          </p:nvSpPr>
          <p:spPr>
            <a:xfrm>
              <a:off x="6994440" y="1782360"/>
              <a:ext cx="461160" cy="66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AutoShape 42"/>
            <p:cNvSpPr/>
            <p:nvPr/>
          </p:nvSpPr>
          <p:spPr>
            <a:xfrm>
              <a:off x="6890400" y="1781280"/>
              <a:ext cx="128520" cy="2804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AutoShape 43"/>
            <p:cNvSpPr/>
            <p:nvPr/>
          </p:nvSpPr>
          <p:spPr>
            <a:xfrm>
              <a:off x="7314480" y="1832400"/>
              <a:ext cx="138600" cy="32328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AutoShape 44"/>
            <p:cNvSpPr/>
            <p:nvPr/>
          </p:nvSpPr>
          <p:spPr>
            <a:xfrm>
              <a:off x="6888960" y="2048400"/>
              <a:ext cx="471960" cy="108360"/>
            </a:xfrm>
            <a:prstGeom prst="pie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AutoShape 45"/>
            <p:cNvSpPr/>
            <p:nvPr/>
          </p:nvSpPr>
          <p:spPr>
            <a:xfrm>
              <a:off x="7329960" y="1834920"/>
              <a:ext cx="129600" cy="3243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AutoShape 46"/>
            <p:cNvSpPr/>
            <p:nvPr/>
          </p:nvSpPr>
          <p:spPr>
            <a:xfrm>
              <a:off x="6888960" y="2063160"/>
              <a:ext cx="451080" cy="107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3" name="Group 47"/>
            <p:cNvGrpSpPr/>
            <p:nvPr/>
          </p:nvGrpSpPr>
          <p:grpSpPr>
            <a:xfrm>
              <a:off x="6881400" y="2178000"/>
              <a:ext cx="152640" cy="64440"/>
              <a:chOff x="6881400" y="2178000"/>
              <a:chExt cx="152640" cy="64440"/>
            </a:xfrm>
          </p:grpSpPr>
          <p:sp>
            <p:nvSpPr>
              <p:cNvPr id="1004" name="AutoShape 48"/>
              <p:cNvSpPr/>
              <p:nvPr/>
            </p:nvSpPr>
            <p:spPr>
              <a:xfrm>
                <a:off x="6881400" y="2178000"/>
                <a:ext cx="152640" cy="64440"/>
              </a:xfrm>
              <a:prstGeom prst="pi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AutoShape 49"/>
              <p:cNvSpPr/>
              <p:nvPr/>
            </p:nvSpPr>
            <p:spPr>
              <a:xfrm>
                <a:off x="6883920" y="2179080"/>
                <a:ext cx="147600" cy="61560"/>
              </a:xfrm>
              <a:prstGeom prst="pi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AutoShape 50"/>
              <p:cNvSpPr/>
              <p:nvPr/>
            </p:nvSpPr>
            <p:spPr>
              <a:xfrm>
                <a:off x="6895080" y="2203200"/>
                <a:ext cx="52200" cy="19800"/>
              </a:xfrm>
              <a:prstGeom prst="pi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AutoShape 51"/>
              <p:cNvSpPr/>
              <p:nvPr/>
            </p:nvSpPr>
            <p:spPr>
              <a:xfrm>
                <a:off x="6893280" y="2212200"/>
                <a:ext cx="39240" cy="12240"/>
              </a:xfrm>
              <a:prstGeom prst="pi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AutoShape 52"/>
              <p:cNvSpPr/>
              <p:nvPr/>
            </p:nvSpPr>
            <p:spPr>
              <a:xfrm>
                <a:off x="6938280" y="2215800"/>
                <a:ext cx="52200" cy="20160"/>
              </a:xfrm>
              <a:prstGeom prst="pi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AutoShape 53"/>
              <p:cNvSpPr/>
              <p:nvPr/>
            </p:nvSpPr>
            <p:spPr>
              <a:xfrm>
                <a:off x="6936480" y="2225520"/>
                <a:ext cx="39240" cy="12240"/>
              </a:xfrm>
              <a:prstGeom prst="pi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0" name="AutoShape 54"/>
            <p:cNvSpPr/>
            <p:nvPr/>
          </p:nvSpPr>
          <p:spPr>
            <a:xfrm>
              <a:off x="7143480" y="2187720"/>
              <a:ext cx="185040" cy="1414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AutoShape 55"/>
            <p:cNvSpPr/>
            <p:nvPr/>
          </p:nvSpPr>
          <p:spPr>
            <a:xfrm>
              <a:off x="6670800" y="2198520"/>
              <a:ext cx="474120" cy="129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AutoShape 56"/>
            <p:cNvSpPr/>
            <p:nvPr/>
          </p:nvSpPr>
          <p:spPr>
            <a:xfrm>
              <a:off x="6670800" y="2175480"/>
              <a:ext cx="5040" cy="255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AutoShape 57"/>
            <p:cNvSpPr/>
            <p:nvPr/>
          </p:nvSpPr>
          <p:spPr>
            <a:xfrm>
              <a:off x="6671880" y="2069280"/>
              <a:ext cx="219600" cy="107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AutoShape 58"/>
            <p:cNvSpPr/>
            <p:nvPr/>
          </p:nvSpPr>
          <p:spPr>
            <a:xfrm>
              <a:off x="6685920" y="2180160"/>
              <a:ext cx="449640" cy="124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AutoShape 59"/>
            <p:cNvSpPr/>
            <p:nvPr/>
          </p:nvSpPr>
          <p:spPr>
            <a:xfrm flipH="1" rot="10800000">
              <a:off x="7135920" y="2171880"/>
              <a:ext cx="182160" cy="128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Group 60"/>
          <p:cNvGrpSpPr/>
          <p:nvPr/>
        </p:nvGrpSpPr>
        <p:grpSpPr>
          <a:xfrm>
            <a:off x="2098800" y="1590840"/>
            <a:ext cx="333360" cy="536400"/>
            <a:chOff x="2098800" y="1590840"/>
            <a:chExt cx="333360" cy="536400"/>
          </a:xfrm>
        </p:grpSpPr>
        <p:sp>
          <p:nvSpPr>
            <p:cNvPr id="1017" name="AutoShape 61"/>
            <p:cNvSpPr/>
            <p:nvPr/>
          </p:nvSpPr>
          <p:spPr>
            <a:xfrm>
              <a:off x="2362680" y="1591560"/>
              <a:ext cx="66240" cy="51192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AutoShape 62"/>
            <p:cNvSpPr/>
            <p:nvPr/>
          </p:nvSpPr>
          <p:spPr>
            <a:xfrm>
              <a:off x="2114640" y="1590840"/>
              <a:ext cx="245160" cy="511200"/>
            </a:xfrm>
            <a:prstGeom prst="pi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AutoShape 63"/>
            <p:cNvSpPr/>
            <p:nvPr/>
          </p:nvSpPr>
          <p:spPr>
            <a:xfrm>
              <a:off x="2376360" y="1622160"/>
              <a:ext cx="38160" cy="46692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AutoShape 64"/>
            <p:cNvSpPr/>
            <p:nvPr/>
          </p:nvSpPr>
          <p:spPr>
            <a:xfrm>
              <a:off x="2366640" y="1861920"/>
              <a:ext cx="61560" cy="42120"/>
            </a:xfrm>
            <a:prstGeom prst="pi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AutoShape 65"/>
            <p:cNvSpPr/>
            <p:nvPr/>
          </p:nvSpPr>
          <p:spPr>
            <a:xfrm>
              <a:off x="2116080" y="1649520"/>
              <a:ext cx="138960" cy="111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2" name="Group 66"/>
            <p:cNvGrpSpPr/>
            <p:nvPr/>
          </p:nvGrpSpPr>
          <p:grpSpPr>
            <a:xfrm>
              <a:off x="2241000" y="1644840"/>
              <a:ext cx="135720" cy="31680"/>
              <a:chOff x="2241000" y="1644840"/>
              <a:chExt cx="135720" cy="31680"/>
            </a:xfrm>
          </p:grpSpPr>
          <p:sp>
            <p:nvSpPr>
              <p:cNvPr id="1023" name="AutoShape 67"/>
              <p:cNvSpPr/>
              <p:nvPr/>
            </p:nvSpPr>
            <p:spPr>
              <a:xfrm>
                <a:off x="2241000" y="1644840"/>
                <a:ext cx="135720" cy="31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AutoShape 68"/>
              <p:cNvSpPr/>
              <p:nvPr/>
            </p:nvSpPr>
            <p:spPr>
              <a:xfrm>
                <a:off x="2243880" y="1648080"/>
                <a:ext cx="12960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5" name="AutoShape 69"/>
            <p:cNvSpPr/>
            <p:nvPr/>
          </p:nvSpPr>
          <p:spPr>
            <a:xfrm>
              <a:off x="2117520" y="1722240"/>
              <a:ext cx="140400" cy="111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6" name="Group 70"/>
            <p:cNvGrpSpPr/>
            <p:nvPr/>
          </p:nvGrpSpPr>
          <p:grpSpPr>
            <a:xfrm>
              <a:off x="2241000" y="1717560"/>
              <a:ext cx="135720" cy="29880"/>
              <a:chOff x="2241000" y="1717560"/>
              <a:chExt cx="135720" cy="29880"/>
            </a:xfrm>
          </p:grpSpPr>
          <p:sp>
            <p:nvSpPr>
              <p:cNvPr id="1027" name="AutoShape 71"/>
              <p:cNvSpPr/>
              <p:nvPr/>
            </p:nvSpPr>
            <p:spPr>
              <a:xfrm>
                <a:off x="2241000" y="1717560"/>
                <a:ext cx="13572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AutoShape 72"/>
              <p:cNvSpPr/>
              <p:nvPr/>
            </p:nvSpPr>
            <p:spPr>
              <a:xfrm>
                <a:off x="2243880" y="1720440"/>
                <a:ext cx="12960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9" name="AutoShape 73"/>
            <p:cNvSpPr/>
            <p:nvPr/>
          </p:nvSpPr>
          <p:spPr>
            <a:xfrm>
              <a:off x="2116080" y="1798920"/>
              <a:ext cx="140400" cy="111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AutoShape 74"/>
            <p:cNvSpPr/>
            <p:nvPr/>
          </p:nvSpPr>
          <p:spPr>
            <a:xfrm>
              <a:off x="2119320" y="1865160"/>
              <a:ext cx="138960" cy="111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1" name="Group 75"/>
            <p:cNvGrpSpPr/>
            <p:nvPr/>
          </p:nvGrpSpPr>
          <p:grpSpPr>
            <a:xfrm>
              <a:off x="2237760" y="1859040"/>
              <a:ext cx="136080" cy="33120"/>
              <a:chOff x="2237760" y="1859040"/>
              <a:chExt cx="136080" cy="33120"/>
            </a:xfrm>
          </p:grpSpPr>
          <p:sp>
            <p:nvSpPr>
              <p:cNvPr id="1032" name="AutoShape 76"/>
              <p:cNvSpPr/>
              <p:nvPr/>
            </p:nvSpPr>
            <p:spPr>
              <a:xfrm>
                <a:off x="2237760" y="1859040"/>
                <a:ext cx="136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AutoShape 77"/>
              <p:cNvSpPr/>
              <p:nvPr/>
            </p:nvSpPr>
            <p:spPr>
              <a:xfrm>
                <a:off x="2240640" y="1861920"/>
                <a:ext cx="129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4" name="AutoShape 78"/>
            <p:cNvSpPr/>
            <p:nvPr/>
          </p:nvSpPr>
          <p:spPr>
            <a:xfrm>
              <a:off x="2367360" y="1797840"/>
              <a:ext cx="61560" cy="41760"/>
            </a:xfrm>
            <a:prstGeom prst="pi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5" name="Group 79"/>
            <p:cNvGrpSpPr/>
            <p:nvPr/>
          </p:nvGrpSpPr>
          <p:grpSpPr>
            <a:xfrm>
              <a:off x="2239560" y="1792440"/>
              <a:ext cx="136080" cy="30240"/>
              <a:chOff x="2239560" y="1792440"/>
              <a:chExt cx="136080" cy="30240"/>
            </a:xfrm>
          </p:grpSpPr>
          <p:sp>
            <p:nvSpPr>
              <p:cNvPr id="1036" name="AutoShape 80"/>
              <p:cNvSpPr/>
              <p:nvPr/>
            </p:nvSpPr>
            <p:spPr>
              <a:xfrm>
                <a:off x="2239560" y="1792440"/>
                <a:ext cx="13608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AutoShape 81"/>
              <p:cNvSpPr/>
              <p:nvPr/>
            </p:nvSpPr>
            <p:spPr>
              <a:xfrm>
                <a:off x="2242440" y="1795320"/>
                <a:ext cx="12996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8" name="AutoShape 82"/>
            <p:cNvSpPr/>
            <p:nvPr/>
          </p:nvSpPr>
          <p:spPr>
            <a:xfrm>
              <a:off x="2358000" y="1590840"/>
              <a:ext cx="15840" cy="513000"/>
            </a:xfrm>
            <a:prstGeom prst="pie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AutoShape 83"/>
            <p:cNvSpPr/>
            <p:nvPr/>
          </p:nvSpPr>
          <p:spPr>
            <a:xfrm>
              <a:off x="2373120" y="1720080"/>
              <a:ext cx="55440" cy="47520"/>
            </a:xfrm>
            <a:prstGeom prst="pi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AutoShape 84"/>
            <p:cNvSpPr/>
            <p:nvPr/>
          </p:nvSpPr>
          <p:spPr>
            <a:xfrm>
              <a:off x="2373840" y="1647000"/>
              <a:ext cx="56880" cy="53640"/>
            </a:xfrm>
            <a:prstGeom prst="pi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AutoShape 85"/>
            <p:cNvSpPr/>
            <p:nvPr/>
          </p:nvSpPr>
          <p:spPr>
            <a:xfrm>
              <a:off x="2421360" y="2079720"/>
              <a:ext cx="10800" cy="2052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AutoShape 86"/>
            <p:cNvSpPr/>
            <p:nvPr/>
          </p:nvSpPr>
          <p:spPr>
            <a:xfrm>
              <a:off x="2370600" y="2080080"/>
              <a:ext cx="57240" cy="446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AutoShape 87"/>
            <p:cNvSpPr/>
            <p:nvPr/>
          </p:nvSpPr>
          <p:spPr>
            <a:xfrm>
              <a:off x="2098800" y="2094120"/>
              <a:ext cx="281160" cy="331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AutoShape 88"/>
            <p:cNvSpPr/>
            <p:nvPr/>
          </p:nvSpPr>
          <p:spPr>
            <a:xfrm>
              <a:off x="2114640" y="2102040"/>
              <a:ext cx="24984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AutoShape 89"/>
            <p:cNvSpPr/>
            <p:nvPr/>
          </p:nvSpPr>
          <p:spPr>
            <a:xfrm>
              <a:off x="2138040" y="2028960"/>
              <a:ext cx="36000" cy="31680"/>
            </a:xfrm>
            <a:prstGeom prst="pi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AutoShape 90"/>
            <p:cNvSpPr/>
            <p:nvPr/>
          </p:nvSpPr>
          <p:spPr>
            <a:xfrm>
              <a:off x="2179080" y="2028960"/>
              <a:ext cx="37800" cy="316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AutoShape 91"/>
            <p:cNvSpPr/>
            <p:nvPr/>
          </p:nvSpPr>
          <p:spPr>
            <a:xfrm>
              <a:off x="2220480" y="2027160"/>
              <a:ext cx="37800" cy="31680"/>
            </a:xfrm>
            <a:prstGeom prst="pi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AutoShape 92"/>
            <p:cNvSpPr/>
            <p:nvPr/>
          </p:nvSpPr>
          <p:spPr>
            <a:xfrm>
              <a:off x="2315160" y="1905120"/>
              <a:ext cx="18720" cy="171360"/>
            </a:xfrm>
            <a:prstGeom prst="pie">
              <a:avLst/>
            </a:prstGeom>
            <a:solidFill>
              <a:srgbClr val="29292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819000" y="255600"/>
            <a:ext cx="682488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HCP client-server scen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0" name="Picture 94" descr="underline_base"/>
          <p:cNvPicPr/>
          <p:nvPr/>
        </p:nvPicPr>
        <p:blipFill>
          <a:blip r:embed="rId3"/>
          <a:stretch/>
        </p:blipFill>
        <p:spPr>
          <a:xfrm>
            <a:off x="895320" y="93204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1051" name="Slide Number Placeholder 96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3DCA-90E7-4333-B762-DAAEE1DB880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AutoShape 2"/>
          <p:cNvSpPr/>
          <p:nvPr/>
        </p:nvSpPr>
        <p:spPr>
          <a:xfrm>
            <a:off x="5913360" y="6467400"/>
            <a:ext cx="28940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AutoShape 3"/>
          <p:cNvSpPr/>
          <p:nvPr/>
        </p:nvSpPr>
        <p:spPr>
          <a:xfrm>
            <a:off x="8705880" y="6462720"/>
            <a:ext cx="6746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-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914400" y="2268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HCP: more than 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HCP can return more than just allocated IP address on subn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ress of first-hop router for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 and IP address of DNS s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mask (indicating network versus host portion of addr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7" name="Picture 6" descr="underline_base"/>
          <p:cNvPicPr/>
          <p:nvPr/>
        </p:nvPicPr>
        <p:blipFill>
          <a:blip r:embed="rId1"/>
          <a:stretch/>
        </p:blipFill>
        <p:spPr>
          <a:xfrm>
            <a:off x="982800" y="104760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1058" name="Slide Number Placeholder 8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E335-FA43-4CC7-866C-9DFD85BD549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AutoShape 2"/>
          <p:cNvSpPr/>
          <p:nvPr/>
        </p:nvSpPr>
        <p:spPr>
          <a:xfrm>
            <a:off x="5913360" y="6467400"/>
            <a:ext cx="28940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AutoShape 3"/>
          <p:cNvSpPr/>
          <p:nvPr/>
        </p:nvSpPr>
        <p:spPr>
          <a:xfrm>
            <a:off x="8705880" y="6462720"/>
            <a:ext cx="6746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-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5417640" y="1284120"/>
            <a:ext cx="34210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52000" indent="-2520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necting laptop needs its IP address, addr of first-hop router, addr of DNS server: use DHC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AutoShape 5"/>
          <p:cNvSpPr/>
          <p:nvPr/>
        </p:nvSpPr>
        <p:spPr>
          <a:xfrm>
            <a:off x="1184400" y="1444680"/>
            <a:ext cx="3465360" cy="273060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6"/>
          <p:cNvSpPr/>
          <p:nvPr/>
        </p:nvSpPr>
        <p:spPr>
          <a:xfrm flipV="1">
            <a:off x="4156200" y="2498400"/>
            <a:ext cx="155520" cy="144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7"/>
          <p:cNvSpPr/>
          <p:nvPr/>
        </p:nvSpPr>
        <p:spPr>
          <a:xfrm>
            <a:off x="3046320" y="2673360"/>
            <a:ext cx="6955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Line 8"/>
          <p:cNvSpPr/>
          <p:nvPr/>
        </p:nvSpPr>
        <p:spPr>
          <a:xfrm flipV="1">
            <a:off x="4305240" y="2355480"/>
            <a:ext cx="138240" cy="1443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Line 9"/>
          <p:cNvSpPr/>
          <p:nvPr/>
        </p:nvSpPr>
        <p:spPr>
          <a:xfrm flipV="1">
            <a:off x="3660840" y="2890440"/>
            <a:ext cx="512640" cy="614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AutoShape 10"/>
          <p:cNvSpPr/>
          <p:nvPr/>
        </p:nvSpPr>
        <p:spPr>
          <a:xfrm>
            <a:off x="2943360" y="3967200"/>
            <a:ext cx="1763640" cy="890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router with DHC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server built i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11"/>
          <p:cNvSpPr/>
          <p:nvPr/>
        </p:nvSpPr>
        <p:spPr>
          <a:xfrm>
            <a:off x="5418000" y="2575080"/>
            <a:ext cx="3892680" cy="161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HCP request encapsulated in UDP, encapsulated in IP, encapsulated in 802.1 Ether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AutoShape 12"/>
          <p:cNvSpPr/>
          <p:nvPr/>
        </p:nvSpPr>
        <p:spPr>
          <a:xfrm>
            <a:off x="5416560" y="3821040"/>
            <a:ext cx="3924360" cy="1265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thernet frame broadcast (dest: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FFFFFFFFFFF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) on LAN, received at router running DHCP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AutoShape 13"/>
          <p:cNvSpPr/>
          <p:nvPr/>
        </p:nvSpPr>
        <p:spPr>
          <a:xfrm>
            <a:off x="5415120" y="5157720"/>
            <a:ext cx="3801960" cy="979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thernet demuxed to IP demuxed, UDP demuxed to DHC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AutoShape 14"/>
          <p:cNvSpPr/>
          <p:nvPr/>
        </p:nvSpPr>
        <p:spPr>
          <a:xfrm>
            <a:off x="3708360" y="3284640"/>
            <a:ext cx="10479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168.1.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3" name="Group 15"/>
          <p:cNvGrpSpPr/>
          <p:nvPr/>
        </p:nvGrpSpPr>
        <p:grpSpPr>
          <a:xfrm>
            <a:off x="3521160" y="2598840"/>
            <a:ext cx="963360" cy="299880"/>
            <a:chOff x="3521160" y="2598840"/>
            <a:chExt cx="963360" cy="299880"/>
          </a:xfrm>
        </p:grpSpPr>
        <p:sp>
          <p:nvSpPr>
            <p:cNvPr id="1074" name="AutoShape 16"/>
            <p:cNvSpPr/>
            <p:nvPr/>
          </p:nvSpPr>
          <p:spPr>
            <a:xfrm>
              <a:off x="3521160" y="2779560"/>
              <a:ext cx="719280" cy="1162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AutoShape 17"/>
            <p:cNvSpPr/>
            <p:nvPr/>
          </p:nvSpPr>
          <p:spPr>
            <a:xfrm>
              <a:off x="3521160" y="2603880"/>
              <a:ext cx="963360" cy="1792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AutoShape 18"/>
            <p:cNvSpPr/>
            <p:nvPr/>
          </p:nvSpPr>
          <p:spPr>
            <a:xfrm>
              <a:off x="4239000" y="2598840"/>
              <a:ext cx="245520" cy="299880"/>
            </a:xfrm>
            <a:prstGeom prst="pie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AutoShape 19"/>
            <p:cNvSpPr/>
            <p:nvPr/>
          </p:nvSpPr>
          <p:spPr>
            <a:xfrm>
              <a:off x="3615480" y="2638800"/>
              <a:ext cx="735480" cy="106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AutoShape 20"/>
            <p:cNvSpPr/>
            <p:nvPr/>
          </p:nvSpPr>
          <p:spPr>
            <a:xfrm>
              <a:off x="3786840" y="2633400"/>
              <a:ext cx="425880" cy="1245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9" name="Group 21"/>
          <p:cNvGrpSpPr/>
          <p:nvPr/>
        </p:nvGrpSpPr>
        <p:grpSpPr>
          <a:xfrm>
            <a:off x="3054240" y="3525840"/>
            <a:ext cx="1068480" cy="406440"/>
            <a:chOff x="3054240" y="3525840"/>
            <a:chExt cx="1068480" cy="406440"/>
          </a:xfrm>
        </p:grpSpPr>
        <p:sp>
          <p:nvSpPr>
            <p:cNvPr id="1080" name="AutoShape 22"/>
            <p:cNvSpPr/>
            <p:nvPr/>
          </p:nvSpPr>
          <p:spPr>
            <a:xfrm>
              <a:off x="3058920" y="3706200"/>
              <a:ext cx="1059120" cy="22608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AutoShape 23"/>
            <p:cNvSpPr/>
            <p:nvPr/>
          </p:nvSpPr>
          <p:spPr>
            <a:xfrm>
              <a:off x="3058920" y="3679920"/>
              <a:ext cx="1063800" cy="14076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AutoShape 24"/>
            <p:cNvSpPr/>
            <p:nvPr/>
          </p:nvSpPr>
          <p:spPr>
            <a:xfrm>
              <a:off x="3054240" y="3525840"/>
              <a:ext cx="1060560" cy="26568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3" name="Group 25"/>
            <p:cNvGrpSpPr/>
            <p:nvPr/>
          </p:nvGrpSpPr>
          <p:grpSpPr>
            <a:xfrm>
              <a:off x="3267360" y="3594600"/>
              <a:ext cx="599400" cy="122760"/>
              <a:chOff x="3267360" y="3594600"/>
              <a:chExt cx="599400" cy="122760"/>
            </a:xfrm>
          </p:grpSpPr>
          <p:sp>
            <p:nvSpPr>
              <p:cNvPr id="1084" name="AutoShape 26"/>
              <p:cNvSpPr/>
              <p:nvPr/>
            </p:nvSpPr>
            <p:spPr>
              <a:xfrm>
                <a:off x="3267360" y="3594600"/>
                <a:ext cx="599400" cy="122760"/>
              </a:xfrm>
              <a:prstGeom prst="pie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AutoShape 27"/>
              <p:cNvSpPr/>
              <p:nvPr/>
            </p:nvSpPr>
            <p:spPr>
              <a:xfrm>
                <a:off x="3294360" y="3594600"/>
                <a:ext cx="545400" cy="122760"/>
              </a:xfrm>
              <a:prstGeom prst="pie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6" name="Line 28"/>
            <p:cNvSpPr/>
            <p:nvPr/>
          </p:nvSpPr>
          <p:spPr>
            <a:xfrm>
              <a:off x="3058920" y="3650400"/>
              <a:ext cx="0" cy="17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Line 29"/>
            <p:cNvSpPr/>
            <p:nvPr/>
          </p:nvSpPr>
          <p:spPr>
            <a:xfrm>
              <a:off x="4114800" y="3658680"/>
              <a:ext cx="0" cy="17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8" name="Group 30"/>
          <p:cNvGrpSpPr/>
          <p:nvPr/>
        </p:nvGrpSpPr>
        <p:grpSpPr>
          <a:xfrm>
            <a:off x="3086280" y="3328920"/>
            <a:ext cx="425160" cy="649440"/>
            <a:chOff x="3086280" y="3328920"/>
            <a:chExt cx="425160" cy="649440"/>
          </a:xfrm>
        </p:grpSpPr>
        <p:sp>
          <p:nvSpPr>
            <p:cNvPr id="1089" name="AutoShape 31"/>
            <p:cNvSpPr/>
            <p:nvPr/>
          </p:nvSpPr>
          <p:spPr>
            <a:xfrm>
              <a:off x="3422880" y="3330000"/>
              <a:ext cx="84240" cy="61992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AutoShape 32"/>
            <p:cNvSpPr/>
            <p:nvPr/>
          </p:nvSpPr>
          <p:spPr>
            <a:xfrm>
              <a:off x="3105360" y="3328920"/>
              <a:ext cx="313560" cy="619200"/>
            </a:xfrm>
            <a:prstGeom prst="pi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AutoShape 33"/>
            <p:cNvSpPr/>
            <p:nvPr/>
          </p:nvSpPr>
          <p:spPr>
            <a:xfrm>
              <a:off x="3440520" y="3367080"/>
              <a:ext cx="48600" cy="56556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AutoShape 34"/>
            <p:cNvSpPr/>
            <p:nvPr/>
          </p:nvSpPr>
          <p:spPr>
            <a:xfrm>
              <a:off x="3427560" y="3657240"/>
              <a:ext cx="78480" cy="51120"/>
            </a:xfrm>
            <a:prstGeom prst="pi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AutoShape 35"/>
            <p:cNvSpPr/>
            <p:nvPr/>
          </p:nvSpPr>
          <p:spPr>
            <a:xfrm>
              <a:off x="3106800" y="3400200"/>
              <a:ext cx="178560" cy="1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4" name="Group 36"/>
            <p:cNvGrpSpPr/>
            <p:nvPr/>
          </p:nvGrpSpPr>
          <p:grpSpPr>
            <a:xfrm>
              <a:off x="3267720" y="3394080"/>
              <a:ext cx="173520" cy="38160"/>
              <a:chOff x="3267720" y="3394080"/>
              <a:chExt cx="173520" cy="38160"/>
            </a:xfrm>
          </p:grpSpPr>
          <p:sp>
            <p:nvSpPr>
              <p:cNvPr id="1095" name="AutoShape 37"/>
              <p:cNvSpPr/>
              <p:nvPr/>
            </p:nvSpPr>
            <p:spPr>
              <a:xfrm>
                <a:off x="3267720" y="3394080"/>
                <a:ext cx="17352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AutoShape 38"/>
              <p:cNvSpPr/>
              <p:nvPr/>
            </p:nvSpPr>
            <p:spPr>
              <a:xfrm>
                <a:off x="3270960" y="3398760"/>
                <a:ext cx="1659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7" name="AutoShape 39"/>
            <p:cNvSpPr/>
            <p:nvPr/>
          </p:nvSpPr>
          <p:spPr>
            <a:xfrm>
              <a:off x="3111480" y="3488040"/>
              <a:ext cx="176760" cy="1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8" name="Group 40"/>
            <p:cNvGrpSpPr/>
            <p:nvPr/>
          </p:nvGrpSpPr>
          <p:grpSpPr>
            <a:xfrm>
              <a:off x="3267720" y="3481560"/>
              <a:ext cx="173520" cy="36360"/>
              <a:chOff x="3267720" y="3481560"/>
              <a:chExt cx="173520" cy="36360"/>
            </a:xfrm>
          </p:grpSpPr>
          <p:sp>
            <p:nvSpPr>
              <p:cNvPr id="1099" name="AutoShape 41"/>
              <p:cNvSpPr/>
              <p:nvPr/>
            </p:nvSpPr>
            <p:spPr>
              <a:xfrm>
                <a:off x="3267720" y="3481560"/>
                <a:ext cx="173520" cy="363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AutoShape 42"/>
              <p:cNvSpPr/>
              <p:nvPr/>
            </p:nvSpPr>
            <p:spPr>
              <a:xfrm>
                <a:off x="3270600" y="3486240"/>
                <a:ext cx="16596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1" name="AutoShape 43"/>
            <p:cNvSpPr/>
            <p:nvPr/>
          </p:nvSpPr>
          <p:spPr>
            <a:xfrm>
              <a:off x="3108600" y="3580560"/>
              <a:ext cx="178560" cy="1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AutoShape 44"/>
            <p:cNvSpPr/>
            <p:nvPr/>
          </p:nvSpPr>
          <p:spPr>
            <a:xfrm>
              <a:off x="3111480" y="3661560"/>
              <a:ext cx="178560" cy="1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3" name="Group 45"/>
            <p:cNvGrpSpPr/>
            <p:nvPr/>
          </p:nvGrpSpPr>
          <p:grpSpPr>
            <a:xfrm>
              <a:off x="3263040" y="3653640"/>
              <a:ext cx="174960" cy="41400"/>
              <a:chOff x="3263040" y="3653640"/>
              <a:chExt cx="174960" cy="41400"/>
            </a:xfrm>
          </p:grpSpPr>
          <p:sp>
            <p:nvSpPr>
              <p:cNvPr id="1104" name="AutoShape 46"/>
              <p:cNvSpPr/>
              <p:nvPr/>
            </p:nvSpPr>
            <p:spPr>
              <a:xfrm>
                <a:off x="3263040" y="3653640"/>
                <a:ext cx="17496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AutoShape 47"/>
              <p:cNvSpPr/>
              <p:nvPr/>
            </p:nvSpPr>
            <p:spPr>
              <a:xfrm>
                <a:off x="3265920" y="3658320"/>
                <a:ext cx="16740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6" name="AutoShape 48"/>
            <p:cNvSpPr/>
            <p:nvPr/>
          </p:nvSpPr>
          <p:spPr>
            <a:xfrm>
              <a:off x="3429000" y="3579480"/>
              <a:ext cx="78480" cy="50760"/>
            </a:xfrm>
            <a:prstGeom prst="pi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7" name="Group 49"/>
            <p:cNvGrpSpPr/>
            <p:nvPr/>
          </p:nvGrpSpPr>
          <p:grpSpPr>
            <a:xfrm>
              <a:off x="3264480" y="3572640"/>
              <a:ext cx="173520" cy="38160"/>
              <a:chOff x="3264480" y="3572640"/>
              <a:chExt cx="173520" cy="38160"/>
            </a:xfrm>
          </p:grpSpPr>
          <p:sp>
            <p:nvSpPr>
              <p:cNvPr id="1108" name="AutoShape 50"/>
              <p:cNvSpPr/>
              <p:nvPr/>
            </p:nvSpPr>
            <p:spPr>
              <a:xfrm>
                <a:off x="3264480" y="3572640"/>
                <a:ext cx="17352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AutoShape 51"/>
              <p:cNvSpPr/>
              <p:nvPr/>
            </p:nvSpPr>
            <p:spPr>
              <a:xfrm>
                <a:off x="3267720" y="3576960"/>
                <a:ext cx="16560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0" name="AutoShape 52"/>
            <p:cNvSpPr/>
            <p:nvPr/>
          </p:nvSpPr>
          <p:spPr>
            <a:xfrm>
              <a:off x="3417480" y="3328920"/>
              <a:ext cx="20520" cy="621000"/>
            </a:xfrm>
            <a:prstGeom prst="pie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AutoShape 53"/>
            <p:cNvSpPr/>
            <p:nvPr/>
          </p:nvSpPr>
          <p:spPr>
            <a:xfrm>
              <a:off x="3436200" y="3485520"/>
              <a:ext cx="70560" cy="57600"/>
            </a:xfrm>
            <a:prstGeom prst="pi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AutoShape 54"/>
            <p:cNvSpPr/>
            <p:nvPr/>
          </p:nvSpPr>
          <p:spPr>
            <a:xfrm>
              <a:off x="3436920" y="3396960"/>
              <a:ext cx="72720" cy="64800"/>
            </a:xfrm>
            <a:prstGeom prst="pi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AutoShape 55"/>
            <p:cNvSpPr/>
            <p:nvPr/>
          </p:nvSpPr>
          <p:spPr>
            <a:xfrm>
              <a:off x="3497400" y="3921480"/>
              <a:ext cx="14040" cy="2520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AutoShape 56"/>
            <p:cNvSpPr/>
            <p:nvPr/>
          </p:nvSpPr>
          <p:spPr>
            <a:xfrm>
              <a:off x="3432960" y="3921480"/>
              <a:ext cx="73080" cy="5400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AutoShape 57"/>
            <p:cNvSpPr/>
            <p:nvPr/>
          </p:nvSpPr>
          <p:spPr>
            <a:xfrm>
              <a:off x="3086280" y="3938760"/>
              <a:ext cx="35856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AutoShape 58"/>
            <p:cNvSpPr/>
            <p:nvPr/>
          </p:nvSpPr>
          <p:spPr>
            <a:xfrm>
              <a:off x="3105360" y="3948120"/>
              <a:ext cx="32040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AutoShape 59"/>
            <p:cNvSpPr/>
            <p:nvPr/>
          </p:nvSpPr>
          <p:spPr>
            <a:xfrm>
              <a:off x="3135240" y="3859200"/>
              <a:ext cx="47520" cy="38160"/>
            </a:xfrm>
            <a:prstGeom prst="pi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AutoShape 60"/>
            <p:cNvSpPr/>
            <p:nvPr/>
          </p:nvSpPr>
          <p:spPr>
            <a:xfrm>
              <a:off x="3189600" y="3859200"/>
              <a:ext cx="47520" cy="38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AutoShape 61"/>
            <p:cNvSpPr/>
            <p:nvPr/>
          </p:nvSpPr>
          <p:spPr>
            <a:xfrm>
              <a:off x="3242160" y="3857760"/>
              <a:ext cx="46080" cy="38160"/>
            </a:xfrm>
            <a:prstGeom prst="pi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AutoShape 62"/>
            <p:cNvSpPr/>
            <p:nvPr/>
          </p:nvSpPr>
          <p:spPr>
            <a:xfrm>
              <a:off x="3361680" y="3709440"/>
              <a:ext cx="25200" cy="206640"/>
            </a:xfrm>
            <a:prstGeom prst="pie">
              <a:avLst/>
            </a:prstGeom>
            <a:solidFill>
              <a:srgbClr val="29292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1" name="Group 63"/>
          <p:cNvGrpSpPr/>
          <p:nvPr/>
        </p:nvGrpSpPr>
        <p:grpSpPr>
          <a:xfrm>
            <a:off x="2349360" y="2295360"/>
            <a:ext cx="860400" cy="639000"/>
            <a:chOff x="2349360" y="2295360"/>
            <a:chExt cx="860400" cy="639000"/>
          </a:xfrm>
        </p:grpSpPr>
        <p:pic>
          <p:nvPicPr>
            <p:cNvPr id="1122" name="Picture 64" descr="laptop_keyboard"/>
            <p:cNvPicPr/>
            <p:nvPr/>
          </p:nvPicPr>
          <p:blipFill>
            <a:blip r:embed="rId1"/>
            <a:stretch/>
          </p:blipFill>
          <p:spPr>
            <a:xfrm flipH="1" rot="109800">
              <a:off x="2354040" y="2610360"/>
              <a:ext cx="734400" cy="31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3" name="AutoShape 65"/>
            <p:cNvSpPr/>
            <p:nvPr/>
          </p:nvSpPr>
          <p:spPr>
            <a:xfrm>
              <a:off x="2598120" y="2309040"/>
              <a:ext cx="590760" cy="4068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24" name="Picture 66" descr="screen"/>
            <p:cNvPicPr/>
            <p:nvPr/>
          </p:nvPicPr>
          <p:blipFill>
            <a:blip r:embed="rId2"/>
            <a:stretch/>
          </p:blipFill>
          <p:spPr>
            <a:xfrm>
              <a:off x="2627280" y="2318400"/>
              <a:ext cx="5364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AutoShape 67"/>
            <p:cNvSpPr/>
            <p:nvPr/>
          </p:nvSpPr>
          <p:spPr>
            <a:xfrm>
              <a:off x="2705400" y="2296440"/>
              <a:ext cx="500040" cy="752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AutoShape 68"/>
            <p:cNvSpPr/>
            <p:nvPr/>
          </p:nvSpPr>
          <p:spPr>
            <a:xfrm>
              <a:off x="2592360" y="2295360"/>
              <a:ext cx="139320" cy="3150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AutoShape 69"/>
            <p:cNvSpPr/>
            <p:nvPr/>
          </p:nvSpPr>
          <p:spPr>
            <a:xfrm>
              <a:off x="3052440" y="2352600"/>
              <a:ext cx="150480" cy="36288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AutoShape 70"/>
            <p:cNvSpPr/>
            <p:nvPr/>
          </p:nvSpPr>
          <p:spPr>
            <a:xfrm>
              <a:off x="2591280" y="2595240"/>
              <a:ext cx="511920" cy="121680"/>
            </a:xfrm>
            <a:prstGeom prst="pie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AutoShape 71"/>
            <p:cNvSpPr/>
            <p:nvPr/>
          </p:nvSpPr>
          <p:spPr>
            <a:xfrm>
              <a:off x="3069000" y="2355480"/>
              <a:ext cx="140760" cy="3643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AutoShape 72"/>
            <p:cNvSpPr/>
            <p:nvPr/>
          </p:nvSpPr>
          <p:spPr>
            <a:xfrm>
              <a:off x="2591280" y="2611800"/>
              <a:ext cx="488880" cy="1202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1" name="Group 73"/>
            <p:cNvGrpSpPr/>
            <p:nvPr/>
          </p:nvGrpSpPr>
          <p:grpSpPr>
            <a:xfrm>
              <a:off x="2582640" y="2740320"/>
              <a:ext cx="165600" cy="72360"/>
              <a:chOff x="2582640" y="2740320"/>
              <a:chExt cx="165600" cy="72360"/>
            </a:xfrm>
          </p:grpSpPr>
          <p:sp>
            <p:nvSpPr>
              <p:cNvPr id="1132" name="AutoShape 74"/>
              <p:cNvSpPr/>
              <p:nvPr/>
            </p:nvSpPr>
            <p:spPr>
              <a:xfrm>
                <a:off x="2582640" y="2740320"/>
                <a:ext cx="165600" cy="72360"/>
              </a:xfrm>
              <a:prstGeom prst="pi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AutoShape 75"/>
              <p:cNvSpPr/>
              <p:nvPr/>
            </p:nvSpPr>
            <p:spPr>
              <a:xfrm>
                <a:off x="2585520" y="2741760"/>
                <a:ext cx="160200" cy="69120"/>
              </a:xfrm>
              <a:prstGeom prst="pi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AutoShape 76"/>
              <p:cNvSpPr/>
              <p:nvPr/>
            </p:nvSpPr>
            <p:spPr>
              <a:xfrm>
                <a:off x="2597400" y="2768760"/>
                <a:ext cx="56880" cy="21960"/>
              </a:xfrm>
              <a:prstGeom prst="pi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AutoShape 77"/>
              <p:cNvSpPr/>
              <p:nvPr/>
            </p:nvSpPr>
            <p:spPr>
              <a:xfrm>
                <a:off x="2595600" y="2778840"/>
                <a:ext cx="42480" cy="13680"/>
              </a:xfrm>
              <a:prstGeom prst="pi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AutoShape 78"/>
              <p:cNvSpPr/>
              <p:nvPr/>
            </p:nvSpPr>
            <p:spPr>
              <a:xfrm>
                <a:off x="2644200" y="2782800"/>
                <a:ext cx="56880" cy="22680"/>
              </a:xfrm>
              <a:prstGeom prst="pi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AutoShape 79"/>
              <p:cNvSpPr/>
              <p:nvPr/>
            </p:nvSpPr>
            <p:spPr>
              <a:xfrm>
                <a:off x="2642400" y="2793600"/>
                <a:ext cx="42480" cy="13680"/>
              </a:xfrm>
              <a:prstGeom prst="pi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8" name="AutoShape 80"/>
            <p:cNvSpPr/>
            <p:nvPr/>
          </p:nvSpPr>
          <p:spPr>
            <a:xfrm>
              <a:off x="2867040" y="2751480"/>
              <a:ext cx="200520" cy="1587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AutoShape 81"/>
            <p:cNvSpPr/>
            <p:nvPr/>
          </p:nvSpPr>
          <p:spPr>
            <a:xfrm>
              <a:off x="2354400" y="2763720"/>
              <a:ext cx="514080" cy="145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AutoShape 82"/>
            <p:cNvSpPr/>
            <p:nvPr/>
          </p:nvSpPr>
          <p:spPr>
            <a:xfrm>
              <a:off x="2354400" y="2737800"/>
              <a:ext cx="5400" cy="284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AutoShape 83"/>
            <p:cNvSpPr/>
            <p:nvPr/>
          </p:nvSpPr>
          <p:spPr>
            <a:xfrm>
              <a:off x="2355480" y="2618640"/>
              <a:ext cx="238320" cy="120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AutoShape 84"/>
            <p:cNvSpPr/>
            <p:nvPr/>
          </p:nvSpPr>
          <p:spPr>
            <a:xfrm>
              <a:off x="2370960" y="2743200"/>
              <a:ext cx="487440" cy="139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AutoShape 85"/>
            <p:cNvSpPr/>
            <p:nvPr/>
          </p:nvSpPr>
          <p:spPr>
            <a:xfrm flipH="1" rot="10800000">
              <a:off x="2857680" y="2733120"/>
              <a:ext cx="197640" cy="1436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Group 86"/>
          <p:cNvGrpSpPr/>
          <p:nvPr/>
        </p:nvGrpSpPr>
        <p:grpSpPr>
          <a:xfrm>
            <a:off x="1209600" y="2422440"/>
            <a:ext cx="978120" cy="486000"/>
            <a:chOff x="1209600" y="2422440"/>
            <a:chExt cx="978120" cy="486000"/>
          </a:xfrm>
        </p:grpSpPr>
        <p:sp>
          <p:nvSpPr>
            <p:cNvPr id="1145" name="AutoShape 87"/>
            <p:cNvSpPr/>
            <p:nvPr/>
          </p:nvSpPr>
          <p:spPr>
            <a:xfrm>
              <a:off x="1362240" y="2422440"/>
              <a:ext cx="825480" cy="4860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AutoShape 88"/>
            <p:cNvSpPr/>
            <p:nvPr/>
          </p:nvSpPr>
          <p:spPr>
            <a:xfrm>
              <a:off x="1270440" y="2543760"/>
              <a:ext cx="60840" cy="2430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AutoShape 89"/>
            <p:cNvSpPr/>
            <p:nvPr/>
          </p:nvSpPr>
          <p:spPr>
            <a:xfrm>
              <a:off x="1209600" y="2543760"/>
              <a:ext cx="30240" cy="2430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8" name="Group 90"/>
          <p:cNvGrpSpPr/>
          <p:nvPr/>
        </p:nvGrpSpPr>
        <p:grpSpPr>
          <a:xfrm>
            <a:off x="1574640" y="1258920"/>
            <a:ext cx="978120" cy="1460520"/>
            <a:chOff x="1574640" y="1258920"/>
            <a:chExt cx="978120" cy="1460520"/>
          </a:xfrm>
        </p:grpSpPr>
        <p:sp>
          <p:nvSpPr>
            <p:cNvPr id="1149" name="AutoShape 91"/>
            <p:cNvSpPr/>
            <p:nvPr/>
          </p:nvSpPr>
          <p:spPr>
            <a:xfrm>
              <a:off x="1591920" y="1285560"/>
              <a:ext cx="960840" cy="143388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67058"/>
                  </a:srgbClr>
                </a:gs>
                <a:gs pos="100000">
                  <a:srgbClr val="000099">
                    <a:alpha val="66274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0" name="Group 92"/>
            <p:cNvGrpSpPr/>
            <p:nvPr/>
          </p:nvGrpSpPr>
          <p:grpSpPr>
            <a:xfrm>
              <a:off x="1574640" y="1258920"/>
              <a:ext cx="795240" cy="1298160"/>
              <a:chOff x="1574640" y="1258920"/>
              <a:chExt cx="795240" cy="1298160"/>
            </a:xfrm>
          </p:grpSpPr>
          <p:sp>
            <p:nvSpPr>
              <p:cNvPr id="1151" name="AutoShape 93"/>
              <p:cNvSpPr/>
              <p:nvPr/>
            </p:nvSpPr>
            <p:spPr>
              <a:xfrm>
                <a:off x="1585440" y="1288800"/>
                <a:ext cx="784440" cy="1254600"/>
              </a:xfrm>
              <a:prstGeom prst="pi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AutoShape 94"/>
              <p:cNvSpPr/>
              <p:nvPr/>
            </p:nvSpPr>
            <p:spPr>
              <a:xfrm>
                <a:off x="1636920" y="1258920"/>
                <a:ext cx="709920" cy="1298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Line 95"/>
              <p:cNvSpPr/>
              <p:nvPr/>
            </p:nvSpPr>
            <p:spPr>
              <a:xfrm>
                <a:off x="1588680" y="1538280"/>
                <a:ext cx="777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Line 96"/>
              <p:cNvSpPr/>
              <p:nvPr/>
            </p:nvSpPr>
            <p:spPr>
              <a:xfrm>
                <a:off x="1584000" y="1790640"/>
                <a:ext cx="777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Line 97"/>
              <p:cNvSpPr/>
              <p:nvPr/>
            </p:nvSpPr>
            <p:spPr>
              <a:xfrm>
                <a:off x="1579320" y="2043360"/>
                <a:ext cx="777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Line 98"/>
              <p:cNvSpPr/>
              <p:nvPr/>
            </p:nvSpPr>
            <p:spPr>
              <a:xfrm>
                <a:off x="1574640" y="2295720"/>
                <a:ext cx="777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7" name="Group 99"/>
          <p:cNvGrpSpPr/>
          <p:nvPr/>
        </p:nvGrpSpPr>
        <p:grpSpPr>
          <a:xfrm>
            <a:off x="900000" y="1316160"/>
            <a:ext cx="462240" cy="231480"/>
            <a:chOff x="900000" y="1316160"/>
            <a:chExt cx="462240" cy="231480"/>
          </a:xfrm>
        </p:grpSpPr>
        <p:sp>
          <p:nvSpPr>
            <p:cNvPr id="1158" name="AutoShape 100"/>
            <p:cNvSpPr/>
            <p:nvPr/>
          </p:nvSpPr>
          <p:spPr>
            <a:xfrm>
              <a:off x="971640" y="1368360"/>
              <a:ext cx="390600" cy="136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AutoShape 101"/>
            <p:cNvSpPr/>
            <p:nvPr/>
          </p:nvSpPr>
          <p:spPr>
            <a:xfrm>
              <a:off x="900000" y="1316160"/>
              <a:ext cx="448560" cy="23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Gill Sans MT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Group 102"/>
          <p:cNvGrpSpPr/>
          <p:nvPr/>
        </p:nvGrpSpPr>
        <p:grpSpPr>
          <a:xfrm>
            <a:off x="447840" y="1336680"/>
            <a:ext cx="1079280" cy="1166760"/>
            <a:chOff x="447840" y="1336680"/>
            <a:chExt cx="1079280" cy="1166760"/>
          </a:xfrm>
        </p:grpSpPr>
        <p:grpSp>
          <p:nvGrpSpPr>
            <p:cNvPr id="1161" name="Group 103"/>
            <p:cNvGrpSpPr/>
            <p:nvPr/>
          </p:nvGrpSpPr>
          <p:grpSpPr>
            <a:xfrm>
              <a:off x="447840" y="1562040"/>
              <a:ext cx="1079280" cy="729720"/>
              <a:chOff x="447840" y="1562040"/>
              <a:chExt cx="1079280" cy="729720"/>
            </a:xfrm>
          </p:grpSpPr>
          <p:grpSp>
            <p:nvGrpSpPr>
              <p:cNvPr id="1162" name="Group 104"/>
              <p:cNvGrpSpPr/>
              <p:nvPr/>
            </p:nvGrpSpPr>
            <p:grpSpPr>
              <a:xfrm>
                <a:off x="821880" y="1562040"/>
                <a:ext cx="560880" cy="231120"/>
                <a:chOff x="821880" y="1562040"/>
                <a:chExt cx="560880" cy="231120"/>
              </a:xfrm>
            </p:grpSpPr>
            <p:grpSp>
              <p:nvGrpSpPr>
                <p:cNvPr id="1163" name="Group 105"/>
                <p:cNvGrpSpPr/>
                <p:nvPr/>
              </p:nvGrpSpPr>
              <p:grpSpPr>
                <a:xfrm>
                  <a:off x="907200" y="1562040"/>
                  <a:ext cx="459720" cy="231120"/>
                  <a:chOff x="907200" y="1562040"/>
                  <a:chExt cx="459720" cy="231120"/>
                </a:xfrm>
              </p:grpSpPr>
              <p:sp>
                <p:nvSpPr>
                  <p:cNvPr id="1164" name="AutoShape 106"/>
                  <p:cNvSpPr/>
                  <p:nvPr/>
                </p:nvSpPr>
                <p:spPr>
                  <a:xfrm>
                    <a:off x="978480" y="1614240"/>
                    <a:ext cx="388440" cy="136440"/>
                  </a:xfrm>
                  <a:prstGeom prst="pie">
                    <a:avLst/>
                  </a:prstGeom>
                  <a:solidFill>
                    <a:srgbClr val="ff0000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AutoShape 107"/>
                  <p:cNvSpPr/>
                  <p:nvPr/>
                </p:nvSpPr>
                <p:spPr>
                  <a:xfrm>
                    <a:off x="907200" y="1562040"/>
                    <a:ext cx="446040" cy="2311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Gill Sans MT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66" name="AutoShape 108"/>
                <p:cNvSpPr/>
                <p:nvPr/>
              </p:nvSpPr>
              <p:spPr>
                <a:xfrm>
                  <a:off x="837720" y="1617480"/>
                  <a:ext cx="139320" cy="130320"/>
                </a:xfrm>
                <a:prstGeom prst="pie">
                  <a:avLst/>
                </a:prstGeom>
                <a:solidFill>
                  <a:srgbClr val="00cc9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AutoShape 109"/>
                <p:cNvSpPr/>
                <p:nvPr/>
              </p:nvSpPr>
              <p:spPr>
                <a:xfrm>
                  <a:off x="821880" y="1608120"/>
                  <a:ext cx="560880" cy="149400"/>
                </a:xfrm>
                <a:prstGeom prst="pie">
                  <a:avLst/>
                </a:prstGeom>
                <a:noFill/>
                <a:ln w="3240">
                  <a:solidFill>
                    <a:srgbClr val="00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8" name="Group 110"/>
              <p:cNvGrpSpPr/>
              <p:nvPr/>
            </p:nvGrpSpPr>
            <p:grpSpPr>
              <a:xfrm>
                <a:off x="821880" y="1797120"/>
                <a:ext cx="560880" cy="231120"/>
                <a:chOff x="821880" y="1797120"/>
                <a:chExt cx="560880" cy="231120"/>
              </a:xfrm>
            </p:grpSpPr>
            <p:grpSp>
              <p:nvGrpSpPr>
                <p:cNvPr id="1169" name="Group 111"/>
                <p:cNvGrpSpPr/>
                <p:nvPr/>
              </p:nvGrpSpPr>
              <p:grpSpPr>
                <a:xfrm>
                  <a:off x="907200" y="1797120"/>
                  <a:ext cx="459720" cy="231120"/>
                  <a:chOff x="907200" y="1797120"/>
                  <a:chExt cx="459720" cy="231120"/>
                </a:xfrm>
              </p:grpSpPr>
              <p:sp>
                <p:nvSpPr>
                  <p:cNvPr id="1170" name="AutoShape 112"/>
                  <p:cNvSpPr/>
                  <p:nvPr/>
                </p:nvSpPr>
                <p:spPr>
                  <a:xfrm>
                    <a:off x="978480" y="1849320"/>
                    <a:ext cx="388440" cy="136440"/>
                  </a:xfrm>
                  <a:prstGeom prst="pie">
                    <a:avLst/>
                  </a:prstGeom>
                  <a:solidFill>
                    <a:srgbClr val="ff0000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AutoShape 113"/>
                  <p:cNvSpPr/>
                  <p:nvPr/>
                </p:nvSpPr>
                <p:spPr>
                  <a:xfrm>
                    <a:off x="907200" y="1797120"/>
                    <a:ext cx="446040" cy="2311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Gill Sans MT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2" name="Group 114"/>
                <p:cNvGrpSpPr/>
                <p:nvPr/>
              </p:nvGrpSpPr>
              <p:grpSpPr>
                <a:xfrm>
                  <a:off x="821880" y="1843200"/>
                  <a:ext cx="560880" cy="149400"/>
                  <a:chOff x="821880" y="1843200"/>
                  <a:chExt cx="560880" cy="149400"/>
                </a:xfrm>
              </p:grpSpPr>
              <p:sp>
                <p:nvSpPr>
                  <p:cNvPr id="1173" name="AutoShape 115"/>
                  <p:cNvSpPr/>
                  <p:nvPr/>
                </p:nvSpPr>
                <p:spPr>
                  <a:xfrm>
                    <a:off x="837720" y="1852560"/>
                    <a:ext cx="139320" cy="130320"/>
                  </a:xfrm>
                  <a:prstGeom prst="pie">
                    <a:avLst/>
                  </a:prstGeom>
                  <a:solidFill>
                    <a:srgbClr val="00cc99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AutoShape 116"/>
                  <p:cNvSpPr/>
                  <p:nvPr/>
                </p:nvSpPr>
                <p:spPr>
                  <a:xfrm>
                    <a:off x="821880" y="1843200"/>
                    <a:ext cx="560880" cy="149400"/>
                  </a:xfrm>
                  <a:prstGeom prst="pie">
                    <a:avLst/>
                  </a:prstGeom>
                  <a:noFill/>
                  <a:ln w="3240">
                    <a:solidFill>
                      <a:srgbClr val="00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75" name="Group 117"/>
              <p:cNvGrpSpPr/>
              <p:nvPr/>
            </p:nvGrpSpPr>
            <p:grpSpPr>
              <a:xfrm>
                <a:off x="642600" y="1828800"/>
                <a:ext cx="760680" cy="177840"/>
                <a:chOff x="642600" y="1828800"/>
                <a:chExt cx="760680" cy="177840"/>
              </a:xfrm>
            </p:grpSpPr>
            <p:sp>
              <p:nvSpPr>
                <p:cNvPr id="1176" name="AutoShape 118"/>
                <p:cNvSpPr/>
                <p:nvPr/>
              </p:nvSpPr>
              <p:spPr>
                <a:xfrm>
                  <a:off x="656640" y="1846080"/>
                  <a:ext cx="151920" cy="147960"/>
                </a:xfrm>
                <a:prstGeom prst="pi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AutoShape 119"/>
                <p:cNvSpPr/>
                <p:nvPr/>
              </p:nvSpPr>
              <p:spPr>
                <a:xfrm>
                  <a:off x="642600" y="1828800"/>
                  <a:ext cx="760680" cy="177840"/>
                </a:xfrm>
                <a:prstGeom prst="pie">
                  <a:avLst/>
                </a:prstGeom>
                <a:noFill/>
                <a:ln w="32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8" name="Group 120"/>
              <p:cNvGrpSpPr/>
              <p:nvPr/>
            </p:nvGrpSpPr>
            <p:grpSpPr>
              <a:xfrm>
                <a:off x="447840" y="2060640"/>
                <a:ext cx="1079280" cy="231120"/>
                <a:chOff x="447840" y="2060640"/>
                <a:chExt cx="1079280" cy="231120"/>
              </a:xfrm>
            </p:grpSpPr>
            <p:grpSp>
              <p:nvGrpSpPr>
                <p:cNvPr id="1179" name="Group 121"/>
                <p:cNvGrpSpPr/>
                <p:nvPr/>
              </p:nvGrpSpPr>
              <p:grpSpPr>
                <a:xfrm>
                  <a:off x="636480" y="2060640"/>
                  <a:ext cx="760680" cy="231120"/>
                  <a:chOff x="636480" y="2060640"/>
                  <a:chExt cx="760680" cy="231120"/>
                </a:xfrm>
              </p:grpSpPr>
              <p:grpSp>
                <p:nvGrpSpPr>
                  <p:cNvPr id="1180" name="Group 122"/>
                  <p:cNvGrpSpPr/>
                  <p:nvPr/>
                </p:nvGrpSpPr>
                <p:grpSpPr>
                  <a:xfrm>
                    <a:off x="815400" y="2060640"/>
                    <a:ext cx="561240" cy="231120"/>
                    <a:chOff x="815400" y="2060640"/>
                    <a:chExt cx="561240" cy="231120"/>
                  </a:xfrm>
                </p:grpSpPr>
                <p:grpSp>
                  <p:nvGrpSpPr>
                    <p:cNvPr id="1181" name="Group 123"/>
                    <p:cNvGrpSpPr/>
                    <p:nvPr/>
                  </p:nvGrpSpPr>
                  <p:grpSpPr>
                    <a:xfrm>
                      <a:off x="900720" y="2060640"/>
                      <a:ext cx="459720" cy="231120"/>
                      <a:chOff x="900720" y="2060640"/>
                      <a:chExt cx="459720" cy="231120"/>
                    </a:xfrm>
                  </p:grpSpPr>
                  <p:sp>
                    <p:nvSpPr>
                      <p:cNvPr id="1182" name="AutoShape 124"/>
                      <p:cNvSpPr/>
                      <p:nvPr/>
                    </p:nvSpPr>
                    <p:spPr>
                      <a:xfrm>
                        <a:off x="972000" y="2112840"/>
                        <a:ext cx="388440" cy="136440"/>
                      </a:xfrm>
                      <a:prstGeom prst="pie">
                        <a:avLst/>
                      </a:prstGeom>
                      <a:solidFill>
                        <a:srgbClr val="ff0000"/>
                      </a:solidFill>
                      <a:ln w="324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3" name="AutoShape 125"/>
                      <p:cNvSpPr/>
                      <p:nvPr/>
                    </p:nvSpPr>
                    <p:spPr>
                      <a:xfrm>
                        <a:off x="900720" y="2060640"/>
                        <a:ext cx="446040" cy="231120"/>
                      </a:xfrm>
                      <a:prstGeom prst="pie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Gill Sans MT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84" name="Group 126"/>
                    <p:cNvGrpSpPr/>
                    <p:nvPr/>
                  </p:nvGrpSpPr>
                  <p:grpSpPr>
                    <a:xfrm>
                      <a:off x="815400" y="2106720"/>
                      <a:ext cx="561240" cy="149400"/>
                      <a:chOff x="815400" y="2106720"/>
                      <a:chExt cx="561240" cy="149400"/>
                    </a:xfrm>
                  </p:grpSpPr>
                  <p:sp>
                    <p:nvSpPr>
                      <p:cNvPr id="1185" name="AutoShape 127"/>
                      <p:cNvSpPr/>
                      <p:nvPr/>
                    </p:nvSpPr>
                    <p:spPr>
                      <a:xfrm>
                        <a:off x="831240" y="2116080"/>
                        <a:ext cx="139320" cy="130320"/>
                      </a:xfrm>
                      <a:prstGeom prst="pie">
                        <a:avLst/>
                      </a:prstGeom>
                      <a:solidFill>
                        <a:srgbClr val="00cc99"/>
                      </a:solidFill>
                      <a:ln w="324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6" name="AutoShape 128"/>
                      <p:cNvSpPr/>
                      <p:nvPr/>
                    </p:nvSpPr>
                    <p:spPr>
                      <a:xfrm>
                        <a:off x="815400" y="2106720"/>
                        <a:ext cx="561240" cy="149400"/>
                      </a:xfrm>
                      <a:prstGeom prst="pie">
                        <a:avLst/>
                      </a:prstGeom>
                      <a:noFill/>
                      <a:ln w="3240">
                        <a:solidFill>
                          <a:srgbClr val="00cc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187" name="AutoShape 129"/>
                  <p:cNvSpPr/>
                  <p:nvPr/>
                </p:nvSpPr>
                <p:spPr>
                  <a:xfrm>
                    <a:off x="650520" y="2109600"/>
                    <a:ext cx="151920" cy="147600"/>
                  </a:xfrm>
                  <a:prstGeom prst="pie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AutoShape 130"/>
                  <p:cNvSpPr/>
                  <p:nvPr/>
                </p:nvSpPr>
                <p:spPr>
                  <a:xfrm>
                    <a:off x="636480" y="2092320"/>
                    <a:ext cx="760680" cy="177840"/>
                  </a:xfrm>
                  <a:prstGeom prst="pie">
                    <a:avLst/>
                  </a:prstGeom>
                  <a:noFill/>
                  <a:ln w="3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89" name="AutoShape 131"/>
                <p:cNvSpPr/>
                <p:nvPr/>
              </p:nvSpPr>
              <p:spPr>
                <a:xfrm>
                  <a:off x="468360" y="2095560"/>
                  <a:ext cx="148680" cy="171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AutoShape 132"/>
                <p:cNvSpPr/>
                <p:nvPr/>
              </p:nvSpPr>
              <p:spPr>
                <a:xfrm>
                  <a:off x="1416240" y="2093760"/>
                  <a:ext cx="95040" cy="171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AutoShape 133"/>
                <p:cNvSpPr/>
                <p:nvPr/>
              </p:nvSpPr>
              <p:spPr>
                <a:xfrm>
                  <a:off x="447840" y="2070000"/>
                  <a:ext cx="1079280" cy="219240"/>
                </a:xfrm>
                <a:prstGeom prst="pie">
                  <a:avLst/>
                </a:pr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92" name="AutoShape 134"/>
            <p:cNvSpPr/>
            <p:nvPr/>
          </p:nvSpPr>
          <p:spPr>
            <a:xfrm>
              <a:off x="990000" y="1336680"/>
              <a:ext cx="380160" cy="1166760"/>
            </a:xfrm>
            <a:prstGeom prst="pie">
              <a:avLst/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Group 135"/>
          <p:cNvGrpSpPr/>
          <p:nvPr/>
        </p:nvGrpSpPr>
        <p:grpSpPr>
          <a:xfrm>
            <a:off x="1031760" y="2543040"/>
            <a:ext cx="1079640" cy="231840"/>
            <a:chOff x="1031760" y="2543040"/>
            <a:chExt cx="1079640" cy="231840"/>
          </a:xfrm>
        </p:grpSpPr>
        <p:grpSp>
          <p:nvGrpSpPr>
            <p:cNvPr id="1194" name="Group 136"/>
            <p:cNvGrpSpPr/>
            <p:nvPr/>
          </p:nvGrpSpPr>
          <p:grpSpPr>
            <a:xfrm>
              <a:off x="1220400" y="2543040"/>
              <a:ext cx="761040" cy="231840"/>
              <a:chOff x="1220400" y="2543040"/>
              <a:chExt cx="761040" cy="231840"/>
            </a:xfrm>
          </p:grpSpPr>
          <p:grpSp>
            <p:nvGrpSpPr>
              <p:cNvPr id="1195" name="Group 137"/>
              <p:cNvGrpSpPr/>
              <p:nvPr/>
            </p:nvGrpSpPr>
            <p:grpSpPr>
              <a:xfrm>
                <a:off x="1399320" y="2543040"/>
                <a:ext cx="561240" cy="231840"/>
                <a:chOff x="1399320" y="2543040"/>
                <a:chExt cx="561240" cy="231840"/>
              </a:xfrm>
            </p:grpSpPr>
            <p:grpSp>
              <p:nvGrpSpPr>
                <p:cNvPr id="1196" name="Group 138"/>
                <p:cNvGrpSpPr/>
                <p:nvPr/>
              </p:nvGrpSpPr>
              <p:grpSpPr>
                <a:xfrm>
                  <a:off x="1484640" y="2543040"/>
                  <a:ext cx="459720" cy="231840"/>
                  <a:chOff x="1484640" y="2543040"/>
                  <a:chExt cx="459720" cy="231840"/>
                </a:xfrm>
              </p:grpSpPr>
              <p:sp>
                <p:nvSpPr>
                  <p:cNvPr id="1197" name="AutoShape 139"/>
                  <p:cNvSpPr/>
                  <p:nvPr/>
                </p:nvSpPr>
                <p:spPr>
                  <a:xfrm>
                    <a:off x="1555920" y="2595600"/>
                    <a:ext cx="388440" cy="136800"/>
                  </a:xfrm>
                  <a:prstGeom prst="pie">
                    <a:avLst/>
                  </a:prstGeom>
                  <a:solidFill>
                    <a:srgbClr val="ff0000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AutoShape 140"/>
                  <p:cNvSpPr/>
                  <p:nvPr/>
                </p:nvSpPr>
                <p:spPr>
                  <a:xfrm>
                    <a:off x="1484640" y="2543040"/>
                    <a:ext cx="446040" cy="231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Gill Sans MT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9" name="Group 141"/>
                <p:cNvGrpSpPr/>
                <p:nvPr/>
              </p:nvGrpSpPr>
              <p:grpSpPr>
                <a:xfrm>
                  <a:off x="1399320" y="2589120"/>
                  <a:ext cx="561240" cy="149760"/>
                  <a:chOff x="1399320" y="2589120"/>
                  <a:chExt cx="561240" cy="149760"/>
                </a:xfrm>
              </p:grpSpPr>
              <p:sp>
                <p:nvSpPr>
                  <p:cNvPr id="1200" name="AutoShape 142"/>
                  <p:cNvSpPr/>
                  <p:nvPr/>
                </p:nvSpPr>
                <p:spPr>
                  <a:xfrm>
                    <a:off x="1415160" y="2598480"/>
                    <a:ext cx="139320" cy="130680"/>
                  </a:xfrm>
                  <a:prstGeom prst="pie">
                    <a:avLst/>
                  </a:prstGeom>
                  <a:solidFill>
                    <a:srgbClr val="00cc99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AutoShape 143"/>
                  <p:cNvSpPr/>
                  <p:nvPr/>
                </p:nvSpPr>
                <p:spPr>
                  <a:xfrm>
                    <a:off x="1399320" y="2589120"/>
                    <a:ext cx="561240" cy="149760"/>
                  </a:xfrm>
                  <a:prstGeom prst="pie">
                    <a:avLst/>
                  </a:prstGeom>
                  <a:noFill/>
                  <a:ln w="3240">
                    <a:solidFill>
                      <a:srgbClr val="00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02" name="AutoShape 144"/>
              <p:cNvSpPr/>
              <p:nvPr/>
            </p:nvSpPr>
            <p:spPr>
              <a:xfrm>
                <a:off x="1234440" y="2592360"/>
                <a:ext cx="152280" cy="147960"/>
              </a:xfrm>
              <a:prstGeom prst="pi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AutoShape 145"/>
              <p:cNvSpPr/>
              <p:nvPr/>
            </p:nvSpPr>
            <p:spPr>
              <a:xfrm>
                <a:off x="1220400" y="2574720"/>
                <a:ext cx="761040" cy="178560"/>
              </a:xfrm>
              <a:prstGeom prst="pie">
                <a:avLst/>
              </a:prstGeom>
              <a:noFill/>
              <a:ln w="32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4" name="AutoShape 146"/>
            <p:cNvSpPr/>
            <p:nvPr/>
          </p:nvSpPr>
          <p:spPr>
            <a:xfrm>
              <a:off x="1052280" y="2577960"/>
              <a:ext cx="149040" cy="17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AutoShape 147"/>
            <p:cNvSpPr/>
            <p:nvPr/>
          </p:nvSpPr>
          <p:spPr>
            <a:xfrm>
              <a:off x="2000520" y="2576520"/>
              <a:ext cx="95040" cy="17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AutoShape 148"/>
            <p:cNvSpPr/>
            <p:nvPr/>
          </p:nvSpPr>
          <p:spPr>
            <a:xfrm>
              <a:off x="1031760" y="2552400"/>
              <a:ext cx="1079640" cy="21996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7" name="Group 149"/>
          <p:cNvGrpSpPr/>
          <p:nvPr/>
        </p:nvGrpSpPr>
        <p:grpSpPr>
          <a:xfrm>
            <a:off x="1857240" y="3236760"/>
            <a:ext cx="1317600" cy="1309680"/>
            <a:chOff x="1857240" y="3236760"/>
            <a:chExt cx="1317600" cy="1309680"/>
          </a:xfrm>
        </p:grpSpPr>
        <p:sp>
          <p:nvSpPr>
            <p:cNvPr id="1208" name="AutoShape 150"/>
            <p:cNvSpPr/>
            <p:nvPr/>
          </p:nvSpPr>
          <p:spPr>
            <a:xfrm>
              <a:off x="2640960" y="3274560"/>
              <a:ext cx="533880" cy="127188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65098"/>
                  </a:srgbClr>
                </a:gs>
                <a:gs pos="100000">
                  <a:srgbClr val="000099">
                    <a:alpha val="65098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9" name="Group 151"/>
            <p:cNvGrpSpPr/>
            <p:nvPr/>
          </p:nvGrpSpPr>
          <p:grpSpPr>
            <a:xfrm>
              <a:off x="1857240" y="3236760"/>
              <a:ext cx="794880" cy="1298160"/>
              <a:chOff x="1857240" y="3236760"/>
              <a:chExt cx="794880" cy="1298160"/>
            </a:xfrm>
          </p:grpSpPr>
          <p:sp>
            <p:nvSpPr>
              <p:cNvPr id="1210" name="AutoShape 152"/>
              <p:cNvSpPr/>
              <p:nvPr/>
            </p:nvSpPr>
            <p:spPr>
              <a:xfrm>
                <a:off x="1868040" y="3266640"/>
                <a:ext cx="784080" cy="1254600"/>
              </a:xfrm>
              <a:prstGeom prst="pi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AutoShape 153"/>
              <p:cNvSpPr/>
              <p:nvPr/>
            </p:nvSpPr>
            <p:spPr>
              <a:xfrm>
                <a:off x="1919520" y="3236760"/>
                <a:ext cx="709560" cy="1298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Line 154"/>
              <p:cNvSpPr/>
              <p:nvPr/>
            </p:nvSpPr>
            <p:spPr>
              <a:xfrm>
                <a:off x="1871280" y="3516120"/>
                <a:ext cx="777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Line 155"/>
              <p:cNvSpPr/>
              <p:nvPr/>
            </p:nvSpPr>
            <p:spPr>
              <a:xfrm>
                <a:off x="1866600" y="3768480"/>
                <a:ext cx="777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Line 156"/>
              <p:cNvSpPr/>
              <p:nvPr/>
            </p:nvSpPr>
            <p:spPr>
              <a:xfrm>
                <a:off x="1861920" y="4021200"/>
                <a:ext cx="777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Line 157"/>
              <p:cNvSpPr/>
              <p:nvPr/>
            </p:nvSpPr>
            <p:spPr>
              <a:xfrm>
                <a:off x="1857240" y="4273560"/>
                <a:ext cx="777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6" name="Group 158"/>
          <p:cNvGrpSpPr/>
          <p:nvPr/>
        </p:nvGrpSpPr>
        <p:grpSpPr>
          <a:xfrm>
            <a:off x="720720" y="3137040"/>
            <a:ext cx="1079640" cy="1217520"/>
            <a:chOff x="720720" y="3137040"/>
            <a:chExt cx="1079640" cy="1217520"/>
          </a:xfrm>
        </p:grpSpPr>
        <p:grpSp>
          <p:nvGrpSpPr>
            <p:cNvPr id="1217" name="Group 159"/>
            <p:cNvGrpSpPr/>
            <p:nvPr/>
          </p:nvGrpSpPr>
          <p:grpSpPr>
            <a:xfrm>
              <a:off x="720720" y="3533760"/>
              <a:ext cx="1079640" cy="729720"/>
              <a:chOff x="720720" y="3533760"/>
              <a:chExt cx="1079640" cy="729720"/>
            </a:xfrm>
          </p:grpSpPr>
          <p:grpSp>
            <p:nvGrpSpPr>
              <p:cNvPr id="1218" name="Group 160"/>
              <p:cNvGrpSpPr/>
              <p:nvPr/>
            </p:nvGrpSpPr>
            <p:grpSpPr>
              <a:xfrm>
                <a:off x="1094760" y="3533760"/>
                <a:ext cx="561240" cy="231120"/>
                <a:chOff x="1094760" y="3533760"/>
                <a:chExt cx="561240" cy="231120"/>
              </a:xfrm>
            </p:grpSpPr>
            <p:grpSp>
              <p:nvGrpSpPr>
                <p:cNvPr id="1219" name="Group 161"/>
                <p:cNvGrpSpPr/>
                <p:nvPr/>
              </p:nvGrpSpPr>
              <p:grpSpPr>
                <a:xfrm>
                  <a:off x="1180080" y="3533760"/>
                  <a:ext cx="459720" cy="231120"/>
                  <a:chOff x="1180080" y="3533760"/>
                  <a:chExt cx="459720" cy="231120"/>
                </a:xfrm>
              </p:grpSpPr>
              <p:sp>
                <p:nvSpPr>
                  <p:cNvPr id="1220" name="AutoShape 162"/>
                  <p:cNvSpPr/>
                  <p:nvPr/>
                </p:nvSpPr>
                <p:spPr>
                  <a:xfrm>
                    <a:off x="1251360" y="3585960"/>
                    <a:ext cx="388440" cy="136440"/>
                  </a:xfrm>
                  <a:prstGeom prst="pie">
                    <a:avLst/>
                  </a:prstGeom>
                  <a:solidFill>
                    <a:srgbClr val="ff0000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AutoShape 163"/>
                  <p:cNvSpPr/>
                  <p:nvPr/>
                </p:nvSpPr>
                <p:spPr>
                  <a:xfrm>
                    <a:off x="1180080" y="3533760"/>
                    <a:ext cx="446040" cy="2311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Gill Sans MT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22" name="AutoShape 164"/>
                <p:cNvSpPr/>
                <p:nvPr/>
              </p:nvSpPr>
              <p:spPr>
                <a:xfrm>
                  <a:off x="1110600" y="3589200"/>
                  <a:ext cx="139320" cy="130320"/>
                </a:xfrm>
                <a:prstGeom prst="pie">
                  <a:avLst/>
                </a:prstGeom>
                <a:solidFill>
                  <a:srgbClr val="00cc9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AutoShape 165"/>
                <p:cNvSpPr/>
                <p:nvPr/>
              </p:nvSpPr>
              <p:spPr>
                <a:xfrm>
                  <a:off x="1094760" y="3579840"/>
                  <a:ext cx="561240" cy="149400"/>
                </a:xfrm>
                <a:prstGeom prst="pie">
                  <a:avLst/>
                </a:prstGeom>
                <a:noFill/>
                <a:ln w="3240">
                  <a:solidFill>
                    <a:srgbClr val="00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4" name="Group 166"/>
              <p:cNvGrpSpPr/>
              <p:nvPr/>
            </p:nvGrpSpPr>
            <p:grpSpPr>
              <a:xfrm>
                <a:off x="1094760" y="3768840"/>
                <a:ext cx="561240" cy="231120"/>
                <a:chOff x="1094760" y="3768840"/>
                <a:chExt cx="561240" cy="231120"/>
              </a:xfrm>
            </p:grpSpPr>
            <p:grpSp>
              <p:nvGrpSpPr>
                <p:cNvPr id="1225" name="Group 167"/>
                <p:cNvGrpSpPr/>
                <p:nvPr/>
              </p:nvGrpSpPr>
              <p:grpSpPr>
                <a:xfrm>
                  <a:off x="1180080" y="3768840"/>
                  <a:ext cx="459720" cy="231120"/>
                  <a:chOff x="1180080" y="3768840"/>
                  <a:chExt cx="459720" cy="231120"/>
                </a:xfrm>
              </p:grpSpPr>
              <p:sp>
                <p:nvSpPr>
                  <p:cNvPr id="1226" name="AutoShape 168"/>
                  <p:cNvSpPr/>
                  <p:nvPr/>
                </p:nvSpPr>
                <p:spPr>
                  <a:xfrm>
                    <a:off x="1251360" y="3821040"/>
                    <a:ext cx="388440" cy="136440"/>
                  </a:xfrm>
                  <a:prstGeom prst="pie">
                    <a:avLst/>
                  </a:prstGeom>
                  <a:solidFill>
                    <a:srgbClr val="ff0000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AutoShape 169"/>
                  <p:cNvSpPr/>
                  <p:nvPr/>
                </p:nvSpPr>
                <p:spPr>
                  <a:xfrm>
                    <a:off x="1180080" y="3768840"/>
                    <a:ext cx="446040" cy="2311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Gill Sans MT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8" name="Group 170"/>
                <p:cNvGrpSpPr/>
                <p:nvPr/>
              </p:nvGrpSpPr>
              <p:grpSpPr>
                <a:xfrm>
                  <a:off x="1094760" y="3814920"/>
                  <a:ext cx="561240" cy="149400"/>
                  <a:chOff x="1094760" y="3814920"/>
                  <a:chExt cx="561240" cy="149400"/>
                </a:xfrm>
              </p:grpSpPr>
              <p:sp>
                <p:nvSpPr>
                  <p:cNvPr id="1229" name="AutoShape 171"/>
                  <p:cNvSpPr/>
                  <p:nvPr/>
                </p:nvSpPr>
                <p:spPr>
                  <a:xfrm>
                    <a:off x="1110600" y="3824280"/>
                    <a:ext cx="139320" cy="130320"/>
                  </a:xfrm>
                  <a:prstGeom prst="pie">
                    <a:avLst/>
                  </a:prstGeom>
                  <a:solidFill>
                    <a:srgbClr val="00cc99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AutoShape 172"/>
                  <p:cNvSpPr/>
                  <p:nvPr/>
                </p:nvSpPr>
                <p:spPr>
                  <a:xfrm>
                    <a:off x="1094760" y="3814920"/>
                    <a:ext cx="561240" cy="149400"/>
                  </a:xfrm>
                  <a:prstGeom prst="pie">
                    <a:avLst/>
                  </a:prstGeom>
                  <a:noFill/>
                  <a:ln w="3240">
                    <a:solidFill>
                      <a:srgbClr val="00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31" name="Group 173"/>
              <p:cNvGrpSpPr/>
              <p:nvPr/>
            </p:nvGrpSpPr>
            <p:grpSpPr>
              <a:xfrm>
                <a:off x="915480" y="3800520"/>
                <a:ext cx="761040" cy="177840"/>
                <a:chOff x="915480" y="3800520"/>
                <a:chExt cx="761040" cy="177840"/>
              </a:xfrm>
            </p:grpSpPr>
            <p:sp>
              <p:nvSpPr>
                <p:cNvPr id="1232" name="AutoShape 174"/>
                <p:cNvSpPr/>
                <p:nvPr/>
              </p:nvSpPr>
              <p:spPr>
                <a:xfrm>
                  <a:off x="929520" y="3817800"/>
                  <a:ext cx="152280" cy="147960"/>
                </a:xfrm>
                <a:prstGeom prst="pi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AutoShape 175"/>
                <p:cNvSpPr/>
                <p:nvPr/>
              </p:nvSpPr>
              <p:spPr>
                <a:xfrm>
                  <a:off x="915480" y="3800520"/>
                  <a:ext cx="761040" cy="177840"/>
                </a:xfrm>
                <a:prstGeom prst="pie">
                  <a:avLst/>
                </a:prstGeom>
                <a:noFill/>
                <a:ln w="32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4" name="Group 176"/>
              <p:cNvGrpSpPr/>
              <p:nvPr/>
            </p:nvGrpSpPr>
            <p:grpSpPr>
              <a:xfrm>
                <a:off x="720720" y="4032360"/>
                <a:ext cx="1079640" cy="231120"/>
                <a:chOff x="720720" y="4032360"/>
                <a:chExt cx="1079640" cy="231120"/>
              </a:xfrm>
            </p:grpSpPr>
            <p:grpSp>
              <p:nvGrpSpPr>
                <p:cNvPr id="1235" name="Group 177"/>
                <p:cNvGrpSpPr/>
                <p:nvPr/>
              </p:nvGrpSpPr>
              <p:grpSpPr>
                <a:xfrm>
                  <a:off x="909360" y="4032360"/>
                  <a:ext cx="761040" cy="231120"/>
                  <a:chOff x="909360" y="4032360"/>
                  <a:chExt cx="761040" cy="231120"/>
                </a:xfrm>
              </p:grpSpPr>
              <p:grpSp>
                <p:nvGrpSpPr>
                  <p:cNvPr id="1236" name="Group 178"/>
                  <p:cNvGrpSpPr/>
                  <p:nvPr/>
                </p:nvGrpSpPr>
                <p:grpSpPr>
                  <a:xfrm>
                    <a:off x="1088280" y="4032360"/>
                    <a:ext cx="561240" cy="231120"/>
                    <a:chOff x="1088280" y="4032360"/>
                    <a:chExt cx="561240" cy="231120"/>
                  </a:xfrm>
                </p:grpSpPr>
                <p:grpSp>
                  <p:nvGrpSpPr>
                    <p:cNvPr id="1237" name="Group 179"/>
                    <p:cNvGrpSpPr/>
                    <p:nvPr/>
                  </p:nvGrpSpPr>
                  <p:grpSpPr>
                    <a:xfrm>
                      <a:off x="1173600" y="4032360"/>
                      <a:ext cx="459720" cy="231120"/>
                      <a:chOff x="1173600" y="4032360"/>
                      <a:chExt cx="459720" cy="231120"/>
                    </a:xfrm>
                  </p:grpSpPr>
                  <p:sp>
                    <p:nvSpPr>
                      <p:cNvPr id="1238" name="AutoShape 180"/>
                      <p:cNvSpPr/>
                      <p:nvPr/>
                    </p:nvSpPr>
                    <p:spPr>
                      <a:xfrm>
                        <a:off x="1244880" y="4084560"/>
                        <a:ext cx="388440" cy="136440"/>
                      </a:xfrm>
                      <a:prstGeom prst="pie">
                        <a:avLst/>
                      </a:prstGeom>
                      <a:solidFill>
                        <a:srgbClr val="ff0000"/>
                      </a:solidFill>
                      <a:ln w="324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9" name="AutoShape 181"/>
                      <p:cNvSpPr/>
                      <p:nvPr/>
                    </p:nvSpPr>
                    <p:spPr>
                      <a:xfrm>
                        <a:off x="1173600" y="4032360"/>
                        <a:ext cx="446040" cy="231120"/>
                      </a:xfrm>
                      <a:prstGeom prst="pie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Gill Sans MT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40" name="Group 182"/>
                    <p:cNvGrpSpPr/>
                    <p:nvPr/>
                  </p:nvGrpSpPr>
                  <p:grpSpPr>
                    <a:xfrm>
                      <a:off x="1088280" y="4078440"/>
                      <a:ext cx="561240" cy="149400"/>
                      <a:chOff x="1088280" y="4078440"/>
                      <a:chExt cx="561240" cy="149400"/>
                    </a:xfrm>
                  </p:grpSpPr>
                  <p:sp>
                    <p:nvSpPr>
                      <p:cNvPr id="1241" name="AutoShape 183"/>
                      <p:cNvSpPr/>
                      <p:nvPr/>
                    </p:nvSpPr>
                    <p:spPr>
                      <a:xfrm>
                        <a:off x="1104120" y="4087800"/>
                        <a:ext cx="139320" cy="130320"/>
                      </a:xfrm>
                      <a:prstGeom prst="pie">
                        <a:avLst/>
                      </a:prstGeom>
                      <a:solidFill>
                        <a:srgbClr val="00cc99"/>
                      </a:solidFill>
                      <a:ln w="324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2" name="AutoShape 184"/>
                      <p:cNvSpPr/>
                      <p:nvPr/>
                    </p:nvSpPr>
                    <p:spPr>
                      <a:xfrm>
                        <a:off x="1088280" y="4078440"/>
                        <a:ext cx="561240" cy="149400"/>
                      </a:xfrm>
                      <a:prstGeom prst="pie">
                        <a:avLst/>
                      </a:prstGeom>
                      <a:noFill/>
                      <a:ln w="3240">
                        <a:solidFill>
                          <a:srgbClr val="00cc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243" name="AutoShape 185"/>
                  <p:cNvSpPr/>
                  <p:nvPr/>
                </p:nvSpPr>
                <p:spPr>
                  <a:xfrm>
                    <a:off x="923400" y="4081320"/>
                    <a:ext cx="152280" cy="147600"/>
                  </a:xfrm>
                  <a:prstGeom prst="pie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AutoShape 186"/>
                  <p:cNvSpPr/>
                  <p:nvPr/>
                </p:nvSpPr>
                <p:spPr>
                  <a:xfrm>
                    <a:off x="909360" y="4064040"/>
                    <a:ext cx="761040" cy="177840"/>
                  </a:xfrm>
                  <a:prstGeom prst="pie">
                    <a:avLst/>
                  </a:prstGeom>
                  <a:noFill/>
                  <a:ln w="3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5" name="AutoShape 187"/>
                <p:cNvSpPr/>
                <p:nvPr/>
              </p:nvSpPr>
              <p:spPr>
                <a:xfrm>
                  <a:off x="741240" y="4067280"/>
                  <a:ext cx="149040" cy="171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AutoShape 188"/>
                <p:cNvSpPr/>
                <p:nvPr/>
              </p:nvSpPr>
              <p:spPr>
                <a:xfrm>
                  <a:off x="1689480" y="4065480"/>
                  <a:ext cx="95040" cy="171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AutoShape 189"/>
                <p:cNvSpPr/>
                <p:nvPr/>
              </p:nvSpPr>
              <p:spPr>
                <a:xfrm>
                  <a:off x="720720" y="4041720"/>
                  <a:ext cx="1079640" cy="219240"/>
                </a:xfrm>
                <a:prstGeom prst="pie">
                  <a:avLst/>
                </a:pr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48" name="AutoShape 190"/>
            <p:cNvSpPr/>
            <p:nvPr/>
          </p:nvSpPr>
          <p:spPr>
            <a:xfrm rot="10800000">
              <a:off x="1232280" y="3137040"/>
              <a:ext cx="380520" cy="1217520"/>
            </a:xfrm>
            <a:prstGeom prst="pie">
              <a:avLst/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9" name="Group 191"/>
            <p:cNvGrpSpPr/>
            <p:nvPr/>
          </p:nvGrpSpPr>
          <p:grpSpPr>
            <a:xfrm>
              <a:off x="1181880" y="3330720"/>
              <a:ext cx="459720" cy="231120"/>
              <a:chOff x="1181880" y="3330720"/>
              <a:chExt cx="459720" cy="231120"/>
            </a:xfrm>
          </p:grpSpPr>
          <p:sp>
            <p:nvSpPr>
              <p:cNvPr id="1250" name="AutoShape 192"/>
              <p:cNvSpPr/>
              <p:nvPr/>
            </p:nvSpPr>
            <p:spPr>
              <a:xfrm>
                <a:off x="1253160" y="3382920"/>
                <a:ext cx="388440" cy="13644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AutoShape 193"/>
              <p:cNvSpPr/>
              <p:nvPr/>
            </p:nvSpPr>
            <p:spPr>
              <a:xfrm>
                <a:off x="1181880" y="3330720"/>
                <a:ext cx="446040" cy="231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Gill Sans MT"/>
                  </a:rPr>
                  <a:t>DHC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2" name="Group 194"/>
          <p:cNvGrpSpPr/>
          <p:nvPr/>
        </p:nvGrpSpPr>
        <p:grpSpPr>
          <a:xfrm>
            <a:off x="1182600" y="3332160"/>
            <a:ext cx="461880" cy="231840"/>
            <a:chOff x="1182600" y="3332160"/>
            <a:chExt cx="461880" cy="231840"/>
          </a:xfrm>
        </p:grpSpPr>
        <p:sp>
          <p:nvSpPr>
            <p:cNvPr id="1253" name="AutoShape 195"/>
            <p:cNvSpPr/>
            <p:nvPr/>
          </p:nvSpPr>
          <p:spPr>
            <a:xfrm>
              <a:off x="1254240" y="3384720"/>
              <a:ext cx="390240" cy="136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AutoShape 196"/>
            <p:cNvSpPr/>
            <p:nvPr/>
          </p:nvSpPr>
          <p:spPr>
            <a:xfrm>
              <a:off x="1182600" y="3332160"/>
              <a:ext cx="448200" cy="231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Gill Sans MT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55" name="Picture 197" descr="underline_base"/>
          <p:cNvPicPr/>
          <p:nvPr/>
        </p:nvPicPr>
        <p:blipFill>
          <a:blip r:embed="rId3"/>
          <a:stretch/>
        </p:blipFill>
        <p:spPr>
          <a:xfrm>
            <a:off x="779400" y="722160"/>
            <a:ext cx="3198960" cy="173160"/>
          </a:xfrm>
          <a:prstGeom prst="rect">
            <a:avLst/>
          </a:prstGeom>
          <a:ln w="0">
            <a:noFill/>
          </a:ln>
        </p:spPr>
      </p:pic>
      <p:sp>
        <p:nvSpPr>
          <p:cNvPr id="1256" name="PlaceHolder 2"/>
          <p:cNvSpPr>
            <a:spLocks noGrp="1"/>
          </p:cNvSpPr>
          <p:nvPr>
            <p:ph type="title"/>
          </p:nvPr>
        </p:nvSpPr>
        <p:spPr>
          <a:xfrm>
            <a:off x="704880" y="77400"/>
            <a:ext cx="435456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Slide Number Placeholder 200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C7B4-0F04-4EAF-9318-24B23A13B2D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4196480" presetSubtype="9434977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AutoShape 2"/>
          <p:cNvSpPr/>
          <p:nvPr/>
        </p:nvSpPr>
        <p:spPr>
          <a:xfrm>
            <a:off x="5913360" y="6467400"/>
            <a:ext cx="28940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AutoShape 3"/>
          <p:cNvSpPr/>
          <p:nvPr/>
        </p:nvSpPr>
        <p:spPr>
          <a:xfrm>
            <a:off x="8705880" y="6462720"/>
            <a:ext cx="6746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-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1" name="Picture 4" descr="underline_base"/>
          <p:cNvPicPr/>
          <p:nvPr/>
        </p:nvPicPr>
        <p:blipFill>
          <a:blip r:embed="rId1"/>
          <a:stretch/>
        </p:blipFill>
        <p:spPr>
          <a:xfrm>
            <a:off x="779400" y="722160"/>
            <a:ext cx="3198960" cy="173160"/>
          </a:xfrm>
          <a:prstGeom prst="rect">
            <a:avLst/>
          </a:prstGeom>
          <a:ln w="0">
            <a:noFill/>
          </a:ln>
        </p:spPr>
      </p:pic>
      <p:sp>
        <p:nvSpPr>
          <p:cNvPr id="1262" name="PlaceHolder 1"/>
          <p:cNvSpPr>
            <a:spLocks noGrp="1"/>
          </p:cNvSpPr>
          <p:nvPr>
            <p:ph/>
          </p:nvPr>
        </p:nvSpPr>
        <p:spPr>
          <a:xfrm>
            <a:off x="5418000" y="1158840"/>
            <a:ext cx="3430800" cy="15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1200" indent="-241200">
              <a:lnSpc>
                <a:spcPct val="85000"/>
              </a:lnSpc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DCP server formulates DHCP ACK containing client’s IP address, IP address of first-hop router for client, name &amp; IP address of DNS serv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AutoShape 6"/>
          <p:cNvSpPr/>
          <p:nvPr/>
        </p:nvSpPr>
        <p:spPr>
          <a:xfrm>
            <a:off x="1184400" y="1444680"/>
            <a:ext cx="3465360" cy="273060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Line 7"/>
          <p:cNvSpPr/>
          <p:nvPr/>
        </p:nvSpPr>
        <p:spPr>
          <a:xfrm flipV="1">
            <a:off x="4156200" y="2509560"/>
            <a:ext cx="155520" cy="144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Line 8"/>
          <p:cNvSpPr/>
          <p:nvPr/>
        </p:nvSpPr>
        <p:spPr>
          <a:xfrm>
            <a:off x="3046320" y="2673360"/>
            <a:ext cx="6955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Line 9"/>
          <p:cNvSpPr/>
          <p:nvPr/>
        </p:nvSpPr>
        <p:spPr>
          <a:xfrm flipV="1">
            <a:off x="4305240" y="2366640"/>
            <a:ext cx="138240" cy="1443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Line 10"/>
          <p:cNvSpPr/>
          <p:nvPr/>
        </p:nvSpPr>
        <p:spPr>
          <a:xfrm flipV="1">
            <a:off x="3660840" y="2901600"/>
            <a:ext cx="512640" cy="614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AutoShape 11"/>
          <p:cNvSpPr/>
          <p:nvPr/>
        </p:nvSpPr>
        <p:spPr>
          <a:xfrm>
            <a:off x="5411880" y="2930400"/>
            <a:ext cx="3421080" cy="1217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19040" indent="-41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ncapsulation of DHCP server, frame forwarded to client, demuxing up to DHCP at cli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 type="title"/>
          </p:nvPr>
        </p:nvSpPr>
        <p:spPr>
          <a:xfrm>
            <a:off x="704880" y="77400"/>
            <a:ext cx="435456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0" name="Group 13"/>
          <p:cNvGrpSpPr/>
          <p:nvPr/>
        </p:nvGrpSpPr>
        <p:grpSpPr>
          <a:xfrm>
            <a:off x="2349360" y="2295360"/>
            <a:ext cx="860400" cy="639000"/>
            <a:chOff x="2349360" y="2295360"/>
            <a:chExt cx="860400" cy="639000"/>
          </a:xfrm>
        </p:grpSpPr>
        <p:pic>
          <p:nvPicPr>
            <p:cNvPr id="1271" name="Picture 14" descr="laptop_keyboard"/>
            <p:cNvPicPr/>
            <p:nvPr/>
          </p:nvPicPr>
          <p:blipFill>
            <a:blip r:embed="rId2"/>
            <a:stretch/>
          </p:blipFill>
          <p:spPr>
            <a:xfrm flipH="1" rot="109800">
              <a:off x="2354040" y="2610360"/>
              <a:ext cx="734400" cy="31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2" name="AutoShape 15"/>
            <p:cNvSpPr/>
            <p:nvPr/>
          </p:nvSpPr>
          <p:spPr>
            <a:xfrm>
              <a:off x="2598120" y="2309040"/>
              <a:ext cx="590760" cy="4068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73" name="Picture 16" descr="screen"/>
            <p:cNvPicPr/>
            <p:nvPr/>
          </p:nvPicPr>
          <p:blipFill>
            <a:blip r:embed="rId3"/>
            <a:stretch/>
          </p:blipFill>
          <p:spPr>
            <a:xfrm>
              <a:off x="2627280" y="2318400"/>
              <a:ext cx="5364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AutoShape 17"/>
            <p:cNvSpPr/>
            <p:nvPr/>
          </p:nvSpPr>
          <p:spPr>
            <a:xfrm>
              <a:off x="2705400" y="2296440"/>
              <a:ext cx="500040" cy="752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AutoShape 18"/>
            <p:cNvSpPr/>
            <p:nvPr/>
          </p:nvSpPr>
          <p:spPr>
            <a:xfrm>
              <a:off x="2592360" y="2295360"/>
              <a:ext cx="139320" cy="3150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AutoShape 19"/>
            <p:cNvSpPr/>
            <p:nvPr/>
          </p:nvSpPr>
          <p:spPr>
            <a:xfrm>
              <a:off x="3052440" y="2352600"/>
              <a:ext cx="150480" cy="36288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AutoShape 20"/>
            <p:cNvSpPr/>
            <p:nvPr/>
          </p:nvSpPr>
          <p:spPr>
            <a:xfrm>
              <a:off x="2591280" y="2595240"/>
              <a:ext cx="511920" cy="121680"/>
            </a:xfrm>
            <a:prstGeom prst="pie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AutoShape 21"/>
            <p:cNvSpPr/>
            <p:nvPr/>
          </p:nvSpPr>
          <p:spPr>
            <a:xfrm>
              <a:off x="3069000" y="2355480"/>
              <a:ext cx="140760" cy="3643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AutoShape 22"/>
            <p:cNvSpPr/>
            <p:nvPr/>
          </p:nvSpPr>
          <p:spPr>
            <a:xfrm>
              <a:off x="2591280" y="2611800"/>
              <a:ext cx="488880" cy="1202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0" name="Group 23"/>
            <p:cNvGrpSpPr/>
            <p:nvPr/>
          </p:nvGrpSpPr>
          <p:grpSpPr>
            <a:xfrm>
              <a:off x="2582640" y="2740320"/>
              <a:ext cx="165600" cy="72360"/>
              <a:chOff x="2582640" y="2740320"/>
              <a:chExt cx="165600" cy="72360"/>
            </a:xfrm>
          </p:grpSpPr>
          <p:sp>
            <p:nvSpPr>
              <p:cNvPr id="1281" name="AutoShape 24"/>
              <p:cNvSpPr/>
              <p:nvPr/>
            </p:nvSpPr>
            <p:spPr>
              <a:xfrm>
                <a:off x="2582640" y="2740320"/>
                <a:ext cx="165600" cy="72360"/>
              </a:xfrm>
              <a:prstGeom prst="pi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AutoShape 25"/>
              <p:cNvSpPr/>
              <p:nvPr/>
            </p:nvSpPr>
            <p:spPr>
              <a:xfrm>
                <a:off x="2585520" y="2741760"/>
                <a:ext cx="160200" cy="69120"/>
              </a:xfrm>
              <a:prstGeom prst="pi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AutoShape 26"/>
              <p:cNvSpPr/>
              <p:nvPr/>
            </p:nvSpPr>
            <p:spPr>
              <a:xfrm>
                <a:off x="2597400" y="2768760"/>
                <a:ext cx="56880" cy="21960"/>
              </a:xfrm>
              <a:prstGeom prst="pi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AutoShape 27"/>
              <p:cNvSpPr/>
              <p:nvPr/>
            </p:nvSpPr>
            <p:spPr>
              <a:xfrm>
                <a:off x="2595600" y="2778840"/>
                <a:ext cx="42480" cy="13680"/>
              </a:xfrm>
              <a:prstGeom prst="pi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AutoShape 28"/>
              <p:cNvSpPr/>
              <p:nvPr/>
            </p:nvSpPr>
            <p:spPr>
              <a:xfrm>
                <a:off x="2644200" y="2782800"/>
                <a:ext cx="56880" cy="22680"/>
              </a:xfrm>
              <a:prstGeom prst="pi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AutoShape 29"/>
              <p:cNvSpPr/>
              <p:nvPr/>
            </p:nvSpPr>
            <p:spPr>
              <a:xfrm>
                <a:off x="2642400" y="2793600"/>
                <a:ext cx="42480" cy="13680"/>
              </a:xfrm>
              <a:prstGeom prst="pi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7" name="AutoShape 30"/>
            <p:cNvSpPr/>
            <p:nvPr/>
          </p:nvSpPr>
          <p:spPr>
            <a:xfrm>
              <a:off x="2867040" y="2751480"/>
              <a:ext cx="200520" cy="1587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AutoShape 31"/>
            <p:cNvSpPr/>
            <p:nvPr/>
          </p:nvSpPr>
          <p:spPr>
            <a:xfrm>
              <a:off x="2354400" y="2763720"/>
              <a:ext cx="514080" cy="145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AutoShape 32"/>
            <p:cNvSpPr/>
            <p:nvPr/>
          </p:nvSpPr>
          <p:spPr>
            <a:xfrm>
              <a:off x="2354400" y="2737800"/>
              <a:ext cx="5400" cy="284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AutoShape 33"/>
            <p:cNvSpPr/>
            <p:nvPr/>
          </p:nvSpPr>
          <p:spPr>
            <a:xfrm>
              <a:off x="2355480" y="2618640"/>
              <a:ext cx="238320" cy="120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AutoShape 34"/>
            <p:cNvSpPr/>
            <p:nvPr/>
          </p:nvSpPr>
          <p:spPr>
            <a:xfrm>
              <a:off x="2370960" y="2743200"/>
              <a:ext cx="487440" cy="139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AutoShape 35"/>
            <p:cNvSpPr/>
            <p:nvPr/>
          </p:nvSpPr>
          <p:spPr>
            <a:xfrm flipH="1" rot="10800000">
              <a:off x="2857680" y="2733120"/>
              <a:ext cx="197640" cy="1436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3" name="AutoShape 36"/>
          <p:cNvSpPr/>
          <p:nvPr/>
        </p:nvSpPr>
        <p:spPr>
          <a:xfrm>
            <a:off x="2943360" y="3967200"/>
            <a:ext cx="1763640" cy="890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router with DHC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server built i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4" name="Group 37"/>
          <p:cNvGrpSpPr/>
          <p:nvPr/>
        </p:nvGrpSpPr>
        <p:grpSpPr>
          <a:xfrm>
            <a:off x="3054240" y="3525840"/>
            <a:ext cx="1068480" cy="406440"/>
            <a:chOff x="3054240" y="3525840"/>
            <a:chExt cx="1068480" cy="406440"/>
          </a:xfrm>
        </p:grpSpPr>
        <p:sp>
          <p:nvSpPr>
            <p:cNvPr id="1295" name="AutoShape 38"/>
            <p:cNvSpPr/>
            <p:nvPr/>
          </p:nvSpPr>
          <p:spPr>
            <a:xfrm>
              <a:off x="3058920" y="3706200"/>
              <a:ext cx="1059120" cy="22608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AutoShape 39"/>
            <p:cNvSpPr/>
            <p:nvPr/>
          </p:nvSpPr>
          <p:spPr>
            <a:xfrm>
              <a:off x="3058920" y="3679920"/>
              <a:ext cx="1063800" cy="14076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AutoShape 40"/>
            <p:cNvSpPr/>
            <p:nvPr/>
          </p:nvSpPr>
          <p:spPr>
            <a:xfrm>
              <a:off x="3054240" y="3525840"/>
              <a:ext cx="1060560" cy="26568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8" name="Group 41"/>
            <p:cNvGrpSpPr/>
            <p:nvPr/>
          </p:nvGrpSpPr>
          <p:grpSpPr>
            <a:xfrm>
              <a:off x="3267360" y="3594600"/>
              <a:ext cx="599400" cy="122760"/>
              <a:chOff x="3267360" y="3594600"/>
              <a:chExt cx="599400" cy="122760"/>
            </a:xfrm>
          </p:grpSpPr>
          <p:sp>
            <p:nvSpPr>
              <p:cNvPr id="1299" name="AutoShape 42"/>
              <p:cNvSpPr/>
              <p:nvPr/>
            </p:nvSpPr>
            <p:spPr>
              <a:xfrm>
                <a:off x="3267360" y="3594600"/>
                <a:ext cx="599400" cy="122760"/>
              </a:xfrm>
              <a:prstGeom prst="pie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AutoShape 43"/>
              <p:cNvSpPr/>
              <p:nvPr/>
            </p:nvSpPr>
            <p:spPr>
              <a:xfrm>
                <a:off x="3294360" y="3594600"/>
                <a:ext cx="545400" cy="122760"/>
              </a:xfrm>
              <a:prstGeom prst="pie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1" name="Line 44"/>
            <p:cNvSpPr/>
            <p:nvPr/>
          </p:nvSpPr>
          <p:spPr>
            <a:xfrm>
              <a:off x="3058920" y="3650400"/>
              <a:ext cx="0" cy="17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Line 45"/>
            <p:cNvSpPr/>
            <p:nvPr/>
          </p:nvSpPr>
          <p:spPr>
            <a:xfrm>
              <a:off x="4114800" y="3658680"/>
              <a:ext cx="0" cy="17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3" name="Group 46"/>
          <p:cNvGrpSpPr/>
          <p:nvPr/>
        </p:nvGrpSpPr>
        <p:grpSpPr>
          <a:xfrm>
            <a:off x="3086280" y="3328920"/>
            <a:ext cx="425160" cy="649440"/>
            <a:chOff x="3086280" y="3328920"/>
            <a:chExt cx="425160" cy="649440"/>
          </a:xfrm>
        </p:grpSpPr>
        <p:sp>
          <p:nvSpPr>
            <p:cNvPr id="1304" name="AutoShape 47"/>
            <p:cNvSpPr/>
            <p:nvPr/>
          </p:nvSpPr>
          <p:spPr>
            <a:xfrm>
              <a:off x="3422880" y="3330000"/>
              <a:ext cx="84240" cy="61992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AutoShape 48"/>
            <p:cNvSpPr/>
            <p:nvPr/>
          </p:nvSpPr>
          <p:spPr>
            <a:xfrm>
              <a:off x="3105360" y="3328920"/>
              <a:ext cx="313560" cy="619200"/>
            </a:xfrm>
            <a:prstGeom prst="pi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AutoShape 49"/>
            <p:cNvSpPr/>
            <p:nvPr/>
          </p:nvSpPr>
          <p:spPr>
            <a:xfrm>
              <a:off x="3440520" y="3367080"/>
              <a:ext cx="48600" cy="56556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AutoShape 50"/>
            <p:cNvSpPr/>
            <p:nvPr/>
          </p:nvSpPr>
          <p:spPr>
            <a:xfrm>
              <a:off x="3427560" y="3657240"/>
              <a:ext cx="78480" cy="51120"/>
            </a:xfrm>
            <a:prstGeom prst="pi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AutoShape 51"/>
            <p:cNvSpPr/>
            <p:nvPr/>
          </p:nvSpPr>
          <p:spPr>
            <a:xfrm>
              <a:off x="3106800" y="3400200"/>
              <a:ext cx="178560" cy="1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9" name="Group 52"/>
            <p:cNvGrpSpPr/>
            <p:nvPr/>
          </p:nvGrpSpPr>
          <p:grpSpPr>
            <a:xfrm>
              <a:off x="3267720" y="3394080"/>
              <a:ext cx="173520" cy="38160"/>
              <a:chOff x="3267720" y="3394080"/>
              <a:chExt cx="173520" cy="38160"/>
            </a:xfrm>
          </p:grpSpPr>
          <p:sp>
            <p:nvSpPr>
              <p:cNvPr id="1310" name="AutoShape 53"/>
              <p:cNvSpPr/>
              <p:nvPr/>
            </p:nvSpPr>
            <p:spPr>
              <a:xfrm>
                <a:off x="3267720" y="3394080"/>
                <a:ext cx="17352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AutoShape 54"/>
              <p:cNvSpPr/>
              <p:nvPr/>
            </p:nvSpPr>
            <p:spPr>
              <a:xfrm>
                <a:off x="3270960" y="3398760"/>
                <a:ext cx="1659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2" name="AutoShape 55"/>
            <p:cNvSpPr/>
            <p:nvPr/>
          </p:nvSpPr>
          <p:spPr>
            <a:xfrm>
              <a:off x="3111480" y="3488040"/>
              <a:ext cx="176760" cy="1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3" name="Group 56"/>
            <p:cNvGrpSpPr/>
            <p:nvPr/>
          </p:nvGrpSpPr>
          <p:grpSpPr>
            <a:xfrm>
              <a:off x="3267720" y="3481560"/>
              <a:ext cx="173520" cy="36360"/>
              <a:chOff x="3267720" y="3481560"/>
              <a:chExt cx="173520" cy="36360"/>
            </a:xfrm>
          </p:grpSpPr>
          <p:sp>
            <p:nvSpPr>
              <p:cNvPr id="1314" name="AutoShape 57"/>
              <p:cNvSpPr/>
              <p:nvPr/>
            </p:nvSpPr>
            <p:spPr>
              <a:xfrm>
                <a:off x="3267720" y="3481560"/>
                <a:ext cx="173520" cy="363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AutoShape 58"/>
              <p:cNvSpPr/>
              <p:nvPr/>
            </p:nvSpPr>
            <p:spPr>
              <a:xfrm>
                <a:off x="3270600" y="3486240"/>
                <a:ext cx="16596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6" name="AutoShape 59"/>
            <p:cNvSpPr/>
            <p:nvPr/>
          </p:nvSpPr>
          <p:spPr>
            <a:xfrm>
              <a:off x="3108600" y="3580560"/>
              <a:ext cx="178560" cy="1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AutoShape 60"/>
            <p:cNvSpPr/>
            <p:nvPr/>
          </p:nvSpPr>
          <p:spPr>
            <a:xfrm>
              <a:off x="3111480" y="3661560"/>
              <a:ext cx="178560" cy="1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8" name="Group 61"/>
            <p:cNvGrpSpPr/>
            <p:nvPr/>
          </p:nvGrpSpPr>
          <p:grpSpPr>
            <a:xfrm>
              <a:off x="3263040" y="3653640"/>
              <a:ext cx="174960" cy="41400"/>
              <a:chOff x="3263040" y="3653640"/>
              <a:chExt cx="174960" cy="41400"/>
            </a:xfrm>
          </p:grpSpPr>
          <p:sp>
            <p:nvSpPr>
              <p:cNvPr id="1319" name="AutoShape 62"/>
              <p:cNvSpPr/>
              <p:nvPr/>
            </p:nvSpPr>
            <p:spPr>
              <a:xfrm>
                <a:off x="3263040" y="3653640"/>
                <a:ext cx="17496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AutoShape 63"/>
              <p:cNvSpPr/>
              <p:nvPr/>
            </p:nvSpPr>
            <p:spPr>
              <a:xfrm>
                <a:off x="3265920" y="3658320"/>
                <a:ext cx="16740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1" name="AutoShape 64"/>
            <p:cNvSpPr/>
            <p:nvPr/>
          </p:nvSpPr>
          <p:spPr>
            <a:xfrm>
              <a:off x="3429000" y="3579480"/>
              <a:ext cx="78480" cy="50760"/>
            </a:xfrm>
            <a:prstGeom prst="pi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2" name="Group 65"/>
            <p:cNvGrpSpPr/>
            <p:nvPr/>
          </p:nvGrpSpPr>
          <p:grpSpPr>
            <a:xfrm>
              <a:off x="3264480" y="3572640"/>
              <a:ext cx="173520" cy="38160"/>
              <a:chOff x="3264480" y="3572640"/>
              <a:chExt cx="173520" cy="38160"/>
            </a:xfrm>
          </p:grpSpPr>
          <p:sp>
            <p:nvSpPr>
              <p:cNvPr id="1323" name="AutoShape 66"/>
              <p:cNvSpPr/>
              <p:nvPr/>
            </p:nvSpPr>
            <p:spPr>
              <a:xfrm>
                <a:off x="3264480" y="3572640"/>
                <a:ext cx="17352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AutoShape 67"/>
              <p:cNvSpPr/>
              <p:nvPr/>
            </p:nvSpPr>
            <p:spPr>
              <a:xfrm>
                <a:off x="3267720" y="3576960"/>
                <a:ext cx="16560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5" name="AutoShape 68"/>
            <p:cNvSpPr/>
            <p:nvPr/>
          </p:nvSpPr>
          <p:spPr>
            <a:xfrm>
              <a:off x="3417480" y="3328920"/>
              <a:ext cx="20520" cy="621000"/>
            </a:xfrm>
            <a:prstGeom prst="pie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AutoShape 69"/>
            <p:cNvSpPr/>
            <p:nvPr/>
          </p:nvSpPr>
          <p:spPr>
            <a:xfrm>
              <a:off x="3436200" y="3485520"/>
              <a:ext cx="70560" cy="57600"/>
            </a:xfrm>
            <a:prstGeom prst="pi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AutoShape 70"/>
            <p:cNvSpPr/>
            <p:nvPr/>
          </p:nvSpPr>
          <p:spPr>
            <a:xfrm>
              <a:off x="3436920" y="3396960"/>
              <a:ext cx="72720" cy="64800"/>
            </a:xfrm>
            <a:prstGeom prst="pi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AutoShape 71"/>
            <p:cNvSpPr/>
            <p:nvPr/>
          </p:nvSpPr>
          <p:spPr>
            <a:xfrm>
              <a:off x="3497400" y="3921480"/>
              <a:ext cx="14040" cy="2520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AutoShape 72"/>
            <p:cNvSpPr/>
            <p:nvPr/>
          </p:nvSpPr>
          <p:spPr>
            <a:xfrm>
              <a:off x="3432960" y="3921480"/>
              <a:ext cx="73080" cy="5400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AutoShape 73"/>
            <p:cNvSpPr/>
            <p:nvPr/>
          </p:nvSpPr>
          <p:spPr>
            <a:xfrm>
              <a:off x="3086280" y="3938760"/>
              <a:ext cx="35856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AutoShape 74"/>
            <p:cNvSpPr/>
            <p:nvPr/>
          </p:nvSpPr>
          <p:spPr>
            <a:xfrm>
              <a:off x="3105360" y="3948120"/>
              <a:ext cx="32040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AutoShape 75"/>
            <p:cNvSpPr/>
            <p:nvPr/>
          </p:nvSpPr>
          <p:spPr>
            <a:xfrm>
              <a:off x="3135240" y="3859200"/>
              <a:ext cx="47520" cy="38160"/>
            </a:xfrm>
            <a:prstGeom prst="pi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AutoShape 76"/>
            <p:cNvSpPr/>
            <p:nvPr/>
          </p:nvSpPr>
          <p:spPr>
            <a:xfrm>
              <a:off x="3189600" y="3859200"/>
              <a:ext cx="47520" cy="38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AutoShape 77"/>
            <p:cNvSpPr/>
            <p:nvPr/>
          </p:nvSpPr>
          <p:spPr>
            <a:xfrm>
              <a:off x="3242160" y="3857760"/>
              <a:ext cx="46080" cy="38160"/>
            </a:xfrm>
            <a:prstGeom prst="pi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AutoShape 78"/>
            <p:cNvSpPr/>
            <p:nvPr/>
          </p:nvSpPr>
          <p:spPr>
            <a:xfrm>
              <a:off x="3361680" y="3709440"/>
              <a:ext cx="25200" cy="206640"/>
            </a:xfrm>
            <a:prstGeom prst="pie">
              <a:avLst/>
            </a:prstGeom>
            <a:solidFill>
              <a:srgbClr val="29292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6" name="Line 79"/>
          <p:cNvSpPr/>
          <p:nvPr/>
        </p:nvSpPr>
        <p:spPr>
          <a:xfrm flipV="1">
            <a:off x="4156200" y="2498400"/>
            <a:ext cx="155520" cy="144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7" name="Group 80"/>
          <p:cNvGrpSpPr/>
          <p:nvPr/>
        </p:nvGrpSpPr>
        <p:grpSpPr>
          <a:xfrm>
            <a:off x="3521160" y="2598840"/>
            <a:ext cx="963360" cy="299880"/>
            <a:chOff x="3521160" y="2598840"/>
            <a:chExt cx="963360" cy="299880"/>
          </a:xfrm>
        </p:grpSpPr>
        <p:sp>
          <p:nvSpPr>
            <p:cNvPr id="1338" name="AutoShape 81"/>
            <p:cNvSpPr/>
            <p:nvPr/>
          </p:nvSpPr>
          <p:spPr>
            <a:xfrm>
              <a:off x="3521160" y="2779560"/>
              <a:ext cx="719280" cy="1162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AutoShape 82"/>
            <p:cNvSpPr/>
            <p:nvPr/>
          </p:nvSpPr>
          <p:spPr>
            <a:xfrm>
              <a:off x="3521160" y="2603880"/>
              <a:ext cx="963360" cy="1792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AutoShape 83"/>
            <p:cNvSpPr/>
            <p:nvPr/>
          </p:nvSpPr>
          <p:spPr>
            <a:xfrm>
              <a:off x="4239000" y="2598840"/>
              <a:ext cx="245520" cy="299880"/>
            </a:xfrm>
            <a:prstGeom prst="pie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AutoShape 84"/>
            <p:cNvSpPr/>
            <p:nvPr/>
          </p:nvSpPr>
          <p:spPr>
            <a:xfrm>
              <a:off x="3615480" y="2638800"/>
              <a:ext cx="735480" cy="106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AutoShape 85"/>
            <p:cNvSpPr/>
            <p:nvPr/>
          </p:nvSpPr>
          <p:spPr>
            <a:xfrm>
              <a:off x="3786840" y="2633400"/>
              <a:ext cx="425880" cy="1245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3" name="Group 86"/>
          <p:cNvGrpSpPr/>
          <p:nvPr/>
        </p:nvGrpSpPr>
        <p:grpSpPr>
          <a:xfrm>
            <a:off x="733320" y="3319560"/>
            <a:ext cx="1079640" cy="1166760"/>
            <a:chOff x="733320" y="3319560"/>
            <a:chExt cx="1079640" cy="1166760"/>
          </a:xfrm>
        </p:grpSpPr>
        <p:grpSp>
          <p:nvGrpSpPr>
            <p:cNvPr id="1344" name="Group 87"/>
            <p:cNvGrpSpPr/>
            <p:nvPr/>
          </p:nvGrpSpPr>
          <p:grpSpPr>
            <a:xfrm>
              <a:off x="733320" y="3544920"/>
              <a:ext cx="1079640" cy="729720"/>
              <a:chOff x="733320" y="3544920"/>
              <a:chExt cx="1079640" cy="729720"/>
            </a:xfrm>
          </p:grpSpPr>
          <p:grpSp>
            <p:nvGrpSpPr>
              <p:cNvPr id="1345" name="Group 88"/>
              <p:cNvGrpSpPr/>
              <p:nvPr/>
            </p:nvGrpSpPr>
            <p:grpSpPr>
              <a:xfrm>
                <a:off x="1107360" y="3544920"/>
                <a:ext cx="561240" cy="231120"/>
                <a:chOff x="1107360" y="3544920"/>
                <a:chExt cx="561240" cy="231120"/>
              </a:xfrm>
            </p:grpSpPr>
            <p:grpSp>
              <p:nvGrpSpPr>
                <p:cNvPr id="1346" name="Group 89"/>
                <p:cNvGrpSpPr/>
                <p:nvPr/>
              </p:nvGrpSpPr>
              <p:grpSpPr>
                <a:xfrm>
                  <a:off x="1192680" y="3544920"/>
                  <a:ext cx="459720" cy="231120"/>
                  <a:chOff x="1192680" y="3544920"/>
                  <a:chExt cx="459720" cy="231120"/>
                </a:xfrm>
              </p:grpSpPr>
              <p:sp>
                <p:nvSpPr>
                  <p:cNvPr id="1347" name="AutoShape 90"/>
                  <p:cNvSpPr/>
                  <p:nvPr/>
                </p:nvSpPr>
                <p:spPr>
                  <a:xfrm>
                    <a:off x="1263960" y="3597120"/>
                    <a:ext cx="388440" cy="136440"/>
                  </a:xfrm>
                  <a:prstGeom prst="pie">
                    <a:avLst/>
                  </a:prstGeom>
                  <a:solidFill>
                    <a:srgbClr val="ff0000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" name="AutoShape 91"/>
                  <p:cNvSpPr/>
                  <p:nvPr/>
                </p:nvSpPr>
                <p:spPr>
                  <a:xfrm>
                    <a:off x="1192680" y="3544920"/>
                    <a:ext cx="446040" cy="2311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Gill Sans MT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49" name="AutoShape 92"/>
                <p:cNvSpPr/>
                <p:nvPr/>
              </p:nvSpPr>
              <p:spPr>
                <a:xfrm>
                  <a:off x="1123200" y="3600360"/>
                  <a:ext cx="139320" cy="130320"/>
                </a:xfrm>
                <a:prstGeom prst="pie">
                  <a:avLst/>
                </a:prstGeom>
                <a:solidFill>
                  <a:srgbClr val="00cc9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AutoShape 93"/>
                <p:cNvSpPr/>
                <p:nvPr/>
              </p:nvSpPr>
              <p:spPr>
                <a:xfrm>
                  <a:off x="1107360" y="3591000"/>
                  <a:ext cx="561240" cy="149400"/>
                </a:xfrm>
                <a:prstGeom prst="pie">
                  <a:avLst/>
                </a:prstGeom>
                <a:noFill/>
                <a:ln w="3240">
                  <a:solidFill>
                    <a:srgbClr val="00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1" name="Group 94"/>
              <p:cNvGrpSpPr/>
              <p:nvPr/>
            </p:nvGrpSpPr>
            <p:grpSpPr>
              <a:xfrm>
                <a:off x="1107360" y="3780000"/>
                <a:ext cx="561240" cy="231120"/>
                <a:chOff x="1107360" y="3780000"/>
                <a:chExt cx="561240" cy="231120"/>
              </a:xfrm>
            </p:grpSpPr>
            <p:grpSp>
              <p:nvGrpSpPr>
                <p:cNvPr id="1352" name="Group 95"/>
                <p:cNvGrpSpPr/>
                <p:nvPr/>
              </p:nvGrpSpPr>
              <p:grpSpPr>
                <a:xfrm>
                  <a:off x="1192680" y="3780000"/>
                  <a:ext cx="459720" cy="231120"/>
                  <a:chOff x="1192680" y="3780000"/>
                  <a:chExt cx="459720" cy="231120"/>
                </a:xfrm>
              </p:grpSpPr>
              <p:sp>
                <p:nvSpPr>
                  <p:cNvPr id="1353" name="AutoShape 96"/>
                  <p:cNvSpPr/>
                  <p:nvPr/>
                </p:nvSpPr>
                <p:spPr>
                  <a:xfrm>
                    <a:off x="1263960" y="3832200"/>
                    <a:ext cx="388440" cy="136440"/>
                  </a:xfrm>
                  <a:prstGeom prst="pie">
                    <a:avLst/>
                  </a:prstGeom>
                  <a:solidFill>
                    <a:srgbClr val="ff0000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4" name="AutoShape 97"/>
                  <p:cNvSpPr/>
                  <p:nvPr/>
                </p:nvSpPr>
                <p:spPr>
                  <a:xfrm>
                    <a:off x="1192680" y="3780000"/>
                    <a:ext cx="446040" cy="2311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Gill Sans MT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5" name="Group 98"/>
                <p:cNvGrpSpPr/>
                <p:nvPr/>
              </p:nvGrpSpPr>
              <p:grpSpPr>
                <a:xfrm>
                  <a:off x="1107360" y="3826080"/>
                  <a:ext cx="561240" cy="149400"/>
                  <a:chOff x="1107360" y="3826080"/>
                  <a:chExt cx="561240" cy="149400"/>
                </a:xfrm>
              </p:grpSpPr>
              <p:sp>
                <p:nvSpPr>
                  <p:cNvPr id="1356" name="AutoShape 99"/>
                  <p:cNvSpPr/>
                  <p:nvPr/>
                </p:nvSpPr>
                <p:spPr>
                  <a:xfrm>
                    <a:off x="1123200" y="3835440"/>
                    <a:ext cx="139320" cy="130320"/>
                  </a:xfrm>
                  <a:prstGeom prst="pie">
                    <a:avLst/>
                  </a:prstGeom>
                  <a:solidFill>
                    <a:srgbClr val="00cc99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7" name="AutoShape 100"/>
                  <p:cNvSpPr/>
                  <p:nvPr/>
                </p:nvSpPr>
                <p:spPr>
                  <a:xfrm>
                    <a:off x="1107360" y="3826080"/>
                    <a:ext cx="561240" cy="149400"/>
                  </a:xfrm>
                  <a:prstGeom prst="pie">
                    <a:avLst/>
                  </a:prstGeom>
                  <a:noFill/>
                  <a:ln w="3240">
                    <a:solidFill>
                      <a:srgbClr val="00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58" name="Group 101"/>
              <p:cNvGrpSpPr/>
              <p:nvPr/>
            </p:nvGrpSpPr>
            <p:grpSpPr>
              <a:xfrm>
                <a:off x="928080" y="3811680"/>
                <a:ext cx="761040" cy="177840"/>
                <a:chOff x="928080" y="3811680"/>
                <a:chExt cx="761040" cy="177840"/>
              </a:xfrm>
            </p:grpSpPr>
            <p:sp>
              <p:nvSpPr>
                <p:cNvPr id="1359" name="AutoShape 102"/>
                <p:cNvSpPr/>
                <p:nvPr/>
              </p:nvSpPr>
              <p:spPr>
                <a:xfrm>
                  <a:off x="942120" y="3828960"/>
                  <a:ext cx="152280" cy="147960"/>
                </a:xfrm>
                <a:prstGeom prst="pi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AutoShape 103"/>
                <p:cNvSpPr/>
                <p:nvPr/>
              </p:nvSpPr>
              <p:spPr>
                <a:xfrm>
                  <a:off x="928080" y="3811680"/>
                  <a:ext cx="761040" cy="177840"/>
                </a:xfrm>
                <a:prstGeom prst="pie">
                  <a:avLst/>
                </a:prstGeom>
                <a:noFill/>
                <a:ln w="32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1" name="Group 104"/>
              <p:cNvGrpSpPr/>
              <p:nvPr/>
            </p:nvGrpSpPr>
            <p:grpSpPr>
              <a:xfrm>
                <a:off x="733320" y="4043520"/>
                <a:ext cx="1079640" cy="231120"/>
                <a:chOff x="733320" y="4043520"/>
                <a:chExt cx="1079640" cy="231120"/>
              </a:xfrm>
            </p:grpSpPr>
            <p:grpSp>
              <p:nvGrpSpPr>
                <p:cNvPr id="1362" name="Group 105"/>
                <p:cNvGrpSpPr/>
                <p:nvPr/>
              </p:nvGrpSpPr>
              <p:grpSpPr>
                <a:xfrm>
                  <a:off x="921960" y="4043520"/>
                  <a:ext cx="761040" cy="231120"/>
                  <a:chOff x="921960" y="4043520"/>
                  <a:chExt cx="761040" cy="231120"/>
                </a:xfrm>
              </p:grpSpPr>
              <p:grpSp>
                <p:nvGrpSpPr>
                  <p:cNvPr id="1363" name="Group 106"/>
                  <p:cNvGrpSpPr/>
                  <p:nvPr/>
                </p:nvGrpSpPr>
                <p:grpSpPr>
                  <a:xfrm>
                    <a:off x="1100880" y="4043520"/>
                    <a:ext cx="561240" cy="231120"/>
                    <a:chOff x="1100880" y="4043520"/>
                    <a:chExt cx="561240" cy="231120"/>
                  </a:xfrm>
                </p:grpSpPr>
                <p:grpSp>
                  <p:nvGrpSpPr>
                    <p:cNvPr id="1364" name="Group 107"/>
                    <p:cNvGrpSpPr/>
                    <p:nvPr/>
                  </p:nvGrpSpPr>
                  <p:grpSpPr>
                    <a:xfrm>
                      <a:off x="1186200" y="4043520"/>
                      <a:ext cx="459720" cy="231120"/>
                      <a:chOff x="1186200" y="4043520"/>
                      <a:chExt cx="459720" cy="231120"/>
                    </a:xfrm>
                  </p:grpSpPr>
                  <p:sp>
                    <p:nvSpPr>
                      <p:cNvPr id="1365" name="AutoShape 108"/>
                      <p:cNvSpPr/>
                      <p:nvPr/>
                    </p:nvSpPr>
                    <p:spPr>
                      <a:xfrm>
                        <a:off x="1257480" y="4095720"/>
                        <a:ext cx="388440" cy="136440"/>
                      </a:xfrm>
                      <a:prstGeom prst="pie">
                        <a:avLst/>
                      </a:prstGeom>
                      <a:solidFill>
                        <a:srgbClr val="ff0000"/>
                      </a:solidFill>
                      <a:ln w="324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6" name="AutoShape 109"/>
                      <p:cNvSpPr/>
                      <p:nvPr/>
                    </p:nvSpPr>
                    <p:spPr>
                      <a:xfrm>
                        <a:off x="1186200" y="4043520"/>
                        <a:ext cx="446040" cy="231120"/>
                      </a:xfrm>
                      <a:prstGeom prst="pie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Gill Sans MT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67" name="Group 110"/>
                    <p:cNvGrpSpPr/>
                    <p:nvPr/>
                  </p:nvGrpSpPr>
                  <p:grpSpPr>
                    <a:xfrm>
                      <a:off x="1100880" y="4089600"/>
                      <a:ext cx="561240" cy="149400"/>
                      <a:chOff x="1100880" y="4089600"/>
                      <a:chExt cx="561240" cy="149400"/>
                    </a:xfrm>
                  </p:grpSpPr>
                  <p:sp>
                    <p:nvSpPr>
                      <p:cNvPr id="1368" name="AutoShape 111"/>
                      <p:cNvSpPr/>
                      <p:nvPr/>
                    </p:nvSpPr>
                    <p:spPr>
                      <a:xfrm>
                        <a:off x="1116720" y="4098960"/>
                        <a:ext cx="139320" cy="130320"/>
                      </a:xfrm>
                      <a:prstGeom prst="pie">
                        <a:avLst/>
                      </a:prstGeom>
                      <a:solidFill>
                        <a:srgbClr val="00cc99"/>
                      </a:solidFill>
                      <a:ln w="324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9" name="AutoShape 112"/>
                      <p:cNvSpPr/>
                      <p:nvPr/>
                    </p:nvSpPr>
                    <p:spPr>
                      <a:xfrm>
                        <a:off x="1100880" y="4089600"/>
                        <a:ext cx="561240" cy="149400"/>
                      </a:xfrm>
                      <a:prstGeom prst="pie">
                        <a:avLst/>
                      </a:prstGeom>
                      <a:noFill/>
                      <a:ln w="3240">
                        <a:solidFill>
                          <a:srgbClr val="00cc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370" name="AutoShape 113"/>
                  <p:cNvSpPr/>
                  <p:nvPr/>
                </p:nvSpPr>
                <p:spPr>
                  <a:xfrm>
                    <a:off x="936000" y="4092480"/>
                    <a:ext cx="152280" cy="147600"/>
                  </a:xfrm>
                  <a:prstGeom prst="pie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1" name="AutoShape 114"/>
                  <p:cNvSpPr/>
                  <p:nvPr/>
                </p:nvSpPr>
                <p:spPr>
                  <a:xfrm>
                    <a:off x="921960" y="4075200"/>
                    <a:ext cx="761040" cy="177840"/>
                  </a:xfrm>
                  <a:prstGeom prst="pie">
                    <a:avLst/>
                  </a:prstGeom>
                  <a:noFill/>
                  <a:ln w="3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72" name="AutoShape 115"/>
                <p:cNvSpPr/>
                <p:nvPr/>
              </p:nvSpPr>
              <p:spPr>
                <a:xfrm>
                  <a:off x="753840" y="4078440"/>
                  <a:ext cx="149040" cy="171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AutoShape 116"/>
                <p:cNvSpPr/>
                <p:nvPr/>
              </p:nvSpPr>
              <p:spPr>
                <a:xfrm>
                  <a:off x="1702080" y="4076640"/>
                  <a:ext cx="95040" cy="171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AutoShape 117"/>
                <p:cNvSpPr/>
                <p:nvPr/>
              </p:nvSpPr>
              <p:spPr>
                <a:xfrm>
                  <a:off x="733320" y="4052880"/>
                  <a:ext cx="1079640" cy="219240"/>
                </a:xfrm>
                <a:prstGeom prst="pie">
                  <a:avLst/>
                </a:pr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75" name="AutoShape 118"/>
            <p:cNvSpPr/>
            <p:nvPr/>
          </p:nvSpPr>
          <p:spPr>
            <a:xfrm>
              <a:off x="1275480" y="3319560"/>
              <a:ext cx="380520" cy="1166760"/>
            </a:xfrm>
            <a:prstGeom prst="pie">
              <a:avLst/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6" name="Group 119"/>
          <p:cNvGrpSpPr/>
          <p:nvPr/>
        </p:nvGrpSpPr>
        <p:grpSpPr>
          <a:xfrm>
            <a:off x="830160" y="4403880"/>
            <a:ext cx="1079640" cy="231480"/>
            <a:chOff x="830160" y="4403880"/>
            <a:chExt cx="1079640" cy="231480"/>
          </a:xfrm>
        </p:grpSpPr>
        <p:grpSp>
          <p:nvGrpSpPr>
            <p:cNvPr id="1377" name="Group 120"/>
            <p:cNvGrpSpPr/>
            <p:nvPr/>
          </p:nvGrpSpPr>
          <p:grpSpPr>
            <a:xfrm>
              <a:off x="1018800" y="4403880"/>
              <a:ext cx="761040" cy="231480"/>
              <a:chOff x="1018800" y="4403880"/>
              <a:chExt cx="761040" cy="231480"/>
            </a:xfrm>
          </p:grpSpPr>
          <p:grpSp>
            <p:nvGrpSpPr>
              <p:cNvPr id="1378" name="Group 121"/>
              <p:cNvGrpSpPr/>
              <p:nvPr/>
            </p:nvGrpSpPr>
            <p:grpSpPr>
              <a:xfrm>
                <a:off x="1197720" y="4403880"/>
                <a:ext cx="561240" cy="231480"/>
                <a:chOff x="1197720" y="4403880"/>
                <a:chExt cx="561240" cy="231480"/>
              </a:xfrm>
            </p:grpSpPr>
            <p:grpSp>
              <p:nvGrpSpPr>
                <p:cNvPr id="1379" name="Group 122"/>
                <p:cNvGrpSpPr/>
                <p:nvPr/>
              </p:nvGrpSpPr>
              <p:grpSpPr>
                <a:xfrm>
                  <a:off x="1283040" y="4403880"/>
                  <a:ext cx="459720" cy="231480"/>
                  <a:chOff x="1283040" y="4403880"/>
                  <a:chExt cx="459720" cy="231480"/>
                </a:xfrm>
              </p:grpSpPr>
              <p:sp>
                <p:nvSpPr>
                  <p:cNvPr id="1380" name="AutoShape 123"/>
                  <p:cNvSpPr/>
                  <p:nvPr/>
                </p:nvSpPr>
                <p:spPr>
                  <a:xfrm>
                    <a:off x="1354320" y="4456080"/>
                    <a:ext cx="388440" cy="136800"/>
                  </a:xfrm>
                  <a:prstGeom prst="pie">
                    <a:avLst/>
                  </a:prstGeom>
                  <a:solidFill>
                    <a:srgbClr val="ff0000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1" name="AutoShape 124"/>
                  <p:cNvSpPr/>
                  <p:nvPr/>
                </p:nvSpPr>
                <p:spPr>
                  <a:xfrm>
                    <a:off x="1283040" y="4403880"/>
                    <a:ext cx="446040" cy="2314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Gill Sans MT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2" name="Group 125"/>
                <p:cNvGrpSpPr/>
                <p:nvPr/>
              </p:nvGrpSpPr>
              <p:grpSpPr>
                <a:xfrm>
                  <a:off x="1197720" y="4449960"/>
                  <a:ext cx="561240" cy="149400"/>
                  <a:chOff x="1197720" y="4449960"/>
                  <a:chExt cx="561240" cy="149400"/>
                </a:xfrm>
              </p:grpSpPr>
              <p:sp>
                <p:nvSpPr>
                  <p:cNvPr id="1383" name="AutoShape 126"/>
                  <p:cNvSpPr/>
                  <p:nvPr/>
                </p:nvSpPr>
                <p:spPr>
                  <a:xfrm>
                    <a:off x="1213560" y="4459320"/>
                    <a:ext cx="139320" cy="130320"/>
                  </a:xfrm>
                  <a:prstGeom prst="pie">
                    <a:avLst/>
                  </a:prstGeom>
                  <a:solidFill>
                    <a:srgbClr val="00cc99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4" name="AutoShape 127"/>
                  <p:cNvSpPr/>
                  <p:nvPr/>
                </p:nvSpPr>
                <p:spPr>
                  <a:xfrm>
                    <a:off x="1197720" y="4449960"/>
                    <a:ext cx="561240" cy="149400"/>
                  </a:xfrm>
                  <a:prstGeom prst="pie">
                    <a:avLst/>
                  </a:prstGeom>
                  <a:noFill/>
                  <a:ln w="3240">
                    <a:solidFill>
                      <a:srgbClr val="00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85" name="AutoShape 128"/>
              <p:cNvSpPr/>
              <p:nvPr/>
            </p:nvSpPr>
            <p:spPr>
              <a:xfrm>
                <a:off x="1032840" y="4453200"/>
                <a:ext cx="152280" cy="147960"/>
              </a:xfrm>
              <a:prstGeom prst="pi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AutoShape 129"/>
              <p:cNvSpPr/>
              <p:nvPr/>
            </p:nvSpPr>
            <p:spPr>
              <a:xfrm>
                <a:off x="1018800" y="4435560"/>
                <a:ext cx="761040" cy="178200"/>
              </a:xfrm>
              <a:prstGeom prst="pie">
                <a:avLst/>
              </a:prstGeom>
              <a:noFill/>
              <a:ln w="32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7" name="AutoShape 130"/>
            <p:cNvSpPr/>
            <p:nvPr/>
          </p:nvSpPr>
          <p:spPr>
            <a:xfrm>
              <a:off x="850680" y="4438800"/>
              <a:ext cx="149040" cy="17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AutoShape 131"/>
            <p:cNvSpPr/>
            <p:nvPr/>
          </p:nvSpPr>
          <p:spPr>
            <a:xfrm>
              <a:off x="1798920" y="4437000"/>
              <a:ext cx="95040" cy="17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AutoShape 132"/>
            <p:cNvSpPr/>
            <p:nvPr/>
          </p:nvSpPr>
          <p:spPr>
            <a:xfrm>
              <a:off x="830160" y="4413240"/>
              <a:ext cx="1079640" cy="21960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0" name="Group 133"/>
          <p:cNvGrpSpPr/>
          <p:nvPr/>
        </p:nvGrpSpPr>
        <p:grpSpPr>
          <a:xfrm>
            <a:off x="1857240" y="3236760"/>
            <a:ext cx="1317600" cy="1309680"/>
            <a:chOff x="1857240" y="3236760"/>
            <a:chExt cx="1317600" cy="1309680"/>
          </a:xfrm>
        </p:grpSpPr>
        <p:sp>
          <p:nvSpPr>
            <p:cNvPr id="1391" name="AutoShape 134"/>
            <p:cNvSpPr/>
            <p:nvPr/>
          </p:nvSpPr>
          <p:spPr>
            <a:xfrm>
              <a:off x="2640960" y="3274560"/>
              <a:ext cx="533880" cy="127188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66274"/>
                  </a:srgbClr>
                </a:gs>
                <a:gs pos="100000">
                  <a:srgbClr val="000099">
                    <a:alpha val="66274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2" name="Group 135"/>
            <p:cNvGrpSpPr/>
            <p:nvPr/>
          </p:nvGrpSpPr>
          <p:grpSpPr>
            <a:xfrm>
              <a:off x="1857240" y="3236760"/>
              <a:ext cx="794880" cy="1298160"/>
              <a:chOff x="1857240" y="3236760"/>
              <a:chExt cx="794880" cy="1298160"/>
            </a:xfrm>
          </p:grpSpPr>
          <p:sp>
            <p:nvSpPr>
              <p:cNvPr id="1393" name="AutoShape 136"/>
              <p:cNvSpPr/>
              <p:nvPr/>
            </p:nvSpPr>
            <p:spPr>
              <a:xfrm>
                <a:off x="1868040" y="3266640"/>
                <a:ext cx="784080" cy="1254600"/>
              </a:xfrm>
              <a:prstGeom prst="pi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AutoShape 137"/>
              <p:cNvSpPr/>
              <p:nvPr/>
            </p:nvSpPr>
            <p:spPr>
              <a:xfrm>
                <a:off x="1919520" y="3236760"/>
                <a:ext cx="709560" cy="1298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Line 138"/>
              <p:cNvSpPr/>
              <p:nvPr/>
            </p:nvSpPr>
            <p:spPr>
              <a:xfrm>
                <a:off x="1871280" y="3516120"/>
                <a:ext cx="777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Line 139"/>
              <p:cNvSpPr/>
              <p:nvPr/>
            </p:nvSpPr>
            <p:spPr>
              <a:xfrm>
                <a:off x="1866600" y="3768480"/>
                <a:ext cx="777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Line 140"/>
              <p:cNvSpPr/>
              <p:nvPr/>
            </p:nvSpPr>
            <p:spPr>
              <a:xfrm>
                <a:off x="1861920" y="4021200"/>
                <a:ext cx="777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Line 141"/>
              <p:cNvSpPr/>
              <p:nvPr/>
            </p:nvSpPr>
            <p:spPr>
              <a:xfrm>
                <a:off x="1857240" y="4273560"/>
                <a:ext cx="777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9" name="Group 142"/>
          <p:cNvGrpSpPr/>
          <p:nvPr/>
        </p:nvGrpSpPr>
        <p:grpSpPr>
          <a:xfrm>
            <a:off x="1182600" y="3343320"/>
            <a:ext cx="461880" cy="231840"/>
            <a:chOff x="1182600" y="3343320"/>
            <a:chExt cx="461880" cy="231840"/>
          </a:xfrm>
        </p:grpSpPr>
        <p:sp>
          <p:nvSpPr>
            <p:cNvPr id="1400" name="AutoShape 143"/>
            <p:cNvSpPr/>
            <p:nvPr/>
          </p:nvSpPr>
          <p:spPr>
            <a:xfrm>
              <a:off x="1254240" y="3395880"/>
              <a:ext cx="390240" cy="136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AutoShape 144"/>
            <p:cNvSpPr/>
            <p:nvPr/>
          </p:nvSpPr>
          <p:spPr>
            <a:xfrm>
              <a:off x="1182600" y="3343320"/>
              <a:ext cx="448200" cy="231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Gill Sans MT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2" name="Group 145"/>
          <p:cNvGrpSpPr/>
          <p:nvPr/>
        </p:nvGrpSpPr>
        <p:grpSpPr>
          <a:xfrm>
            <a:off x="1574640" y="1247760"/>
            <a:ext cx="978120" cy="1460520"/>
            <a:chOff x="1574640" y="1247760"/>
            <a:chExt cx="978120" cy="1460520"/>
          </a:xfrm>
        </p:grpSpPr>
        <p:sp>
          <p:nvSpPr>
            <p:cNvPr id="1403" name="AutoShape 146"/>
            <p:cNvSpPr/>
            <p:nvPr/>
          </p:nvSpPr>
          <p:spPr>
            <a:xfrm>
              <a:off x="1591920" y="1274400"/>
              <a:ext cx="960840" cy="143388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66274"/>
                  </a:srgbClr>
                </a:gs>
                <a:gs pos="100000">
                  <a:srgbClr val="000099">
                    <a:alpha val="66274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4" name="Group 147"/>
            <p:cNvGrpSpPr/>
            <p:nvPr/>
          </p:nvGrpSpPr>
          <p:grpSpPr>
            <a:xfrm>
              <a:off x="1574640" y="1247760"/>
              <a:ext cx="795240" cy="1298160"/>
              <a:chOff x="1574640" y="1247760"/>
              <a:chExt cx="795240" cy="1298160"/>
            </a:xfrm>
          </p:grpSpPr>
          <p:sp>
            <p:nvSpPr>
              <p:cNvPr id="1405" name="AutoShape 148"/>
              <p:cNvSpPr/>
              <p:nvPr/>
            </p:nvSpPr>
            <p:spPr>
              <a:xfrm>
                <a:off x="1585440" y="1277640"/>
                <a:ext cx="784440" cy="1254600"/>
              </a:xfrm>
              <a:prstGeom prst="pi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AutoShape 149"/>
              <p:cNvSpPr/>
              <p:nvPr/>
            </p:nvSpPr>
            <p:spPr>
              <a:xfrm>
                <a:off x="1636920" y="1247760"/>
                <a:ext cx="709920" cy="1298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Line 150"/>
              <p:cNvSpPr/>
              <p:nvPr/>
            </p:nvSpPr>
            <p:spPr>
              <a:xfrm>
                <a:off x="1588680" y="1527120"/>
                <a:ext cx="777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Line 151"/>
              <p:cNvSpPr/>
              <p:nvPr/>
            </p:nvSpPr>
            <p:spPr>
              <a:xfrm>
                <a:off x="1584000" y="1779480"/>
                <a:ext cx="777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Line 152"/>
              <p:cNvSpPr/>
              <p:nvPr/>
            </p:nvSpPr>
            <p:spPr>
              <a:xfrm>
                <a:off x="1579320" y="2032200"/>
                <a:ext cx="777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Line 153"/>
              <p:cNvSpPr/>
              <p:nvPr/>
            </p:nvSpPr>
            <p:spPr>
              <a:xfrm>
                <a:off x="1574640" y="2284560"/>
                <a:ext cx="777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1" name="Group 154"/>
          <p:cNvGrpSpPr/>
          <p:nvPr/>
        </p:nvGrpSpPr>
        <p:grpSpPr>
          <a:xfrm>
            <a:off x="452520" y="1136160"/>
            <a:ext cx="1079280" cy="1217880"/>
            <a:chOff x="452520" y="1136160"/>
            <a:chExt cx="1079280" cy="1217880"/>
          </a:xfrm>
        </p:grpSpPr>
        <p:grpSp>
          <p:nvGrpSpPr>
            <p:cNvPr id="1412" name="Group 155"/>
            <p:cNvGrpSpPr/>
            <p:nvPr/>
          </p:nvGrpSpPr>
          <p:grpSpPr>
            <a:xfrm>
              <a:off x="452520" y="1533240"/>
              <a:ext cx="1079280" cy="729720"/>
              <a:chOff x="452520" y="1533240"/>
              <a:chExt cx="1079280" cy="729720"/>
            </a:xfrm>
          </p:grpSpPr>
          <p:grpSp>
            <p:nvGrpSpPr>
              <p:cNvPr id="1413" name="Group 156"/>
              <p:cNvGrpSpPr/>
              <p:nvPr/>
            </p:nvGrpSpPr>
            <p:grpSpPr>
              <a:xfrm>
                <a:off x="826560" y="1533240"/>
                <a:ext cx="560880" cy="231120"/>
                <a:chOff x="826560" y="1533240"/>
                <a:chExt cx="560880" cy="231120"/>
              </a:xfrm>
            </p:grpSpPr>
            <p:grpSp>
              <p:nvGrpSpPr>
                <p:cNvPr id="1414" name="Group 157"/>
                <p:cNvGrpSpPr/>
                <p:nvPr/>
              </p:nvGrpSpPr>
              <p:grpSpPr>
                <a:xfrm>
                  <a:off x="911880" y="1533240"/>
                  <a:ext cx="459720" cy="231120"/>
                  <a:chOff x="911880" y="1533240"/>
                  <a:chExt cx="459720" cy="231120"/>
                </a:xfrm>
              </p:grpSpPr>
              <p:sp>
                <p:nvSpPr>
                  <p:cNvPr id="1415" name="AutoShape 158"/>
                  <p:cNvSpPr/>
                  <p:nvPr/>
                </p:nvSpPr>
                <p:spPr>
                  <a:xfrm>
                    <a:off x="983160" y="1585440"/>
                    <a:ext cx="388440" cy="136440"/>
                  </a:xfrm>
                  <a:prstGeom prst="pie">
                    <a:avLst/>
                  </a:prstGeom>
                  <a:solidFill>
                    <a:srgbClr val="ff0000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6" name="AutoShape 159"/>
                  <p:cNvSpPr/>
                  <p:nvPr/>
                </p:nvSpPr>
                <p:spPr>
                  <a:xfrm>
                    <a:off x="911880" y="1533240"/>
                    <a:ext cx="446040" cy="2311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Gill Sans MT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17" name="AutoShape 160"/>
                <p:cNvSpPr/>
                <p:nvPr/>
              </p:nvSpPr>
              <p:spPr>
                <a:xfrm>
                  <a:off x="842400" y="1588680"/>
                  <a:ext cx="139320" cy="130320"/>
                </a:xfrm>
                <a:prstGeom prst="pie">
                  <a:avLst/>
                </a:prstGeom>
                <a:solidFill>
                  <a:srgbClr val="00cc9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AutoShape 161"/>
                <p:cNvSpPr/>
                <p:nvPr/>
              </p:nvSpPr>
              <p:spPr>
                <a:xfrm>
                  <a:off x="826560" y="1579320"/>
                  <a:ext cx="560880" cy="149400"/>
                </a:xfrm>
                <a:prstGeom prst="pie">
                  <a:avLst/>
                </a:prstGeom>
                <a:noFill/>
                <a:ln w="3240">
                  <a:solidFill>
                    <a:srgbClr val="00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9" name="Group 162"/>
              <p:cNvGrpSpPr/>
              <p:nvPr/>
            </p:nvGrpSpPr>
            <p:grpSpPr>
              <a:xfrm>
                <a:off x="826560" y="1768320"/>
                <a:ext cx="560880" cy="231120"/>
                <a:chOff x="826560" y="1768320"/>
                <a:chExt cx="560880" cy="231120"/>
              </a:xfrm>
            </p:grpSpPr>
            <p:grpSp>
              <p:nvGrpSpPr>
                <p:cNvPr id="1420" name="Group 163"/>
                <p:cNvGrpSpPr/>
                <p:nvPr/>
              </p:nvGrpSpPr>
              <p:grpSpPr>
                <a:xfrm>
                  <a:off x="911880" y="1768320"/>
                  <a:ext cx="459720" cy="231120"/>
                  <a:chOff x="911880" y="1768320"/>
                  <a:chExt cx="459720" cy="231120"/>
                </a:xfrm>
              </p:grpSpPr>
              <p:sp>
                <p:nvSpPr>
                  <p:cNvPr id="1421" name="AutoShape 164"/>
                  <p:cNvSpPr/>
                  <p:nvPr/>
                </p:nvSpPr>
                <p:spPr>
                  <a:xfrm>
                    <a:off x="983160" y="1820520"/>
                    <a:ext cx="388440" cy="136440"/>
                  </a:xfrm>
                  <a:prstGeom prst="pie">
                    <a:avLst/>
                  </a:prstGeom>
                  <a:solidFill>
                    <a:srgbClr val="ff0000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2" name="AutoShape 165"/>
                  <p:cNvSpPr/>
                  <p:nvPr/>
                </p:nvSpPr>
                <p:spPr>
                  <a:xfrm>
                    <a:off x="911880" y="1768320"/>
                    <a:ext cx="446040" cy="2311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Gill Sans MT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3" name="Group 166"/>
                <p:cNvGrpSpPr/>
                <p:nvPr/>
              </p:nvGrpSpPr>
              <p:grpSpPr>
                <a:xfrm>
                  <a:off x="826560" y="1814400"/>
                  <a:ext cx="560880" cy="149400"/>
                  <a:chOff x="826560" y="1814400"/>
                  <a:chExt cx="560880" cy="149400"/>
                </a:xfrm>
              </p:grpSpPr>
              <p:sp>
                <p:nvSpPr>
                  <p:cNvPr id="1424" name="AutoShape 167"/>
                  <p:cNvSpPr/>
                  <p:nvPr/>
                </p:nvSpPr>
                <p:spPr>
                  <a:xfrm>
                    <a:off x="842400" y="1823760"/>
                    <a:ext cx="139320" cy="130320"/>
                  </a:xfrm>
                  <a:prstGeom prst="pie">
                    <a:avLst/>
                  </a:prstGeom>
                  <a:solidFill>
                    <a:srgbClr val="00cc99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5" name="AutoShape 168"/>
                  <p:cNvSpPr/>
                  <p:nvPr/>
                </p:nvSpPr>
                <p:spPr>
                  <a:xfrm>
                    <a:off x="826560" y="1814400"/>
                    <a:ext cx="560880" cy="149400"/>
                  </a:xfrm>
                  <a:prstGeom prst="pie">
                    <a:avLst/>
                  </a:prstGeom>
                  <a:noFill/>
                  <a:ln w="3240">
                    <a:solidFill>
                      <a:srgbClr val="00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26" name="Group 169"/>
              <p:cNvGrpSpPr/>
              <p:nvPr/>
            </p:nvGrpSpPr>
            <p:grpSpPr>
              <a:xfrm>
                <a:off x="647280" y="1800000"/>
                <a:ext cx="760680" cy="177840"/>
                <a:chOff x="647280" y="1800000"/>
                <a:chExt cx="760680" cy="177840"/>
              </a:xfrm>
            </p:grpSpPr>
            <p:sp>
              <p:nvSpPr>
                <p:cNvPr id="1427" name="AutoShape 170"/>
                <p:cNvSpPr/>
                <p:nvPr/>
              </p:nvSpPr>
              <p:spPr>
                <a:xfrm>
                  <a:off x="661320" y="1817280"/>
                  <a:ext cx="151920" cy="147960"/>
                </a:xfrm>
                <a:prstGeom prst="pi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AutoShape 171"/>
                <p:cNvSpPr/>
                <p:nvPr/>
              </p:nvSpPr>
              <p:spPr>
                <a:xfrm>
                  <a:off x="647280" y="1800000"/>
                  <a:ext cx="760680" cy="177840"/>
                </a:xfrm>
                <a:prstGeom prst="pie">
                  <a:avLst/>
                </a:prstGeom>
                <a:noFill/>
                <a:ln w="32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9" name="Group 172"/>
              <p:cNvGrpSpPr/>
              <p:nvPr/>
            </p:nvGrpSpPr>
            <p:grpSpPr>
              <a:xfrm>
                <a:off x="452520" y="2031840"/>
                <a:ext cx="1079280" cy="231120"/>
                <a:chOff x="452520" y="2031840"/>
                <a:chExt cx="1079280" cy="231120"/>
              </a:xfrm>
            </p:grpSpPr>
            <p:grpSp>
              <p:nvGrpSpPr>
                <p:cNvPr id="1430" name="Group 173"/>
                <p:cNvGrpSpPr/>
                <p:nvPr/>
              </p:nvGrpSpPr>
              <p:grpSpPr>
                <a:xfrm>
                  <a:off x="641160" y="2031840"/>
                  <a:ext cx="760680" cy="231120"/>
                  <a:chOff x="641160" y="2031840"/>
                  <a:chExt cx="760680" cy="231120"/>
                </a:xfrm>
              </p:grpSpPr>
              <p:grpSp>
                <p:nvGrpSpPr>
                  <p:cNvPr id="1431" name="Group 174"/>
                  <p:cNvGrpSpPr/>
                  <p:nvPr/>
                </p:nvGrpSpPr>
                <p:grpSpPr>
                  <a:xfrm>
                    <a:off x="820080" y="2031840"/>
                    <a:ext cx="561240" cy="231120"/>
                    <a:chOff x="820080" y="2031840"/>
                    <a:chExt cx="561240" cy="231120"/>
                  </a:xfrm>
                </p:grpSpPr>
                <p:grpSp>
                  <p:nvGrpSpPr>
                    <p:cNvPr id="1432" name="Group 175"/>
                    <p:cNvGrpSpPr/>
                    <p:nvPr/>
                  </p:nvGrpSpPr>
                  <p:grpSpPr>
                    <a:xfrm>
                      <a:off x="905400" y="2031840"/>
                      <a:ext cx="459720" cy="231120"/>
                      <a:chOff x="905400" y="2031840"/>
                      <a:chExt cx="459720" cy="231120"/>
                    </a:xfrm>
                  </p:grpSpPr>
                  <p:sp>
                    <p:nvSpPr>
                      <p:cNvPr id="1433" name="AutoShape 176"/>
                      <p:cNvSpPr/>
                      <p:nvPr/>
                    </p:nvSpPr>
                    <p:spPr>
                      <a:xfrm>
                        <a:off x="976680" y="2084040"/>
                        <a:ext cx="388440" cy="136440"/>
                      </a:xfrm>
                      <a:prstGeom prst="pie">
                        <a:avLst/>
                      </a:prstGeom>
                      <a:solidFill>
                        <a:srgbClr val="ff0000"/>
                      </a:solidFill>
                      <a:ln w="324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4" name="AutoShape 177"/>
                      <p:cNvSpPr/>
                      <p:nvPr/>
                    </p:nvSpPr>
                    <p:spPr>
                      <a:xfrm>
                        <a:off x="905400" y="2031840"/>
                        <a:ext cx="446040" cy="231120"/>
                      </a:xfrm>
                      <a:prstGeom prst="pie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Gill Sans MT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35" name="Group 178"/>
                    <p:cNvGrpSpPr/>
                    <p:nvPr/>
                  </p:nvGrpSpPr>
                  <p:grpSpPr>
                    <a:xfrm>
                      <a:off x="820080" y="2077920"/>
                      <a:ext cx="561240" cy="149400"/>
                      <a:chOff x="820080" y="2077920"/>
                      <a:chExt cx="561240" cy="149400"/>
                    </a:xfrm>
                  </p:grpSpPr>
                  <p:sp>
                    <p:nvSpPr>
                      <p:cNvPr id="1436" name="AutoShape 179"/>
                      <p:cNvSpPr/>
                      <p:nvPr/>
                    </p:nvSpPr>
                    <p:spPr>
                      <a:xfrm>
                        <a:off x="835920" y="2087280"/>
                        <a:ext cx="139320" cy="130320"/>
                      </a:xfrm>
                      <a:prstGeom prst="pie">
                        <a:avLst/>
                      </a:prstGeom>
                      <a:solidFill>
                        <a:srgbClr val="00cc99"/>
                      </a:solidFill>
                      <a:ln w="324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7" name="AutoShape 180"/>
                      <p:cNvSpPr/>
                      <p:nvPr/>
                    </p:nvSpPr>
                    <p:spPr>
                      <a:xfrm>
                        <a:off x="820080" y="2077920"/>
                        <a:ext cx="561240" cy="149400"/>
                      </a:xfrm>
                      <a:prstGeom prst="pie">
                        <a:avLst/>
                      </a:prstGeom>
                      <a:noFill/>
                      <a:ln w="3240">
                        <a:solidFill>
                          <a:srgbClr val="00cc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438" name="AutoShape 181"/>
                  <p:cNvSpPr/>
                  <p:nvPr/>
                </p:nvSpPr>
                <p:spPr>
                  <a:xfrm>
                    <a:off x="655200" y="2080800"/>
                    <a:ext cx="151920" cy="147600"/>
                  </a:xfrm>
                  <a:prstGeom prst="pie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9" name="AutoShape 182"/>
                  <p:cNvSpPr/>
                  <p:nvPr/>
                </p:nvSpPr>
                <p:spPr>
                  <a:xfrm>
                    <a:off x="641160" y="2063520"/>
                    <a:ext cx="760680" cy="177840"/>
                  </a:xfrm>
                  <a:prstGeom prst="pie">
                    <a:avLst/>
                  </a:prstGeom>
                  <a:noFill/>
                  <a:ln w="3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0" name="AutoShape 183"/>
                <p:cNvSpPr/>
                <p:nvPr/>
              </p:nvSpPr>
              <p:spPr>
                <a:xfrm>
                  <a:off x="473040" y="2066760"/>
                  <a:ext cx="148680" cy="171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AutoShape 184"/>
                <p:cNvSpPr/>
                <p:nvPr/>
              </p:nvSpPr>
              <p:spPr>
                <a:xfrm>
                  <a:off x="1420920" y="2064960"/>
                  <a:ext cx="95040" cy="171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AutoShape 185"/>
                <p:cNvSpPr/>
                <p:nvPr/>
              </p:nvSpPr>
              <p:spPr>
                <a:xfrm>
                  <a:off x="452520" y="2041200"/>
                  <a:ext cx="1079280" cy="219240"/>
                </a:xfrm>
                <a:prstGeom prst="pie">
                  <a:avLst/>
                </a:pr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43" name="AutoShape 186"/>
            <p:cNvSpPr/>
            <p:nvPr/>
          </p:nvSpPr>
          <p:spPr>
            <a:xfrm rot="10800000">
              <a:off x="964440" y="1136160"/>
              <a:ext cx="380160" cy="1217880"/>
            </a:xfrm>
            <a:prstGeom prst="pie">
              <a:avLst/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4" name="Group 187"/>
            <p:cNvGrpSpPr/>
            <p:nvPr/>
          </p:nvGrpSpPr>
          <p:grpSpPr>
            <a:xfrm>
              <a:off x="913680" y="1330200"/>
              <a:ext cx="459720" cy="231120"/>
              <a:chOff x="913680" y="1330200"/>
              <a:chExt cx="459720" cy="231120"/>
            </a:xfrm>
          </p:grpSpPr>
          <p:sp>
            <p:nvSpPr>
              <p:cNvPr id="1445" name="AutoShape 188"/>
              <p:cNvSpPr/>
              <p:nvPr/>
            </p:nvSpPr>
            <p:spPr>
              <a:xfrm>
                <a:off x="984960" y="1382400"/>
                <a:ext cx="388440" cy="13644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AutoShape 189"/>
              <p:cNvSpPr/>
              <p:nvPr/>
            </p:nvSpPr>
            <p:spPr>
              <a:xfrm>
                <a:off x="913680" y="1330200"/>
                <a:ext cx="446040" cy="231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Gill Sans MT"/>
                  </a:rPr>
                  <a:t>DHC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47" name="AutoShape 190"/>
          <p:cNvSpPr/>
          <p:nvPr/>
        </p:nvSpPr>
        <p:spPr>
          <a:xfrm>
            <a:off x="5407200" y="4230720"/>
            <a:ext cx="3420720" cy="1824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19040" indent="-41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now knows its IP address, name and IP address of DSN server, IP address of its first-hop ro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Slide Number Placeholder 192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17AE-CA09-4A8F-9A6B-225C8D4716B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AutoShape 2"/>
          <p:cNvSpPr/>
          <p:nvPr/>
        </p:nvSpPr>
        <p:spPr>
          <a:xfrm>
            <a:off x="5913360" y="6467400"/>
            <a:ext cx="28940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1" name="Picture 4" descr="underline_base"/>
          <p:cNvPicPr/>
          <p:nvPr/>
        </p:nvPicPr>
        <p:blipFill>
          <a:blip r:embed="rId1"/>
          <a:stretch/>
        </p:blipFill>
        <p:spPr>
          <a:xfrm>
            <a:off x="747720" y="11016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739800" y="172800"/>
            <a:ext cx="37036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Wireshark output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(home L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AutoShape 6"/>
          <p:cNvSpPr/>
          <p:nvPr/>
        </p:nvSpPr>
        <p:spPr>
          <a:xfrm>
            <a:off x="4951440" y="500040"/>
            <a:ext cx="4459320" cy="4268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Message type: </a:t>
            </a: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Boot Reply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Hardware type: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Hardware address length: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Hops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Transaction ID: 0x6b3a11b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Seconds elapsed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Bootp flags: 0x0000 (Unica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Client IP address: 192.168.1.101 (192.168.1.10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Your (client) IP address: 0.0.0.0 (0.0.0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Next server IP address: 192.168.1.1 (192.168.1.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Relay agent IP address: 0.0.0.0 (0.0.0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Client MAC address: Wistron_23:68:8a (00:16:d3:23:68:8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Server host name not 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Boot file name not 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Magic cookie: (O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Option: (t=53,l=1) DHCP Message Type = DHCP 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Option: (t=54,l=4) Server Identifier = 192.168.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Option: (t=1,l=4) Subnet Mask = 255.255.25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Option: (t=3,l=4) Router = 192.168.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Option: (6) Domain Name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Length: 12; Value: 445747E2445749F244574092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IP Address: 68.87.71.226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IP Address: 68.87.73.242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IP Address: 68.87.64.1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Option: (t=15,l=20) Domain Name = "hsd1.ma.comcast.net.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Line 7"/>
          <p:cNvSpPr/>
          <p:nvPr/>
        </p:nvSpPr>
        <p:spPr>
          <a:xfrm>
            <a:off x="4902120" y="298440"/>
            <a:ext cx="11160" cy="627552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AutoShape 8"/>
          <p:cNvSpPr/>
          <p:nvPr/>
        </p:nvSpPr>
        <p:spPr>
          <a:xfrm>
            <a:off x="8015400" y="485640"/>
            <a:ext cx="560160" cy="35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rep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AutoShape 9"/>
          <p:cNvSpPr/>
          <p:nvPr/>
        </p:nvSpPr>
        <p:spPr>
          <a:xfrm>
            <a:off x="538200" y="1506600"/>
            <a:ext cx="4243320" cy="4589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Message type: 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Gill Sans MT"/>
              </a:rPr>
              <a:t>Boot Request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Hardware type: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Hardware address length: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Hops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Transaction ID: 0x6b3a11b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Seconds elapsed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Bootp flags: 0x0000 (Unica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Client IP address: 0.0.0.0 (0.0.0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Your (client) IP address: 0.0.0.0 (0.0.0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Next server IP address: 0.0.0.0 (0.0.0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Relay agent IP address: 0.0.0.0 (0.0.0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Client MAC address: Wistron_23:68:8a (00:16:d3:23:68:8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Server host name not 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Boot file name not 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Magic cookie: (O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Option: (t=53,l=1) </a:t>
            </a: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DHCP Message Type = DHC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Option: (61) Client ident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Length: 7; Value: 010016D323688A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Hardware type: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Client MAC address: Wistron_23:68:8a (00:16:d3:23:68:8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Option: (t=50,l=4) Requested IP Address = 192.168.1.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Option: (t=12,l=5) Host Name = "nomad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Option: (55) Parameter Request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Length: 11; Value: 010F03062C2E2F1F21F9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1 = Subnet Mask; 15 = Domai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Gill Sans MT"/>
              </a:rPr>
              <a:t>3 = Router; 6 = Domain Name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44 = NetBIOS over TCP/IP Name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 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AutoShape 10"/>
          <p:cNvSpPr/>
          <p:nvPr/>
        </p:nvSpPr>
        <p:spPr>
          <a:xfrm>
            <a:off x="2994120" y="1886040"/>
            <a:ext cx="801720" cy="357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Slide Number Placeholder 12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0BD7-7E96-445E-B46A-E97BAC00996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0" name="Picture 4" descr="underline_base"/>
          <p:cNvPicPr/>
          <p:nvPr/>
        </p:nvPicPr>
        <p:blipFill>
          <a:blip r:embed="rId1"/>
          <a:stretch/>
        </p:blipFill>
        <p:spPr>
          <a:xfrm>
            <a:off x="871560" y="85716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795240" y="16344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addresses: how to get o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867960" y="1342800"/>
            <a:ext cx="807732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does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etwork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et subnet part of IP add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ets allocated portion of its provider ISP’s addres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AutoShape 7"/>
          <p:cNvSpPr/>
          <p:nvPr/>
        </p:nvSpPr>
        <p:spPr>
          <a:xfrm>
            <a:off x="973080" y="3514680"/>
            <a:ext cx="8551800" cy="2224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Gill Sans MT"/>
              </a:rPr>
              <a:t>ISP's block          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Gill Sans MT"/>
              </a:rPr>
              <a:t>11001000  00010111  00010000</a:t>
            </a:r>
            <a:r>
              <a:rPr b="0" lang="en-US" sz="1800" spc="-1" strike="noStrike">
                <a:solidFill>
                  <a:srgbClr val="000099"/>
                </a:solidFill>
                <a:latin typeface="Gill Sans MT"/>
              </a:rPr>
              <a:t>  00000000    200.23.16.0/20</a:t>
            </a:r>
            <a:r>
              <a:rPr b="0" lang="en-US" sz="1800" spc="-1" strike="noStrike">
                <a:solidFill>
                  <a:srgbClr val="3333cc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rganization 0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ill Sans MT"/>
              </a:rPr>
              <a:t>11001000  00010111  0001000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0  00000000    200.23.16.0/2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rganization 1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ill Sans MT"/>
              </a:rPr>
              <a:t>11001000  00010111  0001001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0  00000000    200.23.18.0/2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rganization 2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ill Sans MT"/>
              </a:rPr>
              <a:t>11001000  00010111  0001010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0  00000000    200.23.20.0/2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...                                          …..                                   ….                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rganization 7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ill Sans MT"/>
              </a:rPr>
              <a:t>11001000  00010111  0001111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0  00000000    200.23.30.0/2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Slide Number Placeholder 9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AFEF-718B-45AF-B5DB-2DF497D44BF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6" name="Picture 4" descr="underline_base"/>
          <p:cNvPicPr/>
          <p:nvPr/>
        </p:nvPicPr>
        <p:blipFill>
          <a:blip r:embed="rId1"/>
          <a:stretch/>
        </p:blipFill>
        <p:spPr>
          <a:xfrm>
            <a:off x="987480" y="100008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914400" y="2268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P addressing: the last word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does an ISP get block of addr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: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ICAN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ternet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rporation for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sign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mes and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mbers http://www.icann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33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locate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33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nages D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33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signs domain names, resolves disp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Slide Number Placeholder 8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D628-13CA-4CE9-A01C-C7D6AC9A54C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914040" y="208080"/>
            <a:ext cx="83170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Hierarchical addressing: route aggre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Line 5"/>
          <p:cNvSpPr/>
          <p:nvPr/>
        </p:nvSpPr>
        <p:spPr>
          <a:xfrm>
            <a:off x="5554800" y="4121280"/>
            <a:ext cx="2019240" cy="29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Line 6"/>
          <p:cNvSpPr/>
          <p:nvPr/>
        </p:nvSpPr>
        <p:spPr>
          <a:xfrm flipV="1">
            <a:off x="3213000" y="4395960"/>
            <a:ext cx="895320" cy="45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Line 7"/>
          <p:cNvSpPr/>
          <p:nvPr/>
        </p:nvSpPr>
        <p:spPr>
          <a:xfrm>
            <a:off x="3240000" y="3768840"/>
            <a:ext cx="752400" cy="16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Line 8"/>
          <p:cNvSpPr/>
          <p:nvPr/>
        </p:nvSpPr>
        <p:spPr>
          <a:xfrm>
            <a:off x="3308400" y="2986200"/>
            <a:ext cx="847800" cy="7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AutoShape 9"/>
          <p:cNvSpPr/>
          <p:nvPr/>
        </p:nvSpPr>
        <p:spPr>
          <a:xfrm>
            <a:off x="3959280" y="3589200"/>
            <a:ext cx="1751040" cy="95112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AutoShape 10"/>
          <p:cNvSpPr/>
          <p:nvPr/>
        </p:nvSpPr>
        <p:spPr>
          <a:xfrm>
            <a:off x="5788080" y="3294000"/>
            <a:ext cx="1487520" cy="903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begi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00.23.16.0/20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8" name="Group 11"/>
          <p:cNvGrpSpPr/>
          <p:nvPr/>
        </p:nvGrpSpPr>
        <p:grpSpPr>
          <a:xfrm>
            <a:off x="1233360" y="2778120"/>
            <a:ext cx="2159280" cy="380880"/>
            <a:chOff x="1233360" y="2778120"/>
            <a:chExt cx="2159280" cy="380880"/>
          </a:xfrm>
        </p:grpSpPr>
        <p:sp>
          <p:nvSpPr>
            <p:cNvPr id="1479" name="AutoShape 12"/>
            <p:cNvSpPr/>
            <p:nvPr/>
          </p:nvSpPr>
          <p:spPr>
            <a:xfrm>
              <a:off x="1233360" y="2778120"/>
              <a:ext cx="2159280" cy="38088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AutoShape 13"/>
            <p:cNvSpPr/>
            <p:nvPr/>
          </p:nvSpPr>
          <p:spPr>
            <a:xfrm>
              <a:off x="1491840" y="2800080"/>
              <a:ext cx="1311120" cy="33228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200.23.16.0/2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Group 14"/>
          <p:cNvGrpSpPr/>
          <p:nvPr/>
        </p:nvGrpSpPr>
        <p:grpSpPr>
          <a:xfrm>
            <a:off x="1262160" y="3368520"/>
            <a:ext cx="2158920" cy="381240"/>
            <a:chOff x="1262160" y="3368520"/>
            <a:chExt cx="2158920" cy="381240"/>
          </a:xfrm>
        </p:grpSpPr>
        <p:sp>
          <p:nvSpPr>
            <p:cNvPr id="1482" name="AutoShape 15"/>
            <p:cNvSpPr/>
            <p:nvPr/>
          </p:nvSpPr>
          <p:spPr>
            <a:xfrm>
              <a:off x="1262160" y="3368520"/>
              <a:ext cx="2158920" cy="38124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AutoShape 16"/>
            <p:cNvSpPr/>
            <p:nvPr/>
          </p:nvSpPr>
          <p:spPr>
            <a:xfrm>
              <a:off x="1520280" y="3390480"/>
              <a:ext cx="1310760" cy="33264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200.23.18.0/2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4" name="Group 17"/>
          <p:cNvGrpSpPr/>
          <p:nvPr/>
        </p:nvGrpSpPr>
        <p:grpSpPr>
          <a:xfrm>
            <a:off x="1176480" y="4788000"/>
            <a:ext cx="2158920" cy="380880"/>
            <a:chOff x="1176480" y="4788000"/>
            <a:chExt cx="2158920" cy="380880"/>
          </a:xfrm>
        </p:grpSpPr>
        <p:sp>
          <p:nvSpPr>
            <p:cNvPr id="1485" name="AutoShape 18"/>
            <p:cNvSpPr/>
            <p:nvPr/>
          </p:nvSpPr>
          <p:spPr>
            <a:xfrm>
              <a:off x="1176480" y="4788000"/>
              <a:ext cx="2158920" cy="38088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AutoShape 19"/>
            <p:cNvSpPr/>
            <p:nvPr/>
          </p:nvSpPr>
          <p:spPr>
            <a:xfrm>
              <a:off x="1434600" y="4809960"/>
              <a:ext cx="1310760" cy="33228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200.23.30.0/2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7" name="AutoShape 20"/>
          <p:cNvSpPr/>
          <p:nvPr/>
        </p:nvSpPr>
        <p:spPr>
          <a:xfrm>
            <a:off x="3987720" y="3998880"/>
            <a:ext cx="127008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Fly-By-Night-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AutoShape 21"/>
          <p:cNvSpPr/>
          <p:nvPr/>
        </p:nvSpPr>
        <p:spPr>
          <a:xfrm>
            <a:off x="7567560" y="3146400"/>
            <a:ext cx="1376280" cy="261288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AutoShape 22"/>
          <p:cNvSpPr/>
          <p:nvPr/>
        </p:nvSpPr>
        <p:spPr>
          <a:xfrm>
            <a:off x="1139760" y="2503440"/>
            <a:ext cx="117324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Organization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AutoShape 23"/>
          <p:cNvSpPr/>
          <p:nvPr/>
        </p:nvSpPr>
        <p:spPr>
          <a:xfrm>
            <a:off x="1168560" y="4513320"/>
            <a:ext cx="117288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Organization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AutoShape 24"/>
          <p:cNvSpPr/>
          <p:nvPr/>
        </p:nvSpPr>
        <p:spPr>
          <a:xfrm>
            <a:off x="7788240" y="4322880"/>
            <a:ext cx="684360" cy="293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AutoShape 25"/>
          <p:cNvSpPr/>
          <p:nvPr/>
        </p:nvSpPr>
        <p:spPr>
          <a:xfrm>
            <a:off x="1149480" y="3151080"/>
            <a:ext cx="117288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Organization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AutoShape 26"/>
          <p:cNvSpPr/>
          <p:nvPr/>
        </p:nvSpPr>
        <p:spPr>
          <a:xfrm>
            <a:off x="3902040" y="4903920"/>
            <a:ext cx="1751040" cy="95076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AutoShape 27"/>
          <p:cNvSpPr/>
          <p:nvPr/>
        </p:nvSpPr>
        <p:spPr>
          <a:xfrm>
            <a:off x="4197240" y="5256360"/>
            <a:ext cx="804960" cy="293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ISPs-R-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Line 28"/>
          <p:cNvSpPr/>
          <p:nvPr/>
        </p:nvSpPr>
        <p:spPr>
          <a:xfrm flipV="1">
            <a:off x="5621400" y="4902120"/>
            <a:ext cx="2019240" cy="293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Line 29"/>
          <p:cNvSpPr/>
          <p:nvPr/>
        </p:nvSpPr>
        <p:spPr>
          <a:xfrm>
            <a:off x="3413160" y="5445000"/>
            <a:ext cx="48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Line 30"/>
          <p:cNvSpPr/>
          <p:nvPr/>
        </p:nvSpPr>
        <p:spPr>
          <a:xfrm flipV="1">
            <a:off x="3260880" y="5509800"/>
            <a:ext cx="637920" cy="1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Line 31"/>
          <p:cNvSpPr/>
          <p:nvPr/>
        </p:nvSpPr>
        <p:spPr>
          <a:xfrm flipV="1">
            <a:off x="3699000" y="5757840"/>
            <a:ext cx="247680" cy="41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AutoShape 32"/>
          <p:cNvSpPr/>
          <p:nvPr/>
        </p:nvSpPr>
        <p:spPr>
          <a:xfrm>
            <a:off x="5911920" y="5151600"/>
            <a:ext cx="1487520" cy="903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begi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199.31.0.0/16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0" name="Group 33"/>
          <p:cNvGrpSpPr/>
          <p:nvPr/>
        </p:nvGrpSpPr>
        <p:grpSpPr>
          <a:xfrm>
            <a:off x="1281240" y="3959280"/>
            <a:ext cx="2158920" cy="380880"/>
            <a:chOff x="1281240" y="3959280"/>
            <a:chExt cx="2158920" cy="380880"/>
          </a:xfrm>
        </p:grpSpPr>
        <p:sp>
          <p:nvSpPr>
            <p:cNvPr id="1501" name="AutoShape 34"/>
            <p:cNvSpPr/>
            <p:nvPr/>
          </p:nvSpPr>
          <p:spPr>
            <a:xfrm>
              <a:off x="1281240" y="3959280"/>
              <a:ext cx="2158920" cy="38088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AutoShape 35"/>
            <p:cNvSpPr/>
            <p:nvPr/>
          </p:nvSpPr>
          <p:spPr>
            <a:xfrm>
              <a:off x="1539360" y="3981240"/>
              <a:ext cx="1310760" cy="33228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200.23.20.0/2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3" name="AutoShape 36"/>
          <p:cNvSpPr/>
          <p:nvPr/>
        </p:nvSpPr>
        <p:spPr>
          <a:xfrm>
            <a:off x="1168560" y="3741840"/>
            <a:ext cx="117288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Organization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Group 37"/>
          <p:cNvGrpSpPr/>
          <p:nvPr/>
        </p:nvGrpSpPr>
        <p:grpSpPr>
          <a:xfrm>
            <a:off x="2536920" y="4197240"/>
            <a:ext cx="174600" cy="663840"/>
            <a:chOff x="2536920" y="4197240"/>
            <a:chExt cx="174600" cy="663840"/>
          </a:xfrm>
        </p:grpSpPr>
        <p:sp>
          <p:nvSpPr>
            <p:cNvPr id="1505" name="AutoShape 38"/>
            <p:cNvSpPr/>
            <p:nvPr/>
          </p:nvSpPr>
          <p:spPr>
            <a:xfrm>
              <a:off x="2539800" y="4197240"/>
              <a:ext cx="171720" cy="396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AutoShape 39"/>
            <p:cNvSpPr/>
            <p:nvPr/>
          </p:nvSpPr>
          <p:spPr>
            <a:xfrm>
              <a:off x="2536920" y="4332240"/>
              <a:ext cx="171720" cy="396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AutoShape 40"/>
            <p:cNvSpPr/>
            <p:nvPr/>
          </p:nvSpPr>
          <p:spPr>
            <a:xfrm>
              <a:off x="2538360" y="4464360"/>
              <a:ext cx="171720" cy="396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8" name="Group 41"/>
          <p:cNvGrpSpPr/>
          <p:nvPr/>
        </p:nvGrpSpPr>
        <p:grpSpPr>
          <a:xfrm>
            <a:off x="3565440" y="3902040"/>
            <a:ext cx="174600" cy="663480"/>
            <a:chOff x="3565440" y="3902040"/>
            <a:chExt cx="174600" cy="663480"/>
          </a:xfrm>
        </p:grpSpPr>
        <p:sp>
          <p:nvSpPr>
            <p:cNvPr id="1509" name="AutoShape 42"/>
            <p:cNvSpPr/>
            <p:nvPr/>
          </p:nvSpPr>
          <p:spPr>
            <a:xfrm>
              <a:off x="3568320" y="3902040"/>
              <a:ext cx="171720" cy="396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AutoShape 43"/>
            <p:cNvSpPr/>
            <p:nvPr/>
          </p:nvSpPr>
          <p:spPr>
            <a:xfrm>
              <a:off x="3565440" y="4037040"/>
              <a:ext cx="171720" cy="396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AutoShape 44"/>
            <p:cNvSpPr/>
            <p:nvPr/>
          </p:nvSpPr>
          <p:spPr>
            <a:xfrm>
              <a:off x="3566880" y="4168800"/>
              <a:ext cx="171720" cy="396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2" name="AutoShape 45"/>
          <p:cNvSpPr/>
          <p:nvPr/>
        </p:nvSpPr>
        <p:spPr>
          <a:xfrm>
            <a:off x="947880" y="1357200"/>
            <a:ext cx="6091200" cy="623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ierarchical addressing allows efficient advertisement of rou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form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3" name="Picture 46" descr="underline_base"/>
          <p:cNvPicPr/>
          <p:nvPr/>
        </p:nvPicPr>
        <p:blipFill>
          <a:blip r:embed="rId1"/>
          <a:stretch/>
        </p:blipFill>
        <p:spPr>
          <a:xfrm>
            <a:off x="969840" y="90000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1514" name="Slide Number Placeholder 48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9CE4-82B1-427D-8895-20CEB31396C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AutoShape 4"/>
          <p:cNvSpPr/>
          <p:nvPr/>
        </p:nvSpPr>
        <p:spPr>
          <a:xfrm>
            <a:off x="7578720" y="3135240"/>
            <a:ext cx="1376280" cy="261324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AutoShape 5"/>
          <p:cNvSpPr/>
          <p:nvPr/>
        </p:nvSpPr>
        <p:spPr>
          <a:xfrm>
            <a:off x="1052640" y="1463760"/>
            <a:ext cx="5103720" cy="357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Ps-R-Us has a more specific route to Organizatio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Line 6"/>
          <p:cNvSpPr/>
          <p:nvPr/>
        </p:nvSpPr>
        <p:spPr>
          <a:xfrm>
            <a:off x="5554800" y="4114800"/>
            <a:ext cx="2019240" cy="293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Line 7"/>
          <p:cNvSpPr/>
          <p:nvPr/>
        </p:nvSpPr>
        <p:spPr>
          <a:xfrm flipV="1">
            <a:off x="3213000" y="4389480"/>
            <a:ext cx="895320" cy="45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Line 8"/>
          <p:cNvSpPr/>
          <p:nvPr/>
        </p:nvSpPr>
        <p:spPr>
          <a:xfrm flipV="1">
            <a:off x="3575160" y="5667120"/>
            <a:ext cx="333360" cy="24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Line 9"/>
          <p:cNvSpPr/>
          <p:nvPr/>
        </p:nvSpPr>
        <p:spPr>
          <a:xfrm>
            <a:off x="3308400" y="2979720"/>
            <a:ext cx="847800" cy="7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AutoShape 10"/>
          <p:cNvSpPr/>
          <p:nvPr/>
        </p:nvSpPr>
        <p:spPr>
          <a:xfrm>
            <a:off x="3959280" y="3583080"/>
            <a:ext cx="1751040" cy="95076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AutoShape 11"/>
          <p:cNvSpPr/>
          <p:nvPr/>
        </p:nvSpPr>
        <p:spPr>
          <a:xfrm>
            <a:off x="5788080" y="3287880"/>
            <a:ext cx="1487520" cy="903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begi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0000"/>
                </a:solidFill>
                <a:uFillTx/>
                <a:latin typeface="Gill Sans MT"/>
              </a:rPr>
              <a:t>200.23.16.0/20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4" name="Group 12"/>
          <p:cNvGrpSpPr/>
          <p:nvPr/>
        </p:nvGrpSpPr>
        <p:grpSpPr>
          <a:xfrm>
            <a:off x="1233360" y="2771640"/>
            <a:ext cx="2159280" cy="381240"/>
            <a:chOff x="1233360" y="2771640"/>
            <a:chExt cx="2159280" cy="381240"/>
          </a:xfrm>
        </p:grpSpPr>
        <p:sp>
          <p:nvSpPr>
            <p:cNvPr id="1525" name="AutoShape 13"/>
            <p:cNvSpPr/>
            <p:nvPr/>
          </p:nvSpPr>
          <p:spPr>
            <a:xfrm>
              <a:off x="1233360" y="2771640"/>
              <a:ext cx="2159280" cy="38124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AutoShape 14"/>
            <p:cNvSpPr/>
            <p:nvPr/>
          </p:nvSpPr>
          <p:spPr>
            <a:xfrm>
              <a:off x="1491840" y="2793600"/>
              <a:ext cx="1311120" cy="33264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200.23.16.0/2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7" name="Group 15"/>
          <p:cNvGrpSpPr/>
          <p:nvPr/>
        </p:nvGrpSpPr>
        <p:grpSpPr>
          <a:xfrm>
            <a:off x="1442880" y="5848200"/>
            <a:ext cx="2159280" cy="381240"/>
            <a:chOff x="1442880" y="5848200"/>
            <a:chExt cx="2159280" cy="381240"/>
          </a:xfrm>
        </p:grpSpPr>
        <p:sp>
          <p:nvSpPr>
            <p:cNvPr id="1528" name="AutoShape 16"/>
            <p:cNvSpPr/>
            <p:nvPr/>
          </p:nvSpPr>
          <p:spPr>
            <a:xfrm>
              <a:off x="1442880" y="5848200"/>
              <a:ext cx="2159280" cy="38124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AutoShape 17"/>
            <p:cNvSpPr/>
            <p:nvPr/>
          </p:nvSpPr>
          <p:spPr>
            <a:xfrm>
              <a:off x="1701360" y="5870160"/>
              <a:ext cx="1311120" cy="33264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200.23.18.0/2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0" name="Group 18"/>
          <p:cNvGrpSpPr/>
          <p:nvPr/>
        </p:nvGrpSpPr>
        <p:grpSpPr>
          <a:xfrm>
            <a:off x="1176480" y="4781520"/>
            <a:ext cx="2158920" cy="380880"/>
            <a:chOff x="1176480" y="4781520"/>
            <a:chExt cx="2158920" cy="380880"/>
          </a:xfrm>
        </p:grpSpPr>
        <p:sp>
          <p:nvSpPr>
            <p:cNvPr id="1531" name="AutoShape 19"/>
            <p:cNvSpPr/>
            <p:nvPr/>
          </p:nvSpPr>
          <p:spPr>
            <a:xfrm>
              <a:off x="1176480" y="4781520"/>
              <a:ext cx="2158920" cy="38088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AutoShape 20"/>
            <p:cNvSpPr/>
            <p:nvPr/>
          </p:nvSpPr>
          <p:spPr>
            <a:xfrm>
              <a:off x="1434600" y="4803480"/>
              <a:ext cx="1310760" cy="33228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200.23.30.0/2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3" name="AutoShape 21"/>
          <p:cNvSpPr/>
          <p:nvPr/>
        </p:nvSpPr>
        <p:spPr>
          <a:xfrm>
            <a:off x="3987720" y="3992400"/>
            <a:ext cx="127008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Fly-By-Night-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AutoShape 22"/>
          <p:cNvSpPr/>
          <p:nvPr/>
        </p:nvSpPr>
        <p:spPr>
          <a:xfrm>
            <a:off x="1139760" y="2496960"/>
            <a:ext cx="117324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Organization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AutoShape 23"/>
          <p:cNvSpPr/>
          <p:nvPr/>
        </p:nvSpPr>
        <p:spPr>
          <a:xfrm>
            <a:off x="1168560" y="4506840"/>
            <a:ext cx="117288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Organization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AutoShape 24"/>
          <p:cNvSpPr/>
          <p:nvPr/>
        </p:nvSpPr>
        <p:spPr>
          <a:xfrm>
            <a:off x="7788240" y="4316400"/>
            <a:ext cx="68436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AutoShape 25"/>
          <p:cNvSpPr/>
          <p:nvPr/>
        </p:nvSpPr>
        <p:spPr>
          <a:xfrm>
            <a:off x="1330200" y="5630760"/>
            <a:ext cx="117324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Organization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AutoShape 26"/>
          <p:cNvSpPr/>
          <p:nvPr/>
        </p:nvSpPr>
        <p:spPr>
          <a:xfrm>
            <a:off x="3902040" y="4897440"/>
            <a:ext cx="1751040" cy="95076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AutoShape 27"/>
          <p:cNvSpPr/>
          <p:nvPr/>
        </p:nvSpPr>
        <p:spPr>
          <a:xfrm>
            <a:off x="4197240" y="5249880"/>
            <a:ext cx="80496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ISPs-R-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Line 28"/>
          <p:cNvSpPr/>
          <p:nvPr/>
        </p:nvSpPr>
        <p:spPr>
          <a:xfrm flipV="1">
            <a:off x="5621400" y="4895640"/>
            <a:ext cx="2019240" cy="29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Line 29"/>
          <p:cNvSpPr/>
          <p:nvPr/>
        </p:nvSpPr>
        <p:spPr>
          <a:xfrm>
            <a:off x="3413160" y="5438880"/>
            <a:ext cx="48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Line 30"/>
          <p:cNvSpPr/>
          <p:nvPr/>
        </p:nvSpPr>
        <p:spPr>
          <a:xfrm flipV="1">
            <a:off x="3260880" y="5504040"/>
            <a:ext cx="637920" cy="17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Line 31"/>
          <p:cNvSpPr/>
          <p:nvPr/>
        </p:nvSpPr>
        <p:spPr>
          <a:xfrm flipV="1">
            <a:off x="3699000" y="5751000"/>
            <a:ext cx="247680" cy="41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AutoShape 32"/>
          <p:cNvSpPr/>
          <p:nvPr/>
        </p:nvSpPr>
        <p:spPr>
          <a:xfrm>
            <a:off x="5911920" y="5145120"/>
            <a:ext cx="1839960" cy="903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beginning 199.31.0.0/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or </a:t>
            </a:r>
            <a:r>
              <a:rPr b="0" lang="en-US" sz="1400" spc="-1" strike="noStrike" u="sng">
                <a:solidFill>
                  <a:srgbClr val="cc0000"/>
                </a:solidFill>
                <a:uFillTx/>
                <a:latin typeface="Gill Sans MT"/>
              </a:rPr>
              <a:t>200.23.18.0/23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5" name="Group 33"/>
          <p:cNvGrpSpPr/>
          <p:nvPr/>
        </p:nvGrpSpPr>
        <p:grpSpPr>
          <a:xfrm>
            <a:off x="1281240" y="3952800"/>
            <a:ext cx="2158920" cy="381240"/>
            <a:chOff x="1281240" y="3952800"/>
            <a:chExt cx="2158920" cy="381240"/>
          </a:xfrm>
        </p:grpSpPr>
        <p:sp>
          <p:nvSpPr>
            <p:cNvPr id="1546" name="AutoShape 34"/>
            <p:cNvSpPr/>
            <p:nvPr/>
          </p:nvSpPr>
          <p:spPr>
            <a:xfrm>
              <a:off x="1281240" y="3952800"/>
              <a:ext cx="2158920" cy="38124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AutoShape 35"/>
            <p:cNvSpPr/>
            <p:nvPr/>
          </p:nvSpPr>
          <p:spPr>
            <a:xfrm>
              <a:off x="1539360" y="3974760"/>
              <a:ext cx="1310760" cy="332640"/>
            </a:xfrm>
            <a:prstGeom prst="pi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200.23.20.0/2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8" name="AutoShape 36"/>
          <p:cNvSpPr/>
          <p:nvPr/>
        </p:nvSpPr>
        <p:spPr>
          <a:xfrm>
            <a:off x="1168560" y="3735360"/>
            <a:ext cx="117288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Organization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9" name="Group 37"/>
          <p:cNvGrpSpPr/>
          <p:nvPr/>
        </p:nvGrpSpPr>
        <p:grpSpPr>
          <a:xfrm>
            <a:off x="2536920" y="4191120"/>
            <a:ext cx="174600" cy="663480"/>
            <a:chOff x="2536920" y="4191120"/>
            <a:chExt cx="174600" cy="663480"/>
          </a:xfrm>
        </p:grpSpPr>
        <p:sp>
          <p:nvSpPr>
            <p:cNvPr id="1550" name="AutoShape 38"/>
            <p:cNvSpPr/>
            <p:nvPr/>
          </p:nvSpPr>
          <p:spPr>
            <a:xfrm>
              <a:off x="2539800" y="4191120"/>
              <a:ext cx="171720" cy="396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AutoShape 39"/>
            <p:cNvSpPr/>
            <p:nvPr/>
          </p:nvSpPr>
          <p:spPr>
            <a:xfrm>
              <a:off x="2536920" y="4326120"/>
              <a:ext cx="171720" cy="396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AutoShape 40"/>
            <p:cNvSpPr/>
            <p:nvPr/>
          </p:nvSpPr>
          <p:spPr>
            <a:xfrm>
              <a:off x="2538360" y="4457880"/>
              <a:ext cx="171720" cy="396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3" name="Group 41"/>
          <p:cNvGrpSpPr/>
          <p:nvPr/>
        </p:nvGrpSpPr>
        <p:grpSpPr>
          <a:xfrm>
            <a:off x="3565440" y="3895560"/>
            <a:ext cx="174600" cy="663840"/>
            <a:chOff x="3565440" y="3895560"/>
            <a:chExt cx="174600" cy="663840"/>
          </a:xfrm>
        </p:grpSpPr>
        <p:sp>
          <p:nvSpPr>
            <p:cNvPr id="1554" name="AutoShape 42"/>
            <p:cNvSpPr/>
            <p:nvPr/>
          </p:nvSpPr>
          <p:spPr>
            <a:xfrm>
              <a:off x="3568320" y="3895560"/>
              <a:ext cx="171720" cy="396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AutoShape 43"/>
            <p:cNvSpPr/>
            <p:nvPr/>
          </p:nvSpPr>
          <p:spPr>
            <a:xfrm>
              <a:off x="3565440" y="4030560"/>
              <a:ext cx="171720" cy="396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AutoShape 44"/>
            <p:cNvSpPr/>
            <p:nvPr/>
          </p:nvSpPr>
          <p:spPr>
            <a:xfrm>
              <a:off x="3566880" y="4162680"/>
              <a:ext cx="171720" cy="396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57" name="Picture 45" descr="underline_base"/>
          <p:cNvPicPr/>
          <p:nvPr/>
        </p:nvPicPr>
        <p:blipFill>
          <a:blip r:embed="rId1"/>
          <a:stretch/>
        </p:blipFill>
        <p:spPr>
          <a:xfrm>
            <a:off x="969840" y="90000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748800" y="240840"/>
            <a:ext cx="846324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Gill Sans MT"/>
              </a:rPr>
              <a:t>Hierarchical addressing: more specific rout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Slide Number Placeholder 48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E878-BBE7-4748-83A4-F852B4EFD96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2085840" y="1781280"/>
            <a:ext cx="6534360" cy="407664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2019240" y="1855800"/>
            <a:ext cx="6534360" cy="40766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00280" y="131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he Internet network lay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7"/>
          <p:cNvGrpSpPr/>
          <p:nvPr/>
        </p:nvGrpSpPr>
        <p:grpSpPr>
          <a:xfrm>
            <a:off x="4152960" y="3479760"/>
            <a:ext cx="1251000" cy="1214640"/>
            <a:chOff x="4152960" y="3479760"/>
            <a:chExt cx="1251000" cy="1214640"/>
          </a:xfrm>
        </p:grpSpPr>
        <p:sp>
          <p:nvSpPr>
            <p:cNvPr id="90" name="AutoShape 8"/>
            <p:cNvSpPr/>
            <p:nvPr/>
          </p:nvSpPr>
          <p:spPr>
            <a:xfrm>
              <a:off x="4208400" y="3479760"/>
              <a:ext cx="1195560" cy="11718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AutoShape 9"/>
            <p:cNvSpPr/>
            <p:nvPr/>
          </p:nvSpPr>
          <p:spPr>
            <a:xfrm>
              <a:off x="4152960" y="3522600"/>
              <a:ext cx="1195560" cy="11718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AutoShape 10"/>
            <p:cNvSpPr/>
            <p:nvPr/>
          </p:nvSpPr>
          <p:spPr>
            <a:xfrm>
              <a:off x="4186440" y="3778200"/>
              <a:ext cx="1167120" cy="62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forwar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11"/>
            <p:cNvSpPr/>
            <p:nvPr/>
          </p:nvSpPr>
          <p:spPr>
            <a:xfrm>
              <a:off x="4294440" y="3655800"/>
              <a:ext cx="89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12"/>
            <p:cNvSpPr/>
            <p:nvPr/>
          </p:nvSpPr>
          <p:spPr>
            <a:xfrm>
              <a:off x="4307040" y="3741480"/>
              <a:ext cx="89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3"/>
            <p:cNvSpPr/>
            <p:nvPr/>
          </p:nvSpPr>
          <p:spPr>
            <a:xfrm>
              <a:off x="4313160" y="3827520"/>
              <a:ext cx="89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4"/>
            <p:cNvSpPr/>
            <p:nvPr/>
          </p:nvSpPr>
          <p:spPr>
            <a:xfrm>
              <a:off x="4294440" y="4422960"/>
              <a:ext cx="89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5"/>
            <p:cNvSpPr/>
            <p:nvPr/>
          </p:nvSpPr>
          <p:spPr>
            <a:xfrm>
              <a:off x="4300560" y="4503960"/>
              <a:ext cx="89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6"/>
            <p:cNvSpPr/>
            <p:nvPr/>
          </p:nvSpPr>
          <p:spPr>
            <a:xfrm>
              <a:off x="4307040" y="4584960"/>
              <a:ext cx="89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39960" y="1188720"/>
            <a:ext cx="753408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host, router network layer function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8"/>
          <p:cNvSpPr/>
          <p:nvPr/>
        </p:nvSpPr>
        <p:spPr>
          <a:xfrm flipV="1">
            <a:off x="2008080" y="5408280"/>
            <a:ext cx="6507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9"/>
          <p:cNvSpPr/>
          <p:nvPr/>
        </p:nvSpPr>
        <p:spPr>
          <a:xfrm flipV="1">
            <a:off x="2036880" y="4884480"/>
            <a:ext cx="65260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20"/>
          <p:cNvSpPr/>
          <p:nvPr/>
        </p:nvSpPr>
        <p:spPr>
          <a:xfrm>
            <a:off x="2295360" y="2666880"/>
            <a:ext cx="1810080" cy="81936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21"/>
          <p:cNvSpPr/>
          <p:nvPr/>
        </p:nvSpPr>
        <p:spPr>
          <a:xfrm>
            <a:off x="2228760" y="2733840"/>
            <a:ext cx="1809720" cy="819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22"/>
          <p:cNvSpPr/>
          <p:nvPr/>
        </p:nvSpPr>
        <p:spPr>
          <a:xfrm>
            <a:off x="2217600" y="2714760"/>
            <a:ext cx="1581120" cy="839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Gill Sans MT"/>
              </a:rPr>
              <a:t>routing protoc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path se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RIP, OSPF, BG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23"/>
          <p:cNvSpPr/>
          <p:nvPr/>
        </p:nvSpPr>
        <p:spPr>
          <a:xfrm>
            <a:off x="3524400" y="3657600"/>
            <a:ext cx="628560" cy="347760"/>
          </a:xfrm>
          <a:prstGeom prst="pie">
            <a:avLst/>
          </a:prstGeom>
          <a:noFill/>
          <a:ln w="38160">
            <a:solidFill>
              <a:srgbClr val="0000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24"/>
          <p:cNvGrpSpPr/>
          <p:nvPr/>
        </p:nvGrpSpPr>
        <p:grpSpPr>
          <a:xfrm>
            <a:off x="5473800" y="2575080"/>
            <a:ext cx="3000240" cy="1182600"/>
            <a:chOff x="5473800" y="2575080"/>
            <a:chExt cx="3000240" cy="1182600"/>
          </a:xfrm>
        </p:grpSpPr>
        <p:sp>
          <p:nvSpPr>
            <p:cNvPr id="107" name="AutoShape 25"/>
            <p:cNvSpPr/>
            <p:nvPr/>
          </p:nvSpPr>
          <p:spPr>
            <a:xfrm>
              <a:off x="5540400" y="2575080"/>
              <a:ext cx="2933640" cy="10969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AutoShape 26"/>
            <p:cNvSpPr/>
            <p:nvPr/>
          </p:nvSpPr>
          <p:spPr>
            <a:xfrm>
              <a:off x="5473800" y="2641680"/>
              <a:ext cx="2933640" cy="1116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AutoShape 27"/>
            <p:cNvSpPr/>
            <p:nvPr/>
          </p:nvSpPr>
          <p:spPr>
            <a:xfrm>
              <a:off x="5495760" y="2598840"/>
              <a:ext cx="2537640" cy="1121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Gill Sans MT"/>
                </a:rPr>
                <a:t>IP protoc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addressing conven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datagram form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packet handling conven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AutoShape 28"/>
          <p:cNvSpPr/>
          <p:nvPr/>
        </p:nvSpPr>
        <p:spPr>
          <a:xfrm>
            <a:off x="5597640" y="3878280"/>
            <a:ext cx="1933560" cy="84780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29"/>
          <p:cNvSpPr/>
          <p:nvPr/>
        </p:nvSpPr>
        <p:spPr>
          <a:xfrm>
            <a:off x="5530680" y="3946680"/>
            <a:ext cx="1933920" cy="847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30"/>
          <p:cNvSpPr/>
          <p:nvPr/>
        </p:nvSpPr>
        <p:spPr>
          <a:xfrm>
            <a:off x="5543640" y="3911760"/>
            <a:ext cx="1900080" cy="877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ICMP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error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router “signaling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31"/>
          <p:cNvSpPr/>
          <p:nvPr/>
        </p:nvSpPr>
        <p:spPr>
          <a:xfrm flipV="1">
            <a:off x="2036880" y="2464920"/>
            <a:ext cx="65260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32"/>
          <p:cNvSpPr/>
          <p:nvPr/>
        </p:nvSpPr>
        <p:spPr>
          <a:xfrm>
            <a:off x="3479760" y="1989000"/>
            <a:ext cx="2473200" cy="35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ransport layer: TCP, U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33"/>
          <p:cNvSpPr/>
          <p:nvPr/>
        </p:nvSpPr>
        <p:spPr>
          <a:xfrm>
            <a:off x="4594320" y="4960800"/>
            <a:ext cx="925560" cy="35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link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34"/>
          <p:cNvSpPr/>
          <p:nvPr/>
        </p:nvSpPr>
        <p:spPr>
          <a:xfrm>
            <a:off x="4441680" y="5484960"/>
            <a:ext cx="1308240" cy="357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physical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35"/>
          <p:cNvSpPr/>
          <p:nvPr/>
        </p:nvSpPr>
        <p:spPr>
          <a:xfrm>
            <a:off x="998640" y="3259080"/>
            <a:ext cx="952560" cy="623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36"/>
          <p:cNvSpPr/>
          <p:nvPr/>
        </p:nvSpPr>
        <p:spPr>
          <a:xfrm flipV="1">
            <a:off x="1762200" y="2485800"/>
            <a:ext cx="0" cy="74268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37"/>
          <p:cNvSpPr/>
          <p:nvPr/>
        </p:nvSpPr>
        <p:spPr>
          <a:xfrm>
            <a:off x="1762200" y="4152960"/>
            <a:ext cx="0" cy="74304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38" descr="underline_base"/>
          <p:cNvPicPr/>
          <p:nvPr/>
        </p:nvPicPr>
        <p:blipFill>
          <a:blip r:embed="rId1"/>
          <a:stretch/>
        </p:blipFill>
        <p:spPr>
          <a:xfrm>
            <a:off x="941400" y="93816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121" name="Slide Number Placeholder 40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8AA9-B4D2-42BF-A8D3-9EE52D04C45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3443400" y="961920"/>
            <a:ext cx="4127400" cy="5327640"/>
            <a:chOff x="3443400" y="961920"/>
            <a:chExt cx="4127400" cy="5327640"/>
          </a:xfrm>
        </p:grpSpPr>
        <p:sp>
          <p:nvSpPr>
            <p:cNvPr id="124" name="AutoShape 5"/>
            <p:cNvSpPr/>
            <p:nvPr/>
          </p:nvSpPr>
          <p:spPr>
            <a:xfrm>
              <a:off x="3619440" y="1376280"/>
              <a:ext cx="3951360" cy="4826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AutoShape 6"/>
            <p:cNvSpPr/>
            <p:nvPr/>
          </p:nvSpPr>
          <p:spPr>
            <a:xfrm>
              <a:off x="3524040" y="1482480"/>
              <a:ext cx="3951360" cy="4807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AutoShape 7"/>
            <p:cNvSpPr/>
            <p:nvPr/>
          </p:nvSpPr>
          <p:spPr>
            <a:xfrm>
              <a:off x="3533760" y="1542960"/>
              <a:ext cx="39960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AutoShape 8"/>
            <p:cNvSpPr/>
            <p:nvPr/>
          </p:nvSpPr>
          <p:spPr>
            <a:xfrm>
              <a:off x="6053760" y="1604880"/>
              <a:ext cx="66600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9"/>
            <p:cNvSpPr/>
            <p:nvPr/>
          </p:nvSpPr>
          <p:spPr>
            <a:xfrm>
              <a:off x="3537000" y="2000520"/>
              <a:ext cx="39466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0"/>
            <p:cNvSpPr/>
            <p:nvPr/>
          </p:nvSpPr>
          <p:spPr>
            <a:xfrm flipV="1">
              <a:off x="5478120" y="1491840"/>
              <a:ext cx="0" cy="50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AutoShape 11"/>
            <p:cNvSpPr/>
            <p:nvPr/>
          </p:nvSpPr>
          <p:spPr>
            <a:xfrm>
              <a:off x="5086080" y="961920"/>
              <a:ext cx="72468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32 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2"/>
            <p:cNvSpPr/>
            <p:nvPr/>
          </p:nvSpPr>
          <p:spPr>
            <a:xfrm>
              <a:off x="6019920" y="1207800"/>
              <a:ext cx="14270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13"/>
            <p:cNvSpPr/>
            <p:nvPr/>
          </p:nvSpPr>
          <p:spPr>
            <a:xfrm flipH="1">
              <a:off x="3511440" y="1220400"/>
              <a:ext cx="13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AutoShape 14"/>
            <p:cNvSpPr/>
            <p:nvPr/>
          </p:nvSpPr>
          <p:spPr>
            <a:xfrm>
              <a:off x="4628160" y="4431600"/>
              <a:ext cx="1924920" cy="1310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dat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(variable length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typically a TCP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or UDP segmen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AutoShape 15"/>
            <p:cNvSpPr/>
            <p:nvPr/>
          </p:nvSpPr>
          <p:spPr>
            <a:xfrm>
              <a:off x="3443400" y="2094120"/>
              <a:ext cx="215244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16-bit 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6"/>
            <p:cNvSpPr/>
            <p:nvPr/>
          </p:nvSpPr>
          <p:spPr>
            <a:xfrm>
              <a:off x="3530520" y="3500640"/>
              <a:ext cx="395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17"/>
            <p:cNvSpPr/>
            <p:nvPr/>
          </p:nvSpPr>
          <p:spPr>
            <a:xfrm>
              <a:off x="3530520" y="3977280"/>
              <a:ext cx="395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AutoShape 18"/>
            <p:cNvSpPr/>
            <p:nvPr/>
          </p:nvSpPr>
          <p:spPr>
            <a:xfrm>
              <a:off x="5978520" y="2457720"/>
              <a:ext cx="1079640" cy="62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checks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AutoShape 19"/>
            <p:cNvSpPr/>
            <p:nvPr/>
          </p:nvSpPr>
          <p:spPr>
            <a:xfrm>
              <a:off x="3580920" y="2429280"/>
              <a:ext cx="845280" cy="62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time 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l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AutoShape 20"/>
            <p:cNvSpPr/>
            <p:nvPr/>
          </p:nvSpPr>
          <p:spPr>
            <a:xfrm>
              <a:off x="4303800" y="3108960"/>
              <a:ext cx="232344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32 bit source IP 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AutoShape 21"/>
            <p:cNvSpPr/>
            <p:nvPr/>
          </p:nvSpPr>
          <p:spPr>
            <a:xfrm>
              <a:off x="3969720" y="1438200"/>
              <a:ext cx="632520" cy="62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hea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l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AutoShape 22"/>
            <p:cNvSpPr/>
            <p:nvPr/>
          </p:nvSpPr>
          <p:spPr>
            <a:xfrm>
              <a:off x="4628160" y="1428480"/>
              <a:ext cx="814320" cy="62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type 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23"/>
            <p:cNvSpPr/>
            <p:nvPr/>
          </p:nvSpPr>
          <p:spPr>
            <a:xfrm flipV="1">
              <a:off x="4582800" y="1487160"/>
              <a:ext cx="0" cy="50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V="1">
              <a:off x="3968280" y="1496520"/>
              <a:ext cx="0" cy="50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5478120" y="2006280"/>
              <a:ext cx="0" cy="50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AutoShape 26"/>
            <p:cNvSpPr/>
            <p:nvPr/>
          </p:nvSpPr>
          <p:spPr>
            <a:xfrm>
              <a:off x="5329440" y="2084400"/>
              <a:ext cx="77148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flg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V="1">
              <a:off x="5945040" y="1996920"/>
              <a:ext cx="0" cy="50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AutoShape 28"/>
            <p:cNvSpPr/>
            <p:nvPr/>
          </p:nvSpPr>
          <p:spPr>
            <a:xfrm>
              <a:off x="5986440" y="1951200"/>
              <a:ext cx="1428840" cy="62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frag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29"/>
            <p:cNvSpPr/>
            <p:nvPr/>
          </p:nvSpPr>
          <p:spPr>
            <a:xfrm>
              <a:off x="3530520" y="2509920"/>
              <a:ext cx="395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0"/>
            <p:cNvSpPr/>
            <p:nvPr/>
          </p:nvSpPr>
          <p:spPr>
            <a:xfrm flipV="1">
              <a:off x="5478120" y="2511360"/>
              <a:ext cx="0" cy="50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31"/>
            <p:cNvSpPr/>
            <p:nvPr/>
          </p:nvSpPr>
          <p:spPr>
            <a:xfrm>
              <a:off x="3511440" y="3024360"/>
              <a:ext cx="395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AutoShape 32"/>
            <p:cNvSpPr/>
            <p:nvPr/>
          </p:nvSpPr>
          <p:spPr>
            <a:xfrm>
              <a:off x="4645440" y="2419560"/>
              <a:ext cx="710280" cy="62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upp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lay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33"/>
            <p:cNvSpPr/>
            <p:nvPr/>
          </p:nvSpPr>
          <p:spPr>
            <a:xfrm flipV="1">
              <a:off x="4525560" y="2520720"/>
              <a:ext cx="0" cy="50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AutoShape 34"/>
            <p:cNvSpPr/>
            <p:nvPr/>
          </p:nvSpPr>
          <p:spPr>
            <a:xfrm>
              <a:off x="4145760" y="3547080"/>
              <a:ext cx="271944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32 bit destination IP 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35"/>
            <p:cNvSpPr/>
            <p:nvPr/>
          </p:nvSpPr>
          <p:spPr>
            <a:xfrm>
              <a:off x="3530520" y="4425120"/>
              <a:ext cx="395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AutoShape 36"/>
            <p:cNvSpPr/>
            <p:nvPr/>
          </p:nvSpPr>
          <p:spPr>
            <a:xfrm>
              <a:off x="4721400" y="4014000"/>
              <a:ext cx="148860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options (if any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1800" y="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P datagram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38"/>
          <p:cNvGrpSpPr/>
          <p:nvPr/>
        </p:nvGrpSpPr>
        <p:grpSpPr>
          <a:xfrm>
            <a:off x="1278000" y="857160"/>
            <a:ext cx="2373120" cy="792360"/>
            <a:chOff x="1278000" y="857160"/>
            <a:chExt cx="2373120" cy="792360"/>
          </a:xfrm>
        </p:grpSpPr>
        <p:sp>
          <p:nvSpPr>
            <p:cNvPr id="158" name="AutoShape 39"/>
            <p:cNvSpPr/>
            <p:nvPr/>
          </p:nvSpPr>
          <p:spPr>
            <a:xfrm>
              <a:off x="1278000" y="857160"/>
              <a:ext cx="1947600" cy="62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IP protocol ver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0"/>
            <p:cNvSpPr/>
            <p:nvPr/>
          </p:nvSpPr>
          <p:spPr>
            <a:xfrm>
              <a:off x="3122280" y="1187280"/>
              <a:ext cx="528840" cy="462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41"/>
          <p:cNvGrpSpPr/>
          <p:nvPr/>
        </p:nvGrpSpPr>
        <p:grpSpPr>
          <a:xfrm>
            <a:off x="1789200" y="1405080"/>
            <a:ext cx="2266920" cy="625320"/>
            <a:chOff x="1789200" y="1405080"/>
            <a:chExt cx="2266920" cy="625320"/>
          </a:xfrm>
        </p:grpSpPr>
        <p:sp>
          <p:nvSpPr>
            <p:cNvPr id="161" name="AutoShape 42"/>
            <p:cNvSpPr/>
            <p:nvPr/>
          </p:nvSpPr>
          <p:spPr>
            <a:xfrm>
              <a:off x="1789200" y="1405080"/>
              <a:ext cx="1431720" cy="625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header 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(byt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43"/>
            <p:cNvSpPr/>
            <p:nvPr/>
          </p:nvSpPr>
          <p:spPr>
            <a:xfrm>
              <a:off x="3151080" y="1744920"/>
              <a:ext cx="905040" cy="147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44"/>
          <p:cNvGrpSpPr/>
          <p:nvPr/>
        </p:nvGrpSpPr>
        <p:grpSpPr>
          <a:xfrm>
            <a:off x="1260360" y="2730600"/>
            <a:ext cx="3471840" cy="1576440"/>
            <a:chOff x="1260360" y="2730600"/>
            <a:chExt cx="3471840" cy="1576440"/>
          </a:xfrm>
        </p:grpSpPr>
        <p:sp>
          <p:nvSpPr>
            <p:cNvPr id="164" name="AutoShape 45"/>
            <p:cNvSpPr/>
            <p:nvPr/>
          </p:nvSpPr>
          <p:spPr>
            <a:xfrm>
              <a:off x="1260360" y="3682080"/>
              <a:ext cx="2076120" cy="62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upper layer protoc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to deliver payload 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46"/>
            <p:cNvSpPr/>
            <p:nvPr/>
          </p:nvSpPr>
          <p:spPr>
            <a:xfrm flipV="1">
              <a:off x="3265200" y="2730600"/>
              <a:ext cx="1467000" cy="1124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47"/>
          <p:cNvGrpSpPr/>
          <p:nvPr/>
        </p:nvGrpSpPr>
        <p:grpSpPr>
          <a:xfrm>
            <a:off x="7226280" y="1052640"/>
            <a:ext cx="2040120" cy="736560"/>
            <a:chOff x="7226280" y="1052640"/>
            <a:chExt cx="2040120" cy="736560"/>
          </a:xfrm>
        </p:grpSpPr>
        <p:sp>
          <p:nvSpPr>
            <p:cNvPr id="167" name="AutoShape 48"/>
            <p:cNvSpPr/>
            <p:nvPr/>
          </p:nvSpPr>
          <p:spPr>
            <a:xfrm>
              <a:off x="7758360" y="1052640"/>
              <a:ext cx="1508040" cy="626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total datagr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length (byt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49"/>
            <p:cNvSpPr/>
            <p:nvPr/>
          </p:nvSpPr>
          <p:spPr>
            <a:xfrm flipH="1">
              <a:off x="7226280" y="1378800"/>
              <a:ext cx="638640" cy="410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50"/>
          <p:cNvGrpSpPr/>
          <p:nvPr/>
        </p:nvGrpSpPr>
        <p:grpSpPr>
          <a:xfrm>
            <a:off x="1806480" y="1760400"/>
            <a:ext cx="2897280" cy="555840"/>
            <a:chOff x="1806480" y="1760400"/>
            <a:chExt cx="2897280" cy="555840"/>
          </a:xfrm>
        </p:grpSpPr>
        <p:sp>
          <p:nvSpPr>
            <p:cNvPr id="170" name="AutoShape 51"/>
            <p:cNvSpPr/>
            <p:nvPr/>
          </p:nvSpPr>
          <p:spPr>
            <a:xfrm>
              <a:off x="1806480" y="1958400"/>
              <a:ext cx="1461600" cy="357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type” of dat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2"/>
            <p:cNvSpPr/>
            <p:nvPr/>
          </p:nvSpPr>
          <p:spPr>
            <a:xfrm flipV="1">
              <a:off x="3169440" y="1760400"/>
              <a:ext cx="1534320" cy="414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53"/>
          <p:cNvGrpSpPr/>
          <p:nvPr/>
        </p:nvGrpSpPr>
        <p:grpSpPr>
          <a:xfrm>
            <a:off x="5332320" y="1787400"/>
            <a:ext cx="3971880" cy="890640"/>
            <a:chOff x="5332320" y="1787400"/>
            <a:chExt cx="3971880" cy="890640"/>
          </a:xfrm>
        </p:grpSpPr>
        <p:sp>
          <p:nvSpPr>
            <p:cNvPr id="173" name="AutoShape 54"/>
            <p:cNvSpPr/>
            <p:nvPr/>
          </p:nvSpPr>
          <p:spPr>
            <a:xfrm>
              <a:off x="7789320" y="1787400"/>
              <a:ext cx="1514880" cy="890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fragmentation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reassemb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55"/>
            <p:cNvSpPr/>
            <p:nvPr/>
          </p:nvSpPr>
          <p:spPr>
            <a:xfrm flipH="1">
              <a:off x="5846040" y="2245680"/>
              <a:ext cx="2037960" cy="190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56"/>
            <p:cNvSpPr/>
            <p:nvPr/>
          </p:nvSpPr>
          <p:spPr>
            <a:xfrm flipH="1" flipV="1">
              <a:off x="7207920" y="2140560"/>
              <a:ext cx="657000" cy="114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57"/>
            <p:cNvSpPr/>
            <p:nvPr/>
          </p:nvSpPr>
          <p:spPr>
            <a:xfrm flipH="1">
              <a:off x="5332320" y="2255400"/>
              <a:ext cx="2514240" cy="56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58"/>
          <p:cNvGrpSpPr/>
          <p:nvPr/>
        </p:nvGrpSpPr>
        <p:grpSpPr>
          <a:xfrm>
            <a:off x="1544760" y="2406600"/>
            <a:ext cx="2252520" cy="1157400"/>
            <a:chOff x="1544760" y="2406600"/>
            <a:chExt cx="2252520" cy="1157400"/>
          </a:xfrm>
        </p:grpSpPr>
        <p:sp>
          <p:nvSpPr>
            <p:cNvPr id="178" name="AutoShape 59"/>
            <p:cNvSpPr/>
            <p:nvPr/>
          </p:nvSpPr>
          <p:spPr>
            <a:xfrm>
              <a:off x="1544760" y="2406600"/>
              <a:ext cx="1765440" cy="1157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max 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remaining ho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(decremented a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each route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60"/>
            <p:cNvSpPr/>
            <p:nvPr/>
          </p:nvSpPr>
          <p:spPr>
            <a:xfrm>
              <a:off x="3245040" y="2698560"/>
              <a:ext cx="552240" cy="90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61"/>
          <p:cNvGrpSpPr/>
          <p:nvPr/>
        </p:nvGrpSpPr>
        <p:grpSpPr>
          <a:xfrm>
            <a:off x="6913440" y="3987720"/>
            <a:ext cx="2265480" cy="1424160"/>
            <a:chOff x="6913440" y="3987720"/>
            <a:chExt cx="2265480" cy="1424160"/>
          </a:xfrm>
        </p:grpSpPr>
        <p:sp>
          <p:nvSpPr>
            <p:cNvPr id="181" name="AutoShape 62"/>
            <p:cNvSpPr/>
            <p:nvPr/>
          </p:nvSpPr>
          <p:spPr>
            <a:xfrm>
              <a:off x="7674840" y="3987720"/>
              <a:ext cx="1504080" cy="1424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e.g. timestamp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record ro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taken, specif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list of router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to visi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63"/>
            <p:cNvSpPr/>
            <p:nvPr/>
          </p:nvSpPr>
          <p:spPr>
            <a:xfrm flipH="1">
              <a:off x="6913440" y="4208040"/>
              <a:ext cx="818640" cy="9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64"/>
          <p:cNvGrpSpPr/>
          <p:nvPr/>
        </p:nvGrpSpPr>
        <p:grpSpPr>
          <a:xfrm>
            <a:off x="625320" y="4594320"/>
            <a:ext cx="2621160" cy="1616040"/>
            <a:chOff x="625320" y="4594320"/>
            <a:chExt cx="2621160" cy="1616040"/>
          </a:xfrm>
        </p:grpSpPr>
        <p:sp>
          <p:nvSpPr>
            <p:cNvPr id="184" name="AutoShape 65"/>
            <p:cNvSpPr/>
            <p:nvPr/>
          </p:nvSpPr>
          <p:spPr>
            <a:xfrm>
              <a:off x="625320" y="4594320"/>
              <a:ext cx="2621160" cy="1607400"/>
            </a:xfrm>
            <a:prstGeom prst="pie">
              <a:avLst/>
            </a:prstGeom>
            <a:noFill/>
            <a:ln w="3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AutoShape 66"/>
            <p:cNvSpPr/>
            <p:nvPr/>
          </p:nvSpPr>
          <p:spPr>
            <a:xfrm>
              <a:off x="625320" y="4594320"/>
              <a:ext cx="2621160" cy="1616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285840" indent="-285840">
                <a:lnSpc>
                  <a:spcPct val="85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Gill Sans MT"/>
                </a:rPr>
                <a:t>how much overhead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85000"/>
                </a:lnSpc>
                <a:spcBef>
                  <a:spcPts val="400"/>
                </a:spcBef>
                <a:buClr>
                  <a:srgbClr val="000099"/>
                </a:buClr>
                <a:buSzPct val="65000"/>
                <a:buFont typeface="Wingdings" charset="2"/>
                <a:buChar char="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20 bytes of TC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85000"/>
                </a:lnSpc>
                <a:spcBef>
                  <a:spcPts val="400"/>
                </a:spcBef>
                <a:buClr>
                  <a:srgbClr val="000099"/>
                </a:buClr>
                <a:buSzPct val="65000"/>
                <a:buFont typeface="Wingdings" charset="2"/>
                <a:buChar char="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20 bytes of 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85000"/>
                </a:lnSpc>
                <a:spcBef>
                  <a:spcPts val="400"/>
                </a:spcBef>
                <a:buClr>
                  <a:srgbClr val="000099"/>
                </a:buClr>
                <a:buSzPct val="65000"/>
                <a:buFont typeface="Wingdings" charset="2"/>
                <a:buChar char="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= 40 bytes + app layer overh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Slide Number Placeholder 68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9775-6AE0-4C3C-888B-E3C94060395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2094720" presetSubtype="621286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62094720" presetSubtype="721833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2094720" presetSubtype="722455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2094720" presetSubtype="7224609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2094720" presetSubtype="7218359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2094720" presetSubtype="72245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2094720" presetSubtype="722457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2094720" presetSubtype="722463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2094720" presetSubtype="72247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18576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fragmentation, reassemb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1920" y="1440000"/>
            <a:ext cx="380988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links have MTU (maximum transfer unit) - largest possible link-level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120" indent="-3189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fferent link types, different M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arge IP datagram divided (“fragmented”) within 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120" indent="-3189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datagram becomes several dat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120" indent="-3189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ssembled” only at final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120" indent="-3189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 header bits used to identify, order related fra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5010120" y="1639800"/>
            <a:ext cx="2370240" cy="221796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4981680" y="4049640"/>
            <a:ext cx="1960560" cy="194004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8"/>
          <p:cNvSpPr/>
          <p:nvPr/>
        </p:nvSpPr>
        <p:spPr>
          <a:xfrm flipV="1">
            <a:off x="5051520" y="2582640"/>
            <a:ext cx="12708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9"/>
          <p:cNvSpPr/>
          <p:nvPr/>
        </p:nvSpPr>
        <p:spPr>
          <a:xfrm>
            <a:off x="5626080" y="1908000"/>
            <a:ext cx="65880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6472080" y="2246400"/>
            <a:ext cx="198720" cy="66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5375160" y="2022480"/>
            <a:ext cx="1800" cy="58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2"/>
          <p:cNvSpPr/>
          <p:nvPr/>
        </p:nvSpPr>
        <p:spPr>
          <a:xfrm>
            <a:off x="5610240" y="2674800"/>
            <a:ext cx="971640" cy="40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3"/>
          <p:cNvSpPr/>
          <p:nvPr/>
        </p:nvSpPr>
        <p:spPr>
          <a:xfrm flipH="1" flipV="1">
            <a:off x="6883560" y="3206520"/>
            <a:ext cx="475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4"/>
          <p:cNvSpPr/>
          <p:nvPr/>
        </p:nvSpPr>
        <p:spPr>
          <a:xfrm flipH="1">
            <a:off x="5634000" y="2214720"/>
            <a:ext cx="76032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15"/>
          <p:cNvSpPr/>
          <p:nvPr/>
        </p:nvSpPr>
        <p:spPr>
          <a:xfrm flipH="1">
            <a:off x="5644800" y="1652760"/>
            <a:ext cx="476280" cy="34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6"/>
          <p:cNvSpPr/>
          <p:nvPr/>
        </p:nvSpPr>
        <p:spPr>
          <a:xfrm flipH="1">
            <a:off x="6362280" y="1828800"/>
            <a:ext cx="27324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7"/>
          <p:cNvSpPr/>
          <p:nvPr/>
        </p:nvSpPr>
        <p:spPr>
          <a:xfrm flipH="1">
            <a:off x="6842160" y="4206960"/>
            <a:ext cx="636480" cy="87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18"/>
          <p:cNvGrpSpPr/>
          <p:nvPr/>
        </p:nvGrpSpPr>
        <p:grpSpPr>
          <a:xfrm>
            <a:off x="5337720" y="2605680"/>
            <a:ext cx="1269360" cy="906120"/>
            <a:chOff x="5337720" y="2605680"/>
            <a:chExt cx="1269360" cy="906120"/>
          </a:xfrm>
        </p:grpSpPr>
        <p:grpSp>
          <p:nvGrpSpPr>
            <p:cNvPr id="203" name="Group 19"/>
            <p:cNvGrpSpPr/>
            <p:nvPr/>
          </p:nvGrpSpPr>
          <p:grpSpPr>
            <a:xfrm>
              <a:off x="5337720" y="2605680"/>
              <a:ext cx="1118160" cy="906120"/>
              <a:chOff x="5337720" y="2605680"/>
              <a:chExt cx="1118160" cy="906120"/>
            </a:xfrm>
          </p:grpSpPr>
          <p:sp>
            <p:nvSpPr>
              <p:cNvPr id="204" name="AutoShape 20"/>
              <p:cNvSpPr/>
              <p:nvPr/>
            </p:nvSpPr>
            <p:spPr>
              <a:xfrm rot="1432800">
                <a:off x="5391000" y="2856240"/>
                <a:ext cx="1013040" cy="470520"/>
              </a:xfrm>
              <a:prstGeom prst="pi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AutoShape 21"/>
              <p:cNvSpPr/>
              <p:nvPr/>
            </p:nvSpPr>
            <p:spPr>
              <a:xfrm rot="1432800">
                <a:off x="5397120" y="2754360"/>
                <a:ext cx="834840" cy="4705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Line 22"/>
            <p:cNvSpPr/>
            <p:nvPr/>
          </p:nvSpPr>
          <p:spPr>
            <a:xfrm>
              <a:off x="6387840" y="3269160"/>
              <a:ext cx="219240" cy="88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AutoShape 23"/>
          <p:cNvSpPr/>
          <p:nvPr/>
        </p:nvSpPr>
        <p:spPr>
          <a:xfrm>
            <a:off x="6996240" y="2241720"/>
            <a:ext cx="2149200" cy="81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Gill Sans MT"/>
              </a:rPr>
              <a:t>fragmentation: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Gill Sans MT"/>
              </a:rPr>
              <a:t>in: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one large dat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Gill Sans MT"/>
              </a:rPr>
              <a:t>out: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3 smaller data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24"/>
          <p:cNvSpPr/>
          <p:nvPr/>
        </p:nvSpPr>
        <p:spPr>
          <a:xfrm>
            <a:off x="5864400" y="5176800"/>
            <a:ext cx="28728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Group 25"/>
          <p:cNvGrpSpPr/>
          <p:nvPr/>
        </p:nvGrpSpPr>
        <p:grpSpPr>
          <a:xfrm>
            <a:off x="5781240" y="4348440"/>
            <a:ext cx="713880" cy="565560"/>
            <a:chOff x="5781240" y="4348440"/>
            <a:chExt cx="713880" cy="565560"/>
          </a:xfrm>
        </p:grpSpPr>
        <p:grpSp>
          <p:nvGrpSpPr>
            <p:cNvPr id="210" name="Group 26"/>
            <p:cNvGrpSpPr/>
            <p:nvPr/>
          </p:nvGrpSpPr>
          <p:grpSpPr>
            <a:xfrm>
              <a:off x="6039360" y="4348440"/>
              <a:ext cx="449280" cy="177480"/>
              <a:chOff x="6039360" y="4348440"/>
              <a:chExt cx="449280" cy="177480"/>
            </a:xfrm>
          </p:grpSpPr>
          <p:sp>
            <p:nvSpPr>
              <p:cNvPr id="211" name="AutoShape 27"/>
              <p:cNvSpPr/>
              <p:nvPr/>
            </p:nvSpPr>
            <p:spPr>
              <a:xfrm rot="10826400">
                <a:off x="6039720" y="4349160"/>
                <a:ext cx="229320" cy="173880"/>
              </a:xfrm>
              <a:prstGeom prst="pi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AutoShape 28"/>
              <p:cNvSpPr/>
              <p:nvPr/>
            </p:nvSpPr>
            <p:spPr>
              <a:xfrm rot="10826400">
                <a:off x="6223320" y="4350960"/>
                <a:ext cx="264240" cy="1738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Group 29"/>
            <p:cNvGrpSpPr/>
            <p:nvPr/>
          </p:nvGrpSpPr>
          <p:grpSpPr>
            <a:xfrm>
              <a:off x="6042600" y="4542480"/>
              <a:ext cx="449280" cy="177480"/>
              <a:chOff x="6042600" y="4542480"/>
              <a:chExt cx="449280" cy="177480"/>
            </a:xfrm>
          </p:grpSpPr>
          <p:sp>
            <p:nvSpPr>
              <p:cNvPr id="214" name="AutoShape 30"/>
              <p:cNvSpPr/>
              <p:nvPr/>
            </p:nvSpPr>
            <p:spPr>
              <a:xfrm rot="10826400">
                <a:off x="6042960" y="4543200"/>
                <a:ext cx="229320" cy="173880"/>
              </a:xfrm>
              <a:prstGeom prst="pi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AutoShape 31"/>
              <p:cNvSpPr/>
              <p:nvPr/>
            </p:nvSpPr>
            <p:spPr>
              <a:xfrm rot="10826400">
                <a:off x="6226560" y="4545000"/>
                <a:ext cx="264240" cy="1738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Group 32"/>
            <p:cNvGrpSpPr/>
            <p:nvPr/>
          </p:nvGrpSpPr>
          <p:grpSpPr>
            <a:xfrm>
              <a:off x="6045840" y="4736520"/>
              <a:ext cx="449280" cy="177480"/>
              <a:chOff x="6045840" y="4736520"/>
              <a:chExt cx="449280" cy="177480"/>
            </a:xfrm>
          </p:grpSpPr>
          <p:sp>
            <p:nvSpPr>
              <p:cNvPr id="217" name="AutoShape 33"/>
              <p:cNvSpPr/>
              <p:nvPr/>
            </p:nvSpPr>
            <p:spPr>
              <a:xfrm rot="10826400">
                <a:off x="6046200" y="4737240"/>
                <a:ext cx="229320" cy="173880"/>
              </a:xfrm>
              <a:prstGeom prst="pi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AutoShape 34"/>
              <p:cNvSpPr/>
              <p:nvPr/>
            </p:nvSpPr>
            <p:spPr>
              <a:xfrm rot="10826400">
                <a:off x="6229800" y="4739040"/>
                <a:ext cx="264240" cy="1738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" name="Line 35"/>
            <p:cNvSpPr/>
            <p:nvPr/>
          </p:nvSpPr>
          <p:spPr>
            <a:xfrm flipH="1">
              <a:off x="5790600" y="4442040"/>
              <a:ext cx="2300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36"/>
            <p:cNvSpPr/>
            <p:nvPr/>
          </p:nvSpPr>
          <p:spPr>
            <a:xfrm flipH="1">
              <a:off x="5781240" y="4617360"/>
              <a:ext cx="2300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37"/>
            <p:cNvSpPr/>
            <p:nvPr/>
          </p:nvSpPr>
          <p:spPr>
            <a:xfrm flipH="1">
              <a:off x="5784120" y="4824360"/>
              <a:ext cx="2300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Group 38"/>
          <p:cNvGrpSpPr/>
          <p:nvPr/>
        </p:nvGrpSpPr>
        <p:grpSpPr>
          <a:xfrm>
            <a:off x="4662000" y="3870360"/>
            <a:ext cx="1286280" cy="493200"/>
            <a:chOff x="4662000" y="3870360"/>
            <a:chExt cx="1286280" cy="493200"/>
          </a:xfrm>
        </p:grpSpPr>
        <p:grpSp>
          <p:nvGrpSpPr>
            <p:cNvPr id="223" name="Group 39"/>
            <p:cNvGrpSpPr/>
            <p:nvPr/>
          </p:nvGrpSpPr>
          <p:grpSpPr>
            <a:xfrm>
              <a:off x="4662000" y="4185000"/>
              <a:ext cx="1286280" cy="178560"/>
              <a:chOff x="4662000" y="4185000"/>
              <a:chExt cx="1286280" cy="178560"/>
            </a:xfrm>
          </p:grpSpPr>
          <p:grpSp>
            <p:nvGrpSpPr>
              <p:cNvPr id="224" name="Group 40"/>
              <p:cNvGrpSpPr/>
              <p:nvPr/>
            </p:nvGrpSpPr>
            <p:grpSpPr>
              <a:xfrm>
                <a:off x="4916520" y="4185000"/>
                <a:ext cx="1031760" cy="178560"/>
                <a:chOff x="4916520" y="4185000"/>
                <a:chExt cx="1031760" cy="178560"/>
              </a:xfrm>
            </p:grpSpPr>
            <p:sp>
              <p:nvSpPr>
                <p:cNvPr id="225" name="AutoShape 41"/>
                <p:cNvSpPr/>
                <p:nvPr/>
              </p:nvSpPr>
              <p:spPr>
                <a:xfrm rot="10792800">
                  <a:off x="4916520" y="4187520"/>
                  <a:ext cx="1031400" cy="174960"/>
                </a:xfrm>
                <a:prstGeom prst="pi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AutoShape 42"/>
                <p:cNvSpPr/>
                <p:nvPr/>
              </p:nvSpPr>
              <p:spPr>
                <a:xfrm rot="10792800">
                  <a:off x="5096160" y="4185720"/>
                  <a:ext cx="849960" cy="17496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Line 43"/>
              <p:cNvSpPr/>
              <p:nvPr/>
            </p:nvSpPr>
            <p:spPr>
              <a:xfrm flipH="1">
                <a:off x="4662000" y="4264560"/>
                <a:ext cx="23004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AutoShape 44"/>
            <p:cNvSpPr/>
            <p:nvPr/>
          </p:nvSpPr>
          <p:spPr>
            <a:xfrm>
              <a:off x="4840920" y="3870360"/>
              <a:ext cx="943920" cy="333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Gill Sans MT"/>
                </a:rPr>
                <a:t>reassemb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9" name="Picture 45" descr="underline_base"/>
          <p:cNvPicPr/>
          <p:nvPr/>
        </p:nvPicPr>
        <p:blipFill>
          <a:blip r:embed="rId1"/>
          <a:stretch/>
        </p:blipFill>
        <p:spPr>
          <a:xfrm>
            <a:off x="961920" y="880920"/>
            <a:ext cx="6856560" cy="17316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46"/>
          <p:cNvGrpSpPr/>
          <p:nvPr/>
        </p:nvGrpSpPr>
        <p:grpSpPr>
          <a:xfrm>
            <a:off x="4230720" y="1708200"/>
            <a:ext cx="838080" cy="1720800"/>
            <a:chOff x="4230720" y="1708200"/>
            <a:chExt cx="838080" cy="1720800"/>
          </a:xfrm>
        </p:grpSpPr>
        <p:sp>
          <p:nvSpPr>
            <p:cNvPr id="231" name="Line 47"/>
            <p:cNvSpPr/>
            <p:nvPr/>
          </p:nvSpPr>
          <p:spPr>
            <a:xfrm flipV="1">
              <a:off x="4970520" y="2214360"/>
              <a:ext cx="9828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8"/>
            <p:cNvSpPr/>
            <p:nvPr/>
          </p:nvSpPr>
          <p:spPr>
            <a:xfrm flipV="1">
              <a:off x="4970520" y="3021120"/>
              <a:ext cx="9828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9"/>
            <p:cNvSpPr/>
            <p:nvPr/>
          </p:nvSpPr>
          <p:spPr>
            <a:xfrm>
              <a:off x="5060880" y="2209680"/>
              <a:ext cx="0" cy="80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Group 50"/>
            <p:cNvGrpSpPr/>
            <p:nvPr/>
          </p:nvGrpSpPr>
          <p:grpSpPr>
            <a:xfrm>
              <a:off x="4230720" y="1708200"/>
              <a:ext cx="798480" cy="704880"/>
              <a:chOff x="4230720" y="1708200"/>
              <a:chExt cx="798480" cy="704880"/>
            </a:xfrm>
          </p:grpSpPr>
          <p:pic>
            <p:nvPicPr>
              <p:cNvPr id="235" name="Picture 51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4230720" y="1708200"/>
                <a:ext cx="7984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AutoShape 52"/>
              <p:cNvSpPr/>
              <p:nvPr/>
            </p:nvSpPr>
            <p:spPr>
              <a:xfrm flipH="1">
                <a:off x="4570920" y="1775520"/>
                <a:ext cx="388080" cy="3229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AutoShape 53"/>
            <p:cNvSpPr/>
            <p:nvPr/>
          </p:nvSpPr>
          <p:spPr>
            <a:xfrm rot="5400000">
              <a:off x="4567320" y="2265480"/>
              <a:ext cx="459720" cy="497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Group 54"/>
            <p:cNvGrpSpPr/>
            <p:nvPr/>
          </p:nvGrpSpPr>
          <p:grpSpPr>
            <a:xfrm>
              <a:off x="4249440" y="2724120"/>
              <a:ext cx="798480" cy="704880"/>
              <a:chOff x="4249440" y="2724120"/>
              <a:chExt cx="798480" cy="704880"/>
            </a:xfrm>
          </p:grpSpPr>
          <p:pic>
            <p:nvPicPr>
              <p:cNvPr id="239" name="Picture 55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4249440" y="2724120"/>
                <a:ext cx="7984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AutoShape 56"/>
              <p:cNvSpPr/>
              <p:nvPr/>
            </p:nvSpPr>
            <p:spPr>
              <a:xfrm flipH="1">
                <a:off x="4589640" y="2791440"/>
                <a:ext cx="388080" cy="3229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Group 57"/>
          <p:cNvGrpSpPr/>
          <p:nvPr/>
        </p:nvGrpSpPr>
        <p:grpSpPr>
          <a:xfrm>
            <a:off x="6351480" y="2895480"/>
            <a:ext cx="698760" cy="355680"/>
            <a:chOff x="6351480" y="2895480"/>
            <a:chExt cx="698760" cy="355680"/>
          </a:xfrm>
        </p:grpSpPr>
        <p:sp>
          <p:nvSpPr>
            <p:cNvPr id="242" name="AutoShape 58"/>
            <p:cNvSpPr/>
            <p:nvPr/>
          </p:nvSpPr>
          <p:spPr>
            <a:xfrm>
              <a:off x="6354360" y="3053160"/>
              <a:ext cx="692640" cy="19800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AutoShape 59"/>
            <p:cNvSpPr/>
            <p:nvPr/>
          </p:nvSpPr>
          <p:spPr>
            <a:xfrm>
              <a:off x="6354360" y="3030120"/>
              <a:ext cx="695880" cy="12312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AutoShape 60"/>
            <p:cNvSpPr/>
            <p:nvPr/>
          </p:nvSpPr>
          <p:spPr>
            <a:xfrm>
              <a:off x="6351480" y="2895480"/>
              <a:ext cx="693720" cy="23256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Group 61"/>
            <p:cNvGrpSpPr/>
            <p:nvPr/>
          </p:nvGrpSpPr>
          <p:grpSpPr>
            <a:xfrm>
              <a:off x="6490800" y="2955600"/>
              <a:ext cx="392040" cy="107640"/>
              <a:chOff x="6490800" y="2955600"/>
              <a:chExt cx="392040" cy="107640"/>
            </a:xfrm>
          </p:grpSpPr>
          <p:sp>
            <p:nvSpPr>
              <p:cNvPr id="246" name="AutoShape 62"/>
              <p:cNvSpPr/>
              <p:nvPr/>
            </p:nvSpPr>
            <p:spPr>
              <a:xfrm>
                <a:off x="6490800" y="2955600"/>
                <a:ext cx="392040" cy="1076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AutoShape 63"/>
              <p:cNvSpPr/>
              <p:nvPr/>
            </p:nvSpPr>
            <p:spPr>
              <a:xfrm>
                <a:off x="6508440" y="2955600"/>
                <a:ext cx="356760" cy="1076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Line 64"/>
            <p:cNvSpPr/>
            <p:nvPr/>
          </p:nvSpPr>
          <p:spPr>
            <a:xfrm>
              <a:off x="6354360" y="3004560"/>
              <a:ext cx="0" cy="15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5"/>
            <p:cNvSpPr/>
            <p:nvPr/>
          </p:nvSpPr>
          <p:spPr>
            <a:xfrm>
              <a:off x="7045200" y="3011760"/>
              <a:ext cx="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Group 66"/>
          <p:cNvGrpSpPr/>
          <p:nvPr/>
        </p:nvGrpSpPr>
        <p:grpSpPr>
          <a:xfrm>
            <a:off x="5138640" y="1790640"/>
            <a:ext cx="698760" cy="355680"/>
            <a:chOff x="5138640" y="1790640"/>
            <a:chExt cx="698760" cy="355680"/>
          </a:xfrm>
        </p:grpSpPr>
        <p:sp>
          <p:nvSpPr>
            <p:cNvPr id="251" name="AutoShape 67"/>
            <p:cNvSpPr/>
            <p:nvPr/>
          </p:nvSpPr>
          <p:spPr>
            <a:xfrm>
              <a:off x="5141520" y="1948320"/>
              <a:ext cx="692640" cy="19800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AutoShape 68"/>
            <p:cNvSpPr/>
            <p:nvPr/>
          </p:nvSpPr>
          <p:spPr>
            <a:xfrm>
              <a:off x="5141520" y="1925280"/>
              <a:ext cx="695880" cy="12312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AutoShape 69"/>
            <p:cNvSpPr/>
            <p:nvPr/>
          </p:nvSpPr>
          <p:spPr>
            <a:xfrm>
              <a:off x="5138640" y="1790640"/>
              <a:ext cx="693720" cy="23256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Group 70"/>
            <p:cNvGrpSpPr/>
            <p:nvPr/>
          </p:nvGrpSpPr>
          <p:grpSpPr>
            <a:xfrm>
              <a:off x="5277960" y="1850760"/>
              <a:ext cx="392040" cy="107640"/>
              <a:chOff x="5277960" y="1850760"/>
              <a:chExt cx="392040" cy="107640"/>
            </a:xfrm>
          </p:grpSpPr>
          <p:sp>
            <p:nvSpPr>
              <p:cNvPr id="255" name="AutoShape 71"/>
              <p:cNvSpPr/>
              <p:nvPr/>
            </p:nvSpPr>
            <p:spPr>
              <a:xfrm>
                <a:off x="5277960" y="1850760"/>
                <a:ext cx="392040" cy="1076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AutoShape 72"/>
              <p:cNvSpPr/>
              <p:nvPr/>
            </p:nvSpPr>
            <p:spPr>
              <a:xfrm>
                <a:off x="5295600" y="1850760"/>
                <a:ext cx="356760" cy="1076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Line 73"/>
            <p:cNvSpPr/>
            <p:nvPr/>
          </p:nvSpPr>
          <p:spPr>
            <a:xfrm>
              <a:off x="5141520" y="1899720"/>
              <a:ext cx="0" cy="15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4"/>
            <p:cNvSpPr/>
            <p:nvPr/>
          </p:nvSpPr>
          <p:spPr>
            <a:xfrm>
              <a:off x="5832360" y="1906920"/>
              <a:ext cx="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75"/>
          <p:cNvGrpSpPr/>
          <p:nvPr/>
        </p:nvGrpSpPr>
        <p:grpSpPr>
          <a:xfrm>
            <a:off x="5145120" y="2425680"/>
            <a:ext cx="698400" cy="355680"/>
            <a:chOff x="5145120" y="2425680"/>
            <a:chExt cx="698400" cy="355680"/>
          </a:xfrm>
        </p:grpSpPr>
        <p:sp>
          <p:nvSpPr>
            <p:cNvPr id="260" name="AutoShape 76"/>
            <p:cNvSpPr/>
            <p:nvPr/>
          </p:nvSpPr>
          <p:spPr>
            <a:xfrm>
              <a:off x="5148000" y="2583360"/>
              <a:ext cx="692280" cy="19800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AutoShape 77"/>
            <p:cNvSpPr/>
            <p:nvPr/>
          </p:nvSpPr>
          <p:spPr>
            <a:xfrm>
              <a:off x="5148000" y="2560320"/>
              <a:ext cx="695520" cy="12312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AutoShape 78"/>
            <p:cNvSpPr/>
            <p:nvPr/>
          </p:nvSpPr>
          <p:spPr>
            <a:xfrm>
              <a:off x="5145120" y="2425680"/>
              <a:ext cx="693360" cy="23256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Group 79"/>
            <p:cNvGrpSpPr/>
            <p:nvPr/>
          </p:nvGrpSpPr>
          <p:grpSpPr>
            <a:xfrm>
              <a:off x="5284440" y="2485800"/>
              <a:ext cx="391680" cy="107640"/>
              <a:chOff x="5284440" y="2485800"/>
              <a:chExt cx="391680" cy="107640"/>
            </a:xfrm>
          </p:grpSpPr>
          <p:sp>
            <p:nvSpPr>
              <p:cNvPr id="264" name="AutoShape 80"/>
              <p:cNvSpPr/>
              <p:nvPr/>
            </p:nvSpPr>
            <p:spPr>
              <a:xfrm>
                <a:off x="5284440" y="2485800"/>
                <a:ext cx="391680" cy="1076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AutoShape 81"/>
              <p:cNvSpPr/>
              <p:nvPr/>
            </p:nvSpPr>
            <p:spPr>
              <a:xfrm>
                <a:off x="5302080" y="2485800"/>
                <a:ext cx="356400" cy="1076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Line 82"/>
            <p:cNvSpPr/>
            <p:nvPr/>
          </p:nvSpPr>
          <p:spPr>
            <a:xfrm>
              <a:off x="5148000" y="2534760"/>
              <a:ext cx="0" cy="15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83"/>
            <p:cNvSpPr/>
            <p:nvPr/>
          </p:nvSpPr>
          <p:spPr>
            <a:xfrm>
              <a:off x="5838480" y="2541960"/>
              <a:ext cx="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Group 84"/>
          <p:cNvGrpSpPr/>
          <p:nvPr/>
        </p:nvGrpSpPr>
        <p:grpSpPr>
          <a:xfrm>
            <a:off x="5977080" y="2000160"/>
            <a:ext cx="698400" cy="355680"/>
            <a:chOff x="5977080" y="2000160"/>
            <a:chExt cx="698400" cy="355680"/>
          </a:xfrm>
        </p:grpSpPr>
        <p:sp>
          <p:nvSpPr>
            <p:cNvPr id="269" name="AutoShape 85"/>
            <p:cNvSpPr/>
            <p:nvPr/>
          </p:nvSpPr>
          <p:spPr>
            <a:xfrm>
              <a:off x="5979960" y="2157840"/>
              <a:ext cx="692280" cy="19800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AutoShape 86"/>
            <p:cNvSpPr/>
            <p:nvPr/>
          </p:nvSpPr>
          <p:spPr>
            <a:xfrm>
              <a:off x="5979960" y="2134800"/>
              <a:ext cx="695520" cy="12312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AutoShape 87"/>
            <p:cNvSpPr/>
            <p:nvPr/>
          </p:nvSpPr>
          <p:spPr>
            <a:xfrm>
              <a:off x="5977080" y="2000160"/>
              <a:ext cx="693360" cy="23256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Group 88"/>
            <p:cNvGrpSpPr/>
            <p:nvPr/>
          </p:nvGrpSpPr>
          <p:grpSpPr>
            <a:xfrm>
              <a:off x="6116400" y="2060280"/>
              <a:ext cx="391680" cy="107640"/>
              <a:chOff x="6116400" y="2060280"/>
              <a:chExt cx="391680" cy="107640"/>
            </a:xfrm>
          </p:grpSpPr>
          <p:sp>
            <p:nvSpPr>
              <p:cNvPr id="273" name="AutoShape 89"/>
              <p:cNvSpPr/>
              <p:nvPr/>
            </p:nvSpPr>
            <p:spPr>
              <a:xfrm>
                <a:off x="6116400" y="2060280"/>
                <a:ext cx="391680" cy="1076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AutoShape 90"/>
              <p:cNvSpPr/>
              <p:nvPr/>
            </p:nvSpPr>
            <p:spPr>
              <a:xfrm>
                <a:off x="6134040" y="2060280"/>
                <a:ext cx="356400" cy="1076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Line 91"/>
            <p:cNvSpPr/>
            <p:nvPr/>
          </p:nvSpPr>
          <p:spPr>
            <a:xfrm>
              <a:off x="5979960" y="2109240"/>
              <a:ext cx="0" cy="15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92"/>
            <p:cNvSpPr/>
            <p:nvPr/>
          </p:nvSpPr>
          <p:spPr>
            <a:xfrm>
              <a:off x="6670440" y="2116440"/>
              <a:ext cx="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Group 93"/>
          <p:cNvGrpSpPr/>
          <p:nvPr/>
        </p:nvGrpSpPr>
        <p:grpSpPr>
          <a:xfrm>
            <a:off x="6627960" y="3053160"/>
            <a:ext cx="1207800" cy="850680"/>
            <a:chOff x="6627960" y="3053160"/>
            <a:chExt cx="1207800" cy="850680"/>
          </a:xfrm>
        </p:grpSpPr>
        <p:grpSp>
          <p:nvGrpSpPr>
            <p:cNvPr id="278" name="Group 94"/>
            <p:cNvGrpSpPr/>
            <p:nvPr/>
          </p:nvGrpSpPr>
          <p:grpSpPr>
            <a:xfrm>
              <a:off x="6627960" y="3053160"/>
              <a:ext cx="507240" cy="552240"/>
              <a:chOff x="6627960" y="3053160"/>
              <a:chExt cx="507240" cy="552240"/>
            </a:xfrm>
          </p:grpSpPr>
          <p:sp>
            <p:nvSpPr>
              <p:cNvPr id="279" name="AutoShape 95"/>
              <p:cNvSpPr/>
              <p:nvPr/>
            </p:nvSpPr>
            <p:spPr>
              <a:xfrm rot="3346800">
                <a:off x="6835320" y="3313080"/>
                <a:ext cx="257760" cy="237240"/>
              </a:xfrm>
              <a:prstGeom prst="pi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AutoShape 96"/>
              <p:cNvSpPr/>
              <p:nvPr/>
            </p:nvSpPr>
            <p:spPr>
              <a:xfrm rot="3346800">
                <a:off x="6660720" y="3124080"/>
                <a:ext cx="297360" cy="2372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Group 97"/>
            <p:cNvGrpSpPr/>
            <p:nvPr/>
          </p:nvGrpSpPr>
          <p:grpSpPr>
            <a:xfrm>
              <a:off x="6937560" y="3158280"/>
              <a:ext cx="522360" cy="547920"/>
              <a:chOff x="6937560" y="3158280"/>
              <a:chExt cx="522360" cy="547920"/>
            </a:xfrm>
          </p:grpSpPr>
          <p:sp>
            <p:nvSpPr>
              <p:cNvPr id="282" name="AutoShape 98"/>
              <p:cNvSpPr/>
              <p:nvPr/>
            </p:nvSpPr>
            <p:spPr>
              <a:xfrm rot="3214800">
                <a:off x="7158240" y="3412800"/>
                <a:ext cx="258120" cy="237600"/>
              </a:xfrm>
              <a:prstGeom prst="pi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AutoShape 99"/>
              <p:cNvSpPr/>
              <p:nvPr/>
            </p:nvSpPr>
            <p:spPr>
              <a:xfrm rot="3214800">
                <a:off x="6972480" y="3229560"/>
                <a:ext cx="297720" cy="2376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Group 100"/>
            <p:cNvGrpSpPr/>
            <p:nvPr/>
          </p:nvGrpSpPr>
          <p:grpSpPr>
            <a:xfrm>
              <a:off x="7282800" y="3282840"/>
              <a:ext cx="536400" cy="541440"/>
              <a:chOff x="7282800" y="3282840"/>
              <a:chExt cx="536400" cy="541440"/>
            </a:xfrm>
          </p:grpSpPr>
          <p:sp>
            <p:nvSpPr>
              <p:cNvPr id="285" name="AutoShape 101"/>
              <p:cNvSpPr/>
              <p:nvPr/>
            </p:nvSpPr>
            <p:spPr>
              <a:xfrm rot="3051600">
                <a:off x="7515720" y="3529080"/>
                <a:ext cx="258120" cy="238680"/>
              </a:xfrm>
              <a:prstGeom prst="pi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AutoShape 102"/>
              <p:cNvSpPr/>
              <p:nvPr/>
            </p:nvSpPr>
            <p:spPr>
              <a:xfrm rot="3051600">
                <a:off x="7320240" y="3354120"/>
                <a:ext cx="297720" cy="2386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Line 103"/>
            <p:cNvSpPr/>
            <p:nvPr/>
          </p:nvSpPr>
          <p:spPr>
            <a:xfrm>
              <a:off x="7022880" y="3517200"/>
              <a:ext cx="133200" cy="177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4"/>
            <p:cNvSpPr/>
            <p:nvPr/>
          </p:nvSpPr>
          <p:spPr>
            <a:xfrm>
              <a:off x="7346880" y="3615480"/>
              <a:ext cx="129960" cy="177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105"/>
            <p:cNvSpPr/>
            <p:nvPr/>
          </p:nvSpPr>
          <p:spPr>
            <a:xfrm>
              <a:off x="7715160" y="3729600"/>
              <a:ext cx="120600" cy="17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Group 106"/>
          <p:cNvGrpSpPr/>
          <p:nvPr/>
        </p:nvGrpSpPr>
        <p:grpSpPr>
          <a:xfrm>
            <a:off x="7075440" y="3886200"/>
            <a:ext cx="698400" cy="355680"/>
            <a:chOff x="7075440" y="3886200"/>
            <a:chExt cx="698400" cy="355680"/>
          </a:xfrm>
        </p:grpSpPr>
        <p:sp>
          <p:nvSpPr>
            <p:cNvPr id="291" name="AutoShape 107"/>
            <p:cNvSpPr/>
            <p:nvPr/>
          </p:nvSpPr>
          <p:spPr>
            <a:xfrm>
              <a:off x="7078320" y="4043880"/>
              <a:ext cx="692280" cy="19800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AutoShape 108"/>
            <p:cNvSpPr/>
            <p:nvPr/>
          </p:nvSpPr>
          <p:spPr>
            <a:xfrm>
              <a:off x="7078320" y="4020840"/>
              <a:ext cx="695520" cy="12312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AutoShape 109"/>
            <p:cNvSpPr/>
            <p:nvPr/>
          </p:nvSpPr>
          <p:spPr>
            <a:xfrm>
              <a:off x="7075440" y="3886200"/>
              <a:ext cx="693360" cy="23256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Group 110"/>
            <p:cNvGrpSpPr/>
            <p:nvPr/>
          </p:nvGrpSpPr>
          <p:grpSpPr>
            <a:xfrm>
              <a:off x="7214760" y="3946320"/>
              <a:ext cx="391680" cy="107640"/>
              <a:chOff x="7214760" y="3946320"/>
              <a:chExt cx="391680" cy="107640"/>
            </a:xfrm>
          </p:grpSpPr>
          <p:sp>
            <p:nvSpPr>
              <p:cNvPr id="295" name="AutoShape 111"/>
              <p:cNvSpPr/>
              <p:nvPr/>
            </p:nvSpPr>
            <p:spPr>
              <a:xfrm>
                <a:off x="7214760" y="3946320"/>
                <a:ext cx="391680" cy="1076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AutoShape 112"/>
              <p:cNvSpPr/>
              <p:nvPr/>
            </p:nvSpPr>
            <p:spPr>
              <a:xfrm>
                <a:off x="7232400" y="3946320"/>
                <a:ext cx="356400" cy="1076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Line 113"/>
            <p:cNvSpPr/>
            <p:nvPr/>
          </p:nvSpPr>
          <p:spPr>
            <a:xfrm>
              <a:off x="7078320" y="3995280"/>
              <a:ext cx="0" cy="15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114"/>
            <p:cNvSpPr/>
            <p:nvPr/>
          </p:nvSpPr>
          <p:spPr>
            <a:xfrm>
              <a:off x="7768800" y="4002480"/>
              <a:ext cx="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Group 115"/>
          <p:cNvGrpSpPr/>
          <p:nvPr/>
        </p:nvGrpSpPr>
        <p:grpSpPr>
          <a:xfrm>
            <a:off x="6172200" y="4954680"/>
            <a:ext cx="698400" cy="355680"/>
            <a:chOff x="6172200" y="4954680"/>
            <a:chExt cx="698400" cy="355680"/>
          </a:xfrm>
        </p:grpSpPr>
        <p:sp>
          <p:nvSpPr>
            <p:cNvPr id="300" name="AutoShape 116"/>
            <p:cNvSpPr/>
            <p:nvPr/>
          </p:nvSpPr>
          <p:spPr>
            <a:xfrm>
              <a:off x="6175080" y="5112360"/>
              <a:ext cx="692280" cy="19800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AutoShape 117"/>
            <p:cNvSpPr/>
            <p:nvPr/>
          </p:nvSpPr>
          <p:spPr>
            <a:xfrm>
              <a:off x="6175080" y="5089320"/>
              <a:ext cx="695520" cy="12312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AutoShape 118"/>
            <p:cNvSpPr/>
            <p:nvPr/>
          </p:nvSpPr>
          <p:spPr>
            <a:xfrm>
              <a:off x="6172200" y="4954680"/>
              <a:ext cx="693360" cy="23256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Group 119"/>
            <p:cNvGrpSpPr/>
            <p:nvPr/>
          </p:nvGrpSpPr>
          <p:grpSpPr>
            <a:xfrm>
              <a:off x="6311520" y="5014800"/>
              <a:ext cx="391680" cy="107640"/>
              <a:chOff x="6311520" y="5014800"/>
              <a:chExt cx="391680" cy="107640"/>
            </a:xfrm>
          </p:grpSpPr>
          <p:sp>
            <p:nvSpPr>
              <p:cNvPr id="304" name="AutoShape 120"/>
              <p:cNvSpPr/>
              <p:nvPr/>
            </p:nvSpPr>
            <p:spPr>
              <a:xfrm>
                <a:off x="6311520" y="5014800"/>
                <a:ext cx="391680" cy="1076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AutoShape 121"/>
              <p:cNvSpPr/>
              <p:nvPr/>
            </p:nvSpPr>
            <p:spPr>
              <a:xfrm>
                <a:off x="6329160" y="5014800"/>
                <a:ext cx="356400" cy="1076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Line 122"/>
            <p:cNvSpPr/>
            <p:nvPr/>
          </p:nvSpPr>
          <p:spPr>
            <a:xfrm>
              <a:off x="6175080" y="5063760"/>
              <a:ext cx="0" cy="15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123"/>
            <p:cNvSpPr/>
            <p:nvPr/>
          </p:nvSpPr>
          <p:spPr>
            <a:xfrm>
              <a:off x="6865560" y="5070960"/>
              <a:ext cx="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Group 124"/>
          <p:cNvGrpSpPr/>
          <p:nvPr/>
        </p:nvGrpSpPr>
        <p:grpSpPr>
          <a:xfrm>
            <a:off x="5133960" y="4400640"/>
            <a:ext cx="738360" cy="1384200"/>
            <a:chOff x="5133960" y="4400640"/>
            <a:chExt cx="738360" cy="1384200"/>
          </a:xfrm>
        </p:grpSpPr>
        <p:sp>
          <p:nvSpPr>
            <p:cNvPr id="309" name="Line 125"/>
            <p:cNvSpPr/>
            <p:nvPr/>
          </p:nvSpPr>
          <p:spPr>
            <a:xfrm flipV="1">
              <a:off x="5785920" y="4807440"/>
              <a:ext cx="8640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126"/>
            <p:cNvSpPr/>
            <p:nvPr/>
          </p:nvSpPr>
          <p:spPr>
            <a:xfrm flipV="1">
              <a:off x="5785920" y="5456520"/>
              <a:ext cx="864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127"/>
            <p:cNvSpPr/>
            <p:nvPr/>
          </p:nvSpPr>
          <p:spPr>
            <a:xfrm>
              <a:off x="5865480" y="4802760"/>
              <a:ext cx="0" cy="65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Group 128"/>
            <p:cNvGrpSpPr/>
            <p:nvPr/>
          </p:nvGrpSpPr>
          <p:grpSpPr>
            <a:xfrm>
              <a:off x="5133960" y="4400640"/>
              <a:ext cx="703440" cy="567000"/>
              <a:chOff x="5133960" y="4400640"/>
              <a:chExt cx="703440" cy="567000"/>
            </a:xfrm>
          </p:grpSpPr>
          <p:pic>
            <p:nvPicPr>
              <p:cNvPr id="313" name="Picture 129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5133960" y="4400640"/>
                <a:ext cx="703440" cy="56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AutoShape 130"/>
              <p:cNvSpPr/>
              <p:nvPr/>
            </p:nvSpPr>
            <p:spPr>
              <a:xfrm flipH="1">
                <a:off x="5433840" y="4455000"/>
                <a:ext cx="342000" cy="25956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AutoShape 131"/>
            <p:cNvSpPr/>
            <p:nvPr/>
          </p:nvSpPr>
          <p:spPr>
            <a:xfrm rot="5400000">
              <a:off x="5373720" y="4845960"/>
              <a:ext cx="459000" cy="497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Group 132"/>
            <p:cNvGrpSpPr/>
            <p:nvPr/>
          </p:nvGrpSpPr>
          <p:grpSpPr>
            <a:xfrm>
              <a:off x="5150520" y="5217840"/>
              <a:ext cx="703440" cy="567000"/>
              <a:chOff x="5150520" y="5217840"/>
              <a:chExt cx="703440" cy="567000"/>
            </a:xfrm>
          </p:grpSpPr>
          <p:pic>
            <p:nvPicPr>
              <p:cNvPr id="317" name="Picture 133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5150520" y="5217840"/>
                <a:ext cx="703440" cy="56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8" name="AutoShape 134"/>
              <p:cNvSpPr/>
              <p:nvPr/>
            </p:nvSpPr>
            <p:spPr>
              <a:xfrm flipH="1">
                <a:off x="5450400" y="5272200"/>
                <a:ext cx="342000" cy="25956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9" name="Slide Number Placeholder 136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3832-57FE-4214-B9BA-3DC54789437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62125184" presetSubtype="787539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62125184" presetSubtype="787539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62125184" presetSubtype="787539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AutoShape 2"/>
          <p:cNvSpPr/>
          <p:nvPr/>
        </p:nvSpPr>
        <p:spPr>
          <a:xfrm>
            <a:off x="5913360" y="6467400"/>
            <a:ext cx="28940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AutoShape 3"/>
          <p:cNvSpPr/>
          <p:nvPr/>
        </p:nvSpPr>
        <p:spPr>
          <a:xfrm>
            <a:off x="8705880" y="6462720"/>
            <a:ext cx="6746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3976560" y="1525680"/>
            <a:ext cx="4248360" cy="644400"/>
            <a:chOff x="3976560" y="1525680"/>
            <a:chExt cx="4248360" cy="644400"/>
          </a:xfrm>
        </p:grpSpPr>
        <p:sp>
          <p:nvSpPr>
            <p:cNvPr id="324" name="AutoShape 5"/>
            <p:cNvSpPr/>
            <p:nvPr/>
          </p:nvSpPr>
          <p:spPr>
            <a:xfrm>
              <a:off x="4043160" y="1536480"/>
              <a:ext cx="4181760" cy="54360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AutoShape 6"/>
            <p:cNvSpPr/>
            <p:nvPr/>
          </p:nvSpPr>
          <p:spPr>
            <a:xfrm>
              <a:off x="3976560" y="1584360"/>
              <a:ext cx="4181760" cy="5436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AutoShape 7"/>
            <p:cNvSpPr/>
            <p:nvPr/>
          </p:nvSpPr>
          <p:spPr>
            <a:xfrm>
              <a:off x="5132160" y="1525680"/>
              <a:ext cx="396000" cy="625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=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AutoShape 8"/>
            <p:cNvSpPr/>
            <p:nvPr/>
          </p:nvSpPr>
          <p:spPr>
            <a:xfrm>
              <a:off x="6613920" y="1544400"/>
              <a:ext cx="681480" cy="625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AutoShape 9"/>
            <p:cNvSpPr/>
            <p:nvPr/>
          </p:nvSpPr>
          <p:spPr>
            <a:xfrm>
              <a:off x="5648400" y="1544400"/>
              <a:ext cx="812880" cy="625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fragfl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AutoShape 10"/>
            <p:cNvSpPr/>
            <p:nvPr/>
          </p:nvSpPr>
          <p:spPr>
            <a:xfrm>
              <a:off x="4331880" y="1525680"/>
              <a:ext cx="729360" cy="625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=4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>
              <a:off x="4357440" y="1584360"/>
              <a:ext cx="0" cy="54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12"/>
            <p:cNvSpPr/>
            <p:nvPr/>
          </p:nvSpPr>
          <p:spPr>
            <a:xfrm>
              <a:off x="5157720" y="1584360"/>
              <a:ext cx="0" cy="54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3"/>
            <p:cNvSpPr/>
            <p:nvPr/>
          </p:nvSpPr>
          <p:spPr>
            <a:xfrm>
              <a:off x="5586480" y="1603440"/>
              <a:ext cx="0" cy="54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4"/>
            <p:cNvSpPr/>
            <p:nvPr/>
          </p:nvSpPr>
          <p:spPr>
            <a:xfrm>
              <a:off x="6567480" y="1584360"/>
              <a:ext cx="0" cy="54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5"/>
            <p:cNvSpPr/>
            <p:nvPr/>
          </p:nvSpPr>
          <p:spPr>
            <a:xfrm>
              <a:off x="7320240" y="1584360"/>
              <a:ext cx="0" cy="54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AutoShape 16"/>
            <p:cNvSpPr/>
            <p:nvPr/>
          </p:nvSpPr>
          <p:spPr>
            <a:xfrm>
              <a:off x="7510680" y="1536480"/>
              <a:ext cx="218880" cy="60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17"/>
          <p:cNvGrpSpPr/>
          <p:nvPr/>
        </p:nvGrpSpPr>
        <p:grpSpPr>
          <a:xfrm>
            <a:off x="4065480" y="2290680"/>
            <a:ext cx="4711680" cy="3260880"/>
            <a:chOff x="4065480" y="2290680"/>
            <a:chExt cx="4711680" cy="3260880"/>
          </a:xfrm>
        </p:grpSpPr>
        <p:grpSp>
          <p:nvGrpSpPr>
            <p:cNvPr id="337" name="Group 18"/>
            <p:cNvGrpSpPr/>
            <p:nvPr/>
          </p:nvGrpSpPr>
          <p:grpSpPr>
            <a:xfrm>
              <a:off x="4528800" y="3279240"/>
              <a:ext cx="4248360" cy="643680"/>
              <a:chOff x="4528800" y="3279240"/>
              <a:chExt cx="4248360" cy="643680"/>
            </a:xfrm>
          </p:grpSpPr>
          <p:sp>
            <p:nvSpPr>
              <p:cNvPr id="338" name="AutoShape 19"/>
              <p:cNvSpPr/>
              <p:nvPr/>
            </p:nvSpPr>
            <p:spPr>
              <a:xfrm>
                <a:off x="4595400" y="3290040"/>
                <a:ext cx="4181760" cy="542880"/>
              </a:xfrm>
              <a:prstGeom prst="pi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AutoShape 20"/>
              <p:cNvSpPr/>
              <p:nvPr/>
            </p:nvSpPr>
            <p:spPr>
              <a:xfrm>
                <a:off x="4528800" y="3337920"/>
                <a:ext cx="4181760" cy="5428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AutoShape 21"/>
              <p:cNvSpPr/>
              <p:nvPr/>
            </p:nvSpPr>
            <p:spPr>
              <a:xfrm>
                <a:off x="5684400" y="3279240"/>
                <a:ext cx="39600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AutoShape 22"/>
              <p:cNvSpPr/>
              <p:nvPr/>
            </p:nvSpPr>
            <p:spPr>
              <a:xfrm>
                <a:off x="7166160" y="3297960"/>
                <a:ext cx="68148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AutoShape 23"/>
              <p:cNvSpPr/>
              <p:nvPr/>
            </p:nvSpPr>
            <p:spPr>
              <a:xfrm>
                <a:off x="6200640" y="3297960"/>
                <a:ext cx="81288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AutoShape 24"/>
              <p:cNvSpPr/>
              <p:nvPr/>
            </p:nvSpPr>
            <p:spPr>
              <a:xfrm>
                <a:off x="4884120" y="3279240"/>
                <a:ext cx="72936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15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Line 25"/>
              <p:cNvSpPr/>
              <p:nvPr/>
            </p:nvSpPr>
            <p:spPr>
              <a:xfrm>
                <a:off x="4909680" y="333792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Line 26"/>
              <p:cNvSpPr/>
              <p:nvPr/>
            </p:nvSpPr>
            <p:spPr>
              <a:xfrm>
                <a:off x="5709960" y="333792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Line 27"/>
              <p:cNvSpPr/>
              <p:nvPr/>
            </p:nvSpPr>
            <p:spPr>
              <a:xfrm>
                <a:off x="6138720" y="335700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Line 28"/>
              <p:cNvSpPr/>
              <p:nvPr/>
            </p:nvSpPr>
            <p:spPr>
              <a:xfrm>
                <a:off x="7119720" y="333792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Line 29"/>
              <p:cNvSpPr/>
              <p:nvPr/>
            </p:nvSpPr>
            <p:spPr>
              <a:xfrm>
                <a:off x="7872480" y="333792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AutoShape 30"/>
              <p:cNvSpPr/>
              <p:nvPr/>
            </p:nvSpPr>
            <p:spPr>
              <a:xfrm>
                <a:off x="8062920" y="3290040"/>
                <a:ext cx="218880" cy="600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Group 31"/>
            <p:cNvGrpSpPr/>
            <p:nvPr/>
          </p:nvGrpSpPr>
          <p:grpSpPr>
            <a:xfrm>
              <a:off x="4528800" y="4079520"/>
              <a:ext cx="4248360" cy="643680"/>
              <a:chOff x="4528800" y="4079520"/>
              <a:chExt cx="4248360" cy="643680"/>
            </a:xfrm>
          </p:grpSpPr>
          <p:sp>
            <p:nvSpPr>
              <p:cNvPr id="351" name="AutoShape 32"/>
              <p:cNvSpPr/>
              <p:nvPr/>
            </p:nvSpPr>
            <p:spPr>
              <a:xfrm>
                <a:off x="4595400" y="4090320"/>
                <a:ext cx="4181760" cy="542880"/>
              </a:xfrm>
              <a:prstGeom prst="pi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AutoShape 33"/>
              <p:cNvSpPr/>
              <p:nvPr/>
            </p:nvSpPr>
            <p:spPr>
              <a:xfrm>
                <a:off x="4528800" y="4138200"/>
                <a:ext cx="4181760" cy="5428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AutoShape 34"/>
              <p:cNvSpPr/>
              <p:nvPr/>
            </p:nvSpPr>
            <p:spPr>
              <a:xfrm>
                <a:off x="5684400" y="4079520"/>
                <a:ext cx="39600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AutoShape 35"/>
              <p:cNvSpPr/>
              <p:nvPr/>
            </p:nvSpPr>
            <p:spPr>
              <a:xfrm>
                <a:off x="7166160" y="4098240"/>
                <a:ext cx="68148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18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AutoShape 36"/>
              <p:cNvSpPr/>
              <p:nvPr/>
            </p:nvSpPr>
            <p:spPr>
              <a:xfrm>
                <a:off x="6200640" y="4098240"/>
                <a:ext cx="81288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AutoShape 37"/>
              <p:cNvSpPr/>
              <p:nvPr/>
            </p:nvSpPr>
            <p:spPr>
              <a:xfrm>
                <a:off x="4884120" y="4079520"/>
                <a:ext cx="72936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15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Line 38"/>
              <p:cNvSpPr/>
              <p:nvPr/>
            </p:nvSpPr>
            <p:spPr>
              <a:xfrm>
                <a:off x="4909680" y="413820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Line 39"/>
              <p:cNvSpPr/>
              <p:nvPr/>
            </p:nvSpPr>
            <p:spPr>
              <a:xfrm>
                <a:off x="5709960" y="413820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Line 40"/>
              <p:cNvSpPr/>
              <p:nvPr/>
            </p:nvSpPr>
            <p:spPr>
              <a:xfrm>
                <a:off x="6138720" y="415728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Line 41"/>
              <p:cNvSpPr/>
              <p:nvPr/>
            </p:nvSpPr>
            <p:spPr>
              <a:xfrm>
                <a:off x="7119720" y="413820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Line 42"/>
              <p:cNvSpPr/>
              <p:nvPr/>
            </p:nvSpPr>
            <p:spPr>
              <a:xfrm>
                <a:off x="7872480" y="413820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AutoShape 43"/>
              <p:cNvSpPr/>
              <p:nvPr/>
            </p:nvSpPr>
            <p:spPr>
              <a:xfrm>
                <a:off x="8062920" y="4090320"/>
                <a:ext cx="218880" cy="600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Group 44"/>
            <p:cNvGrpSpPr/>
            <p:nvPr/>
          </p:nvGrpSpPr>
          <p:grpSpPr>
            <a:xfrm>
              <a:off x="4519440" y="4907880"/>
              <a:ext cx="4248360" cy="643680"/>
              <a:chOff x="4519440" y="4907880"/>
              <a:chExt cx="4248360" cy="643680"/>
            </a:xfrm>
          </p:grpSpPr>
          <p:sp>
            <p:nvSpPr>
              <p:cNvPr id="364" name="AutoShape 45"/>
              <p:cNvSpPr/>
              <p:nvPr/>
            </p:nvSpPr>
            <p:spPr>
              <a:xfrm>
                <a:off x="4586040" y="4918680"/>
                <a:ext cx="4181760" cy="542880"/>
              </a:xfrm>
              <a:prstGeom prst="pi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AutoShape 46"/>
              <p:cNvSpPr/>
              <p:nvPr/>
            </p:nvSpPr>
            <p:spPr>
              <a:xfrm>
                <a:off x="4519440" y="4966560"/>
                <a:ext cx="4181760" cy="5428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AutoShape 47"/>
              <p:cNvSpPr/>
              <p:nvPr/>
            </p:nvSpPr>
            <p:spPr>
              <a:xfrm>
                <a:off x="5675040" y="4907880"/>
                <a:ext cx="39600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AutoShape 48"/>
              <p:cNvSpPr/>
              <p:nvPr/>
            </p:nvSpPr>
            <p:spPr>
              <a:xfrm>
                <a:off x="7156800" y="4926600"/>
                <a:ext cx="68148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37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AutoShape 49"/>
              <p:cNvSpPr/>
              <p:nvPr/>
            </p:nvSpPr>
            <p:spPr>
              <a:xfrm>
                <a:off x="6191280" y="4926600"/>
                <a:ext cx="81288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AutoShape 50"/>
              <p:cNvSpPr/>
              <p:nvPr/>
            </p:nvSpPr>
            <p:spPr>
              <a:xfrm>
                <a:off x="4874760" y="4907880"/>
                <a:ext cx="72936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104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Line 51"/>
              <p:cNvSpPr/>
              <p:nvPr/>
            </p:nvSpPr>
            <p:spPr>
              <a:xfrm>
                <a:off x="4900320" y="496656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Line 52"/>
              <p:cNvSpPr/>
              <p:nvPr/>
            </p:nvSpPr>
            <p:spPr>
              <a:xfrm>
                <a:off x="5700600" y="496656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Line 53"/>
              <p:cNvSpPr/>
              <p:nvPr/>
            </p:nvSpPr>
            <p:spPr>
              <a:xfrm>
                <a:off x="6129360" y="498564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Line 54"/>
              <p:cNvSpPr/>
              <p:nvPr/>
            </p:nvSpPr>
            <p:spPr>
              <a:xfrm>
                <a:off x="7110360" y="496656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Line 55"/>
              <p:cNvSpPr/>
              <p:nvPr/>
            </p:nvSpPr>
            <p:spPr>
              <a:xfrm>
                <a:off x="7863120" y="496656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AutoShape 56"/>
              <p:cNvSpPr/>
              <p:nvPr/>
            </p:nvSpPr>
            <p:spPr>
              <a:xfrm>
                <a:off x="8053560" y="4918680"/>
                <a:ext cx="218880" cy="600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" name="AutoShape 57"/>
            <p:cNvSpPr/>
            <p:nvPr/>
          </p:nvSpPr>
          <p:spPr>
            <a:xfrm>
              <a:off x="4090680" y="2290680"/>
              <a:ext cx="333360" cy="2161800"/>
            </a:xfrm>
            <a:prstGeom prst="pie">
              <a:avLst/>
            </a:prstGeom>
            <a:noFill/>
            <a:ln w="1260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58"/>
            <p:cNvSpPr/>
            <p:nvPr/>
          </p:nvSpPr>
          <p:spPr>
            <a:xfrm>
              <a:off x="4090680" y="4423680"/>
              <a:ext cx="361800" cy="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59"/>
            <p:cNvSpPr/>
            <p:nvPr/>
          </p:nvSpPr>
          <p:spPr>
            <a:xfrm>
              <a:off x="4100400" y="4433400"/>
              <a:ext cx="333360" cy="7902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AutoShape 60"/>
            <p:cNvSpPr/>
            <p:nvPr/>
          </p:nvSpPr>
          <p:spPr>
            <a:xfrm>
              <a:off x="4065480" y="2365200"/>
              <a:ext cx="2659320" cy="624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cc0000"/>
                  </a:solidFill>
                  <a:latin typeface="Gill Sans MT"/>
                </a:rPr>
                <a:t>one large datagram beco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cc0000"/>
                  </a:solidFill>
                  <a:latin typeface="Gill Sans MT"/>
                </a:rPr>
                <a:t>several smaller datagra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AutoShape 61"/>
          <p:cNvSpPr/>
          <p:nvPr/>
        </p:nvSpPr>
        <p:spPr>
          <a:xfrm>
            <a:off x="712800" y="1801800"/>
            <a:ext cx="2830680" cy="14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54160" indent="-2541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5000"/>
              </a:lnSpc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4000 byte dat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5000"/>
              </a:lnSpc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TU = 1500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utoShape 62"/>
          <p:cNvSpPr/>
          <p:nvPr/>
        </p:nvSpPr>
        <p:spPr>
          <a:xfrm>
            <a:off x="1424160" y="3238560"/>
            <a:ext cx="1401480" cy="623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1480 bytes 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ata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63"/>
          <p:cNvSpPr/>
          <p:nvPr/>
        </p:nvSpPr>
        <p:spPr>
          <a:xfrm>
            <a:off x="1886040" y="4071960"/>
            <a:ext cx="877680" cy="623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ffset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1480/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18576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fragmentation, reassemb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5" descr="underline_base"/>
          <p:cNvPicPr/>
          <p:nvPr/>
        </p:nvPicPr>
        <p:blipFill>
          <a:blip r:embed="rId1"/>
          <a:stretch/>
        </p:blipFill>
        <p:spPr>
          <a:xfrm>
            <a:off x="961920" y="88092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85" name="Line 66"/>
          <p:cNvSpPr/>
          <p:nvPr/>
        </p:nvSpPr>
        <p:spPr>
          <a:xfrm>
            <a:off x="2367000" y="3591000"/>
            <a:ext cx="2619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67"/>
          <p:cNvSpPr/>
          <p:nvPr/>
        </p:nvSpPr>
        <p:spPr>
          <a:xfrm flipH="1" flipV="1">
            <a:off x="2698560" y="4392720"/>
            <a:ext cx="46717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AutoShape 68"/>
          <p:cNvSpPr/>
          <p:nvPr/>
        </p:nvSpPr>
        <p:spPr>
          <a:xfrm>
            <a:off x="852480" y="5381640"/>
            <a:ext cx="8683560" cy="1690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ffset 0: meaning the data should be inserted at the beginning go byte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ffset 185: meaning the data should be inserted at the beginning go byte 1480 (185*8=148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ffset 370: meaning the data should be inserted at the beginning go byte 2960 (370*8=296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Slide Number Placeholder 70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D67D-D67E-46B2-9718-47B938A2878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8890112" presetSubtype="790597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78890112" presetSubtype="790596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8890112" presetSubtype="790593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78890112" presetSubtype="790598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8890112" presetSubtype="790599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AutoShape 2"/>
          <p:cNvSpPr/>
          <p:nvPr/>
        </p:nvSpPr>
        <p:spPr>
          <a:xfrm>
            <a:off x="3664080" y="3297240"/>
            <a:ext cx="3709800" cy="3978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19240" indent="-219240" algn="ctr">
              <a:lnSpc>
                <a:spcPct val="100000"/>
              </a:lnSpc>
              <a:buClr>
                <a:srgbClr val="0433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33ff"/>
                </a:solidFill>
                <a:latin typeface="Gill Sans MT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439920" algn="ctr"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33ff"/>
                </a:solidFill>
                <a:latin typeface="Gill Sans MT"/>
                <a:ea typeface="Arial"/>
              </a:rPr>
              <a:t>Class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439920" algn="ctr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33ff"/>
                </a:solidFill>
                <a:latin typeface="Gill Sans MT"/>
                <a:ea typeface="Arial"/>
              </a:rPr>
              <a:t>Subne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439920" algn="ctr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Slide Number Placeholder 4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1696-F5CD-417E-A668-6B247EDF37D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AutoShape 1"/>
          <p:cNvSpPr/>
          <p:nvPr/>
        </p:nvSpPr>
        <p:spPr>
          <a:xfrm>
            <a:off x="743040" y="6494400"/>
            <a:ext cx="206352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66400" y="371160"/>
            <a:ext cx="8420040" cy="9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33ff"/>
                </a:solidFill>
                <a:latin typeface="Times New Roman"/>
                <a:ea typeface="Times New Roman"/>
              </a:rPr>
              <a:t>IP Addre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720" y="1377720"/>
            <a:ext cx="40035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P addres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-bit identifier fo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out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erfac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 between host/router and physical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r’s typically have multiple interfaces (==&gt;multiple IP addres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 typically has one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addresses associated with each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5" descr="image.pdf"/>
          <p:cNvPicPr/>
          <p:nvPr/>
        </p:nvPicPr>
        <p:blipFill>
          <a:blip r:embed="rId6"/>
          <a:stretch/>
        </p:blipFill>
        <p:spPr>
          <a:xfrm>
            <a:off x="4827600" y="1635120"/>
            <a:ext cx="633240" cy="463680"/>
          </a:xfrm>
          <a:prstGeom prst="rect">
            <a:avLst/>
          </a:prstGeom>
          <a:ln w="0">
            <a:noFill/>
          </a:ln>
        </p:spPr>
      </p:pic>
      <p:sp>
        <p:nvSpPr>
          <p:cNvPr id="395" name="Line 6"/>
          <p:cNvSpPr/>
          <p:nvPr/>
        </p:nvSpPr>
        <p:spPr>
          <a:xfrm>
            <a:off x="5433840" y="2008080"/>
            <a:ext cx="301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7"/>
          <p:cNvSpPr/>
          <p:nvPr/>
        </p:nvSpPr>
        <p:spPr>
          <a:xfrm>
            <a:off x="5749920" y="1994040"/>
            <a:ext cx="0" cy="129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8"/>
          <p:cNvSpPr/>
          <p:nvPr/>
        </p:nvSpPr>
        <p:spPr>
          <a:xfrm flipV="1">
            <a:off x="5432400" y="2652840"/>
            <a:ext cx="3016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9"/>
          <p:cNvSpPr/>
          <p:nvPr/>
        </p:nvSpPr>
        <p:spPr>
          <a:xfrm>
            <a:off x="5443560" y="3278160"/>
            <a:ext cx="29520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10" descr="image.pdf"/>
          <p:cNvPicPr/>
          <p:nvPr/>
        </p:nvPicPr>
        <p:blipFill>
          <a:blip r:embed="rId7"/>
          <a:stretch/>
        </p:blipFill>
        <p:spPr>
          <a:xfrm>
            <a:off x="4827600" y="2301840"/>
            <a:ext cx="633240" cy="4636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1" descr="image.pdf"/>
          <p:cNvPicPr/>
          <p:nvPr/>
        </p:nvPicPr>
        <p:blipFill>
          <a:blip r:embed="rId8"/>
          <a:stretch/>
        </p:blipFill>
        <p:spPr>
          <a:xfrm>
            <a:off x="4827600" y="2911320"/>
            <a:ext cx="633240" cy="463680"/>
          </a:xfrm>
          <a:prstGeom prst="rect">
            <a:avLst/>
          </a:prstGeom>
          <a:ln w="0">
            <a:noFill/>
          </a:ln>
        </p:spPr>
      </p:pic>
      <p:sp>
        <p:nvSpPr>
          <p:cNvPr id="401" name="Line 12"/>
          <p:cNvSpPr/>
          <p:nvPr/>
        </p:nvSpPr>
        <p:spPr>
          <a:xfrm>
            <a:off x="5749920" y="2851200"/>
            <a:ext cx="11206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Group 13"/>
          <p:cNvGrpSpPr/>
          <p:nvPr/>
        </p:nvGrpSpPr>
        <p:grpSpPr>
          <a:xfrm>
            <a:off x="6770520" y="2814480"/>
            <a:ext cx="770040" cy="382680"/>
            <a:chOff x="6770520" y="2814480"/>
            <a:chExt cx="770040" cy="382680"/>
          </a:xfrm>
        </p:grpSpPr>
        <p:sp>
          <p:nvSpPr>
            <p:cNvPr id="403" name="AutoShape 14"/>
            <p:cNvSpPr/>
            <p:nvPr/>
          </p:nvSpPr>
          <p:spPr>
            <a:xfrm>
              <a:off x="6776640" y="2985120"/>
              <a:ext cx="763920" cy="212040"/>
            </a:xfrm>
            <a:prstGeom prst="pie">
              <a:avLst/>
            </a:prstGeom>
            <a:solidFill>
              <a:srgbClr val="e5d09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15"/>
            <p:cNvSpPr/>
            <p:nvPr/>
          </p:nvSpPr>
          <p:spPr>
            <a:xfrm>
              <a:off x="6776640" y="2967480"/>
              <a:ext cx="0" cy="13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16"/>
            <p:cNvSpPr/>
            <p:nvPr/>
          </p:nvSpPr>
          <p:spPr>
            <a:xfrm>
              <a:off x="7540560" y="2967480"/>
              <a:ext cx="0" cy="13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AutoShape 17"/>
            <p:cNvSpPr/>
            <p:nvPr/>
          </p:nvSpPr>
          <p:spPr>
            <a:xfrm>
              <a:off x="6776640" y="2967480"/>
              <a:ext cx="757440" cy="128880"/>
            </a:xfrm>
            <a:prstGeom prst="pie">
              <a:avLst/>
            </a:prstGeom>
            <a:solidFill>
              <a:srgbClr val="e5d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AutoShape 18"/>
            <p:cNvSpPr/>
            <p:nvPr/>
          </p:nvSpPr>
          <p:spPr>
            <a:xfrm>
              <a:off x="6770520" y="2814480"/>
              <a:ext cx="763920" cy="247320"/>
            </a:xfrm>
            <a:prstGeom prst="pie">
              <a:avLst/>
            </a:prstGeom>
            <a:solidFill>
              <a:srgbClr val="e5d09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8" name="Group 19"/>
            <p:cNvGrpSpPr/>
            <p:nvPr/>
          </p:nvGrpSpPr>
          <p:grpSpPr>
            <a:xfrm>
              <a:off x="6954480" y="2868840"/>
              <a:ext cx="378720" cy="144360"/>
              <a:chOff x="6954480" y="2868840"/>
              <a:chExt cx="378720" cy="144360"/>
            </a:xfrm>
          </p:grpSpPr>
          <p:sp>
            <p:nvSpPr>
              <p:cNvPr id="409" name="Line 20"/>
              <p:cNvSpPr/>
              <p:nvPr/>
            </p:nvSpPr>
            <p:spPr>
              <a:xfrm flipV="1">
                <a:off x="6954480" y="2868840"/>
                <a:ext cx="13536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Line 21"/>
              <p:cNvSpPr/>
              <p:nvPr/>
            </p:nvSpPr>
            <p:spPr>
              <a:xfrm>
                <a:off x="7214400" y="3013200"/>
                <a:ext cx="11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Line 22"/>
              <p:cNvSpPr/>
              <p:nvPr/>
            </p:nvSpPr>
            <p:spPr>
              <a:xfrm>
                <a:off x="7078680" y="2871720"/>
                <a:ext cx="140760" cy="141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23"/>
            <p:cNvGrpSpPr/>
            <p:nvPr/>
          </p:nvGrpSpPr>
          <p:grpSpPr>
            <a:xfrm>
              <a:off x="6954480" y="2866320"/>
              <a:ext cx="378720" cy="144720"/>
              <a:chOff x="6954480" y="2866320"/>
              <a:chExt cx="378720" cy="144720"/>
            </a:xfrm>
          </p:grpSpPr>
          <p:sp>
            <p:nvSpPr>
              <p:cNvPr id="413" name="Line 24"/>
              <p:cNvSpPr/>
              <p:nvPr/>
            </p:nvSpPr>
            <p:spPr>
              <a:xfrm>
                <a:off x="6954480" y="3008160"/>
                <a:ext cx="13536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Line 25"/>
              <p:cNvSpPr/>
              <p:nvPr/>
            </p:nvSpPr>
            <p:spPr>
              <a:xfrm>
                <a:off x="7214400" y="2867760"/>
                <a:ext cx="11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Line 26"/>
              <p:cNvSpPr/>
              <p:nvPr/>
            </p:nvSpPr>
            <p:spPr>
              <a:xfrm flipV="1">
                <a:off x="7078680" y="2866320"/>
                <a:ext cx="140760" cy="141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6" name="AutoShape 27"/>
          <p:cNvSpPr/>
          <p:nvPr/>
        </p:nvSpPr>
        <p:spPr>
          <a:xfrm>
            <a:off x="5389560" y="1682640"/>
            <a:ext cx="1057320" cy="349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23.1.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Group 28"/>
          <p:cNvGrpSpPr/>
          <p:nvPr/>
        </p:nvGrpSpPr>
        <p:grpSpPr>
          <a:xfrm>
            <a:off x="5389560" y="2324160"/>
            <a:ext cx="1057320" cy="350640"/>
            <a:chOff x="5389560" y="2324160"/>
            <a:chExt cx="1057320" cy="350640"/>
          </a:xfrm>
        </p:grpSpPr>
        <p:sp>
          <p:nvSpPr>
            <p:cNvPr id="418" name="AutoShape 29"/>
            <p:cNvSpPr/>
            <p:nvPr/>
          </p:nvSpPr>
          <p:spPr>
            <a:xfrm>
              <a:off x="5483880" y="2401920"/>
              <a:ext cx="902520" cy="18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AutoShape 30"/>
            <p:cNvSpPr/>
            <p:nvPr/>
          </p:nvSpPr>
          <p:spPr>
            <a:xfrm>
              <a:off x="5389560" y="2324160"/>
              <a:ext cx="1057320" cy="350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3.1.1.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AutoShape 31"/>
          <p:cNvSpPr/>
          <p:nvPr/>
        </p:nvSpPr>
        <p:spPr>
          <a:xfrm>
            <a:off x="5265720" y="3263760"/>
            <a:ext cx="1057320" cy="349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23.1.1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32"/>
          <p:cNvSpPr/>
          <p:nvPr/>
        </p:nvSpPr>
        <p:spPr>
          <a:xfrm>
            <a:off x="6122880" y="2592360"/>
            <a:ext cx="1057320" cy="349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23.1.1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33"/>
          <p:cNvSpPr/>
          <p:nvPr/>
        </p:nvSpPr>
        <p:spPr>
          <a:xfrm>
            <a:off x="7424640" y="2860560"/>
            <a:ext cx="1100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AutoShape 34"/>
          <p:cNvSpPr/>
          <p:nvPr/>
        </p:nvSpPr>
        <p:spPr>
          <a:xfrm>
            <a:off x="7288200" y="2583000"/>
            <a:ext cx="1057320" cy="349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23.1.2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35"/>
          <p:cNvSpPr/>
          <p:nvPr/>
        </p:nvSpPr>
        <p:spPr>
          <a:xfrm>
            <a:off x="8535960" y="2165400"/>
            <a:ext cx="0" cy="129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Picture 36" descr="image.pdf"/>
          <p:cNvPicPr/>
          <p:nvPr/>
        </p:nvPicPr>
        <p:blipFill>
          <a:blip r:embed="rId9"/>
          <a:stretch/>
        </p:blipFill>
        <p:spPr>
          <a:xfrm>
            <a:off x="8728200" y="1873080"/>
            <a:ext cx="633240" cy="463680"/>
          </a:xfrm>
          <a:prstGeom prst="rect">
            <a:avLst/>
          </a:prstGeom>
          <a:ln w="0">
            <a:noFill/>
          </a:ln>
        </p:spPr>
      </p:pic>
      <p:sp>
        <p:nvSpPr>
          <p:cNvPr id="426" name="Line 37"/>
          <p:cNvSpPr/>
          <p:nvPr/>
        </p:nvSpPr>
        <p:spPr>
          <a:xfrm>
            <a:off x="8535960" y="2168640"/>
            <a:ext cx="25416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Picture 38" descr="image.pdf"/>
          <p:cNvPicPr/>
          <p:nvPr/>
        </p:nvPicPr>
        <p:blipFill>
          <a:blip r:embed="rId10"/>
          <a:stretch/>
        </p:blipFill>
        <p:spPr>
          <a:xfrm>
            <a:off x="8732880" y="3254400"/>
            <a:ext cx="633240" cy="463680"/>
          </a:xfrm>
          <a:prstGeom prst="rect">
            <a:avLst/>
          </a:prstGeom>
          <a:ln w="0">
            <a:noFill/>
          </a:ln>
        </p:spPr>
      </p:pic>
      <p:sp>
        <p:nvSpPr>
          <p:cNvPr id="428" name="Line 39"/>
          <p:cNvSpPr/>
          <p:nvPr/>
        </p:nvSpPr>
        <p:spPr>
          <a:xfrm>
            <a:off x="8535960" y="3440160"/>
            <a:ext cx="25416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Group 40"/>
          <p:cNvGrpSpPr/>
          <p:nvPr/>
        </p:nvGrpSpPr>
        <p:grpSpPr>
          <a:xfrm>
            <a:off x="7788240" y="3100320"/>
            <a:ext cx="1057320" cy="351000"/>
            <a:chOff x="7788240" y="3100320"/>
            <a:chExt cx="1057320" cy="351000"/>
          </a:xfrm>
        </p:grpSpPr>
        <p:sp>
          <p:nvSpPr>
            <p:cNvPr id="430" name="AutoShape 41"/>
            <p:cNvSpPr/>
            <p:nvPr/>
          </p:nvSpPr>
          <p:spPr>
            <a:xfrm>
              <a:off x="7882920" y="3187800"/>
              <a:ext cx="919440" cy="18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AutoShape 42"/>
            <p:cNvSpPr/>
            <p:nvPr/>
          </p:nvSpPr>
          <p:spPr>
            <a:xfrm>
              <a:off x="7788240" y="3100320"/>
              <a:ext cx="1057320" cy="351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3.1.2.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Group 43"/>
          <p:cNvGrpSpPr/>
          <p:nvPr/>
        </p:nvGrpSpPr>
        <p:grpSpPr>
          <a:xfrm>
            <a:off x="7746840" y="2128680"/>
            <a:ext cx="1057320" cy="351000"/>
            <a:chOff x="7746840" y="2128680"/>
            <a:chExt cx="1057320" cy="351000"/>
          </a:xfrm>
        </p:grpSpPr>
        <p:sp>
          <p:nvSpPr>
            <p:cNvPr id="433" name="AutoShape 44"/>
            <p:cNvSpPr/>
            <p:nvPr/>
          </p:nvSpPr>
          <p:spPr>
            <a:xfrm>
              <a:off x="7841520" y="2216160"/>
              <a:ext cx="919440" cy="18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AutoShape 45"/>
            <p:cNvSpPr/>
            <p:nvPr/>
          </p:nvSpPr>
          <p:spPr>
            <a:xfrm>
              <a:off x="7746840" y="2128680"/>
              <a:ext cx="1057320" cy="351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3.1.2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Line 46"/>
          <p:cNvSpPr/>
          <p:nvPr/>
        </p:nvSpPr>
        <p:spPr>
          <a:xfrm>
            <a:off x="7167600" y="3198960"/>
            <a:ext cx="0" cy="129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47"/>
          <p:cNvSpPr/>
          <p:nvPr/>
        </p:nvSpPr>
        <p:spPr>
          <a:xfrm flipH="1">
            <a:off x="6507000" y="4479840"/>
            <a:ext cx="128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48"/>
          <p:cNvSpPr/>
          <p:nvPr/>
        </p:nvSpPr>
        <p:spPr>
          <a:xfrm flipH="1" flipV="1">
            <a:off x="6501960" y="4471920"/>
            <a:ext cx="3240" cy="239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49"/>
          <p:cNvSpPr/>
          <p:nvPr/>
        </p:nvSpPr>
        <p:spPr>
          <a:xfrm flipH="1" flipV="1">
            <a:off x="7778880" y="4476600"/>
            <a:ext cx="2880" cy="239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Picture 50" descr="image.pdf"/>
          <p:cNvPicPr/>
          <p:nvPr/>
        </p:nvPicPr>
        <p:blipFill>
          <a:blip r:embed="rId11"/>
          <a:stretch/>
        </p:blipFill>
        <p:spPr>
          <a:xfrm>
            <a:off x="7547040" y="4635360"/>
            <a:ext cx="631800" cy="4636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51" descr="image.pdf"/>
          <p:cNvPicPr/>
          <p:nvPr/>
        </p:nvPicPr>
        <p:blipFill>
          <a:blip r:embed="rId12"/>
          <a:stretch/>
        </p:blipFill>
        <p:spPr>
          <a:xfrm>
            <a:off x="6184800" y="4649760"/>
            <a:ext cx="631800" cy="463680"/>
          </a:xfrm>
          <a:prstGeom prst="rect">
            <a:avLst/>
          </a:prstGeom>
          <a:ln w="0">
            <a:noFill/>
          </a:ln>
        </p:spPr>
      </p:pic>
      <p:grpSp>
        <p:nvGrpSpPr>
          <p:cNvPr id="441" name="Group 52"/>
          <p:cNvGrpSpPr/>
          <p:nvPr/>
        </p:nvGrpSpPr>
        <p:grpSpPr>
          <a:xfrm>
            <a:off x="7746840" y="4352760"/>
            <a:ext cx="1057320" cy="351000"/>
            <a:chOff x="7746840" y="4352760"/>
            <a:chExt cx="1057320" cy="351000"/>
          </a:xfrm>
        </p:grpSpPr>
        <p:sp>
          <p:nvSpPr>
            <p:cNvPr id="442" name="AutoShape 53"/>
            <p:cNvSpPr/>
            <p:nvPr/>
          </p:nvSpPr>
          <p:spPr>
            <a:xfrm>
              <a:off x="7841520" y="4440240"/>
              <a:ext cx="919440" cy="18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AutoShape 54"/>
            <p:cNvSpPr/>
            <p:nvPr/>
          </p:nvSpPr>
          <p:spPr>
            <a:xfrm>
              <a:off x="7746840" y="4352760"/>
              <a:ext cx="1057320" cy="351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3.1.3.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Group 55"/>
          <p:cNvGrpSpPr/>
          <p:nvPr/>
        </p:nvGrpSpPr>
        <p:grpSpPr>
          <a:xfrm>
            <a:off x="5421240" y="4381560"/>
            <a:ext cx="1057320" cy="350640"/>
            <a:chOff x="5421240" y="4381560"/>
            <a:chExt cx="1057320" cy="350640"/>
          </a:xfrm>
        </p:grpSpPr>
        <p:sp>
          <p:nvSpPr>
            <p:cNvPr id="445" name="AutoShape 56"/>
            <p:cNvSpPr/>
            <p:nvPr/>
          </p:nvSpPr>
          <p:spPr>
            <a:xfrm>
              <a:off x="5515560" y="4468680"/>
              <a:ext cx="918000" cy="18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AutoShape 57"/>
            <p:cNvSpPr/>
            <p:nvPr/>
          </p:nvSpPr>
          <p:spPr>
            <a:xfrm>
              <a:off x="5421240" y="4381560"/>
              <a:ext cx="1057320" cy="350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3.1.3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Group 58"/>
          <p:cNvGrpSpPr/>
          <p:nvPr/>
        </p:nvGrpSpPr>
        <p:grpSpPr>
          <a:xfrm>
            <a:off x="6504120" y="3243240"/>
            <a:ext cx="1184040" cy="351000"/>
            <a:chOff x="6504120" y="3243240"/>
            <a:chExt cx="1184040" cy="351000"/>
          </a:xfrm>
        </p:grpSpPr>
        <p:sp>
          <p:nvSpPr>
            <p:cNvPr id="448" name="AutoShape 59"/>
            <p:cNvSpPr/>
            <p:nvPr/>
          </p:nvSpPr>
          <p:spPr>
            <a:xfrm>
              <a:off x="6598440" y="3330720"/>
              <a:ext cx="918000" cy="18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AutoShape 60"/>
            <p:cNvSpPr/>
            <p:nvPr/>
          </p:nvSpPr>
          <p:spPr>
            <a:xfrm>
              <a:off x="6504120" y="3243240"/>
              <a:ext cx="1184040" cy="351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3.1.3.2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AutoShape 61"/>
          <p:cNvSpPr/>
          <p:nvPr/>
        </p:nvSpPr>
        <p:spPr>
          <a:xfrm>
            <a:off x="4433760" y="5702400"/>
            <a:ext cx="5335560" cy="312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23.1.1.1 =  11011111  00000001  00000001  00000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AutoShape 62"/>
          <p:cNvSpPr/>
          <p:nvPr/>
        </p:nvSpPr>
        <p:spPr>
          <a:xfrm>
            <a:off x="5592600" y="5967360"/>
            <a:ext cx="966960" cy="921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AutoShape 63"/>
          <p:cNvSpPr/>
          <p:nvPr/>
        </p:nvSpPr>
        <p:spPr>
          <a:xfrm>
            <a:off x="6635880" y="5986440"/>
            <a:ext cx="965160" cy="795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AutoShape 64"/>
          <p:cNvSpPr/>
          <p:nvPr/>
        </p:nvSpPr>
        <p:spPr>
          <a:xfrm>
            <a:off x="7680240" y="5989680"/>
            <a:ext cx="943200" cy="792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65"/>
          <p:cNvSpPr/>
          <p:nvPr/>
        </p:nvSpPr>
        <p:spPr>
          <a:xfrm>
            <a:off x="8726400" y="5992920"/>
            <a:ext cx="943200" cy="792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AutoShape 66"/>
          <p:cNvSpPr/>
          <p:nvPr/>
        </p:nvSpPr>
        <p:spPr>
          <a:xfrm>
            <a:off x="5807160" y="6188040"/>
            <a:ext cx="484200" cy="349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AutoShape 67"/>
          <p:cNvSpPr/>
          <p:nvPr/>
        </p:nvSpPr>
        <p:spPr>
          <a:xfrm>
            <a:off x="6937200" y="5827680"/>
            <a:ext cx="230400" cy="349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AutoShape 68"/>
          <p:cNvSpPr/>
          <p:nvPr/>
        </p:nvSpPr>
        <p:spPr>
          <a:xfrm>
            <a:off x="9058320" y="5827680"/>
            <a:ext cx="230040" cy="349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AutoShape 69"/>
          <p:cNvSpPr/>
          <p:nvPr/>
        </p:nvSpPr>
        <p:spPr>
          <a:xfrm>
            <a:off x="7953480" y="5827680"/>
            <a:ext cx="230040" cy="349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71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DDFB-1D97-427F-9739-080E530E560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jla</dc:creator>
  <dc:description/>
  <dc:language>en-US</dc:language>
  <cp:lastModifiedBy>nouf</cp:lastModifiedBy>
  <dcterms:modified xsi:type="dcterms:W3CDTF">2014-11-12T04:58:56Z</dcterms:modified>
  <cp:revision>7</cp:revision>
  <dc:subject/>
  <dc:title>Wide Area Networks and Internet CT1403</dc:title>
</cp:coreProperties>
</file>