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gif" ContentType="image/gif"/>
  <Override PartName="/ppt/media/image14.png" ContentType="image/png"/>
  <Override PartName="/ppt/media/image9.gif" ContentType="image/gif"/>
  <Override PartName="/ppt/media/image17.png" ContentType="image/png"/>
  <Override PartName="/ppt/media/image8.gif" ContentType="image/gif"/>
  <Override PartName="/ppt/media/image15.jpeg" ContentType="image/jpeg"/>
  <Override PartName="/ppt/media/image7.jpeg" ContentType="image/jpeg"/>
  <Override PartName="/ppt/media/image18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13.gif" ContentType="image/gif"/>
  <Override PartName="/ppt/media/image16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1E18-4B94-47A5-ADEC-D45EFC02D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0CAE-C6E5-491A-85A4-06D05495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1F8C-F3B2-41C6-97C9-D224F0193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987F-728D-452D-942F-3DBCC94AA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5172-DAA5-4E09-9767-6BCF9D508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7437-5D8D-4141-ACB0-A6ABD5B5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49D4-475C-42A6-ACEC-807AF9AB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1DD6-2AC1-4799-8A63-D196DB9E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B04F-2022-4C22-817A-FA6FE1E5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7237-155E-42A4-824E-8C10CE75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6327-0FA2-477C-A757-2E4517ED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FEFB-8F9D-4D8C-9B04-63D01BD9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1456-CE37-4C36-ACA0-D96454EC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F686-BC9F-46F7-9B7F-D2CBC6DF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E108-145D-4894-B639-0FD1C8C7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B740-8CEC-4820-AA10-012ED798D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8E91-BAC2-42C1-AFF3-746B8A199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0A295-9927-4C89-8CEC-B656D620E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F0D9B-8322-4681-8FEB-38F5A7D6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9208B-B5B4-47E6-9662-85AF6EBF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702E3-69E8-4209-9B82-E647EE9F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75B7E-BB28-4F75-8F80-98E9B623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C9B1-BD9F-42C2-9983-FCFFD42C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E9FFB-E6CC-4071-9AE1-60586CF3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45FA4-7849-4F92-8AFA-1FA08C89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75978-23D6-4309-846F-AFC6A6DB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04B62-533E-4E57-BA20-74E82781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49C59-DF2E-4545-B264-D418E0F8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EDCDA-078F-49EA-810E-DC85732C0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92E21-068B-48BA-8BEE-7BCB5B0B4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86DAF-9EE7-4D77-A895-2490D0E66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0E180-D478-4A01-AC55-BF6E392C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AB5B4-E053-4AAF-BA50-74398DD0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CC18-BA60-4C0F-8F77-A0F3A103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DEDC0-5DB3-41A9-A6C8-0A553B8D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7F823-9CC2-4F91-B0AF-4C0E9AC9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30738-E26D-410A-92D9-010F9121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893BF-8CEC-4ED5-AEB1-D3450EF2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6B2E4-7D01-4CF9-8EF6-9B53ACA6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C2F13-EC83-4115-AEE4-6B11C7A8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5BD62-F772-410D-BC8A-0AC1477F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A53CE-4269-4D5E-837B-688B8FE56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6858C-7ACC-4166-AB3E-DFD3FABB7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5679-9290-46D9-A5CB-4F362DE6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F097-AAAF-42A5-A30D-85CF6E9A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6B1E-1D2E-401C-9AA6-E0AF2A5A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D8A9-F89F-4A1E-98DB-25D69055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C54A-761E-42BC-949C-289602D7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Constantia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13B3-D0BF-4B74-B771-3DA819492569}" type="slidenum">
              <a:rPr b="0" lang="ar-SA" sz="1200" spc="-1" strike="noStrike">
                <a:solidFill>
                  <a:srgbClr val="045c75"/>
                </a:solidFill>
                <a:latin typeface="Constantia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شكل حر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شكل حر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Constantia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F1C6-C2C9-4DB8-9B85-DD582AE2609C}" type="slidenum">
              <a:rPr b="0" lang="ar-SA" sz="1200" spc="-1" strike="noStrike">
                <a:solidFill>
                  <a:srgbClr val="d1eaee"/>
                </a:solidFill>
                <a:latin typeface="Constantia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شكل حر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شكل حر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شكل حر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Constantia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CDC2-2B1D-4755-B657-BF904F0C2134}" type="slidenum">
              <a:rPr b="0" lang="ar-SA" sz="1200" spc="-1" strike="noStrike">
                <a:solidFill>
                  <a:srgbClr val="d1eaee"/>
                </a:solidFill>
                <a:latin typeface="Constantia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مستطيل ذو زاوية واحدة مخدوشة ودائرية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مثلث قائم الزاوية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شكل حر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شكل حر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Constantia"/>
                <a:ea typeface="Majalla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  <a:ea typeface="Majalla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AB47-CAA6-4879-905B-8BDD5B2F7E08}" type="slidenum">
              <a:rPr b="0" lang="ar-SA" sz="1200" spc="-1" strike="noStrike">
                <a:solidFill>
                  <a:srgbClr val="045c75"/>
                </a:solidFill>
                <a:latin typeface="Constantia"/>
                <a:ea typeface="Majalla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عنوان 1" descr=""/>
          <p:cNvPicPr/>
          <p:nvPr/>
        </p:nvPicPr>
        <p:blipFill>
          <a:blip r:embed="rId2"/>
          <a:stretch/>
        </p:blipFill>
        <p:spPr>
          <a:xfrm>
            <a:off x="566640" y="1420920"/>
            <a:ext cx="830268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Constantia"/>
                <a:cs typeface="Arabic Typesetting"/>
              </a:rPr>
              <a:t>الكتابة الوظيفية هي نوع من الكتابة المتعلقة بالمعاملات والمتطلبات الإدارية والتقارير والبحوث العلمية وهي ضرورية في الحياة للمنافع العامة والخاصة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صورة 7" descr="5145438da.jpg"/>
          <p:cNvPicPr/>
          <p:nvPr/>
        </p:nvPicPr>
        <p:blipFill>
          <a:blip r:embed="rId3"/>
          <a:stretch/>
        </p:blipFill>
        <p:spPr>
          <a:xfrm>
            <a:off x="7715160" y="5572080"/>
            <a:ext cx="752400" cy="762120"/>
          </a:xfrm>
          <a:prstGeom prst="rect">
            <a:avLst/>
          </a:prstGeom>
          <a:ln w="0">
            <a:noFill/>
          </a:ln>
        </p:spPr>
      </p:pic>
      <p:pic>
        <p:nvPicPr>
          <p:cNvPr id="198" name="صورة 10" descr="alsalamen4ut8.gif"/>
          <p:cNvPicPr/>
          <p:nvPr/>
        </p:nvPicPr>
        <p:blipFill>
          <a:blip r:embed="rId4"/>
          <a:stretch/>
        </p:blipFill>
        <p:spPr>
          <a:xfrm>
            <a:off x="2928960" y="285840"/>
            <a:ext cx="31050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000" spc="-1" strike="noStrike">
                <a:solidFill>
                  <a:srgbClr val="990000"/>
                </a:solidFill>
                <a:latin typeface="Calibri"/>
              </a:rPr>
              <a:t>مجالات الرسالة الإدارية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07360" indent="-207360" algn="r" rtl="1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3300"/>
                </a:solidFill>
                <a:latin typeface="Constantia"/>
              </a:rPr>
              <a:t>التقدم </a:t>
            </a:r>
            <a:r>
              <a:rPr b="0" lang="ar-SA" sz="3200" spc="-1" strike="noStrike">
                <a:solidFill>
                  <a:srgbClr val="003300"/>
                </a:solidFill>
                <a:latin typeface="Constantia"/>
                <a:cs typeface="Arabic Typesetting"/>
              </a:rPr>
              <a:t>بطلب العمل في وظيفة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07360" indent="-207360" algn="r" rtl="1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00"/>
                </a:solidFill>
                <a:latin typeface="Constantia"/>
                <a:cs typeface="Arabic Typesetting"/>
              </a:rPr>
              <a:t>التقدم بشكوى معينة لجهة معينة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07360" indent="-207360" algn="r" rtl="1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00"/>
                </a:solidFill>
                <a:latin typeface="Constantia"/>
                <a:cs typeface="Arabic Typesetting"/>
              </a:rPr>
              <a:t>التقدم بطلب للفصل في قضية دينية أو دنيوية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07360" indent="-207360" algn="r" rtl="1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00"/>
                </a:solidFill>
                <a:latin typeface="Constantia"/>
                <a:cs typeface="Arabic Typesetting"/>
              </a:rPr>
              <a:t>رسالة لعرض مناقصة تجارية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07360" indent="-207360" algn="r" rtl="1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00"/>
                </a:solidFill>
                <a:latin typeface="Constantia"/>
                <a:cs typeface="Arabic Typesetting"/>
              </a:rPr>
              <a:t>رسالة لعرض بيع سلع معينة في جهة حكومية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07360" indent="-207360" algn="r" rtl="1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00"/>
                </a:solidFill>
                <a:latin typeface="Constantia"/>
                <a:cs typeface="Arabic Typesetting"/>
              </a:rPr>
              <a:t>ترسل رسالة إلى جهة مسئولة لطلب الزيارة إلى الجهة المرسلة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07360" indent="-207360" algn="r" rtl="1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00"/>
                </a:solidFill>
                <a:latin typeface="Constantia"/>
                <a:cs typeface="Arabic Typesetting"/>
              </a:rPr>
              <a:t>تستخدم الرسالة الإدارية في إعلام موظف بالتعيين أو الفصل أو الإنذار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07360" indent="-207360" algn="r" rtl="1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00"/>
                </a:solidFill>
                <a:latin typeface="Constantia"/>
                <a:cs typeface="Arabic Typesetting"/>
              </a:rPr>
              <a:t>إعلام المسؤولين بعقد اجتماع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28" name="نجمة مكونة من 12 نقطة 3"/>
          <p:cNvGrpSpPr/>
          <p:nvPr/>
        </p:nvGrpSpPr>
        <p:grpSpPr>
          <a:xfrm>
            <a:off x="566640" y="1036800"/>
            <a:ext cx="2712960" cy="2786040"/>
            <a:chOff x="566640" y="1036800"/>
            <a:chExt cx="2712960" cy="2786040"/>
          </a:xfrm>
        </p:grpSpPr>
        <p:pic>
          <p:nvPicPr>
            <p:cNvPr id="229" name="نجمة مكونة من 12 نقطة 3" descr=""/>
            <p:cNvPicPr/>
            <p:nvPr/>
          </p:nvPicPr>
          <p:blipFill>
            <a:blip r:embed="rId2"/>
            <a:stretch/>
          </p:blipFill>
          <p:spPr>
            <a:xfrm>
              <a:off x="566640" y="1036800"/>
              <a:ext cx="2712960" cy="27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1246320" y="1692360"/>
              <a:ext cx="1365120" cy="14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3300"/>
                </a:solidFill>
                <a:latin typeface="Calibri"/>
              </a:rPr>
              <a:t>* أهمية الرسالة الإدارية 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 algn="r" rtl="1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6600"/>
                </a:solidFill>
                <a:latin typeface="Constantia"/>
                <a:cs typeface="Arabic Typesetting"/>
              </a:rPr>
              <a:t>تتمثل أهمية الرسالة الإدارية في أنها أداة وثائقية منظمة يمكن تسجيلها وضبطها والرجوع أليها وقت الحاجة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r" rtl="1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6600"/>
                </a:solidFill>
                <a:latin typeface="Constantia"/>
                <a:cs typeface="Arabic Typesetting"/>
              </a:rPr>
              <a:t>أنها تعمل على ضبط العمل وتطويره ورفع كفائتة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r" rtl="1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6600"/>
                </a:solidFill>
                <a:latin typeface="Constantia"/>
                <a:cs typeface="Arabic Typesetting"/>
              </a:rPr>
              <a:t>تنسيق العمل التجاري بين المنظمة وعملائها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r" rtl="1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6600"/>
                </a:solidFill>
                <a:latin typeface="Constantia"/>
                <a:cs typeface="Arabic Typesetting"/>
              </a:rPr>
              <a:t>تسهل الاتصال بين القيادة المركزية لإدارة المنظمة وبين فروعها الداخلية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r" rtl="1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6600"/>
                </a:solidFill>
                <a:latin typeface="Constantia"/>
                <a:cs typeface="Arabic Typesetting"/>
              </a:rPr>
              <a:t>تذكر العاملين بما عليهم القيام به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r" rtl="1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6600"/>
                </a:solidFill>
                <a:latin typeface="Constantia"/>
                <a:cs typeface="Arabic Typesetting"/>
              </a:rPr>
              <a:t>يمكن نسخها وإرسالها إلى عدد كبير من الأفراد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صورة 3" descr="5145438da.jpg"/>
          <p:cNvPicPr/>
          <p:nvPr/>
        </p:nvPicPr>
        <p:blipFill>
          <a:blip r:embed="rId2"/>
          <a:stretch/>
        </p:blipFill>
        <p:spPr>
          <a:xfrm>
            <a:off x="928800" y="5715000"/>
            <a:ext cx="752400" cy="762120"/>
          </a:xfrm>
          <a:prstGeom prst="rect">
            <a:avLst/>
          </a:prstGeom>
          <a:ln w="0">
            <a:noFill/>
          </a:ln>
        </p:spPr>
      </p:pic>
      <p:pic>
        <p:nvPicPr>
          <p:cNvPr id="234" name="صورة 4" descr="5145438da.jpg"/>
          <p:cNvPicPr/>
          <p:nvPr/>
        </p:nvPicPr>
        <p:blipFill>
          <a:blip r:embed="rId3"/>
          <a:stretch/>
        </p:blipFill>
        <p:spPr>
          <a:xfrm>
            <a:off x="7643880" y="214200"/>
            <a:ext cx="752400" cy="762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66"/>
                </a:solidFill>
                <a:latin typeface="Calibri"/>
              </a:rPr>
              <a:t>*مهارات كتابة الرسالة الإدارية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 algn="r" rtl="1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  <a:cs typeface="Arabic Typesetting"/>
              </a:rPr>
              <a:t>أن تكون الرسالة مكتوبة بلغة عربية سليمة من الأخطاء الإملائية والنحوية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  <a:cs typeface="Arabic Typesetting"/>
              </a:rPr>
              <a:t>حسن اختيار الألفاظ المناسبة للمعاني دون تعقيد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  <a:cs typeface="Arabic Typesetting"/>
              </a:rPr>
              <a:t>الإبتعاد عن أساليب التبجيل أو التفخيم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  <a:cs typeface="Arabic Typesetting"/>
              </a:rPr>
              <a:t>مراعاة الأدب والذوق واللباقة عند كتابة الرسالة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  <a:cs typeface="Arabic Typesetting"/>
              </a:rPr>
              <a:t>مراعاة الألفاظ المتعارف عليها في الوسط الإداري مثل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  <a:ea typeface="Arabic Typesetting"/>
              </a:rPr>
              <a:t>(معالي،سعادة،السيد،السادة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  <a:cs typeface="Arabic Typesetting"/>
              </a:rPr>
              <a:t>إخراج الرسالة إخراجاً حسناً من حيث الشكل والتنظيم بوضع كل عنصر في مكانة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nstantia"/>
                <a:cs typeface="Arabic Typesetting"/>
              </a:rPr>
              <a:t>ترك هوامش (فراغات)للإفادة منها في تدوين تعليقات وإشارات وفي ترقيم الصفحات وكذلك في تنظيم الرسالة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37" name="شمس 3"/>
          <p:cNvGrpSpPr/>
          <p:nvPr/>
        </p:nvGrpSpPr>
        <p:grpSpPr>
          <a:xfrm>
            <a:off x="1212840" y="676440"/>
            <a:ext cx="1359000" cy="1145880"/>
            <a:chOff x="1212840" y="676440"/>
            <a:chExt cx="1359000" cy="1145880"/>
          </a:xfrm>
        </p:grpSpPr>
        <p:pic>
          <p:nvPicPr>
            <p:cNvPr id="238" name="شمس 3" descr=""/>
            <p:cNvPicPr/>
            <p:nvPr/>
          </p:nvPicPr>
          <p:blipFill>
            <a:blip r:embed="rId2"/>
            <a:stretch/>
          </p:blipFill>
          <p:spPr>
            <a:xfrm>
              <a:off x="1212840" y="676440"/>
              <a:ext cx="1359000" cy="114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1677960" y="1038240"/>
              <a:ext cx="43020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out" orient="vert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8000"/>
                </a:solidFill>
                <a:latin typeface="Calibri"/>
              </a:rPr>
              <a:t>*الأجزاء الرئيسية في الرسالة الإدارية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a50021"/>
                </a:solidFill>
                <a:latin typeface="Constantia"/>
                <a:cs typeface="Arabic Typesetting"/>
              </a:rPr>
              <a:t>البسمل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a50021"/>
                </a:solidFill>
                <a:latin typeface="Constantia"/>
                <a:cs typeface="Arabic Typesetting"/>
              </a:rPr>
              <a:t>التاريخ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a50021"/>
                </a:solidFill>
                <a:latin typeface="Constantia"/>
                <a:cs typeface="Arabic Typesetting"/>
              </a:rPr>
              <a:t>المرسل إلية ولقبة وعنوانه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a50021"/>
                </a:solidFill>
                <a:latin typeface="Constantia"/>
                <a:cs typeface="Arabic Typesetting"/>
              </a:rPr>
              <a:t>التحية الافتتاحي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a50021"/>
                </a:solidFill>
                <a:latin typeface="Constantia"/>
                <a:cs typeface="Arabic Typesetting"/>
              </a:rPr>
              <a:t>موضوع الرسالة 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nstantia"/>
                <a:ea typeface="Arabic Typesetting"/>
              </a:rPr>
              <a:t>                       </a:t>
            </a:r>
            <a:r>
              <a:rPr b="0" lang="en-US" sz="2000" spc="-1" strike="noStrike">
                <a:solidFill>
                  <a:srgbClr val="003366"/>
                </a:solidFill>
                <a:latin typeface="Constantia"/>
                <a:ea typeface="Arabic Typesetting"/>
              </a:rPr>
              <a:t>*مقدمة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nstantia"/>
                <a:ea typeface="Arabic Typesetting"/>
              </a:rPr>
              <a:t>                       *عرض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nstantia"/>
                <a:ea typeface="Arabic Typesetting"/>
              </a:rPr>
              <a:t>                       *خاتمه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a50021"/>
                </a:solidFill>
                <a:latin typeface="Constantia"/>
                <a:cs typeface="Arabic Typesetting"/>
              </a:rPr>
              <a:t>تحية الختام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a50021"/>
                </a:solidFill>
                <a:latin typeface="Constantia"/>
                <a:cs typeface="Arabic Typesetting"/>
              </a:rPr>
              <a:t>المرفقات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a50021"/>
                </a:solidFill>
                <a:latin typeface="Constantia"/>
                <a:cs typeface="Arabic Typesetting"/>
              </a:rPr>
              <a:t>كتابة الاسم والتوقي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a50021"/>
                </a:solidFill>
                <a:latin typeface="Constantia"/>
                <a:cs typeface="Arabic Typesetting"/>
              </a:rPr>
              <a:t>العنوان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a50021"/>
                </a:solidFill>
                <a:latin typeface="Constantia"/>
                <a:cs typeface="Arabic Typesetting"/>
              </a:rPr>
              <a:t>انظري الكتاب صــــــــ</a:t>
            </a:r>
            <a:r>
              <a:rPr b="0" lang="en-US" sz="2000" spc="-1" strike="noStrike">
                <a:solidFill>
                  <a:srgbClr val="a50021"/>
                </a:solidFill>
                <a:latin typeface="Constantia"/>
                <a:ea typeface="Arabic Typesetting"/>
              </a:rPr>
              <a:t>122</a:t>
            </a:r>
            <a:r>
              <a:rPr b="0" lang="en-US" sz="2000" spc="-1" strike="noStrike">
                <a:solidFill>
                  <a:srgbClr val="a50021"/>
                </a:solidFill>
                <a:latin typeface="Constantia"/>
                <a:ea typeface="Arabic Typesetting"/>
              </a:rPr>
              <a:t>_</a:t>
            </a:r>
            <a:r>
              <a:rPr b="0" lang="en-US" sz="2000" spc="-1" strike="noStrike">
                <a:solidFill>
                  <a:srgbClr val="a50021"/>
                </a:solidFill>
                <a:latin typeface="Constantia"/>
                <a:ea typeface="Arabic Typesetting"/>
              </a:rPr>
              <a:t>123</a:t>
            </a:r>
            <a:r>
              <a:rPr b="0" lang="hi-IN" sz="2000" spc="-1" strike="noStrike">
                <a:solidFill>
                  <a:srgbClr val="a50021"/>
                </a:solidFill>
                <a:latin typeface="Constantia"/>
                <a:cs typeface="Arabic Typesetting"/>
              </a:rPr>
              <a:t>ـــــــــــــــ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a50021"/>
                </a:solidFill>
                <a:latin typeface="Constantia"/>
                <a:cs typeface="Arabic Typesetting"/>
              </a:rPr>
              <a:t>نموذج لشكل الرسالة الإدارية  صــــــــــــــــــ</a:t>
            </a:r>
            <a:r>
              <a:rPr b="0" lang="en-US" sz="2000" spc="-1" strike="noStrike">
                <a:solidFill>
                  <a:srgbClr val="a50021"/>
                </a:solidFill>
                <a:latin typeface="Constantia"/>
                <a:ea typeface="Arabic Typesetting"/>
              </a:rPr>
              <a:t>124</a:t>
            </a:r>
            <a:r>
              <a:rPr b="0" lang="hi-IN" sz="2000" spc="-1" strike="noStrike">
                <a:solidFill>
                  <a:srgbClr val="a50021"/>
                </a:solidFill>
                <a:latin typeface="Constantia"/>
                <a:cs typeface="Arabic Typesetting"/>
              </a:rPr>
              <a:t>ــــــــــــــــ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2" name="صورة 16" descr="a325b7378e.gif"/>
          <p:cNvPicPr/>
          <p:nvPr/>
        </p:nvPicPr>
        <p:blipFill>
          <a:blip r:embed="rId2"/>
          <a:stretch/>
        </p:blipFill>
        <p:spPr>
          <a:xfrm>
            <a:off x="214200" y="4000680"/>
            <a:ext cx="4572000" cy="9522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2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2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2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2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3300"/>
                </a:solidFill>
                <a:latin typeface="Arial"/>
                <a:cs typeface="Arial"/>
              </a:rPr>
              <a:t>طالباتي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3300"/>
                </a:solidFill>
                <a:latin typeface="Arial"/>
                <a:cs typeface="Arial"/>
              </a:rPr>
              <a:t>انتهت المحاضرةـ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3300"/>
                </a:solidFill>
                <a:latin typeface="Arial"/>
                <a:cs typeface="Arial"/>
              </a:rPr>
              <a:t>كل الدعوات للجميع بالتوفي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&amp;&amp;&amp;&amp;&amp;&amp;&amp;&amp;&amp;&amp;&amp;&amp;&amp;&amp;&amp;&amp;&amp;&amp;&amp;&amp;&amp;&amp;&amp;&amp;&amp;&amp;&amp;&amp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3300"/>
                </a:solidFill>
                <a:latin typeface="Arial"/>
                <a:cs typeface="Arial"/>
              </a:rPr>
              <a:t>شاكرهـ من القلب لكن طالباتي العزيزات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3300"/>
                </a:solidFill>
                <a:latin typeface="Arial"/>
                <a:cs typeface="Arial"/>
              </a:rPr>
              <a:t>وعلى الخير نلتقي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3300"/>
                </a:solidFill>
                <a:latin typeface="Arial"/>
                <a:cs typeface="Arial"/>
              </a:rPr>
              <a:t>أ- نـــــــــــــوف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9" dur="20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1" dur="2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4" dur="2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7" dur="2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8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9" dur="20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2" dur="20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5" dur="20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* الخصائص العامة للكتابة الوظيفية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r" rtl="1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cc"/>
                </a:solidFill>
                <a:latin typeface="Constantia"/>
                <a:cs typeface="Arabic Typesetting"/>
              </a:rPr>
              <a:t>أسلوبها علمي خال من العبارات الموحية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r" rtl="1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cc"/>
                </a:solidFill>
                <a:latin typeface="Constantia"/>
                <a:cs typeface="Arabic Typesetting"/>
              </a:rPr>
              <a:t>دلالات ألفاظها قاطعة لا تحتمل التأويل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r" rtl="1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cc"/>
                </a:solidFill>
                <a:latin typeface="Constantia"/>
                <a:cs typeface="Arabic Typesetting"/>
              </a:rPr>
              <a:t>لا تستلزم مهارة خاصة أو موهبة معينة من كاتبها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r" rtl="1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cc"/>
                </a:solidFill>
                <a:latin typeface="Constantia"/>
                <a:cs typeface="Arabic Typesetting"/>
              </a:rPr>
              <a:t>يحتاج بعضها إلى قدر من التأثير والإقناع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r" rtl="1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cc"/>
                </a:solidFill>
                <a:latin typeface="Constantia"/>
                <a:cs typeface="Arabic Typesetting"/>
              </a:rPr>
              <a:t>يعتمد بعضها على الأدلة والبراهين التي تقنع القارئ بصحبة الرأي المعروض في الموضوع المكتوب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  <a:ea typeface="Arabic Typesetting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صورة 8" descr="88033eb9a1.gif"/>
          <p:cNvPicPr/>
          <p:nvPr/>
        </p:nvPicPr>
        <p:blipFill>
          <a:blip r:embed="rId2"/>
          <a:stretch/>
        </p:blipFill>
        <p:spPr>
          <a:xfrm>
            <a:off x="2214720" y="5715000"/>
            <a:ext cx="4457520" cy="571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عنوان 3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8302680" cy="1901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Constantia"/>
                <a:cs typeface="Arabic Typesetting"/>
              </a:rPr>
              <a:t>للكتابة الوظيفية مجالات متعددة منها: التلخيص_التقرير_الرسائل_البحوث العلمية وملء الاستمارات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Constantia"/>
                <a:cs typeface="Arabic Typesetting"/>
              </a:rPr>
              <a:t>سنقتصر في دراستنا على مجالين من هذه المجالات وهما التلخيص والرسائل الإدارية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صورة 6" descr="a325b7378e.gif"/>
          <p:cNvPicPr/>
          <p:nvPr/>
        </p:nvPicPr>
        <p:blipFill>
          <a:blip r:embed="rId3"/>
          <a:stretch/>
        </p:blipFill>
        <p:spPr>
          <a:xfrm>
            <a:off x="2286000" y="5905440"/>
            <a:ext cx="4572000" cy="95256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عنوان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72428"/>
                </a:solidFill>
                <a:latin typeface="Constantia"/>
                <a:cs typeface="Arabic Typesetting"/>
              </a:rPr>
              <a:t>التلخيص: هو إبراز النص الأصلي في عدد قليل من الكلمات مع الحفاظ على صلب أو مضمون النص المكتوب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2428"/>
                </a:solidFill>
                <a:latin typeface="Constantia"/>
                <a:ea typeface="Arabic Typesetting"/>
              </a:rPr>
              <a:t>*عمل التلخيص لا يكون بطريقة عشوائية بل يتم عمله تدريجيا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7" name="صورة 4" descr="f8b0b258c4.gif"/>
          <p:cNvPicPr/>
          <p:nvPr/>
        </p:nvPicPr>
        <p:blipFill>
          <a:blip r:embed="rId3"/>
          <a:stretch/>
        </p:blipFill>
        <p:spPr>
          <a:xfrm>
            <a:off x="2627280" y="5791320"/>
            <a:ext cx="4029120" cy="1066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عنوان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8302680" cy="190188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539640" y="3212640"/>
            <a:ext cx="78552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514440" indent="-514440" algn="r" rtl="1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Constantia"/>
                <a:cs typeface="Arabic Typesetting"/>
              </a:rPr>
              <a:t>يحدد الهدف من التلخيص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 algn="r" rtl="1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Constantia"/>
                <a:cs typeface="Arabic Typesetting"/>
              </a:rPr>
              <a:t>دقة الملاحظة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 algn="r" rtl="1"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Constantia"/>
                <a:cs typeface="Arabic Typesetting"/>
              </a:rPr>
              <a:t>الاستيعاب الدقيق للمضمون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0" name="صورة 4" descr="24bca071b7.jpg"/>
          <p:cNvPicPr/>
          <p:nvPr/>
        </p:nvPicPr>
        <p:blipFill>
          <a:blip r:embed="rId3"/>
          <a:stretch/>
        </p:blipFill>
        <p:spPr>
          <a:xfrm>
            <a:off x="2714760" y="5867280"/>
            <a:ext cx="4000320" cy="9907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000" spc="-1" strike="noStrike">
                <a:solidFill>
                  <a:srgbClr val="006600"/>
                </a:solidFill>
                <a:latin typeface="Calibri"/>
              </a:rPr>
              <a:t>أهمية التلخيص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r" rtl="1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Constantia"/>
              </a:rPr>
              <a:t>(</a:t>
            </a:r>
            <a:r>
              <a:rPr b="0" lang="en-US" sz="3200" spc="-1" strike="noStrike">
                <a:solidFill>
                  <a:srgbClr val="003300"/>
                </a:solidFill>
                <a:latin typeface="Constantia"/>
                <a:ea typeface="Arabic Typesetting"/>
              </a:rPr>
              <a:t>1</a:t>
            </a:r>
            <a:r>
              <a:rPr b="0" lang="en-US" sz="3200" spc="-1" strike="noStrike">
                <a:solidFill>
                  <a:srgbClr val="003300"/>
                </a:solidFill>
                <a:latin typeface="Constantia"/>
                <a:ea typeface="Arabic Typesetting"/>
              </a:rPr>
              <a:t>) يساعد التلخيص الطالب في تسجيل ملاحظاته في المحاضرات واستيعاب ما يقرأ في المصادر والمراجع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r" rtl="1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onstantia"/>
                <a:ea typeface="Arabic Typesetting"/>
              </a:rPr>
              <a:t>(</a:t>
            </a:r>
            <a:r>
              <a:rPr b="0" lang="en-US" sz="3200" spc="-1" strike="noStrike">
                <a:solidFill>
                  <a:srgbClr val="003300"/>
                </a:solidFill>
                <a:latin typeface="Constantia"/>
                <a:ea typeface="Arabic Typesetting"/>
              </a:rPr>
              <a:t>2</a:t>
            </a:r>
            <a:r>
              <a:rPr b="0" lang="en-US" sz="3200" spc="-1" strike="noStrike">
                <a:solidFill>
                  <a:srgbClr val="003300"/>
                </a:solidFill>
                <a:latin typeface="Constantia"/>
                <a:ea typeface="Arabic Typesetting"/>
              </a:rPr>
              <a:t>)يوفر التلخيص الوقت والجهد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r" rtl="1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onstantia"/>
                <a:ea typeface="Arabic Typesetting"/>
              </a:rPr>
              <a:t>(</a:t>
            </a:r>
            <a:r>
              <a:rPr b="0" lang="en-US" sz="3200" spc="-1" strike="noStrike">
                <a:solidFill>
                  <a:srgbClr val="003300"/>
                </a:solidFill>
                <a:latin typeface="Constantia"/>
                <a:ea typeface="Arabic Typesetting"/>
              </a:rPr>
              <a:t>3</a:t>
            </a:r>
            <a:r>
              <a:rPr b="0" lang="en-US" sz="3200" spc="-1" strike="noStrike">
                <a:solidFill>
                  <a:srgbClr val="003300"/>
                </a:solidFill>
                <a:latin typeface="Constantia"/>
                <a:ea typeface="Arabic Typesetting"/>
              </a:rPr>
              <a:t>)يعتبر التلخيص تدريب عملي على الكتابة وتطوير لمهاراتها لدى الملخص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r" rtl="1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onstantia"/>
                <a:ea typeface="Arabic Typesetting"/>
              </a:rPr>
              <a:t>(</a:t>
            </a:r>
            <a:r>
              <a:rPr b="0" lang="en-US" sz="3200" spc="-1" strike="noStrike">
                <a:solidFill>
                  <a:srgbClr val="003300"/>
                </a:solidFill>
                <a:latin typeface="Constantia"/>
                <a:ea typeface="Arabic Typesetting"/>
              </a:rPr>
              <a:t>4</a:t>
            </a:r>
            <a:r>
              <a:rPr b="0" lang="en-US" sz="3200" spc="-1" strike="noStrike">
                <a:solidFill>
                  <a:srgbClr val="003300"/>
                </a:solidFill>
                <a:latin typeface="Constantia"/>
                <a:ea typeface="Arabic Typesetting"/>
              </a:rPr>
              <a:t>)يعود القارئ على الاستيعاب والتركيز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 algn="r" rtl="1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onstantia"/>
                <a:ea typeface="Arabic Typesetting"/>
              </a:rPr>
              <a:t>(</a:t>
            </a:r>
            <a:r>
              <a:rPr b="0" lang="en-US" sz="3200" spc="-1" strike="noStrike">
                <a:solidFill>
                  <a:srgbClr val="003300"/>
                </a:solidFill>
                <a:latin typeface="Constantia"/>
                <a:ea typeface="Arabic Typesetting"/>
              </a:rPr>
              <a:t>5</a:t>
            </a:r>
            <a:r>
              <a:rPr b="0" lang="en-US" sz="3200" spc="-1" strike="noStrike">
                <a:solidFill>
                  <a:srgbClr val="003300"/>
                </a:solidFill>
                <a:latin typeface="Constantia"/>
                <a:ea typeface="Arabic Typesetting"/>
              </a:rPr>
              <a:t>)يمكن الكاتب من الإفادة من كل ما جمعة من معلومات وعرضها بشكل منسق ومنظم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صورة 6" descr="5145438da.jpg"/>
          <p:cNvPicPr/>
          <p:nvPr/>
        </p:nvPicPr>
        <p:blipFill>
          <a:blip r:embed="rId2"/>
          <a:stretch/>
        </p:blipFill>
        <p:spPr>
          <a:xfrm>
            <a:off x="7572240" y="214200"/>
            <a:ext cx="752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000" spc="-1" strike="noStrike">
                <a:solidFill>
                  <a:srgbClr val="a50021"/>
                </a:solidFill>
                <a:latin typeface="Calibri"/>
              </a:rPr>
              <a:t>خطوات عملية التلخيص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 algn="r" rtl="1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Constantia"/>
                <a:cs typeface="Arabic Typesetting"/>
              </a:rPr>
              <a:t>فعند تلخيص نصاً فلا بد من إتباع عدة خطوات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nstantia"/>
                <a:ea typeface="Arabic Typesetting"/>
              </a:rPr>
              <a:t>(</a:t>
            </a:r>
            <a:r>
              <a:rPr b="0" lang="en-US" sz="2400" spc="-1" strike="noStrike">
                <a:solidFill>
                  <a:srgbClr val="660033"/>
                </a:solidFill>
                <a:latin typeface="Constantia"/>
                <a:ea typeface="Arabic Typesetting"/>
              </a:rPr>
              <a:t>1</a:t>
            </a:r>
            <a:r>
              <a:rPr b="0" lang="en-US" sz="2400" spc="-1" strike="noStrike">
                <a:solidFill>
                  <a:srgbClr val="660033"/>
                </a:solidFill>
                <a:latin typeface="Constantia"/>
                <a:ea typeface="Arabic Typesetting"/>
              </a:rPr>
              <a:t>) قراءة النص المكتوب تلخيصه قراءة مركزة بهدف استيعابه والإحاطة بكل جزئياته ومحاولة إدراك الأفكار الرئيسية في الن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nstantia"/>
                <a:ea typeface="Arabic Typesetting"/>
              </a:rPr>
              <a:t>(</a:t>
            </a:r>
            <a:r>
              <a:rPr b="0" lang="en-US" sz="2400" spc="-1" strike="noStrike">
                <a:solidFill>
                  <a:srgbClr val="660033"/>
                </a:solidFill>
                <a:latin typeface="Constantia"/>
                <a:ea typeface="Arabic Typesetting"/>
              </a:rPr>
              <a:t>2</a:t>
            </a:r>
            <a:r>
              <a:rPr b="0" lang="en-US" sz="2400" spc="-1" strike="noStrike">
                <a:solidFill>
                  <a:srgbClr val="660033"/>
                </a:solidFill>
                <a:latin typeface="Constantia"/>
                <a:ea typeface="Arabic Typesetting"/>
              </a:rPr>
              <a:t>) محاولة التمييز بين ما هو أساسي وما هو ثانوي من الأفكار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nstantia"/>
                <a:ea typeface="Arabic Typesetting"/>
              </a:rPr>
              <a:t>(</a:t>
            </a:r>
            <a:r>
              <a:rPr b="0" lang="en-US" sz="2400" spc="-1" strike="noStrike">
                <a:solidFill>
                  <a:srgbClr val="660033"/>
                </a:solidFill>
                <a:latin typeface="Constantia"/>
                <a:ea typeface="Arabic Typesetting"/>
              </a:rPr>
              <a:t>3</a:t>
            </a:r>
            <a:r>
              <a:rPr b="0" lang="en-US" sz="2400" spc="-1" strike="noStrike">
                <a:solidFill>
                  <a:srgbClr val="660033"/>
                </a:solidFill>
                <a:latin typeface="Constantia"/>
                <a:ea typeface="Arabic Typesetting"/>
              </a:rPr>
              <a:t>) البدء بكتابة جمل قصيرة بعباراتك الخاصة تتضمن الأفكار الرئيسية في الن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nstantia"/>
                <a:ea typeface="Arabic Typesetting"/>
              </a:rPr>
              <a:t>(</a:t>
            </a:r>
            <a:r>
              <a:rPr b="0" lang="en-US" sz="2400" spc="-1" strike="noStrike">
                <a:solidFill>
                  <a:srgbClr val="660033"/>
                </a:solidFill>
                <a:latin typeface="Constantia"/>
                <a:ea typeface="Arabic Typesetting"/>
              </a:rPr>
              <a:t>4</a:t>
            </a:r>
            <a:r>
              <a:rPr b="0" lang="en-US" sz="2400" spc="-1" strike="noStrike">
                <a:solidFill>
                  <a:srgbClr val="660033"/>
                </a:solidFill>
                <a:latin typeface="Constantia"/>
                <a:ea typeface="Arabic Typesetting"/>
              </a:rPr>
              <a:t>) البدء بالتلخيص معتمدة في ذلك على مهاراتك وأسلوبك الخاص وأن يتضمن التلخيص ثلاث فقرات على الأقل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6600"/>
                </a:solidFill>
                <a:latin typeface="Constantia"/>
                <a:cs typeface="Arabic Typesetting"/>
              </a:rPr>
              <a:t>الفقرة الأولى –تمثل مقدمة التلخيص وتحديد الهدف منه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6600"/>
                </a:solidFill>
                <a:latin typeface="Constantia"/>
                <a:cs typeface="Arabic Typesetting"/>
              </a:rPr>
              <a:t>الفقرة الثانية_تمثل صلب الموضوع فتتضمن أفكاره الأساسية وجزئياته المهمة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r" rtl="1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6600"/>
                </a:solidFill>
                <a:latin typeface="Constantia"/>
                <a:cs typeface="Arabic Typesetting"/>
              </a:rPr>
              <a:t>الفقرة الثالثة وتكون الخاتمة أي خلاصة الموضو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صورة 3" descr="5145438da.jpg"/>
          <p:cNvPicPr/>
          <p:nvPr/>
        </p:nvPicPr>
        <p:blipFill>
          <a:blip r:embed="rId2"/>
          <a:stretch/>
        </p:blipFill>
        <p:spPr>
          <a:xfrm>
            <a:off x="7286760" y="285840"/>
            <a:ext cx="752400" cy="761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 algn="r" rtl="1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nstantia"/>
                <a:ea typeface="Arabic Typesetting"/>
              </a:rPr>
              <a:t>(</a:t>
            </a:r>
            <a:r>
              <a:rPr b="0" lang="ar-SA" sz="3200" spc="-1" strike="noStrike">
                <a:solidFill>
                  <a:srgbClr val="000000"/>
                </a:solidFill>
                <a:latin typeface="Constantia"/>
                <a:ea typeface="Arabic Typesetting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Constantia"/>
                <a:ea typeface="Arabic Typesetting"/>
              </a:rPr>
              <a:t>)مراجعة الملخص مراجعة دقيقة ثم التأكد من صحة الكتابة إملاءً ونحواً وأسلوباً وكذلك استخدام علامات الترقيم المناسبة في التلخيص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nstantia"/>
                <a:ea typeface="Arabic Typesetting"/>
              </a:rPr>
              <a:t>(</a:t>
            </a:r>
            <a:r>
              <a:rPr b="0" lang="ar-SA" sz="3200" spc="-1" strike="noStrike">
                <a:solidFill>
                  <a:srgbClr val="000000"/>
                </a:solidFill>
                <a:latin typeface="Constantia"/>
                <a:ea typeface="Arabic Typesetting"/>
              </a:rPr>
              <a:t>6</a:t>
            </a:r>
            <a:r>
              <a:rPr b="0" lang="ar-SA" sz="3200" spc="-1" strike="noStrike">
                <a:solidFill>
                  <a:srgbClr val="000000"/>
                </a:solidFill>
                <a:latin typeface="Constantia"/>
                <a:ea typeface="Arabic Typesetting"/>
              </a:rPr>
              <a:t>)التأكد من أن عدد كلمات التلخيص يكون ربع عدد كلمات النص الأصلي أو أكثر بقليل المهم أن يكون التلخيص واضح المعنى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nstantia"/>
                <a:ea typeface="Arabic Typesetting"/>
              </a:rPr>
              <a:t>(</a:t>
            </a:r>
            <a:r>
              <a:rPr b="0" lang="ar-SA" sz="3200" spc="-1" strike="noStrike">
                <a:solidFill>
                  <a:srgbClr val="000000"/>
                </a:solidFill>
                <a:latin typeface="Constantia"/>
                <a:ea typeface="Arabic Typesetting"/>
              </a:rPr>
              <a:t>7</a:t>
            </a:r>
            <a:r>
              <a:rPr b="0" lang="ar-SA" sz="3200" spc="-1" strike="noStrike">
                <a:solidFill>
                  <a:srgbClr val="000000"/>
                </a:solidFill>
                <a:latin typeface="Constantia"/>
                <a:ea typeface="Arabic Typesetting"/>
              </a:rPr>
              <a:t>)أخر خطوه من خطوات التلخيص وهو وضع عنوان مناسب للتلخيص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nstantia"/>
                <a:cs typeface="Arabic Typesetting"/>
              </a:rPr>
              <a:t>نموذج للتلخيص .........انظري الكتاب صــــ </a:t>
            </a:r>
            <a:r>
              <a:rPr b="0" lang="ar-SA" sz="3200" spc="-1" strike="noStrike">
                <a:solidFill>
                  <a:srgbClr val="000000"/>
                </a:solidFill>
                <a:latin typeface="Constantia"/>
                <a:ea typeface="Arabic Typesetting"/>
              </a:rPr>
              <a:t>117</a:t>
            </a:r>
            <a:r>
              <a:rPr b="0" lang="ar-SA" sz="3200" spc="-1" strike="noStrike">
                <a:solidFill>
                  <a:srgbClr val="000000"/>
                </a:solidFill>
                <a:latin typeface="Constantia"/>
                <a:cs typeface="Arabic Typesetting"/>
              </a:rPr>
              <a:t>ـــــ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صورة 3" descr="f8b0b258c4.gif"/>
          <p:cNvPicPr/>
          <p:nvPr/>
        </p:nvPicPr>
        <p:blipFill>
          <a:blip r:embed="rId2"/>
          <a:stretch/>
        </p:blipFill>
        <p:spPr>
          <a:xfrm>
            <a:off x="2714760" y="0"/>
            <a:ext cx="4029120" cy="10666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عنوان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8302680" cy="19018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Constantia"/>
                <a:cs typeface="Arabic Typesetting"/>
              </a:rPr>
              <a:t>الرسالة الإدارية هي أداة اتصال رسمية مكتوبة بغرض التنسيق بين المرسل والمرسل إليه بهدف تأمين مصالح الإدارات الحكومية أو المؤسسات التجارية وعملائها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انفجار 1 3"/>
          <p:cNvSpPr/>
          <p:nvPr/>
        </p:nvSpPr>
        <p:spPr>
          <a:xfrm>
            <a:off x="1143000" y="1285920"/>
            <a:ext cx="1428840" cy="857160"/>
          </a:xfrm>
          <a:prstGeom prst="irregularSeal1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انفجار 1 4"/>
          <p:cNvSpPr/>
          <p:nvPr/>
        </p:nvSpPr>
        <p:spPr>
          <a:xfrm>
            <a:off x="7215120" y="1285920"/>
            <a:ext cx="1214640" cy="785880"/>
          </a:xfrm>
          <a:prstGeom prst="irregularSeal1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انفجار 1 5"/>
          <p:cNvSpPr/>
          <p:nvPr/>
        </p:nvSpPr>
        <p:spPr>
          <a:xfrm>
            <a:off x="6357960" y="5429160"/>
            <a:ext cx="1928880" cy="714600"/>
          </a:xfrm>
          <a:prstGeom prst="irregularSeal1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انفجار 1 6"/>
          <p:cNvSpPr/>
          <p:nvPr/>
        </p:nvSpPr>
        <p:spPr>
          <a:xfrm>
            <a:off x="1000080" y="5500800"/>
            <a:ext cx="1357200" cy="857160"/>
          </a:xfrm>
          <a:prstGeom prst="irregularSeal1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22:11:15Z</dcterms:created>
  <dc:creator>ABC</dc:creator>
  <dc:description/>
  <dc:language>en-US</dc:language>
  <cp:lastModifiedBy>sada</cp:lastModifiedBy>
  <dcterms:modified xsi:type="dcterms:W3CDTF">2009-01-02T19:24:44Z</dcterms:modified>
  <cp:revision>17</cp:revision>
  <dc:subject/>
  <dc:title>الكتابة الوظيفية</dc:title>
</cp:coreProperties>
</file>