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4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597-11C3-4A65-AB92-E7551DE3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2F1-0B90-46A3-A791-1FC546FC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7C4-1095-4E8E-8E23-D34B38D4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71B-0357-474D-AF08-6114DBA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C3D-295F-4A97-9296-F3BE43A7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BB72-B822-4154-8408-2CE58D0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F76D-168A-4833-BCE1-87CD3853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BA3E-AFC3-4F9D-8CC5-29AB5CE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35A4-1D2D-49CE-BC5F-7F346AF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299-C83A-4CE1-9C9F-19066F8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326-E8F1-4CEA-9C8D-604D9C3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539-19F8-4A80-A6C0-9D211ED2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1F63-F273-41D0-9962-9A6896A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7D3E-9142-4A65-88D6-2400775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1EC-CD7D-4244-93E4-5F3E9094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7DC4-2240-4132-93A0-45B4F000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E427-55F6-440A-8A3A-617FC915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30AA-0089-465F-BB91-9456B50D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DCCEC-ADFA-4762-A067-01A4F76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7375-BF5B-4E66-8596-8845AB14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BEA2-268A-4906-A76A-9B99E184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A98A-AC19-432B-B90C-1DDB4B9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8B6-C60B-4E5F-9301-AED49036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E8A9C-2D93-4ECC-A514-E6EC3F5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CA11-65D9-4B7D-AA67-C05E14C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4619-E0F4-4BAB-B790-B492134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AAA6-6E25-44ED-83E2-EBE3962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CB13-2C11-40FF-A6C0-0C664D4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2C67-35FE-419F-8DEA-8A9AD925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D3D4-476A-42B5-B7B2-96BCD51C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E5C2-78F4-4424-9DC4-098F3D70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587A-CA6F-4107-9EAC-DFF8DFD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60FE-8F74-4EAD-A429-6ED69927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276-D4DD-45D7-BC9D-A6663876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D54B-C626-4148-96F3-ECEE85F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B720-0CA2-4CF7-8A79-E6BB909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E04D-6FE1-4C6A-A3AB-6BBFB5EA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A6DE9-6750-4468-9687-D879ED9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A374-D1E7-49F3-B1EF-3224D97A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D07F-3563-4BB6-8E89-AFC8B82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47D6-D480-437D-864E-054F680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DF70-B894-45B1-93B6-B0E33A02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37DE-600E-4122-A832-7A5CB7AF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5BA-24DA-4F60-A679-3098240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6A3-6375-4D1F-86B8-60C73F18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CE2-4FB1-465B-BCA1-4608EEC6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6E4-31DC-4876-8C6A-DC7545C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C7A-C6AF-43CB-8788-3E7FC4D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4FA2-2DEB-42B6-8E7B-4A80FA8A63E8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1AF-BAE5-4215-8503-BE9E8B8515D7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98FD-505C-49A5-83B9-0985104D3930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119A-A785-42B9-AB3F-06A608076433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566640" y="14209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كتابة الوظيفية هي نوع من الكتابة المتعلقة بالمعاملات والمتطلبات الإدارية والتقارير والبحوث العلمية وهي ضرورية في الحياة للمنافع العامة والخاص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صورة 7" descr="5145438da.jpg"/>
          <p:cNvPicPr/>
          <p:nvPr/>
        </p:nvPicPr>
        <p:blipFill>
          <a:blip r:embed="rId3"/>
          <a:stretch/>
        </p:blipFill>
        <p:spPr>
          <a:xfrm>
            <a:off x="7715160" y="5572080"/>
            <a:ext cx="75240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صورة 10" descr="alsalamen4ut8.gif"/>
          <p:cNvPicPr/>
          <p:nvPr/>
        </p:nvPicPr>
        <p:blipFill>
          <a:blip r:embed="rId4"/>
          <a:stretch/>
        </p:blipFill>
        <p:spPr>
          <a:xfrm>
            <a:off x="2928960" y="285840"/>
            <a:ext cx="310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990000"/>
                </a:solidFill>
                <a:latin typeface="Calibri"/>
              </a:rPr>
              <a:t>مجالات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3300"/>
                </a:solidFill>
                <a:latin typeface="Constantia"/>
              </a:rPr>
              <a:t>التقدم </a:t>
            </a: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بطلب العمل في وظيف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التقدم بشكوى معينة لجهة معين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التقدم بطلب للفصل في قضية دينية أو دنيو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رسالة لعرض مناقصة تجار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رسالة لعرض بيع سلع معينة في جهة حكومي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ترسل رسالة إلى جهة مسئولة لطلب الزيارة إلى الجهة المرسل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تستخدم الرسالة الإدارية في إعلام موظف بالتعيين أو الفصل أو الإنذار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إعلام المسؤولين بعقد اجتما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8" name="نجمة مكونة من 12 نقطة 3"/>
          <p:cNvGrpSpPr/>
          <p:nvPr/>
        </p:nvGrpSpPr>
        <p:grpSpPr>
          <a:xfrm>
            <a:off x="566640" y="1036800"/>
            <a:ext cx="2712960" cy="2786040"/>
            <a:chOff x="566640" y="1036800"/>
            <a:chExt cx="2712960" cy="2786040"/>
          </a:xfrm>
        </p:grpSpPr>
        <p:pic>
          <p:nvPicPr>
            <p:cNvPr id="229" name="نجمة مكونة من 12 نقطة 3" descr=""/>
            <p:cNvPicPr/>
            <p:nvPr/>
          </p:nvPicPr>
          <p:blipFill>
            <a:blip r:embed="rId2"/>
            <a:stretch/>
          </p:blipFill>
          <p:spPr>
            <a:xfrm>
              <a:off x="566640" y="1036800"/>
              <a:ext cx="27129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246320" y="1692360"/>
              <a:ext cx="136512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Calibri"/>
              </a:rPr>
              <a:t>* أهمية الرسالة الإدار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تمثل أهمية الرسالة الإدارية في أنها أداة وثائقية منظمة يمكن تسجيلها وضبطها والرجوع أليها وقت الحاج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أنها تعمل على ضبط العمل وتطويره ورفع كفائت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نسيق العمل التجاري بين المنظمة وعملائها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سهل الاتصال بين القيادة المركزية لإدارة المنظمة وبين فروعها الداخلي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ذكر العاملين بما عليهم القيام به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يمكن نسخها وإرسالها إلى عدد كبير من الأفراد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صورة 3" descr="5145438da.jpg"/>
          <p:cNvPicPr/>
          <p:nvPr/>
        </p:nvPicPr>
        <p:blipFill>
          <a:blip r:embed="rId2"/>
          <a:stretch/>
        </p:blipFill>
        <p:spPr>
          <a:xfrm>
            <a:off x="928800" y="5715000"/>
            <a:ext cx="75240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صورة 4" descr="5145438da.jpg"/>
          <p:cNvPicPr/>
          <p:nvPr/>
        </p:nvPicPr>
        <p:blipFill>
          <a:blip r:embed="rId3"/>
          <a:stretch/>
        </p:blipFill>
        <p:spPr>
          <a:xfrm>
            <a:off x="7643880" y="214200"/>
            <a:ext cx="75240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Calibri"/>
              </a:rPr>
              <a:t>*مهارات كتابة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أن تكون الرسالة مكتوبة بلغة عربية سليمة من الأخطاء الإملائية والنحوي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حسن اختيار الألفاظ المناسبة للمعاني دون تعقي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الإبتعاد عن أساليب التبجيل أو التفخي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مراعاة الأدب والذوق واللباقة عند كتابة الرسال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مراعاة الألفاظ المتعارف عليها في الوسط الإداري مثل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معالي،سعادة،السيد،السادة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إخراج الرسالة إخراجاً حسناً من حيث الشكل والتنظيم بوضع كل عنصر في مكا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ترك هوامش (فراغات)للإفادة منها في تدوين تعليقات وإشارات وفي ترقيم الصفحات وكذلك في تنظيم الرسال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7" name="شمس 3"/>
          <p:cNvGrpSpPr/>
          <p:nvPr/>
        </p:nvGrpSpPr>
        <p:grpSpPr>
          <a:xfrm>
            <a:off x="1212840" y="676440"/>
            <a:ext cx="1359000" cy="1145880"/>
            <a:chOff x="1212840" y="676440"/>
            <a:chExt cx="1359000" cy="1145880"/>
          </a:xfrm>
        </p:grpSpPr>
        <p:pic>
          <p:nvPicPr>
            <p:cNvPr id="238" name="شمس 3" descr=""/>
            <p:cNvPicPr/>
            <p:nvPr/>
          </p:nvPicPr>
          <p:blipFill>
            <a:blip r:embed="rId2"/>
            <a:stretch/>
          </p:blipFill>
          <p:spPr>
            <a:xfrm>
              <a:off x="1212840" y="676440"/>
              <a:ext cx="13590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677960" y="1038240"/>
              <a:ext cx="430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00"/>
                </a:solidFill>
                <a:latin typeface="Calibri"/>
              </a:rPr>
              <a:t>*الأجزاء الرئيسية في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بس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تاري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مرسل إلية ولقبة وعنوان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تحية الافتتاح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موضوع الرسالة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*مقدم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                       *ع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                       *خاتم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تحية الخت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مرفق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كتابة الاسم والتوقي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عنوا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نظري الكتاب صــــــــ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2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_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3</a:t>
            </a: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نموذج لشكل الرسالة الإدارية  صــــــــــــــــــ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4</a:t>
            </a: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ـ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صورة 16" descr="a325b7378e.gif"/>
          <p:cNvPicPr/>
          <p:nvPr/>
        </p:nvPicPr>
        <p:blipFill>
          <a:blip r:embed="rId2"/>
          <a:stretch/>
        </p:blipFill>
        <p:spPr>
          <a:xfrm>
            <a:off x="214200" y="4000680"/>
            <a:ext cx="4572000" cy="95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طالبات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انتهت المحاضرة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كل الدعوات للجميع بالتوفي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&amp;&amp;&amp;&amp;&amp;&amp;&amp;&amp;&amp;&amp;&amp;&amp;&amp;&amp;&amp;&amp;&amp;&amp;&amp;&amp;&amp;&amp;&amp;&amp;&amp;&amp;&amp;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شاكرهـ من القلب لكن طالباتي العزيز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وعلى الخير نلتق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أ- نـــــــــــــو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* الخصائص العامة للكتابة الوظيف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أسلوبها علمي خال من العبارات الموح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دلالات ألفاظها قاطعة لا تحتمل التأويل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لا تستلزم مهارة خاصة أو موهبة معينة من كاتبها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يحتاج بعضها إلى قدر من التأثير والإقنا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يعتمد بعضها على الأدلة والبراهين التي تقنع القارئ بصحبة الرأي المعروض في الموضوع المكتوب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صورة 8" descr="88033eb9a1.gif"/>
          <p:cNvPicPr/>
          <p:nvPr/>
        </p:nvPicPr>
        <p:blipFill>
          <a:blip r:embed="rId2"/>
          <a:stretch/>
        </p:blipFill>
        <p:spPr>
          <a:xfrm>
            <a:off x="2214720" y="5715000"/>
            <a:ext cx="4457520" cy="5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عنوان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للكتابة الوظيفية مجالات متعددة منها: التلخيص_التقرير_الرسائل_البحوث العلمية وملء الاستمارات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سنقتصر في دراستنا على مجالين من هذه المجالات وهما التلخيص والرسائل الإداري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صورة 6" descr="a325b7378e.gif"/>
          <p:cNvPicPr/>
          <p:nvPr/>
        </p:nvPicPr>
        <p:blipFill>
          <a:blip r:embed="rId3"/>
          <a:stretch/>
        </p:blipFill>
        <p:spPr>
          <a:xfrm>
            <a:off x="2286000" y="5905440"/>
            <a:ext cx="4572000" cy="952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72428"/>
                </a:solidFill>
                <a:latin typeface="Constantia"/>
                <a:cs typeface="Arabic Typesetting"/>
              </a:rPr>
              <a:t>التلخيص: هو إبراز النص الأصلي في عدد قليل من الكلمات مع الحفاظ على صلب أو مضمون النص المكتوب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428"/>
                </a:solidFill>
                <a:latin typeface="Constantia"/>
                <a:ea typeface="Arabic Typesetting"/>
              </a:rPr>
              <a:t>*عمل التلخيص لا يكون بطريقة عشوائية بل يتم عمله تدريجيا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صورة 4" descr="f8b0b258c4.gif"/>
          <p:cNvPicPr/>
          <p:nvPr/>
        </p:nvPicPr>
        <p:blipFill>
          <a:blip r:embed="rId3"/>
          <a:stretch/>
        </p:blipFill>
        <p:spPr>
          <a:xfrm>
            <a:off x="2627280" y="5791320"/>
            <a:ext cx="4029120" cy="106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يحدد الهدف من التلخي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دقة الملاحظ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استيعاب الدقيق للمضمون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صورة 4" descr="24bca071b7.jpg"/>
          <p:cNvPicPr/>
          <p:nvPr/>
        </p:nvPicPr>
        <p:blipFill>
          <a:blip r:embed="rId3"/>
          <a:stretch/>
        </p:blipFill>
        <p:spPr>
          <a:xfrm>
            <a:off x="2714760" y="5867280"/>
            <a:ext cx="400032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6600"/>
                </a:solidFill>
                <a:latin typeface="Calibri"/>
              </a:rPr>
              <a:t>أهمية التلخي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onstantia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1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 يساعد التلخيص الطالب في تسجيل ملاحظاته في المحاضرات واستيعاب ما يقرأ في المصادر والمراج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2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وفر التلخيص الوقت والجهد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3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عتبر التلخيص تدريب عملي على الكتابة وتطوير لمهاراتها لدى الملخ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4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عود القارئ على الاستيعاب والتركي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5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مكن الكاتب من الإفادة من كل ما جمعة من معلومات وعرضها بشكل منسق ومنظ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صورة 6" descr="5145438da.jpg"/>
          <p:cNvPicPr/>
          <p:nvPr/>
        </p:nvPicPr>
        <p:blipFill>
          <a:blip r:embed="rId2"/>
          <a:stretch/>
        </p:blipFill>
        <p:spPr>
          <a:xfrm>
            <a:off x="7572240" y="214200"/>
            <a:ext cx="752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a50021"/>
                </a:solidFill>
                <a:latin typeface="Calibri"/>
              </a:rPr>
              <a:t>خطوات عملية التلخي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Constantia"/>
                <a:cs typeface="Arabic Typesetting"/>
              </a:rPr>
              <a:t>فعند تلخيص نصاً فلا بد من إتباع عدة خطوات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1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قراءة النص المكتوب تلخيصه قراءة مركزة بهدف استيعابه والإحاطة بكل جزئياته ومحاولة إدراك الأفكار الرئيسية في الن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2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محاولة التمييز بين ما هو أساسي وما هو ثانوي من الأفكا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3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البدء بكتابة جمل قصيرة بعباراتك الخاصة تتضمن الأفكار الرئيسية في الن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4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البدء بالتلخيص معتمدة في ذلك على مهاراتك وأسلوبك الخاص وأن يتضمن التلخيص ثلاث فقرات على الأق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أولى –تمثل مقدمة التلخيص وتحديد الهدف من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ثانية_تمثل صلب الموضوع فتتضمن أفكاره الأساسية وجزئياته المه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ثالثة وتكون الخاتمة أي خلاصة الموض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صورة 3" descr="5145438da.jpg"/>
          <p:cNvPicPr/>
          <p:nvPr/>
        </p:nvPicPr>
        <p:blipFill>
          <a:blip r:embed="rId2"/>
          <a:stretch/>
        </p:blipFill>
        <p:spPr>
          <a:xfrm>
            <a:off x="7286760" y="285840"/>
            <a:ext cx="75240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مراجعة الملخص مراجعة دقيقة ثم التأكد من صحة الكتابة إملاءً ونحواً وأسلوباً وكذلك استخدام علامات الترقيم المناسبة في التلخي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التأكد من أن عدد كلمات التلخيص يكون ربع عدد كلمات النص الأصلي أو أكثر بقليل المهم أن يكون التلخيص واضح المعن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أخر خطوه من خطوات التلخيص وهو وضع عنوان مناسب للتلخي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نموذج للتلخيص .........انظري الكتاب صــــ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117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ــــ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صورة 3" descr="f8b0b258c4.gif"/>
          <p:cNvPicPr/>
          <p:nvPr/>
        </p:nvPicPr>
        <p:blipFill>
          <a:blip r:embed="rId2"/>
          <a:stretch/>
        </p:blipFill>
        <p:spPr>
          <a:xfrm>
            <a:off x="2714760" y="0"/>
            <a:ext cx="4029120" cy="1066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رسالة الإدارية هي أداة اتصال رسمية مكتوبة بغرض التنسيق بين المرسل والمرسل إليه بهدف تأمين مصالح الإدارات الحكومية أو المؤسسات التجارية وعملائها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انفجار 1 3"/>
          <p:cNvSpPr/>
          <p:nvPr/>
        </p:nvSpPr>
        <p:spPr>
          <a:xfrm>
            <a:off x="1143000" y="1285920"/>
            <a:ext cx="1428840" cy="857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انفجار 1 4"/>
          <p:cNvSpPr/>
          <p:nvPr/>
        </p:nvSpPr>
        <p:spPr>
          <a:xfrm>
            <a:off x="7215120" y="1285920"/>
            <a:ext cx="1214640" cy="78588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انفجار 1 5"/>
          <p:cNvSpPr/>
          <p:nvPr/>
        </p:nvSpPr>
        <p:spPr>
          <a:xfrm>
            <a:off x="6357960" y="5429160"/>
            <a:ext cx="1928880" cy="71460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انفجار 1 6"/>
          <p:cNvSpPr/>
          <p:nvPr/>
        </p:nvSpPr>
        <p:spPr>
          <a:xfrm>
            <a:off x="1000080" y="5500800"/>
            <a:ext cx="1357200" cy="857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11:15Z</dcterms:created>
  <dc:creator>ABC</dc:creator>
  <dc:description/>
  <dc:language>en-US</dc:language>
  <cp:lastModifiedBy>sada</cp:lastModifiedBy>
  <dcterms:modified xsi:type="dcterms:W3CDTF">2009-01-02T19:24:44Z</dcterms:modified>
  <cp:revision>17</cp:revision>
  <dc:subject/>
  <dc:title>الكتابة الوظيفية</dc:title>
</cp:coreProperties>
</file>