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0BBD-A6FA-49A5-BF73-50EAA54B8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B374-A9D7-43DE-94CA-ADF5A486B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17640" y="743040"/>
            <a:ext cx="4965480" cy="3724200"/>
          </a:xfrm>
          <a:prstGeom prst="rect">
            <a:avLst/>
          </a:prstGeom>
          <a:ln w="0">
            <a:noFill/>
          </a:ln>
        </p:spPr>
      </p:sp>
      <p:sp>
        <p:nvSpPr>
          <p:cNvPr id="414"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90483-3C4D-42DE-96C5-B5429F9D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8220-851C-42BC-988B-1560B7CFD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5D1B7-7215-40C7-878A-081250AB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AFDCA-7592-429B-8A81-D3F77B60A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737FE-189E-456B-8620-01C686DF1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95F32-8B3E-422F-9A76-077EEE5F7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AD8C6-DE51-4388-AFDE-F81A03BF7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4C329-1914-4727-9CA4-0DDABA959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9D52-6C57-4FB3-8D5D-C22A50DC8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938D6-EE54-42DE-AB1D-9FB1246FA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1747E-F455-4A65-A705-CA90078C6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970BB-EE31-4373-8D0C-4752490E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49DA9-AE9D-4FC9-A5C3-832D8CB3C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74987-06D6-4380-A274-A75EB63F2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D90DA-D3B6-457C-8F79-449DB6065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CC122-F9D5-4E39-990C-6C16468DD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83269-91F3-4102-A96F-19BB795F8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59197-7E4E-46C5-BC60-7EE718680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6A030-6983-4B1E-80B3-36ADAB0A8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2C3B43-95B9-4705-805E-AA1CE7B60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E422B-1CA5-4A9A-9C4B-1AF67971C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1E768-2C33-4780-9069-68C2280C3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42C4-2E36-42A5-8260-A669FB574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F8697-57C5-46FD-B8A4-29BC8734A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235DD-105A-418B-B96F-7E55588A9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3688A-CC66-4454-8277-907A13111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26A0A-56AA-486B-993C-055ACDB3E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7FF37-F6B5-4EA3-8E1C-0F706D3B0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63A92-65CC-414F-88E3-4274C3168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DA503-1150-481B-9983-03ECB8D1B6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BB475-326C-483A-A195-47A9989E9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0A953-0D3C-4456-9BF7-FBD97F434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E37E7-27C2-4FF0-9895-95A9F7DEE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525E2-B027-40F9-9E27-47EAD33E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F1BC6-9DA7-4C80-A044-1276314B4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E9239-4CEE-4227-941E-5AFBE3862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74DD2-E1AA-4511-873B-ADE483D8A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946E0-A873-4709-9D7D-4C5EEBD28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75CFE-142B-4A4B-B124-85B8B941D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A5EAB-FE9B-4E44-92FC-AAA87224C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377DB-0D83-4DF6-A212-5D39B96ED7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774AF-5E89-47F8-96DB-098BC62E4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61B1D5-E2AC-4027-8FEF-D7982DCFD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D8B60E-440F-4ADD-B633-8FF736A081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CC237-7842-49CC-B01C-FC93D8E7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A7E5A-4D91-40E5-A229-D140D1DAE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408BF-02BD-4868-A9BA-529F73E5C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B78BF-D76F-468F-989F-3D0B00D35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08AC3-C230-471A-A397-ACC345566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20DB9-1480-4FFA-92F2-7DE0D8D1D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3DA4A-A8A4-49DA-A74A-A2A305FBB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E46C7-917A-4EEA-9F41-A5F82B8CA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79EA1-75F4-4ABC-94C1-9B3D58824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30364-5740-4F36-8051-AE86350C0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F1447-CB57-4427-83BB-72878DC4A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0BD1-046A-4A32-A1B4-597002154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CC332-9BE7-49D8-BE75-7C41B3C642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F88DC-20C3-4155-BC86-8DDB1A8E1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56178-C046-47FE-8049-C05696BCDA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BC8A7-67F0-4C44-8F00-3827C9B56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7604F-993E-49C3-B971-9D8290D4B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0F1D3-2CD6-4551-9D5A-12DC5121E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2EE90-C773-45F3-AF19-2246A9153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85029-70D7-4F5B-B526-654A35A85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728F8-72AD-4DA6-A551-99FD894E3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31786-3F55-4A4E-A184-C92F33C7C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84B9-2D65-4242-B3FB-52F9A8EA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9E6FF-CDF7-4310-9364-B6670CC6A3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917D0A-C3BF-43B7-B8D7-9E785893F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BB0BB-4347-4BCC-9079-77FB0AD2D9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C05951-E373-4A8B-85A0-A7B7AF7DF1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A2277-C7E4-4F1D-ACF0-C5EF3CD27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E3D0CC-7412-4863-9D07-6241E449F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C6482-D4A8-4EFA-9D7F-53D608E55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1A15C-E570-4029-8D66-1C8F7582B2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71D69A-25A0-479E-9F58-E5E1782A3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0C0F6-D49A-4A4D-B6D3-95031FAF8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D0EB-F417-4272-A836-316DAF2A2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20B01-E7DD-4D22-BCA0-E877E22C7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1ACCF-22D8-4008-8DA0-411F24F63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4BEB6-DDCD-4A08-9515-82C55FCBD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37216E-9E0F-4DA2-A1C7-4FA0DB5F5B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DE963F-937D-465F-A12D-74946275F8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D1B861-6882-4F70-9775-F81D8FBA40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4224D-47D1-4A17-AFBD-7B09BEC6E2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65574-6796-40DB-AD04-8E40FFF16C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18C2A-5229-4B5B-A511-0222752E2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85052-C343-44C3-943A-A39BFEED9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AAF7-D424-449F-9F8E-052B80C7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75C15-DF12-49DE-BE1D-C3E241AED5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93F914-EED4-4F1D-BBE5-2739A6C2D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1C478-BB7B-485B-A442-DBABAFAD62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5E5BF-6550-4F17-B9BC-40974FC0B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4C2DF-5285-4616-8C30-10739F4C48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082DE0-B264-4A05-B89B-DFF823DBCB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3F368E-EE36-4779-B920-11E02B6105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BBFD-747D-47EF-854C-CA568F4E982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CA44-EE0A-4F1F-828E-004277E4445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ED7F-B69D-4435-B229-0BBC1FE7EF3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EF23-1A25-4D67-BB8F-8C9B203B416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CD87-5E59-48CC-A625-FF9BE487F9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7322-7634-48ED-9208-81DE8FA46A1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DCC5-8809-49E9-8A91-B4B82E4804C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F375-A0B1-4460-AA20-4036A5F0540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CT 1503</a:t>
            </a:r>
            <a:br>
              <a:rPr sz="2900"/>
            </a:br>
            <a:r>
              <a:rPr b="1" lang="en-US" sz="2900" spc="-1" strike="noStrike">
                <a:solidFill>
                  <a:srgbClr val="464653"/>
                </a:solidFill>
                <a:latin typeface="Bookman Old Style"/>
              </a:rPr>
              <a:t>Network Operating System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OS was Born?</a:t>
            </a:r>
            <a:endParaRPr b="0" lang="en-US" sz="3200" spc="-1" strike="noStrike">
              <a:solidFill>
                <a:srgbClr val="464653"/>
              </a:solidFill>
              <a:latin typeface="Bookman Old Style"/>
            </a:endParaRPr>
          </a:p>
        </p:txBody>
      </p:sp>
      <p:sp>
        <p:nvSpPr>
          <p:cNvPr id="384" name="TextBox 4"/>
          <p:cNvSpPr/>
          <p:nvPr/>
        </p:nvSpPr>
        <p:spPr>
          <a:xfrm>
            <a:off x="457200" y="1455840"/>
            <a:ext cx="304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proc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Monitor, JCL, IOCS</a:t>
            </a:r>
            <a:endParaRPr b="0" lang="en-US" sz="2400" spc="-1" strike="noStrike">
              <a:solidFill>
                <a:srgbClr val="000000"/>
              </a:solidFill>
              <a:latin typeface="Arial"/>
            </a:endParaRPr>
          </a:p>
        </p:txBody>
      </p:sp>
      <p:pic>
        <p:nvPicPr>
          <p:cNvPr id="385" name="Picture 2" descr=""/>
          <p:cNvPicPr/>
          <p:nvPr/>
        </p:nvPicPr>
        <p:blipFill>
          <a:blip r:embed="rId1"/>
          <a:stretch/>
        </p:blipFill>
        <p:spPr>
          <a:xfrm>
            <a:off x="369720" y="3048120"/>
            <a:ext cx="4354560" cy="2438280"/>
          </a:xfrm>
          <a:prstGeom prst="rect">
            <a:avLst/>
          </a:prstGeom>
          <a:ln w="9360">
            <a:solidFill>
              <a:srgbClr val="000000"/>
            </a:solidFill>
            <a:miter/>
          </a:ln>
        </p:spPr>
      </p:pic>
      <p:pic>
        <p:nvPicPr>
          <p:cNvPr id="386" name="Picture 3" descr=""/>
          <p:cNvPicPr/>
          <p:nvPr/>
        </p:nvPicPr>
        <p:blipFill>
          <a:blip r:embed="rId2"/>
          <a:stretch/>
        </p:blipFill>
        <p:spPr>
          <a:xfrm>
            <a:off x="4876920" y="3048120"/>
            <a:ext cx="3668760" cy="251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Time Sharing Using Operating Systems </a:t>
            </a:r>
            <a:endParaRPr b="0" lang="en-US" sz="3200" spc="-1" strike="noStrike">
              <a:solidFill>
                <a:srgbClr val="464653"/>
              </a:solidFill>
              <a:latin typeface="Bookman Old Style"/>
            </a:endParaRPr>
          </a:p>
        </p:txBody>
      </p:sp>
      <p:pic>
        <p:nvPicPr>
          <p:cNvPr id="388" name="Picture 2" descr=""/>
          <p:cNvPicPr/>
          <p:nvPr/>
        </p:nvPicPr>
        <p:blipFill>
          <a:blip r:embed="rId1"/>
          <a:srcRect l="0" t="17307" r="0" b="0"/>
          <a:stretch/>
        </p:blipFill>
        <p:spPr>
          <a:xfrm>
            <a:off x="1295280" y="3962520"/>
            <a:ext cx="5046840" cy="2438280"/>
          </a:xfrm>
          <a:prstGeom prst="rect">
            <a:avLst/>
          </a:prstGeom>
          <a:ln w="0">
            <a:noFill/>
          </a:ln>
        </p:spPr>
      </p:pic>
      <p:pic>
        <p:nvPicPr>
          <p:cNvPr id="389" name="Picture 4" descr=""/>
          <p:cNvPicPr/>
          <p:nvPr/>
        </p:nvPicPr>
        <p:blipFill>
          <a:blip r:embed="rId2"/>
          <a:stretch/>
        </p:blipFill>
        <p:spPr>
          <a:xfrm>
            <a:off x="533520" y="1600200"/>
            <a:ext cx="3017880" cy="1676520"/>
          </a:xfrm>
          <a:prstGeom prst="rect">
            <a:avLst/>
          </a:prstGeom>
          <a:ln w="9360">
            <a:solidFill>
              <a:srgbClr val="000000"/>
            </a:solidFill>
            <a:miter/>
          </a:ln>
        </p:spPr>
      </p:pic>
      <p:sp>
        <p:nvSpPr>
          <p:cNvPr id="390" name="Bent-Up Arrow 6"/>
          <p:cNvSpPr/>
          <p:nvPr/>
        </p:nvSpPr>
        <p:spPr>
          <a:xfrm flipH="1" rot="10800000">
            <a:off x="3733920" y="2971440"/>
            <a:ext cx="1303200" cy="685800"/>
          </a:xfrm>
          <a:custGeom>
            <a:avLst/>
            <a:gdLst>
              <a:gd name="textAreaLeft" fmla="*/ 0 w 1303200"/>
              <a:gd name="textAreaRight" fmla="*/ 1217520 w 1303200"/>
              <a:gd name="textAreaTop" fmla="*/ 514440 h 685800"/>
              <a:gd name="textAreaBottom" fmla="*/ 686160 h 685800"/>
            </a:gdLst>
            <a:ahLst/>
            <a:rect l="textAreaLeft" t="textAreaTop" r="textAreaRight" b="textAreaBottom"/>
            <a:pathLst>
              <a:path w="1303338" h="685800">
                <a:moveTo>
                  <a:pt x="0" y="514350"/>
                </a:moveTo>
                <a:lnTo>
                  <a:pt x="1046163" y="514350"/>
                </a:lnTo>
                <a:lnTo>
                  <a:pt x="1046163" y="171450"/>
                </a:lnTo>
                <a:lnTo>
                  <a:pt x="960438" y="171450"/>
                </a:lnTo>
                <a:lnTo>
                  <a:pt x="1131888" y="0"/>
                </a:lnTo>
                <a:lnTo>
                  <a:pt x="1303338" y="171450"/>
                </a:lnTo>
                <a:lnTo>
                  <a:pt x="1217613" y="171450"/>
                </a:lnTo>
                <a:lnTo>
                  <a:pt x="1217613" y="685800"/>
                </a:lnTo>
                <a:lnTo>
                  <a:pt x="0" y="685800"/>
                </a:lnTo>
                <a:close/>
              </a:path>
            </a:pathLst>
          </a:custGeom>
          <a:solidFill>
            <a:srgbClr val="ff0000"/>
          </a:solidFill>
          <a:ln w="19080">
            <a:solidFill>
              <a:srgbClr val="52597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4" descr="Operating system placement.svg"/>
          <p:cNvPicPr/>
          <p:nvPr/>
        </p:nvPicPr>
        <p:blipFill>
          <a:blip r:embed="rId3"/>
          <a:stretch/>
        </p:blipFill>
        <p:spPr>
          <a:xfrm>
            <a:off x="6934320" y="2362320"/>
            <a:ext cx="1571400" cy="232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a:t>
            </a:r>
            <a:endParaRPr b="0" lang="en-US" sz="32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operating system (OS) is software that manages computer hardware and software resources and provides common services for computer programs.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rating systems form an essential component of the system software in a computer system. Application programs usually require an operating system to fun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ime-sharing operating systems schedule tasks for efficient use of the system and may also include accounting software for cost allocation of processor time, mass storage, printing, and other resource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hardware functions such as input and output and memory allocation, the operating system acts as an intermediary between programs and the computer hardware, although the application code is usually executed directly by the hardware and will frequently make a system call to an OS function or be interrupted by it.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rating systems can be found on almost any device that contains a computer—from cellular phones and video game consoles to supercomputers and web serv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Examples  </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 of popular modern operating systems include:</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Android, BSD, iOS, Windows Phone,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Linux, OS X, QNX,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Microsoft Windows, and IBM z/OS.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All these examples, except Windows, Windows Phone and z/OS, share roots in UNIX.</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Networks Operating Systems </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twork operating system refers to software that implements an operating system of some kind that is oriented to computer networking.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 one that runs on a server and enables the server to manage data, users, groups, security, applications, and other networking function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twork operating system is designed to allow shared file and printer access among multiple computers in a network, </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typically a local area network (LAN), a private network or to other networks.</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Networks Operating Systems: Where to use?</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 can be used in:</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Routers, switches and  hardware firewall.</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PCs in Peer-to-peer networks </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Client-server Architicture </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outers NOSs</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twork operating systems can be embedded in a router or </a:t>
            </a:r>
            <a:r>
              <a:rPr b="0" lang="en-US" sz="2000" spc="-1" strike="noStrike">
                <a:solidFill>
                  <a:srgbClr val="0070c0"/>
                </a:solidFill>
                <a:latin typeface="Times New Roman"/>
                <a:ea typeface="Times New Roman"/>
              </a:rPr>
              <a:t>hardware firewall that operates the functions in the network layer (layer 3) </a:t>
            </a:r>
            <a:r>
              <a:rPr b="0" lang="en-US" sz="2000" spc="-1" strike="noStrike">
                <a:solidFill>
                  <a:srgbClr val="000000"/>
                </a:solidFill>
                <a:latin typeface="Times New Roman"/>
                <a:ea typeface="Times New Roman"/>
              </a:rPr>
              <a:t>of the OSI model.</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JUNOS, used in routers and switches from Juniper Networks,</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Cisco IOS (formerly "Cisco Internetwork Operating System").</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TiMOS, used in routers from Alcatel-Lucent</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VRP (Versatile Routing Platform), used in routers from Huawei</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RouterOS, software which turns a PC or MikroTik hardware into a dedicated router</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ZyNOS, used in network devices made by ZyXEL.</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ExtremeXOS, used in network devices made by Extreme Networks. Also called EXOS.</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Times New Roman"/>
                <a:ea typeface="Times New Roman"/>
              </a:rPr>
              <a:t>Embedded Linux, in distributions like Openwrt and DD-WRT which run on low-cost platforms such as the Linksys WRT54G.</a:t>
            </a:r>
            <a:endParaRPr b="0" lang="en-US" sz="17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eer-to-Peer NOSs</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eer-to-peer network operating system users are allowed to share resources and files located on their computers and access shared resources from others. This system is not based with having a file server or centralized management source. A peer-to-peer network sets all connected computers equal; they all share the same abilities to use resources available on the network.</a:t>
            </a:r>
            <a:endParaRPr b="0" lang="en-US" sz="1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s: </a:t>
            </a:r>
            <a:endParaRPr b="0" lang="en-US" sz="18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AppleShare used for networking connecting Apple product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Windows for Workgroups used for networking peer-to-peer windows computer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Advantage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Ease of setup</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Less hardware needed, no server needs to be purchased.</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Disadvantages</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No central location for storage.</a:t>
            </a:r>
            <a:endParaRPr b="0" lang="en-US" sz="15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Times New Roman"/>
                <a:ea typeface="Times New Roman"/>
              </a:rPr>
              <a:t>Lack of security that a client/server type offers.</a:t>
            </a:r>
            <a:endParaRPr b="0" lang="en-US" sz="1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ent/Server NOSs</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twork operating systems can be based on a client/server architecture in which a server enables multiple clients to share resource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erver network operating systems allow the network to centralize functions and applications in one or more dedicated file servers.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ver is the center of the system, allowing access to resources and instituting security.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twork operating system provides the mechanism to integrate all the components on a network to allow multiple users to simultaneously share the same resources regardless of physical loc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Overview</a:t>
            </a:r>
            <a:endParaRPr b="0" lang="en-US" sz="3200" spc="-1" strike="noStrike">
              <a:solidFill>
                <a:srgbClr val="464653"/>
              </a:solidFill>
              <a:latin typeface="Bookman Old Style"/>
            </a:endParaRPr>
          </a:p>
        </p:txBody>
      </p:sp>
      <p:graphicFrame>
        <p:nvGraphicFramePr>
          <p:cNvPr id="362" name=""/>
          <p:cNvGraphicFramePr/>
          <p:nvPr/>
        </p:nvGraphicFramePr>
        <p:xfrm>
          <a:off x="685800" y="1447920"/>
          <a:ext cx="8077320" cy="2400120"/>
        </p:xfrm>
        <a:graphic>
          <a:graphicData uri="http://schemas.openxmlformats.org/drawingml/2006/table">
            <a:tbl>
              <a:tblPr/>
              <a:tblGrid>
                <a:gridCol w="4138560"/>
                <a:gridCol w="3938760"/>
              </a:tblGrid>
              <a:tr h="839520">
                <a:tc>
                  <a:txBody>
                    <a:bodyPr lIns="68760" rIns="68760" tIns="0" bIns="0" anchor="ctr">
                      <a:noAutofit/>
                    </a:bodyPr>
                    <a:p>
                      <a:pPr marL="803160" indent="-803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Title: </a:t>
                      </a:r>
                      <a:r>
                        <a:rPr b="1" lang="en-US" sz="2000" spc="-1" strike="noStrike">
                          <a:solidFill>
                            <a:srgbClr val="000080"/>
                          </a:solidFill>
                          <a:latin typeface="Times New Roman"/>
                          <a:ea typeface="Times New Roman"/>
                        </a:rPr>
                        <a:t>Networks Operating Systems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de:</a:t>
                      </a:r>
                      <a:r>
                        <a:rPr b="1" lang="en-US" sz="2000" spc="-1" strike="noStrike">
                          <a:solidFill>
                            <a:srgbClr val="000080"/>
                          </a:solidFill>
                          <a:latin typeface="Times New Roman"/>
                          <a:ea typeface="Times New Roman"/>
                        </a:rPr>
                        <a:t> </a:t>
                      </a:r>
                      <a:r>
                        <a:rPr b="1" lang="en-US" sz="2000" spc="-1" strike="noStrike">
                          <a:solidFill>
                            <a:srgbClr val="0033cc"/>
                          </a:solidFill>
                          <a:latin typeface="Times New Roman"/>
                          <a:ea typeface="Times New Roman"/>
                        </a:rPr>
                        <a:t>CT 15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Level: </a:t>
                      </a:r>
                      <a:r>
                        <a:rPr b="1" lang="en-US" sz="2000" spc="-1" strike="noStrike">
                          <a:solidFill>
                            <a:srgbClr val="0033cc"/>
                          </a:solidFill>
                          <a:latin typeface="Times New Roman"/>
                          <a:ea typeface="Times New Roman"/>
                        </a:rPr>
                        <a:t>Fift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requisite: </a:t>
                      </a:r>
                      <a:r>
                        <a:rPr b="1" lang="en-US" sz="2000" spc="-1" strike="noStrike">
                          <a:solidFill>
                            <a:srgbClr val="0033cc"/>
                          </a:solidFill>
                          <a:latin typeface="Times New Roman"/>
                          <a:ea typeface="Times New Roman"/>
                        </a:rPr>
                        <a:t>CT15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cture Time: </a:t>
                      </a:r>
                      <a:r>
                        <a:rPr b="1" lang="en-US" sz="2000" spc="-1" strike="noStrike">
                          <a:solidFill>
                            <a:srgbClr val="0033cc"/>
                          </a:solidFill>
                          <a:latin typeface="Times New Roman"/>
                          <a:ea typeface="Times New Roman"/>
                        </a:rPr>
                        <a:t>Tuesday 9:00 am-12:00 p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redit Hours:  </a:t>
                      </a:r>
                      <a:r>
                        <a:rPr b="1" lang="en-US" sz="2000" spc="-1" strike="noStrike">
                          <a:solidFill>
                            <a:srgbClr val="000000"/>
                          </a:solidFill>
                          <a:latin typeface="Times-Bold"/>
                          <a:ea typeface="Times New Roman"/>
                        </a:rPr>
                        <a:t> 3(3+ 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ent/Server NOSs</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 </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vell NetWare</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dows Server</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nyan VINES</a:t>
            </a:r>
            <a:endParaRPr b="0" lang="en-US" sz="18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ntralized servers are more stable.</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curity is provided through the server.</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technology and hardware can be easily integrated into the system.</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ers are able to be accessed remotely from different locations and types of systems.</a:t>
            </a:r>
            <a:endParaRPr b="0" lang="en-US" sz="18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of buying and running a server are high.</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ence on a central location for operation.</a:t>
            </a:r>
            <a:endParaRPr b="0" lang="en-US" sz="1800" spc="-1" strike="noStrike">
              <a:solidFill>
                <a:srgbClr val="000000"/>
              </a:solidFill>
              <a:latin typeface="Gill Sans MT"/>
            </a:endParaRPr>
          </a:p>
          <a:p>
            <a:pPr lvl="2" marL="813960" indent="-22608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regular maintenance and update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iz</a:t>
            </a:r>
            <a:endParaRPr b="0" lang="en-US" sz="38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Instructor </a:t>
            </a:r>
            <a:endParaRPr b="0" lang="en-US" sz="3200" spc="-1" strike="noStrike">
              <a:solidFill>
                <a:srgbClr val="464653"/>
              </a:solidFill>
              <a:latin typeface="Bookman Old Style"/>
            </a:endParaRPr>
          </a:p>
        </p:txBody>
      </p:sp>
      <p:graphicFrame>
        <p:nvGraphicFramePr>
          <p:cNvPr id="364" name=""/>
          <p:cNvGraphicFramePr/>
          <p:nvPr/>
        </p:nvGraphicFramePr>
        <p:xfrm>
          <a:off x="457200" y="1447920"/>
          <a:ext cx="8153280" cy="3154320"/>
        </p:xfrm>
        <a:graphic>
          <a:graphicData uri="http://schemas.openxmlformats.org/drawingml/2006/table">
            <a:tbl>
              <a:tblPr/>
              <a:tblGrid>
                <a:gridCol w="1558800"/>
                <a:gridCol w="1603440"/>
                <a:gridCol w="1536840"/>
                <a:gridCol w="1757160"/>
                <a:gridCol w="1697040"/>
              </a:tblGrid>
              <a:tr h="1052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m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n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Number and Loc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Hou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ail Addr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Dr. Najla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l-Nabh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ssistant Professo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Office #: 321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2</a:t>
                      </a:r>
                      <a:r>
                        <a:rPr b="1" lang="en-US" sz="2000" spc="-1" strike="noStrike" baseline="30000">
                          <a:solidFill>
                            <a:srgbClr val="0033cc"/>
                          </a:solidFill>
                          <a:latin typeface="Times New Roman"/>
                          <a:ea typeface="Times New Roman"/>
                        </a:rPr>
                        <a:t>nd</a:t>
                      </a:r>
                      <a:r>
                        <a:rPr b="1" lang="en-US" sz="2000" spc="-1" strike="noStrike">
                          <a:solidFill>
                            <a:srgbClr val="0033cc"/>
                          </a:solidFill>
                          <a:latin typeface="Times New Roman"/>
                          <a:ea typeface="Times New Roman"/>
                        </a:rPr>
                        <a:t> Flour, Bldg 1, Olishah Campus, KSU</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ues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dnesday 1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nalnabhan@KSU.EDU.S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5" name="Rectangle 3"/>
          <p:cNvSpPr/>
          <p:nvPr/>
        </p:nvSpPr>
        <p:spPr>
          <a:xfrm>
            <a:off x="1066680" y="5257800"/>
            <a:ext cx="632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urs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c.ksu.edu.sa/nalnabhan/co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Syllabus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urse Syllabus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imed to impart</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Network operating systems (NO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users’ accounts,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setting, </a:t>
            </a:r>
            <a:endParaRPr b="0" lang="en-US" sz="20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ecurity.</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ding Overview</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omework  Assignments: 1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uizzes: 15%</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ass Participation: 5%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terms: 3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nal Exam: 4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ne Quiz and/or tutorial per week, schedule will be announced soon</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1: Network Operating Systems (NOS) </a:t>
            </a:r>
            <a:endParaRPr b="0" lang="en-US" sz="2800" spc="-1" strike="noStrike">
              <a:solidFill>
                <a:srgbClr val="464653"/>
              </a:solidFill>
              <a:latin typeface="Bookman Old Style"/>
            </a:endParaRPr>
          </a:p>
        </p:txBody>
      </p:sp>
      <p:sp>
        <p:nvSpPr>
          <p:cNvPr id="371"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roductio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at is an Operating System?</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TextBox 4"/>
          <p:cNvSpPr/>
          <p:nvPr/>
        </p:nvSpPr>
        <p:spPr>
          <a:xfrm>
            <a:off x="457200" y="1219320"/>
            <a:ext cx="2438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kinds of a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pplication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d processors, database manager, compiler, web brow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System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ng system it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idges between the hardware and users</a:t>
            </a:r>
            <a:endParaRPr b="0" lang="en-US" sz="1800" spc="-1" strike="noStrike">
              <a:solidFill>
                <a:srgbClr val="000000"/>
              </a:solidFill>
              <a:latin typeface="Arial"/>
            </a:endParaRPr>
          </a:p>
        </p:txBody>
      </p:sp>
      <p:pic>
        <p:nvPicPr>
          <p:cNvPr id="375" name="Picture 6" descr=""/>
          <p:cNvPicPr/>
          <p:nvPr/>
        </p:nvPicPr>
        <p:blipFill>
          <a:blip r:embed="rId1"/>
          <a:srcRect l="6649" t="2840" r="0" b="0"/>
          <a:stretch/>
        </p:blipFill>
        <p:spPr>
          <a:xfrm>
            <a:off x="3352680" y="1190520"/>
            <a:ext cx="5353200" cy="521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Functions of Operating Systems (OS)</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2" descr=""/>
          <p:cNvPicPr/>
          <p:nvPr/>
        </p:nvPicPr>
        <p:blipFill>
          <a:blip r:embed="rId1"/>
          <a:srcRect l="6234" t="0" r="0" b="0"/>
          <a:stretch/>
        </p:blipFill>
        <p:spPr>
          <a:xfrm>
            <a:off x="4800600" y="1600200"/>
            <a:ext cx="3438360" cy="3733920"/>
          </a:xfrm>
          <a:prstGeom prst="rect">
            <a:avLst/>
          </a:prstGeom>
          <a:ln w="0">
            <a:noFill/>
          </a:ln>
          <a:effectLst>
            <a:outerShdw dist="38183" dir="2700000" blurRad="0" rotWithShape="0">
              <a:srgbClr val="000000">
                <a:alpha val="43000"/>
              </a:srgbClr>
            </a:outerShdw>
          </a:effectLst>
        </p:spPr>
      </p:pic>
      <p:sp>
        <p:nvSpPr>
          <p:cNvPr id="379" name="TextBox 4"/>
          <p:cNvSpPr/>
          <p:nvPr/>
        </p:nvSpPr>
        <p:spPr>
          <a:xfrm>
            <a:off x="457200" y="1219320"/>
            <a:ext cx="8305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ice management</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 driv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or management (CPU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perating Systems (OS) : Examples </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2" name="Picture 2" descr=""/>
          <p:cNvPicPr/>
          <p:nvPr/>
        </p:nvPicPr>
        <p:blipFill>
          <a:blip r:embed="rId1"/>
          <a:stretch/>
        </p:blipFill>
        <p:spPr>
          <a:xfrm>
            <a:off x="1447920" y="1371600"/>
            <a:ext cx="6271920" cy="47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02T00:39:01Z</dcterms:modified>
  <cp:revision>64</cp:revision>
  <dc:subject/>
  <dc:title>Computer Networks</dc:title>
</cp:coreProperties>
</file>