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DAA-B5CE-4918-BA24-101EB4B0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6D2-C5EC-430C-966B-3263E70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CC6-D6B3-40CC-B02C-E130344B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1DE-15F5-4AD6-A950-3956E863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9950-1020-4925-82EC-09AD3A73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81F4-0187-4997-91B9-A6C6B5B3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D752-2146-4B73-93E9-79BEF79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8560-9596-4E7F-84CD-B1F45EE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964A-5745-4B40-AA5D-205CE17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977D-F3C0-4E4E-9AB2-456AE493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44E-C332-40E3-9970-3116CDB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DD9-4BCE-45AE-8DA9-18975D9B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DD3-B06C-4322-8014-D151FB2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A6A-BB1E-4F60-A49F-30F00BB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EA16-950B-46F2-B2D7-051B329E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561D-E872-4806-832F-7D9B539C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F92-E45C-4590-B078-6A699D8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473-4D6C-46A5-93E1-F248848F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3D1-8B6F-43F3-833D-C84EAB2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CAC-2268-4AEE-8523-F4DE505B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C9A-21A8-48C1-9871-504FF11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C27-BD1A-406E-88AB-A588581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583-512D-432F-BCCD-BDD5338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CAF-83CB-4E10-A8D7-B342954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CD5-D48D-462C-9867-1C92B51B6B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C29-E9DD-4CA2-94EF-5E427DDF8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01FA-1651-4154-BBB7-44094A5F27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278-6FB0-4630-BBEE-96E907C58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705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4114800" y="1676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3B1C-7743-44B0-9127-B454A4A01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OOD Programming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java is a sensitiv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od to begin every program with a comment  that states the purpose of the program and the auth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java program consist of at least one class that the programmer de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class name  with capital l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name doesn’t begin with a digit  and doesn’t contain a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lank lines and spaces to enhance program read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type an opining left brace{ immediately 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sing right br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 the entire body of each class decla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E69-F2B2-4122-B716-231BC58FF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2884053-button-computer-keyboard-with-word-idea-and-icon-light-bulb.jpg"/>
          <p:cNvPicPr/>
          <p:nvPr/>
        </p:nvPicPr>
        <p:blipFill>
          <a:blip r:embed="rId1"/>
          <a:stretch/>
        </p:blipFill>
        <p:spPr>
          <a:xfrm>
            <a:off x="6172200" y="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lightbulb1.jpg"/>
          <p:cNvPicPr/>
          <p:nvPr/>
        </p:nvPicPr>
        <p:blipFill>
          <a:blip r:embed="rId2"/>
          <a:stretch/>
        </p:blipFill>
        <p:spPr>
          <a:xfrm>
            <a:off x="7772400" y="502920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at is Java</a:t>
            </a:r>
            <a:r>
              <a:rPr b="1" lang="ar-SA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is a programming language and computing platform first released by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Microsy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95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Java language is accompanied by a </a:t>
            </a:r>
            <a:r>
              <a:rPr b="1" lang="en-US" sz="2200" spc="-1" strike="noStrike" u="sng">
                <a:solidFill>
                  <a:srgbClr val="ffc000"/>
                </a:solidFill>
                <a:uFillTx/>
                <a:latin typeface="Calibri"/>
                <a:ea typeface="ＭＳ Ｐゴシック"/>
              </a:rPr>
              <a:t>librar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extra software that we can use when developing progr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t of supporting libraries is </a:t>
            </a:r>
            <a:r>
              <a:rPr b="1" lang="en-US" sz="22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ug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1111-3655-42FE-82A6-072E243E7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applications and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1219320"/>
            <a:ext cx="83818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70040" y="4343400"/>
            <a:ext cx="79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be executed on th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1BB-0B85-466B-B221-3B30884C1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piling Java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ytecod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a “.class” fi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machine code from the source code (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the “.java” f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Bytec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FE3E-E191-4BB1-9110-0159EB224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925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latform Independent Java Programs Comp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E9C-3287-4911-8E37-D8AE15812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100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ce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E14F-BCF3-4502-9E55-B053ABC0A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Hello world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9D8-0A47-4A21-9112-3F770CB7B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000"/>
                </a:solidFill>
                <a:latin typeface="Calibri"/>
              </a:rPr>
              <a:t>Saving, Compiling and Running Java Progra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a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ile having a name same as the class name should be used to save the program. The extension of this file is ”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generates a fil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 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byteco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0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8A76-56B0-431A-B4E2-61E6B7D9F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ments in a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 to describe what your code does  its improve the code read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are mad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/</a:t>
            </a: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comm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 the 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l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*  */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* This comment begins at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This line is included in this com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It ends at this line.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/ This comment starts here and ends at the end of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A472-A0CE-43F3-A51F-4A48DFF87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2T08:26:26Z</dcterms:modified>
  <cp:revision>11</cp:revision>
  <dc:subject/>
  <dc:title>Introduction to JAVA</dc:title>
</cp:coreProperties>
</file>