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DDC-BB90-48E3-8A29-233AB4C5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F35-F75E-4038-82B9-919562C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0D9-6867-444B-AD0D-DA40CBC8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5CC-7FF8-455F-BF89-5247B4E7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45A6-73CF-4E51-B58B-E6EB99A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0DC-93BC-498B-BFCE-6EB00E6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DFCC-F59B-40A8-8006-E779C67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247-5938-4505-A1B5-C164F78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8A11-BD28-4781-8FA3-B1BA262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4DD2-5E75-4848-8AD3-8894689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A1C-C230-44B3-9A61-47CABE2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D89-1F69-4FD2-BAF7-E8F6BD50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9D4B-2E77-405B-8F02-2FE5420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1D2-E966-4D25-8FDC-D469A9F7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2960-ECA5-4055-AA2B-82233FC2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C45-FCEA-45A6-A325-2964B861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FEE7-8EFD-4EF6-94F6-14786FDC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97A-3799-4FEA-9A09-0CB06C0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5D8-8C6F-4FE4-8D48-7DC9997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E7A-1B5F-4417-BE0E-EFEEB370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BA9-EC67-49E5-BF4F-5FDA3DE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947-0022-4EFE-AC67-83B4178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8E7-1E8B-43C0-B041-299842EF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70F-A588-4E54-B4CA-D4C1F84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5539-0298-436E-ABBE-4F527E64AE2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B91D-B6B0-4D01-8B1B-8B0CC33E5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D91-BDFA-404F-8321-2B55838A1B6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21B-EBF4-4758-8BD2-B4C9B416F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C58-5871-4938-B531-316F41CC9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874-9657-4EC2-8CBD-4FAE6A745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DD2-5BA8-403A-9A83-FB07B269E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81EB-E849-44D0-8928-B76B96B41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419-C9C4-49CA-99EC-16EE2CD5E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AF7-0A64-4AA5-B5C5-5BE2F65F0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02F-7308-4B50-B689-69731A2EE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A8E-8D4C-4F23-A86D-AC0D9B05A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F25-5E59-48CF-BCF8-5B2116E3B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D5E9-8D26-47C7-A44D-1368213AD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2T08:26:26Z</dcterms:modified>
  <cp:revision>11</cp:revision>
  <dc:subject/>
  <dc:title>Introduction to JAVA</dc:title>
</cp:coreProperties>
</file>