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F3C5-96F0-4017-B349-B370A35DA7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F2EF-E632-4117-9645-EFAF65119E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8D10-B006-4A31-A90A-1723C969D8A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3760-8B0C-4D04-A17F-8593F37F653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5AF0-6232-4492-B750-3BACA134E87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425F-A796-4423-BC86-19086074E88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7783-34F0-449A-9C9D-EA43744F4F3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E74-97D7-4A0C-9AFB-D2EC3B73FD1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8486-E502-49A8-92CC-0A2D9D10DDF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44C-0B0F-4F76-A1C2-4CCDB2F67DA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EEF3-714D-45F7-99FA-51A329BCCD9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27A7-38BD-47E7-9ABA-B2CE7F1D3B1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FFDC-A964-4C61-9024-B9D57671954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B8DC-3AF1-44EA-BA40-8A1DA5619F7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CD9A-567D-4E78-AAD4-EE24174A89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906D-3830-4F2A-A743-86ED2E7AE88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BB77-4840-4A4F-8D48-0A6177AEB48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D139-C34E-41E9-9125-64CBD4F5732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4CD-1BA4-4734-8AA1-8732252125B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395C-3F3C-413D-AC9A-0DA80339591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0DA8-E5E9-4A27-A91C-9240D438C78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CF13-A1C5-49AD-BFC6-FCF433EC3AA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7202-792C-47AD-9C31-5CBCF7E6EE1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FD44-11C6-4D12-B71E-7C0379BBBE9C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E3E-61AB-4F07-8F49-C344501D3BA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29B6-BFE3-4875-8BD9-FFFD0D33A55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9844-B0B1-4CA4-849E-BAB5CE1FAFA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B4CA-1B91-4A38-8262-F80F0A2CB2F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E0D7-9F28-4939-869F-09A0F0340F8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E86-7DDE-4617-AE26-C4EB5D2E9A1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7602-EB73-4D38-B7A9-016878516C0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1F4-F3C9-48EA-92A7-C310DEBD53B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6FA3-07B3-4982-9979-606F804E19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7AAC-5B12-49A3-B38F-8AC32E95CD1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A1B5-FA68-4480-B01D-EB67199F7DF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FFA-AB85-4F91-A9F6-EC26F8C7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6829-2DC9-4224-BFEE-A40EBEC3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852-E824-471A-AEA0-C40DD3A6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BFF-096A-43F9-9539-DBC08B92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BA38-B18C-499B-8EDC-5A1E713A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3DE-2A86-4AB9-B38D-888B5DB9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04CD-3A4D-4073-BD2E-B72FBED7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A60A-9945-4F74-A77F-0851DA54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ECB5-204F-4A14-8728-2A800DE3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F6B9-6CF4-42F0-8E97-3E9A0A2F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0237-8DF5-4B7F-B1A3-5352A905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3D8-3FA6-47FC-A57A-C888CF4B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D3E8-9CE5-4057-91BD-BC0498C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C4E3-786E-47D7-8086-3858B3AD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0F2D-0D60-4182-9633-EE27C16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853A-45C7-463E-8791-10C86A3E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510C-2F68-422D-9682-B783FA9A7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490BF-4317-4335-BD70-D4AA67F0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1509-90BF-436F-BB69-17E5F7EE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BBF4-49ED-4567-869B-93F7B9F7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0DFB-EACD-4D70-84E8-F01B3AC3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E23C-5520-42E6-BB0F-102BE8C7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5A45-2DC2-4CE1-905B-F22346EE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02691-815C-4482-94BE-8449FB74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2668-B846-47B2-A053-6376AAC7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1584-B3B8-484D-BFD4-10123F5C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0469-88CF-4132-88AD-EA9D34BD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4B987-EF6C-4879-9FBA-F3067EE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473C-D420-4631-A3F5-F82320D4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E550B-733C-4DFF-9EB0-2DEDBC25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0A4D1-4018-4944-8A54-68D16D6A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B8934-2910-4D5B-A28B-6787B017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E37F-05E4-41C0-915F-9AFCC81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2B94-9336-44AD-AA8D-864B3FB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6865-0D73-40C6-B6FA-2FE6FE44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F8EB3-77EF-4060-B092-B41A44D4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CF37-CE9E-48AC-931D-EF0E8586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51CDA-0AD4-4C97-B022-B743B863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C5AF-E25A-4EF5-9B04-54EC7E6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FE652-DF87-419D-9BD9-76C80954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0E6B-CEBA-49A4-890A-A2BF264A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7E9D2-626C-4F96-BFE0-F1077579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3EA6A-FDED-4760-BAF6-0CC9B548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B08D-CE2F-47F4-8904-0D0D015F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532E-64C9-470D-B789-DE700DE0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97A03-F600-4549-8E99-ADB505EE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A272-D044-46BA-9D8C-92FE73FE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990F1-DAD9-40F8-A7BB-2550D04C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D800-3AB5-4C06-B07B-5224B6B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A032-C29D-4ACE-9038-4BCB5D45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AE99A-E8F5-4D02-8569-AF3DF34C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78B6E-2DCA-4485-AA68-4D4EBA84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F19B6-E3F8-40A6-929B-30102298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96CE7-1F79-4899-97C8-21A53CB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FDA79-F58F-4EBF-A7B1-4E524DCF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A99-0EBF-4348-80AD-6596D0F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E50B7-703A-4A7D-BB64-9D354E42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F1B8-8F05-405F-8A40-9F7DCAC9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5AF1A-670C-4CB7-BFA8-E5224DE4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5BC70-FF7D-4995-9D43-A9848D24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119DA-1F08-403C-8630-9D3215F4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0D9B-5905-4A78-A22D-EA5568C6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6E61C-41C5-491E-9558-407A2AB9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7A538-47A4-4930-9AD8-F5334224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DAF67-5B02-4C08-930B-7D3595E9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E1CA0-0247-45E9-81BE-67F2FFBB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67B-004A-46A6-9815-88F2972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9ACB4-472A-4C30-81F3-0FCC6751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36482-311B-4D36-AF3C-A214A6E3C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66211-B450-4D76-BD0C-A1923D48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7CA44-4B57-4BED-8154-307F12FE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B5E2-4A62-4129-90DC-C4B3DBEC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3118-8DF1-430D-B1BD-27554850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C26FE-4B2B-4A5D-B82D-9D28A5E8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03769-8FD1-4FE9-B061-85C4369F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2762-F636-4989-A081-FAF4D53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6FEC6-16CF-4A32-9D55-68B6392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4270-8A53-44B6-B3CA-F34B628B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45093-77D0-4524-8866-3649931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3763-3F5A-440C-8BFC-321A7975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E276-7415-4288-B776-10CF365F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4B007-A525-4705-8C69-09FE79AB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0A10-1756-4D31-AC8E-E021C43E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 algn="r" rtl="1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274-9A37-4A4A-9A42-3D31CAC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54E3-FD22-4591-9217-DCDD424A175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9FD-173F-4998-BBA8-482273BAC0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 algn="r" rtl="1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3DAB-D722-4772-9516-6995AA51EF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199-AA5B-432A-A7D0-61A2331CE47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FF4-8848-4A6A-A3EC-47AE1FDDA1A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4F16-B670-4AB5-96A4-B0ADD4902430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 algn="r" rtl="1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 algn="r" rtl="1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 algn="r" rtl="1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 algn="r" rtl="1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 algn="r" rtl="1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3260-CD2A-47DE-8095-591BF3532BB5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689040" y="3359160"/>
            <a:ext cx="8076960" cy="16700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4" name="Content Placeholder 3" descr="j2.bmp"/>
          <p:cNvPicPr/>
          <p:nvPr/>
        </p:nvPicPr>
        <p:blipFill>
          <a:blip r:embed="rId2"/>
          <a:stretch/>
        </p:blipFill>
        <p:spPr>
          <a:xfrm>
            <a:off x="609480" y="1668600"/>
            <a:ext cx="777240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5" descr=""/>
          <p:cNvPicPr/>
          <p:nvPr/>
        </p:nvPicPr>
        <p:blipFill>
          <a:blip r:embed="rId2"/>
          <a:srcRect l="18743" t="25000" r="19180" b="10418"/>
          <a:stretch/>
        </p:blipFill>
        <p:spPr>
          <a:xfrm>
            <a:off x="76320" y="1523880"/>
            <a:ext cx="8858160" cy="51818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457200" y="3048120"/>
            <a:ext cx="830592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7"/>
          <p:cNvSpPr/>
          <p:nvPr/>
        </p:nvSpPr>
        <p:spPr>
          <a:xfrm>
            <a:off x="168480" y="3733920"/>
            <a:ext cx="37803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how tables to be jo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9"/>
          <p:cNvCxnSpPr/>
          <p:nvPr/>
        </p:nvCxnSpPr>
        <p:spPr>
          <a:xfrm flipH="1">
            <a:off x="609120" y="3504960"/>
            <a:ext cx="15336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219240"/>
            <a:ext cx="8229600" cy="14572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Note: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the previews example, the DEPARTMENT_ID column is common to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both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ables,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it must be prefixed by the table name to avoid </a:t>
            </a:r>
            <a:r>
              <a:rPr b="0" i="1" lang="en-US" sz="3200" spc="-1" strike="noStrike">
                <a:solidFill>
                  <a:srgbClr val="0070c0"/>
                </a:solidFill>
                <a:latin typeface="Corbel"/>
              </a:rPr>
              <a:t>ambiguit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57200" y="139680"/>
            <a:ext cx="8229600" cy="1463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2"/>
          <a:srcRect l="20500" t="29168" r="17423" b="12500"/>
          <a:stretch/>
        </p:blipFill>
        <p:spPr>
          <a:xfrm>
            <a:off x="228600" y="1752480"/>
            <a:ext cx="86868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7200" y="-1260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"/>
          <p:cNvPicPr/>
          <p:nvPr/>
        </p:nvPicPr>
        <p:blipFill>
          <a:blip r:embed="rId2"/>
          <a:srcRect l="19091" t="33337" r="17188" b="33337"/>
          <a:stretch/>
        </p:blipFill>
        <p:spPr>
          <a:xfrm>
            <a:off x="76320" y="1666800"/>
            <a:ext cx="899136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4634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Use table prefixes to qualify column names that are in multiple t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mprove performance by using table prefix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For simplicity: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  <a:ea typeface="Tahoma"/>
              </a:rPr>
              <a:t>We can distinguish columns that have identical names but reside in different tables by using column </a:t>
            </a:r>
            <a:r>
              <a:rPr b="0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alias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2"/>
          <a:srcRect l="21670" t="33337" r="19180" b="26043"/>
          <a:stretch/>
        </p:blipFill>
        <p:spPr>
          <a:xfrm>
            <a:off x="228600" y="1600200"/>
            <a:ext cx="8683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2"/>
          <a:srcRect l="15226" t="50005" r="14496" b="25000"/>
          <a:stretch/>
        </p:blipFill>
        <p:spPr>
          <a:xfrm>
            <a:off x="-76320" y="1600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2"/>
          <a:srcRect l="16399" t="19793" r="12739" b="6250"/>
          <a:stretch/>
        </p:blipFill>
        <p:spPr>
          <a:xfrm>
            <a:off x="0" y="1447920"/>
            <a:ext cx="922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Sometimes you may need to join more than two tables. 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, to display the last name, the department name, and the city for each employee, you have to join the EMPLOYEES, DEPARTMENTS, and LOCATIONS tables. (</a:t>
            </a:r>
            <a:r>
              <a:rPr b="1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2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4702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metimes you need to use data from more than one table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example1, the report displays data from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two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separate table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mployee IDs exist in the EMPLOYEE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Department IDs exist in both the EMPLOYEES and DEPARTMENTS table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Location IDs exist in the DEPARTMENTS tabl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produce the report, you need to </a:t>
            </a:r>
            <a:r>
              <a:rPr b="1" lang="en-US" sz="3000" spc="-1" strike="noStrike">
                <a:solidFill>
                  <a:srgbClr val="00b0f0"/>
                </a:solidFill>
                <a:latin typeface="Corbel"/>
              </a:rPr>
              <a:t>link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EMPLOYEE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and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DEPARTMENTS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tables and access data from both of them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2"/>
          <a:srcRect l="12885" t="28125" r="16836" b="6250"/>
          <a:stretch/>
        </p:blipFill>
        <p:spPr>
          <a:xfrm>
            <a:off x="0" y="152388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2"/>
          <a:srcRect l="18743" t="20832" r="15079" b="9375"/>
          <a:stretch/>
        </p:blipFill>
        <p:spPr>
          <a:xfrm>
            <a:off x="76320" y="1523880"/>
            <a:ext cx="8915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nonequijoin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is a join condition containing something </a:t>
            </a: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ther than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n equality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relationship between the  EMPLOYEES table and the JOB_GRADES table has an example of a nonequijoi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relationship between the two tables is that  the SALARY column in the EMPLOYEES table must be between the values in the  LOWEST_SALARY and HIGHEST_SALARY columns of the JOB_GRADES table. The relationship is obtained using an operator other than equals (=).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rcRect l="20500" t="30212" r="15669" b="10418"/>
          <a:stretch/>
        </p:blipFill>
        <p:spPr>
          <a:xfrm>
            <a:off x="152280" y="1600200"/>
            <a:ext cx="8888400" cy="46483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228600" y="2590920"/>
            <a:ext cx="8686800" cy="380880"/>
          </a:xfrm>
          <a:prstGeom prst="rect">
            <a:avLst/>
          </a:prstGeom>
          <a:noFill/>
          <a:ln w="478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"/>
          <p:cNvSpPr/>
          <p:nvPr/>
        </p:nvSpPr>
        <p:spPr>
          <a:xfrm>
            <a:off x="101160" y="3276720"/>
            <a:ext cx="47649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nequijoin cond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ecifies that salary must be between 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Pair of low and high 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6"/>
          <p:cNvCxnSpPr/>
          <p:nvPr/>
        </p:nvCxnSpPr>
        <p:spPr>
          <a:xfrm flipH="1">
            <a:off x="532800" y="3047760"/>
            <a:ext cx="153000" cy="153000"/>
          </a:xfrm>
          <a:prstGeom prst="straightConnector1">
            <a:avLst/>
          </a:prstGeom>
          <a:ln cap="rnd"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e that : 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other conditions such as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l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and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</a:rPr>
              <a:t>&gt;=</a:t>
            </a:r>
            <a:r>
              <a:rPr b="0" lang="en-US" sz="3200" spc="-1" strike="noStrike">
                <a:solidFill>
                  <a:srgbClr val="c64847"/>
                </a:solidFill>
                <a:latin typeface="Corbel"/>
              </a:rPr>
              <a:t> can be used also. But BETWEEN  condition is the simples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f a row does not satisfy a join condition, the row will not appear in the query result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For example, in the equijoin condition of EMPLOYEES and DEPARTMENTS tables, employee Grant does not appear because there is no department ID recorded for her in the EMPLOYEES table</a:t>
            </a:r>
            <a:r>
              <a:rPr b="0" lang="en-US" sz="3200" spc="-1" strike="noStrike">
                <a:solidFill>
                  <a:srgbClr val="92d05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Instead of seeing 20 employees in the result set, you see 19 records. (</a:t>
            </a:r>
            <a:r>
              <a:rPr b="0" lang="en-US" sz="3200" spc="-1" strike="noStrike">
                <a:solidFill>
                  <a:srgbClr val="f0ad00"/>
                </a:solidFill>
                <a:latin typeface="Corbel"/>
                <a:ea typeface="Tahoma"/>
              </a:rPr>
              <a:t>see Example 3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2"/>
          <a:srcRect l="13472" t="12500" r="16253" b="22918"/>
          <a:stretch/>
        </p:blipFill>
        <p:spPr>
          <a:xfrm>
            <a:off x="76320" y="1676520"/>
            <a:ext cx="899136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o see rows that do not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meet the join condition 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we use the outer joi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outer join operator is the plus sign 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(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+</a:t>
            </a: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table2.column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table1.column, table2.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table1, 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table1.column = table2.column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(+)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457200" y="3581280"/>
            <a:ext cx="7238880" cy="121932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457200" y="5105520"/>
            <a:ext cx="7238880" cy="129528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1.column = is the condition that joins (or relates) the tables together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table2.column (+) is the outer join symbol, which can be placed on either side of th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RE clause condition, but </a:t>
            </a:r>
            <a:r>
              <a:rPr b="1" lang="en-US" sz="3200" spc="-1" strike="noStrike">
                <a:solidFill>
                  <a:srgbClr val="c64847"/>
                </a:solidFill>
                <a:latin typeface="Corbel"/>
              </a:rPr>
              <a:t>not on both sid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(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Place the outer join symbol following the name of the column in the table witho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70c0"/>
                </a:solidFill>
                <a:latin typeface="Corbel"/>
              </a:rPr>
              <a:t>the matching row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88" name="Content Placeholder 3" descr="j3.bmp"/>
          <p:cNvPicPr/>
          <p:nvPr/>
        </p:nvPicPr>
        <p:blipFill>
          <a:blip r:embed="rId2"/>
          <a:stretch/>
        </p:blipFill>
        <p:spPr>
          <a:xfrm>
            <a:off x="-6480" y="1600200"/>
            <a:ext cx="876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" descr=""/>
          <p:cNvPicPr/>
          <p:nvPr/>
        </p:nvPicPr>
        <p:blipFill>
          <a:blip r:embed="rId2"/>
          <a:srcRect l="19440" t="17638" r="15735" b="11531"/>
          <a:stretch/>
        </p:blipFill>
        <p:spPr>
          <a:xfrm>
            <a:off x="304920" y="1523880"/>
            <a:ext cx="847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4500" spc="-1" strike="noStrike">
              <a:solidFill>
                <a:srgbClr val="ffc800"/>
              </a:solidFill>
              <a:latin typeface="Corbel"/>
              <a:ea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slide example displays employee last names, department ID’s and department names. The Contracting department does not have any employees.  The empty value is shown in the output shown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rbel"/>
              </a:rPr>
              <a:t>Outer Join Restri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 outer join operator can appear on only one side of the expression: the side that has information missing. It returns those rows from one table that have no direct match in the other tabl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A condition involving an outer join cannot use the IN operator or be linked to another condition by the OR operator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2"/>
          <a:srcRect l="32494" t="27288" r="28701" b="36476"/>
          <a:stretch/>
        </p:blipFill>
        <p:spPr>
          <a:xfrm>
            <a:off x="0" y="16765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2"/>
          <a:srcRect l="12885" t="17707" r="11568" b="29168"/>
          <a:stretch/>
        </p:blipFill>
        <p:spPr>
          <a:xfrm>
            <a:off x="228600" y="1600200"/>
            <a:ext cx="8763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r" rtl="1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rcRect l="17572" t="28130" r="18010" b="12500"/>
          <a:stretch/>
        </p:blipFill>
        <p:spPr>
          <a:xfrm>
            <a:off x="-76320" y="1600200"/>
            <a:ext cx="9117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last name, department number, and department name for all employees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Write a query to display the employee last name, department name, location ID, and city of all employees who earn a commis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A Cartesian product is formed whe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omitt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 join condition is inval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Tahoma"/>
              </a:rPr>
              <a:t>All rows in the first table are joined to all rows in the second tabl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Tahoma"/>
              </a:rPr>
              <a:t>To avoid a Cartesian product, always include a valid join condition in a </a:t>
            </a:r>
            <a:r>
              <a:rPr b="1" lang="en-US" sz="3200" spc="-1" strike="noStrike">
                <a:solidFill>
                  <a:srgbClr val="92d050"/>
                </a:solidFill>
                <a:latin typeface="Corbel"/>
                <a:ea typeface="Tahoma"/>
              </a:rPr>
              <a:t>WHERE claus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19" name="Content Placeholder 3" descr="j1.bmp"/>
          <p:cNvPicPr/>
          <p:nvPr/>
        </p:nvPicPr>
        <p:blipFill>
          <a:blip r:embed="rId2"/>
          <a:stretch/>
        </p:blipFill>
        <p:spPr>
          <a:xfrm>
            <a:off x="347760" y="1600200"/>
            <a:ext cx="8186760" cy="4952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5654520" y="3809880"/>
            <a:ext cx="3308040" cy="91692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first tabl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JOIN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All rows in the secon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rcRect l="21291" t="25876" r="17586" b="16471"/>
          <a:stretch/>
        </p:blipFill>
        <p:spPr>
          <a:xfrm>
            <a:off x="158760" y="1676520"/>
            <a:ext cx="8908920" cy="472428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4"/>
          <p:cNvSpPr/>
          <p:nvPr/>
        </p:nvSpPr>
        <p:spPr>
          <a:xfrm>
            <a:off x="380880" y="3048120"/>
            <a:ext cx="3048120" cy="1828800"/>
          </a:xfrm>
          <a:prstGeom prst="rect">
            <a:avLst/>
          </a:prstGeom>
          <a:noFill/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533520" y="2666880"/>
            <a:ext cx="8001000" cy="160020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6840" y="1774800"/>
            <a:ext cx="80773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Use a join to query data from more than one tabl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SELECT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00b050"/>
                </a:solidFill>
                <a:latin typeface="Corbel"/>
              </a:rPr>
              <a:t>colum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FROM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HERE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d9253e"/>
                </a:solidFill>
                <a:latin typeface="Corbel"/>
              </a:rPr>
              <a:t>column1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= </a:t>
            </a: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table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1" lang="en-US" sz="3000" spc="-1" strike="noStrike">
                <a:solidFill>
                  <a:srgbClr val="ffff00"/>
                </a:solidFill>
                <a:latin typeface="Corbel"/>
              </a:rPr>
              <a:t>column2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rite the join condition in the </a:t>
            </a:r>
            <a:r>
              <a:rPr b="1" i="1" lang="en-US" sz="3000" spc="-1" strike="noStrike">
                <a:solidFill>
                  <a:srgbClr val="000000"/>
                </a:solidFill>
                <a:latin typeface="Corbel"/>
              </a:rPr>
              <a:t>WHERE clause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orbel"/>
              </a:rPr>
              <a:t>Prefix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column name </a:t>
            </a:r>
            <a:r>
              <a:rPr b="1" lang="en-US" sz="3000" spc="-1" strike="noStrike">
                <a:solidFill>
                  <a:srgbClr val="000000"/>
                </a:solidFill>
                <a:latin typeface="Corbel"/>
              </a:rPr>
              <a:t>with the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able name “</a:t>
            </a:r>
            <a:r>
              <a:rPr b="1" lang="en-US" sz="3000" spc="-1" strike="noStrike">
                <a:solidFill>
                  <a:srgbClr val="92d050"/>
                </a:solidFill>
                <a:latin typeface="Corbel"/>
              </a:rPr>
              <a:t>when the same column name appears in more than one table.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 “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000000">
              <a:alpha val="45000"/>
            </a:srgbClr>
          </a:solidFill>
          <a:ln w="47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7744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When writing a SELECT statement that joins tables, precede the column name with the table name for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clarity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nd to </a:t>
            </a:r>
            <a:r>
              <a:rPr b="0" lang="en-US" sz="2500" spc="-1" strike="noStrike">
                <a:solidFill>
                  <a:srgbClr val="f0ad00"/>
                </a:solidFill>
                <a:latin typeface="Corbel"/>
              </a:rPr>
              <a:t>enhance database access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. 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optional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If the </a:t>
            </a:r>
            <a:r>
              <a:rPr b="1" lang="en-US" sz="2500" spc="-1" strike="noStrike">
                <a:solidFill>
                  <a:srgbClr val="0070c0"/>
                </a:solidFill>
                <a:latin typeface="Corbel"/>
              </a:rPr>
              <a:t>same column name 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appears in more than one table, the column name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must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be prefixed with the table name.(</a:t>
            </a:r>
            <a:r>
              <a:rPr b="0" lang="en-US" sz="2500" spc="-1" strike="noStrike">
                <a:solidFill>
                  <a:srgbClr val="c64847"/>
                </a:solidFill>
                <a:latin typeface="Corbel"/>
              </a:rPr>
              <a:t>mandatory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o join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 together, you need a minimum of </a:t>
            </a:r>
            <a:r>
              <a:rPr b="1" lang="en-US" sz="2500" spc="-1" strike="noStrike">
                <a:solidFill>
                  <a:srgbClr val="92d050"/>
                </a:solidFill>
                <a:latin typeface="Corbel"/>
              </a:rPr>
              <a:t>n-1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 conditions. </a:t>
            </a:r>
            <a:r>
              <a:rPr b="0" lang="en-US" sz="2500" spc="-1" strike="noStrike">
                <a:solidFill>
                  <a:srgbClr val="b48200"/>
                </a:solidFill>
                <a:latin typeface="Corbel"/>
              </a:rPr>
              <a:t>For exampl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, to join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four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tables, a </a:t>
            </a:r>
            <a:r>
              <a:rPr b="0" i="1" lang="en-US" sz="2500" spc="-1" strike="noStrike">
                <a:solidFill>
                  <a:srgbClr val="000000"/>
                </a:solidFill>
                <a:latin typeface="Corbel"/>
              </a:rPr>
              <a:t>minimum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of </a:t>
            </a:r>
            <a:r>
              <a:rPr b="0" lang="en-US" sz="2500" spc="-1" strike="noStrike">
                <a:solidFill>
                  <a:srgbClr val="92d050"/>
                </a:solidFill>
                <a:latin typeface="Corbel"/>
              </a:rPr>
              <a:t>three</a:t>
            </a: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 joins is required. 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rbel"/>
              </a:rPr>
              <a:t>This rule may not  apply if your table has a concatenated primary key, in which case more than one column is required to uniquely identify each row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-302760" y="5562720"/>
            <a:ext cx="9743760" cy="459720"/>
          </a:xfrm>
          <a:prstGeom prst="rect">
            <a:avLst/>
          </a:prstGeom>
          <a:gradFill rotWithShape="0">
            <a:gsLst>
              <a:gs pos="0">
                <a:srgbClr val="ffde7f"/>
              </a:gs>
              <a:gs pos="100000">
                <a:srgbClr val="fff5da"/>
              </a:gs>
            </a:gsLst>
            <a:lin ang="16200000"/>
          </a:gradFill>
          <a:ln cap="rnd" w="6480">
            <a:solidFill>
              <a:srgbClr val="f0ac00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rbel"/>
              </a:rPr>
              <a:t>[Bonus] Q:How to define a table with a composite primary k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1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ad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0ad00"/>
                </a:solidFill>
                <a:latin typeface="Calibri"/>
              </a:rPr>
              <a:t>To determine an employee’s department name you compare th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in the DEPARTMENT_ID column in the EMPLOYEES tab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the DEPARTMENT_ID values in the DEPARTMENTS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lationship between the EMPLOYEES and DEPARTMENTS tables is an </a:t>
            </a: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equijo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at is, values in the DEPARTMENT_ID column on both table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st be eq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2d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d050"/>
                </a:solidFill>
                <a:latin typeface="Calibri"/>
              </a:rPr>
              <a:t>Frequent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is type of join involv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ore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key comp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64847"/>
                </a:solidFill>
                <a:latin typeface="Calibri"/>
              </a:rPr>
              <a:t>Note: Equijoins are also called simple joins or inner j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18:26:03Z</dcterms:created>
  <dc:creator>Hmra</dc:creator>
  <dc:description/>
  <dc:language>en-US</dc:language>
  <cp:lastModifiedBy>Sony</cp:lastModifiedBy>
  <dcterms:modified xsi:type="dcterms:W3CDTF">2014-04-26T14:53:12Z</dcterms:modified>
  <cp:revision>43</cp:revision>
  <dc:subject/>
  <dc:title>Displaying Data  from Multiple Tables</dc:title>
</cp:coreProperties>
</file>