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C23C-8AB3-4EA4-AB1B-18AA87C15F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3EC5-C560-4513-9A83-21FEE2D5C0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A119-B705-43DA-B580-98EAAFEF6E1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9370-5BE7-4E44-A9D7-E4E0EAAD628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EB48-8D24-4898-AD7D-F014D98F11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AEA9-7E5D-4F10-8163-9004819CE84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5401-655E-42BF-8C3A-08A2743AFA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3E99-303B-40C6-823E-E703E5E23B9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A451-896A-409F-9096-2EC8ADC751E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66AB-E0CC-4062-8F56-852ED1351CB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4E62-6044-489A-9C83-A812CD0776D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C26B-97E7-4BD2-872C-7E1E473835B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F5EA-1D42-4B6C-B6CB-C6AD5AA9A82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B12F-FEE1-49A0-8646-5059F459EDF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7E9A-4C87-4B2D-8F15-47666D6BEBA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BFCB-F2D1-4E84-BD6B-9DF4A8D1D46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E78F-6178-4CEA-B2AA-A4B1BF7C7D6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622C-A380-44E1-8437-A44352754F9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6264-010E-4DE4-A41C-64115A119AA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78F2-5CCE-4697-8F69-265D7FC7C23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98E5-D279-4BCB-AE07-196C8C7B09B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4CD6-6F3F-415B-B2DA-4D9EC3C9791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9C30-4DD2-4A84-8E80-89DB4B620D7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DEDD-2661-4B52-A810-F66C344BDA4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2240-EB86-40EA-8AA2-4CF55D9FF50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75A9-08EB-4783-87D5-484B51A4C0A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5F11-F956-4C2B-99FA-794038D3961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DFBA-A5A6-4042-B9D9-FA3D3BB9D3B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BFFB-5DBA-4240-A897-66891A8E764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2227-97AC-4797-BC65-9B8D03BE2B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BFB4-8825-4A67-9657-8C4A05CC6A5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007F-F2F4-4997-ACB7-5B4D52AF92B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2C5E-47B2-4EFB-AC64-2512C3E0806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0F5E-F9FC-4ACF-801D-44B955C7454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042D-26D2-4418-A132-8E8F8D6E3B2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2C3-91F0-4B83-9182-22E1BC7B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602-E382-4739-892D-A3852695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024-A6E7-4811-980B-99511489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F20-8AF7-4BC5-B3E2-19FB0A88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D40F-CC1C-4677-9796-5FB2B911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4AB7-0AE4-4C75-8A15-3014197A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0071-8C81-45A2-B945-1A6C351B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40D6-11A2-4E7B-AA12-F60BC7E8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35A6-0D6F-46AE-BDC3-09316E09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8A1B-25AD-419A-8964-CB349353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BB2B-6049-45FF-9D80-585623EC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B47-4CA8-4053-9D01-A4449AC2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0297-70BD-489B-9829-64197C9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A1A1-45E6-4FAD-8C1B-200674E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59B0-2E41-42D6-8881-DDA8725F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8C78-3B39-4B92-B695-7209B19D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E5F-B864-4383-8BC8-4E048893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072B-3189-4DBF-BE88-F22FB0B5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7C05-04F5-4968-B428-8A94C161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E2474-6178-4A06-8380-0437FA3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1ED2-C6FA-48ED-B839-5ACAB279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730E-8EB5-45CD-8233-1A89DAC9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FCB-ABF9-4754-BA76-B89C1D5D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B79D-D8A1-44F1-9BB7-B8D29B60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35F2-424C-4318-A4A8-D2C655B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287C-3ECD-4EE4-9B64-B3A900D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4C218-6651-4EAA-9961-2CB4F427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AD65-F822-43A5-9D43-56012735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9973-4BAD-407D-9FF4-0E957801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18F6-CA2A-4E1E-99BE-6F33812C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6C92-2E36-4733-B7BF-1F6B12B7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1462-CA43-4A7C-AE63-8BD6AA57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EACC-C176-4D33-8AA7-DBF167EF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0AB-3AFF-457D-8E08-3C8A2BDA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465A-98F3-4425-98AC-EF1BCCE4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37578-5DAB-4D6C-8356-B818699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861E-22BB-4845-B9CD-C195D09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980E-6C05-41A7-97D3-B0D794A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FF90-7AD9-40BF-9482-367B93C9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6AE4-E1AC-438A-B36D-1BAD5717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DD0A-BC4A-4B6E-BDB0-71AB98A7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7407-1304-47A5-A740-E186037D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F83C-5340-4C92-84DE-5B2E7510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D96AE-023E-4E3F-BA0F-D69E8517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8CC-925D-4D29-B755-4FDE5DED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52F0-EADA-417A-A710-5399E614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34E1B-7F72-4C52-AAEA-07F08C60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A355-7700-4118-B388-63A0DBE7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CF3C6-8D8B-4DC0-A2EE-2336AFE4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4295D-4B29-4F2D-AB3D-9E74A744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8C3B-E918-4616-AE11-C3BC445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2332-51CD-4D6D-9766-8E9DA6DC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625F2-339F-4562-A19A-CAB96B5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8CA4F-2572-49A5-BBC0-2D17DB63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6AB65-C155-4648-949D-625A5D73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B31-161C-43B1-841C-77A7EAE7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95598-1BB7-4635-AFA3-77F001DA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DB3D-030C-495C-B82B-CAEAD711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6D2DD-CAE2-40D7-A78F-F23D2809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D0CDB-B09A-45DE-BF0B-E22ADC1C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42AD-530E-4430-A186-0884CA59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E0F09-123B-4671-A2C6-E5FDBC42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A5DA4-DA27-4C01-9248-7FC8048E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4BBE0-2F4B-4495-9E69-886846D8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237C-834C-44DE-9237-E40CC02B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A8BB-ACF3-4DFE-9CBB-387A103D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B67-8482-46E5-880E-2D2A861E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92EC-65B5-4481-8115-20068240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5103F-EC4C-4516-B8ED-39AC57AA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85A2-D065-4C12-B47C-D266F35E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731E5-977D-42C7-AEF2-2F2C5523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3C9D8-7327-4DFB-B4AD-5E94A448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1CFA4-C1E0-4B5F-A894-2F3F9BE9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BD6E4-ECC1-4526-A66C-97991539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6DDD0-D911-4076-9F54-39732AD1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AD0A-A5BE-4CA0-AAAF-4B1D854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8BFB0-81D3-4FDE-8A12-ABF48A95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299-3F76-486E-B355-8AA29CA0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62F43-6790-4A80-8DF9-97893E48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B516E-576B-493A-823F-221BE4F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88CBB-3A0B-48CF-AFC3-358DCAB3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27CBF-C922-49DA-9F4A-4872DFEC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EC55C-56B4-4B2B-B3F8-414B10D2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C42-EF67-4E13-8CD8-75AF5F96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04EE-A6BB-4151-B590-BF27D5FE676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5C79-62E3-463A-B82A-EE7506C986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6E39-EA26-4591-B750-6FA98189B5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656C-87A6-4C12-B09E-F07626E9017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A56C-129A-44FB-AADD-D534C22F6D3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3BC1-B140-4C4A-A8E7-4E450EC3B23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55EA-7FF5-4F14-B154-11D4CA1D465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j2.bmp"/>
          <p:cNvPicPr/>
          <p:nvPr/>
        </p:nvPicPr>
        <p:blipFill>
          <a:blip r:embed="rId2"/>
          <a:stretch/>
        </p:blipFill>
        <p:spPr>
          <a:xfrm>
            <a:off x="609480" y="1668600"/>
            <a:ext cx="77724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2"/>
          <a:srcRect l="18743" t="25000" r="19180" b="10418"/>
          <a:stretch/>
        </p:blipFill>
        <p:spPr>
          <a:xfrm>
            <a:off x="76320" y="1523880"/>
            <a:ext cx="8858160" cy="5181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457200" y="3048120"/>
            <a:ext cx="830592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68480" y="3733920"/>
            <a:ext cx="378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how tables to be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9"/>
          <p:cNvCxnSpPr/>
          <p:nvPr/>
        </p:nvCxnSpPr>
        <p:spPr>
          <a:xfrm flipH="1">
            <a:off x="609120" y="3504960"/>
            <a:ext cx="15336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Note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previews example, the DEPARTMENT_ID column is common to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ables,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t must be prefixed by the table name to avoid </a:t>
            </a:r>
            <a:r>
              <a:rPr b="0" i="1" lang="en-US" sz="3200" spc="-1" strike="noStrike">
                <a:solidFill>
                  <a:srgbClr val="0070c0"/>
                </a:solidFill>
                <a:latin typeface="Corbel"/>
              </a:rPr>
              <a:t>ambiguit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2"/>
          <a:srcRect l="20500" t="29168" r="17423" b="12500"/>
          <a:stretch/>
        </p:blipFill>
        <p:spPr>
          <a:xfrm>
            <a:off x="228600" y="1752480"/>
            <a:ext cx="8686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-12600"/>
            <a:ext cx="82296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19091" t="33337" r="17188" b="33337"/>
          <a:stretch/>
        </p:blipFill>
        <p:spPr>
          <a:xfrm>
            <a:off x="76320" y="1666800"/>
            <a:ext cx="8991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463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Use table prefixes to qualify column names that are in multiple t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mprove performance by using table prefix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For simplicity: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We can distinguish columns that have identical names but reside in different tables by using column </a:t>
            </a:r>
            <a:r>
              <a:rPr b="0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2"/>
          <a:srcRect l="21670" t="33337" r="19180" b="26043"/>
          <a:stretch/>
        </p:blipFill>
        <p:spPr>
          <a:xfrm>
            <a:off x="228600" y="1600200"/>
            <a:ext cx="86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rcRect l="15226" t="50005" r="14496" b="25000"/>
          <a:stretch/>
        </p:blipFill>
        <p:spPr>
          <a:xfrm>
            <a:off x="-76320" y="1600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2"/>
          <a:srcRect l="16399" t="19793" r="12739" b="6250"/>
          <a:stretch/>
        </p:blipFill>
        <p:spPr>
          <a:xfrm>
            <a:off x="0" y="1447920"/>
            <a:ext cx="9220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Sometimes you may need to join more than two tables. 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, to display the last name, the department name, and the city for each employee, you have to join the EMPLOYEES, DEPARTMENTS, and LOCATIONS tables. (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470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metimes you need to use data from more than one table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example1, the report displays data from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two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separate tabl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mployee IDs exist in the EMPLOYEE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partment IDs exist in both the EMPLOYEES and DEPARTMENTS table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cation IDs exist in the DEPARTMENT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produce the report, you need to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link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DEPARTMENT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ables and access data from both of them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2"/>
          <a:srcRect l="12885" t="28125" r="16836" b="6250"/>
          <a:stretch/>
        </p:blipFill>
        <p:spPr>
          <a:xfrm>
            <a:off x="0" y="152388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2"/>
          <a:srcRect l="18743" t="20832" r="15079" b="9375"/>
          <a:stretch/>
        </p:blipFill>
        <p:spPr>
          <a:xfrm>
            <a:off x="76320" y="1523880"/>
            <a:ext cx="8915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nonequijoi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is a join condition containing something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ther than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 equality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relationship between the  EMPLOYEES table and the JOB_GRADES table has an example of a nonequijoi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relationship between the two tables is that  the SALARY column in the EMPLOYEES table must be between the values in the  LOWEST_SALARY and HIGHEST_SALARY columns of the JOB_GRADES table. The relationship is obtained using an operator other than equals (=)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rcRect l="20500" t="30212" r="15669" b="10418"/>
          <a:stretch/>
        </p:blipFill>
        <p:spPr>
          <a:xfrm>
            <a:off x="152280" y="1600200"/>
            <a:ext cx="8888400" cy="4648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228600" y="2590920"/>
            <a:ext cx="868680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101160" y="3276720"/>
            <a:ext cx="4764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n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that salary must be betwee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ir of low and high 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6"/>
          <p:cNvCxnSpPr/>
          <p:nvPr/>
        </p:nvCxnSpPr>
        <p:spPr>
          <a:xfrm flipH="1">
            <a:off x="532800" y="3047760"/>
            <a:ext cx="15300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e that : 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other conditions such as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l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g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can be used also. But BETWEEN  condition is the simples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f a row does not satisfy a join condition, the row will not appear in the query result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For example, in the equijoin condition of EMPLOYEES and DEPARTMENTS tables, employee Grant does not appear because there is no department ID recorded for her in the EMPLOYEES table</a:t>
            </a:r>
            <a:r>
              <a:rPr b="0" lang="en-US" sz="32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nstead of seeing 20 employees in the result set, you see 19 records. (</a:t>
            </a:r>
            <a:r>
              <a:rPr b="0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2"/>
          <a:srcRect l="13472" t="12500" r="16253" b="22918"/>
          <a:stretch/>
        </p:blipFill>
        <p:spPr>
          <a:xfrm>
            <a:off x="76320" y="1676520"/>
            <a:ext cx="8991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see rows that do not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meet the join condition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e use the outer joi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outer join operator is the plus sign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(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+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table2.column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 = table2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3581280"/>
            <a:ext cx="7238880" cy="121932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57200" y="5105520"/>
            <a:ext cx="7238880" cy="129528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1.column = is the condition that joins (or relates) the tables together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2.column (+) is the outer join symbol, which can be placed on either side of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clause condition, but </a:t>
            </a: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 on both sid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Place the outer join symbol following the name of the column in the table witho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the matching row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j3.bmp"/>
          <p:cNvPicPr/>
          <p:nvPr/>
        </p:nvPicPr>
        <p:blipFill>
          <a:blip r:embed="rId2"/>
          <a:stretch/>
        </p:blipFill>
        <p:spPr>
          <a:xfrm>
            <a:off x="-6480" y="1600200"/>
            <a:ext cx="876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rcRect l="19440" t="17638" r="15735" b="11531"/>
          <a:stretch/>
        </p:blipFill>
        <p:spPr>
          <a:xfrm>
            <a:off x="304920" y="1523880"/>
            <a:ext cx="84708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500" spc="-1" strike="noStrike">
              <a:solidFill>
                <a:srgbClr val="ffc800"/>
              </a:solidFill>
              <a:latin typeface="Corbel"/>
              <a:ea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lide example displays employee last names, department ID’s and department names. The Contracting department does not have any employees.  The empty value is shown in the output show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uter Join Restrictio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outer join operator can appear on only one side of the expression: the side that has information missing. It returns those rows from one table that have no direct match in the other tabl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condition involving an outer join cannot use the IN operator or be linked to another condition by the OR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rcRect l="32494" t="27288" r="28701" b="36476"/>
          <a:stretch/>
        </p:blipFill>
        <p:spPr>
          <a:xfrm>
            <a:off x="0" y="16765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rcRect l="12885" t="17707" r="11568" b="29168"/>
          <a:stretch/>
        </p:blipFill>
        <p:spPr>
          <a:xfrm>
            <a:off x="228600" y="1600200"/>
            <a:ext cx="876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rcRect l="17572" t="28130" r="18010" b="12500"/>
          <a:stretch/>
        </p:blipFill>
        <p:spPr>
          <a:xfrm>
            <a:off x="-76320" y="1600200"/>
            <a:ext cx="9117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last name, department number, and department name for all employee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employee last name, department name, location ID, and city of all employees who earn a commis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A Cartesian product is formed whe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omit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inval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ll rows in the first table are joined to all rows in the second t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To avoid a Cartesian product, always include a valid join condition in a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WHERE claus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j1.bmp"/>
          <p:cNvPicPr/>
          <p:nvPr/>
        </p:nvPicPr>
        <p:blipFill>
          <a:blip r:embed="rId2"/>
          <a:stretch/>
        </p:blipFill>
        <p:spPr>
          <a:xfrm>
            <a:off x="347760" y="1600200"/>
            <a:ext cx="8186760" cy="4952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5654520" y="3809880"/>
            <a:ext cx="3308040" cy="9169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first tab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JOIN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secon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rcRect l="21291" t="25876" r="17586" b="16471"/>
          <a:stretch/>
        </p:blipFill>
        <p:spPr>
          <a:xfrm>
            <a:off x="158760" y="1676520"/>
            <a:ext cx="8908920" cy="47242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380880" y="3048120"/>
            <a:ext cx="3048120" cy="182880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533520" y="2666880"/>
            <a:ext cx="8001000" cy="16002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774800"/>
            <a:ext cx="80773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Use a join to query data from more than one ta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d9253e"/>
                </a:solidFill>
                <a:latin typeface="Corbel"/>
              </a:rPr>
              <a:t>column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column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rite the join condition in the </a:t>
            </a:r>
            <a:r>
              <a:rPr b="1" i="1" lang="en-US" sz="3000" spc="-1" strike="noStrike">
                <a:solidFill>
                  <a:srgbClr val="000000"/>
                </a:solidFill>
                <a:latin typeface="Corbel"/>
              </a:rPr>
              <a:t>WHERE clause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Prefix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column name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ith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table name “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when the same column name appears in more than one table.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 “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>
              <a:alpha val="45000"/>
            </a:srgbClr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When writing a SELECT statement that joins tables, precede the column name with the table name for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clarity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nd to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enhance database access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. 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optiona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If the </a:t>
            </a:r>
            <a:r>
              <a:rPr b="1" lang="en-US" sz="2500" spc="-1" strike="noStrike">
                <a:solidFill>
                  <a:srgbClr val="0070c0"/>
                </a:solidFill>
                <a:latin typeface="Corbel"/>
              </a:rPr>
              <a:t>same column name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ppears in more than one table, the column name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be prefixed with the table name.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mandatory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o join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 together, you need a minimum of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-1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 conditions. </a:t>
            </a:r>
            <a:r>
              <a:rPr b="0" lang="en-US" sz="2500" spc="-1" strike="noStrike">
                <a:solidFill>
                  <a:srgbClr val="b48200"/>
                </a:solidFill>
                <a:latin typeface="Corbel"/>
              </a:rPr>
              <a:t>For exampl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to join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four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, a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minimum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of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thre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s is required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his rule may not  apply if your table has a concatenated primary key, in which case more than one column is required to uniquely identify each row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-302760" y="5562720"/>
            <a:ext cx="9743760" cy="459720"/>
          </a:xfrm>
          <a:prstGeom prst="rect">
            <a:avLst/>
          </a:prstGeom>
          <a:gradFill rotWithShape="0">
            <a:gsLst>
              <a:gs pos="0">
                <a:srgbClr val="ffde7f"/>
              </a:gs>
              <a:gs pos="100000">
                <a:srgbClr val="fff5da"/>
              </a:gs>
            </a:gsLst>
            <a:lin ang="162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[Bonus] Q:How to define a table with a composite primary k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5335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ad00"/>
                </a:solidFill>
                <a:latin typeface="Calibri"/>
              </a:rPr>
              <a:t>To determine an employee’s department name you compare th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the DEPARTMENT_ID column in the EMPLOYEES tab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he DEPARTMENT_ID values in the DEPARTMENTS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lationship between the EMPLOYEES and DEPARTMENTS tables is an </a:t>
            </a: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equi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at is, values in the DEPARTMENT_ID column on both tabl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st be eq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Frequent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is type of join involv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m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e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ey comp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Note: Equijoins are also called simple joins or inne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8:26:03Z</dcterms:created>
  <dc:creator>Hmra</dc:creator>
  <dc:description/>
  <dc:language>en-US</dc:language>
  <cp:lastModifiedBy>Sony</cp:lastModifiedBy>
  <dcterms:modified xsi:type="dcterms:W3CDTF">2014-04-26T14:53:12Z</dcterms:modified>
  <cp:revision>43</cp:revision>
  <dc:subject/>
  <dc:title>Displaying Data  from Multiple Tables</dc:title>
</cp:coreProperties>
</file>