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3E612-F0F1-4CF8-BCF5-250448C1246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159F5-C5BC-4E83-94FB-2036162E558D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EF2E8-5B6D-416B-A4E6-487E66A74560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D1307-C926-48F7-ACA3-34944CF9368F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DFC08-0FEF-4185-90C4-18AC87FEAEFA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0A450-5A51-48FF-809F-A5643B87F645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C1AE0-E2E5-42CB-AEBD-6184DC61FF2F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4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A780B-6AFB-4F11-BAE0-19CCC4E2140F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4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4B4F3-EE5C-4991-8006-A82971656BD5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55750-848A-429F-BD87-1CBCFC77489E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76B08-3818-4488-ADB9-A4AFBA8D2072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45B57-4FAC-404D-8F9A-89D6ECC5814D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72DF9-35B8-45CD-8275-3919C1ABC9D1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16A82-9B0B-4823-942D-9C0C56B5CB24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FFC1D-B774-41F3-B482-68951636DDB7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67EC3-C4C1-4C70-BF13-98E9D11BACAC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1EF7B-631C-43AC-8286-EBC4C966A716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ECBC1-4F89-4A7B-8EE5-8D88540F36E0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80F11-45BE-4290-AF7F-8B43A2226BBF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A1FC0-CFCD-45E9-B748-24B27A603E19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1DD2C-02C5-43F7-AEAE-4654A1F6FA88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8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26F34-3C1A-4BE8-8809-39B91B165F1B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8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54181-39BF-43CA-A1F2-CA8ECCDDE274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1C611-36A2-4107-8433-C6102470334E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D95D4-185A-4B89-8A84-0E8F9CA3C0F2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BBA0D-F908-4BB9-B6D2-73ECF00EE861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8913E-8DAA-47FA-859F-E0B8A47A1A0A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9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F1358-7180-4770-B508-935F424B0116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AA39F-122A-4C8A-AE2F-F2959F0A2435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53FF6-520D-4ECC-A657-25B963EB8F33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2649D-2B5A-48C2-9FFE-7670075DCCD2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DC1D3-50E3-4DD6-8297-4729A77038E9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4BDC9-C469-4512-A7BB-C28DC3DAA4BD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9E9AD-0D38-440D-9F6A-11B0B1D9605F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59D05-3727-48BE-A0FB-7F22DC7DFC71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625A-F197-422E-81D4-D83CC4DCA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098C-83F4-4DA0-ADE9-00C61DF9B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2122-977B-4E7A-AB0E-1FFEDCE18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8231-3E97-4D6B-A2A6-82BF1F367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BEA8F-32F2-4F15-BB7D-C07FFD7A6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BCEF8-2418-476A-84FE-6C0124E3E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016D5-0F7A-40BF-BD5C-CEC0B2921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0E78C-4057-43C1-9089-FDB967029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E6F47-888D-4443-8FE4-ED07E6553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C48ED-5E67-4F18-9080-A8AB18C36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D1A01-9602-422B-9C63-29434155C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1FBC-6FBA-48D2-83C4-5580582B9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4EB55-11FE-48B1-B4FE-9A8595DE1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CD929-C077-4D5D-995F-1C6F5866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8DCF3-9CC9-4DBA-8186-CEA5F3B96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B24A7-548F-47BF-A48B-389647D13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A584F-EE1E-4B8D-BA47-D5EA2F2BC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DAA4D-3E94-496F-8358-6B5F2ADCE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862A1-45DF-4013-BD3F-1AB0F8F30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FFB6E-36ED-443E-B1BB-419509D66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40CB8-27F9-4C7D-A125-14B3BAB2E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138A5-D01C-4A3D-B963-280E33E6F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1579-97FC-45D3-91C8-C73BB713A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F373C-6F69-454C-9262-F9BE14A73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DAD9F-72C5-4E41-B982-43613593A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00D2C-103E-40B6-A700-9AE42BA16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6C45D-A26C-430B-B60C-093112D29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0948D-4EA5-4400-B355-2941258BA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AA1CC-2B20-402F-A935-8C5859736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6C111-52C1-47FA-99EE-848ED4359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CD6D8-B754-4129-9C5C-5CB273EEE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196B6-9C8B-486C-A9C8-7FAD7B90B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756B0-111D-4946-AF1D-BC89FDD2F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A51E-2BA1-4C7B-8721-4486E8BD1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C5AA9-F44D-483C-80D5-46225445E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C4729-4DF6-431D-BFA8-5E18BE390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8C4FF-A8A9-4131-98B4-FBEAF501C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11116-6376-4AA4-ACB2-9D9E40556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7F53D-1E0D-4DE6-B1C1-79DB6898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333B3-3081-4E69-8B2A-E6AA88D0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5C938-3D51-40BE-90F7-84B26CB51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9D282-A601-4BD4-95F1-9EBC918DC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FD045-AADE-4A95-81DF-53EFD19A0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F14FAA-1380-418D-B799-494020B19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30FA-ECB5-4331-B337-3F887BE00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C0332-F252-4067-8D04-5E578E12E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543AA-EE97-4593-A67C-99B01E489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B36BB-9992-45FD-8DAD-D8B1CAF62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E86230-BD99-44BD-B0B7-47820DFBA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53FB8C-36A9-445E-9104-09103E512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A5F0D-C0BE-4BA3-9C9B-430D0B62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AF9775-1C98-45BD-84F8-99E5CCFC5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5375B6-F70D-47EA-BAB0-7089D306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30BC5-A87B-4364-8A3B-E57FF16C1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EFCCDC-9CAE-49DE-9638-00C460380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AAC7-FC9C-4641-B8BD-3F2D2FE43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1DF223-A8AD-4415-A774-634E333D3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29D6D0-2890-4852-9F66-9916F96B2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6362AB-2FFC-4489-A08D-6EAD8E8D8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3F6908-6512-4127-B1F9-BF84A2453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B1A9FB-BF43-43E8-BF87-2B73031F0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9BB0F7-7D2F-46DA-9ED6-5F5DE545B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5BE358-A349-459E-B404-D6DAE5C2D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CCF74-33A0-4855-B00A-0D0BB14DB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6F9F91-9F47-4BA3-A049-59BD97090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48894E-65F6-435B-872A-E6F89929F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CDED-6CD1-4C6D-BCA4-B134D004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8C681C-E5E1-491A-B5F0-400B49F01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642C8E-6AD1-43D9-9DDE-A2AAA7BDD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067B2A-3054-4361-9DCB-032DF69AA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071915-A5AB-472D-BD2E-7B986A935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A83B97-4A27-4867-9BF9-19B98BD23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38546F-D899-4CF0-9E4F-AC8C9BE09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16FF9B-5D1B-453F-883C-4B1B35A2F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5DED14-1B4C-4B9C-BECE-C5A4FAA3A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5F3980-5A55-4D09-9D9D-545D20664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1EDB13-B7EA-4407-9313-4216F0344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B798-F501-44A5-93EB-C73AE99BC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B6505A-35A8-4D9A-8EBF-5B66BDCFD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B31273-58D7-4034-987A-F09249BAC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E3C44A-1B09-4872-91CC-F6638F568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D754F5-3570-40C9-B618-271D49C64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AEC3E3-0BCE-44C4-AC68-FE685E950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F247-45EB-460B-8A6A-3A245598E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 algn="r" rtl="1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 algn="r" rtl="1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 algn="r" rtl="1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 algn="r" rtl="1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 algn="r" rtl="1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F835C-D33A-47FF-8C2F-56D4196186D1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 algn="r" rtl="1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 algn="r" rtl="1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 algn="r" rtl="1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 algn="r" rtl="1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 algn="r" rtl="1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EF1AA-ACD8-431D-967E-458DACF7B12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 algn="r" rtl="1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 algn="r" rtl="1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 algn="r" rtl="1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 algn="r" rtl="1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 algn="r" rtl="1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5E0AE-6CDE-4833-A9DF-746E58E8C0A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 algn="r" rtl="1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 algn="r" rtl="1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 algn="r" rtl="1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 algn="r" rtl="1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 algn="r" rtl="1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FD779-C401-4B7C-A78C-84811A9B10A6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 algn="r" rtl="1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 algn="r" rtl="1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 algn="r" rtl="1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 algn="r" rtl="1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 algn="r" rtl="1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FD50C-9E91-49A3-86DB-2B4C9BDA1A7C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 algn="r" rtl="1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 algn="r" rtl="1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 algn="r" rtl="1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 algn="r" rtl="1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 algn="r" rtl="1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5C51B-1836-4758-8569-0D21DC82921A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 algn="r" rtl="1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 algn="r" rtl="1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 algn="r" rtl="1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 algn="r" rtl="1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 algn="r" rtl="1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C5258-853F-46F5-AA33-69A1C2D10CA1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689040" y="3359160"/>
            <a:ext cx="8076960" cy="167004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191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34" name="Content Placeholder 3" descr="j2.bmp"/>
          <p:cNvPicPr/>
          <p:nvPr/>
        </p:nvPicPr>
        <p:blipFill>
          <a:blip r:embed="rId2"/>
          <a:stretch/>
        </p:blipFill>
        <p:spPr>
          <a:xfrm>
            <a:off x="609480" y="1668600"/>
            <a:ext cx="7772400" cy="46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Title 1" descr=""/>
          <p:cNvPicPr/>
          <p:nvPr/>
        </p:nvPicPr>
        <p:blipFill>
          <a:blip r:embed="rId1"/>
          <a:stretch/>
        </p:blipFill>
        <p:spPr>
          <a:xfrm>
            <a:off x="457200" y="139680"/>
            <a:ext cx="8229600" cy="146376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7" name="Picture 5" descr=""/>
          <p:cNvPicPr/>
          <p:nvPr/>
        </p:nvPicPr>
        <p:blipFill>
          <a:blip r:embed="rId2"/>
          <a:srcRect l="18743" t="25000" r="19180" b="10418"/>
          <a:stretch/>
        </p:blipFill>
        <p:spPr>
          <a:xfrm>
            <a:off x="76320" y="1523880"/>
            <a:ext cx="8858160" cy="518184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457200" y="3048120"/>
            <a:ext cx="8305920" cy="380880"/>
          </a:xfrm>
          <a:prstGeom prst="rect">
            <a:avLst/>
          </a:prstGeom>
          <a:noFill/>
          <a:ln w="478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7"/>
          <p:cNvSpPr/>
          <p:nvPr/>
        </p:nvSpPr>
        <p:spPr>
          <a:xfrm>
            <a:off x="168480" y="3733920"/>
            <a:ext cx="37803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Equijoin condi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Specifies how tables to be jo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0" name="Straight Arrow Connector 9"/>
          <p:cNvCxnSpPr/>
          <p:nvPr/>
        </p:nvCxnSpPr>
        <p:spPr>
          <a:xfrm flipH="1">
            <a:off x="609120" y="3504960"/>
            <a:ext cx="153360" cy="153000"/>
          </a:xfrm>
          <a:prstGeom prst="straightConnector1">
            <a:avLst/>
          </a:prstGeom>
          <a:ln cap="rnd" w="284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Title 1" descr=""/>
          <p:cNvPicPr/>
          <p:nvPr/>
        </p:nvPicPr>
        <p:blipFill>
          <a:blip r:embed="rId1"/>
          <a:stretch/>
        </p:blipFill>
        <p:spPr>
          <a:xfrm>
            <a:off x="457200" y="219240"/>
            <a:ext cx="8229600" cy="145728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64847"/>
                </a:solidFill>
                <a:latin typeface="Corbel"/>
              </a:rPr>
              <a:t>Note: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 the previews example, the DEPARTMENT_ID column is common to 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both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tables, </a:t>
            </a: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it must be prefixed by the table name to avoid </a:t>
            </a:r>
            <a:r>
              <a:rPr b="0" i="1" lang="en-US" sz="3200" spc="-1" strike="noStrike">
                <a:solidFill>
                  <a:srgbClr val="0070c0"/>
                </a:solidFill>
                <a:latin typeface="Corbel"/>
              </a:rPr>
              <a:t>ambiguity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Title 1" descr=""/>
          <p:cNvPicPr/>
          <p:nvPr/>
        </p:nvPicPr>
        <p:blipFill>
          <a:blip r:embed="rId1"/>
          <a:stretch/>
        </p:blipFill>
        <p:spPr>
          <a:xfrm>
            <a:off x="457200" y="139680"/>
            <a:ext cx="8229600" cy="14637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5" name="Picture 4" descr=""/>
          <p:cNvPicPr/>
          <p:nvPr/>
        </p:nvPicPr>
        <p:blipFill>
          <a:blip r:embed="rId2"/>
          <a:srcRect l="20500" t="29168" r="17423" b="12500"/>
          <a:stretch/>
        </p:blipFill>
        <p:spPr>
          <a:xfrm>
            <a:off x="228600" y="1752480"/>
            <a:ext cx="8686800" cy="45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Title 1" descr=""/>
          <p:cNvPicPr/>
          <p:nvPr/>
        </p:nvPicPr>
        <p:blipFill>
          <a:blip r:embed="rId1"/>
          <a:stretch/>
        </p:blipFill>
        <p:spPr>
          <a:xfrm>
            <a:off x="457200" y="-12600"/>
            <a:ext cx="8229600" cy="14634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2" descr=""/>
          <p:cNvPicPr/>
          <p:nvPr/>
        </p:nvPicPr>
        <p:blipFill>
          <a:blip r:embed="rId2"/>
          <a:srcRect l="19091" t="33337" r="17188" b="33337"/>
          <a:stretch/>
        </p:blipFill>
        <p:spPr>
          <a:xfrm>
            <a:off x="76320" y="1666800"/>
            <a:ext cx="8991360" cy="26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Title 1" descr=""/>
          <p:cNvPicPr/>
          <p:nvPr/>
        </p:nvPicPr>
        <p:blipFill>
          <a:blip r:embed="rId1"/>
          <a:stretch/>
        </p:blipFill>
        <p:spPr>
          <a:xfrm>
            <a:off x="457200" y="60480"/>
            <a:ext cx="8229600" cy="146340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Tahoma"/>
              </a:rPr>
              <a:t>Use table prefixes to qualify column names that are in multiple table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Tahoma"/>
              </a:rPr>
              <a:t>Improve performance by using table prefixe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rbel"/>
                <a:ea typeface="Tahoma"/>
              </a:rPr>
              <a:t>For simplicity: </a:t>
            </a:r>
            <a:r>
              <a:rPr b="0" lang="en-US" sz="3200" spc="-1" strike="noStrike">
                <a:solidFill>
                  <a:srgbClr val="0070c0"/>
                </a:solidFill>
                <a:latin typeface="Corbel"/>
                <a:ea typeface="Tahoma"/>
              </a:rPr>
              <a:t>We can distinguish columns that have identical names but reside in different tables by using column </a:t>
            </a:r>
            <a:r>
              <a:rPr b="0" lang="en-US" sz="3200" spc="-1" strike="noStrike">
                <a:solidFill>
                  <a:srgbClr val="92d050"/>
                </a:solidFill>
                <a:latin typeface="Corbel"/>
                <a:ea typeface="Tahoma"/>
              </a:rPr>
              <a:t>aliases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2" name="Picture 2" descr=""/>
          <p:cNvPicPr/>
          <p:nvPr/>
        </p:nvPicPr>
        <p:blipFill>
          <a:blip r:embed="rId2"/>
          <a:srcRect l="21670" t="33337" r="19180" b="26043"/>
          <a:stretch/>
        </p:blipFill>
        <p:spPr>
          <a:xfrm>
            <a:off x="228600" y="1600200"/>
            <a:ext cx="868356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4" descr=""/>
          <p:cNvPicPr/>
          <p:nvPr/>
        </p:nvPicPr>
        <p:blipFill>
          <a:blip r:embed="rId2"/>
          <a:srcRect l="15226" t="50005" r="14496" b="25000"/>
          <a:stretch/>
        </p:blipFill>
        <p:spPr>
          <a:xfrm>
            <a:off x="-76320" y="1600200"/>
            <a:ext cx="9144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7" name="Picture 4" descr=""/>
          <p:cNvPicPr/>
          <p:nvPr/>
        </p:nvPicPr>
        <p:blipFill>
          <a:blip r:embed="rId2"/>
          <a:srcRect l="16399" t="19793" r="12739" b="6250"/>
          <a:stretch/>
        </p:blipFill>
        <p:spPr>
          <a:xfrm>
            <a:off x="0" y="1447920"/>
            <a:ext cx="92203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Tahoma"/>
              </a:rPr>
              <a:t>Sometimes you may need to join more than two tables. </a:t>
            </a:r>
            <a:r>
              <a:rPr b="1" lang="en-US" sz="3200" spc="-1" strike="noStrike">
                <a:solidFill>
                  <a:srgbClr val="f0ad00"/>
                </a:solidFill>
                <a:latin typeface="Corbel"/>
                <a:ea typeface="Tahoma"/>
              </a:rPr>
              <a:t>For example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Tahoma"/>
              </a:rPr>
              <a:t>, to display the last name, the department name, and the city for each employee, you have to join the EMPLOYEES, DEPARTMENTS, and LOCATIONS tables. (</a:t>
            </a:r>
            <a:r>
              <a:rPr b="1" lang="en-US" sz="3200" spc="-1" strike="noStrike">
                <a:solidFill>
                  <a:srgbClr val="f0ad00"/>
                </a:solidFill>
                <a:latin typeface="Corbel"/>
                <a:ea typeface="Tahoma"/>
              </a:rPr>
              <a:t>see Example 2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Tahoma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Title 1" descr=""/>
          <p:cNvPicPr/>
          <p:nvPr/>
        </p:nvPicPr>
        <p:blipFill>
          <a:blip r:embed="rId1"/>
          <a:stretch/>
        </p:blipFill>
        <p:spPr>
          <a:xfrm>
            <a:off x="457200" y="133200"/>
            <a:ext cx="8229600" cy="147024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ometimes you need to use data from more than one table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In example1, the report displays data from </a:t>
            </a:r>
            <a:r>
              <a:rPr b="1" lang="en-US" sz="3000" spc="-1" strike="noStrike">
                <a:solidFill>
                  <a:srgbClr val="00b0f0"/>
                </a:solidFill>
                <a:latin typeface="Corbel"/>
              </a:rPr>
              <a:t>two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 separate tables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Employee IDs exist in the EMPLOYEES table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Department IDs exist in both the EMPLOYEES and DEPARTMENTS tables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Location IDs exist in the DEPARTMENTS table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o produce the report, you need to </a:t>
            </a:r>
            <a:r>
              <a:rPr b="1" lang="en-US" sz="3000" spc="-1" strike="noStrike">
                <a:solidFill>
                  <a:srgbClr val="00b0f0"/>
                </a:solidFill>
                <a:latin typeface="Corbel"/>
              </a:rPr>
              <a:t>link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 the </a:t>
            </a:r>
            <a:r>
              <a:rPr b="0" lang="en-US" sz="3000" spc="-1" strike="noStrike">
                <a:solidFill>
                  <a:srgbClr val="92d050"/>
                </a:solidFill>
                <a:latin typeface="Corbel"/>
              </a:rPr>
              <a:t>EMPLOYEES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 and </a:t>
            </a:r>
            <a:r>
              <a:rPr b="0" lang="en-US" sz="3000" spc="-1" strike="noStrike">
                <a:solidFill>
                  <a:srgbClr val="92d050"/>
                </a:solidFill>
                <a:latin typeface="Corbel"/>
              </a:rPr>
              <a:t>DEPARTMENTS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 tables and access data from both of them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2" name="Picture 2" descr=""/>
          <p:cNvPicPr/>
          <p:nvPr/>
        </p:nvPicPr>
        <p:blipFill>
          <a:blip r:embed="rId2"/>
          <a:srcRect l="12885" t="28125" r="16836" b="6250"/>
          <a:stretch/>
        </p:blipFill>
        <p:spPr>
          <a:xfrm>
            <a:off x="0" y="1523880"/>
            <a:ext cx="9144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5" name="Picture 4" descr=""/>
          <p:cNvPicPr/>
          <p:nvPr/>
        </p:nvPicPr>
        <p:blipFill>
          <a:blip r:embed="rId2"/>
          <a:srcRect l="18743" t="20832" r="15079" b="9375"/>
          <a:stretch/>
        </p:blipFill>
        <p:spPr>
          <a:xfrm>
            <a:off x="76320" y="1523880"/>
            <a:ext cx="891540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A </a:t>
            </a:r>
            <a:r>
              <a:rPr b="1" lang="en-US" sz="2700" spc="-1" strike="noStrike">
                <a:solidFill>
                  <a:srgbClr val="000000"/>
                </a:solidFill>
                <a:latin typeface="Corbel"/>
              </a:rPr>
              <a:t>nonequijoin</a:t>
            </a: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 is a join condition containing something </a:t>
            </a:r>
            <a:r>
              <a:rPr b="1" lang="en-US" sz="2700" spc="-1" strike="noStrike">
                <a:solidFill>
                  <a:srgbClr val="000000"/>
                </a:solidFill>
                <a:latin typeface="Corbel"/>
              </a:rPr>
              <a:t>other than </a:t>
            </a: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an equality operator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The relationship between the  EMPLOYEES table and the JOB_GRADES table has an example of a nonequijoin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A relationship between the two tables is that  the SALARY column in the EMPLOYEES table must be between the values in the  LOWEST_SALARY and HIGHEST_SALARY columns of the JOB_GRADES table. The relationship is obtained using an operator other than equals (=).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0" name="Picture 4" descr=""/>
          <p:cNvPicPr/>
          <p:nvPr/>
        </p:nvPicPr>
        <p:blipFill>
          <a:blip r:embed="rId2"/>
          <a:srcRect l="20500" t="30212" r="15669" b="10418"/>
          <a:stretch/>
        </p:blipFill>
        <p:spPr>
          <a:xfrm>
            <a:off x="152280" y="1600200"/>
            <a:ext cx="8888400" cy="464832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4"/>
          <p:cNvSpPr/>
          <p:nvPr/>
        </p:nvSpPr>
        <p:spPr>
          <a:xfrm>
            <a:off x="228600" y="2590920"/>
            <a:ext cx="8686800" cy="380880"/>
          </a:xfrm>
          <a:prstGeom prst="rect">
            <a:avLst/>
          </a:prstGeom>
          <a:noFill/>
          <a:ln w="478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5"/>
          <p:cNvSpPr/>
          <p:nvPr/>
        </p:nvSpPr>
        <p:spPr>
          <a:xfrm>
            <a:off x="101160" y="3276720"/>
            <a:ext cx="476496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Nonequijoin condi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Specifies that salary must be between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Pair of low and high 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3" name="Straight Arrow Connector 6"/>
          <p:cNvCxnSpPr/>
          <p:nvPr/>
        </p:nvCxnSpPr>
        <p:spPr>
          <a:xfrm flipH="1">
            <a:off x="532800" y="3047760"/>
            <a:ext cx="153000" cy="153000"/>
          </a:xfrm>
          <a:prstGeom prst="straightConnector1">
            <a:avLst/>
          </a:prstGeom>
          <a:ln cap="rnd" w="284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64847"/>
                </a:solidFill>
                <a:latin typeface="Corbel"/>
              </a:rPr>
              <a:t>Note that : </a:t>
            </a:r>
            <a:r>
              <a:rPr b="0" lang="en-US" sz="3200" spc="-1" strike="noStrike">
                <a:solidFill>
                  <a:srgbClr val="c64847"/>
                </a:solidFill>
                <a:latin typeface="Corbel"/>
              </a:rPr>
              <a:t>other conditions such as </a:t>
            </a:r>
            <a:r>
              <a:rPr b="1" lang="en-US" sz="3200" spc="-1" strike="noStrike">
                <a:solidFill>
                  <a:srgbClr val="92d050"/>
                </a:solidFill>
                <a:latin typeface="Corbel"/>
              </a:rPr>
              <a:t>&lt;=</a:t>
            </a:r>
            <a:r>
              <a:rPr b="0" lang="en-US" sz="3200" spc="-1" strike="noStrike">
                <a:solidFill>
                  <a:srgbClr val="c64847"/>
                </a:solidFill>
                <a:latin typeface="Corbel"/>
              </a:rPr>
              <a:t> and </a:t>
            </a:r>
            <a:r>
              <a:rPr b="1" lang="en-US" sz="3200" spc="-1" strike="noStrike">
                <a:solidFill>
                  <a:srgbClr val="92d050"/>
                </a:solidFill>
                <a:latin typeface="Corbel"/>
              </a:rPr>
              <a:t>&gt;=</a:t>
            </a:r>
            <a:r>
              <a:rPr b="0" lang="en-US" sz="3200" spc="-1" strike="noStrike">
                <a:solidFill>
                  <a:srgbClr val="c64847"/>
                </a:solidFill>
                <a:latin typeface="Corbel"/>
              </a:rPr>
              <a:t> can be used also. But BETWEEN  condition is the simplest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3000"/>
          </a:bodyPr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Tahoma"/>
              </a:rPr>
              <a:t>If a row does not satisfy a join condition, the row will not appear in the query result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Tahoma"/>
              </a:rPr>
              <a:t>For example, in the equijoin condition of EMPLOYEES and DEPARTMENTS tables, employee Grant does not appear because there is no department ID recorded for her in the EMPLOYEES table</a:t>
            </a:r>
            <a:r>
              <a:rPr b="0" lang="en-US" sz="3200" spc="-1" strike="noStrike">
                <a:solidFill>
                  <a:srgbClr val="92d05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Tahoma"/>
              </a:rPr>
              <a:t>Instead of seeing 20 employees in the result set, you see 19 records. (</a:t>
            </a:r>
            <a:r>
              <a:rPr b="0" lang="en-US" sz="3200" spc="-1" strike="noStrike">
                <a:solidFill>
                  <a:srgbClr val="f0ad00"/>
                </a:solidFill>
                <a:latin typeface="Corbel"/>
                <a:ea typeface="Tahoma"/>
              </a:rPr>
              <a:t>see Example 3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0" name="Picture 2" descr=""/>
          <p:cNvPicPr/>
          <p:nvPr/>
        </p:nvPicPr>
        <p:blipFill>
          <a:blip r:embed="rId2"/>
          <a:srcRect l="13472" t="12500" r="16253" b="22918"/>
          <a:stretch/>
        </p:blipFill>
        <p:spPr>
          <a:xfrm>
            <a:off x="76320" y="1676520"/>
            <a:ext cx="899136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o see rows that do not </a:t>
            </a: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 meet the join condition 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we use the outer join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he outer join operator is the plus sign </a:t>
            </a:r>
            <a:r>
              <a:rPr b="0" lang="en-US" sz="3000" spc="-1" strike="noStrike">
                <a:solidFill>
                  <a:srgbClr val="92d050"/>
                </a:solidFill>
                <a:latin typeface="Corbel"/>
              </a:rPr>
              <a:t>(</a:t>
            </a:r>
            <a:r>
              <a:rPr b="1" lang="en-US" sz="3000" spc="-1" strike="noStrike">
                <a:solidFill>
                  <a:srgbClr val="92d050"/>
                </a:solidFill>
                <a:latin typeface="Corbel"/>
              </a:rPr>
              <a:t>+</a:t>
            </a:r>
            <a:r>
              <a:rPr b="0" lang="en-US" sz="3000" spc="-1" strike="noStrike">
                <a:solidFill>
                  <a:srgbClr val="92d050"/>
                </a:solidFill>
                <a:latin typeface="Corbel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SELECT table1.column, table2.column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FROM table1, table2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WHERE table1.column</a:t>
            </a:r>
            <a:r>
              <a:rPr b="1" lang="en-US" sz="3000" spc="-1" strike="noStrike">
                <a:solidFill>
                  <a:srgbClr val="92d050"/>
                </a:solidFill>
                <a:latin typeface="Corbel"/>
              </a:rPr>
              <a:t>(+)</a:t>
            </a: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 = table2.column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SELECT table1.column, table2.column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FROM table1, table2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WHERE table1.column = table2.column</a:t>
            </a:r>
            <a:r>
              <a:rPr b="1" lang="en-US" sz="3000" spc="-1" strike="noStrike">
                <a:solidFill>
                  <a:srgbClr val="92d050"/>
                </a:solidFill>
                <a:latin typeface="Corbel"/>
              </a:rPr>
              <a:t>(+)</a:t>
            </a: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457200" y="3581280"/>
            <a:ext cx="7238880" cy="1219320"/>
          </a:xfrm>
          <a:prstGeom prst="rect">
            <a:avLst/>
          </a:prstGeom>
          <a:noFill/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457200" y="5105520"/>
            <a:ext cx="7238880" cy="1295280"/>
          </a:xfrm>
          <a:prstGeom prst="rect">
            <a:avLst/>
          </a:prstGeom>
          <a:noFill/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table1.column = is the condition that joins (or relates) the tables together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table2.column (+) is the outer join symbol, which can be placed on either side of th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ERE clause condition, but </a:t>
            </a:r>
            <a:r>
              <a:rPr b="1" lang="en-US" sz="3200" spc="-1" strike="noStrike">
                <a:solidFill>
                  <a:srgbClr val="c64847"/>
                </a:solidFill>
                <a:latin typeface="Corbel"/>
              </a:rPr>
              <a:t>not on both sides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. 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(</a:t>
            </a:r>
            <a:r>
              <a:rPr b="0" lang="en-US" sz="3200" spc="-1" strike="noStrike">
                <a:solidFill>
                  <a:srgbClr val="0070c0"/>
                </a:solidFill>
                <a:latin typeface="Corbel"/>
              </a:rPr>
              <a:t>Place the outer join symbol following the name of the column in the table without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orbel"/>
              </a:rPr>
              <a:t>    </a:t>
            </a:r>
            <a:r>
              <a:rPr b="0" lang="en-US" sz="3200" spc="-1" strike="noStrike">
                <a:solidFill>
                  <a:srgbClr val="0070c0"/>
                </a:solidFill>
                <a:latin typeface="Corbel"/>
              </a:rPr>
              <a:t>the matching rows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88" name="Content Placeholder 3" descr="j3.bmp"/>
          <p:cNvPicPr/>
          <p:nvPr/>
        </p:nvPicPr>
        <p:blipFill>
          <a:blip r:embed="rId2"/>
          <a:stretch/>
        </p:blipFill>
        <p:spPr>
          <a:xfrm>
            <a:off x="-6480" y="1600200"/>
            <a:ext cx="87696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2" descr=""/>
          <p:cNvPicPr/>
          <p:nvPr/>
        </p:nvPicPr>
        <p:blipFill>
          <a:blip r:embed="rId2"/>
          <a:srcRect l="19440" t="17638" r="15735" b="11531"/>
          <a:stretch/>
        </p:blipFill>
        <p:spPr>
          <a:xfrm>
            <a:off x="304920" y="1523880"/>
            <a:ext cx="8470800" cy="52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4500" spc="-1" strike="noStrike">
              <a:solidFill>
                <a:srgbClr val="ffc800"/>
              </a:solidFill>
              <a:latin typeface="Corbel"/>
              <a:ea typeface="Tahom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The slide example displays employee last names, department ID’s and department names. The Contracting department does not have any employees.  The empty value is shown in the output shown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rbel"/>
              </a:rPr>
              <a:t>Outer Join Restrictions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• </a:t>
            </a: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The outer join operator can appear on only one side of the expression: the side that has information missing. It returns those rows from one table that have no direct match in the other table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• </a:t>
            </a: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A condition involving an outer join cannot use the IN operator or be linked to another condition by the OR operator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2" descr=""/>
          <p:cNvPicPr/>
          <p:nvPr/>
        </p:nvPicPr>
        <p:blipFill>
          <a:blip r:embed="rId2"/>
          <a:srcRect l="32494" t="27288" r="28701" b="36476"/>
          <a:stretch/>
        </p:blipFill>
        <p:spPr>
          <a:xfrm>
            <a:off x="0" y="1676520"/>
            <a:ext cx="9144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5" name="Picture 2" descr=""/>
          <p:cNvPicPr/>
          <p:nvPr/>
        </p:nvPicPr>
        <p:blipFill>
          <a:blip r:embed="rId2"/>
          <a:srcRect l="12885" t="17707" r="11568" b="29168"/>
          <a:stretch/>
        </p:blipFill>
        <p:spPr>
          <a:xfrm>
            <a:off x="228600" y="1600200"/>
            <a:ext cx="87631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8" name="Picture 2" descr=""/>
          <p:cNvPicPr/>
          <p:nvPr/>
        </p:nvPicPr>
        <p:blipFill>
          <a:blip r:embed="rId2"/>
          <a:srcRect l="17572" t="28130" r="18010" b="12500"/>
          <a:stretch/>
        </p:blipFill>
        <p:spPr>
          <a:xfrm>
            <a:off x="-76320" y="1600200"/>
            <a:ext cx="9117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Tahoma"/>
              </a:rPr>
              <a:t>Write a query to display the last name, department number, and department name for all employees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Tahoma"/>
              </a:rPr>
              <a:t>Write a query to display the employee last name, department name, location ID, and city of all employees who earn a commiss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Tahoma"/>
              </a:rPr>
              <a:t>A Cartesian product is formed when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Tahoma"/>
              </a:rPr>
              <a:t>A join condition is omitte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Tahoma"/>
              </a:rPr>
              <a:t>A join condition is invali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Tahoma"/>
              </a:rPr>
              <a:t>All rows in the first table are joined to all rows in the second tabl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Tahoma"/>
              </a:rPr>
              <a:t>To avoid a Cartesian product, always include a valid join condition in a </a:t>
            </a:r>
            <a:r>
              <a:rPr b="1" lang="en-US" sz="3200" spc="-1" strike="noStrike">
                <a:solidFill>
                  <a:srgbClr val="92d050"/>
                </a:solidFill>
                <a:latin typeface="Corbel"/>
                <a:ea typeface="Tahoma"/>
              </a:rPr>
              <a:t>WHERE claus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19" name="Content Placeholder 3" descr="j1.bmp"/>
          <p:cNvPicPr/>
          <p:nvPr/>
        </p:nvPicPr>
        <p:blipFill>
          <a:blip r:embed="rId2"/>
          <a:stretch/>
        </p:blipFill>
        <p:spPr>
          <a:xfrm>
            <a:off x="347760" y="1600200"/>
            <a:ext cx="8186760" cy="4952880"/>
          </a:xfrm>
          <a:prstGeom prst="rect">
            <a:avLst/>
          </a:prstGeom>
          <a:ln w="0">
            <a:noFill/>
          </a:ln>
        </p:spPr>
      </p:pic>
      <p:sp>
        <p:nvSpPr>
          <p:cNvPr id="320" name="TextBox 3"/>
          <p:cNvSpPr/>
          <p:nvPr/>
        </p:nvSpPr>
        <p:spPr>
          <a:xfrm>
            <a:off x="5654520" y="3809880"/>
            <a:ext cx="3308040" cy="91692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All rows in the first table 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JOINED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All rows in the second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" descr=""/>
          <p:cNvPicPr/>
          <p:nvPr/>
        </p:nvPicPr>
        <p:blipFill>
          <a:blip r:embed="rId2"/>
          <a:srcRect l="21291" t="25876" r="17586" b="16471"/>
          <a:stretch/>
        </p:blipFill>
        <p:spPr>
          <a:xfrm>
            <a:off x="158760" y="1676520"/>
            <a:ext cx="8908920" cy="4724280"/>
          </a:xfrm>
          <a:prstGeom prst="rect">
            <a:avLst/>
          </a:prstGeom>
          <a:ln w="0">
            <a:noFill/>
          </a:ln>
        </p:spPr>
      </p:pic>
      <p:sp>
        <p:nvSpPr>
          <p:cNvPr id="323" name="Rectangle 4"/>
          <p:cNvSpPr/>
          <p:nvPr/>
        </p:nvSpPr>
        <p:spPr>
          <a:xfrm>
            <a:off x="380880" y="3048120"/>
            <a:ext cx="3048120" cy="1828800"/>
          </a:xfrm>
          <a:prstGeom prst="rect">
            <a:avLst/>
          </a:prstGeom>
          <a:noFill/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3"/>
          <p:cNvSpPr/>
          <p:nvPr/>
        </p:nvSpPr>
        <p:spPr>
          <a:xfrm>
            <a:off x="533520" y="2666880"/>
            <a:ext cx="8001000" cy="1600200"/>
          </a:xfrm>
          <a:prstGeom prst="rect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456840" y="1774800"/>
            <a:ext cx="807732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4000"/>
          </a:bodyPr>
          <a:p>
            <a:pPr marL="411480" indent="-29952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Use a join to query data from more than one table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SELECT </a:t>
            </a:r>
            <a:r>
              <a:rPr b="1" lang="en-US" sz="3000" spc="-1" strike="noStrike">
                <a:solidFill>
                  <a:srgbClr val="0070c0"/>
                </a:solidFill>
                <a:latin typeface="Corbel"/>
              </a:rPr>
              <a:t>table1</a:t>
            </a: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.</a:t>
            </a:r>
            <a:r>
              <a:rPr b="1" lang="en-US" sz="3000" spc="-1" strike="noStrike">
                <a:solidFill>
                  <a:srgbClr val="00b050"/>
                </a:solidFill>
                <a:latin typeface="Corbel"/>
              </a:rPr>
              <a:t>column</a:t>
            </a: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1" lang="en-US" sz="3000" spc="-1" strike="noStrike">
                <a:solidFill>
                  <a:srgbClr val="0070c0"/>
                </a:solidFill>
                <a:latin typeface="Corbel"/>
              </a:rPr>
              <a:t>table2</a:t>
            </a: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.</a:t>
            </a:r>
            <a:r>
              <a:rPr b="1" lang="en-US" sz="3000" spc="-1" strike="noStrike">
                <a:solidFill>
                  <a:srgbClr val="00b050"/>
                </a:solidFill>
                <a:latin typeface="Corbel"/>
              </a:rPr>
              <a:t>column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FROM </a:t>
            </a:r>
            <a:r>
              <a:rPr b="1" lang="en-US" sz="3000" spc="-1" strike="noStrike">
                <a:solidFill>
                  <a:srgbClr val="0070c0"/>
                </a:solidFill>
                <a:latin typeface="Corbel"/>
              </a:rPr>
              <a:t>table1</a:t>
            </a: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1" lang="en-US" sz="3000" spc="-1" strike="noStrike">
                <a:solidFill>
                  <a:srgbClr val="0070c0"/>
                </a:solidFill>
                <a:latin typeface="Corbel"/>
              </a:rPr>
              <a:t>table2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WHERE </a:t>
            </a:r>
            <a:r>
              <a:rPr b="1" lang="en-US" sz="3000" spc="-1" strike="noStrike">
                <a:solidFill>
                  <a:srgbClr val="0070c0"/>
                </a:solidFill>
                <a:latin typeface="Corbel"/>
              </a:rPr>
              <a:t>table1</a:t>
            </a: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.</a:t>
            </a:r>
            <a:r>
              <a:rPr b="1" lang="en-US" sz="3000" spc="-1" strike="noStrike">
                <a:solidFill>
                  <a:srgbClr val="d9253e"/>
                </a:solidFill>
                <a:latin typeface="Corbel"/>
              </a:rPr>
              <a:t>column1</a:t>
            </a: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 = </a:t>
            </a:r>
            <a:r>
              <a:rPr b="1" lang="en-US" sz="3000" spc="-1" strike="noStrike">
                <a:solidFill>
                  <a:srgbClr val="0070c0"/>
                </a:solidFill>
                <a:latin typeface="Corbel"/>
              </a:rPr>
              <a:t>table2</a:t>
            </a: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.</a:t>
            </a:r>
            <a:r>
              <a:rPr b="1" lang="en-US" sz="3000" spc="-1" strike="noStrike">
                <a:solidFill>
                  <a:srgbClr val="ffff00"/>
                </a:solidFill>
                <a:latin typeface="Corbel"/>
              </a:rPr>
              <a:t>column2</a:t>
            </a: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Write the join condition in the </a:t>
            </a:r>
            <a:r>
              <a:rPr b="1" i="1" lang="en-US" sz="3000" spc="-1" strike="noStrike">
                <a:solidFill>
                  <a:srgbClr val="000000"/>
                </a:solidFill>
                <a:latin typeface="Corbel"/>
              </a:rPr>
              <a:t>WHERE clause</a:t>
            </a: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orbel"/>
              </a:rPr>
              <a:t>Prefix</a:t>
            </a: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 the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orbel"/>
              </a:rPr>
              <a:t>column name </a:t>
            </a: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with the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orbel"/>
              </a:rPr>
              <a:t>table name “</a:t>
            </a:r>
            <a:r>
              <a:rPr b="1" lang="en-US" sz="3000" spc="-1" strike="noStrike">
                <a:solidFill>
                  <a:srgbClr val="92d050"/>
                </a:solidFill>
                <a:latin typeface="Corbel"/>
              </a:rPr>
              <a:t>when the same column name appears in more than one table.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orbel"/>
              </a:rPr>
              <a:t> “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4"/>
          <p:cNvSpPr/>
          <p:nvPr/>
        </p:nvSpPr>
        <p:spPr>
          <a:xfrm>
            <a:off x="0" y="1371600"/>
            <a:ext cx="9144000" cy="5486400"/>
          </a:xfrm>
          <a:prstGeom prst="rect">
            <a:avLst/>
          </a:prstGeom>
          <a:solidFill>
            <a:srgbClr val="000000">
              <a:alpha val="45000"/>
            </a:srgbClr>
          </a:solidFill>
          <a:ln w="47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457200" y="177444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When writing a SELECT statement that joins tables, precede the column name with the table name for </a:t>
            </a:r>
            <a:r>
              <a:rPr b="0" lang="en-US" sz="2500" spc="-1" strike="noStrike">
                <a:solidFill>
                  <a:srgbClr val="f0ad00"/>
                </a:solidFill>
                <a:latin typeface="Corbel"/>
              </a:rPr>
              <a:t>clarity </a:t>
            </a: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and to </a:t>
            </a:r>
            <a:r>
              <a:rPr b="0" lang="en-US" sz="2500" spc="-1" strike="noStrike">
                <a:solidFill>
                  <a:srgbClr val="f0ad00"/>
                </a:solidFill>
                <a:latin typeface="Corbel"/>
              </a:rPr>
              <a:t>enhance database access</a:t>
            </a: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. (</a:t>
            </a:r>
            <a:r>
              <a:rPr b="0" lang="en-US" sz="2500" spc="-1" strike="noStrike">
                <a:solidFill>
                  <a:srgbClr val="c64847"/>
                </a:solidFill>
                <a:latin typeface="Corbel"/>
              </a:rPr>
              <a:t>optional</a:t>
            </a: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If the </a:t>
            </a:r>
            <a:r>
              <a:rPr b="1" lang="en-US" sz="2500" spc="-1" strike="noStrike">
                <a:solidFill>
                  <a:srgbClr val="0070c0"/>
                </a:solidFill>
                <a:latin typeface="Corbel"/>
              </a:rPr>
              <a:t>same column name </a:t>
            </a: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appears in more than one table, the column name </a:t>
            </a:r>
            <a:r>
              <a:rPr b="1" lang="en-US" sz="2500" spc="-1" strike="noStrike">
                <a:solidFill>
                  <a:srgbClr val="92d050"/>
                </a:solidFill>
                <a:latin typeface="Corbel"/>
              </a:rPr>
              <a:t>must</a:t>
            </a: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 be prefixed with the table name.(</a:t>
            </a:r>
            <a:r>
              <a:rPr b="0" lang="en-US" sz="2500" spc="-1" strike="noStrike">
                <a:solidFill>
                  <a:srgbClr val="c64847"/>
                </a:solidFill>
                <a:latin typeface="Corbel"/>
              </a:rPr>
              <a:t>mandatory</a:t>
            </a: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To join </a:t>
            </a:r>
            <a:r>
              <a:rPr b="1" lang="en-US" sz="2500" spc="-1" strike="noStrike">
                <a:solidFill>
                  <a:srgbClr val="92d050"/>
                </a:solidFill>
                <a:latin typeface="Corbel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 tables together, you need a minimum of </a:t>
            </a:r>
            <a:r>
              <a:rPr b="1" lang="en-US" sz="2500" spc="-1" strike="noStrike">
                <a:solidFill>
                  <a:srgbClr val="92d050"/>
                </a:solidFill>
                <a:latin typeface="Corbel"/>
              </a:rPr>
              <a:t>n-1</a:t>
            </a: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 join conditions. </a:t>
            </a:r>
            <a:r>
              <a:rPr b="0" lang="en-US" sz="2500" spc="-1" strike="noStrike">
                <a:solidFill>
                  <a:srgbClr val="b48200"/>
                </a:solidFill>
                <a:latin typeface="Corbel"/>
              </a:rPr>
              <a:t>For example</a:t>
            </a: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, to join </a:t>
            </a:r>
            <a:r>
              <a:rPr b="0" lang="en-US" sz="2500" spc="-1" strike="noStrike">
                <a:solidFill>
                  <a:srgbClr val="92d050"/>
                </a:solidFill>
                <a:latin typeface="Corbel"/>
              </a:rPr>
              <a:t>four</a:t>
            </a: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 tables, a </a:t>
            </a:r>
            <a:r>
              <a:rPr b="0" i="1" lang="en-US" sz="2500" spc="-1" strike="noStrike">
                <a:solidFill>
                  <a:srgbClr val="000000"/>
                </a:solidFill>
                <a:latin typeface="Corbel"/>
              </a:rPr>
              <a:t>minimum</a:t>
            </a: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 of </a:t>
            </a:r>
            <a:r>
              <a:rPr b="0" lang="en-US" sz="2500" spc="-1" strike="noStrike">
                <a:solidFill>
                  <a:srgbClr val="92d050"/>
                </a:solidFill>
                <a:latin typeface="Corbel"/>
              </a:rPr>
              <a:t>three</a:t>
            </a: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 joins is required.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This rule may not  apply if your table has a concatenated primary key, in which case more than one column is required to uniquely identify each row.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TextBox 3"/>
          <p:cNvSpPr/>
          <p:nvPr/>
        </p:nvSpPr>
        <p:spPr>
          <a:xfrm>
            <a:off x="-302760" y="5562720"/>
            <a:ext cx="9743760" cy="459720"/>
          </a:xfrm>
          <a:prstGeom prst="rect">
            <a:avLst/>
          </a:prstGeom>
          <a:gradFill rotWithShape="0">
            <a:gsLst>
              <a:gs pos="0">
                <a:srgbClr val="ffde7f"/>
              </a:gs>
              <a:gs pos="100000">
                <a:srgbClr val="fff5da"/>
              </a:gs>
            </a:gsLst>
            <a:lin ang="16200000"/>
          </a:gradFill>
          <a:ln cap="rnd" w="6480">
            <a:solidFill>
              <a:srgbClr val="f0ac00"/>
            </a:solidFill>
            <a:miter/>
          </a:ln>
          <a:effectLst>
            <a:outerShdw dist="2484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rbel"/>
              </a:rPr>
              <a:t>[Bonus] Q:How to define a table with a composite primary ke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2" name="TextBox 11"/>
          <p:cNvSpPr/>
          <p:nvPr/>
        </p:nvSpPr>
        <p:spPr>
          <a:xfrm>
            <a:off x="533520" y="1752480"/>
            <a:ext cx="8076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ad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0ad00"/>
                </a:solidFill>
                <a:latin typeface="Calibri"/>
              </a:rPr>
              <a:t>To determine an employee’s department name you compare th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valu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in the DEPARTMENT_ID column in the EMPLOYEES tab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wi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the DEPARTMENT_ID values in the DEPARTMENTS tab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relationship between the EMPLOYEES and DEPARTMENTS tables is an </a:t>
            </a:r>
            <a:r>
              <a:rPr b="1" lang="en-US" sz="2400" spc="-1" strike="noStrike">
                <a:solidFill>
                  <a:srgbClr val="c64847"/>
                </a:solidFill>
                <a:latin typeface="Calibri"/>
              </a:rPr>
              <a:t>equijoi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that is, values in the DEPARTMENT_ID column on both tables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ust be equ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2d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Calibri"/>
              </a:rPr>
              <a:t>Frequentl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this type of join involves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rima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foreig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key compl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64847"/>
                </a:solidFill>
                <a:latin typeface="Calibri"/>
              </a:rPr>
              <a:t>Note: Equijoins are also called simple joins or inner jo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31T18:26:03Z</dcterms:created>
  <dc:creator>Hmra</dc:creator>
  <dc:description/>
  <dc:language>en-US</dc:language>
  <cp:lastModifiedBy>Sony</cp:lastModifiedBy>
  <dcterms:modified xsi:type="dcterms:W3CDTF">2014-04-26T14:53:12Z</dcterms:modified>
  <cp:revision>43</cp:revision>
  <dc:subject/>
  <dc:title>Displaying Data  from Multiple Tables</dc:title>
</cp:coreProperties>
</file>