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9489-D814-4653-A751-0C0FF748003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5043-AB60-48D0-BA73-A1EADD7190F7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C2AD-FFB3-4DA0-8ED0-6E911E74975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D854-7473-488E-A251-D339B1357C7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22AD-333D-4205-B4B1-7EF5041AAAF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D983-1BFD-4B49-872B-C6A097D8E6E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074D-020C-4DA3-8C44-D268D05404D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F500-EF94-4D54-9185-44CCBDFC8E9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24CD-B6F1-4804-B761-C21F2A63883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C80D-2FA6-4A3E-BA6F-1C8A0BB320D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47E5-2EAB-4112-A9B3-4F6379729BB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89B5-58F0-4243-ACE6-70F14527F44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D1E5-7DC0-4761-B90D-510C80F41A3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E577-DDBC-415B-A030-C50691A2407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F76B-3DBD-44F1-B730-9BAACB0A814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019D-51CA-43E6-A7C3-8E3AB2AE4DC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2CC9-39E4-40E1-9B13-82C738710B7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FD42-95A0-41C2-A76C-34287CD95B0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376F-7173-42AA-B984-C1E77FD0588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F3FC-EB3D-4228-BB2F-C4A6C8DE66C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B2B1-BF91-47B5-8CD6-2089A1B707C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9118-3A30-4444-8068-6477D9522CF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74B9-CB89-40D5-AFA5-A1B5BD041D4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888C-530A-4069-9D3F-250FED2C4D8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5200-F2C7-4517-BB00-642512677A77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C61D-E95D-4DA0-A018-0F72A769588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DF37-F6F4-44A9-84DD-D68417E759B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5240-3C45-4EF9-AD5C-584D06146F6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8852-FEAA-43ED-B04C-D2D53E07C68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6DC5-6556-4626-9290-DD267D653CA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25B5-1CD2-4D87-942C-470F11A18F9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9489-E478-4010-AC75-13006CF6548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2851-28C7-4825-A76A-F829800A130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D41F-F5DC-41BA-84F9-15DE75CAB98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2E01-FF6F-4301-A028-14FF2652253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C83A-B726-4A7C-81A0-9E4806109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0E0C-B3C6-44D6-907C-5F3152D5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8150-C396-48F3-8821-B639078AB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61EB-2E42-488C-888F-EB34F6F6E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36FC-173A-4F70-AC67-4E1458C69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2348-E374-45A4-9294-DD364062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851C-46C4-4811-B94C-B98176DD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B72F-D583-47DE-86F0-A8CD65A1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C871-299C-4384-97A0-3F82B82C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3BB0-14D6-46B3-A22E-E84AE3BF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AE42-C9DA-4467-9410-03842B3A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CF36-AC96-463F-9C8C-A252F126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F813-E3A2-4562-9990-575DD21B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066E-DE15-456B-A1B1-BE194FE5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70E4-74B6-4C80-8C21-3884E439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5A39-2C07-4CF1-AEE3-02BACBD7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1D03-DF56-4C67-A835-9017A344F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E14AB-478A-40AB-88BF-40F0199C7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5F451-DE54-413F-B0E2-DB6F25B9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83093-0B0B-457C-BF4D-7739E0A7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087CD-DCD4-48D6-9FA2-AFAD8120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4A164-1A43-4ED5-AF01-9D2673B7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2C2A-77C5-4F31-9707-7CFE341A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6308D-96D4-4E74-8F02-CB457270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48B9A-90A2-4531-A414-6C1D5BDE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4B6AF-1044-48C1-B910-68C776DC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A1F13-5111-4934-AA72-97F8D6FF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3B86F-F35A-4EC5-8274-86929606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657CA-8F60-4403-9E85-629A24287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CBC23-BBA6-4BA8-9410-81349917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C6788-79B8-4875-A8DC-F5CF943BF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A6ECD-814D-4961-9A98-C09DCFBF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39D3F-C6BC-4D1B-B235-7AEECD3B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E49E-59B6-4512-9100-07520F07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5E2D8-3DD7-47D3-8E3E-E9896308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292C4-19D6-4335-9469-9CA1E855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A0460-A8E5-4CE3-976C-D71F4B27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EBF3B-C550-46EE-BA9B-79585841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A3BF0-D293-4DE4-9D95-24138828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2468F-217A-4133-911A-9D42E379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F824C-A3BC-428B-8180-434F1B59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2FDDB-20DE-4C6D-8A0F-704DE57E0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74764-36FB-46AC-A338-16322F5A1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7362E-204F-4C84-B740-4545220B7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D399-2818-4096-9F91-417926CF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DF779-63E1-4973-BBE9-8CB96041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9405E-600D-4C57-9B82-90CDFF4D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85962-CC02-489C-9943-CC0CB5D1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CEDD2-EF79-42B9-9F80-704C4EBA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DB4D3-245D-45F7-900D-EF1F4CFD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7217D-504B-445B-B453-55B54493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9EA59-B9D2-4CE0-829E-5F307DD2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23D58-38F6-413E-971D-63A9EA0E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C9F2D-4741-4FA4-BF04-15D1F5CF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A52EA-F2EF-4B8E-9554-1ACD63890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03F5-30C7-467C-89DF-D16D610E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3932C-59E2-429C-BB3A-779690815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76B45-CA64-4218-8647-D357BC7E7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A7E1C-FBD7-4ADD-877D-FE7749C4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B731E-4997-48E3-A7ED-42375288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90440-3844-45B6-8272-2FC1B4BB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E5FD0-EB08-40E6-83F2-6FB9BCD4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2F94C-0566-4316-BA1A-0B7BEFB3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16353-485C-4D9C-BAF5-31763DAE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0E199-6D74-46B9-B2F2-6E6C0655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3AAD7-B182-4C5E-B6DE-05363CE6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305F-D77D-4C53-9327-64DDF57A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FE978-E367-4AE4-8009-42309D89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5F80C-AE5D-432C-AD64-678BA038F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078E4-76E0-4C2B-8A39-9B1A3C971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C7052-A2E0-491D-ABC6-02362EC2B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A58E8-D2F6-407B-B876-3A0225D3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6290A-8843-4CA6-803A-6ADE15ED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CE231-4D3D-4A1B-A582-68D22D3A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1A15F-4778-4822-90EF-D5B6E1AD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9ADDB-C948-4BBA-8DEB-4B9F9478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AE3BF-7DFC-45F0-9506-E9B04114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A286-1643-41DD-B7C2-B41B2AAC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FE10C-47FA-4B33-A54C-C5AED19E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49F3D-653A-46A3-891D-F6C9E176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C8BE9-722F-49EE-B1E2-069FC364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03882-B54D-4B75-958E-68B2663C9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3C2C3-205E-486F-AE63-EA0D99027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2B0E-2B9A-4C6F-BDED-97E880FA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EE49-A965-484F-B9E9-F5C3A5CC8B3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 algn="r" rtl="1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 algn="r" rtl="1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6F66-ABCA-4975-B974-521DB95FE7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 algn="r" rtl="1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 algn="r" rtl="1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31C5-A78D-4148-AFE1-11F6FA66BC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C695-4B26-4266-AF4F-C54CB51211E4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C6FB-9DE6-4A4C-B532-9C5ECDCDC264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2541-4330-4DE8-A473-885BD8271C0E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DBFB-D8B1-4806-B53D-1CA86143AC26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689040" y="3359160"/>
            <a:ext cx="8076960" cy="16700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34" name="Content Placeholder 3" descr="j2.bmp"/>
          <p:cNvPicPr/>
          <p:nvPr/>
        </p:nvPicPr>
        <p:blipFill>
          <a:blip r:embed="rId2"/>
          <a:stretch/>
        </p:blipFill>
        <p:spPr>
          <a:xfrm>
            <a:off x="609480" y="1668600"/>
            <a:ext cx="7772400" cy="46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457200" y="139680"/>
            <a:ext cx="8229600" cy="14637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Picture 5" descr=""/>
          <p:cNvPicPr/>
          <p:nvPr/>
        </p:nvPicPr>
        <p:blipFill>
          <a:blip r:embed="rId2"/>
          <a:srcRect l="18743" t="25000" r="19180" b="10418"/>
          <a:stretch/>
        </p:blipFill>
        <p:spPr>
          <a:xfrm>
            <a:off x="76320" y="1523880"/>
            <a:ext cx="8858160" cy="51818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457200" y="3048120"/>
            <a:ext cx="8305920" cy="380880"/>
          </a:xfrm>
          <a:prstGeom prst="rect">
            <a:avLst/>
          </a:prstGeom>
          <a:noFill/>
          <a:ln w="478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7"/>
          <p:cNvSpPr/>
          <p:nvPr/>
        </p:nvSpPr>
        <p:spPr>
          <a:xfrm>
            <a:off x="168480" y="3733920"/>
            <a:ext cx="37803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Equijoin condi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pecifies how tables to be jo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0" name="Straight Arrow Connector 9"/>
          <p:cNvCxnSpPr/>
          <p:nvPr/>
        </p:nvCxnSpPr>
        <p:spPr>
          <a:xfrm flipH="1">
            <a:off x="609120" y="3504960"/>
            <a:ext cx="153360" cy="153000"/>
          </a:xfrm>
          <a:prstGeom prst="straightConnector1">
            <a:avLst/>
          </a:prstGeom>
          <a:ln cap="rnd"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itle 1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8229600" cy="14572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4847"/>
                </a:solidFill>
                <a:latin typeface="Corbel"/>
              </a:rPr>
              <a:t>Note: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 the previews example, the DEPARTMENT_ID column is common to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tables,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it must be prefixed by the table name to avoid </a:t>
            </a:r>
            <a:r>
              <a:rPr b="0" i="1" lang="en-US" sz="3200" spc="-1" strike="noStrike">
                <a:solidFill>
                  <a:srgbClr val="0070c0"/>
                </a:solidFill>
                <a:latin typeface="Corbel"/>
              </a:rPr>
              <a:t>ambiguity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Title 1" descr=""/>
          <p:cNvPicPr/>
          <p:nvPr/>
        </p:nvPicPr>
        <p:blipFill>
          <a:blip r:embed="rId1"/>
          <a:stretch/>
        </p:blipFill>
        <p:spPr>
          <a:xfrm>
            <a:off x="457200" y="139680"/>
            <a:ext cx="8229600" cy="14637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5" name="Picture 4" descr=""/>
          <p:cNvPicPr/>
          <p:nvPr/>
        </p:nvPicPr>
        <p:blipFill>
          <a:blip r:embed="rId2"/>
          <a:srcRect l="20500" t="29168" r="17423" b="12500"/>
          <a:stretch/>
        </p:blipFill>
        <p:spPr>
          <a:xfrm>
            <a:off x="228600" y="1752480"/>
            <a:ext cx="868680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itle 1" descr=""/>
          <p:cNvPicPr/>
          <p:nvPr/>
        </p:nvPicPr>
        <p:blipFill>
          <a:blip r:embed="rId1"/>
          <a:stretch/>
        </p:blipFill>
        <p:spPr>
          <a:xfrm>
            <a:off x="457200" y="-12600"/>
            <a:ext cx="8229600" cy="1463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" descr=""/>
          <p:cNvPicPr/>
          <p:nvPr/>
        </p:nvPicPr>
        <p:blipFill>
          <a:blip r:embed="rId2"/>
          <a:srcRect l="19091" t="33337" r="17188" b="33337"/>
          <a:stretch/>
        </p:blipFill>
        <p:spPr>
          <a:xfrm>
            <a:off x="76320" y="1666800"/>
            <a:ext cx="899136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457200" y="60480"/>
            <a:ext cx="8229600" cy="14634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Use table prefixes to qualify column names that are in multiple tabl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Improve performance by using table prefix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rbel"/>
                <a:ea typeface="Tahoma"/>
              </a:rPr>
              <a:t>For simplicity: </a:t>
            </a:r>
            <a:r>
              <a:rPr b="0" lang="en-US" sz="3200" spc="-1" strike="noStrike">
                <a:solidFill>
                  <a:srgbClr val="0070c0"/>
                </a:solidFill>
                <a:latin typeface="Corbel"/>
                <a:ea typeface="Tahoma"/>
              </a:rPr>
              <a:t>We can distinguish columns that have identical names but reside in different tables by using column </a:t>
            </a:r>
            <a:r>
              <a:rPr b="0" lang="en-US" sz="3200" spc="-1" strike="noStrike">
                <a:solidFill>
                  <a:srgbClr val="92d050"/>
                </a:solidFill>
                <a:latin typeface="Corbel"/>
                <a:ea typeface="Tahoma"/>
              </a:rPr>
              <a:t>aliase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2"/>
          <a:srcRect l="21670" t="33337" r="19180" b="26043"/>
          <a:stretch/>
        </p:blipFill>
        <p:spPr>
          <a:xfrm>
            <a:off x="228600" y="1600200"/>
            <a:ext cx="86835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"/>
          <p:cNvPicPr/>
          <p:nvPr/>
        </p:nvPicPr>
        <p:blipFill>
          <a:blip r:embed="rId2"/>
          <a:srcRect l="15226" t="50005" r="14496" b="25000"/>
          <a:stretch/>
        </p:blipFill>
        <p:spPr>
          <a:xfrm>
            <a:off x="-76320" y="160020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2"/>
          <a:srcRect l="16399" t="19793" r="12739" b="6250"/>
          <a:stretch/>
        </p:blipFill>
        <p:spPr>
          <a:xfrm>
            <a:off x="0" y="1447920"/>
            <a:ext cx="92203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Sometimes you may need to join more than two tables. </a:t>
            </a:r>
            <a:r>
              <a:rPr b="1" lang="en-US" sz="3200" spc="-1" strike="noStrike">
                <a:solidFill>
                  <a:srgbClr val="f0ad00"/>
                </a:solidFill>
                <a:latin typeface="Corbel"/>
                <a:ea typeface="Tahoma"/>
              </a:rPr>
              <a:t>For example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, to display the last name, the department name, and the city for each employee, you have to join the EMPLOYEES, DEPARTMENTS, and LOCATIONS tables. (</a:t>
            </a:r>
            <a:r>
              <a:rPr b="1" lang="en-US" sz="3200" spc="-1" strike="noStrike">
                <a:solidFill>
                  <a:srgbClr val="f0ad00"/>
                </a:solidFill>
                <a:latin typeface="Corbel"/>
                <a:ea typeface="Tahoma"/>
              </a:rPr>
              <a:t>see Example 2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7200" y="133200"/>
            <a:ext cx="8229600" cy="147024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ometimes you need to use data from more than one table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In example1, the report displays data from </a:t>
            </a:r>
            <a:r>
              <a:rPr b="1" lang="en-US" sz="3000" spc="-1" strike="noStrike">
                <a:solidFill>
                  <a:srgbClr val="00b0f0"/>
                </a:solidFill>
                <a:latin typeface="Corbel"/>
              </a:rPr>
              <a:t>two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separate table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Employee IDs exist in the EMPLOYEES tabl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Department IDs exist in both the EMPLOYEES and DEPARTMENTS table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Location IDs exist in the DEPARTMENTS tabl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o produce the report, you need to </a:t>
            </a:r>
            <a:r>
              <a:rPr b="1" lang="en-US" sz="3000" spc="-1" strike="noStrike">
                <a:solidFill>
                  <a:srgbClr val="00b0f0"/>
                </a:solidFill>
                <a:latin typeface="Corbel"/>
              </a:rPr>
              <a:t>link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the </a:t>
            </a:r>
            <a:r>
              <a:rPr b="0" lang="en-US" sz="3000" spc="-1" strike="noStrike">
                <a:solidFill>
                  <a:srgbClr val="92d050"/>
                </a:solidFill>
                <a:latin typeface="Corbel"/>
              </a:rPr>
              <a:t>EMPLOYEES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and </a:t>
            </a:r>
            <a:r>
              <a:rPr b="0" lang="en-US" sz="3000" spc="-1" strike="noStrike">
                <a:solidFill>
                  <a:srgbClr val="92d050"/>
                </a:solidFill>
                <a:latin typeface="Corbel"/>
              </a:rPr>
              <a:t>DEPARTMENTS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tables and access data from both of them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2"/>
          <a:srcRect l="12885" t="28125" r="16836" b="6250"/>
          <a:stretch/>
        </p:blipFill>
        <p:spPr>
          <a:xfrm>
            <a:off x="0" y="152388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5" name="Picture 4" descr=""/>
          <p:cNvPicPr/>
          <p:nvPr/>
        </p:nvPicPr>
        <p:blipFill>
          <a:blip r:embed="rId2"/>
          <a:srcRect l="18743" t="20832" r="15079" b="9375"/>
          <a:stretch/>
        </p:blipFill>
        <p:spPr>
          <a:xfrm>
            <a:off x="76320" y="1523880"/>
            <a:ext cx="89154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nonequijoin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 is a join condition containing something </a:t>
            </a: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other than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an equality operator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The relationship between the  EMPLOYEES table and the JOB_GRADES table has an example of a nonequijoin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A relationship between the two tables is that  the SALARY column in the EMPLOYEES table must be between the values in the  LOWEST_SALARY and HIGHEST_SALARY columns of the JOB_GRADES table. The relationship is obtained using an operator other than equals (=)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0" name="Picture 4" descr=""/>
          <p:cNvPicPr/>
          <p:nvPr/>
        </p:nvPicPr>
        <p:blipFill>
          <a:blip r:embed="rId2"/>
          <a:srcRect l="20500" t="30212" r="15669" b="10418"/>
          <a:stretch/>
        </p:blipFill>
        <p:spPr>
          <a:xfrm>
            <a:off x="152280" y="1600200"/>
            <a:ext cx="8888400" cy="464832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4"/>
          <p:cNvSpPr/>
          <p:nvPr/>
        </p:nvSpPr>
        <p:spPr>
          <a:xfrm>
            <a:off x="228600" y="2590920"/>
            <a:ext cx="8686800" cy="380880"/>
          </a:xfrm>
          <a:prstGeom prst="rect">
            <a:avLst/>
          </a:prstGeom>
          <a:noFill/>
          <a:ln w="478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5"/>
          <p:cNvSpPr/>
          <p:nvPr/>
        </p:nvSpPr>
        <p:spPr>
          <a:xfrm>
            <a:off x="101160" y="3276720"/>
            <a:ext cx="47649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Nonequijoin condi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pecifies that salary must be between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Pair of low and high 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Straight Arrow Connector 6"/>
          <p:cNvCxnSpPr/>
          <p:nvPr/>
        </p:nvCxnSpPr>
        <p:spPr>
          <a:xfrm flipH="1">
            <a:off x="532800" y="3047760"/>
            <a:ext cx="153000" cy="153000"/>
          </a:xfrm>
          <a:prstGeom prst="straightConnector1">
            <a:avLst/>
          </a:prstGeom>
          <a:ln cap="rnd"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64847"/>
                </a:solidFill>
                <a:latin typeface="Corbel"/>
              </a:rPr>
              <a:t>Note that : </a:t>
            </a:r>
            <a:r>
              <a:rPr b="0" lang="en-US" sz="3200" spc="-1" strike="noStrike">
                <a:solidFill>
                  <a:srgbClr val="c64847"/>
                </a:solidFill>
                <a:latin typeface="Corbel"/>
              </a:rPr>
              <a:t>other conditions such as </a:t>
            </a:r>
            <a:r>
              <a:rPr b="1" lang="en-US" sz="3200" spc="-1" strike="noStrike">
                <a:solidFill>
                  <a:srgbClr val="92d050"/>
                </a:solidFill>
                <a:latin typeface="Corbel"/>
              </a:rPr>
              <a:t>&lt;=</a:t>
            </a:r>
            <a:r>
              <a:rPr b="0" lang="en-US" sz="3200" spc="-1" strike="noStrike">
                <a:solidFill>
                  <a:srgbClr val="c64847"/>
                </a:solidFill>
                <a:latin typeface="Corbel"/>
              </a:rPr>
              <a:t> and </a:t>
            </a:r>
            <a:r>
              <a:rPr b="1" lang="en-US" sz="3200" spc="-1" strike="noStrike">
                <a:solidFill>
                  <a:srgbClr val="92d050"/>
                </a:solidFill>
                <a:latin typeface="Corbel"/>
              </a:rPr>
              <a:t>&gt;=</a:t>
            </a:r>
            <a:r>
              <a:rPr b="0" lang="en-US" sz="3200" spc="-1" strike="noStrike">
                <a:solidFill>
                  <a:srgbClr val="c64847"/>
                </a:solidFill>
                <a:latin typeface="Corbel"/>
              </a:rPr>
              <a:t> can be used also. But BETWEEN  condition is the simples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If a row does not satisfy a join condition, the row will not appear in the query result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For example, in the equijoin condition of EMPLOYEES and DEPARTMENTS tables, employee Grant does not appear because there is no department ID recorded for her in the EMPLOYEES table</a:t>
            </a:r>
            <a:r>
              <a:rPr b="0" lang="en-US" sz="3200" spc="-1" strike="noStrike">
                <a:solidFill>
                  <a:srgbClr val="92d05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Instead of seeing 20 employees in the result set, you see 19 records. (</a:t>
            </a:r>
            <a:r>
              <a:rPr b="0" lang="en-US" sz="3200" spc="-1" strike="noStrike">
                <a:solidFill>
                  <a:srgbClr val="f0ad00"/>
                </a:solidFill>
                <a:latin typeface="Corbel"/>
                <a:ea typeface="Tahoma"/>
              </a:rPr>
              <a:t>see Example 3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2"/>
          <a:srcRect l="13472" t="12500" r="16253" b="22918"/>
          <a:stretch/>
        </p:blipFill>
        <p:spPr>
          <a:xfrm>
            <a:off x="76320" y="1676520"/>
            <a:ext cx="899136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o see rows that do not 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 meet the join condition 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we use the outer joi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e outer join operator is the plus sign </a:t>
            </a:r>
            <a:r>
              <a:rPr b="0" lang="en-US" sz="3000" spc="-1" strike="noStrike">
                <a:solidFill>
                  <a:srgbClr val="92d050"/>
                </a:solidFill>
                <a:latin typeface="Corbel"/>
              </a:rPr>
              <a:t>(</a:t>
            </a:r>
            <a:r>
              <a:rPr b="1" lang="en-US" sz="3000" spc="-1" strike="noStrike">
                <a:solidFill>
                  <a:srgbClr val="92d050"/>
                </a:solidFill>
                <a:latin typeface="Corbel"/>
              </a:rPr>
              <a:t>+</a:t>
            </a:r>
            <a:r>
              <a:rPr b="0" lang="en-US" sz="3000" spc="-1" strike="noStrike">
                <a:solidFill>
                  <a:srgbClr val="92d050"/>
                </a:solidFill>
                <a:latin typeface="Corbel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SELECT table1.column, table2.colum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FROM table1, table2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WHERE table1.column</a:t>
            </a:r>
            <a:r>
              <a:rPr b="1" lang="en-US" sz="3000" spc="-1" strike="noStrike">
                <a:solidFill>
                  <a:srgbClr val="92d050"/>
                </a:solidFill>
                <a:latin typeface="Corbel"/>
              </a:rPr>
              <a:t>(+)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 = table2.column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SELECT table1.column, table2.colum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FROM table1, table2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WHERE table1.column = table2.column</a:t>
            </a:r>
            <a:r>
              <a:rPr b="1" lang="en-US" sz="3000" spc="-1" strike="noStrike">
                <a:solidFill>
                  <a:srgbClr val="92d050"/>
                </a:solidFill>
                <a:latin typeface="Corbel"/>
              </a:rPr>
              <a:t>(+)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457200" y="3581280"/>
            <a:ext cx="7238880" cy="1219320"/>
          </a:xfrm>
          <a:prstGeom prst="rect">
            <a:avLst/>
          </a:prstGeom>
          <a:noFill/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457200" y="5105520"/>
            <a:ext cx="7238880" cy="1295280"/>
          </a:xfrm>
          <a:prstGeom prst="rect">
            <a:avLst/>
          </a:prstGeom>
          <a:noFill/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table1.column = is the condition that joins (or relates) the tables together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table2.column (+) is the outer join symbol, which can be placed on either side of th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ERE clause condition, but </a:t>
            </a:r>
            <a:r>
              <a:rPr b="1" lang="en-US" sz="3200" spc="-1" strike="noStrike">
                <a:solidFill>
                  <a:srgbClr val="c64847"/>
                </a:solidFill>
                <a:latin typeface="Corbel"/>
              </a:rPr>
              <a:t>not on both side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en-US" sz="3200" spc="-1" strike="noStrike">
                <a:solidFill>
                  <a:srgbClr val="0070c0"/>
                </a:solidFill>
                <a:latin typeface="Corbel"/>
              </a:rPr>
              <a:t>Place the outer join symbol following the name of the column in the table without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70c0"/>
                </a:solidFill>
                <a:latin typeface="Corbel"/>
              </a:rPr>
              <a:t>the matching row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88" name="Content Placeholder 3" descr="j3.bmp"/>
          <p:cNvPicPr/>
          <p:nvPr/>
        </p:nvPicPr>
        <p:blipFill>
          <a:blip r:embed="rId2"/>
          <a:stretch/>
        </p:blipFill>
        <p:spPr>
          <a:xfrm>
            <a:off x="-6480" y="1600200"/>
            <a:ext cx="8769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" descr=""/>
          <p:cNvPicPr/>
          <p:nvPr/>
        </p:nvPicPr>
        <p:blipFill>
          <a:blip r:embed="rId2"/>
          <a:srcRect l="19440" t="17638" r="15735" b="11531"/>
          <a:stretch/>
        </p:blipFill>
        <p:spPr>
          <a:xfrm>
            <a:off x="304920" y="1523880"/>
            <a:ext cx="847080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500" spc="-1" strike="noStrike">
              <a:solidFill>
                <a:srgbClr val="ffc800"/>
              </a:solidFill>
              <a:latin typeface="Corbel"/>
              <a:ea typeface="Tahom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The slide example displays employee last names, department ID’s and department names. The Contracting department does not have any employees.  The empty value is shown in the output shown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Outer Join Restrictions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•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The outer join operator can appear on only one side of the expression: the side that has information missing. It returns those rows from one table that have no direct match in the other table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•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A condition involving an outer join cannot use the IN operator or be linked to another condition by the OR operator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2"/>
          <a:srcRect l="32494" t="27288" r="28701" b="36476"/>
          <a:stretch/>
        </p:blipFill>
        <p:spPr>
          <a:xfrm>
            <a:off x="0" y="167652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2"/>
          <a:srcRect l="12885" t="17707" r="11568" b="29168"/>
          <a:stretch/>
        </p:blipFill>
        <p:spPr>
          <a:xfrm>
            <a:off x="228600" y="1600200"/>
            <a:ext cx="8763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2"/>
          <a:srcRect l="17572" t="28130" r="18010" b="12500"/>
          <a:stretch/>
        </p:blipFill>
        <p:spPr>
          <a:xfrm>
            <a:off x="-76320" y="1600200"/>
            <a:ext cx="9117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Write a query to display the last name, department number, and department name for all employees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Write a query to display the employee last name, department name, location ID, and city of all employees who earn a commiss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A Cartesian product is formed whe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Tahoma"/>
              </a:rPr>
              <a:t>A join condition is omitte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Tahoma"/>
              </a:rPr>
              <a:t>A join condition is invali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Tahoma"/>
              </a:rPr>
              <a:t>All rows in the first table are joined to all rows in the second tabl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To avoid a Cartesian product, always include a valid join condition in a </a:t>
            </a:r>
            <a:r>
              <a:rPr b="1" lang="en-US" sz="3200" spc="-1" strike="noStrike">
                <a:solidFill>
                  <a:srgbClr val="92d050"/>
                </a:solidFill>
                <a:latin typeface="Corbel"/>
                <a:ea typeface="Tahoma"/>
              </a:rPr>
              <a:t>WHERE claus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19" name="Content Placeholder 3" descr="j1.bmp"/>
          <p:cNvPicPr/>
          <p:nvPr/>
        </p:nvPicPr>
        <p:blipFill>
          <a:blip r:embed="rId2"/>
          <a:stretch/>
        </p:blipFill>
        <p:spPr>
          <a:xfrm>
            <a:off x="347760" y="1600200"/>
            <a:ext cx="8186760" cy="4952880"/>
          </a:xfrm>
          <a:prstGeom prst="rect">
            <a:avLst/>
          </a:prstGeom>
          <a:ln w="0">
            <a:noFill/>
          </a:ln>
        </p:spPr>
      </p:pic>
      <p:sp>
        <p:nvSpPr>
          <p:cNvPr id="320" name="TextBox 3"/>
          <p:cNvSpPr/>
          <p:nvPr/>
        </p:nvSpPr>
        <p:spPr>
          <a:xfrm>
            <a:off x="5654520" y="3809880"/>
            <a:ext cx="3308040" cy="91692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ll rows in the first table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JOIN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ll rows in the second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"/>
          <p:cNvPicPr/>
          <p:nvPr/>
        </p:nvPicPr>
        <p:blipFill>
          <a:blip r:embed="rId2"/>
          <a:srcRect l="21291" t="25876" r="17586" b="16471"/>
          <a:stretch/>
        </p:blipFill>
        <p:spPr>
          <a:xfrm>
            <a:off x="158760" y="1676520"/>
            <a:ext cx="8908920" cy="472428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4"/>
          <p:cNvSpPr/>
          <p:nvPr/>
        </p:nvSpPr>
        <p:spPr>
          <a:xfrm>
            <a:off x="380880" y="3048120"/>
            <a:ext cx="3048120" cy="1828800"/>
          </a:xfrm>
          <a:prstGeom prst="rect">
            <a:avLst/>
          </a:prstGeom>
          <a:noFill/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533520" y="2666880"/>
            <a:ext cx="8001000" cy="1600200"/>
          </a:xfrm>
          <a:prstGeom prst="rect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6840" y="1774800"/>
            <a:ext cx="80773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Use a join to query data from more than one table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SELECT </a:t>
            </a:r>
            <a:r>
              <a:rPr b="1" lang="en-US" sz="3000" spc="-1" strike="noStrike">
                <a:solidFill>
                  <a:srgbClr val="0070c0"/>
                </a:solidFill>
                <a:latin typeface="Corbel"/>
              </a:rPr>
              <a:t>table1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1" lang="en-US" sz="3000" spc="-1" strike="noStrike">
                <a:solidFill>
                  <a:srgbClr val="00b050"/>
                </a:solidFill>
                <a:latin typeface="Corbel"/>
              </a:rPr>
              <a:t>column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1" lang="en-US" sz="3000" spc="-1" strike="noStrike">
                <a:solidFill>
                  <a:srgbClr val="0070c0"/>
                </a:solidFill>
                <a:latin typeface="Corbel"/>
              </a:rPr>
              <a:t>table2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1" lang="en-US" sz="3000" spc="-1" strike="noStrike">
                <a:solidFill>
                  <a:srgbClr val="00b050"/>
                </a:solidFill>
                <a:latin typeface="Corbel"/>
              </a:rPr>
              <a:t>colum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FROM </a:t>
            </a:r>
            <a:r>
              <a:rPr b="1" lang="en-US" sz="3000" spc="-1" strike="noStrike">
                <a:solidFill>
                  <a:srgbClr val="0070c0"/>
                </a:solidFill>
                <a:latin typeface="Corbel"/>
              </a:rPr>
              <a:t>table1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1" lang="en-US" sz="3000" spc="-1" strike="noStrike">
                <a:solidFill>
                  <a:srgbClr val="0070c0"/>
                </a:solidFill>
                <a:latin typeface="Corbel"/>
              </a:rPr>
              <a:t>table2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WHERE </a:t>
            </a:r>
            <a:r>
              <a:rPr b="1" lang="en-US" sz="3000" spc="-1" strike="noStrike">
                <a:solidFill>
                  <a:srgbClr val="0070c0"/>
                </a:solidFill>
                <a:latin typeface="Corbel"/>
              </a:rPr>
              <a:t>table1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1" lang="en-US" sz="3000" spc="-1" strike="noStrike">
                <a:solidFill>
                  <a:srgbClr val="d9253e"/>
                </a:solidFill>
                <a:latin typeface="Corbel"/>
              </a:rPr>
              <a:t>column1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 = </a:t>
            </a:r>
            <a:r>
              <a:rPr b="1" lang="en-US" sz="3000" spc="-1" strike="noStrike">
                <a:solidFill>
                  <a:srgbClr val="0070c0"/>
                </a:solidFill>
                <a:latin typeface="Corbel"/>
              </a:rPr>
              <a:t>table2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1" lang="en-US" sz="3000" spc="-1" strike="noStrike">
                <a:solidFill>
                  <a:srgbClr val="ffff00"/>
                </a:solidFill>
                <a:latin typeface="Corbel"/>
              </a:rPr>
              <a:t>column2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Write the join condition in the </a:t>
            </a:r>
            <a:r>
              <a:rPr b="1" i="1" lang="en-US" sz="3000" spc="-1" strike="noStrike">
                <a:solidFill>
                  <a:srgbClr val="000000"/>
                </a:solidFill>
                <a:latin typeface="Corbel"/>
              </a:rPr>
              <a:t>WHERE clause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orbel"/>
              </a:rPr>
              <a:t>Prefix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 the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column name 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with the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table name “</a:t>
            </a:r>
            <a:r>
              <a:rPr b="1" lang="en-US" sz="3000" spc="-1" strike="noStrike">
                <a:solidFill>
                  <a:srgbClr val="92d050"/>
                </a:solidFill>
                <a:latin typeface="Corbel"/>
              </a:rPr>
              <a:t>when the same column name appears in more than one table.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 “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solidFill>
            <a:srgbClr val="000000">
              <a:alpha val="45000"/>
            </a:srgbClr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77444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When writing a SELECT statement that joins tables, precede the column name with the table name for </a:t>
            </a:r>
            <a:r>
              <a:rPr b="0" lang="en-US" sz="2500" spc="-1" strike="noStrike">
                <a:solidFill>
                  <a:srgbClr val="f0ad00"/>
                </a:solidFill>
                <a:latin typeface="Corbel"/>
              </a:rPr>
              <a:t>clarity 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and to </a:t>
            </a:r>
            <a:r>
              <a:rPr b="0" lang="en-US" sz="2500" spc="-1" strike="noStrike">
                <a:solidFill>
                  <a:srgbClr val="f0ad00"/>
                </a:solidFill>
                <a:latin typeface="Corbel"/>
              </a:rPr>
              <a:t>enhance database access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. (</a:t>
            </a:r>
            <a:r>
              <a:rPr b="0" lang="en-US" sz="2500" spc="-1" strike="noStrike">
                <a:solidFill>
                  <a:srgbClr val="c64847"/>
                </a:solidFill>
                <a:latin typeface="Corbel"/>
              </a:rPr>
              <a:t>optional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If the </a:t>
            </a:r>
            <a:r>
              <a:rPr b="1" lang="en-US" sz="2500" spc="-1" strike="noStrike">
                <a:solidFill>
                  <a:srgbClr val="0070c0"/>
                </a:solidFill>
                <a:latin typeface="Corbel"/>
              </a:rPr>
              <a:t>same column name 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appears in more than one table, the column name </a:t>
            </a:r>
            <a:r>
              <a:rPr b="1" lang="en-US" sz="2500" spc="-1" strike="noStrike">
                <a:solidFill>
                  <a:srgbClr val="92d050"/>
                </a:solidFill>
                <a:latin typeface="Corbel"/>
              </a:rPr>
              <a:t>must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be prefixed with the table name.(</a:t>
            </a:r>
            <a:r>
              <a:rPr b="0" lang="en-US" sz="2500" spc="-1" strike="noStrike">
                <a:solidFill>
                  <a:srgbClr val="c64847"/>
                </a:solidFill>
                <a:latin typeface="Corbel"/>
              </a:rPr>
              <a:t>mandatory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To join </a:t>
            </a:r>
            <a:r>
              <a:rPr b="1" lang="en-US" sz="2500" spc="-1" strike="noStrike">
                <a:solidFill>
                  <a:srgbClr val="92d050"/>
                </a:solidFill>
                <a:latin typeface="Corbel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tables together, you need a minimum of </a:t>
            </a:r>
            <a:r>
              <a:rPr b="1" lang="en-US" sz="2500" spc="-1" strike="noStrike">
                <a:solidFill>
                  <a:srgbClr val="92d050"/>
                </a:solidFill>
                <a:latin typeface="Corbel"/>
              </a:rPr>
              <a:t>n-1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join conditions. </a:t>
            </a:r>
            <a:r>
              <a:rPr b="0" lang="en-US" sz="2500" spc="-1" strike="noStrike">
                <a:solidFill>
                  <a:srgbClr val="b48200"/>
                </a:solidFill>
                <a:latin typeface="Corbel"/>
              </a:rPr>
              <a:t>For example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, to join </a:t>
            </a:r>
            <a:r>
              <a:rPr b="0" lang="en-US" sz="2500" spc="-1" strike="noStrike">
                <a:solidFill>
                  <a:srgbClr val="92d050"/>
                </a:solidFill>
                <a:latin typeface="Corbel"/>
              </a:rPr>
              <a:t>four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tables, a </a:t>
            </a:r>
            <a:r>
              <a:rPr b="0" i="1" lang="en-US" sz="2500" spc="-1" strike="noStrike">
                <a:solidFill>
                  <a:srgbClr val="000000"/>
                </a:solidFill>
                <a:latin typeface="Corbel"/>
              </a:rPr>
              <a:t>minimum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of </a:t>
            </a:r>
            <a:r>
              <a:rPr b="0" lang="en-US" sz="2500" spc="-1" strike="noStrike">
                <a:solidFill>
                  <a:srgbClr val="92d050"/>
                </a:solidFill>
                <a:latin typeface="Corbel"/>
              </a:rPr>
              <a:t>three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joins is required.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This rule may not  apply if your table has a concatenated primary key, in which case more than one column is required to uniquely identify each row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TextBox 3"/>
          <p:cNvSpPr/>
          <p:nvPr/>
        </p:nvSpPr>
        <p:spPr>
          <a:xfrm>
            <a:off x="-302760" y="5562720"/>
            <a:ext cx="9743760" cy="459720"/>
          </a:xfrm>
          <a:prstGeom prst="rect">
            <a:avLst/>
          </a:prstGeom>
          <a:gradFill rotWithShape="0">
            <a:gsLst>
              <a:gs pos="0">
                <a:srgbClr val="ffde7f"/>
              </a:gs>
              <a:gs pos="100000">
                <a:srgbClr val="fff5da"/>
              </a:gs>
            </a:gsLst>
            <a:lin ang="16200000"/>
          </a:gradFill>
          <a:ln cap="rnd" w="6480">
            <a:solidFill>
              <a:srgbClr val="f0ac00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rbel"/>
              </a:rPr>
              <a:t>[Bonus] Q:How to define a table with a composite primary k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2" name="TextBox 11"/>
          <p:cNvSpPr/>
          <p:nvPr/>
        </p:nvSpPr>
        <p:spPr>
          <a:xfrm>
            <a:off x="533520" y="175248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a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0ad00"/>
                </a:solidFill>
                <a:latin typeface="Calibri"/>
              </a:rPr>
              <a:t>To determine an employee’s department name you compare th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in the DEPARTMENT_ID column in the EMPLOYEES tab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the DEPARTMENT_ID values in the DEPARTMENTS t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lationship between the EMPLOYEES and DEPARTMENTS tables is an </a:t>
            </a:r>
            <a:r>
              <a:rPr b="1" lang="en-US" sz="2400" spc="-1" strike="noStrike">
                <a:solidFill>
                  <a:srgbClr val="c64847"/>
                </a:solidFill>
                <a:latin typeface="Calibri"/>
              </a:rPr>
              <a:t>equijo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at is, values in the DEPARTMENT_ID column on both table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ust be equ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2d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Calibri"/>
              </a:rPr>
              <a:t>Frequentl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is type of join involve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rima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oreig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key comp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4847"/>
                </a:solidFill>
                <a:latin typeface="Calibri"/>
              </a:rPr>
              <a:t>Note: Equijoins are also called simple joins or inner jo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31T18:26:03Z</dcterms:created>
  <dc:creator>Hmra</dc:creator>
  <dc:description/>
  <dc:language>en-US</dc:language>
  <cp:lastModifiedBy>Sony</cp:lastModifiedBy>
  <dcterms:modified xsi:type="dcterms:W3CDTF">2014-04-26T14:53:12Z</dcterms:modified>
  <cp:revision>43</cp:revision>
  <dc:subject/>
  <dc:title>Displaying Data  from Multiple Tables</dc:title>
</cp:coreProperties>
</file>