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02A-F7E6-4487-90D1-2DB7536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58A-0FDA-414E-8B0D-563CA1CC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52D-B8B6-411F-96EB-BDC078F2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AD5-E7BD-4172-864A-890196C4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598-3BFE-40B9-94E1-7E5BD3ED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4B53-AED5-4595-90AB-35691283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00F-AFA2-4214-AD80-2F6E8056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A6B-6FB5-4613-B8E9-55F200B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CE15-8C04-477B-A1A2-0603ECEF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41E-EE67-456C-B940-EA96ED1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BA3-484C-4978-8527-20ED9AB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DFF-A3C4-4183-8913-707CC30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CBBD-524C-4577-A6FE-E07AE50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7DF0-5662-46E2-BB93-5445D11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0B96-3D2D-4CCD-BE8E-AD196524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105-3863-4719-BF67-3AAFA2E0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79F-D22D-4A1B-862D-0E1FDD7B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425-336B-48E6-8A40-6CABCBDA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B58-FA8F-410A-AD79-1F0C15E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54B-73D5-4913-AAD9-78F933E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FA3-848A-41EC-8C95-BCD3354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518-4EEF-425A-A51E-5FBD0C4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C62-6F1C-4176-A779-F625A7B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854-C6B5-4703-A593-0C8BC7C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506-ABC9-4A11-B6FE-35C520FCDBE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66E-5884-4723-B8B1-FF1D6FC61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55D-A5EB-466E-9712-400F3AB5E6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03C-6F28-48E1-90BB-B484D0D35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9A4-0C58-4BF7-96CF-E3F47B9F0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1FC-0BB0-4F0C-B796-04861C22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488-6468-4145-A66B-EE86F508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FDC-34AC-4CE8-AA30-E5570510D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A6B-3C2A-4B2E-9BC6-0E6725537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FB7-1150-4A06-B30A-36146066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D88F-070C-48B9-8685-5BF806804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F74-C881-45F9-A10D-C3DBBE074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D4B-95E2-4C1C-A4EA-632291360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0F89-0C93-4CE7-812A-62D8330BD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6-10-02T07:23:30Z</dcterms:modified>
  <cp:revision>11</cp:revision>
  <dc:subject/>
  <dc:title>Introduction to JAVA</dc:title>
</cp:coreProperties>
</file>