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48B-162A-4B7A-A6AE-59959419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094-1BD2-4EB2-B590-B0BB1048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043-7449-4E5D-B376-65F96E5A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492-FB37-4AEF-BA5F-75A068F5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E41E-A046-4C71-A5F9-921BB4E6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6172-302A-41A4-A7A9-BD801C50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0CF5-8D55-4B64-BE7E-9B778668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A0CF-8D07-4A5E-92FE-F5550F36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27F8-D829-462B-9BC3-BF8BF8FA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3119-1A65-48B9-9C79-162BE427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1660-6FBE-4FD5-8945-B995C78D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8D7-0B03-4361-B66B-72ADEC02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7930-CDC2-4C04-BFE1-BFBB1D1E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0C46-5BC2-4A75-962E-5B90CBDA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039C-043E-41F4-A4AC-042E59A3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05FA-1ACA-4457-A55A-BA539F0B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4AC2-82F2-453F-99FE-5E072D75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5D86-B898-4917-B5B1-BB848396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955-014E-4E85-A19B-D95C49D9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0EF9-7C7A-4CA0-9E72-98DA7A66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5D2-18C1-42DE-AE01-A58DE063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C7C-1187-45FB-BBE7-F6DC6312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ED2-B45F-4023-B7D1-82A42779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70C-B312-4A61-8E6E-18A32F16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2ABD-CF1B-4FA8-9E40-68EDF4AF56A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F300-1601-4039-B049-CCA0870196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F5BE-44A7-4E6E-A282-84E582F8B3F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4A7F-E766-4A50-98B5-01E33A83D1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066680" y="2514240"/>
            <a:ext cx="670536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4114800" y="16765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9433-AC9F-482A-A8B2-9EA3B7F1C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GOOD Programming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areful java is a sensitiv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good to begin every program with a comment  that states the purpose of the program and the auth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java program consist of at least one class that the programmer def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each class name  with capital let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ass name doesn’t begin with a digit  and doesn’t contain a spa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blank lines and spaces to enhance program read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type an opining left brace{ immediately 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osing right brace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nt the entire body of each class decla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E100-3D2A-4296-8D02-40C079280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12884053-button-computer-keyboard-with-word-idea-and-icon-light-bulb.jpg"/>
          <p:cNvPicPr/>
          <p:nvPr/>
        </p:nvPicPr>
        <p:blipFill>
          <a:blip r:embed="rId1"/>
          <a:stretch/>
        </p:blipFill>
        <p:spPr>
          <a:xfrm>
            <a:off x="6172200" y="0"/>
            <a:ext cx="2362320" cy="1576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lightbulb1.jpg"/>
          <p:cNvPicPr/>
          <p:nvPr/>
        </p:nvPicPr>
        <p:blipFill>
          <a:blip r:embed="rId2"/>
          <a:stretch/>
        </p:blipFill>
        <p:spPr>
          <a:xfrm>
            <a:off x="7772400" y="5029200"/>
            <a:ext cx="1095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What is Java</a:t>
            </a:r>
            <a:r>
              <a:rPr b="1" lang="ar-SA" sz="3600" spc="-1" strike="noStrike">
                <a:solidFill>
                  <a:srgbClr val="ffc00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ava is a programming language and computing platform first released by </a:t>
            </a:r>
            <a:r>
              <a:rPr b="0" lang="en-US" sz="2600" spc="-1" strike="noStrike">
                <a:solidFill>
                  <a:srgbClr val="ffc000"/>
                </a:solidFill>
                <a:latin typeface="Calibri"/>
              </a:rPr>
              <a:t>Su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c000"/>
                </a:solidFill>
                <a:latin typeface="Calibri"/>
              </a:rPr>
              <a:t>Microsystem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1995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language derives much of its syntax from C and C++ but has a simpler object model and fewer low-level facil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Java language is accompanied by a </a:t>
            </a:r>
            <a:r>
              <a:rPr b="1" lang="en-US" sz="2200" spc="-1" strike="noStrike" u="sng">
                <a:solidFill>
                  <a:srgbClr val="ffc000"/>
                </a:solidFill>
                <a:uFillTx/>
                <a:latin typeface="Calibri"/>
                <a:ea typeface="ＭＳ Ｐゴシック"/>
              </a:rPr>
              <a:t>librar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extra software that we can use when developing progra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library provides the ability to create graphics, communicate over networks, and interact with databa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set of supporting libraries is </a:t>
            </a:r>
            <a:r>
              <a:rPr b="1" lang="en-US" sz="22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hug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1695-7ED2-4370-93B6-C327017D5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Java applications and appl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57200" y="1219320"/>
            <a:ext cx="8381880" cy="236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Application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– standalone Java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Applets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– Java programs that run inside web brow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770040" y="4343400"/>
            <a:ext cx="798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ava is the first programming languag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deliberately embr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concept of writing program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be executed on the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eb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D3D5-B1F1-49F4-ADFE-D1085ABCA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9436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Compiling Java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Java compil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s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bytecod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69676d"/>
                </a:solidFill>
                <a:latin typeface="Calibri"/>
              </a:rPr>
              <a:t>a “.class” fil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machine code from the source code (</a:t>
            </a: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the “.java” f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Byteco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converted into machine code using a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Java Interpr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8001000" cy="218304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BAF6-FB0A-47DD-992B-092BAE204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9250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Platform Independent Java Programs Compi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run bytecode on any computer that has a Java Interpreter insta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8668-FFF2-434D-A693-9B46BCC9C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609480" y="2819520"/>
            <a:ext cx="7696440" cy="3367080"/>
            <a:chOff x="609480" y="2819520"/>
            <a:chExt cx="7696440" cy="3367080"/>
          </a:xfrm>
        </p:grpSpPr>
        <p:pic>
          <p:nvPicPr>
            <p:cNvPr id="100" name="Picture 5" descr=""/>
            <p:cNvPicPr/>
            <p:nvPr/>
          </p:nvPicPr>
          <p:blipFill>
            <a:blip r:embed="rId1"/>
            <a:stretch/>
          </p:blipFill>
          <p:spPr>
            <a:xfrm>
              <a:off x="609480" y="2819520"/>
              <a:ext cx="7696440" cy="33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6"/>
            <p:cNvSpPr/>
            <p:nvPr/>
          </p:nvSpPr>
          <p:spPr>
            <a:xfrm>
              <a:off x="691920" y="5196240"/>
              <a:ext cx="1393920" cy="368280"/>
            </a:xfrm>
            <a:prstGeom prst="rect">
              <a:avLst/>
            </a:prstGeom>
            <a:solidFill>
              <a:srgbClr val="ceb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ello.java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3432960" y="5196240"/>
              <a:ext cx="14792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ello.class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590920"/>
            <a:ext cx="45720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undamental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6E3B-33D7-47BA-8D94-3A7B56B04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4100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Hello world JAV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73915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port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main( 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s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[] )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ystem.out.println(“Hello World”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C1C7-082F-4020-8E7F-204C15A24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c000"/>
                </a:solidFill>
                <a:latin typeface="Calibri"/>
              </a:rPr>
              <a:t>Saving, Compiling and Running Java Progra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Sav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ile having a name same as the class name should be used to save the program. The extension of this file is ”</a:t>
            </a: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Compi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the Java compiler </a:t>
            </a:r>
            <a:r>
              <a:rPr b="0" lang="en-US" sz="2400" spc="-1" strike="noStrike">
                <a:solidFill>
                  <a:srgbClr val="ff9933"/>
                </a:solidFill>
                <a:latin typeface="Calibri"/>
              </a:rPr>
              <a:t>jav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ava compiler generates a file ca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9676d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69676d"/>
                </a:solidFill>
                <a:latin typeface="Calibri"/>
              </a:rPr>
              <a:t> ”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class”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he byteco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Run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the Java Virtual Machine </a:t>
            </a:r>
            <a:r>
              <a:rPr b="0" lang="en-US" sz="2400" spc="-1" strike="noStrike">
                <a:solidFill>
                  <a:srgbClr val="ff9933"/>
                </a:solidFill>
                <a:latin typeface="Calibri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java</a:t>
            </a:r>
            <a:r>
              <a:rPr b="0" lang="en-US" sz="2000" spc="-1" strike="noStrike">
                <a:solidFill>
                  <a:srgbClr val="69676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Firstprogram.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36EC-6112-402A-AF5D-C5EFDED7A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Comments in a Jav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mmen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used to describe what your code does  its improve the code readabili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ava compile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gno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ts are made u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768d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8d5a"/>
                </a:solidFill>
                <a:latin typeface="Calibri"/>
              </a:rPr>
              <a:t>//</a:t>
            </a:r>
            <a:r>
              <a:rPr b="0" lang="en-US" sz="24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commen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 the e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lin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768d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8d5a"/>
                </a:solidFill>
                <a:latin typeface="Calibri"/>
              </a:rPr>
              <a:t>/*  */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thing inside of it is considered a comment (including multiple line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/* This comment begins at this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This line is included in this com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It ends at this line. 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768d5a"/>
                </a:solidFill>
                <a:latin typeface="Calibri"/>
              </a:rPr>
              <a:t>// This comment starts here and ends at the end of this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B91F-ADE6-4B24-85BB-7C8DF4201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6:42:03Z</dcterms:created>
  <dc:creator>NOUF</dc:creator>
  <dc:description/>
  <dc:language>en-US</dc:language>
  <cp:lastModifiedBy>Nouf</cp:lastModifiedBy>
  <dcterms:modified xsi:type="dcterms:W3CDTF">2016-10-02T07:23:30Z</dcterms:modified>
  <cp:revision>11</cp:revision>
  <dc:subject/>
  <dc:title>Introduction to JAVA</dc:title>
</cp:coreProperties>
</file>