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D93-7D84-40F9-B9C1-44E78E25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6FD-1E40-4DAB-9D7E-CAE31B3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A99-3E80-4A97-9160-BFA64C8E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B2B-58D6-42EC-8191-6A8F1A8D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716-3738-45AF-980C-0D4E77C8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2A9A-7BB7-44BD-8C13-DFBBBDA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FF5-28F6-4256-A2D0-D1A0860A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20B-C484-44D4-B737-52CBA4ED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E9B-A739-45C0-A85F-C81A9F36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E99A-7EA5-4C87-B680-E5FB235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26C4-2E74-42A8-9D7A-D043A56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562-0A38-4A9B-ADCA-1EE06CB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431B-07AC-41C5-A3AD-827FDE8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1366-89F6-4018-BBC4-EDE50CD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AFF-4A5B-44D7-8F90-D56A079B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5A2-0E39-4D6C-ABAB-7BDA9F29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A8A7-5328-4EF5-A3B3-C912A5DC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39D-E373-4F90-9648-E8C2B754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492-A692-40ED-AB92-7C31C4C5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B6F-29DA-4956-8F86-F8960187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A58-5A56-4EB9-B78E-02E42869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7F2-D5DB-4D29-90DC-17D168B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151-EA80-4191-895F-B0C0406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3A8-CA0C-4E60-928D-ACA4433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9372-4E62-4177-9904-DEF5A23BE2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C22-8F0A-48C1-BB97-476BC44CA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357-AB15-43E6-A3C4-BE83D1CC1A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4441-CF49-4F84-8758-50D939B9B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705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4114800" y="1676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FA7-41B8-46E2-B809-23F2C35E1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OOD Programming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java is a sensitiv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od to begin every program with a comment  that states the purpose of the program and the auth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java program consist of at least one class that the programmer de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class name  with capital l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name doesn’t begin with a digit  and doesn’t contain a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lank lines and spaces to enhance program read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type an opining left brace{ immediately 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sing right br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 the entire body of each class decla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FCA-767D-4E2C-BE81-A7F70E266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2884053-button-computer-keyboard-with-word-idea-and-icon-light-bulb.jpg"/>
          <p:cNvPicPr/>
          <p:nvPr/>
        </p:nvPicPr>
        <p:blipFill>
          <a:blip r:embed="rId1"/>
          <a:stretch/>
        </p:blipFill>
        <p:spPr>
          <a:xfrm>
            <a:off x="6172200" y="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lightbulb1.jpg"/>
          <p:cNvPicPr/>
          <p:nvPr/>
        </p:nvPicPr>
        <p:blipFill>
          <a:blip r:embed="rId2"/>
          <a:stretch/>
        </p:blipFill>
        <p:spPr>
          <a:xfrm>
            <a:off x="7772400" y="502920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at is Java</a:t>
            </a:r>
            <a:r>
              <a:rPr b="1" lang="ar-SA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is a programming language and computing platform first released by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Microsy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95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Java language is accompanied by a </a:t>
            </a:r>
            <a:r>
              <a:rPr b="1" lang="en-US" sz="2200" spc="-1" strike="noStrike" u="sng">
                <a:solidFill>
                  <a:srgbClr val="ffc000"/>
                </a:solidFill>
                <a:uFillTx/>
                <a:latin typeface="Calibri"/>
                <a:ea typeface="ＭＳ Ｐゴシック"/>
              </a:rPr>
              <a:t>librar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extra software that we can use when developing progr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t of supporting libraries is </a:t>
            </a:r>
            <a:r>
              <a:rPr b="1" lang="en-US" sz="22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ug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67A8-45C5-4EEC-968D-F05D9DDA2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applications and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1219320"/>
            <a:ext cx="83818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70040" y="4343400"/>
            <a:ext cx="79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be executed on th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B91-4245-4A92-904B-36A950A3B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piling Java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ytecod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a “.class” fi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machine code from the source code (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the “.java” f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Bytec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AB5D-DAD2-4EA0-B40E-1A981C724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925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latform Independent Java Programs Comp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E78-D79C-4EF1-BF12-A6263D559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100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ce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6801-B9EC-42C7-962C-AA9F4E65B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Hello world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3ADE-444B-42E8-A696-93BA64E7F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000"/>
                </a:solidFill>
                <a:latin typeface="Calibri"/>
              </a:rPr>
              <a:t>Saving, Compiling and Running Java Progra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a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ile having a name same as the class name should be used to save the program. The extension of this file is ”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generates a fil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 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byteco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0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62A-52C9-4F66-9033-7AF8614FC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ments in a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 to describe what your code does  its improve the code read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are mad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/</a:t>
            </a: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comm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 the 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l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*  */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* This comment begins at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This line is included in this com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It ends at this line.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/ This comment starts here and ends at the end of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F48-60F9-4C2B-B0C9-1B8748995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6-10-02T07:23:30Z</dcterms:modified>
  <cp:revision>11</cp:revision>
  <dc:subject/>
  <dc:title>Introduction to JAVA</dc:title>
</cp:coreProperties>
</file>