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7FE-1A57-4FA9-86B2-8E5CFFE7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525-0013-4D36-8607-363ACC4E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91C-1F61-4446-B4D0-87D66E88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AFD-DCD8-4806-BF31-469C94BC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CF02-909E-4B44-8199-6362FCAF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24D9-4AA6-47A7-B5DD-6F898E26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9697-2C35-4A6B-82C0-CBDE3A06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28B1-605E-4504-97EB-C73CC889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4618-E69B-4A57-9DAC-A68812BA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590E-A71F-468D-8A93-835EFE2D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FC52-FA5B-4686-B2CC-23150EBD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350-3F94-4C81-9F4C-99B7E6FA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E674-8AB9-4394-844D-32611530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05D2-8A87-4827-8FF4-CBDDD456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6BA6-09C4-451B-9328-A17AB1AA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0328-34BA-4012-AE89-A7D92A88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84FB-055C-4799-B9E1-221E54B5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272-48E3-4843-8F83-F067969B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3AE-B1B2-477D-9B2A-A0251673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048-C4A6-4878-9553-295AE397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7D5-EDE9-48BE-A6DC-C81C43A2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DEA-FC07-4D85-938A-E20019D1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887-007C-4124-8156-EED662B8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42B-ED59-4BFB-B57A-86D13AA6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9663-355D-40BB-BE94-D7BC1D8E41A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CDC8-DCF8-4FE4-870D-7C04C4A5E6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C34D-8FE3-461E-9E4E-3E0DD51C0B5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C5EA-105B-43DD-B954-9B74A547B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066680" y="2514240"/>
            <a:ext cx="670536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4114800" y="16765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00E0-3EBB-424F-B401-89BBC6593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GOOD Programming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areful java is a sensitiv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good to begin every program with a comment  that states the purpose of the program and the auth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java program consist of at least one class that the programmer def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each class name  with capital let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 name doesn’t begin with a digit  and doesn’t contain a spa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blank lines and spaces to enhance program read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type an opining left brace{ immediately 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osing right brace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nt the entire body of each class decla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BA50-5417-486C-B138-F8BCCFD98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12884053-button-computer-keyboard-with-word-idea-and-icon-light-bulb.jpg"/>
          <p:cNvPicPr/>
          <p:nvPr/>
        </p:nvPicPr>
        <p:blipFill>
          <a:blip r:embed="rId1"/>
          <a:stretch/>
        </p:blipFill>
        <p:spPr>
          <a:xfrm>
            <a:off x="6172200" y="0"/>
            <a:ext cx="2362320" cy="1576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lightbulb1.jpg"/>
          <p:cNvPicPr/>
          <p:nvPr/>
        </p:nvPicPr>
        <p:blipFill>
          <a:blip r:embed="rId2"/>
          <a:stretch/>
        </p:blipFill>
        <p:spPr>
          <a:xfrm>
            <a:off x="7772400" y="5029200"/>
            <a:ext cx="1095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What is Java</a:t>
            </a:r>
            <a:r>
              <a:rPr b="1" lang="ar-SA" sz="3600" spc="-1" strike="noStrike">
                <a:solidFill>
                  <a:srgbClr val="ffc0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ava is a programming language and computing platform first released by </a:t>
            </a:r>
            <a:r>
              <a:rPr b="0" lang="en-US" sz="2600" spc="-1" strike="noStrike">
                <a:solidFill>
                  <a:srgbClr val="ffc000"/>
                </a:solidFill>
                <a:latin typeface="Calibri"/>
              </a:rPr>
              <a:t>Su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Calibri"/>
              </a:rPr>
              <a:t>Microsystem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1995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language derives much of its syntax from C and C++ but has a simpler object model and fewer low-level facil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Java language is accompanied by a </a:t>
            </a:r>
            <a:r>
              <a:rPr b="1" lang="en-US" sz="2200" spc="-1" strike="noStrike" u="sng">
                <a:solidFill>
                  <a:srgbClr val="ffc000"/>
                </a:solidFill>
                <a:uFillTx/>
                <a:latin typeface="Calibri"/>
                <a:ea typeface="ＭＳ Ｐゴシック"/>
              </a:rPr>
              <a:t>librar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extra software that we can use when developing progra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library provides the ability to create graphics, communicate over networks, and interact with databa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et of supporting libraries is </a:t>
            </a:r>
            <a:r>
              <a:rPr b="1" lang="en-US" sz="22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hug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A21C-3F74-40A7-AB0C-CDE80E95B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Java applications and appl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57200" y="1219320"/>
            <a:ext cx="8381880" cy="23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Application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– standalone Java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Applets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– Java programs that run inside web brow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770040" y="4343400"/>
            <a:ext cx="798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va is the first programming languag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deliberately embr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concept of writing program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be executed on the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eb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A749-79E3-42E6-A584-2A8D7F937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9436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Compiling Java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Java compil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bytecod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a “.class” fil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machine code from the source code (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the “.java” f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Byteco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converted into machine code using a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Java Interpr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8001000" cy="218304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2696-D120-4A87-AB26-F246BFE5B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9250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Platform Independent Java Programs Comp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run bytecode on any computer that has a Java Interpreter inst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070E-1960-4F11-898E-9EDEEDC74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609480" y="2819520"/>
            <a:ext cx="7696440" cy="3367080"/>
            <a:chOff x="609480" y="2819520"/>
            <a:chExt cx="7696440" cy="3367080"/>
          </a:xfrm>
        </p:grpSpPr>
        <p:pic>
          <p:nvPicPr>
            <p:cNvPr id="100" name="Picture 5" descr=""/>
            <p:cNvPicPr/>
            <p:nvPr/>
          </p:nvPicPr>
          <p:blipFill>
            <a:blip r:embed="rId1"/>
            <a:stretch/>
          </p:blipFill>
          <p:spPr>
            <a:xfrm>
              <a:off x="609480" y="2819520"/>
              <a:ext cx="7696440" cy="33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6"/>
            <p:cNvSpPr/>
            <p:nvPr/>
          </p:nvSpPr>
          <p:spPr>
            <a:xfrm>
              <a:off x="691920" y="5196240"/>
              <a:ext cx="1393920" cy="368280"/>
            </a:xfrm>
            <a:prstGeom prst="rect">
              <a:avLst/>
            </a:prstGeom>
            <a:solidFill>
              <a:srgbClr val="ceb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ello.java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3432960" y="5196240"/>
              <a:ext cx="14792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ello.class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590920"/>
            <a:ext cx="4572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undamental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D9AC-88D7-4CBE-AA3A-0AC46C287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4100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Hello world JAV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7391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ort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( 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[] )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ystem.out.println(“Hello World”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8DDB-7E49-429C-89D6-BA2316FE6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c000"/>
                </a:solidFill>
                <a:latin typeface="Calibri"/>
              </a:rPr>
              <a:t>Saving, Compiling and Running Java Progra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Sav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ile having a name same as the class name should be used to save the program. The extension of this file is ”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Compi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the Java compiler </a:t>
            </a: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jav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ava compiler generates a file c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 ”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class”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he byteco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Run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the Java Virtual Machine </a:t>
            </a: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java</a:t>
            </a:r>
            <a:r>
              <a:rPr b="0" lang="en-US" sz="2000" spc="-1" strike="noStrike">
                <a:solidFill>
                  <a:srgbClr val="69676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81FB-7020-41A6-A5D5-70360833C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Comments in a Jav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mmen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used to describe what your code does  its improve the code readabili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ava compile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gno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s are made u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768d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//</a:t>
            </a: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commen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 the e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lin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768d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/*  */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thing inside of it is considered a comment (including multiple line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/* This comment begins at this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This line is included in this com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It ends at this line. 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// This comment starts here and ends at the end of this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BB42-3F82-4B2B-A300-273A31B47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6:42:03Z</dcterms:created>
  <dc:creator>NOUF</dc:creator>
  <dc:description/>
  <dc:language>en-US</dc:language>
  <cp:lastModifiedBy>Nouf</cp:lastModifiedBy>
  <dcterms:modified xsi:type="dcterms:W3CDTF">2016-10-02T07:23:30Z</dcterms:modified>
  <cp:revision>11</cp:revision>
  <dc:subject/>
  <dc:title>Introduction to JAVA</dc:title>
</cp:coreProperties>
</file>