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3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4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36BA-1A70-476E-A3C7-B8A956C0A1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5" name="عنصر نائب لرقم الشريحة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E887-C817-46FF-BFD7-2B75B15792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2" name="عنصر نائب لرقم الشريحة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E61B-6A52-43AB-99EC-43C8482E7B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4D43-D719-4606-A726-BBA9A1302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B249-50CC-43F5-9ABC-0BE43380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81AC-915F-408E-989C-4566C332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3A2A-9199-42F0-8BAF-A53B0D15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C4CB-E879-4B49-9687-D93F9F2F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BE05-32F1-4EA9-B9B5-CF78AE61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980A-DD45-4920-862C-C74DB135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749E-D0D1-4A4F-8F5B-3D8917B9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3D54-1661-4152-B3F0-FEC1A7C2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1C91-46A2-4C86-B5BF-7502B351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502F-83F4-45AB-9B72-2BC27677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B2B8-8749-42E5-87EF-8D26067D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71F0-D47D-4F8A-91E8-DC9B2EA6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5A31-D435-4891-AE7E-DF11D45E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68A9-EF3A-4651-ACA8-067855B4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DDE4-A850-406A-86DD-9DB5ABD1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8927-D7B3-4898-90D3-B8E6E1E8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64615-6BB9-40B0-8A0D-0F8C54E8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F8E3B-32AD-40D5-954D-DB090F68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6B46B-D80B-4CA1-BDB8-1146A7D9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B2612-84F7-4077-A4E7-3F7EDD8F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9B812-6AD4-4833-A3B4-89C9B69D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809A-0849-41CC-908C-AEAC26A8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59C67-ABE2-4677-B0E7-3719A6E4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C0713-64D9-46EB-BA4C-2F692DC7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ADCAF-750E-42F4-A3A3-51E67515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C78FB-7F57-4651-B3CC-34C1E79E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B76B4-9A24-4F13-ADBA-EF4DA394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DD634-03B7-41F5-B59F-089E11DA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8F3E0-A24C-47D9-A3EB-C6D55BFB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2EE20-BBA5-44CC-A211-9F82304A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6E575-B233-4743-AF0A-29D9B50E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5C91E-207C-4981-BE00-B9E90796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8568-4730-4ECD-9319-7BDA84FE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EB9AC-BE95-442B-9E06-33297280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D9DED-6FEC-4F1F-B51B-3A07026F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880AA-E748-4D25-8EA8-C1590480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04ECE-25E9-4C6D-9AC3-6A14C933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BEDAE-1901-4EC6-8AB7-AB3A8F47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34024-DA5D-4C6F-8F20-4C428B6D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4D67F-DE76-45CF-A890-7E43E671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EFF3F-681B-45A5-BB17-DFCBAADC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9C72A-BDA3-4C97-9352-7F6CC736A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77059-8290-4EB9-85DF-D834405A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5FD2-7393-4132-81FD-4174866A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76361-3432-4C8D-AA03-A66DAB2A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9605E-4357-46BF-9AF7-E4176759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E5D6D-6817-41AE-A9D3-E67B8160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811A9-A85B-4A5D-98B0-4696E60A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D2379-B175-446A-8E68-A5934B7A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7F590-C712-4953-A5F9-AE9D9313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55F98-992A-4A30-B90F-F1F0A54B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43C15-011E-4BB1-8A78-A4623014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E9AF2-8E53-4440-970F-B5C5BC49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75A08-DA95-4832-B23A-BB1C0904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24F6-8813-4C7C-B12E-669BA693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1B57D-BE61-4E0D-BCBB-C6088729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F0EB8-F9FE-47D2-99F8-734F93F9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8B036-0097-4714-8F66-5AB701CA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11605-E678-48EA-915C-17F3F3A6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D2E88-7421-45E3-B97F-13D6EDF7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79744-355E-4FD3-8E41-6CDB3AAE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4A6D8-A002-4D2F-980C-E5D0DDF4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03719-6AEA-41DA-A827-4D95B425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5C9FB-27B0-4B40-9DA1-47E338A0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4F5F7-F291-42FF-BAD2-5868C090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E64F-6E63-40E7-9023-03C869D9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D92C8-BE24-44E6-B3DE-97AB9100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C3210-C23F-47DD-89AA-97851FDA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B79E8-F0B7-41FE-A614-83E6A84A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5D800-4960-46C7-BC4F-0B818D2E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E6747-BC45-4C29-BE71-B15652EA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6DD8B-60AE-4EA9-86DE-C15402B9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0F62C-8CE1-40AD-9F9C-8375371A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962A9-6213-49CA-A3AB-7AD46E65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AA2E0-7CCA-4F7C-AE2E-6AF65D43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D8AF8-AD7B-4BBF-A079-5C9F2477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938A-8258-445D-9479-4E032B7C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208DE-44AF-40B8-96C3-A778F818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BBE95-EB8C-48B5-92AE-866D54E1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84C10-2C8B-47C5-935E-5E4B25E9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0B642-5F28-4F7E-82B5-28CCBD4F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2522E-7B47-461B-8797-116BFF30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D812-BADD-48F2-BF55-C7B65F92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5AAC-0C8E-4DAF-87C3-C48414109E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ED48-9821-4840-B539-C96D630194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EF94-C667-4AB8-AB48-22BB61B729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F795-1812-420D-A1CF-1E64939BE8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55f5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55f51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55f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F808-065B-42F6-8337-EA5F711F9575}" type="slidenum">
              <a:rPr b="0" lang="en-US" sz="1000" spc="-1" strike="noStrike">
                <a:solidFill>
                  <a:srgbClr val="455f5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4178-9498-4A73-8F6E-7EE8E2EF1D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069E-3AC2-4CE8-8D8F-384A57D4FD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Conceptual_model" TargetMode="External"/><Relationship Id="rId2" Type="http://schemas.openxmlformats.org/officeDocument/2006/relationships/hyperlink" Target="https://en.wikipedia.org/wiki/Communication_syste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frm=1&amp;source=images&amp;cd=&amp;cad=rja&amp;docid=VfVf54AjF1OcYM&amp;tbnid=p47tl2rGH3Q-qM:&amp;ved=0CAUQjRw&amp;url=http://www.washington.edu/lst/help/computing_fundamentals/networking/osi&amp;ei=60QuUpDPHYKk0QX1ioCwCg&amp;psig=AFQjCNHCOy5DTwbXM636_lL4u-yeyxCIpA&amp;ust=137885038843559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99172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Lecture 1: Network Operating Systems (NOS) 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825120" y="4455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TRODUCTIO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240" y="149040"/>
            <a:ext cx="8839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Wide Area Network (WAN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440" y="1949040"/>
            <a:ext cx="75438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wide area network (WAN) is a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network that covers a large geographic area (such as a city, country, or the world) using a communications channel that combines many types of media such as telephone lines, cables, and radio wave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9" name="Footer Placeholder 6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9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B4DE-6223-4FA5-B1AD-40027199BB7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240" y="149040"/>
            <a:ext cx="8839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Wide Area Network (WAN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85440" y="1949040"/>
            <a:ext cx="75438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dvantages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Increased efficiency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ase of communication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Disadvantages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Security problems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Training cost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Maintenance problem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Footer Placeholder 6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7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5383-1F67-4C51-B858-B9DC21DBA9C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libri Light"/>
              </a:rPr>
              <a:t>Introduction to Operating System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6" name="عنصر نائب للتذييل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عنصر نائب لرقم الشريحة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6B00-ABE6-4670-A59E-21DCE9953F4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64720" y="149400"/>
            <a:ext cx="7543800" cy="61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bri"/>
                <a:ea typeface="Times New Roman"/>
              </a:rPr>
              <a:t>What is an Operating System?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85440" y="1949040"/>
            <a:ext cx="75438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TextBox 4"/>
          <p:cNvSpPr/>
          <p:nvPr/>
        </p:nvSpPr>
        <p:spPr>
          <a:xfrm>
            <a:off x="228600" y="1841400"/>
            <a:ext cx="3409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 kinds of a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pplication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d processors, database manager, compiler,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System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rating system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idges between the hardware and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6" descr=""/>
          <p:cNvPicPr/>
          <p:nvPr/>
        </p:nvPicPr>
        <p:blipFill>
          <a:blip r:embed="rId1"/>
          <a:srcRect l="6649" t="2840" r="0" b="0"/>
          <a:stretch/>
        </p:blipFill>
        <p:spPr>
          <a:xfrm>
            <a:off x="3638520" y="1066680"/>
            <a:ext cx="5353200" cy="5210280"/>
          </a:xfrm>
          <a:prstGeom prst="rect">
            <a:avLst/>
          </a:prstGeom>
          <a:ln w="0">
            <a:noFill/>
          </a:ln>
        </p:spPr>
      </p:pic>
      <p:sp>
        <p:nvSpPr>
          <p:cNvPr id="402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C6B8-EB4F-463E-8BED-CD09566BA87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240" y="149040"/>
            <a:ext cx="8839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bri"/>
                <a:ea typeface="Times New Roman"/>
              </a:rPr>
              <a:t>Functions of Operating Systems (OS)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85440" y="1949040"/>
            <a:ext cx="75438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6" name="TextBox 4"/>
          <p:cNvSpPr/>
          <p:nvPr/>
        </p:nvSpPr>
        <p:spPr>
          <a:xfrm>
            <a:off x="195120" y="203976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or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i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or management (CPU tim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05F0-317B-47B9-A005-D6709F2E3B2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3744-F418-4181-ABB1-D758FE92A9D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1949040"/>
            <a:ext cx="75438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511200" y="96840"/>
            <a:ext cx="817560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240" y="149040"/>
            <a:ext cx="8839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hy OS was Born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4" name="TextBox 4"/>
          <p:cNvSpPr/>
          <p:nvPr/>
        </p:nvSpPr>
        <p:spPr>
          <a:xfrm>
            <a:off x="457200" y="207504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tch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dent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369720" y="3048120"/>
            <a:ext cx="4354560" cy="243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4876920" y="3048120"/>
            <a:ext cx="366876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7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FBD6-B217-450A-9182-796320858AA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240" y="149040"/>
            <a:ext cx="8839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Time Sharing Using Operating Systems 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rcRect l="0" t="17307" r="0" b="0"/>
          <a:stretch/>
        </p:blipFill>
        <p:spPr>
          <a:xfrm>
            <a:off x="1295280" y="3962520"/>
            <a:ext cx="5046840" cy="2438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301788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2" name="Bent-Up Arrow 6"/>
          <p:cNvSpPr/>
          <p:nvPr/>
        </p:nvSpPr>
        <p:spPr>
          <a:xfrm flipH="1" rot="10800000">
            <a:off x="3733920" y="2971440"/>
            <a:ext cx="1303200" cy="685800"/>
          </a:xfrm>
          <a:custGeom>
            <a:avLst/>
            <a:gdLst/>
            <a:ahLst/>
            <a:rect l="l" t="t" r="r" b="b"/>
            <a:pathLst>
              <a:path w="1303338" h="685800">
                <a:moveTo>
                  <a:pt x="0" y="514350"/>
                </a:moveTo>
                <a:lnTo>
                  <a:pt x="1046163" y="514350"/>
                </a:lnTo>
                <a:lnTo>
                  <a:pt x="1046163" y="171450"/>
                </a:lnTo>
                <a:lnTo>
                  <a:pt x="960438" y="171450"/>
                </a:lnTo>
                <a:lnTo>
                  <a:pt x="1131888" y="0"/>
                </a:lnTo>
                <a:lnTo>
                  <a:pt x="1303338" y="171450"/>
                </a:lnTo>
                <a:lnTo>
                  <a:pt x="1217613" y="171450"/>
                </a:lnTo>
                <a:lnTo>
                  <a:pt x="1217613" y="685800"/>
                </a:lnTo>
                <a:lnTo>
                  <a:pt x="0" y="685800"/>
                </a:lnTo>
                <a:lnTo>
                  <a:pt x="0" y="51435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6f95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Operating system placement.svg"/>
          <p:cNvPicPr/>
          <p:nvPr/>
        </p:nvPicPr>
        <p:blipFill>
          <a:blip r:embed="rId3"/>
          <a:stretch/>
        </p:blipFill>
        <p:spPr>
          <a:xfrm>
            <a:off x="6934320" y="2362320"/>
            <a:ext cx="1571400" cy="2324160"/>
          </a:xfrm>
          <a:prstGeom prst="rect">
            <a:avLst/>
          </a:prstGeom>
          <a:ln w="0">
            <a:noFill/>
          </a:ln>
        </p:spPr>
      </p:pic>
      <p:sp>
        <p:nvSpPr>
          <p:cNvPr id="424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7EE5-231F-41D4-B795-D707FB1CB98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149040"/>
            <a:ext cx="8839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perating Systems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85440" y="1949040"/>
            <a:ext cx="75438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04040"/>
                </a:solidFill>
                <a:latin typeface="Calibri"/>
                <a:ea typeface="Times New Roman"/>
              </a:rPr>
              <a:t>Time-sharing operating systems schedule tasks for efficient use of the system and may also include accounting software for cost allocation of processor time, mass storage, printing, and other resources.</a:t>
            </a:r>
            <a:endParaRPr b="0" lang="en-US" sz="33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8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ECC4-9C43-4D73-9226-11C24A29116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09B3-B17C-4FD0-9F30-E77F7BC8CA7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560" y="149040"/>
            <a:ext cx="8839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perating Systems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4920" y="1271160"/>
            <a:ext cx="861048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17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040"/>
                </a:solidFill>
                <a:uFillTx/>
                <a:latin typeface="Calibri"/>
                <a:ea typeface="Times New Roman"/>
              </a:rPr>
              <a:t>Operating system (OS)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is a software that manages computer hardware and software resources and provides common services for computer programs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7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Operating systems form an essential component of the system software in a computer system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7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Application programs usually require an operating system to funct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240" y="149040"/>
            <a:ext cx="8839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bri Light"/>
              </a:rPr>
              <a:t>Overview of basic networking concept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31600" y="1980720"/>
            <a:ext cx="75438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04040"/>
                </a:solidFill>
                <a:latin typeface="Calibri"/>
              </a:rPr>
              <a:t>Open Systems Interconnection model (</a:t>
            </a:r>
            <a:r>
              <a:rPr b="0" lang="en-US" sz="2700" spc="-1" strike="noStrike">
                <a:solidFill>
                  <a:srgbClr val="404040"/>
                </a:solidFill>
                <a:latin typeface="Calibri"/>
              </a:rPr>
              <a:t>OSI):</a:t>
            </a:r>
            <a:endParaRPr b="0" lang="en-US" sz="2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is a </a:t>
            </a:r>
            <a:r>
              <a:rPr b="0" lang="en-US" sz="2600" spc="-1" strike="noStrike" u="sng">
                <a:solidFill>
                  <a:srgbClr val="6b9f25"/>
                </a:solidFill>
                <a:uFillTx/>
                <a:latin typeface="Calibri"/>
                <a:hlinkClick r:id="rId1"/>
              </a:rPr>
              <a:t>conceptual model</a:t>
            </a: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 that characterizes and standardizes the </a:t>
            </a:r>
            <a:r>
              <a:rPr b="0" lang="en-US" sz="2600" spc="-1" strike="noStrike" u="sng">
                <a:solidFill>
                  <a:srgbClr val="6b9f25"/>
                </a:solidFill>
                <a:uFillTx/>
                <a:latin typeface="Calibri"/>
                <a:hlinkClick r:id="rId2"/>
              </a:rPr>
              <a:t>communication functions</a:t>
            </a: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 of a telecommunication or computing system. 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3a537"/>
                </a:solidFill>
                <a:latin typeface="Calibri"/>
              </a:rPr>
              <a:t>network model:</a:t>
            </a:r>
            <a:endParaRPr b="0" lang="en-US" sz="2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04040"/>
                </a:solidFill>
                <a:latin typeface="Calibri"/>
              </a:rPr>
              <a:t>PAN</a:t>
            </a:r>
            <a:endParaRPr b="0" lang="en-US" sz="2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404040"/>
                </a:solidFill>
                <a:latin typeface="Calibri"/>
              </a:rPr>
              <a:t>LAN</a:t>
            </a:r>
            <a:endParaRPr b="0" lang="en-US" sz="2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404040"/>
                </a:solidFill>
                <a:latin typeface="Calibri"/>
              </a:rPr>
              <a:t>MAN</a:t>
            </a:r>
            <a:endParaRPr b="0" lang="en-US" sz="27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404040"/>
                </a:solidFill>
                <a:latin typeface="Calibri"/>
              </a:rPr>
              <a:t>WAN</a:t>
            </a:r>
            <a:endParaRPr b="0" lang="en-US" sz="27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عنصر نائب للتذييل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عنصر نائب لرقم الشريحة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9B71-BDCA-43A9-91C4-122F834B42E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240" y="149040"/>
            <a:ext cx="8839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perating Systems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80520" y="1949040"/>
            <a:ext cx="84582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For hardware functions such as input and output and memory allocation, the operating system acts as an intermediary between programs and the computer hardware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perating systems can be found on almost any device that contains a computer—from cellular phones and video game consoles to supercomputers and web servers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19D0-B03B-46B9-9072-9300F88792C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28240" y="149040"/>
            <a:ext cx="8839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perating Systems: Examples 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85440" y="1949040"/>
            <a:ext cx="75438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amples of popular modern operating systems include: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ndroid, BSD, iOS, Windows Phone,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inux, OS X, QNX,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icrosoft Windows, and IBM z/OS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l these examples, except Windows, Windows Phone and z/OS, share roots in UNIX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0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FE5F-CEDA-45A0-A3C0-6BC6CE2A771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8240" y="149040"/>
            <a:ext cx="8839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etworks Operating Systems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85440" y="1949040"/>
            <a:ext cx="75438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Network operating system (NOS):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software that implements an operating system of some kind that is oriented to computer networking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The network operating system is designed to allow shared file and printer access among multiple computers in a network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A3AE-A0B5-4AF9-8DC2-D06C9F11439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OS Characteristics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83400" cy="5199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150000"/>
              </a:lnSpc>
              <a:spcBef>
                <a:spcPts val="4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Network operating systems (NOSs) distribute their functions over a number of networked computers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150000"/>
              </a:lnSpc>
              <a:spcBef>
                <a:spcPts val="4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It adds functions that allow users to access shared resources concurrently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150000"/>
              </a:lnSpc>
              <a:spcBef>
                <a:spcPts val="601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Client systems contain specialized software that allows them to request shared resources that are controlled by server systems responding to a client request.</a:t>
            </a:r>
            <a:r>
              <a:rPr b="0" lang="en-GB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AutoShape 3"/>
          <p:cNvSpPr/>
          <p:nvPr/>
        </p:nvSpPr>
        <p:spPr>
          <a:xfrm>
            <a:off x="2533680" y="1628640"/>
            <a:ext cx="9144000" cy="1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342F-5C64-4EA9-9090-E8E89DAE81C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1"/>
          <a:srcRect l="4535" t="0" r="7218" b="0"/>
          <a:stretch/>
        </p:blipFill>
        <p:spPr>
          <a:xfrm>
            <a:off x="4564080" y="838080"/>
            <a:ext cx="4419720" cy="5105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52" name="Picture 5" descr=""/>
          <p:cNvPicPr/>
          <p:nvPr/>
        </p:nvPicPr>
        <p:blipFill>
          <a:blip r:embed="rId2"/>
          <a:srcRect l="23834" t="2702" r="11891" b="5403"/>
          <a:stretch/>
        </p:blipFill>
        <p:spPr>
          <a:xfrm>
            <a:off x="228600" y="838080"/>
            <a:ext cx="4173480" cy="5456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Differences Between PC and a NOS</a:t>
            </a:r>
            <a:r>
              <a:rPr b="0" lang="en-GB" sz="4800" spc="-1" strike="noStrike">
                <a:solidFill>
                  <a:srgbClr val="404040"/>
                </a:solidFill>
                <a:latin typeface="Calibri Light"/>
                <a:ea typeface="Times New Roman"/>
              </a:rPr>
              <a:t>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10480" cy="3230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9000"/>
          </a:bodyPr>
          <a:p>
            <a:pPr marL="71280" indent="-71280" algn="just">
              <a:lnSpc>
                <a:spcPct val="150000"/>
              </a:lnSpc>
              <a:spcBef>
                <a:spcPts val="550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The 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NOS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 enhances the reach of the client 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PC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 by making remote services available as extensions of the local operating system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71280" indent="-71280" algn="just">
              <a:lnSpc>
                <a:spcPct val="150000"/>
              </a:lnSpc>
              <a:spcBef>
                <a:spcPts val="550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Although a number of users may have accounts on a 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PC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, only a single account is active on the system at any given time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71280" indent="-71280" algn="just">
              <a:lnSpc>
                <a:spcPct val="150000"/>
              </a:lnSpc>
              <a:spcBef>
                <a:spcPts val="550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NOS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  <a:ea typeface="Times New Roman"/>
              </a:rPr>
              <a:t> supports multiple user accounts at the same time and enables concurrent access to shared resources by multiple clients (multitasking and multiuser environment)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98E7-014C-4049-AA38-9B56E7A4D44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3" descr=""/>
          <p:cNvPicPr/>
          <p:nvPr/>
        </p:nvPicPr>
        <p:blipFill>
          <a:blip r:embed="rId1"/>
          <a:srcRect l="0" t="3249" r="0" b="0"/>
          <a:stretch/>
        </p:blipFill>
        <p:spPr>
          <a:xfrm>
            <a:off x="1219320" y="91440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-69840"/>
            <a:ext cx="914400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Multiuser, Multitasking, and Multiprocessor Systems</a:t>
            </a:r>
            <a:r>
              <a:rPr b="0" lang="en-GB" sz="3200" spc="-1" strike="noStrike">
                <a:solidFill>
                  <a:srgbClr val="404040"/>
                </a:solidFill>
                <a:latin typeface="Calibri Light"/>
                <a:ea typeface="Times New Roman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505320" y="144756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150000"/>
              </a:lnSpc>
              <a:spcBef>
                <a:spcPts val="4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Calibri"/>
                <a:ea typeface="Times New Roman"/>
              </a:rPr>
              <a:t>A NOS server is a multitasking system. the OS is capable of executing multiple tasks at the same time.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150000"/>
              </a:lnSpc>
              <a:spcBef>
                <a:spcPts val="4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Calibri"/>
                <a:ea typeface="Times New Roman"/>
              </a:rPr>
              <a:t>Some systems are equipped with more than one processor, called multiprocessing systems.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150000"/>
              </a:lnSpc>
              <a:spcBef>
                <a:spcPts val="4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Calibri"/>
                <a:ea typeface="Times New Roman"/>
              </a:rPr>
              <a:t>multiprocessing systems are capable of executing multiple tasks in parallel by assigning each task to a different processor.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150000"/>
              </a:lnSpc>
              <a:spcBef>
                <a:spcPts val="4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Calibri"/>
                <a:ea typeface="Times New Roman"/>
              </a:rPr>
              <a:t>The total amount of work that the server can perform in a given time is greatly enhanced in multiprocessor systems.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60" name="Picture 3" descr=""/>
          <p:cNvPicPr/>
          <p:nvPr/>
        </p:nvPicPr>
        <p:blipFill>
          <a:blip r:embed="rId1"/>
          <a:srcRect l="2128" t="9826" r="0" b="0"/>
          <a:stretch/>
        </p:blipFill>
        <p:spPr>
          <a:xfrm>
            <a:off x="0" y="1617840"/>
            <a:ext cx="3505320" cy="24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OS Server Hardware</a:t>
            </a:r>
            <a:r>
              <a:rPr b="0" lang="en-GB" sz="4800" spc="-1" strike="noStrike">
                <a:solidFill>
                  <a:srgbClr val="404040"/>
                </a:solidFill>
                <a:latin typeface="Calibri Light"/>
                <a:ea typeface="Times New Roman"/>
              </a:rPr>
              <a:t>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300120" y="914400"/>
            <a:ext cx="5614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150000"/>
              </a:lnSpc>
              <a:spcBef>
                <a:spcPts val="550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Calibri"/>
                <a:ea typeface="Times New Roman"/>
              </a:rPr>
              <a:t>NOS servers are large systems with additional memory to support multiple tasks that are all active, or resident, in memory at the same time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550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Calibri"/>
                <a:ea typeface="Times New Roman"/>
              </a:rPr>
              <a:t>Additional disk space is also required on servers to hold shared files and to function as an extension to the internal memory on the system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550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Calibri"/>
                <a:ea typeface="Times New Roman"/>
              </a:rPr>
              <a:t>Because a NOS depends on the continuous operation of its servers, the extra hardware components justify the additional expens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90360" indent="0">
              <a:lnSpc>
                <a:spcPct val="150000"/>
              </a:lnSpc>
              <a:spcBef>
                <a:spcPts val="550"/>
              </a:spcBef>
              <a:spcAft>
                <a:spcPts val="20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63" name="Picture 3" descr=""/>
          <p:cNvPicPr/>
          <p:nvPr/>
        </p:nvPicPr>
        <p:blipFill>
          <a:blip r:embed="rId1"/>
          <a:srcRect l="0" t="8794" r="0" b="0"/>
          <a:stretch/>
        </p:blipFill>
        <p:spPr>
          <a:xfrm>
            <a:off x="281160" y="1371600"/>
            <a:ext cx="301932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hoosing a NOS</a:t>
            </a:r>
            <a:r>
              <a:rPr b="0" lang="en-GB" sz="4800" spc="-1" strike="noStrike">
                <a:solidFill>
                  <a:srgbClr val="404040"/>
                </a:solidFill>
                <a:latin typeface="Calibri Light"/>
                <a:ea typeface="Times New Roman"/>
              </a:rPr>
              <a:t>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3000"/>
              </a:lnSpc>
              <a:spcBef>
                <a:spcPts val="700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Times New Roman"/>
              </a:rPr>
              <a:t>The main features to consider when selecting a NOS include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600" spc="-1" strike="noStrike">
                <a:solidFill>
                  <a:srgbClr val="404040"/>
                </a:solidFill>
                <a:latin typeface="Calibri"/>
                <a:ea typeface="Times New Roman"/>
              </a:rPr>
              <a:t>Performance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600" spc="-1" strike="noStrike">
                <a:solidFill>
                  <a:srgbClr val="404040"/>
                </a:solidFill>
                <a:latin typeface="Calibri"/>
                <a:ea typeface="Times New Roman"/>
              </a:rPr>
              <a:t>Management and monitoring tools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600" spc="-1" strike="noStrike">
                <a:solidFill>
                  <a:srgbClr val="404040"/>
                </a:solidFill>
                <a:latin typeface="Calibri"/>
                <a:ea typeface="Times New Roman"/>
              </a:rPr>
              <a:t>Security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600" spc="-1" strike="noStrike">
                <a:solidFill>
                  <a:srgbClr val="404040"/>
                </a:solidFill>
                <a:latin typeface="Calibri"/>
                <a:ea typeface="Times New Roman"/>
              </a:rPr>
              <a:t>Scalability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649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600" spc="-1" strike="noStrike">
                <a:solidFill>
                  <a:srgbClr val="404040"/>
                </a:solidFill>
                <a:latin typeface="Calibri"/>
                <a:ea typeface="Times New Roman"/>
              </a:rPr>
              <a:t>Robustness/fault tolerance</a:t>
            </a:r>
            <a:r>
              <a:rPr b="0" lang="en-GB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عنصر نائب للتذييل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عنصر نائب لرقم الشريحة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8EDE-36F1-4B1D-9D5C-2891C8CDB66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http://www.washington.edu/lst/help/computing_fundamentals/networking/img/osi_mode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73000" y="538200"/>
            <a:ext cx="739800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240" y="453960"/>
            <a:ext cx="8839080" cy="7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etworks Operating Systems: Where to use?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85440" y="1949040"/>
            <a:ext cx="75438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OS can be used in: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Routers, switches and  hardware firewall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Cs in Peer-to-peer networks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lient-server Architecture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8" name="عنصر نائب للتذييل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822D-F1A8-4B47-9DEE-11733CEFB6A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453600"/>
            <a:ext cx="8763120" cy="145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bri Light"/>
              </a:rPr>
              <a:t>Scale(size) Based Network Classification </a:t>
            </a:r>
            <a:br>
              <a:rPr sz="4300"/>
            </a:b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440" y="1949040"/>
            <a:ext cx="75438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PA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LA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MA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WA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Internet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3" name="Footer Placeholder 3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10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4C36-3433-4854-AD09-E01EBD417F6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1880" y="-380880"/>
            <a:ext cx="7543800" cy="14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Personal Area Network (PAN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088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 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omputer network organized around an individual pers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PAN involves a computer, a cell phone..etc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Using Bluetooth and USB often used to link this kind of network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ommunication Technology: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Wired 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Wireless (WPAN):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uetooth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, infrared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7" name="Footer Placeholder 6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7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30D7-DFC8-4242-9CFB-699AE986407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" descr=""/>
          <p:cNvPicPr/>
          <p:nvPr/>
        </p:nvPicPr>
        <p:blipFill>
          <a:blip r:embed="rId1"/>
          <a:stretch/>
        </p:blipFill>
        <p:spPr>
          <a:xfrm>
            <a:off x="6824520" y="4141800"/>
            <a:ext cx="189576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240" y="149040"/>
            <a:ext cx="8839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Local Area Network (LAN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560" y="1949040"/>
            <a:ext cx="83055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N is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ivate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wn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etwork that operates within and nearby a single building like a home, office or factory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The connection must be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high speed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inexpensive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Size: few kilometers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Footer Placeholder 6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7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49FD-B83B-4AD2-8F27-55ED1CBA9C3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240" y="149040"/>
            <a:ext cx="8839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Local Area Network (LAN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85440" y="1949040"/>
            <a:ext cx="75438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dvantages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asy to shar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ost of LAN setup is low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Disadvantages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Power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Security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Speed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overs limited area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Footer Placeholder 6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7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5F72-287A-41E3-B33D-CD236799461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240" y="149040"/>
            <a:ext cx="8839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Metropolitan Area Network (MAN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440" y="1949040"/>
            <a:ext cx="75438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404040"/>
                </a:solidFill>
                <a:latin typeface="Calibri"/>
              </a:rPr>
              <a:t>metropolitan area network (MAN) is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 high-speed network that connects local area networks in a metropolitan area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It covers a city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Examples: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e cable television networks available in many cities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Footer Placeholder 6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8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DD63-9244-41E2-BE5F-E5717281D17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3" descr="MAN.jpg"/>
          <p:cNvPicPr/>
          <p:nvPr/>
        </p:nvPicPr>
        <p:blipFill>
          <a:blip r:embed="rId1"/>
          <a:srcRect l="0" t="2696" r="0" b="0"/>
          <a:stretch/>
        </p:blipFill>
        <p:spPr>
          <a:xfrm>
            <a:off x="5465880" y="2743200"/>
            <a:ext cx="304776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240" y="149040"/>
            <a:ext cx="8839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Metropolitan Area Network (MAN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440" y="1949040"/>
            <a:ext cx="75438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dvantages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Efficiency and shared acces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ll the computers residing in the same area have an equal chance to access the network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Disadvantages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costly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Security problems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slow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Footer Placeholder 6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7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FD45-BDF2-489F-9587-A6F4EF9B296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8:36:04Z</dcterms:created>
  <dc:creator>Bruhadeshwar Bezawada</dc:creator>
  <dc:description/>
  <dc:language>en-US</dc:language>
  <cp:lastModifiedBy>maram</cp:lastModifiedBy>
  <dcterms:modified xsi:type="dcterms:W3CDTF">2017-02-11T21:18:55Z</dcterms:modified>
  <cp:revision>86</cp:revision>
  <dc:subject/>
  <dc:title>Computer Networks</dc:title>
</cp:coreProperties>
</file>