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07D-210B-45C7-9F77-D450BA295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5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60B7-EAEA-4CDE-AD39-623A4CFC7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2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B7F-6E80-4010-B47E-F68EBC9AB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027-DDE7-4E73-A270-F14D7DF0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748-7A2E-4F1E-AAEB-0F79DC9E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4A8-9925-4834-BE76-8F16165F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938-5270-4DC6-BC7C-11A70591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89A-50B1-4C98-8820-2B522045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AF7-4F7D-400E-8A27-BE246A6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1C1C-5AE2-4249-BFCF-F6E9469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55A8-4428-4F3B-BDF8-01851E1A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1D1-A605-4E8C-B00B-2BAEC501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52BB-037C-4D3C-AB08-E4B4E19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9FE-8663-4E1F-AC0D-E020228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E4B-5121-438A-A51C-4D74E61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A67B-81A7-4081-8F98-0B45D95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470-EE59-4AE7-A2C0-B13B27D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EAEA-A769-47F1-AD8F-1048B8F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7CEB-F766-456D-915B-49C3E57A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2ADD-903B-4D73-A3E5-598E02B5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7825-DDC9-4BA6-AA60-5833352C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F007-8017-4E54-86CA-D520526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68D2-8FBA-4092-86EF-3C553218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2DBC-B95B-45AE-8CFC-FD18EF9D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541A-5CF1-4D02-94E7-6A277E0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2A2-5B23-4845-916C-F68B99DD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E8A1-5051-44CF-AB23-515DD3DC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1699-4381-4174-A389-8D5C4B7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4FD1-FFF0-478D-B164-25965DA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5C63-E049-49E9-AE27-08A3C4D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7225-138C-491D-8CD6-A0FDA33A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BC24-AB34-4EC9-9FF9-C83F9D0E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3C35-8AD6-486A-8C03-61ADA509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AB7E-0449-4094-BAEE-703A78DE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56A6-4DE6-4A64-8160-D8344603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4D1F-5309-45EB-B922-3562F29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D98-DF8E-462D-BAC3-10AD6EB1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2C2E-32CE-43F4-BA73-ACF1516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F2A9-E87B-475A-B4E9-83C6CC7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5218-4769-4509-AF39-5A577E3F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1852-15AE-41DA-98F4-6AFEE3B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8F990-7A95-423E-BE06-5331C92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4B0B-3AD1-4257-82DA-84E300A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B252-3499-448E-BFED-F600FCA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1284-C70F-4E59-8E13-F61F1EBE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17A5-54CB-4D4F-84DE-147BE2C1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1D46-880E-4B23-900B-2EF316C0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E65-49C0-4F82-8375-BE24F0AD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84AAD-D616-4009-8A06-77154C23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AB24C-8495-4CCF-B975-C028E759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4FCA-1848-4F0A-B17F-8FFDC43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941A-BB6C-4AC1-B84B-774AC1E2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71E7-4C17-4450-8059-AF17024B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639F-0E12-4810-B294-4C2566C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E93F-7EF2-484D-ABB9-1E86DDD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0F59-4970-4157-A649-EE1928D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3CF5-319C-48F9-8BB1-D2F0822A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6CAA-F933-49CE-A7BC-CAC77B97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DFC-CEB1-4375-BF19-2288436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4349-C998-4CFC-B17C-8E5754DC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9BF89-9847-4D68-BA71-AE1293A9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EFB66-3665-4F71-B124-71D1160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3DAF8-44BF-449A-BA5B-543C4818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7090-2A41-4EDA-8FD4-E49CBD9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B985-F4AB-4283-9D11-9BBB24B7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38397-6703-4A5C-9A2B-5133125D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B481-1A0B-4905-B69A-B55465E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3FA0-AB13-4396-9E38-69F71CFA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81F45-FE6E-4EA3-8D70-41FDFC85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DCB-5474-4788-BF0E-DD37DB0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6AFF5-21ED-426F-B06D-9767C49C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4E49-41DB-4E17-8807-B1299996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77B83-1B46-4CE1-852A-F3A819C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3C3C-6E17-4137-899F-7E2F8D88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26BD6-CB9B-46AD-B68A-2F91E02C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485D2-CB25-456C-8A85-EDB7A62A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B6F3-0F65-4370-A0CD-AAFA4484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4BE8-D739-440A-B384-0B61089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2D371-0A4D-412A-AFB1-6D03CD2B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8527-F762-4A36-8D75-35A341C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21F-1338-4674-90AC-08E3E56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62D8-62E3-4BF4-AF58-3C2E961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4D0F-6B28-4B06-9D7B-BD4BE4C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8E3A-6AD2-4557-89A7-D391F4B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968C2-F085-4AEA-B0B8-C7D9D1D3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F9A01-0C8C-4DCE-A003-23FCDA48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0AA-4CDA-4EA7-94D6-E3A29183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3BC-AF55-4F67-BCD7-DA7FAD6B69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F6B-44F0-40F1-99E2-7E22E93209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05DE-BEF1-4281-BEF0-A20519FC5E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6C6-0D9E-42F3-8479-9B690529A3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5f51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CA76-4A76-4493-A6FF-7CEDFD0435DA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C41E-F634-4505-823A-CE416E75D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6FF7-8888-49E9-B82A-3B4C59FCC2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Conceptual_model" TargetMode="External"/><Relationship Id="rId2" Type="http://schemas.openxmlformats.org/officeDocument/2006/relationships/hyperlink" Target="https://en.wikipedia.org/wiki/Communication_syste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VfVf54AjF1OcYM&amp;tbnid=p47tl2rGH3Q-qM:&amp;ved=0CAUQjRw&amp;url=http://www.washington.edu/lst/help/computing_fundamentals/networking/osi&amp;ei=60QuUpDPHYKk0QX1ioCwCg&amp;psig=AFQjCNHCOy5DTwbXM636_lL4u-yeyxCIpA&amp;ust=137885038843559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99172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 1: Network Operating Systems (NOS) 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RODU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ide Area Network (W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wide area network (WAN) is a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network that covers a large geographic area (such as a city, country, or the world) using a communications channel that combines many types of media such as telephone lines, cables, and radio wav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9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553C-C83F-4FC0-BD45-25D409566D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ide Area Network (W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creased efficienc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ase of communica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s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ecurity problem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Training cost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aintenance problem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14D7-0550-4A93-B456-26494B39EB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 Light"/>
              </a:rPr>
              <a:t>Introduction to Operating System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عنصر نائب لرقم الشريحة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1BD-BCB7-421B-A287-23D6F15DCB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4720" y="14940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"/>
                <a:ea typeface="Times New Roman"/>
              </a:rPr>
              <a:t>What is an Operating System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28600" y="1841400"/>
            <a:ext cx="3409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kinds of a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d processors, database manager, compiler,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ystem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dges between the hardwar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rcRect l="6649" t="2840" r="0" b="0"/>
          <a:stretch/>
        </p:blipFill>
        <p:spPr>
          <a:xfrm>
            <a:off x="3638520" y="1066680"/>
            <a:ext cx="5353200" cy="5210280"/>
          </a:xfrm>
          <a:prstGeom prst="rect">
            <a:avLst/>
          </a:prstGeom>
          <a:ln w="0">
            <a:noFill/>
          </a:ln>
        </p:spPr>
      </p:pic>
      <p:sp>
        <p:nvSpPr>
          <p:cNvPr id="40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ABDE-E63A-469A-ACAD-4980DA4F32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"/>
                <a:ea typeface="Times New Roman"/>
              </a:rPr>
              <a:t>Functions of Operating Systems (OS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195120" y="203976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i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r management (CPU tim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8593-B030-40D5-B013-75B1737002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CE9-69D9-467A-9364-657FD464D0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11200" y="96840"/>
            <a:ext cx="81756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hy OS was Bor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457200" y="20750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dent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369720" y="3048120"/>
            <a:ext cx="435456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687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4A3-1D20-49DC-9191-80E532C7BE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ime Sharing Using Operating Systems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rcRect l="0" t="17307" r="0" b="0"/>
          <a:stretch/>
        </p:blipFill>
        <p:spPr>
          <a:xfrm>
            <a:off x="1295280" y="3962520"/>
            <a:ext cx="504684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0178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Bent-Up Arrow 6"/>
          <p:cNvSpPr/>
          <p:nvPr/>
        </p:nvSpPr>
        <p:spPr>
          <a:xfrm flipH="1" rot="10800000">
            <a:off x="3733920" y="2971440"/>
            <a:ext cx="1303200" cy="685800"/>
          </a:xfrm>
          <a:custGeom>
            <a:avLst/>
            <a:gdLst/>
            <a:ahLst/>
            <a:rect l="l" t="t" r="r" b="b"/>
            <a:pathLst>
              <a:path w="1303338" h="685800">
                <a:moveTo>
                  <a:pt x="0" y="514350"/>
                </a:moveTo>
                <a:lnTo>
                  <a:pt x="1046163" y="514350"/>
                </a:lnTo>
                <a:lnTo>
                  <a:pt x="1046163" y="171450"/>
                </a:lnTo>
                <a:lnTo>
                  <a:pt x="960438" y="171450"/>
                </a:lnTo>
                <a:lnTo>
                  <a:pt x="1131888" y="0"/>
                </a:lnTo>
                <a:lnTo>
                  <a:pt x="1303338" y="171450"/>
                </a:lnTo>
                <a:lnTo>
                  <a:pt x="1217613" y="171450"/>
                </a:lnTo>
                <a:lnTo>
                  <a:pt x="1217613" y="685800"/>
                </a:lnTo>
                <a:lnTo>
                  <a:pt x="0" y="685800"/>
                </a:lnTo>
                <a:lnTo>
                  <a:pt x="0" y="51435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6f95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Operating system placement.svg"/>
          <p:cNvPicPr/>
          <p:nvPr/>
        </p:nvPicPr>
        <p:blipFill>
          <a:blip r:embed="rId3"/>
          <a:stretch/>
        </p:blipFill>
        <p:spPr>
          <a:xfrm>
            <a:off x="6934320" y="2362320"/>
            <a:ext cx="1571400" cy="2324160"/>
          </a:xfrm>
          <a:prstGeom prst="rect">
            <a:avLst/>
          </a:prstGeom>
          <a:ln w="0">
            <a:noFill/>
          </a:ln>
        </p:spPr>
      </p:pic>
      <p:sp>
        <p:nvSpPr>
          <p:cNvPr id="42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007D-0C98-4365-A709-7BC93EEB30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Calibri"/>
                <a:ea typeface="Times New Roman"/>
              </a:rPr>
              <a:t>Time-sharing operating systems schedule tasks for efficient use of the system and may also include accounting software for cost allocation of processor time, mass storage, printing, and other resources.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DDF-A40F-438A-A209-5FCD883298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862-FB63-4CC7-9AF6-24C09C2CE7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27116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Calibri"/>
                <a:ea typeface="Times New Roman"/>
              </a:rPr>
              <a:t>Operating system (OS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is a software that manages computer hardware and software resources and provides common services for computer program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Operating systems form an essential component of the system software in a computer system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Application programs usually require an operating system to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Overview of basic networking concep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1600" y="1980720"/>
            <a:ext cx="75438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Calibri"/>
              </a:rPr>
              <a:t>Open Systems Interconnection model (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OSI):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is a </a:t>
            </a:r>
            <a:r>
              <a:rPr b="0" lang="en-US" sz="26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conceptual model</a:t>
            </a: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 that characterizes and standardizes the </a:t>
            </a:r>
            <a:r>
              <a:rPr b="0" lang="en-US" sz="2600" spc="-1" strike="noStrike" u="sng">
                <a:solidFill>
                  <a:srgbClr val="6b9f25"/>
                </a:solidFill>
                <a:uFillTx/>
                <a:latin typeface="Calibri"/>
                <a:hlinkClick r:id="rId2"/>
              </a:rPr>
              <a:t>communication functions</a:t>
            </a: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 of a telecommunication or computing system.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a537"/>
                </a:solidFill>
                <a:latin typeface="Calibri"/>
              </a:rPr>
              <a:t>network model: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P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L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M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W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عنصر نائب لرقم الشريحة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DCD3-C5D3-48C3-BD02-AD2DB3C6CF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0520" y="1949040"/>
            <a:ext cx="8458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r hardware functions such as input and output and memory allocation, the operating system acts as an intermediary between programs and the computer hardwar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can be found on almost any device that contains a computer—from cellular phones and video game consoles to supercomputers and web server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C86A-F1E6-4E57-9FDC-19D6670BBA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: Examples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 of popular modern operating systems include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roid, BSD, iOS, Windows Phone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nux, OS X, QNX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crosoft Windows, and IBM z/O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these examples, except Windows, Windows Phone and z/OS, share roots in UNIX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9909-6AC6-4B7A-8EBA-506A825427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tworks 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etwork operating system (NOS):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software that implements an operating system of some kind that is oriented to computer networking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network operating system is designed to allow shared file and printer access among multiple computers in a network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8DC-6A08-4A90-9E48-4FDF412ED6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 Characteristic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834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etwork operating systems (NOSs) distribute their functions over a number of networked computer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It adds functions that allow users to access shared resources concurrently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601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Client systems contain specialized software that allows them to request shared resources that are controlled by server systems responding to a client request.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2533680" y="16286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1DB-C2E9-463A-8318-76F9A4FE33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rcRect l="4535" t="0" r="7218" b="0"/>
          <a:stretch/>
        </p:blipFill>
        <p:spPr>
          <a:xfrm>
            <a:off x="4564080" y="838080"/>
            <a:ext cx="4419720" cy="510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2" name="Picture 5" descr=""/>
          <p:cNvPicPr/>
          <p:nvPr/>
        </p:nvPicPr>
        <p:blipFill>
          <a:blip r:embed="rId2"/>
          <a:srcRect l="23834" t="2702" r="11891" b="5403"/>
          <a:stretch/>
        </p:blipFill>
        <p:spPr>
          <a:xfrm>
            <a:off x="228600" y="838080"/>
            <a:ext cx="4173480" cy="545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fferences Between PC and a NOS</a:t>
            </a:r>
            <a:r>
              <a:rPr b="0" lang="en-GB" sz="48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9000"/>
          </a:bodyPr>
          <a:p>
            <a:pPr marL="71280" indent="-71280" algn="just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O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 enhances the reach of the client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PC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 by making remote services available as extensions of the local operating system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 algn="just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Although a number of users may have accounts on a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PC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, only a single account is active on the system at any given time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 algn="just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O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 supports multiple user accounts at the same time and enables concurrent access to shared resources by multiple clients (multitasking and multiuser environment)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B79E-46FF-45C1-936E-CA5032F26E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rcRect l="0" t="3249" r="0" b="0"/>
          <a:stretch/>
        </p:blipFill>
        <p:spPr>
          <a:xfrm>
            <a:off x="1219320" y="91440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6984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user, Multitasking, and Multiprocessor Systems</a:t>
            </a:r>
            <a:r>
              <a:rPr b="0" lang="en-GB" sz="32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05320" y="144756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A NOS server is a multitasking system. the OS is capable of executing multiple tasks at the same time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Some systems are equipped with more than one processor, called multiprocessing systems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multiprocessing systems are capable of executing multiple tasks in parallel by assigning each task to a different processor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total amount of work that the server can perform in a given time is greatly enhanced in multiprocessor systems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rcRect l="2128" t="9826" r="0" b="0"/>
          <a:stretch/>
        </p:blipFill>
        <p:spPr>
          <a:xfrm>
            <a:off x="0" y="1617840"/>
            <a:ext cx="350532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 Server Hardware</a:t>
            </a:r>
            <a:r>
              <a:rPr b="0" lang="en-GB" sz="48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0120" y="914400"/>
            <a:ext cx="561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  <a:ea typeface="Times New Roman"/>
              </a:rPr>
              <a:t>NOS servers are large systems with additional memory to support multiple tasks that are all active, or resident, in memory at the same time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  <a:ea typeface="Times New Roman"/>
              </a:rPr>
              <a:t>Additional disk space is also required on servers to hold shared files and to function as an extension to the internal memory on the system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  <a:ea typeface="Times New Roman"/>
              </a:rPr>
              <a:t>Because a NOS depends on the continuous operation of its servers, the extra hardware components justify the additional expens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rcRect l="0" t="8794" r="0" b="0"/>
          <a:stretch/>
        </p:blipFill>
        <p:spPr>
          <a:xfrm>
            <a:off x="281160" y="1371600"/>
            <a:ext cx="30193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oosing a NOS</a:t>
            </a:r>
            <a:r>
              <a:rPr b="0" lang="en-GB" sz="48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3000"/>
              </a:lnSpc>
              <a:spcBef>
                <a:spcPts val="700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main features to consider when selecting a NOS includ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Performance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Management and monitoring tool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Security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Scalability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Robustness/fault tolerance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عنصر نائب لرقم الشريحة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CBFE-1458-422B-8CC2-F2CE418A02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www.washington.edu/lst/help/computing_fundamentals/networking/img/osi_mod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3000" y="538200"/>
            <a:ext cx="7398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453960"/>
            <a:ext cx="883908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tworks Operating Systems: Where to use?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 can be used in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outers, switches and  hardware firewall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Cs in Peer-to-peer network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ient-server Architecture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D11-AA14-44AD-8E15-75B98795FF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453600"/>
            <a:ext cx="8763120" cy="14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Scale(size) Based Network Classification 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L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W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ternet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10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3BE-054D-40E6-B359-52CF2B777F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-380880"/>
            <a:ext cx="75438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ersonal Area Network (P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088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mputer network organized around an individual per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AN involves a computer, a cell phone..etc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Using Bluetooth and USB often used to link this kind of network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mmunication Technology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ired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ireless (WPAN):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uetooth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, infrar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3086-2713-4F59-8C5C-AFF006622C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" descr=""/>
          <p:cNvPicPr/>
          <p:nvPr/>
        </p:nvPicPr>
        <p:blipFill>
          <a:blip r:embed="rId1"/>
          <a:stretch/>
        </p:blipFill>
        <p:spPr>
          <a:xfrm>
            <a:off x="6824520" y="4141800"/>
            <a:ext cx="18957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Local Area Network (L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560" y="1949040"/>
            <a:ext cx="83055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N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v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etwork that operates within and nearby a single building like a home, office or factory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The connection must be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high speed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inexpensive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ze: few kilometer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77B-C067-4319-A98A-75612031DD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Local Area Network (L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asy to shar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st of LAN setup is low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s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ow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ecur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pe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vers limited area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C682-250D-499B-8C22-4A418FC633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etropolitan Area Network (M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404040"/>
                </a:solidFill>
                <a:latin typeface="Calibri"/>
              </a:rPr>
              <a:t>metropolitan area network (MAN) is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high-speed network that connects local area networks in a metropolitan are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t covers a cit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Examples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e cable television networks available in many citie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8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F4C-F61D-40EC-A55A-C2C0E777BE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MAN.jpg"/>
          <p:cNvPicPr/>
          <p:nvPr/>
        </p:nvPicPr>
        <p:blipFill>
          <a:blip r:embed="rId1"/>
          <a:srcRect l="0" t="2696" r="0" b="0"/>
          <a:stretch/>
        </p:blipFill>
        <p:spPr>
          <a:xfrm>
            <a:off x="5465880" y="2743200"/>
            <a:ext cx="3047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etropolitan Area Network (M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fficiency and shared acces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ll the computers residing in the same area have an equal chance to access the network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s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st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ecurity problem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low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F62-F593-4E2B-B24B-831E338596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2-11T21:18:55Z</dcterms:modified>
  <cp:revision>86</cp:revision>
  <dc:subject/>
  <dc:title>Computer Networks</dc:title>
</cp:coreProperties>
</file>