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BDE9-3508-460E-BF89-A599D3E60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9A8C-6D68-47E9-8082-945215C70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917640" y="743040"/>
            <a:ext cx="4965480" cy="3724200"/>
          </a:xfrm>
          <a:prstGeom prst="rect">
            <a:avLst/>
          </a:prstGeom>
          <a:ln w="0">
            <a:noFill/>
          </a:ln>
        </p:spPr>
      </p:sp>
      <p:sp>
        <p:nvSpPr>
          <p:cNvPr id="422"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C09B1-0D95-405A-BE67-4CB4F5FDE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541A7-B591-4DA1-B947-6E223EED9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C61D7-A5E4-4D44-ABF3-5EFFFB35A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0FDCE-8C04-4685-A157-4F20E39D5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93C53-9088-4A84-B6E7-0AC0505BF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5618E-BCAB-4B86-ADE3-1B7419FCB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0A449-684F-4050-A1F7-362E5D6C8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66024-D523-4012-93C4-59AD430F6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A5D31-766F-49EB-BC2D-801DBF1D3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AB699-7F48-43D5-92EE-7EB1B72C1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A7071-B809-4CDA-8A26-9ACC82DF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069C0-108A-4DC0-9892-11CE468C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A0892-0EF4-4957-8201-9D6727910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9854C-8188-4C60-8D01-332D26E88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6489F-D2C5-4747-9296-660205CC1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1DE1A-51E3-4225-B776-B9FDCE4AC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2C5BC-E75D-41E6-A06A-23FE29542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4D126F-80E1-4084-BBA1-47E00B27A0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6E5D9-7E3E-4BEF-9C31-0414641C3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29C02-1EDA-4AFE-805D-AC7ED2C77F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4EDB8B-2911-412C-B407-C497470BC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DF53F6-1483-411D-8F63-3DDED3CEF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FE404-C8C6-40C6-A5FB-2ABDB1004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4D278-2F6D-494C-98A2-2B37E8536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FEC8E-2833-4F36-91B6-2E98E10FF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9D8D4-5F95-466F-89EB-65AFBFBE3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FE032-7162-46CD-8291-AAF6D492D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2153A-AF76-4EDD-B6D6-4D1B4E53E8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965F71-9093-41A9-8C9F-7DC59A0CAC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92D75B-D5F2-44EC-924B-372F885AAA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A89582-FEA6-4564-8D91-0F6C85727E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C69F5-E52C-49AB-A014-53103CB57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F6634-8E29-4293-B5AF-5C4C5A3AA5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EC5A7-606E-4B4E-8F01-119798F0B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4F2C60-4B49-4102-8EBA-544FE15A84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82CCA-69A4-4D2B-AC10-F8CFBB11BC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389D5-9693-42F8-A45E-EF98E4C4CD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82B41-D85E-453A-A0C0-10BBA2252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3D119E-B0D4-4089-85F3-30FA582CB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7D83A-9D97-4833-B096-E0BB98630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FD91C8-4945-4FA7-9A56-B1F0775573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2D6BF-E442-477A-B2CD-DC5D856AD6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7C6E17-C5D7-4D7A-87E8-5AFEF6368B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5867B2-E666-487A-99CD-DAE67DA8EA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DF210-EFCF-4311-915E-B0ADD9960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32B787-C32A-44D9-8078-9935D64FC7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8B974C-4D23-4F51-B765-6153B0E0BD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AF5A0F-9535-4A75-9714-A2B352CF5E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7E1249-A692-405A-9ABA-B631F5B66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D4BBD3-3D60-490A-ACAC-6E605D87B2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63639-F615-4DD1-91BC-F7621A5A0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F2D086-F127-4358-89A8-4F3BD45F1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6DCEA-C215-42D1-8FBF-535E77ADF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6C2EBE-E2B0-4B38-BA1F-4087909AB1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67D41C-6E4D-438F-A1CF-2515DF2893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A4C56-5BF1-4136-A685-0EF67C7AE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2B236A-A6F1-488E-8645-2E0ECACBC0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9E1178-F96A-4CC5-87D8-8DF66A2EAC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74820-DA46-4C47-8D60-5173764DB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5FECA-52B8-4C05-9D38-56CC75739A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D44BCE-113D-4C8E-ABED-80F4ACB381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3BF58D-9553-4AD4-A8A8-E5D39A6FC6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B630C-A2AD-4E47-8B45-9220DD2B24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1BCBC-CADC-49A3-A617-0DCF6F8899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04726-9D2E-403F-9EE3-46D2DA3E09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7056B-C79E-4E68-A012-7EACDFC1C6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4D44B-6F3D-43B5-A228-25535CE3B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1836DB-F093-4234-83EF-82BD90A388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DDCB66-DF1B-4DC9-AAA2-BED9D10F71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A7D9BA-04A0-410E-92A4-D2530E7418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31C6F5-D3BE-416C-928D-C13928BD23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DDF09D-C45B-48D3-9973-96E3FE84C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F74B60-30E7-46C4-9147-BA2824B3A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80C76-8B9F-4A1A-A3DC-965BFCA1A2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9C29CB-2D37-48F5-8968-5DEF31DD44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418A4-8F93-43B9-9F78-9FE24E8FD1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2C536-0C09-4CE7-982B-45D7DBC30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05763-C18F-4E89-A4A3-6F190C6F7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9D1E8-C47E-4EFD-BAD1-022ED39EF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B03CB9-D0FD-49D9-B339-EF4E04665F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409424-5AD7-4371-B55E-331A9FEDA2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33D6BA-E99F-4C51-94DC-E5BB14FE95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ECE2C7-8DB4-428C-906D-6F00D9F47B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35C7B2-DBD0-4DBE-918B-403EC23129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FF45DD-B0D4-48EC-B28E-C61C832329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50A10E-98CB-41CD-AFAE-F4499A96F7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3A3C2D-D3C8-46BA-83C4-34A967F59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ACF52D-D9EF-456C-A83E-1518B5FA4B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CBE1-C12A-4D67-B620-C6CD65A1A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4DF47-8E7A-459E-BDB1-59665CFE6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B657E-FC49-4F9B-AA38-4AC18F1F28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AE7BA-61D3-488B-BD0C-3283ECE910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FEB88-A529-433E-B423-4576DE69D4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4AFD5F-F6DC-4E58-8100-546C72584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F38E14-926E-4C8F-B917-F201C61786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A5F4BB-F055-4FC3-A02A-CDFC6DE142B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437A-5CE1-4C3C-8C46-545A2337059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EB0B-150A-4009-8235-EA0FB4A4468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7309-D929-448B-BB43-A308EAA195A5}"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7D3C-4E74-4BB9-8C15-6FC6756682C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2588-7887-4D27-B4B2-56ED2D4D2E9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6BB5-1512-4A7F-BDC8-41F5EEFB663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81FC-819E-404F-BFEE-0274BB4680E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C607-F411-471D-9C56-22A36C75213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Network Operating Systems :</a:t>
            </a:r>
            <a:br>
              <a:rPr sz="2900"/>
            </a:br>
            <a:r>
              <a:rPr b="1" lang="en-US" sz="2900" spc="-1" strike="noStrike">
                <a:solidFill>
                  <a:srgbClr val="464653"/>
                </a:solidFill>
                <a:latin typeface="Bookman Old Style"/>
              </a:rPr>
              <a:t>Tasks and Example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D7C0-9954-4C75-9994-8553135AD12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Peer-to-Peer Networking </a:t>
            </a:r>
            <a:endParaRPr b="0" lang="en-US" sz="3200" spc="-1" strike="noStrike">
              <a:solidFill>
                <a:srgbClr val="464653"/>
              </a:solidFill>
              <a:latin typeface="Bookman Old Style"/>
            </a:endParaRPr>
          </a:p>
        </p:txBody>
      </p:sp>
      <p:sp>
        <p:nvSpPr>
          <p:cNvPr id="393" name=""/>
          <p:cNvSpPr txBox="1"/>
          <p:nvPr/>
        </p:nvSpPr>
        <p:spPr>
          <a:xfrm>
            <a:off x="457200" y="123516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peer-to-peer networking there is a complete sharing of resources, both hardware and software. </a:t>
            </a:r>
            <a:endParaRPr b="0" lang="en-US" sz="3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l systems act as both users of resources and providers of resources, but no one system is dedicated to a single function.</a:t>
            </a:r>
            <a:endParaRPr b="0" lang="en-US" sz="32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er-to-peer networks are generally best suited to small networks and usually are less expensive than client/server networks.</a:t>
            </a:r>
            <a:endParaRPr b="0" lang="en-US" sz="3200" spc="-1" strike="noStrike">
              <a:solidFill>
                <a:srgbClr val="000000"/>
              </a:solidFill>
              <a:latin typeface="Gill Sans MT"/>
            </a:endParaRPr>
          </a:p>
        </p:txBody>
      </p:sp>
      <p:sp>
        <p:nvSpPr>
          <p:cNvPr id="394"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B93E-FCD1-400A-96CD-37F7F3866D9A}"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Client/Server Networks </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ent/server networks dictate that systems are most often dedicated to a single function.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y are either users of network resources or providers of resources.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ent/server networks are typically more expensive and robust than peer-to-peer networks and generally support the building of larger networks.</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scussion of Internetworking Operating Systems will cover the four major systems currently in use: Windows, Novell, UNIX/LINUX, and Mac.</a:t>
            </a:r>
            <a:endParaRPr b="0" lang="en-US" sz="2800" spc="-1" strike="noStrike">
              <a:solidFill>
                <a:srgbClr val="000000"/>
              </a:solidFill>
              <a:latin typeface="Gill Sans MT"/>
            </a:endParaRPr>
          </a:p>
        </p:txBody>
      </p:sp>
      <p:sp>
        <p:nvSpPr>
          <p:cNvPr id="397"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9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A13A-26E2-4294-B09C-F51465BA9A5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for Workgroups/Windows 95</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ndows for Workgroups, introduced in the early 90s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ndows 95, introduced in 1995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are both considered peer-to-peer networking systems and do not have the capabilities of true internetworking operating systems.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are, however, inexpensive and more than adequate for small workgroups wanting to share resources, use email, and connect to the Internet.</a:t>
            </a:r>
            <a:endParaRPr b="0" lang="en-US" sz="26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C266-BDF4-4B52-AC6D-EB983BC8FE2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for Workgroups/Windows 95</a:t>
            </a:r>
            <a:endParaRPr b="0" lang="en-US" sz="3200" spc="-1" strike="noStrike">
              <a:solidFill>
                <a:srgbClr val="464653"/>
              </a:solidFill>
              <a:latin typeface="Bookman Old Style"/>
            </a:endParaRPr>
          </a:p>
        </p:txBody>
      </p:sp>
      <p:sp>
        <p:nvSpPr>
          <p:cNvPr id="403"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ndows for Workgroups and Windows 95 both offer peer-to-peer network protocols (Windows NT will be discussed later).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protocols used by these operating systems allow users to share files and devices over LANs.</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oth offer NetBEUI: Microsoft’s small network protocol. </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also offer TCP/IP, and IPX/SPX protocols to access the network through either a dialup connection/modem, or directly through a NIC.</a:t>
            </a:r>
            <a:endParaRPr b="0" lang="en-US" sz="2600" spc="-1" strike="noStrike">
              <a:solidFill>
                <a:srgbClr val="000000"/>
              </a:solidFill>
              <a:latin typeface="Gill Sans MT"/>
            </a:endParaRPr>
          </a:p>
        </p:txBody>
      </p:sp>
      <p:sp>
        <p:nvSpPr>
          <p:cNvPr id="404"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B3B6-6904-4415-99E4-A155AB298A1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95</a:t>
            </a: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NetBEUI protocols, are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not routabl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ore than adequate to meet small LAN need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asy to use and do not require in-depth networking knowledg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BEUI software identifies computer devices by name and it is certainly easier to remember that a computer’s name is Juanita or Justin than 141.252.20.2 or 141.252.10.1. </a:t>
            </a:r>
            <a:endParaRPr b="0" lang="en-US" sz="2600" spc="-1" strike="noStrike">
              <a:solidFill>
                <a:srgbClr val="000000"/>
              </a:solidFill>
              <a:latin typeface="Gill Sans MT"/>
            </a:endParaRPr>
          </a:p>
        </p:txBody>
      </p:sp>
      <p:sp>
        <p:nvSpPr>
          <p:cNvPr id="4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CB3A-407B-4286-A88C-95112047FF5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95</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ach device name in a network must be unique. </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BEUI software installed on each of the networked computers is all that is necessary to configure devices in order to share resources and create a network. </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 small company does want to connect to the Internet, the necessary software and protocols are available with these operating systems. </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hared resources on Windows for Workgroups/95 networks are accessed by a password that protects the resource and there is only one level of access; either you have access or you don’t have access.</a:t>
            </a:r>
            <a:endParaRPr b="0" lang="en-US" sz="2600" spc="-1" strike="noStrike">
              <a:solidFill>
                <a:srgbClr val="000000"/>
              </a:solidFill>
              <a:latin typeface="Gill Sans MT"/>
            </a:endParaRPr>
          </a:p>
        </p:txBody>
      </p:sp>
      <p:sp>
        <p:nvSpPr>
          <p:cNvPr id="410"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C29A-0D6C-4ECA-89CF-B6FD2C64F3A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95 Security Issues </a:t>
            </a:r>
            <a:endParaRPr b="0" lang="en-US" sz="3200" spc="-1" strike="noStrike">
              <a:solidFill>
                <a:srgbClr val="464653"/>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so user-by-user passwords are not part of the protocols unless Windows NT is prese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this means is that anyone connected to the network who knows the password of the resource has access to that resour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is can create security issues since there is no way to prevent a user from access once s/he knows the password. </a:t>
            </a:r>
            <a:endParaRPr b="0" lang="en-US" sz="2600" spc="-1" strike="noStrike">
              <a:solidFill>
                <a:srgbClr val="000000"/>
              </a:solidFill>
              <a:latin typeface="Gill Sans MT"/>
            </a:endParaRPr>
          </a:p>
        </p:txBody>
      </p:sp>
      <p:sp>
        <p:nvSpPr>
          <p:cNvPr id="41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3B38-8A0F-4E04-8487-659F3902CF5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Windows 95 Security Issues </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s the network grows, it is usually more difficult to keep resource passwords secur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nce there is no central control, managing these peer-to-peer networks becomes an issue when the network becomes too large.</a:t>
            </a:r>
            <a:endParaRPr b="0" lang="en-US" sz="2600" spc="-1" strike="noStrike">
              <a:solidFill>
                <a:srgbClr val="000000"/>
              </a:solidFill>
              <a:latin typeface="Gill Sans MT"/>
            </a:endParaRPr>
          </a:p>
        </p:txBody>
      </p:sp>
      <p:sp>
        <p:nvSpPr>
          <p:cNvPr id="41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D803-172F-4B0B-B0C9-D7AADAE0FC3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Quiz</a:t>
            </a:r>
            <a:endParaRPr b="0" lang="en-US" sz="3800" spc="-1" strike="noStrike">
              <a:solidFill>
                <a:srgbClr val="464653"/>
              </a:solidFill>
              <a:latin typeface="Bookman Old Style"/>
            </a:endParaRPr>
          </a:p>
        </p:txBody>
      </p:sp>
      <p:sp>
        <p:nvSpPr>
          <p:cNvPr id="41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xt lecture</a:t>
            </a:r>
            <a:endParaRPr b="0" lang="en-US" sz="2600" spc="-1" strike="noStrike">
              <a:solidFill>
                <a:srgbClr val="000000"/>
              </a:solidFill>
              <a:latin typeface="Gill Sans MT"/>
            </a:endParaRPr>
          </a:p>
        </p:txBody>
      </p:sp>
      <p:sp>
        <p:nvSpPr>
          <p:cNvPr id="41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73AD-FCDD-4B60-ACC1-351850083CF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Networking Operating Systems (NOS) </a:t>
            </a:r>
            <a:endParaRPr b="0" lang="en-US" sz="3200" spc="-1" strike="noStrike">
              <a:solidFill>
                <a:srgbClr val="464653"/>
              </a:solidFill>
              <a:latin typeface="Bookman Old Style"/>
            </a:endParaRPr>
          </a:p>
        </p:txBody>
      </p:sp>
      <p:sp>
        <p:nvSpPr>
          <p:cNvPr id="363"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uters have operating system software that allows them to function. Without operating system instructions, a computer is nothing more than a box with circuits. This is the same with networks.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thout a Network Operating System, a network is nothing more than a number of computer devices connected together. In order to transmit information and communicate across a network, it is necessary to have a Network Operating System. </a:t>
            </a:r>
            <a:endParaRPr b="0" lang="en-US" sz="2800" spc="-1" strike="noStrike">
              <a:solidFill>
                <a:srgbClr val="000000"/>
              </a:solidFill>
              <a:latin typeface="Gill Sans MT"/>
            </a:endParaRPr>
          </a:p>
        </p:txBody>
      </p:sp>
      <p:sp>
        <p:nvSpPr>
          <p:cNvPr id="364"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963F-0F62-476D-87E6-121E8CF4024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Tasks of NOS</a:t>
            </a:r>
            <a:endParaRPr b="0" lang="en-US" sz="3200" spc="-1" strike="noStrike">
              <a:solidFill>
                <a:srgbClr val="464653"/>
              </a:solidFill>
              <a:latin typeface="Bookman Old Style"/>
            </a:endParaRPr>
          </a:p>
        </p:txBody>
      </p:sp>
      <p:sp>
        <p:nvSpPr>
          <p:cNvPr id="367" name=""/>
          <p:cNvSpPr txBox="1"/>
          <p:nvPr/>
        </p:nvSpPr>
        <p:spPr>
          <a:xfrm>
            <a:off x="228240" y="1219320"/>
            <a:ext cx="89154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re are several different Network Operating Systems, each with its own set of features and protocols.</a:t>
            </a:r>
            <a:endParaRPr b="0" lang="en-US" sz="2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transmit signals across a network, it is necessary for the computer to communicate with its modem or Network Interface Card.</a:t>
            </a:r>
            <a:endParaRPr b="0" lang="en-US" sz="2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ork Operating Systems (NOS) provide the protocols necessary to achieve this goal, but each different type of modem or NIC needs to be able to communicate with the particular NOS. </a:t>
            </a:r>
            <a:endParaRPr b="0" lang="en-US" sz="2800" spc="-1" strike="noStrike">
              <a:solidFill>
                <a:srgbClr val="000000"/>
              </a:solidFill>
              <a:latin typeface="Gill Sans MT"/>
            </a:endParaRPr>
          </a:p>
        </p:txBody>
      </p:sp>
      <p:sp>
        <p:nvSpPr>
          <p:cNvPr id="368"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6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7708-0FF9-4300-A409-167B0127CC2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Tasks of NOS</a:t>
            </a:r>
            <a:endParaRPr b="0" lang="en-US" sz="3200" spc="-1" strike="noStrike">
              <a:solidFill>
                <a:srgbClr val="464653"/>
              </a:solidFill>
              <a:latin typeface="Bookman Old Style"/>
            </a:endParaRPr>
          </a:p>
        </p:txBody>
      </p:sp>
      <p:sp>
        <p:nvSpPr>
          <p:cNvPr id="371" name=""/>
          <p:cNvSpPr txBox="1"/>
          <p:nvPr/>
        </p:nvSpPr>
        <p:spPr>
          <a:xfrm>
            <a:off x="228240" y="1219320"/>
            <a:ext cx="89154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therefore necessary to install the special software that comes with the interface device.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software is often referred to as a driver.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uters made today usually come with both the interface and necessary drivers installed. </a:t>
            </a:r>
            <a:endParaRPr b="0" lang="en-US" sz="28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ccasionally, you must install the modem or NIC yourself. It is necessary to install the correct driver for that interface device. Failure to so install  the driver means that the device will be unable to communicate over the network or with the computer it is installed in.</a:t>
            </a:r>
            <a:endParaRPr b="0" lang="en-US" sz="2800" spc="-1" strike="noStrike">
              <a:solidFill>
                <a:srgbClr val="000000"/>
              </a:solidFill>
              <a:latin typeface="Gill Sans MT"/>
            </a:endParaRPr>
          </a:p>
        </p:txBody>
      </p:sp>
      <p:sp>
        <p:nvSpPr>
          <p:cNvPr id="372"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7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F523-0D8A-4C6E-8F8F-AC9A518C89E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Tasks of NOS</a:t>
            </a:r>
            <a:endParaRPr b="0" lang="en-US" sz="3200" spc="-1" strike="noStrike">
              <a:solidFill>
                <a:srgbClr val="464653"/>
              </a:solidFill>
              <a:latin typeface="Bookman Old Style"/>
            </a:endParaRPr>
          </a:p>
        </p:txBody>
      </p:sp>
      <p:sp>
        <p:nvSpPr>
          <p:cNvPr id="375"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ork Operating Systems not only allow communication across a network, they also allow a network administrator to organize resources, control access, and ensure that the network is operating efficiently.</a:t>
            </a:r>
            <a:endParaRPr b="0" lang="en-US" sz="2800" spc="-1" strike="noStrike">
              <a:solidFill>
                <a:srgbClr val="000000"/>
              </a:solidFill>
              <a:latin typeface="Gill Sans MT"/>
            </a:endParaRPr>
          </a:p>
        </p:txBody>
      </p:sp>
      <p:sp>
        <p:nvSpPr>
          <p:cNvPr id="376"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7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2F00-81E7-4A5B-8410-2E03C032FE5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Times New Roman"/>
              </a:rPr>
              <a:t> </a:t>
            </a:r>
            <a:r>
              <a:rPr b="1" lang="en-US" sz="3200" spc="-1" strike="noStrike">
                <a:solidFill>
                  <a:srgbClr val="464653"/>
                </a:solidFill>
                <a:latin typeface="Times New Roman"/>
              </a:rPr>
              <a:t>Terminologies </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fontScale="92000"/>
          </a:bodyPr>
          <a:p>
            <a:pPr marL="250920" indent="441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river—Also referred to as a device driver. </a:t>
            </a:r>
            <a:r>
              <a:rPr b="0" lang="en-US" sz="2600" spc="-1" strike="noStrike">
                <a:solidFill>
                  <a:srgbClr val="000000"/>
                </a:solidFill>
                <a:latin typeface="Gill Sans MT"/>
              </a:rPr>
              <a:t>Software that allows communication between the computer and an input/output port or external device. </a:t>
            </a:r>
            <a:endParaRPr b="0" lang="en-US" sz="2600" spc="-1" strike="noStrike">
              <a:solidFill>
                <a:srgbClr val="000000"/>
              </a:solidFill>
              <a:latin typeface="Gill Sans MT"/>
            </a:endParaRPr>
          </a:p>
          <a:p>
            <a:pPr lvl="1" marL="503640" indent="4410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or example, a driver allows a network operating system to communicate with the Network Interface Card.</a:t>
            </a:r>
            <a:endParaRPr b="0" lang="en-US" sz="2300" spc="-1" strike="noStrike">
              <a:solidFill>
                <a:srgbClr val="464653"/>
              </a:solidFill>
              <a:latin typeface="Gill Sans MT"/>
            </a:endParaRPr>
          </a:p>
          <a:p>
            <a:pPr marL="250920" indent="441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441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1" lang="en-US" sz="2600" spc="-1" strike="noStrike">
                <a:solidFill>
                  <a:srgbClr val="000000"/>
                </a:solidFill>
                <a:latin typeface="Gill Sans MT"/>
              </a:rPr>
              <a:t>Network Operating System—A combination of software programs </a:t>
            </a:r>
            <a:r>
              <a:rPr b="0" lang="en-US" sz="2600" spc="-1" strike="noStrike">
                <a:solidFill>
                  <a:srgbClr val="000000"/>
                </a:solidFill>
                <a:latin typeface="Gill Sans MT"/>
              </a:rPr>
              <a:t>that instruct computers and peripherals to accept requests for services</a:t>
            </a:r>
            <a:endParaRPr b="0" lang="en-US" sz="2600" spc="-1" strike="noStrike">
              <a:solidFill>
                <a:srgbClr val="000000"/>
              </a:solidFill>
              <a:latin typeface="Gill Sans MT"/>
            </a:endParaRPr>
          </a:p>
          <a:p>
            <a:pPr marL="250920" indent="441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ross the network and then provide those services.</a:t>
            </a:r>
            <a:endParaRPr b="0" lang="en-US" sz="2600" spc="-1" strike="noStrike">
              <a:solidFill>
                <a:srgbClr val="000000"/>
              </a:solidFill>
              <a:latin typeface="Gill Sans MT"/>
            </a:endParaRPr>
          </a:p>
          <a:p>
            <a:pPr marL="250920" indent="44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44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44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44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B763-751C-4B24-9957-6C5279E0541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Terminologies </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1" lang="en-US" sz="2800" spc="-1" strike="noStrike">
                <a:solidFill>
                  <a:srgbClr val="000000"/>
                </a:solidFill>
                <a:latin typeface="Gill Sans MT"/>
              </a:rPr>
              <a:t>User Accoun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 account used by Windows NT Server Operating</a:t>
            </a:r>
            <a:r>
              <a:rPr b="1" lang="en-US" sz="2800" spc="-1" strike="noStrike">
                <a:solidFill>
                  <a:srgbClr val="000000"/>
                </a:solidFill>
                <a:latin typeface="Gill Sans MT"/>
              </a:rPr>
              <a:t> </a:t>
            </a:r>
            <a:r>
              <a:rPr b="0" lang="en-US" sz="2800" spc="-1" strike="noStrike">
                <a:solidFill>
                  <a:srgbClr val="000000"/>
                </a:solidFill>
                <a:latin typeface="Gill Sans MT"/>
              </a:rPr>
              <a:t>Systems and other NOS's that provides access to the network. Each user on the network has his/her own unique user nam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User Manager for Domain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Windows NT Server application program that is used to maintain individual and group user account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4"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2FEF-AC96-4CE3-91D5-86DB018F3CB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 </a:t>
            </a:r>
            <a:r>
              <a:rPr b="0" lang="en-US" sz="3200" spc="-1" strike="noStrike">
                <a:solidFill>
                  <a:srgbClr val="464653"/>
                </a:solidFill>
                <a:latin typeface="Times New Roman"/>
              </a:rPr>
              <a:t>Terminologies </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Workgroup</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roup of devices logically networked together as a single unit. This simplifies network management by segmenting and organizing users into defined groups that can be managed as one. For example, everyone in the accounting department may be considered a workgroup. One change in security for the group changes security for all users.</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File Servers:</a:t>
            </a:r>
            <a:r>
              <a:rPr b="0" lang="en-US" sz="2600" spc="-1" strike="noStrike">
                <a:solidFill>
                  <a:srgbClr val="000000"/>
                </a:solidFill>
                <a:latin typeface="Gill Sans MT"/>
              </a:rPr>
              <a:t> Store files created by application programs.</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1" lang="en-US" sz="2600" spc="-1" strike="noStrike">
                <a:solidFill>
                  <a:srgbClr val="000000"/>
                </a:solidFill>
                <a:latin typeface="Gill Sans MT"/>
              </a:rPr>
              <a:t>Print Server</a:t>
            </a:r>
            <a:r>
              <a:rPr b="0" lang="en-US" sz="2600" spc="-1" strike="noStrike">
                <a:solidFill>
                  <a:srgbClr val="000000"/>
                </a:solidFill>
                <a:latin typeface="Gill Sans MT"/>
              </a:rPr>
              <a:t>: Accept print jobs sent by anyone across the network.</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6D63-B49E-48AB-BE27-FA5074D799C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Types of NOSs</a:t>
            </a:r>
            <a:endParaRPr b="0" lang="en-US" sz="3200" spc="-1" strike="noStrike">
              <a:solidFill>
                <a:srgbClr val="464653"/>
              </a:solidFill>
              <a:latin typeface="Bookman Old Style"/>
            </a:endParaRPr>
          </a:p>
        </p:txBody>
      </p:sp>
      <p:sp>
        <p:nvSpPr>
          <p:cNvPr id="389" name=""/>
          <p:cNvSpPr txBox="1"/>
          <p:nvPr/>
        </p:nvSpPr>
        <p:spPr>
          <a:xfrm>
            <a:off x="228240" y="1219320"/>
            <a:ext cx="85345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re are several different Network Operating Systems, each with its own set of features and protocol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haring of network resources can be peer-to-peer or client/server.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ich NOS is the best is dependent on the end goal of the network.</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0" name="TextBox 4"/>
          <p:cNvSpPr/>
          <p:nvPr/>
        </p:nvSpPr>
        <p:spPr>
          <a:xfrm>
            <a:off x="457200" y="12193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9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637E-E969-4907-9733-AF3ADD26ED2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10-13T22:16:30Z</dcterms:modified>
  <cp:revision>66</cp:revision>
  <dc:subject/>
  <dc:title>Computer Networks</dc:title>
</cp:coreProperties>
</file>