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EF70-E1C1-4A52-BEE7-7A27747472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EBA8-B8A9-44F7-B7BE-591735080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AE70-0C6C-45F8-9163-E6832AB95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1B75-1EE0-4D19-89A1-377375D399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CA79-5FD3-413E-8639-FD63CBFA55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E10F-C533-470E-95D2-E7C38B9379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29A8-178E-46B9-9C20-C7F76D0DC7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61E-FF98-471B-B1C6-0DA6D55C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42A-7672-47FF-9248-BC48BFA1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45E-11AD-4621-91FD-EDB332F3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2C7-26D8-4CE0-B501-AE8DC360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B0A2-6DB2-4CBB-B400-AEA8E4AD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D945-F6C3-4F58-A56E-B6EC2527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3F3E-0407-4D26-9EA5-0721C45B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64A4-F5AE-4119-9264-AB013D2E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95A2-2DBE-4B58-899F-A867CF7E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A683-6B6C-4262-B952-DB42B494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C332-8CFC-4821-AD6E-7A03F795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007-AC46-4D61-BDA2-C8C3442F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57DE-5831-476C-84AC-F456E09D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0AD4-7383-465B-AD6F-164E58F1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AB16-EBE0-411A-80A6-678A7D01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0B36-EBAE-46DD-BE1B-FB966BB4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786E-EAD7-4770-B40B-8D9B314C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89FE-BF92-4989-B8E7-1C4FC98B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A40D-88AD-4E73-82E7-9A157711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4F2FD-34D9-45D8-B871-74D18E5F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5ECE-5143-4E71-94D3-C8EC307E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C4D7B-CFA5-4356-B807-030B1E12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7D5-3908-4E5E-A9C6-5FED0842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BE29-A8DE-45C0-A92D-9DA39348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8747-A6BB-447A-912D-35DA2864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B8921-78EE-4E88-8412-2B17A730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12541-3375-4FAF-8148-69DAA8EC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4E12-5AAD-4AD4-99FC-BB548DE5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D040-A370-495C-AD45-A57323C3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C23B3-3116-4038-B891-28B5F75D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18ADD-2DA7-4DC6-B89F-72346E27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045E-FEAB-4086-BB15-F6C25659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35DE-20CE-48C4-8E6B-85C47D1F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BFE-0843-45A4-AC85-847B5519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0F14-2648-4485-B556-0CF114A3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8E3B3-9380-43C0-9C9A-036C52EF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4B45-7087-4A2A-BE14-CFC97A96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E5E50-64D4-4995-AE38-5DE51447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4DD91-7F26-4213-8003-6DDCD141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69D66-5CA4-4CFC-88B5-9D0A5E60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20F20-6927-490F-AB7E-1EE81E13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BF733-D0A0-42A1-8B76-C807B829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E287-9215-4D6D-B891-39B579EF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76E21-A69F-4257-B562-1DF99E99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E94-BA04-4AF4-91D2-ED8C52EB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85BE6-ED49-4482-9330-3E08EF4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592A1-FFA3-4EC6-9BEF-8701B085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2B9FB-60D5-4C82-953E-A4A402B0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498BA-439A-4FD5-BF1B-D6F22D6B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122CD-CCA7-427C-8C9B-609F0A90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198C9-46A6-4759-80F4-BA6E8521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8BAB-1D2F-4C7C-938F-4ECDF095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CF1BC-2057-42B8-B488-53463B92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98C66-0783-4557-9A6B-67DE6F8E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B12FD-29DB-43D1-A32A-225303CA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3C9-F25B-453C-96C5-83647EC7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4C949-B918-4A0E-85DD-AE6F91CE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4FE-30D4-4D23-9973-4E76BAEC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723-AAB0-48EB-9A22-E9231ACE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943-8722-4A0B-A29C-AA74367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D744-F9E4-41CD-A0DF-BFB2D9A6F1A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DDFA-7098-47AE-ADCB-41F486741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88AE-13A0-41E6-B15A-DB4DF5903B4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2966-E256-4DFA-AA7B-D75CE2684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E49A4A5-FC4E-4877-9558-6CA7DEE57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4AD1D25-BFF4-48CB-A614-A234DEDDB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FBB90F8-B67E-4958-A49E-2E480B3872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0" y="2590920"/>
            <a:ext cx="4572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Fundamentals 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632D-452D-4675-9BBC-014DD0B2D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Variable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ariable may be declar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initial val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initial val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declaration with initial 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dataType variableIdentifier </a:t>
            </a:r>
            <a:r>
              <a:rPr b="1" i="1" lang="en-US" sz="1800" spc="-1" strike="noStrike">
                <a:solidFill>
                  <a:srgbClr val="69676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literal | expressio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g             = 0.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  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=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5, y = 7, z = (x+y)*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declaration without initial 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dataType variableIdentifi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   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75F5-34B1-42B0-9B20-9C2DADB04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declara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904760"/>
            <a:ext cx="3886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ing decla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 word="Apple"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 word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 decla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 symbol ='*'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 symbo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2869-06E4-4B9C-BBB1-83E7A0FC9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tent Placeholder 8"/>
          <p:cNvSpPr/>
          <p:nvPr/>
        </p:nvSpPr>
        <p:spPr>
          <a:xfrm>
            <a:off x="4648320" y="1905120"/>
            <a:ext cx="4041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oolean decla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initial val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flag=fal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valid=tru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out initial val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fla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-Declare a variable of double type with initial value=0.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- Declare a constant of String type with initial value=“Good”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- Declare a variable of type string with initial value equals to the value of constant in 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-Is the following names are valid ,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*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36AD-F4DA-48F2-8A12-67D789EDE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58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special symbols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ematical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gnment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al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of opera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+ 5              // uses + 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 + 5 – 4 * (5 – 3)     // uses +, -, *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Expres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can be combinations of variables and operators that result in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DFC29C49-3F7E-4DCD-997F-CC1EAC9859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5120" y="334800"/>
            <a:ext cx="6621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Groups of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5 different groups of oper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 / Decre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al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77B35411-7BCB-4B6C-8E87-4CB564AD3C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Java Arithmetic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156E1678-5BCC-4E3E-BF89-4EECC21B5A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010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ra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der (modulus 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Assignment Operator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Arithmetic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1760" y="14479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table summarizes the arithmetic operators available in Ja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5C0C40AD-36B7-422E-8AB0-BA49064083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ch3-2"/>
          <p:cNvPicPr/>
          <p:nvPr/>
        </p:nvPicPr>
        <p:blipFill>
          <a:blip r:embed="rId1"/>
          <a:stretch/>
        </p:blipFill>
        <p:spPr>
          <a:xfrm>
            <a:off x="990720" y="2743200"/>
            <a:ext cx="6858000" cy="255420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5"/>
          <p:cNvSpPr/>
          <p:nvPr/>
        </p:nvSpPr>
        <p:spPr>
          <a:xfrm>
            <a:off x="6629400" y="5459400"/>
            <a:ext cx="2317680" cy="743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is is an integer division where the fractional part is truncat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6"/>
          <p:cNvSpPr/>
          <p:nvPr/>
        </p:nvSpPr>
        <p:spPr>
          <a:xfrm>
            <a:off x="7086600" y="4267080"/>
            <a:ext cx="938160" cy="1198800"/>
          </a:xfrm>
          <a:custGeom>
            <a:avLst/>
            <a:gdLst>
              <a:gd name="textAreaLeft" fmla="*/ 0 w 938160"/>
              <a:gd name="textAreaRight" fmla="*/ 938520 w 93816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437" h="824">
                <a:moveTo>
                  <a:pt x="0" y="0"/>
                </a:moveTo>
                <a:lnTo>
                  <a:pt x="437" y="0"/>
                </a:lnTo>
                <a:lnTo>
                  <a:pt x="437" y="824"/>
                </a:lnTo>
              </a:path>
            </a:pathLst>
          </a:custGeom>
          <a:noFill/>
          <a:ln w="28440">
            <a:solidFill>
              <a:srgbClr val="99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A0FDFFCC-BB8F-46BB-90C2-CDFD11245C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38080" y="1447920"/>
            <a:ext cx="7772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division 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/ 3  gives 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 / 3 gives 3.333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3276720"/>
            <a:ext cx="83059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we can se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we divide two integers we get an integer res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one or both operands is a floating-point value we get a floating-point 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Mod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2982F503-AB5A-4298-AB07-0B010BF380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762120" y="1447920"/>
            <a:ext cx="83818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9329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tes the remainder when you divide two integer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3 gives 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4 gives 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5 giv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10 gives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329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us operator is most commonly used with integer operands. If we attempt to use the modulus operator on  floating-point values we will garb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MS PGothic"/>
              </a:rPr>
              <a:t>Example: Sum of two inte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119950F9-7A11-4B7C-A3F9-7FAFF67066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304920" y="139716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{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, su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2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1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+ b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” + ”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b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“  = “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su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572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Programs and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programs require the temporary storage of data. The data to be processed is stored in a temporary storage in the computer's memory:  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space 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pace memory has three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Data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DBFC-CD2A-41A1-98F3-73ECB2263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Calibri"/>
                <a:ea typeface="MS PGothic"/>
              </a:rPr>
              <a:t>Arithmetic/Assignment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F8F41174-08A7-44A0-B620-2AE19E3471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allows combining arithmetic and assignment operators into a single opera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rac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der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5880" y="0"/>
            <a:ext cx="7962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Calibri"/>
                <a:ea typeface="MS PGothic"/>
              </a:rPr>
              <a:t>Increment/Decrement Ope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56F85786-4D2F-4865-8C82-5453026365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762120" y="1523880"/>
            <a:ext cx="777240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ly use ++ or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hen a variable is being incremented/decremented as a statement by itsel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x+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--;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Relational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al operators compare two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Produc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lue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lse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the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133720" y="3048120"/>
          <a:ext cx="5029200" cy="3338280"/>
        </p:xfrm>
        <a:graphic>
          <a:graphicData uri="http://schemas.openxmlformats.org/drawingml/2006/table">
            <a:tbl>
              <a:tblPr/>
              <a:tblGrid>
                <a:gridCol w="1430280"/>
                <a:gridCol w="3598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true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g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greater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g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greater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=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is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!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not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l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ess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l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ess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</a:tbl>
          </a:graphicData>
        </a:graphic>
      </p:graphicFrame>
      <p:sp>
        <p:nvSpPr>
          <p:cNvPr id="30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9DA7B7BE-AD58-482E-B187-65407E79C1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41436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x = 3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y = 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lean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x &gt; y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ssigned the value </a:t>
            </a:r>
            <a:r>
              <a:rPr b="0" lang="en-US" sz="3200" spc="-1" strike="noStrike">
                <a:solidFill>
                  <a:srgbClr val="cc3300"/>
                </a:solidFill>
                <a:latin typeface="Calibri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3 is not greater tha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C9E4CDD9-F024-4FDD-9196-BE61B49847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Logical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90560" y="1904760"/>
            <a:ext cx="37717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mbol   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2968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72280" y="3984480"/>
          <a:ext cx="2662200" cy="1416240"/>
        </p:xfrm>
        <a:graphic>
          <a:graphicData uri="http://schemas.openxmlformats.org/drawingml/2006/table">
            <a:tbl>
              <a:tblPr/>
              <a:tblGrid>
                <a:gridCol w="887400"/>
                <a:gridCol w="887400"/>
                <a:gridCol w="8874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9676d"/>
                          </a:solidFill>
                          <a:latin typeface="Tahoma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486080" y="3984480"/>
          <a:ext cx="2806560" cy="1416240"/>
        </p:xfrm>
        <a:graphic>
          <a:graphicData uri="http://schemas.openxmlformats.org/drawingml/2006/table">
            <a:tbl>
              <a:tblPr/>
              <a:tblGrid>
                <a:gridCol w="936360"/>
                <a:gridCol w="933480"/>
                <a:gridCol w="9367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9676d"/>
                          </a:solidFill>
                          <a:latin typeface="Tahoma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BBDFED39-41EA-49AB-A3BD-CEE637A211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176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=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 =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sul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(x &amp;&amp; y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s assigned the value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((x || y) &amp;&amp; x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 || y) evaluates to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rue &amp;&amp; x) evaluates to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s then assigned the value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37F48DE5-1BB8-4CA2-B7F5-6C42C10E67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perators Prece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38080" y="1828800"/>
          <a:ext cx="7964640" cy="3657600"/>
        </p:xfrm>
        <a:graphic>
          <a:graphicData uri="http://schemas.openxmlformats.org/drawingml/2006/table">
            <a:tbl>
              <a:tblPr/>
              <a:tblGrid>
                <a:gridCol w="3610080"/>
                <a:gridCol w="43545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enth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), inside-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rement/dec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+,  --, 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ltipl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, /, %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, -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, &gt;, &lt;=, &gt;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=, !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gical 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amp;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gical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|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, +=, -=, *=, /=, %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</a:tbl>
          </a:graphicData>
        </a:graphic>
      </p:graphicFrame>
      <p:sp>
        <p:nvSpPr>
          <p:cNvPr id="3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A136AE82-9A2A-489D-A7B8-C23927D24E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Standard Output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14479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System.ou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 can output multiple lines of text to the standard output wind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783E9839-F533-4119-8E55-7906DAD3D0E8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4" descr="wu18847_0306"/>
          <p:cNvPicPr/>
          <p:nvPr/>
        </p:nvPicPr>
        <p:blipFill>
          <a:blip r:embed="rId1"/>
          <a:stretch/>
        </p:blipFill>
        <p:spPr>
          <a:xfrm>
            <a:off x="2362320" y="2522520"/>
            <a:ext cx="4572000" cy="2278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1371600" y="5181480"/>
            <a:ext cx="7315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exact style of standard output window depends on the Java tool you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The println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120" y="1371240"/>
            <a:ext cx="85345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kip a l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BD15D408-203D-48CA-B0C2-2B6770600568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1511280" y="1905120"/>
            <a:ext cx="6489360" cy="2042640"/>
            <a:chOff x="1511280" y="1905120"/>
            <a:chExt cx="6489360" cy="2042640"/>
          </a:xfrm>
        </p:grpSpPr>
        <p:sp>
          <p:nvSpPr>
            <p:cNvPr id="343" name="Rectangle 5"/>
            <p:cNvSpPr/>
            <p:nvPr/>
          </p:nvSpPr>
          <p:spPr>
            <a:xfrm>
              <a:off x="1511280" y="1905120"/>
              <a:ext cx="6489360" cy="20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9c2d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Text Box 6"/>
            <p:cNvSpPr/>
            <p:nvPr/>
          </p:nvSpPr>
          <p:spPr>
            <a:xfrm>
              <a:off x="1672920" y="2115720"/>
              <a:ext cx="61635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cb084"/>
                  </a:solidFill>
                  <a:latin typeface="Courier New"/>
                  <a:ea typeface="MS PGothic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x = 123, y = x + x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x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+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y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THE END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Box 10"/>
          <p:cNvSpPr/>
          <p:nvPr/>
        </p:nvSpPr>
        <p:spPr>
          <a:xfrm>
            <a:off x="2362320" y="4648320"/>
            <a:ext cx="350496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= 1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+ x = 2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Standard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62120" y="14475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put primitive data values, we use the Scanner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steps are needed to be able to use input primiti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import the Scanner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import Java.util.Scanne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MS PGothic"/>
              </a:rPr>
              <a:t>Step 2 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eclaring a reference variable of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Scanner read ;   //we named the object re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reating an instance of the 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read = new Scanner (System.in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 specific methods to enter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int x = read.nextInt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8DA74EBE-B862-4322-A760-B126009A2671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Ident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 sequence of characters that denotes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the space memory to be us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name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within a prog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alibri"/>
              </a:rPr>
              <a:t>Identifier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cannot begin with a digit (0 – 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may contain the letters a to z, A to Z, the digits 0 to 9, and the underscore symbol, _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paces or punctuation, except the underscore symbol, _, are allowed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762120" y="434340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dentifiers in Java ar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case-sensitiv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. Thus, the identifiers my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nd mynumber, are seen as two different identifiers by the compil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9327-B96F-47EB-A59A-F4816B50F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C14816F6-4AEE-444F-BB7D-229E3E0ECA02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04920" y="671400"/>
            <a:ext cx="845820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java.util.Scann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TestInput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canner inpu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area ,length, widt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nput =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Scanner (System.in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 creating an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enter the length 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leng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reading the length from the key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Enter the Width 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wid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reading the width from the key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 = length * width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length is "+ lengt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width is "+ widt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area is "+ are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Wid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ngth i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dth i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ea is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90CA197E-AB72-41E4-BF2B-7FE4272B5240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Common Scanner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440" y="15235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anner input = new Scanner 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Byte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te b = input.nextByte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Double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d = input.nextDouble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Floa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 f = input.nextFloa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In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i = input.nextIn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Long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l = input.nextLong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Shor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s = input.nextShor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()                String str = input.next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ADBD5ECD-35CF-4406-B460-96E121B293B7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My be changed  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ll lowerca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apitalizing the first letter of each word in a multiword identifier, except for the first wor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Cannot be changed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ll uppercase, separating words within a multiword identifier with the underscore symbol, 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CA32-50FC-49BB-B42F-BFE6C4B21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Data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type defines what kinds of values a space memory is allowed to st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values stored in the same space memory should be of the same data typ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constants and variables used in a Java program must be defined prior to their use in the progra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E9BE-EBE2-4DE6-9DDF-7A9688C0E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Java built-in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9896-C4CA-49E7-8AD6-B9782C570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457200" y="1219320"/>
          <a:ext cx="85345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19320"/>
                    <a:ext cx="85345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8C64-1B8A-4AA3-8502-1F89A1ADB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631880"/>
          <a:ext cx="8915400" cy="5226120"/>
        </p:xfrm>
        <a:graphic>
          <a:graphicData uri="http://schemas.openxmlformats.org/drawingml/2006/table">
            <a:tbl>
              <a:tblPr/>
              <a:tblGrid>
                <a:gridCol w="1076400"/>
                <a:gridCol w="1116000"/>
                <a:gridCol w="3578040"/>
                <a:gridCol w="3144960"/>
              </a:tblGrid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(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</a:tr>
              <a:tr h="5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,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value that is ei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 or fal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to 6553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 16-bit Unicode charac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to +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2768 to +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,147,483,648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2,147,483,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9,223,372,036,854,775,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9,223,372,036,854,775,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8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16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doub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Variable/Constant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the declaration is made, memory space is allocated to store the values of the declared variable or const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claration of a variable means allocating a space memory which state (value) may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claration of a constant means allocating a space memory which state (value) cannot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B555-1DD4-4BA8-98FB-EEEAE4E22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tant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inal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dataType constIdentifier </a:t>
            </a:r>
            <a:r>
              <a:rPr b="1" i="1" lang="en-US" sz="1800" spc="-1" strike="noStrike">
                <a:solidFill>
                  <a:srgbClr val="69676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literal | expression;</a:t>
            </a:r>
            <a:br>
              <a:rPr sz="1800"/>
            </a:br>
            <a:r>
              <a:rPr b="0" lang="en-US" sz="20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MAX               = 1024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MIN               = 128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AVG               = (MAX + MIN) / 2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4475-4888-42A4-B0A6-6081E5A15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553080" y="273528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ese are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MS PGothic"/>
              </a:rPr>
              <a:t>liter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5533920" y="419112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is is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MS PGothic"/>
              </a:rPr>
              <a:t>expres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Nouf</cp:lastModifiedBy>
  <dcterms:modified xsi:type="dcterms:W3CDTF">2014-02-09T08:06:58Z</dcterms:modified>
  <cp:revision>22</cp:revision>
  <dc:subject/>
  <dc:title>Introduction to JAVA</dc:title>
</cp:coreProperties>
</file>