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FAA-A4D8-4295-8607-A60500D30E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E99B-8334-46E3-A55B-A64DDF486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3C0-F520-44E0-8EC9-64C28AD0F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97FE-D47F-4474-8564-FE5E7B4F9C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4C78-32FC-4D33-88A8-690AD541CB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AC7E-73BA-40B3-8F63-9EBD41B84A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EA0-1ED9-4F41-B62F-397D0F6C6C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FC9-7DBB-4CE7-BE22-DF7D822E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C41-E2D6-42C2-BB72-6B8BF635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3C8-0EB3-4F5C-B501-2C7BA54A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1E2-B2FB-4038-B5F5-3F381A74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7093-CD0E-4DB6-96D3-3ABC28CF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9B77-06F1-4A96-BB9F-AED3C021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FA5-AD89-4663-AE78-C5466E1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A29F-B7B1-412B-ADCE-9528D31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43CC-9C81-4847-8C92-578D356D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6D33-E7AC-4A0A-BB55-2B55E17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67BF-3255-4775-88A0-6EEEF83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638-669E-4F23-B294-AC41A10E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D15C-D3E7-42B1-8653-5E998398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1F0D-04A4-4031-BA15-D4432B9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3C79-7280-49C1-B678-EAEF4024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EC2-91B9-4BCF-8ED1-D34A962B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6DE2-BD35-46AE-9DF9-FCF1F4BC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E6F1-8C86-428C-812F-AE2EC385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A603-F1D5-49E0-96F9-B9AD79BC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D71B-2FB8-47E5-BBF2-ECFBB113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D176-3838-428A-B3B6-23DD739F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2149-9227-4504-8F93-30FC8FB9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9B9-E3BB-42D8-9F2A-39C59852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9E4D-0D76-4CEA-8412-CA2B7A4D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515E-6584-4B75-9F7F-9F68162D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63E6-E3CC-4661-A8B5-A472C54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711C-4A6B-499A-813F-A33A6C7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2BD3-233D-4869-9C87-C4FA2AF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49B9-8D3B-4F18-AE3A-0A54BE99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1A6D-C98A-4C9E-A3AE-5ED6A2F6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651B-DFDB-41AF-A925-CDF7893D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0FD3-B9ED-409B-AA76-1CF7723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676D-5081-491D-A07E-0E787B0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889-B033-4ECC-BDE6-E71307E8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1FD2-9402-4E3B-AE73-B0124C34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732D-1898-41DE-81CD-2397CFD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C6B3-9AF2-4BEB-B0E5-D70A54D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B811-058B-4C26-B431-7C7212E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2E170-8216-4A04-B1DA-A23825D0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4B4D-36D2-46D6-9A67-798ABF88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C46F-8B7D-470D-A730-DD1D317F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6AB3-933D-4E43-BD89-800F7F40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03BA-D172-495C-85B6-348D14C4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05A9-E639-403B-AC90-60EA660F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16F-F792-4415-9924-292774CE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924C9-5B6B-47E2-B660-89049847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B4E4-E554-466A-8471-602BA6C0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C1D3-7CDD-4577-8AE4-05DE4777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6D27-AC38-4A83-85CE-1DF62DA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DE30-E95D-41DA-9C30-BC10306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2AF8D-01DC-4A7B-A2F6-3B568033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8544-7A41-4803-ABF8-2DDA565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45A7-54B5-4AC8-9093-77EE831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1938-F6FF-4EEF-A832-DE7A84D2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C7A6-E25A-42BB-85CC-34924EBE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0B0-913E-49D3-8646-D1830AC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9B92-0281-4F45-A0D3-BB44C955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D73-1CE2-4D83-8C96-2B7F7E6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D27-456B-4578-8B3B-AA4E9A17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C6A-D7F2-493B-BFDA-D658CE3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16F0-33F1-4390-AC78-ED29228A553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8CD8-1D75-4C91-BA1E-8323538ED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B9CD-2FA8-4E59-BB4D-0B8F0E82E9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584C-8145-4B87-8293-01E5EC4DE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E51AD96-DA22-4A88-8D0A-D875454EF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512CE90-C0F2-43AF-90D8-31EEF44A0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7BD1D15-4092-4C66-9D16-E016BEB96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Fundamentals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BA9E-A077-4744-A6A4-76D2A1371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ariable may be decla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             = 0.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out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941A-5136-4D3F-A89E-6BAB8829B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declar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90476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ing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="Apple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 ='*'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1663-688B-4F05-ACF6-5A4A9CA6C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tent Placeholder 8"/>
          <p:cNvSpPr/>
          <p:nvPr/>
        </p:nvSpPr>
        <p:spPr>
          <a:xfrm>
            <a:off x="4648320" y="1905120"/>
            <a:ext cx="4041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lean decla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=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valid=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out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Declare a variable of double type with initial value=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 Declare a constant of String type with initial value=“Good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 Declare a variable of type string with initial value equals to the value of constant in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Is the following names are valid 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*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8A03-C538-42EF-9322-18F719B31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58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pecial symbols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opera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+ 5              // uses +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+ 5 – 4 * (5 – 3)     // uses +, -, *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an be combinations of variables and operators that result i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A795E47-A37C-4FBC-8AE3-D6A83F1A6B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33480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Groups of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5 different groups of oper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/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981744CB-5C75-48EF-AC7D-D4AAF8916E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Java 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148D3C4-EEFE-41D9-B869-B2FAC2DB03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 (modulus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ssignment Operator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176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table summarizes the arithmetic operators available in J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AE90149-8BBF-4FB7-A488-F342BE6C1D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h3-2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2554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6629400" y="5459400"/>
            <a:ext cx="2317680" cy="74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an integer division where the fractional part is trunc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7086600" y="4267080"/>
            <a:ext cx="938160" cy="11988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437" h="824">
                <a:moveTo>
                  <a:pt x="0" y="0"/>
                </a:moveTo>
                <a:lnTo>
                  <a:pt x="437" y="0"/>
                </a:lnTo>
                <a:lnTo>
                  <a:pt x="437" y="824"/>
                </a:lnTo>
              </a:path>
            </a:pathLst>
          </a:custGeom>
          <a:noFill/>
          <a:ln w="2844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CD47C94C-BEFE-4FCD-936C-F8DAC1F6F9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4479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vision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/ 3  gives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/ 3 gives 3.33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3276720"/>
            <a:ext cx="83059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 can se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we divide two integers we get an integer res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one or both operands is a floating-point value we get a floating-point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Mod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9F0E4CD-75CA-4DF6-BA46-640DB57911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62120" y="1447920"/>
            <a:ext cx="83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s the remainder when you divide two integer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3 gives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4 gives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5 giv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10 give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us operator is most commonly used with integer operands. If we attempt to use the modulus operator on  floating-point values we will garb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MS PGothic"/>
              </a:rPr>
              <a:t>Example: Sum of two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D50EF4C-0AFB-418B-9015-D589312BC4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04920" y="13971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572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Programs an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rograms require the temporary storage of data. The data to be processed is stored in a temporary storage in the computer's memory:  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space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ace memory has thre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1A4C-7DCD-45E5-A715-4264E470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/Assignment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F60297EC-4C23-4D41-BDC5-5FA4382D8A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allows combining arithmetic and assignment operators into a single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5880" y="0"/>
            <a:ext cx="7962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alibri"/>
                <a:ea typeface="MS PGothic"/>
              </a:rPr>
              <a:t>Increment/Decrement Op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1C13D30-5C83-4B1A-B066-6892812EA1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62120" y="1523880"/>
            <a:ext cx="77724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use ++ o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a variable is being incremented/decremented as a statement by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+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--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operators compare two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Produc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ls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33720" y="3048120"/>
          <a:ext cx="5029200" cy="3338280"/>
        </p:xfrm>
        <a:graphic>
          <a:graphicData uri="http://schemas.openxmlformats.org/drawingml/2006/table">
            <a:tbl>
              <a:tblPr/>
              <a:tblGrid>
                <a:gridCol w="1430280"/>
                <a:gridCol w="3598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0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60E8A99D-CC6A-4F69-91F1-23EA87286A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4143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y =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 &gt; 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the value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3 is not greater tha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197A6D4-E9E9-4BCB-9CD4-F53434A4EA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1904760"/>
            <a:ext cx="3771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   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2968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72280" y="3984480"/>
          <a:ext cx="2662200" cy="14162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86080" y="3984480"/>
          <a:ext cx="2806560" cy="1416240"/>
        </p:xfrm>
        <a:graphic>
          <a:graphicData uri="http://schemas.openxmlformats.org/drawingml/2006/table">
            <a:tbl>
              <a:tblPr/>
              <a:tblGrid>
                <a:gridCol w="936360"/>
                <a:gridCol w="933480"/>
                <a:gridCol w="9367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31BB34C0-535F-40B5-8481-8C332B5B9C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176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x &amp;&amp; y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(x || y) &amp;&amp; 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|| y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rue &amp;&amp; x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then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FB3486D-0271-4048-8E7E-5A32F4752F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perators Prece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1828800"/>
          <a:ext cx="7964640" cy="3657600"/>
        </p:xfrm>
        <a:graphic>
          <a:graphicData uri="http://schemas.openxmlformats.org/drawingml/2006/table">
            <a:tbl>
              <a:tblPr/>
              <a:tblGrid>
                <a:gridCol w="3610080"/>
                <a:gridCol w="43545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F35AB5A4-F8D8-4742-82FD-F12CFA94FD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Output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System.ou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can output multiple lines of text to the standard output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A89C16A9-D1DE-45CE-A995-153A4D258DD7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The println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kip a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530D24E0-B836-4609-BC83-725B20C75E00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43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9c2d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cb084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claring a reference variable of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5DD6547A-12A6-4B71-9D42-AC8F0C397C9B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dent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alibri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762120" y="43434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ers in Java ar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Thus, the identifiers my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A0A-3B48-4072-9F52-CDB4EFB26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97D86AC9-A14D-41F7-97D8-6E32CB0B13D8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Wid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ngth i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dth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is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CE2B2187-8F22-4613-9CBD-E9DE5618AB87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Common Scann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Byt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Doubl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Floa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In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Long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Shor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65741AE7-3376-457F-969C-D6D31F1E64E8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5A7D-3A66-4425-8439-854B52DE2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A8A-3899-4996-95D2-1409407B5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built-in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84B-3216-4368-8E9E-A34E1DEA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57200" y="1219320"/>
          <a:ext cx="85345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49A7-1F09-4D65-899D-1D711FEEC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631880"/>
          <a:ext cx="8915400" cy="5226120"/>
        </p:xfrm>
        <a:graphic>
          <a:graphicData uri="http://schemas.openxmlformats.org/drawingml/2006/table">
            <a:tbl>
              <a:tblPr/>
              <a:tblGrid>
                <a:gridCol w="1076400"/>
                <a:gridCol w="1116000"/>
                <a:gridCol w="3578040"/>
                <a:gridCol w="3144960"/>
              </a:tblGrid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/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he declaration is made, memory space is allocated to store the values of the declared variable or cons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variable means allocating a space memory which state (value) may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constant means allocating a space memory which state (value) cannot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93C5-A8B5-42B5-92E2-53E96D04C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20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68ED-C8FD-4108-97AF-638F70719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553080" y="273528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533920" y="4191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9T08:06:58Z</dcterms:modified>
  <cp:revision>22</cp:revision>
  <dc:subject/>
  <dc:title>Introduction to JAVA</dc:title>
</cp:coreProperties>
</file>