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12A2-93E0-40F9-B9B5-E4AEEAAFD42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884D-2583-4167-89E3-8D69BEB6D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DD8F-335F-4D9C-B097-ADF48F253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DD63-476D-4902-9EBB-989417C6BE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2484-E18C-437A-B565-871C1C4FB7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6BED-14DC-4DA9-9820-488767DB70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1198-4D92-4007-85F0-46956CF327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AC35-C123-4A8C-B790-732EFBAE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322-F658-457E-BC63-54804932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A12-E054-4C21-ACA4-FDE9AF23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EC7-D137-4210-A7DF-A9258140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DE51-ACBB-4DFF-ADE5-A4054DF8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FDF2-7C89-4A90-85BF-4483F292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E52C-1886-466F-BE42-3024943D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3376-0258-425B-B970-2B69F498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4557-D65B-49F9-98DA-10205CA9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099B-7A80-4966-836E-BF19FB8A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25A1-FE88-4918-8BBE-28138A18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3DD-53D0-4DB3-8D06-FBE6D53A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1039-DF66-4D8D-94D9-07DE9944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F495-058E-44F4-ADF7-9DAEF0BA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4D2F-B9BD-48EA-AFC2-570F8312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10FC-4D83-461E-BE13-3480CB14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03E7-30F1-4AA4-A504-694A1FA0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934A-9B96-4611-9FAD-B5CF9B31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BDBE8-D737-405A-9E40-8EC37C57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10E0-11CE-4A11-A0C6-AA955A0B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8998-3CC2-4CFC-8185-B8503C5C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D290E-C4E5-4100-B9D1-6EE5ED21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AB2-34C2-4AD4-81D6-D244099A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B8917-1752-48CC-B4F6-67DB9414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13C44-1497-4222-8C96-56225963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AD94-1A41-45E5-A885-C58A8B74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2A12-B6E6-4F6D-AF34-FB2CD8BA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F3841-1F1C-4998-852C-F5B5C370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52AF6-882F-4B0B-9E41-6E7EC74D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88F3-0308-4BF5-B3AC-4C1F779B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7246A-B4DD-4D30-A581-951B80E9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2285C-9C3F-40EB-AC77-342615D8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54D1-E829-4386-928F-C0FF0FDB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67B-33B3-4A30-8C15-DAC265EB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CB9F2-E3B2-43AF-8598-5D92C804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30EAB-222C-4526-9C52-873A9005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2B5EA-A721-4CFE-8D62-9AE4F0A3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7DE60-EE17-43C1-9A28-B1FE3CDB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EACF-1F4D-4007-9557-4289B180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8660-FC5E-4219-A05D-0EDC0DDD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2714-4ADC-4856-A57D-E5CBE90B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867A8-C9D2-4519-88C7-D7D4D9EE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D4E99-7190-4812-A977-F1A18F6C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64506-D57C-4BA0-A677-6EA260E1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303-1FE3-4FF5-BB94-CE472769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6405B-7387-4B0B-A3E9-5573E652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453A2-23B9-437D-848A-437DBB22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F8589-443E-4D53-BA31-A1049153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5E57D-35B9-4C33-9946-D7D7D8F0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68E4A-7BAC-4F4C-BB94-AACE766D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38A7C-4B3F-4024-BE0F-18A9FD97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0A8B6-679D-40BB-8C63-41102167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AD444-1263-4D13-A12D-088897F9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AB83A-7F11-4F3C-916F-1AD6E1FB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50A60-5986-4B70-911E-2549B787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46D-F61A-4D3D-8909-307ACE8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5D34C-F51A-4FAC-BB7B-4AC767D3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328-6E69-4AF7-8D0D-7F41E966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ADA-F339-4448-9C4D-4BBE5BE8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403-5E52-422D-BA6E-24362361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A6AB-F182-4B77-AE05-5479E300013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087B-AC9F-4533-9D92-6FF31BC15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E229-9784-4EE1-BD52-B9FA15194F9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92A7-10AD-4D3F-8259-05B21BC557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F6FBE27-A812-43D2-9438-72A324E7B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CCD4CE1-6749-4577-B4E8-4DE456169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0AD9246-6A21-4AED-BAD8-0E867F7E34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0" y="2590920"/>
            <a:ext cx="4572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Fundamentals 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www.arunimasoftware.com/images/blog/java.png"/>
          <p:cNvPicPr/>
          <p:nvPr/>
        </p:nvPicPr>
        <p:blipFill>
          <a:blip r:embed="rId1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3321-EDAE-40BA-A1EB-4FCB79BAA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Variable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ariable may be declar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initial val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initial val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declaration with initial 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dataType variableIdentifier </a:t>
            </a:r>
            <a:r>
              <a:rPr b="1" i="1" lang="en-US" sz="1800" spc="-1" strike="noStrike">
                <a:solidFill>
                  <a:srgbClr val="69676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literal | expressio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g             = 0.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  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=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5, y = 7, z = (x+y)*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declaration without initial val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dataType variableIdentifi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v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   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A07D-8302-4514-AB46-557BDE887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declara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904760"/>
            <a:ext cx="3886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ing decla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 word="Apple"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 word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 decla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 symbol ='*'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initial valu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 symbo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B84D-1D6E-4A48-9CC9-4DDDB8697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tent Placeholder 8"/>
          <p:cNvSpPr/>
          <p:nvPr/>
        </p:nvSpPr>
        <p:spPr>
          <a:xfrm>
            <a:off x="4648320" y="1905120"/>
            <a:ext cx="4041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oolean decla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initial val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flag=fal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valid=tru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out initial val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olean fla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-Declare a variable of double type with initial value=0.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- Declare a constant of String type with initial value=“Good”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- Declare a variable of type string with initial value equals to the value of constant in 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-Is the following names are valid ,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*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A3BD-9059-49B6-8816-F0465AF2C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58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special symbols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ematical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gnment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al 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of opera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+ 5              // uses + 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 + 5 – 4 * (5 – 3)     // uses +, -, *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Expres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can be combinations of variables and operators that result in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7523C511-3577-472F-8480-0CC37648A1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5120" y="334800"/>
            <a:ext cx="6621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Groups of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5 different groups of oper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 / Decre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al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B95959D6-6753-4410-9B3B-F0472FD11B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Java Arithmetic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A999374D-5D04-450A-BD2F-43BC4C57C3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010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ra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der (modulus 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Assignment Operator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Arithmetic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1760" y="14479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table summarizes the arithmetic operators available in Ja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AD4C1DEF-4477-4857-A7F1-384FCBE535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ch3-2"/>
          <p:cNvPicPr/>
          <p:nvPr/>
        </p:nvPicPr>
        <p:blipFill>
          <a:blip r:embed="rId1"/>
          <a:stretch/>
        </p:blipFill>
        <p:spPr>
          <a:xfrm>
            <a:off x="990720" y="2743200"/>
            <a:ext cx="6858000" cy="255420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5"/>
          <p:cNvSpPr/>
          <p:nvPr/>
        </p:nvSpPr>
        <p:spPr>
          <a:xfrm>
            <a:off x="6629400" y="5459400"/>
            <a:ext cx="2317680" cy="743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is is an integer division where the fractional part is truncat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6"/>
          <p:cNvSpPr/>
          <p:nvPr/>
        </p:nvSpPr>
        <p:spPr>
          <a:xfrm>
            <a:off x="7086600" y="4267080"/>
            <a:ext cx="938160" cy="1198800"/>
          </a:xfrm>
          <a:custGeom>
            <a:avLst/>
            <a:gdLst>
              <a:gd name="textAreaLeft" fmla="*/ 0 w 938160"/>
              <a:gd name="textAreaRight" fmla="*/ 938520 w 93816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437" h="824">
                <a:moveTo>
                  <a:pt x="0" y="0"/>
                </a:moveTo>
                <a:lnTo>
                  <a:pt x="437" y="0"/>
                </a:lnTo>
                <a:lnTo>
                  <a:pt x="437" y="824"/>
                </a:lnTo>
              </a:path>
            </a:pathLst>
          </a:custGeom>
          <a:noFill/>
          <a:ln w="28440">
            <a:solidFill>
              <a:srgbClr val="99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1CD70EA6-355A-472F-8CCF-5FD6A783EB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38080" y="1447920"/>
            <a:ext cx="7772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division 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/ 3  gives 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 / 3 gives 3.333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3276720"/>
            <a:ext cx="83059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we can se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we divide two integers we get an integer res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one or both operands is a floating-point value we get a floating-point 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Mod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D98283A9-6E1D-44EC-BCAF-D7D3E18FD3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762120" y="1447920"/>
            <a:ext cx="83818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9329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tes the remainder when you divide two integer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3 gives 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4 gives 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5 giv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%10 gives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329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us operator is most commonly used with integer operands. If we attempt to use the modulus operator on  floating-point values we will garb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MS PGothic"/>
              </a:rPr>
              <a:t>Example: Sum of two inte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D484C1C0-A079-4CB6-82BB-3F1B27FA57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304920" y="139716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{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 String args[] )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, su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2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1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+ b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” + ”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b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“  = “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  <a:ea typeface="Courier New"/>
              </a:rPr>
              <a:t> su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class S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572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Programs and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programs require the temporary storage of data. The data to be processed is stored in a temporary storage in the computer's memory:  </a:t>
            </a:r>
            <a:r>
              <a:rPr b="0" lang="en-US" sz="2400" spc="-1" strike="noStrike">
                <a:solidFill>
                  <a:srgbClr val="69676d"/>
                </a:solidFill>
                <a:latin typeface="Calibri"/>
              </a:rPr>
              <a:t>space 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pace memory has three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Data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6967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76d"/>
                </a:solidFill>
                <a:latin typeface="Calibri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6DBC-4E2D-4BDC-8064-FD378E1E0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Calibri"/>
                <a:ea typeface="MS PGothic"/>
              </a:rPr>
              <a:t>Arithmetic/Assignment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6DB8F29C-99E0-4C2F-80FE-50F953291D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allows combining arithmetic and assignment operators into a single opera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rac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der/assig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5880" y="0"/>
            <a:ext cx="7962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Calibri"/>
                <a:ea typeface="MS PGothic"/>
              </a:rPr>
              <a:t>Increment/Decrement Ope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2F12171E-4005-4E40-8513-2ED8501612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762120" y="1523880"/>
            <a:ext cx="777240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ly use ++ or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hen a variable is being incremented/decremented as a statement by itsel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x+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--;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Relational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al operators compare two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Produc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lue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lse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the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133720" y="3048120"/>
          <a:ext cx="5029200" cy="3338280"/>
        </p:xfrm>
        <a:graphic>
          <a:graphicData uri="http://schemas.openxmlformats.org/drawingml/2006/table">
            <a:tbl>
              <a:tblPr/>
              <a:tblGrid>
                <a:gridCol w="1430280"/>
                <a:gridCol w="3598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true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g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greater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g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greater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=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is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!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not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lt;=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ess than or equal to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&lt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less tha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</a:tbl>
          </a:graphicData>
        </a:graphic>
      </p:graphicFrame>
      <p:sp>
        <p:nvSpPr>
          <p:cNvPr id="30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634ABE04-3537-4912-A0B7-32DF058439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41436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x = 3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y = 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lean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x &gt; y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</a:t>
            </a:r>
            <a:r>
              <a:rPr b="0" lang="en-US" sz="3200" spc="-1" strike="noStrike">
                <a:solidFill>
                  <a:srgbClr val="69676d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ssigned the value </a:t>
            </a:r>
            <a:r>
              <a:rPr b="0" lang="en-US" sz="3200" spc="-1" strike="noStrike">
                <a:solidFill>
                  <a:srgbClr val="cc3300"/>
                </a:solidFill>
                <a:latin typeface="Calibri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3 is not greater tha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ECBC8F76-F160-4DEC-9CCD-88C8EC8319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Logical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90560" y="1904760"/>
            <a:ext cx="37717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mbol   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2968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69676d"/>
                </a:solidFill>
                <a:latin typeface="Calibri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72280" y="3984480"/>
          <a:ext cx="2662200" cy="1416240"/>
        </p:xfrm>
        <a:graphic>
          <a:graphicData uri="http://schemas.openxmlformats.org/drawingml/2006/table">
            <a:tbl>
              <a:tblPr/>
              <a:tblGrid>
                <a:gridCol w="887400"/>
                <a:gridCol w="887400"/>
                <a:gridCol w="8874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9676d"/>
                          </a:solidFill>
                          <a:latin typeface="Tahoma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486080" y="3984480"/>
          <a:ext cx="2806560" cy="1416240"/>
        </p:xfrm>
        <a:graphic>
          <a:graphicData uri="http://schemas.openxmlformats.org/drawingml/2006/table">
            <a:tbl>
              <a:tblPr/>
              <a:tblGrid>
                <a:gridCol w="936360"/>
                <a:gridCol w="933480"/>
                <a:gridCol w="9367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9676d"/>
                          </a:solidFill>
                          <a:latin typeface="Tahoma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6101FDEF-D432-4988-BB11-47ADC16D14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176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=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 =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sul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(x &amp;&amp; y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s assigned the value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= ((x || y) &amp;&amp; x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 || y) evaluates to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rue &amp;&amp; x) evaluates to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is then assigned the value 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A6D6878F-223F-4BF4-9925-C6A4A55C38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perators Prece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38080" y="1828800"/>
          <a:ext cx="7964640" cy="3657600"/>
        </p:xfrm>
        <a:graphic>
          <a:graphicData uri="http://schemas.openxmlformats.org/drawingml/2006/table">
            <a:tbl>
              <a:tblPr/>
              <a:tblGrid>
                <a:gridCol w="3610080"/>
                <a:gridCol w="43545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enth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), inside-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rement/dec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+,  --, 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ltipl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, /, %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, -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, &gt;, &lt;=, &gt;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=, !=, from left to ri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gical 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amp;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gical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|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, +=, -=, *=, /=, %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10082"/>
                    </a:solidFill>
                  </a:tcPr>
                </a:tc>
              </a:tr>
            </a:tbl>
          </a:graphicData>
        </a:graphic>
      </p:graphicFrame>
      <p:sp>
        <p:nvSpPr>
          <p:cNvPr id="3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Page </a:t>
            </a:r>
            <a:fld id="{1F991BD0-2AAB-4085-8C8D-9423CDEDB5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Standard Output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14479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System.ou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 can output multiple lines of text to the standard output wind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643807EA-76D2-414C-BDD3-6F3DB585E556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4" descr="wu18847_0306"/>
          <p:cNvPicPr/>
          <p:nvPr/>
        </p:nvPicPr>
        <p:blipFill>
          <a:blip r:embed="rId1"/>
          <a:stretch/>
        </p:blipFill>
        <p:spPr>
          <a:xfrm>
            <a:off x="2362320" y="2522520"/>
            <a:ext cx="4572000" cy="2278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1371600" y="5181480"/>
            <a:ext cx="7315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exact style of standard output window depends on the Java tool you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The println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120" y="1371240"/>
            <a:ext cx="85345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stead of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kip a l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D1EBBD0D-5EA5-45DE-8EA9-E781F07D3CA5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1511280" y="1905120"/>
            <a:ext cx="6489360" cy="2042640"/>
            <a:chOff x="1511280" y="1905120"/>
            <a:chExt cx="6489360" cy="2042640"/>
          </a:xfrm>
        </p:grpSpPr>
        <p:sp>
          <p:nvSpPr>
            <p:cNvPr id="343" name="Rectangle 5"/>
            <p:cNvSpPr/>
            <p:nvPr/>
          </p:nvSpPr>
          <p:spPr>
            <a:xfrm>
              <a:off x="1511280" y="1905120"/>
              <a:ext cx="6489360" cy="20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9c2d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Text Box 6"/>
            <p:cNvSpPr/>
            <p:nvPr/>
          </p:nvSpPr>
          <p:spPr>
            <a:xfrm>
              <a:off x="1672920" y="2115720"/>
              <a:ext cx="61635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cb084"/>
                  </a:solidFill>
                  <a:latin typeface="Courier New"/>
                  <a:ea typeface="MS PGothic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x = 123, y = x + x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x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+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y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THE END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Box 10"/>
          <p:cNvSpPr/>
          <p:nvPr/>
        </p:nvSpPr>
        <p:spPr>
          <a:xfrm>
            <a:off x="2362320" y="4648320"/>
            <a:ext cx="350496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= 1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+ x = 2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Standard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62120" y="14475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put primitive data values, we use the Scanner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steps are needed to be able to use input primiti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import the Scanner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import Java.util.Scanne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MS PGothic"/>
              </a:rPr>
              <a:t>Step 2 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eclaring a reference variable of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Scanner read ;   //we named the object re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reating an instance of the 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read = new Scanner (System.in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 specific methods to enter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PGothic"/>
              </a:rPr>
              <a:t>int x = read.nextInt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8A06FB5E-CD80-4373-B1CC-E59B1716A6E2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Ident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 sequence of characters that denotes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the space memory to be us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name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within a prog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alibri"/>
              </a:rPr>
              <a:t>Identifier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cannot begin with a digit (0 – 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may contain the letters a to z, A to Z, the digits 0 to 9, and the underscore symbol, _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96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paces or punctuation, except the underscore symbol, _, are allowed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762120" y="434340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dentifiers in Java ar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case-sensitiv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. Thus, the identifiers my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nd mynumber, are seen as two different identifiers by the compil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917E-57A8-4EC9-9E7F-7E8815521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58726EBD-CE25-431A-82B1-FCB9BF25B92E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04920" y="671400"/>
            <a:ext cx="845820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java.util.Scann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TestInput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canner input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area ,length, widt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nput =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  <a:ea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Scanner (System.in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 creating an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enter the length 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leng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reading the length from the key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Enter the Width 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wid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Arial"/>
              </a:rPr>
              <a:t>//reading the width from the key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 = length * width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length is "+ lengt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width is "+ width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stem.out.println("the area is "+ are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Wid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ngth i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dth i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ea is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513CFA3B-5736-4255-A770-9717283E33FE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Common Scanner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440" y="15235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anner input = new Scanner 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Byte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te b = input.nextByte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Double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d = input.nextDouble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Floa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 f = input.nextFloa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In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 i = input.nextIn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Long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l = input.nextLong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Short( 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s = input.nextShort( 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()                String str = input.next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Page </a:t>
            </a:r>
            <a:fld id="{D44ADF83-0F6F-45C7-955D-90E93EA91B2D}" type="slidenum">
              <a:rPr b="0" lang="en-US" sz="1200" spc="-1" strike="noStrike">
                <a:solidFill>
                  <a:srgbClr val="69676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My be changed  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ll lowerca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apitalizing the first letter of each word in a multiword identifier, except for the first wor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Cannot be changed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69676d"/>
                </a:solidFill>
                <a:latin typeface="Calibri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ll uppercase, separating words within a multiword identifier with the underscore symbol, 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6BAE-2BBB-4607-96FF-AB61B3C02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Data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57200" y="1219320"/>
            <a:ext cx="838188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type defines what kinds of values a space memory is allowed to st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values stored in the same space memory should be of the same data typ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constants and variables used in a Java program must be defined prior to their use in the progra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1FB3-43D1-4244-92C9-3E181A484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Java built-in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1B1B-CAAA-46FE-B58A-C97335763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457200" y="1219320"/>
          <a:ext cx="85345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19320"/>
                    <a:ext cx="85345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CDD0-B6AB-43F6-BE29-BF1150CD6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631880"/>
          <a:ext cx="8915400" cy="5226120"/>
        </p:xfrm>
        <a:graphic>
          <a:graphicData uri="http://schemas.openxmlformats.org/drawingml/2006/table">
            <a:tbl>
              <a:tblPr/>
              <a:tblGrid>
                <a:gridCol w="1076400"/>
                <a:gridCol w="1116000"/>
                <a:gridCol w="3578040"/>
                <a:gridCol w="3144960"/>
              </a:tblGrid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ze (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>
                      <a:noFill/>
                    </a:lnT>
                    <a:lnB w="720">
                      <a:solidFill>
                        <a:srgbClr val="cccc99"/>
                      </a:solidFill>
                    </a:lnB>
                    <a:solidFill>
                      <a:srgbClr val="375bb0"/>
                    </a:solidFill>
                  </a:tcPr>
                </a:tc>
              </a:tr>
              <a:tr h="5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,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value that is ei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e or fal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to 6553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 16-bit Unicode charac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to +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2768 to +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,147,483,648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2,147,483,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9,223,372,036,854,775,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9,223,372,036,854,775,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n integ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8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sing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urate to 16 significant dig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res a double-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ating point nu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cccc99"/>
                      </a:solidFill>
                    </a:lnL>
                    <a:lnR w="720">
                      <a:solidFill>
                        <a:srgbClr val="cccc99"/>
                      </a:solidFill>
                    </a:lnR>
                    <a:lnT w="720">
                      <a:solidFill>
                        <a:srgbClr val="cccc99"/>
                      </a:solidFill>
                    </a:lnT>
                    <a:lnB w="720">
                      <a:solidFill>
                        <a:srgbClr val="cccc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Variable/Constant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the declaration is made, memory space is allocated to store the values of the declared variable or const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claration of a variable means allocating a space memory which state (value) may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claration of a constant means allocating a space memory which state (value) cannot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374F-220D-41CA-AE28-70CC45C05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tant Decl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inal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dataType constIdentifier </a:t>
            </a:r>
            <a:r>
              <a:rPr b="1" i="1" lang="en-US" sz="1800" spc="-1" strike="noStrike">
                <a:solidFill>
                  <a:srgbClr val="69676d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69676d"/>
                </a:solidFill>
                <a:latin typeface="Courier New"/>
              </a:rPr>
              <a:t> literal | expression;</a:t>
            </a:r>
            <a:br>
              <a:rPr sz="1800"/>
            </a:br>
            <a:r>
              <a:rPr b="0" lang="en-US" sz="20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r>
              <a:rPr b="0" lang="en-US" sz="100" spc="-1" strike="noStrike">
                <a:solidFill>
                  <a:srgbClr val="7f7f7f"/>
                </a:solidFill>
                <a:latin typeface="Courier New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MAX               = 1024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MIN               = 128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AVG               = (MAX + MIN) / 2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34B6-4732-4F82-9A23-09B008F42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553080" y="273528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ese are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MS PGothic"/>
              </a:rPr>
              <a:t>liter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5533920" y="4191120"/>
            <a:ext cx="1927440" cy="71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is is called </a:t>
            </a:r>
            <a:r>
              <a:rPr b="0" i="1" lang="en-US" sz="1400" spc="-1" strike="noStrike">
                <a:solidFill>
                  <a:srgbClr val="c1051b"/>
                </a:solidFill>
                <a:latin typeface="Calibri"/>
                <a:ea typeface="MS PGothic"/>
              </a:rPr>
              <a:t>expres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6:42:03Z</dcterms:created>
  <dc:creator>NOUF</dc:creator>
  <dc:description/>
  <dc:language>en-US</dc:language>
  <cp:lastModifiedBy>Nouf</cp:lastModifiedBy>
  <dcterms:modified xsi:type="dcterms:W3CDTF">2014-02-09T08:06:58Z</dcterms:modified>
  <cp:revision>22</cp:revision>
  <dc:subject/>
  <dc:title>Introduction to JAVA</dc:title>
</cp:coreProperties>
</file>