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1CDF-B130-4656-ADA9-FEF0109241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DB40-39DE-491A-9AA2-A732015DA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5D07-039F-4E71-A24C-04AE141BB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8966-E18C-4914-9FA1-10E904A49E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09DA-30DD-40D4-AB97-503F06071C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CA54-3FA2-4DD5-B00D-DF3DED84AE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E63D-1121-4E97-885E-EB401B0906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196-6CF7-4B09-840C-BD4E9D60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24C-CD25-4A09-B10D-3C7928FD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CB5-912F-4E12-A8EE-51F5AAE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98C-9086-4555-8E76-7D2E76C2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CF6B-CC18-4AAE-BA96-DB41D2A8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C562-9FDA-43C5-B69B-470FDDFF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F9AB-369F-4262-AC21-B477E66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0FED-F022-4A48-924C-16B885BE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6930-6FB4-4D1A-85BB-F3B77240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F68A-0BA2-4F20-9103-B2293CB9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BF02-B1CC-469F-A0F5-6722F95B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02B-D492-4412-9D4F-113BC21B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DF28-E370-468F-B852-83EB0D0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7DE0-DECA-41CD-B100-B8530DE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8FE6-EFD6-4879-BB56-CEF88EB0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5CB8-04A2-44A3-A9F6-D9EB86B3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7709-553D-4331-B8A7-FCB56F19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C342-25F5-4B12-B423-51DBD5D8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99C27-40A9-4BB8-B41A-505BCE0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0925-E8B9-4F86-AD2F-F735E83C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05EF-C128-44CC-8608-8C8D2961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CFA3-4191-42B9-AC84-6D29595D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FBE-B74A-4BAA-B1EE-B343CCC1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ED1D-7470-4F4A-ADBA-73706BAC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EE8E-BCDD-4CA8-8991-DE5B596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8F4C-1A21-4E68-A136-67FF6D6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4D29-669A-406A-81A6-7CAA4F71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8858-24D7-44F4-81AB-F6BF4E4D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EA88-7672-4849-9121-37D4CDE2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54BA-A939-477B-8662-32763FB5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A7C0-F802-4F60-B314-E929D3E0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1260-D6B0-4385-A67F-EEFA37D2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0000-EAAA-433E-A0C8-00AE7609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E59-C9BC-44EA-A637-DD3610A4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7CAA-6490-4BFC-B9DA-FE87D98B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E925-F415-4CFF-8A48-2CC95F17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96E7-1174-4FD4-82C6-CEA1C1C5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EB881-1B15-4F84-A10E-DC4B4DB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4655-35EE-4E6C-B95F-B5FB4F8F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9CC3D-FFBB-4024-89DF-4B4EE3D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0F414-EE47-4C52-850F-6208F46A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2CC5-9838-44F8-A3BA-2BA89DE0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947A6-B087-47A0-AE29-DE11239D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8C21-98DC-403C-A2E6-B7519912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F3E-DFBA-4FF4-BE32-4880C824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F540-F7B8-4A02-B937-FA362B96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8A65-E990-44E2-91A7-A80984B3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B095B-F7A1-47E6-87B3-B95D19BD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49AED-6350-44AD-96D4-F6BE3A0F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77FA-4F1E-4D82-A64B-08DDF0A3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8A8C-F511-4A59-8479-4B33F1CE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14D67-9AC4-4B62-A87A-07295B30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6EB1C-22AA-4229-A5CF-F7543CA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249A-25AE-4A42-A990-CE6AD723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68141-15AE-4254-ACEE-793B1079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57E-8A46-456A-BED5-4EB6FC6A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3043-48B0-4C80-B906-BCB2F560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DC4-0F61-4D33-9B35-91B5BD8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03F-E5B7-48D8-AD11-2297A6F7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E0E-5DF7-4B1D-AEE6-2EC44C7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C1C3-7AA8-4FDC-B402-E30FF548AEB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6F35-AEE0-4822-8467-180D14099D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383F-4C62-47F4-BDA7-75355FEA5B1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0EC4-FD6F-4D82-B3A9-BDA197BAC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5291C70-5C64-42B6-8CBB-564A61D8C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2D282E4-2FB4-4CEF-BEBF-F7532F76B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A79EAAAF-92C3-4777-9FAE-4DF2F3A9B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Fundamentals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1066-AE36-45C0-95BA-B5DF3A96F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ariable may be declar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             = 0.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=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5, y = 7, z = (x+y)*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out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11AA-5897-4BEC-8930-39A318F39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declara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904760"/>
            <a:ext cx="3886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ing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="Apple"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 ='*'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4966-7BDA-44B2-A659-8930D47F7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tent Placeholder 8"/>
          <p:cNvSpPr/>
          <p:nvPr/>
        </p:nvSpPr>
        <p:spPr>
          <a:xfrm>
            <a:off x="4648320" y="1905120"/>
            <a:ext cx="4041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olean decla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=fal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valid=tr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out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-Declare a variable of double type with initial value=0.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- Declare a constant of String type with initial value=“Good”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 Declare a variable of type string with initial value equals to the value of constant in 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Is the following names are valid ,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*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DADB-9EE9-4EEE-B835-DF7896EE3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58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pecial symbols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of opera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+ 5              // uses +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+ 5 – 4 * (5 – 3)     // uses +, -, *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Expr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an be combinations of variables and operators that result i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46407B6C-49E7-408D-96D2-75ECE4629F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5120" y="334800"/>
            <a:ext cx="6621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Groups of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5 different groups of oper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/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4BDBE9AE-404A-49C9-BF87-EFBFB2A958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Java 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7CB1D1D0-2734-4B2D-921E-EE7E54116B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 (modulus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ssignment Operator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1760" y="14479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table summarizes the arithmetic operators available in Ja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1BD30AB-5511-48AC-B1C7-C5CF1C3335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h3-2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25542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5"/>
          <p:cNvSpPr/>
          <p:nvPr/>
        </p:nvSpPr>
        <p:spPr>
          <a:xfrm>
            <a:off x="6629400" y="5459400"/>
            <a:ext cx="2317680" cy="74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an integer division where the fractional part is truncat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6"/>
          <p:cNvSpPr/>
          <p:nvPr/>
        </p:nvSpPr>
        <p:spPr>
          <a:xfrm>
            <a:off x="7086600" y="4267080"/>
            <a:ext cx="938160" cy="1198800"/>
          </a:xfrm>
          <a:custGeom>
            <a:avLst/>
            <a:gdLst>
              <a:gd name="textAreaLeft" fmla="*/ 0 w 938160"/>
              <a:gd name="textAreaRight" fmla="*/ 938520 w 93816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437" h="824">
                <a:moveTo>
                  <a:pt x="0" y="0"/>
                </a:moveTo>
                <a:lnTo>
                  <a:pt x="437" y="0"/>
                </a:lnTo>
                <a:lnTo>
                  <a:pt x="437" y="824"/>
                </a:lnTo>
              </a:path>
            </a:pathLst>
          </a:custGeom>
          <a:noFill/>
          <a:ln w="28440">
            <a:solidFill>
              <a:srgbClr val="99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11A3F943-EC68-4859-898F-73E7EFD493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8080" y="144792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vision 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/ 3  gives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 / 3 gives 3.333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3276720"/>
            <a:ext cx="83059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 can se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we divide two integers we get an integer res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one or both operands is a floating-point value we get a floating-point 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Mod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59EB64A0-7038-4704-AFF1-6FE4083EAE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762120" y="1447920"/>
            <a:ext cx="83818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tes the remainder when you divide two integer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3 gives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4 gives 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5 giv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10 gives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us operator is most commonly used with integer operands. If we attempt to use the modulus operator on  floating-point values we will garb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MS PGothic"/>
              </a:rPr>
              <a:t>Example: Sum of two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7ADF677-3B14-40B0-BB8D-3BD5FABE6C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04920" y="139716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su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+ 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” + ”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b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“  = “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su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572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Programs and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rograms require the temporary storage of data. The data to be processed is stored in a temporary storage in the computer's memory:  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space 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ace memory has thre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74CF-B72B-48B1-954F-22EF3C18D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/Assignment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C4D62F3-D552-4ED2-AB9D-4EC03383BB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allows combining arithmetic and assignment operators into a single oper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5880" y="0"/>
            <a:ext cx="7962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Calibri"/>
                <a:ea typeface="MS PGothic"/>
              </a:rPr>
              <a:t>Increment/Decrement Ope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C7B40D69-AD0A-455E-BBEE-E4F86DA3A9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762120" y="1523880"/>
            <a:ext cx="777240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use ++ o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n a variable is being incremented/decremented as a statement by itse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+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--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operators compare two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Produc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lue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ls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the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133720" y="3048120"/>
          <a:ext cx="5029200" cy="3338280"/>
        </p:xfrm>
        <a:graphic>
          <a:graphicData uri="http://schemas.openxmlformats.org/drawingml/2006/table">
            <a:tbl>
              <a:tblPr/>
              <a:tblGrid>
                <a:gridCol w="1430280"/>
                <a:gridCol w="3598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true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=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is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!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not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0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6BD048F-7CB9-4C4E-A603-5855B23378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41436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y =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x &gt; y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ssigned the value </a:t>
            </a: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3 is not greater tha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946EB959-8A39-4D6A-A870-21D3857A52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90560" y="1904760"/>
            <a:ext cx="3771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mbol   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2968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72280" y="3984480"/>
          <a:ext cx="2662200" cy="1416240"/>
        </p:xfrm>
        <a:graphic>
          <a:graphicData uri="http://schemas.openxmlformats.org/drawingml/2006/table">
            <a:tbl>
              <a:tblPr/>
              <a:tblGrid>
                <a:gridCol w="887400"/>
                <a:gridCol w="887400"/>
                <a:gridCol w="8874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86080" y="3984480"/>
          <a:ext cx="2806560" cy="1416240"/>
        </p:xfrm>
        <a:graphic>
          <a:graphicData uri="http://schemas.openxmlformats.org/drawingml/2006/table">
            <a:tbl>
              <a:tblPr/>
              <a:tblGrid>
                <a:gridCol w="936360"/>
                <a:gridCol w="933480"/>
                <a:gridCol w="9367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50BBEBE1-5FF1-4CB4-8EF6-AFB1961280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176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ul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x &amp;&amp; y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(x || y) &amp;&amp; x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 || y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rue &amp;&amp; x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then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98C7A4C-1052-448F-8454-AA65FF5CA3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perators Prece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38080" y="1828800"/>
          <a:ext cx="7964640" cy="3657600"/>
        </p:xfrm>
        <a:graphic>
          <a:graphicData uri="http://schemas.openxmlformats.org/drawingml/2006/table">
            <a:tbl>
              <a:tblPr/>
              <a:tblGrid>
                <a:gridCol w="3610080"/>
                <a:gridCol w="43545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), inside-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ment/de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+,  --, 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ltipl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, /, %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, -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, &gt;, &lt;=, &gt;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=, !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, +=, -=, *=, /=, %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33181499-BF85-4024-9E92-1B68D91D28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Output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1447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System.ou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 can output multiple lines of text to the standard output wind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A3663A7B-8D20-475D-B169-A058EF07E25F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4" descr="wu18847_0306"/>
          <p:cNvPicPr/>
          <p:nvPr/>
        </p:nvPicPr>
        <p:blipFill>
          <a:blip r:embed="rId1"/>
          <a:stretch/>
        </p:blipFill>
        <p:spPr>
          <a:xfrm>
            <a:off x="2362320" y="252252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1371600" y="5181480"/>
            <a:ext cx="7315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exact style of standard output window depends on the Java tool you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The println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137124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kip a 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75527B28-6211-4B07-B7C4-A5637BA7235F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1511280" y="1905120"/>
            <a:ext cx="6489360" cy="2042640"/>
            <a:chOff x="1511280" y="1905120"/>
            <a:chExt cx="6489360" cy="2042640"/>
          </a:xfrm>
        </p:grpSpPr>
        <p:sp>
          <p:nvSpPr>
            <p:cNvPr id="343" name="Rectangle 5"/>
            <p:cNvSpPr/>
            <p:nvPr/>
          </p:nvSpPr>
          <p:spPr>
            <a:xfrm>
              <a:off x="1511280" y="1905120"/>
              <a:ext cx="648936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9c2d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1672920" y="2115720"/>
              <a:ext cx="61635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cb084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Box 10"/>
          <p:cNvSpPr/>
          <p:nvPr/>
        </p:nvSpPr>
        <p:spPr>
          <a:xfrm>
            <a:off x="2362320" y="4648320"/>
            <a:ext cx="35049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21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put primitive data values, we use the Scanne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steps are needed to be able to use input primi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import the Scanner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MS PGothic"/>
              </a:rPr>
              <a:t>Step 2 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eclaring a reference variable of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canner read ;   //we named the object re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reating an instance of the 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read = new Scanner (System.in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 specific methods to enter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nt x = read.nextInt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914DDF46-9E52-4B24-9A8B-5CB46278CB49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dent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 sequence of characters that denotes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the space memory to be us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name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within a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alibri"/>
              </a:rPr>
              <a:t>Identifier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cannot begin with a digit (0 – 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may contain the letters a to z, A to Z, the digits 0 to 9, and the underscore symbol, _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paces or punctuation, except the underscore symbol, _, are allow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762120" y="434340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dentifiers in Java ar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case-sensitiv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 Thus, the identifiers my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nd mynumber, are seen as two different identifiers by the compil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BC81-ABC7-4F36-ADA2-7ABB2F194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3D4673F6-CD37-4210-ADC9-542EFEE492A5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04920" y="671400"/>
            <a:ext cx="84582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leng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leng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Wid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ngth i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dth i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a is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6F421916-FC7D-4A81-8DEC-4733CA7505C6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Common Scanne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440" y="15235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nner input = new Scanner 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Byt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 b = input.nextByt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Doubl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d = input.nextDoubl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Floa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 f = input.nextFloa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In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i = input.nextIn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Long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l = input.nextLong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Shor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 = input.nextShor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()                String str = input.nex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BF6143DE-9B88-4450-9763-CA2487D714FC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My be changed  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ll lower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apitalizing the first letter of each word in a multiword identifier, except for the first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Cannot be changed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l uppercase, separating words within a multiword identifier with the underscore symbol, 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998A-8D49-414C-92C9-BCB2F69CE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Dat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type defines what kinds of values a space memory is allowed to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values stored in the same space memory should be of the same data ty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constants and variables used in a Java program must be defined prior to their use in the progra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425B-4916-47E6-9097-3F218EF06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built-in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7549-E5DF-4B6B-836F-DBF24CD17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457200" y="1219320"/>
          <a:ext cx="85345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85345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8CE2-E0A2-455A-85B3-D46BE61AF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631880"/>
          <a:ext cx="8915400" cy="5226120"/>
        </p:xfrm>
        <a:graphic>
          <a:graphicData uri="http://schemas.openxmlformats.org/drawingml/2006/table">
            <a:tbl>
              <a:tblPr/>
              <a:tblGrid>
                <a:gridCol w="1076400"/>
                <a:gridCol w="1116000"/>
                <a:gridCol w="3578040"/>
                <a:gridCol w="3144960"/>
              </a:tblGrid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</a:tr>
              <a:tr h="5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value that is ei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 or fa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to 6553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 16-bit Unicode charac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to +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2768 to +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,147,483,648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,147,483,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,223,372,036,854,775,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9,223,372,036,854,775,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8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16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doub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/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the declaration is made, memory space is allocated to store the values of the declared variable or const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variable means allocating a space memory which state (value) may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constant means allocating a space memory which state (value) cannot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5F66-CD1B-488E-8240-4D0344E38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dataType const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br>
              <a:rPr sz="1800"/>
            </a:br>
            <a:r>
              <a:rPr b="0" lang="en-US" sz="20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AX               = 102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IN               = 12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AVG               = (MAX + MIN) / 2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4E9C-6795-4F47-A8A1-3354F9EE0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553080" y="273528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ese are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liter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5533920" y="419112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expres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4-02-09T08:06:58Z</dcterms:modified>
  <cp:revision>22</cp:revision>
  <dc:subject/>
  <dc:title>Introduction to JAVA</dc:title>
</cp:coreProperties>
</file>