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FAF8-EDAE-4758-9633-93C6A02E5C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B6AF-0D2A-4C3C-B989-4F9280CC2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ACCD-D4D7-462F-A675-4E37511E6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ABFC-F072-423C-A59E-7484DC9CB8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A0D7-A6FF-441E-9D46-9D3704D8F2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50C0-F238-4A91-B150-0838480992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11BE-F40C-4564-A1C8-D93BAA0E5F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18A-7DD3-4DE3-9749-DE6CCC3A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FAC-C3A1-4ED3-A197-749E54E0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DAF-5920-4154-B9AF-4F848A3A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800-1903-4365-89A0-C69686D1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1A56-5197-43EA-B95F-A95AEA68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87C9-3E5B-4EAC-B93A-0572BA0D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49CD-C2D5-4E11-AE8F-EFDF1E00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7E5-A37A-46A6-8E59-E6E29E4C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05A6-C082-4863-A61F-95E0FE08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415B-D4B7-47A7-AEDA-3D9E65B4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ECA7-2511-4C4F-A485-089C929C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C23-25EA-47FE-B057-F90252B4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CE82-D59D-462A-8689-63930C47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AD68-F270-46C3-A1B9-C41B1385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443C-686B-475B-ACF5-4B0684CB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FE71-F0DD-4D52-99DA-379469A6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C91B-0A43-4F4B-BFE4-259FBA5C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D97EC-9E81-4305-BEAF-FB251CD2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FDF8-AD00-4F77-9697-231E427B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4701-7F46-4F31-B1A1-E09175CE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9643-6AF0-490E-97BD-189F9831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085C-DA12-41B6-83A3-E79CE698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367-43DE-4830-B80A-893E35EC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A770C-C225-4A4B-A2FC-553BD063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C4F0-8CB7-44F5-8597-841E4849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780E-6583-4198-9ABD-5F880C14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B1CC1-33FB-4E96-BA48-596991BB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7184-8434-4DAE-A563-7049D0D4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1221-BEA9-4624-988C-7512A30F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66EB-F302-4503-88F2-B692FCB6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BA5A-FA1A-4650-9129-8C104C0F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6756-979B-477B-A0DC-ED777B88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0C7D-AD73-453B-9F7C-ACC3B0C9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0EC-0E73-4597-9649-E313C78E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CFA8-75F8-4ABA-B2F2-1E61DCE4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A52BB-3E2B-40D7-82CB-770260CC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45E6-3F45-4427-8FCE-2E2EA676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7F3E-CCB3-40F5-A806-6322AD4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39904-EE91-4A7E-A6D4-46DCC5A0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956F-C8B6-4868-9E20-C689018A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EF411-2614-4645-9C20-32C862A8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46C4-060A-48B3-84B1-6FF50F44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D0BB3-15A8-478D-B480-AE1385F8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A1775-379C-4881-B4AD-F4B7E0BE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788-4F98-4BB9-AAE2-385989D4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13835-A9D6-4386-B0CA-424E0B5D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27FAC-DF44-46F1-A9B9-BDAFEA2C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19D01-5A93-4344-9EC1-4AC848FD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FF866-93F0-45E8-92FD-67244AF0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90D4C-6C04-409A-848E-284F85D4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5D826-ECB1-4A6B-9D5C-83626DE5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0A364-BE3B-4EBC-9963-C1C264C7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EFB61-B8FC-41B3-A3F7-0372851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A3464-F92E-41CC-840D-A37353F1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20E3E-A62E-4BD0-8780-5A5FDA3F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133-3C8F-4031-A931-710C1C2F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C599-4ABC-41BD-8428-E4AB3156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3C4-460D-4292-B7B7-53AE1857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43B-29A1-4FD0-AEC0-A6DB2DD7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FDF-078B-437C-B5C3-1835E3F3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69C5-BC24-49EE-B9B6-2F02B48B405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3A94-56C4-40C4-A60A-CAAF0A55A2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7AAE-F6F7-4A54-ADBA-03ECFD0AA46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5896-9F2A-43BD-8DF1-253660C11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4B60DB7-5ECC-4CAF-944C-C519D805D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4A457C5-9375-4270-A29F-7B88A88DE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03799C6-8ECD-4E59-A5E1-6C0EB235ED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Fundamentals 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9AA7-200A-4B08-B1D9-38643FB47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ariable may be declar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             = 0.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=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5, y = 7, z = (x+y)*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out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2444-5DC7-4796-8FE6-C809E07D0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declara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904760"/>
            <a:ext cx="3886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ing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="Apple"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 ='*'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BA87-82FD-4A5A-9649-F73BE1214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tent Placeholder 8"/>
          <p:cNvSpPr/>
          <p:nvPr/>
        </p:nvSpPr>
        <p:spPr>
          <a:xfrm>
            <a:off x="4648320" y="1905120"/>
            <a:ext cx="4041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oolean decla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=fal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valid=tru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out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-Declare a variable of double type with initial value=0.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- Declare a constant of String type with initial value=“Good”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- Declare a variable of type string with initial value equals to the value of constant in 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Is the following names are valid ,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*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D21E-A021-47EE-9E78-2C3573024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58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pecial symbols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gnment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of opera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+ 5              // uses +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 + 5 – 4 * (5 – 3)     // uses +, -, *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Expres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can be combinations of variables and operators that result i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EE88E027-6130-4050-90D6-B635E223D4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5120" y="334800"/>
            <a:ext cx="6621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Groups of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5 different groups of oper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 / Decre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66046973-94E8-4C2D-AF0F-7413884E13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Java 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92B7956F-4F30-4C10-BF6E-776157D623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 (modulus 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Assignment Operator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1760" y="14479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table summarizes the arithmetic operators available in Ja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723065DB-CE92-4F7C-81E6-E9E1B094A8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ch3-2"/>
          <p:cNvPicPr/>
          <p:nvPr/>
        </p:nvPicPr>
        <p:blipFill>
          <a:blip r:embed="rId1"/>
          <a:stretch/>
        </p:blipFill>
        <p:spPr>
          <a:xfrm>
            <a:off x="990720" y="2743200"/>
            <a:ext cx="6858000" cy="25542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5"/>
          <p:cNvSpPr/>
          <p:nvPr/>
        </p:nvSpPr>
        <p:spPr>
          <a:xfrm>
            <a:off x="6629400" y="5459400"/>
            <a:ext cx="2317680" cy="743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an integer division where the fractional part is truncat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6"/>
          <p:cNvSpPr/>
          <p:nvPr/>
        </p:nvSpPr>
        <p:spPr>
          <a:xfrm>
            <a:off x="7086600" y="4267080"/>
            <a:ext cx="938160" cy="1198800"/>
          </a:xfrm>
          <a:custGeom>
            <a:avLst/>
            <a:gdLst>
              <a:gd name="textAreaLeft" fmla="*/ 0 w 938160"/>
              <a:gd name="textAreaRight" fmla="*/ 938520 w 93816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437" h="824">
                <a:moveTo>
                  <a:pt x="0" y="0"/>
                </a:moveTo>
                <a:lnTo>
                  <a:pt x="437" y="0"/>
                </a:lnTo>
                <a:lnTo>
                  <a:pt x="437" y="824"/>
                </a:lnTo>
              </a:path>
            </a:pathLst>
          </a:custGeom>
          <a:noFill/>
          <a:ln w="28440">
            <a:solidFill>
              <a:srgbClr val="99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3EF4CF2C-795E-4B94-AC38-316BC49E57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38080" y="1447920"/>
            <a:ext cx="7772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vision 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/ 3  gives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 / 3 gives 3.333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3276720"/>
            <a:ext cx="83059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we can se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we divide two integers we get an integer res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one or both operands is a floating-point value we get a floating-point 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Mod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747FECBD-F4B9-4471-9FCC-5248F1097C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762120" y="1447920"/>
            <a:ext cx="83818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tes the remainder when you divide two integer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3 gives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4 gives 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5 giv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10 gives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us operator is most commonly used with integer operands. If we attempt to use the modulus operator on  floating-point values we will garb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MS PGothic"/>
              </a:rPr>
              <a:t>Example: Sum of two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78AF2D6B-76A8-458E-BEE0-030BE31475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304920" y="139716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{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su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1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+ b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” + ”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b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“  = “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su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572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Programs and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programs require the temporary storage of data. The data to be processed is stored in a temporary storage in the computer's memory:  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space 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pace memory has three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Data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3FB3-024A-4280-8F1C-133473826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/Assignment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3D396257-69DA-4626-878D-280F99CBF8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allows combining arithmetic and assignment operators into a single opera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5880" y="0"/>
            <a:ext cx="7962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Calibri"/>
                <a:ea typeface="MS PGothic"/>
              </a:rPr>
              <a:t>Increment/Decrement Ope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BB7D4586-3715-4DB1-A8EB-4FF572D68C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762120" y="1523880"/>
            <a:ext cx="777240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ly use ++ or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en a variable is being incremented/decremented as a statement by itsel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+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--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Relation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operators compare two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Produc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lue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ls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the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133720" y="3048120"/>
          <a:ext cx="5029200" cy="3338280"/>
        </p:xfrm>
        <a:graphic>
          <a:graphicData uri="http://schemas.openxmlformats.org/drawingml/2006/table">
            <a:tbl>
              <a:tblPr/>
              <a:tblGrid>
                <a:gridCol w="1430280"/>
                <a:gridCol w="3598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true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=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is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!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not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0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7F0F1A35-FB8E-4EF1-B4FA-C46E671A6D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41436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y = 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x &gt; y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ssigned the value </a:t>
            </a:r>
            <a:r>
              <a:rPr b="0" lang="en-US" sz="32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3 is not greater tha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B0F8AC30-2424-471F-A67C-FC8F3A7926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Logic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90560" y="1904760"/>
            <a:ext cx="3771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mbol   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2968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72280" y="3984480"/>
          <a:ext cx="2662200" cy="1416240"/>
        </p:xfrm>
        <a:graphic>
          <a:graphicData uri="http://schemas.openxmlformats.org/drawingml/2006/table">
            <a:tbl>
              <a:tblPr/>
              <a:tblGrid>
                <a:gridCol w="887400"/>
                <a:gridCol w="887400"/>
                <a:gridCol w="8874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486080" y="3984480"/>
          <a:ext cx="2806560" cy="1416240"/>
        </p:xfrm>
        <a:graphic>
          <a:graphicData uri="http://schemas.openxmlformats.org/drawingml/2006/table">
            <a:tbl>
              <a:tblPr/>
              <a:tblGrid>
                <a:gridCol w="936360"/>
                <a:gridCol w="933480"/>
                <a:gridCol w="9367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DB2ABE64-EC16-4048-9F80-C5DAE298C6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176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ul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x &amp;&amp; y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(x || y) &amp;&amp; x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 || y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rue &amp;&amp; x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then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A63366B1-2796-4978-B3F8-0DA8DB5244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perators Prece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38080" y="1828800"/>
          <a:ext cx="7964640" cy="3657600"/>
        </p:xfrm>
        <a:graphic>
          <a:graphicData uri="http://schemas.openxmlformats.org/drawingml/2006/table">
            <a:tbl>
              <a:tblPr/>
              <a:tblGrid>
                <a:gridCol w="3610080"/>
                <a:gridCol w="43545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enth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), inside-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rement/dec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+,  --, 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ltipl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, /, %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, -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, &gt;, &lt;=, &gt;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=, !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|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, +=, -=, *=, /=, %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6E1DE600-864F-43AB-9C87-8E11F6CE15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Output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1447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System.ou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 can output multiple lines of text to the standard output wind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B2A2D9C6-3325-4B9B-B55A-56DCA32ED1E7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4" descr="wu18847_0306"/>
          <p:cNvPicPr/>
          <p:nvPr/>
        </p:nvPicPr>
        <p:blipFill>
          <a:blip r:embed="rId1"/>
          <a:stretch/>
        </p:blipFill>
        <p:spPr>
          <a:xfrm>
            <a:off x="2362320" y="2522520"/>
            <a:ext cx="4572000" cy="2278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1371600" y="5181480"/>
            <a:ext cx="7315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exact style of standard output window depends on the Java tool you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The println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120" y="1371240"/>
            <a:ext cx="8534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kip a l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4F497EDD-AC83-4661-8EA1-55663D4593F3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1511280" y="1905120"/>
            <a:ext cx="6489360" cy="2042640"/>
            <a:chOff x="1511280" y="1905120"/>
            <a:chExt cx="6489360" cy="2042640"/>
          </a:xfrm>
        </p:grpSpPr>
        <p:sp>
          <p:nvSpPr>
            <p:cNvPr id="343" name="Rectangle 5"/>
            <p:cNvSpPr/>
            <p:nvPr/>
          </p:nvSpPr>
          <p:spPr>
            <a:xfrm>
              <a:off x="1511280" y="1905120"/>
              <a:ext cx="6489360" cy="20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9c2d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1672920" y="2115720"/>
              <a:ext cx="61635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cb084"/>
                  </a:solidFill>
                  <a:latin typeface="Courier New"/>
                  <a:ea typeface="MS PGothic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x = 123, y = x + x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x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+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y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THE END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Box 10"/>
          <p:cNvSpPr/>
          <p:nvPr/>
        </p:nvSpPr>
        <p:spPr>
          <a:xfrm>
            <a:off x="2362320" y="4648320"/>
            <a:ext cx="350496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= 1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+ x = 2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62120" y="14475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put primitive data values, we use the Scanner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steps are needed to be able to use input primi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import the Scanner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MS PGothic"/>
              </a:rPr>
              <a:t>Step 2 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eclaring a reference variable of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Scanner read ;   //we named the object re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reating an instance of the 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read = new Scanner (System.in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 specific methods to enter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nt x = read.nextInt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E8116C77-23CA-4A55-AACA-0A57E6DEF518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dent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 sequence of characters that denotes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the space memory to be us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name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within a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alibri"/>
              </a:rPr>
              <a:t>Identifier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cannot begin with a digit (0 – 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may contain the letters a to z, A to Z, the digits 0 to 9, and the underscore symbol, _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paces or punctuation, except the underscore symbol, _, are allowed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762120" y="434340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dentifiers in Java ar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case-sensitiv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. Thus, the identifiers my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nd mynumber, are seen as two different identifiers by the compil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A856-F594-413F-85A6-971C07A75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369928E9-2321-4F29-B1DF-9F72DDF4CE9B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04920" y="671400"/>
            <a:ext cx="845820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java.util.Scann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TestInput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canner inpu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area ,length, widt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put =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Scanner (System.in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 creating an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leng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leng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leng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Wid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wid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wid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 = length * width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length is "+ leng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width is "+ wid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area is "+ are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Wid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ngth i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dth i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ea is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53BD0963-BC48-4720-8ABC-F5BA3B0F8955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Common Scanner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440" y="15235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anner input = new Scanner 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Byt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 b = input.nextByt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Doubl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d = input.nextDoubl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Floa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 f = input.nextFloa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In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i = input.nextIn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Long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l = input.nextLong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Shor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s = input.nextShor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()                String str = input.nex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EF9B3DFF-6EFB-4FE6-860A-014E6007125E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My be changed  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ll lowerca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apitalizing the first letter of each word in a multiword identifier, except for the first wor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Cannot be changed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ll uppercase, separating words within a multiword identifier with the underscore symbol, 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DFBF-7413-419D-8D89-26CA86C14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Data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type defines what kinds of values a space memory is allowed to st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values stored in the same space memory should be of the same data ty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constants and variables used in a Java program must be defined prior to their use in the progra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9B80-D402-443F-8411-A65642B6E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built-in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479D-838A-4A49-B7ED-7592D460E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457200" y="1219320"/>
          <a:ext cx="85345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19320"/>
                    <a:ext cx="85345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6D77-972F-43B3-BCE6-AC7291C0A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631880"/>
          <a:ext cx="8915400" cy="5226120"/>
        </p:xfrm>
        <a:graphic>
          <a:graphicData uri="http://schemas.openxmlformats.org/drawingml/2006/table">
            <a:tbl>
              <a:tblPr/>
              <a:tblGrid>
                <a:gridCol w="1076400"/>
                <a:gridCol w="1116000"/>
                <a:gridCol w="3578040"/>
                <a:gridCol w="3144960"/>
              </a:tblGrid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(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</a:tr>
              <a:tr h="5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value that is ei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 or fal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to 6553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 16-bit Unicode charac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to +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2768 to +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,147,483,648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2,147,483,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,223,372,036,854,775,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9,223,372,036,854,775,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8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16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doub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/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the declaration is made, memory space is allocated to store the values of the declared variable or const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variable means allocating a space memory which state (value) may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constant means allocating a space memory which state (value) cannot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B78C-9B1C-420C-AE3C-4E4E9B6C4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inal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dataType const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br>
              <a:rPr sz="1800"/>
            </a:br>
            <a:r>
              <a:rPr b="0" lang="en-US" sz="20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AX               = 1024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IN               = 12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AVG               = (MAX + MIN) / 2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DC3-3314-4F32-B7EC-03FC248C8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553080" y="273528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ese are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liter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5533920" y="419112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expres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4-02-09T08:06:58Z</dcterms:modified>
  <cp:revision>22</cp:revision>
  <dc:subject/>
  <dc:title>Introduction to JAVA</dc:title>
</cp:coreProperties>
</file>