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7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6.png" ContentType="image/png"/>
  <Override PartName="/ppt/media/image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dt" idx="1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ftr" idx="1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 type="sldNum" idx="1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F01B8-76AB-493E-AB74-2BEE66B4358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EA70B-0D12-4256-94CF-A4FCCF005F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A2AF9-0144-4969-8C08-2E9569E32E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6A06E-BE7E-4042-9EF2-2715B28DF17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7333D-44E5-41BB-B1AD-07168675346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D8340-5908-45BD-B4B4-6BDB3ED37E7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CD244-1EF0-483E-8288-A3C404BCE95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6118-2E5A-46C5-A038-680C4F4B1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7B05-C620-45C7-AB08-E339D9A52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B8AA-8E69-4D14-AE1B-BF9F894A4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7505-B861-4C40-8303-B484DFF53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48AE8-8F07-48C9-A882-CD5025942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5FA2C-D69C-428E-9551-13D062847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4A064-A0AB-45C1-9427-551A24D74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7D398-B56A-41D4-B4A7-6387A8889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B7675-F39B-4AD4-AE14-13EE3341E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EF55E-1B1E-4768-8992-8FCBDB73B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D6410-4F0D-4663-93CA-E80DE98A2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06E2-522C-4DFC-8403-D2F1B5FD3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79846-FF62-4011-A044-905BE2F9F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AD541-6803-4FEF-B317-5221C6889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56DA5-1B15-4D1F-9E88-BA38BD2BC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AA069-CBA2-4CBD-9C11-D8A82009A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2AC31-A06D-4DCC-ABC3-30C295653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39F58-B1C7-49AC-BAB3-0991E45EE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1DBD4-A92A-4DE2-A28C-B1355C3BB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CB238-9C30-4097-BF14-D675C5108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62836-33CA-4816-9862-E0B6E8201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5AACD-8768-40BB-B5FE-49D76F3D4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CCE1-72A2-4289-A436-A4A939FBD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D6702-A979-4FBD-8E81-5DB853F6E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72B10-EE12-44F4-995F-F27F9B890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7FD55-E66E-405D-B001-EF629E92C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73BFF-4908-41E2-90F1-7452C114B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1D141-3584-4778-97C0-0F116BF02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E5042-A7E6-4634-A03E-81A728FCF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87C74-0C7F-4958-AE16-4B1B2A20B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D49C7-0EE4-449E-A087-0499ECD9F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CDB26-20A1-45B0-8545-B2BC3FD8A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85638-A8D4-4D66-9CD5-C771C0E0E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5AC5-E284-4433-9B27-FF8D42694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4BA87-2500-4B44-9599-ECFD919BE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2F2F7-6BA1-4A71-BBEE-EC7EF9076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473A4-84AD-4C95-90F9-3BB08931E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AD3CC-B39A-4F88-9898-1C7B245A0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3EA38-6088-420F-88B5-3C0EF04AA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F702D6-55E4-4BDD-9757-743F63807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06A15-8C84-4C24-9469-856D9C3D5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A9309-D522-4B1E-8F97-937AD7F26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71847-528B-48FE-8377-632CFEABB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DF236D-3EA2-4B41-BBD3-79EF4E0D1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E95B-9716-4E17-ACF8-9F7D03707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8DCFCA-6B85-4D49-A240-D8D2ACA88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C0DB38-699E-4522-82B7-1B0F5914C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6A0DC0-56E1-485A-8268-7FFC499B9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EA4199-F973-4B17-8D96-9F7164A78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336B63-85BE-4BDE-BA9B-43EA59435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95BD83-A0F6-4761-9BEE-70A52C3D9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8BEDEA-9072-4843-976B-3B07638AB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D5CCBE-9BCF-4560-8C81-1EC62D0D0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9CB2AE-F6C9-40A0-9889-7D5A8AD13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A0A6E1-7E94-4269-9A2D-25D85AA1A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CAE0-E6AE-470B-996D-121DB5352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7D5957-4CA9-44A6-86BF-D5541FA55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D2E2-1E83-44BB-A36B-506550CD2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B15A-DD8B-4E4A-9C57-00625C5F3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5789-9233-498A-BB1E-DB1E6DCE0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8759E-AD56-4F7B-9589-363AE4B8495F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E0B76-F19B-4E90-AE39-D9594B8240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862AD-EE46-4E66-A8DE-5C5F6561EDF7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17F78-9FE9-454D-BFEF-0C0D7B0C18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C30A9560-8CFB-401C-9A07-0F21D0D733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A9F05238-F86B-4B0E-82DC-B00DB142EF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7222EFD9-C6DC-4470-84DD-4E97D3F36E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86000" y="2590920"/>
            <a:ext cx="457200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MS PGothic"/>
              </a:rPr>
              <a:t>Fundamentals 2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Picture 2" descr="http://www.arunimasoftware.com/images/blog/java.png"/>
          <p:cNvPicPr/>
          <p:nvPr/>
        </p:nvPicPr>
        <p:blipFill>
          <a:blip r:embed="rId1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sp>
        <p:nvSpPr>
          <p:cNvPr id="21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7BA9D-BB9B-4D4F-825E-6228B8F2CD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MS PGothic"/>
              </a:rPr>
              <a:t>Variable Decl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ariable may be declared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th initial valu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thout initial valu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declaration with initial valu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9676d"/>
                </a:solidFill>
                <a:latin typeface="Courier New"/>
              </a:rPr>
              <a:t>dataType variableIdentifier </a:t>
            </a:r>
            <a:r>
              <a:rPr b="1" i="1" lang="en-US" sz="1800" spc="-1" strike="noStrike">
                <a:solidFill>
                  <a:srgbClr val="69676d"/>
                </a:solidFill>
                <a:latin typeface="Courier New"/>
              </a:rPr>
              <a:t>=</a:t>
            </a:r>
            <a:r>
              <a:rPr b="1" lang="en-US" sz="1800" spc="-1" strike="noStrike">
                <a:solidFill>
                  <a:srgbClr val="69676d"/>
                </a:solidFill>
                <a:latin typeface="Courier New"/>
              </a:rPr>
              <a:t> literal | expression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avg             = 0.0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   i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= 1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 =5, y = 7, z = (x+y)*3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declaration without initial valu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9676d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69676d"/>
                </a:solidFill>
                <a:latin typeface="Courier New"/>
              </a:rPr>
              <a:t>dataType variableIdentifier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avg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   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967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BC5AF-3A3D-4FCF-8B6C-EF50D83340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ore declaration exam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6840" y="1904760"/>
            <a:ext cx="38862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tring declaratio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ith initial valu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ring word="Apple"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ithout initial valu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ring word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har declaratio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ith initial valu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har symbol ='*'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ithout initial valu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har symbol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A961B-460B-4167-B147-BCD420CBEF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Content Placeholder 8"/>
          <p:cNvSpPr/>
          <p:nvPr/>
        </p:nvSpPr>
        <p:spPr>
          <a:xfrm>
            <a:off x="4648320" y="1905120"/>
            <a:ext cx="4041720" cy="39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Boolean declara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ith initial valu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boolean flag=false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boolean valid=true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ithout initial valu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boolean flag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-Declare a variable of double type with initial value=0.0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- Declare a constant of String type with initial value=“Good”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- Declare a variable of type string with initial value equals to the value of constant in B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-Is the following names are valid , wh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udent  n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cour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urse*n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2337C-1A50-4D1C-A0D2-0FDA96EF0D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358920"/>
            <a:ext cx="77724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alibri"/>
                <a:ea typeface="MS PGothic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76212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967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76d"/>
                </a:solidFill>
                <a:latin typeface="Calibri"/>
              </a:rPr>
              <a:t>Operator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re special symbols used f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thematical func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signment state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gical comparis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s of operato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 + 5              // uses + oper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4 + 5 – 4 * (5 – 3)     // uses +, -, * operat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6967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76d"/>
                </a:solidFill>
                <a:latin typeface="Calibri"/>
              </a:rPr>
              <a:t>Expression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can be combinations of variables and operators that result in a val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Page </a:t>
            </a:r>
            <a:fld id="{0D75BC99-42BC-44E5-958A-7B0B16C29EB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25120" y="334800"/>
            <a:ext cx="66214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alibri"/>
                <a:ea typeface="MS PGothic"/>
              </a:rPr>
              <a:t>Groups of 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62120" y="15238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are 5 different groups of operator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ithmetic Op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ignment Op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ment / Decrement Op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lational Op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gical Op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Page </a:t>
            </a:r>
            <a:fld id="{ED799956-C615-4AD7-B553-FA231C4753D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alibri"/>
                <a:ea typeface="MS PGothic"/>
              </a:rPr>
              <a:t>Java Arithmetic 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Page </a:t>
            </a:r>
            <a:fld id="{87E965C9-77BC-4EA5-93FF-53713F9E80B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70102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i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btrac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ltiplica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vis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mainder (modulus 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Assignment Operator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alibri"/>
                <a:ea typeface="MS PGothic"/>
              </a:rPr>
              <a:t>Arithmetic 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761760" y="1447920"/>
            <a:ext cx="8001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ollowing table summarizes the arithmetic operators available in Jav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Page </a:t>
            </a:r>
            <a:fld id="{E8FF8BA2-7BDA-4206-871C-1834AACB272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3" name="Picture 2" descr="ch3-2"/>
          <p:cNvPicPr/>
          <p:nvPr/>
        </p:nvPicPr>
        <p:blipFill>
          <a:blip r:embed="rId1"/>
          <a:stretch/>
        </p:blipFill>
        <p:spPr>
          <a:xfrm>
            <a:off x="990720" y="2743200"/>
            <a:ext cx="6858000" cy="2554200"/>
          </a:xfrm>
          <a:prstGeom prst="rect">
            <a:avLst/>
          </a:prstGeom>
          <a:ln w="0">
            <a:noFill/>
          </a:ln>
        </p:spPr>
      </p:pic>
      <p:sp>
        <p:nvSpPr>
          <p:cNvPr id="274" name="AutoShape 5"/>
          <p:cNvSpPr/>
          <p:nvPr/>
        </p:nvSpPr>
        <p:spPr>
          <a:xfrm>
            <a:off x="6629400" y="5459400"/>
            <a:ext cx="2317680" cy="74304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  <a:effectLst>
            <a:outerShdw dist="89604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This is an integer division where the fractional part is truncated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Freeform 6"/>
          <p:cNvSpPr/>
          <p:nvPr/>
        </p:nvSpPr>
        <p:spPr>
          <a:xfrm>
            <a:off x="7086600" y="4267080"/>
            <a:ext cx="938160" cy="1198800"/>
          </a:xfrm>
          <a:custGeom>
            <a:avLst/>
            <a:gdLst>
              <a:gd name="textAreaLeft" fmla="*/ 0 w 938160"/>
              <a:gd name="textAreaRight" fmla="*/ 938520 w 938160"/>
              <a:gd name="textAreaTop" fmla="*/ 0 h 1198800"/>
              <a:gd name="textAreaBottom" fmla="*/ 1199160 h 1198800"/>
            </a:gdLst>
            <a:ahLst/>
            <a:rect l="textAreaLeft" t="textAreaTop" r="textAreaRight" b="textAreaBottom"/>
            <a:pathLst>
              <a:path w="437" h="824">
                <a:moveTo>
                  <a:pt x="0" y="0"/>
                </a:moveTo>
                <a:lnTo>
                  <a:pt x="437" y="0"/>
                </a:lnTo>
                <a:lnTo>
                  <a:pt x="437" y="824"/>
                </a:lnTo>
              </a:path>
            </a:pathLst>
          </a:custGeom>
          <a:noFill/>
          <a:ln w="28440">
            <a:solidFill>
              <a:srgbClr val="9900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alibri"/>
                <a:ea typeface="MS PGothic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Page </a:t>
            </a:r>
            <a:fld id="{4ED71491-7CDC-41F8-89AD-62E892F646A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Text Box 2"/>
          <p:cNvSpPr/>
          <p:nvPr/>
        </p:nvSpPr>
        <p:spPr>
          <a:xfrm>
            <a:off x="838080" y="1447920"/>
            <a:ext cx="7772400" cy="18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amp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f division 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 / 3  gives 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0 / 3 gives 3.3333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838080" y="3276720"/>
            <a:ext cx="8305920" cy="27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 we can see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if we divide two integers we get an integer resul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if one or both operands is a floating-point value we get a floating-point resul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alibri"/>
                <a:ea typeface="MS PGothic"/>
              </a:rPr>
              <a:t>Modul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Page </a:t>
            </a:r>
            <a:fld id="{E7F7717D-008D-453D-9A6C-18CA52F244B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Text Box 2"/>
          <p:cNvSpPr/>
          <p:nvPr/>
        </p:nvSpPr>
        <p:spPr>
          <a:xfrm>
            <a:off x="762120" y="1447920"/>
            <a:ext cx="838188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93296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enerates the remainder when you divide two integer valu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%3 gives 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%4 gives 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%5 giv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%10 gives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93296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ulus operator is most commonly used with integer operands. If we attempt to use the modulus operator on  floating-point values we will garbag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Comic Sans MS"/>
                <a:ea typeface="MS PGothic"/>
              </a:rPr>
              <a:t>Example: Sum of two integ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Page </a:t>
            </a:r>
            <a:fld id="{4FA776C0-59AC-4C21-853D-468D9B8428A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Text Box 2"/>
          <p:cNvSpPr/>
          <p:nvPr/>
        </p:nvSpPr>
        <p:spPr>
          <a:xfrm>
            <a:off x="304920" y="1397160"/>
            <a:ext cx="8229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  <a:ea typeface="Courier New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clas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um {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  <a:ea typeface="Courier New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ain meth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static 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 String args[] )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a, b, sum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 = 20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 = 10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um = a + b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</a:t>
            </a:r>
            <a:r>
              <a:rPr b="1" lang="en-US" sz="1800" spc="-1" strike="noStrike">
                <a:solidFill>
                  <a:srgbClr val="990033"/>
                </a:solidFill>
                <a:latin typeface="Courier New"/>
                <a:ea typeface="Courier New"/>
              </a:rPr>
              <a:t>a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+</a:t>
            </a:r>
            <a:r>
              <a:rPr b="1" lang="en-US" sz="1800" spc="-1" strike="noStrike">
                <a:solidFill>
                  <a:srgbClr val="990033"/>
                </a:solidFill>
                <a:latin typeface="Courier New"/>
                <a:ea typeface="Courier New"/>
              </a:rPr>
              <a:t> ” + ”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+</a:t>
            </a:r>
            <a:r>
              <a:rPr b="1" lang="en-US" sz="1800" spc="-1" strike="noStrike">
                <a:solidFill>
                  <a:srgbClr val="990033"/>
                </a:solidFill>
                <a:latin typeface="Courier New"/>
                <a:ea typeface="Courier New"/>
              </a:rPr>
              <a:t> b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+</a:t>
            </a:r>
            <a:r>
              <a:rPr b="1" lang="en-US" sz="1800" spc="-1" strike="noStrike">
                <a:solidFill>
                  <a:srgbClr val="990033"/>
                </a:solidFill>
                <a:latin typeface="Courier New"/>
                <a:ea typeface="Courier New"/>
              </a:rPr>
              <a:t> “  = “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+</a:t>
            </a:r>
            <a:r>
              <a:rPr b="1" lang="en-US" sz="1800" spc="-1" strike="noStrike">
                <a:solidFill>
                  <a:srgbClr val="990033"/>
                </a:solidFill>
                <a:latin typeface="Courier New"/>
                <a:ea typeface="Courier New"/>
              </a:rPr>
              <a:t> sum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  <a:ea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  <a:ea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Su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4572000" cy="1022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Calibri"/>
              </a:rPr>
              <a:t>Programs and Dat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773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st programs require the temporary storage of data. The data to be processed is stored in a temporary storage in the computer's memory:  </a:t>
            </a:r>
            <a:r>
              <a:rPr b="0" lang="en-US" sz="2400" spc="-1" strike="noStrike">
                <a:solidFill>
                  <a:srgbClr val="69676d"/>
                </a:solidFill>
                <a:latin typeface="Calibri"/>
              </a:rPr>
              <a:t>space memor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space memory has three characteristic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69676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76d"/>
                </a:solidFill>
                <a:latin typeface="Calibri"/>
              </a:rPr>
              <a:t>Identifi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69676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76d"/>
                </a:solidFill>
                <a:latin typeface="Calibri"/>
              </a:rPr>
              <a:t>Data Ty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69676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76d"/>
                </a:solidFill>
                <a:latin typeface="Calibri"/>
              </a:rPr>
              <a:t>St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07CB4-1915-4C16-B1A6-F05370496F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cc3300"/>
                </a:solidFill>
                <a:latin typeface="Calibri"/>
                <a:ea typeface="MS PGothic"/>
              </a:rPr>
              <a:t>Arithmetic/Assignment Oper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Page </a:t>
            </a:r>
            <a:fld id="{F3D02ADF-22CF-4749-9A8C-5CEEF762672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ava allows combining arithmetic and assignment operators into a single operato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ition/assignmen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=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btraction/assignmen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ltiplication/assignmen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vision/assignmen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/=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mainder/assignmen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%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75880" y="0"/>
            <a:ext cx="7962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cc3300"/>
                </a:solidFill>
                <a:latin typeface="Calibri"/>
                <a:ea typeface="MS PGothic"/>
              </a:rPr>
              <a:t>Increment/Decrement Operato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Page </a:t>
            </a:r>
            <a:fld id="{BC488083-4D81-4F80-9BD2-D88EE1B86E4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Text Box 3"/>
          <p:cNvSpPr/>
          <p:nvPr/>
        </p:nvSpPr>
        <p:spPr>
          <a:xfrm>
            <a:off x="762120" y="1523880"/>
            <a:ext cx="7772400" cy="32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nly use ++ or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when a variable is being incremented/decremented as a statement by itself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x++;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is equivalent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x = x+1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x--;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is equivalent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x = x-1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alibri"/>
                <a:ea typeface="MS PGothic"/>
              </a:rPr>
              <a:t>Relational 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lational operators compare two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Produce a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boole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value (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ru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alse)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pending on the relationshi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2133720" y="3048120"/>
          <a:ext cx="5029200" cy="3338280"/>
        </p:xfrm>
        <a:graphic>
          <a:graphicData uri="http://schemas.openxmlformats.org/drawingml/2006/table">
            <a:tbl>
              <a:tblPr/>
              <a:tblGrid>
                <a:gridCol w="1430280"/>
                <a:gridCol w="3598920"/>
              </a:tblGrid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true 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&gt;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greater than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&gt;=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greater than or equal to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==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is equal to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!=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not equal to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&lt;=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less than or equal to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&lt;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less than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</a:tr>
            </a:tbl>
          </a:graphicData>
        </a:graphic>
      </p:graphicFrame>
      <p:sp>
        <p:nvSpPr>
          <p:cNvPr id="305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Page </a:t>
            </a:r>
            <a:fld id="{7AA68EC9-A7ED-4FF3-B307-F52B9DC7670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480" y="414360"/>
            <a:ext cx="77724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alibri"/>
                <a:ea typeface="MS PGothic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 x = 3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 y = 5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olean </a:t>
            </a:r>
            <a:r>
              <a:rPr b="0" lang="en-US" sz="3200" spc="-1" strike="noStrike">
                <a:solidFill>
                  <a:srgbClr val="69676d"/>
                </a:solidFill>
                <a:latin typeface="Calibri"/>
              </a:rPr>
              <a:t>resul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69676d"/>
                </a:solidFill>
                <a:latin typeface="Calibri"/>
              </a:rPr>
              <a:t>resul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(x &gt; y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w </a:t>
            </a:r>
            <a:r>
              <a:rPr b="0" lang="en-US" sz="3200" spc="-1" strike="noStrike">
                <a:solidFill>
                  <a:srgbClr val="69676d"/>
                </a:solidFill>
                <a:latin typeface="Calibri"/>
              </a:rPr>
              <a:t>resul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assigned the value </a:t>
            </a:r>
            <a:r>
              <a:rPr b="0" lang="en-US" sz="3200" spc="-1" strike="noStrike">
                <a:solidFill>
                  <a:srgbClr val="cc3300"/>
                </a:solidFill>
                <a:latin typeface="Calibri"/>
              </a:rPr>
              <a:t>fals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cause 3 is not greater than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Page </a:t>
            </a:r>
            <a:fld id="{9B11D862-9348-433C-B3B1-E614AA66957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alibri"/>
                <a:ea typeface="MS PGothic"/>
              </a:rPr>
              <a:t>Logical 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590560" y="1904760"/>
            <a:ext cx="377172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ymbol    Na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76d"/>
                </a:solidFill>
                <a:latin typeface="Calibri"/>
              </a:rPr>
              <a:t>&amp;&amp;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76d"/>
                </a:solidFill>
                <a:latin typeface="Calibri"/>
              </a:rPr>
              <a:t>||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32968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69676d"/>
                </a:solidFill>
                <a:latin typeface="Calibri"/>
              </a:rPr>
              <a:t>!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5372280" y="3984480"/>
          <a:ext cx="2662200" cy="1416240"/>
        </p:xfrm>
        <a:graphic>
          <a:graphicData uri="http://schemas.openxmlformats.org/drawingml/2006/table">
            <a:tbl>
              <a:tblPr/>
              <a:tblGrid>
                <a:gridCol w="887400"/>
                <a:gridCol w="887400"/>
                <a:gridCol w="887400"/>
              </a:tblGrid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9676d"/>
                          </a:solidFill>
                          <a:latin typeface="Tahoma"/>
                        </a:rPr>
                        <a:t>||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33"/>
                          </a:solidFill>
                          <a:latin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33"/>
                          </a:solidFill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33"/>
                          </a:solidFill>
                          <a:latin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33"/>
                          </a:solidFill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6" name=""/>
          <p:cNvGraphicFramePr/>
          <p:nvPr/>
        </p:nvGraphicFramePr>
        <p:xfrm>
          <a:off x="1486080" y="3984480"/>
          <a:ext cx="2806560" cy="1416240"/>
        </p:xfrm>
        <a:graphic>
          <a:graphicData uri="http://schemas.openxmlformats.org/drawingml/2006/table">
            <a:tbl>
              <a:tblPr/>
              <a:tblGrid>
                <a:gridCol w="936360"/>
                <a:gridCol w="933480"/>
                <a:gridCol w="936720"/>
              </a:tblGrid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9676d"/>
                          </a:solidFill>
                          <a:latin typeface="Tahoma"/>
                        </a:rPr>
                        <a:t>&amp;&amp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33"/>
                          </a:solidFill>
                          <a:latin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33"/>
                          </a:solidFill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33"/>
                          </a:solidFill>
                          <a:latin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33"/>
                          </a:solidFill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7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Footer Placeholder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Page </a:t>
            </a:r>
            <a:fld id="{B3EE1DEB-4297-4C23-A434-2B77A8741E5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alibri"/>
                <a:ea typeface="MS PGothic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761760" y="1599840"/>
            <a:ext cx="6553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76d"/>
                </a:solidFill>
                <a:latin typeface="Calibri"/>
              </a:rPr>
              <a:t>boolea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x = </a:t>
            </a:r>
            <a:r>
              <a:rPr b="0" lang="en-US" sz="2800" spc="-1" strike="noStrike">
                <a:solidFill>
                  <a:srgbClr val="cc3300"/>
                </a:solidFill>
                <a:latin typeface="Calibri"/>
              </a:rPr>
              <a:t>tru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76d"/>
                </a:solidFill>
                <a:latin typeface="Calibri"/>
              </a:rPr>
              <a:t>boolea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y = </a:t>
            </a:r>
            <a:r>
              <a:rPr b="0" lang="en-US" sz="2800" spc="-1" strike="noStrike">
                <a:solidFill>
                  <a:srgbClr val="cc3300"/>
                </a:solidFill>
                <a:latin typeface="Calibri"/>
              </a:rPr>
              <a:t>fals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76d"/>
                </a:solidFill>
                <a:latin typeface="Calibri"/>
              </a:rPr>
              <a:t>boolea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resul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ult = (x &amp;&amp; y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ult is assigned the value </a:t>
            </a:r>
            <a:r>
              <a:rPr b="0" lang="en-US" sz="2800" spc="-1" strike="noStrike">
                <a:solidFill>
                  <a:srgbClr val="cc3300"/>
                </a:solidFill>
                <a:latin typeface="Calibri"/>
              </a:rPr>
              <a:t>fal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ult = ((x || y) &amp;&amp; x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x || y) evaluates to </a:t>
            </a:r>
            <a:r>
              <a:rPr b="0" lang="en-US" sz="2800" spc="-1" strike="noStrike">
                <a:solidFill>
                  <a:srgbClr val="cc3300"/>
                </a:solidFill>
                <a:latin typeface="Calibri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true &amp;&amp; x) evaluates to </a:t>
            </a:r>
            <a:r>
              <a:rPr b="0" lang="en-US" sz="2800" spc="-1" strike="noStrike">
                <a:solidFill>
                  <a:srgbClr val="cc3300"/>
                </a:solidFill>
                <a:latin typeface="Calibri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ult is then assigned the value </a:t>
            </a:r>
            <a:r>
              <a:rPr b="0" lang="en-US" sz="2800" spc="-1" strike="noStrike">
                <a:solidFill>
                  <a:srgbClr val="cc3300"/>
                </a:solidFill>
                <a:latin typeface="Calibri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Page </a:t>
            </a:r>
            <a:fld id="{84AFFB63-E4B0-4F14-8CDE-3F99AE8F3D0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Operators Preced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838080" y="1828800"/>
          <a:ext cx="7964640" cy="3657600"/>
        </p:xfrm>
        <a:graphic>
          <a:graphicData uri="http://schemas.openxmlformats.org/drawingml/2006/table">
            <a:tbl>
              <a:tblPr/>
              <a:tblGrid>
                <a:gridCol w="3610080"/>
                <a:gridCol w="435456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arenthe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), inside-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crement/decr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+,  --,  from left to righ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ultiplica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*, /, %, from left to righ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ddi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, -, from left to righ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&lt;, &gt;, &lt;=, &gt;=, from left to righ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qua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==, !=, from left to righ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ogical 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&amp;&amp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ogical 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||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sign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=, +=, -=, *=, /=, %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</a:tr>
            </a:tbl>
          </a:graphicData>
        </a:graphic>
      </p:graphicFrame>
      <p:sp>
        <p:nvSpPr>
          <p:cNvPr id="32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Page </a:t>
            </a:r>
            <a:fld id="{0855D003-9F36-4D68-9F55-0FF0E20BF19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MS PGothic"/>
              </a:rPr>
              <a:t>Standard Output Wind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1447920"/>
            <a:ext cx="815328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ing </a:t>
            </a:r>
            <a:r>
              <a:rPr b="1" lang="en-US" sz="3200" spc="-1" strike="noStrike">
                <a:solidFill>
                  <a:srgbClr val="cc3300"/>
                </a:solidFill>
                <a:latin typeface="Calibri"/>
              </a:rPr>
              <a:t>System.out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e can output multiple lines of text to the standard output window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76d"/>
                </a:solidFill>
                <a:latin typeface="Arial"/>
                <a:ea typeface="Arial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76d"/>
                </a:solidFill>
                <a:latin typeface="Arial"/>
                <a:ea typeface="Arial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76d"/>
                </a:solidFill>
                <a:latin typeface="Arial"/>
                <a:ea typeface="Arial"/>
              </a:rPr>
              <a:t>Page </a:t>
            </a:r>
            <a:fld id="{B5ABEDA7-7AC1-4C30-9C13-1814E3257390}" type="slidenum">
              <a:rPr b="0" lang="en-US" sz="1200" spc="-1" strike="noStrike">
                <a:solidFill>
                  <a:srgbClr val="69676d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5" name="Picture 4" descr="wu18847_0306"/>
          <p:cNvPicPr/>
          <p:nvPr/>
        </p:nvPicPr>
        <p:blipFill>
          <a:blip r:embed="rId1"/>
          <a:stretch/>
        </p:blipFill>
        <p:spPr>
          <a:xfrm>
            <a:off x="2362320" y="2522520"/>
            <a:ext cx="4572000" cy="227808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5"/>
          <p:cNvSpPr/>
          <p:nvPr/>
        </p:nvSpPr>
        <p:spPr>
          <a:xfrm>
            <a:off x="1371600" y="5181480"/>
            <a:ext cx="731520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The exact style of standard output window depends on the Java tool you u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MS PGothic"/>
              </a:rPr>
              <a:t>The println Meth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609120" y="1371240"/>
            <a:ext cx="853452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use </a:t>
            </a:r>
            <a:r>
              <a:rPr b="1" lang="en-US" sz="3200" spc="-1" strike="noStrike">
                <a:solidFill>
                  <a:srgbClr val="cc3300"/>
                </a:solidFill>
                <a:latin typeface="Calibri"/>
              </a:rPr>
              <a:t>printl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stead of </a:t>
            </a:r>
            <a:r>
              <a:rPr b="1" lang="en-US" sz="3200" spc="-1" strike="noStrike">
                <a:solidFill>
                  <a:srgbClr val="cc3300"/>
                </a:solidFill>
                <a:latin typeface="Calibri"/>
              </a:rPr>
              <a:t>prin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o skip a lin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76d"/>
                </a:solidFill>
                <a:latin typeface="Arial"/>
                <a:ea typeface="Arial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76d"/>
                </a:solidFill>
                <a:latin typeface="Arial"/>
                <a:ea typeface="Arial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76d"/>
                </a:solidFill>
                <a:latin typeface="Arial"/>
                <a:ea typeface="Arial"/>
              </a:rPr>
              <a:t>Page </a:t>
            </a:r>
            <a:fld id="{90F9B2FE-A080-4A49-9B1F-ED590D6DA8E0}" type="slidenum">
              <a:rPr b="0" lang="en-US" sz="1200" spc="-1" strike="noStrike">
                <a:solidFill>
                  <a:srgbClr val="69676d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2" name="Group 4"/>
          <p:cNvGrpSpPr/>
          <p:nvPr/>
        </p:nvGrpSpPr>
        <p:grpSpPr>
          <a:xfrm>
            <a:off x="1511280" y="1905120"/>
            <a:ext cx="6489360" cy="2042640"/>
            <a:chOff x="1511280" y="1905120"/>
            <a:chExt cx="6489360" cy="2042640"/>
          </a:xfrm>
        </p:grpSpPr>
        <p:sp>
          <p:nvSpPr>
            <p:cNvPr id="343" name="Rectangle 5"/>
            <p:cNvSpPr/>
            <p:nvPr/>
          </p:nvSpPr>
          <p:spPr>
            <a:xfrm>
              <a:off x="1511280" y="1905120"/>
              <a:ext cx="6489360" cy="204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9c2d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Text Box 6"/>
            <p:cNvSpPr/>
            <p:nvPr/>
          </p:nvSpPr>
          <p:spPr>
            <a:xfrm>
              <a:off x="1672920" y="2115720"/>
              <a:ext cx="616356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2" marL="228600">
                <a:lnSpc>
                  <a:spcPct val="100000"/>
                </a:lnSpc>
                <a:spcBef>
                  <a:spcPts val="2200"/>
                </a:spcBef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9cb084"/>
                  </a:solidFill>
                  <a:latin typeface="Courier New"/>
                  <a:ea typeface="MS PGothic"/>
                </a:rPr>
                <a:t>int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 x = 123, y = x + x;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lvl="2" marL="228600">
                <a:lnSpc>
                  <a:spcPct val="100000"/>
                </a:lnSpc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System.out.print( </a:t>
              </a:r>
              <a:r>
                <a:rPr b="0" lang="en-US" sz="1600" spc="-1" strike="noStrike">
                  <a:solidFill>
                    <a:srgbClr val="66ccff"/>
                  </a:solidFill>
                  <a:latin typeface="Courier New"/>
                  <a:ea typeface="MS PGothic"/>
                </a:rPr>
                <a:t>" x = “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 );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lvl="2" marL="228600">
                <a:lnSpc>
                  <a:spcPct val="100000"/>
                </a:lnSpc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System.out.println( x );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lvl="2" marL="228600">
                <a:lnSpc>
                  <a:spcPct val="100000"/>
                </a:lnSpc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System.out.print( </a:t>
              </a:r>
              <a:r>
                <a:rPr b="0" lang="en-US" sz="1600" spc="-1" strike="noStrike">
                  <a:solidFill>
                    <a:srgbClr val="66ccff"/>
                  </a:solidFill>
                  <a:latin typeface="Courier New"/>
                  <a:ea typeface="MS PGothic"/>
                </a:rPr>
                <a:t>" x + x = “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 );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lvl="2" marL="228600">
                <a:lnSpc>
                  <a:spcPct val="100000"/>
                </a:lnSpc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System.out.println( y );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lvl="2" marL="228600">
                <a:lnSpc>
                  <a:spcPct val="100000"/>
                </a:lnSpc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System.out.println( </a:t>
              </a:r>
              <a:r>
                <a:rPr b="0" lang="en-US" sz="1600" spc="-1" strike="noStrike">
                  <a:solidFill>
                    <a:srgbClr val="66ccff"/>
                  </a:solidFill>
                  <a:latin typeface="Courier New"/>
                  <a:ea typeface="MS PGothic"/>
                </a:rPr>
                <a:t>" THE END“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 );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5" name="TextBox 10"/>
          <p:cNvSpPr/>
          <p:nvPr/>
        </p:nvSpPr>
        <p:spPr>
          <a:xfrm>
            <a:off x="2362320" y="4648320"/>
            <a:ext cx="3504960" cy="1191240"/>
          </a:xfrm>
          <a:prstGeom prst="rect">
            <a:avLst/>
          </a:prstGeom>
          <a:solidFill>
            <a:srgbClr val="ffffff"/>
          </a:solidFill>
          <a:ln w="1908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= 12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+ x = 24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440" y="76320"/>
            <a:ext cx="6870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MS PGothic"/>
              </a:rPr>
              <a:t>Standard Inp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762120" y="1447560"/>
            <a:ext cx="8076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input primitive data values, we use the Scanner clas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 steps are needed to be able to use input primitiv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Step 1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import the Scanner clas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PGothic"/>
              </a:rPr>
              <a:t>import Java.util.Scanner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  <a:ea typeface="MS PGothic"/>
              </a:rPr>
              <a:t>Step 2 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 declaring a reference variable of 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Scann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PGothic"/>
              </a:rPr>
              <a:t>Scanner read ;   //we named the object rea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Step 3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reating an instance of the Scann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PGothic"/>
              </a:rPr>
              <a:t>read = new Scanner (System.in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Step 4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use specific methods to enter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PGothic"/>
              </a:rPr>
              <a:t>int x = read.nextInt(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76d"/>
                </a:solidFill>
                <a:latin typeface="Arial"/>
                <a:ea typeface="Arial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76d"/>
                </a:solidFill>
                <a:latin typeface="Arial"/>
                <a:ea typeface="Arial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76d"/>
                </a:solidFill>
                <a:latin typeface="Arial"/>
                <a:ea typeface="Arial"/>
              </a:rPr>
              <a:t>Page </a:t>
            </a:r>
            <a:fld id="{E0111665-902D-4A99-991D-B3664020FEAC}" type="slidenum">
              <a:rPr b="0" lang="en-US" sz="1200" spc="-1" strike="noStrike">
                <a:solidFill>
                  <a:srgbClr val="69676d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Identifi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9"/>
          <p:cNvSpPr/>
          <p:nvPr/>
        </p:nvSpPr>
        <p:spPr>
          <a:xfrm>
            <a:off x="457200" y="1219320"/>
            <a:ext cx="8381880" cy="2895480"/>
          </a:xfrm>
          <a:prstGeom prst="rect">
            <a:avLst/>
          </a:prstGeom>
          <a:solidFill>
            <a:srgbClr val="ffffff"/>
          </a:solidFill>
          <a:ln w="190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s a sequence of characters that denotes th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of the space memory to be used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his name is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  <a:ea typeface="Arial"/>
              </a:rPr>
              <a:t>uniqu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within a progra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Calibri"/>
              </a:rPr>
              <a:t>Identifier Ru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6967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t cannot begin with a digit (0 – 9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6967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t may contain the letters a to z, A to Z, the digits 0 to 9, and the underscore symbol, _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6967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No spaces or punctuation, except the underscore symbol, _, are allowed.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extBox 10"/>
          <p:cNvSpPr/>
          <p:nvPr/>
        </p:nvSpPr>
        <p:spPr>
          <a:xfrm>
            <a:off x="762120" y="4343400"/>
            <a:ext cx="7848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Identifiers in Java are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case-sensitiv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. Thus, the identifiers myNumbe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63680" indent="-4636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nd mynumber, are seen as two different identifiers by the compile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1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A305C-5D21-4754-A278-E957C090AC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040" y="152280"/>
            <a:ext cx="6870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MS PGothic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76d"/>
                </a:solidFill>
                <a:latin typeface="Arial"/>
                <a:ea typeface="Arial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76d"/>
                </a:solidFill>
                <a:latin typeface="Arial"/>
                <a:ea typeface="Arial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76d"/>
                </a:solidFill>
                <a:latin typeface="Arial"/>
                <a:ea typeface="Arial"/>
              </a:rPr>
              <a:t>Page </a:t>
            </a:r>
            <a:fld id="{174FC4E6-C2C3-4CB9-A9B2-0B140B32CC43}" type="slidenum">
              <a:rPr b="0" lang="en-US" sz="1200" spc="-1" strike="noStrike">
                <a:solidFill>
                  <a:srgbClr val="69676d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TextBox 8"/>
          <p:cNvSpPr/>
          <p:nvPr/>
        </p:nvSpPr>
        <p:spPr>
          <a:xfrm>
            <a:off x="304920" y="671400"/>
            <a:ext cx="8458200" cy="61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Tahoma"/>
                <a:ea typeface="Arial"/>
              </a:rPr>
              <a:t>impor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 java.util.Scanner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Tahoma"/>
                <a:ea typeface="Arial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US" sz="1800" spc="-1" strike="noStrike">
                <a:solidFill>
                  <a:srgbClr val="0070c0"/>
                </a:solidFill>
                <a:latin typeface="Tahoma"/>
                <a:ea typeface="Arial"/>
              </a:rPr>
              <a:t>clas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 TestInput 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Tahoma"/>
                <a:ea typeface="Arial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US" sz="1800" spc="-1" strike="noStrike">
                <a:solidFill>
                  <a:srgbClr val="0070c0"/>
                </a:solidFill>
                <a:latin typeface="Tahoma"/>
                <a:ea typeface="Arial"/>
              </a:rPr>
              <a:t>static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US" sz="1800" spc="-1" strike="noStrike">
                <a:solidFill>
                  <a:srgbClr val="0070c0"/>
                </a:solidFill>
                <a:latin typeface="Tahoma"/>
                <a:ea typeface="Arial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 main(String[] args) 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Scanner input 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   </a:t>
            </a:r>
            <a:r>
              <a:rPr b="0" lang="en-US" sz="1800" spc="-1" strike="noStrike">
                <a:solidFill>
                  <a:srgbClr val="0070c0"/>
                </a:solidFill>
                <a:latin typeface="Tahoma"/>
                <a:ea typeface="Arial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 area ,length, width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input = </a:t>
            </a:r>
            <a:r>
              <a:rPr b="0" lang="en-US" sz="1800" spc="-1" strike="noStrike">
                <a:solidFill>
                  <a:srgbClr val="0070c0"/>
                </a:solidFill>
                <a:latin typeface="Tahoma"/>
                <a:ea typeface="Arial"/>
              </a:rPr>
              <a:t>new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 Scanner (System.in); </a:t>
            </a:r>
            <a:r>
              <a:rPr b="0" lang="en-US" sz="1800" spc="-1" strike="noStrike">
                <a:solidFill>
                  <a:srgbClr val="00b050"/>
                </a:solidFill>
                <a:latin typeface="Tahoma"/>
                <a:ea typeface="Arial"/>
              </a:rPr>
              <a:t>// creating an inst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System.out.println("enter the length "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length = input.nextInt(); </a:t>
            </a:r>
            <a:r>
              <a:rPr b="0" lang="en-US" sz="1800" spc="-1" strike="noStrike">
                <a:solidFill>
                  <a:srgbClr val="00b050"/>
                </a:solidFill>
                <a:latin typeface="Tahoma"/>
                <a:ea typeface="Arial"/>
              </a:rPr>
              <a:t>//reading the length from the keyboar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System.out.println("Enter the Width "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width = input.nextInt(); </a:t>
            </a:r>
            <a:r>
              <a:rPr b="0" lang="en-US" sz="1800" spc="-1" strike="noStrike">
                <a:solidFill>
                  <a:srgbClr val="00b050"/>
                </a:solidFill>
                <a:latin typeface="Tahoma"/>
                <a:ea typeface="Arial"/>
              </a:rPr>
              <a:t>//reading the width from the keyboar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area = length * width 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System.out.println("the length is "+ length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System.out.println("the width is "+ width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System.out.println("the area is "+ area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utp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er the leng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er the Widt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length is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width is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rea is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76d"/>
                </a:solidFill>
                <a:latin typeface="Arial"/>
                <a:ea typeface="Arial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76d"/>
                </a:solidFill>
                <a:latin typeface="Arial"/>
                <a:ea typeface="Arial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76d"/>
                </a:solidFill>
                <a:latin typeface="Arial"/>
                <a:ea typeface="Arial"/>
              </a:rPr>
              <a:t>Page </a:t>
            </a:r>
            <a:fld id="{1856097F-0650-40D7-8229-A626D7497F5F}" type="slidenum">
              <a:rPr b="0" lang="en-US" sz="1200" spc="-1" strike="noStrike">
                <a:solidFill>
                  <a:srgbClr val="69676d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33160" y="759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MS PGothic"/>
              </a:rPr>
              <a:t>Common Scanner Metho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85440" y="1523520"/>
            <a:ext cx="8991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ethod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canner input = new Scanner (System.in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xtByte( 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yte b = input.nextByte( 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xtDouble( 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uble d = input.nextDouble( 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xtFloat( 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loat f = input.nextFloat( 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xtInt( 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 i = input.nextInt( 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xtLong( 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ng l = input.nextLong( 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xtShort( 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ort s = input.nextShort( 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xt()                String str = input.next(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76d"/>
                </a:solidFill>
                <a:latin typeface="Arial"/>
                <a:ea typeface="Arial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76d"/>
                </a:solidFill>
                <a:latin typeface="Arial"/>
                <a:ea typeface="Arial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76d"/>
                </a:solidFill>
                <a:latin typeface="Arial"/>
                <a:ea typeface="Arial"/>
              </a:rPr>
              <a:t>Page </a:t>
            </a:r>
            <a:fld id="{B9BFF942-8D84-43D2-BD23-FCBC1F7EF128}" type="slidenum">
              <a:rPr b="0" lang="en-US" sz="1200" spc="-1" strike="noStrike">
                <a:solidFill>
                  <a:srgbClr val="69676d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St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457200" y="1219320"/>
            <a:ext cx="8381880" cy="2895480"/>
          </a:xfrm>
          <a:prstGeom prst="rect">
            <a:avLst/>
          </a:prstGeom>
          <a:solidFill>
            <a:srgbClr val="ffffff"/>
          </a:solidFill>
          <a:ln w="190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0000"/>
                </a:solidFill>
                <a:latin typeface="Calibri"/>
              </a:rPr>
              <a:t>My be changed    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69676d"/>
                </a:solidFill>
                <a:latin typeface="Calibri"/>
              </a:rPr>
              <a:t>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ll lowercas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apitalizing the first letter of each word in a multiword identifier, except for the first word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0000"/>
                </a:solidFill>
                <a:latin typeface="Calibri"/>
              </a:rPr>
              <a:t>Cannot be changed  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69676d"/>
                </a:solidFill>
                <a:latin typeface="Calibri"/>
              </a:rPr>
              <a:t> consta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All uppercase, separating words within a multiword identifier with the underscore symbol, _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1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53A53-B208-4FDA-9F96-6237A81D62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Data 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9"/>
          <p:cNvSpPr/>
          <p:nvPr/>
        </p:nvSpPr>
        <p:spPr>
          <a:xfrm>
            <a:off x="457200" y="1219320"/>
            <a:ext cx="8381880" cy="2895480"/>
          </a:xfrm>
          <a:prstGeom prst="rect">
            <a:avLst/>
          </a:prstGeom>
          <a:solidFill>
            <a:srgbClr val="ffffff"/>
          </a:solidFill>
          <a:ln w="190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data type defines what kinds of values a space memory is allowed to stor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l values stored in the same space memory should be of the same data typ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l constants and variables used in a Java program must be defined prior to their use in the program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1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F1752-1BE7-4C70-B17F-0A78300478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Java built-in Data Ty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1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29428-DBBF-42C7-A9CB-898158F234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0" name="Object 5"/>
          <p:cNvGraphicFramePr/>
          <p:nvPr/>
        </p:nvGraphicFramePr>
        <p:xfrm>
          <a:off x="457200" y="1219320"/>
          <a:ext cx="8534520" cy="4684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1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219320"/>
                    <a:ext cx="8534520" cy="46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rimitive Data Ty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C8D2E-2D7B-41C7-9AC3-C4E28CBCCA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0" y="1631880"/>
          <a:ext cx="8915400" cy="5226120"/>
        </p:xfrm>
        <a:graphic>
          <a:graphicData uri="http://schemas.openxmlformats.org/drawingml/2006/table">
            <a:tbl>
              <a:tblPr/>
              <a:tblGrid>
                <a:gridCol w="1076400"/>
                <a:gridCol w="1116000"/>
                <a:gridCol w="3578040"/>
                <a:gridCol w="3144960"/>
              </a:tblGrid>
              <a:tr h="5875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720">
                      <a:solidFill>
                        <a:srgbClr val="cccc99"/>
                      </a:solidFill>
                    </a:lnR>
                    <a:lnT>
                      <a:noFill/>
                    </a:lnT>
                    <a:lnB w="720">
                      <a:solidFill>
                        <a:srgbClr val="cccc99"/>
                      </a:solidFill>
                    </a:lnB>
                    <a:solidFill>
                      <a:srgbClr val="375b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ize (bit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>
                      <a:noFill/>
                    </a:lnT>
                    <a:lnB w="720">
                      <a:solidFill>
                        <a:srgbClr val="cccc99"/>
                      </a:solidFill>
                    </a:lnB>
                    <a:solidFill>
                      <a:srgbClr val="375b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an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>
                      <a:noFill/>
                    </a:lnT>
                    <a:lnB w="720">
                      <a:solidFill>
                        <a:srgbClr val="cccc99"/>
                      </a:solidFill>
                    </a:lnB>
                    <a:solidFill>
                      <a:srgbClr val="375b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scri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>
                      <a:noFill/>
                    </a:lnT>
                    <a:lnB w="720">
                      <a:solidFill>
                        <a:srgbClr val="cccc99"/>
                      </a:solidFill>
                    </a:lnB>
                    <a:solidFill>
                      <a:srgbClr val="375bb0"/>
                    </a:solidFill>
                  </a:tcPr>
                </a:tc>
              </a:tr>
              <a:tr h="587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oole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ue, 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ores a value that is eith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ue or fals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h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 to 65535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ores a single 16-bit Unicode characte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y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128 to +1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ores an intege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</a:tr>
              <a:tr h="40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h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2768 to +327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ores an intege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 b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2,147,483,648 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+2,147,483,6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ores an intege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</a:tr>
              <a:tr h="834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 b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9,223,372,036,854,775,8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+9,223,372,036,854,775,8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ores an intege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</a:tr>
              <a:tr h="598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lo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 b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ccurate to 8 significant dig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ores a single-preci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loating point numbe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u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 b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ccurate to 16 significant dig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ores a double-preci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loating point numbe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MS PGothic"/>
              </a:rPr>
              <a:t>Variable/Constant Decl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en the declaration is made, memory space is allocated to store the values of the declared variable or consta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declaration of a variable means allocating a space memory which state (value) may chang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declaration of a constant means allocating a space memory which state (value) cannot chang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58C37-9C3B-4170-A769-8A96AA481D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stant Decl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final</a:t>
            </a:r>
            <a:r>
              <a:rPr b="1" lang="en-US" sz="1800" spc="-1" strike="noStrike">
                <a:solidFill>
                  <a:srgbClr val="69676d"/>
                </a:solidFill>
                <a:latin typeface="Courier New"/>
              </a:rPr>
              <a:t> dataType constIdentifier </a:t>
            </a:r>
            <a:r>
              <a:rPr b="1" i="1" lang="en-US" sz="1800" spc="-1" strike="noStrike">
                <a:solidFill>
                  <a:srgbClr val="69676d"/>
                </a:solidFill>
                <a:latin typeface="Courier New"/>
              </a:rPr>
              <a:t>=</a:t>
            </a:r>
            <a:r>
              <a:rPr b="1" lang="en-US" sz="1800" spc="-1" strike="noStrike">
                <a:solidFill>
                  <a:srgbClr val="69676d"/>
                </a:solidFill>
                <a:latin typeface="Courier New"/>
              </a:rPr>
              <a:t> literal | expression;</a:t>
            </a:r>
            <a:br>
              <a:rPr sz="1800"/>
            </a:br>
            <a:r>
              <a:rPr b="0" lang="en-US" sz="2000" spc="-1" strike="noStrike">
                <a:solidFill>
                  <a:srgbClr val="7f7f7f"/>
                </a:solidFill>
                <a:latin typeface="Courier New"/>
              </a:rPr>
              <a:t>	</a:t>
            </a:r>
            <a:r>
              <a:rPr b="0" lang="en-US" sz="100" spc="-1" strike="noStrike">
                <a:solidFill>
                  <a:srgbClr val="7f7f7f"/>
                </a:solidFill>
                <a:latin typeface="Courier New"/>
              </a:rPr>
              <a:t>	</a:t>
            </a:r>
            <a:r>
              <a:rPr b="0" lang="en-US" sz="100" spc="-1" strike="noStrike">
                <a:solidFill>
                  <a:srgbClr val="7f7f7f"/>
                </a:solidFill>
                <a:latin typeface="Courier New"/>
              </a:rPr>
              <a:t>	</a:t>
            </a:r>
            <a:r>
              <a:rPr b="0" lang="en-US" sz="100" spc="-1" strike="noStrike">
                <a:solidFill>
                  <a:srgbClr val="7f7f7f"/>
                </a:solidFill>
                <a:latin typeface="Courier New"/>
              </a:rPr>
              <a:t>	</a:t>
            </a:r>
            <a:r>
              <a:rPr b="0" lang="en-US" sz="100" spc="-1" strike="noStrike">
                <a:solidFill>
                  <a:srgbClr val="7f7f7f"/>
                </a:solidFill>
                <a:latin typeface="Courier New"/>
              </a:rPr>
              <a:t>	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nt MAX               = 1024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nt MIN               = 128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nt AVG               = (MAX + MIN) / 2;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EFE5E-B8B4-445D-BCBD-3020F1F1EF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AutoShape 9"/>
          <p:cNvSpPr/>
          <p:nvPr/>
        </p:nvSpPr>
        <p:spPr>
          <a:xfrm>
            <a:off x="6553080" y="2735280"/>
            <a:ext cx="1927440" cy="71424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  <a:effectLst>
            <a:outerShdw dist="89604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These are called </a:t>
            </a:r>
            <a:r>
              <a:rPr b="0" i="1" lang="en-US" sz="1400" spc="-1" strike="noStrike">
                <a:solidFill>
                  <a:srgbClr val="c1051b"/>
                </a:solidFill>
                <a:latin typeface="Calibri"/>
                <a:ea typeface="MS PGothic"/>
              </a:rPr>
              <a:t>literal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AutoShape 14"/>
          <p:cNvSpPr/>
          <p:nvPr/>
        </p:nvSpPr>
        <p:spPr>
          <a:xfrm>
            <a:off x="5533920" y="4191120"/>
            <a:ext cx="1927440" cy="71424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  <a:effectLst>
            <a:outerShdw dist="89604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This is called </a:t>
            </a:r>
            <a:r>
              <a:rPr b="0" i="1" lang="en-US" sz="1400" spc="-1" strike="noStrike">
                <a:solidFill>
                  <a:srgbClr val="c1051b"/>
                </a:solidFill>
                <a:latin typeface="Calibri"/>
                <a:ea typeface="MS PGothic"/>
              </a:rPr>
              <a:t>expression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9T16:42:03Z</dcterms:created>
  <dc:creator>NOUF</dc:creator>
  <dc:description/>
  <dc:language>en-US</dc:language>
  <cp:lastModifiedBy>Nouf</cp:lastModifiedBy>
  <dcterms:modified xsi:type="dcterms:W3CDTF">2014-02-09T08:06:58Z</dcterms:modified>
  <cp:revision>22</cp:revision>
  <dc:subject/>
  <dc:title>Introduction to JAVA</dc:title>
</cp:coreProperties>
</file>