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4C9A-D618-4C66-BB9E-273DB46F4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867D-890E-42A7-B137-3DFE95EC2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D51C-958A-4BE9-87CC-F99B8BF9F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For every instruction, a processor repeats a set of four basic opera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Fetch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obtaining a program instruction or data item from mem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Decod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translating the instruction into signals the computer can exec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Execut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carrying out the comma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Stor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, if necessary. Means writing the result to </a:t>
            </a:r>
            <a:r>
              <a:rPr b="0" i="1" lang="en-US" sz="1200" spc="-1" strike="noStrike">
                <a:solidFill>
                  <a:srgbClr val="000000"/>
                </a:solidFill>
                <a:latin typeface="Tw Cen MT Condensed"/>
              </a:rPr>
              <a:t>memory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9C23-3D38-4FC7-915C-9C47FA44F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0E53-2F1F-49AD-9DFD-8E8E878DE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cessing actions occur at each “tick” of the electronic 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Speed of the clock determines the speed at which the CPU can process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faster  the clock speed, the more instruction the processor can execute per second (hertz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CEBE-C679-464B-80AC-A9852A869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0E45-E0AB-403D-8797-4891D72D5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9D55-7489-4385-937A-9E9F51141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y often identify their processor chip by a model name or model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Other leading processor chip manufactur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ransm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IB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Motorol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IBM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or had a   different design from the Intel-style process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12E3-70C1-4201-AFD7-5B25A9328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057E-9035-4558-9391-6AD6AFB5F1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EA62-F4C2-4BED-A1F9-CC18F8083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AC37-C9A7-4F2B-8C5D-CFD1453CF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D637-8438-4618-B4D1-9D1E52B2A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7A7E-32A3-4434-8324-996C83DCD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E54D-339D-4D29-B1F4-10384EAE6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22B3-9F8F-4B63-877E-5F96EE63E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C0AB-FEFA-49CC-B7D8-9E9B61996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AB76-91F6-476F-AF02-6977484C7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Processor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interprets &amp; carries out the basic instructions that operate a compu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Memory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holds data waiting to be processed &amp; instruction waiting to be execu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cessor &amp; Memory are connected to a circuit board called the </a:t>
            </a: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mother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Adapter cards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are circuit boards that provide connections and functions not built into the mother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evices outside the system unit often attach to the </a:t>
            </a: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po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A drive bay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holds one or more disk dr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The Power supply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vide the computer with the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00B6-E42B-4B83-8813-1D363720C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Many electronic components attach to the motherboard, others are built into it. Ex: adapter cards, a processor chip and a memory mod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234A-7B28-4052-80DC-1EFD91B73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d94439"/>
                </a:solidFill>
                <a:latin typeface="Times New Roman"/>
              </a:rPr>
              <a:t>dual-core process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a single chip that contains tw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parate proces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d94439"/>
                </a:solidFill>
                <a:latin typeface="Times New Roman"/>
              </a:rPr>
              <a:t>multi-core process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a chip with two or mor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parate proces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ach processor on a dual-core/multi-core chip generall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uns at a slower clock speed, but increase overall perform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893D-13B3-40C4-9EAC-B67AE46A7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operations typically performed by a CPU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reading of programs and input fi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Its activates input unit to read program and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Controls the transmission of program &amp; data files from disk to main mem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process data according to instructions in a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ata can be processed arithmetically- number can be added, subtracted, multiplied and di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Logical tests can be performed on data. E.g., compari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ata can be transmitted or copied from one area of primary storag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creation of outp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3C9F-125C-4D07-90BA-971EC3813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AE1E-499F-4162-A97E-04CA01804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693B-DAEF-4BCC-B996-DA56D2C0FDD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EE7554-55D3-4C0B-BE97-E2244A6F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DF0DFF-C4BD-40EB-993C-D8A87AD9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9FD090-9EF3-4577-B837-B1874947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C6E299-316E-4100-A785-D717426B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E770BA-6E25-4C8C-956E-C0B54A83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565CCB-F6B0-46C1-83C4-41BB7B59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310654-C691-477E-95BC-5EAD98FF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C71C73-3401-438D-B04F-8737A225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88F8CB-9718-4D78-9E34-DF4B19A8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8E1EA1-E35F-401A-9571-A45E6888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6429-211F-41E4-8569-A2B3A2B0C7E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07C4F8-8473-4899-9AC1-F9818E1A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4B3E3E-C8BD-423D-9A52-56767583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A430CD-DCC9-4DB5-B83F-F04A5DB5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83391A-4ABA-4966-88C7-66FD9A08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3A0283-F067-45CB-AA4A-C7E70B69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6FBC34-FDA5-46C6-8C2A-61100C07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335F43-C8E4-4646-BC89-CDF66003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0C0224-EFCC-4F94-94F9-736E6A50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293715-1226-4F84-B6B2-6418230B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5F9D7D-BCD1-46AC-A6A3-A91F537D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C9D5-2FFA-4DC1-BDAF-410F29A0039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11C203-C3B1-44C1-B7D5-F9D1FE69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B07208-D603-42B8-A7CE-38780568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72CC32-64F4-4832-8176-CB4291E5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00AAD6-46C3-456E-B0EA-88849AA5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707D89-642A-44E5-A668-6AA81079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C62F56-9FD6-4825-8F06-F8FBE5BB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2F0FE4-AE44-47AC-9053-4891FC98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A3FDBA-9F15-41C4-9780-D91CC86D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DF591E-E8D5-4D06-A81A-7769B8D3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AAF098-D367-437D-8384-2E25ED9C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2D4648-9B5D-4DFA-A8D9-B0B1DE62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EB2C23-AC82-4DE0-9B33-E597B29F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658486-544D-4C01-B183-F1223C25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AADD50-86C1-4932-A792-C6F0261C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FD6F18-3825-4967-B545-6A64F204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7CE33D-A372-456C-AE5E-7FD7962D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4AD488-4494-43B9-8F47-7CEC91F3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4A8110-5E23-41B2-8A65-B844D83A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9A3147-2961-44B1-AD15-9CFC8C50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E009D6-B497-4888-BD63-97ACED8A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25BD8A-5D59-450D-86BF-A39FEAD0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7A3665-5267-4E69-91B6-A335B84F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FF8867-4EED-419D-8D9E-536480C9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BA4D6A-CE56-47DE-9956-0FDF8693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BC4EB0-4808-4169-BF66-0C29BF24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E2326D-3A5A-4DC6-A9F3-CAC85306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458E07-46BB-427D-9409-028B2BDF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43F402-5BEA-4F22-854C-5FAEE472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8BE194-BE88-407A-89C7-BE1DB0E8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CD5AA0-8731-49B0-A2E9-FCB6DAAB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435FA1-5FB0-4B73-962E-55F826DA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BB42FE-5D39-42EA-A061-47625DFA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2A8D7C-D909-4CEF-854D-32ADEDE0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19F496-9E00-4232-9B81-176B57A7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BE23AC-B5F9-404F-8186-A880D745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EE4669-F596-478D-BEB0-6EEEE05D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F41ACA-84B2-4C4B-BD30-6B47D8BD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8448-8004-4DDF-B380-F02AD1FE6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BD03E-7EE0-4D0E-A8AF-BD0AA44A82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FDB29-E4E7-4C08-86AD-4B055F5174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9A61A-B259-4CF0-A8B5-E1CC608583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F9E8E-09D5-40C1-8826-578F75795E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49C3A-B7B9-4D9F-B7BA-3DA8CF6E9C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D667-91BE-4C8B-A6C6-04D0244BE6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41A81-DB56-40A8-86D0-818119820D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C3777-04A3-4811-A99B-1C42DC23E7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1FB9D-482B-4101-8DAC-0E39165E5E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07758-9080-44B4-819D-D159880809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35930-BD1A-4CA3-B82B-A9A3C7CDBA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FF38F-5C8A-4DC5-B031-FD1F9B739D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77033-0319-44DB-989D-806ABF6DAE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7B126E-E5A3-4474-9F42-6EA29F20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E86820-147D-4FED-AFE6-F258AFF9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E3D028-33F1-4FA0-9B15-2B8776DE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C74C-C371-4E36-B209-227C02EA66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F985BB-D800-4635-AE92-1F8EE3D5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621AA1-8BF5-4FDF-98AD-1564751E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09B837-0D8F-4119-BA92-D7014955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BBA60E-2747-444B-B59D-FBA06504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221D1A-BA21-4E80-AD23-0D35C139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8084FF-BA0F-401D-BA96-1AE04E1C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C1DA27-1C6A-419C-9B20-23F15F54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B540BA-4F62-43AE-9C5A-ACDD97A6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7D8986-E76D-40E8-860F-38E55539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1E8A0-3E8A-4042-AB1B-A6D74E892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79B6-247F-4FF3-B550-80B446AA6BA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78E29-F619-4322-9769-CA473135BF4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36593-2136-4899-BF9C-D76874EC00B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07061-F3AE-4BAC-99A3-4657F2A64EA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A54E5-2084-4C54-BE8A-53B2A198D3B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8DAC8-A256-4C2F-A67B-8626D9E8707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DB779-75EE-4E16-9F1A-0EC1A47C8FD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203B2-4ADA-4E03-ACBC-368D7F6FE18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B63B0-D6C0-432C-8B69-02E1AEFA65E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F2F55-E057-40E7-8866-DABCF905D2F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2D17C-A4C8-4166-BFF5-C11ED8F32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1ABE-16A4-4BBF-BE6D-C038CFC6280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E19DC-9EAF-4FB2-9F89-AD05A9A5A57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A760BA-2F56-48CB-9611-23252C7C49F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9730AD-BBC1-451A-9B3B-F24DE38AE52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E4F196-2A46-441F-8B43-3A0BA9DA335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85D53C-3CCC-40CA-9F5F-377E1E71B0C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D69B34-6880-4090-AD1D-10BEA88A97F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0DCF7D-F4F7-48E2-A3A0-8BE986AF7DF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9C2819-C23B-4A06-B3F4-81F7BA1DDD1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FAFDEE-3E48-4E5A-9135-911BA944922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BCFC10-DE8A-48E1-8BEC-B9C91D81F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69ED-C123-4A4B-9543-1322C0F23D3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BC24D8-151E-44D5-8ABE-036222AB955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0A55F3-DEFF-46E8-98E0-3C6BF95FDDC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275584-7506-4C89-BCB6-DFD41F6E987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31C551-E208-49CC-9446-08E62B5E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A6EDE-28EC-4953-9BFE-05571A4A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8B552-5A65-41C7-A1CF-B56364C9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B6642E-4A2A-4A19-B2C5-1FE9FB35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289EE1-FF21-4D4F-BCF6-227A20B3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7447A-92CF-4EAF-BC29-34BC5D2A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AD2B8-3C0A-45AE-856B-6D5645BD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5CF4-97CE-4003-AB20-67DF4EA7D10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359AD3-7510-4978-95BB-24ABC675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166E27-D97C-46B5-8334-FB2FAB28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5189A6-6E8B-488A-AFAD-EF4DFF6A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337CF1-B6AF-4F89-9B4F-B40B471E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7ED579-24D0-40D5-996F-2FDF2CF7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1CB14C-3AC5-43B8-ABD1-95AD33CB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B4C1AE-11AC-427F-B83D-B695522D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A7F8C6-5377-40C8-85AB-F9F328B1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D8B0F7-520B-40C5-A026-5926678D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075AC2-2F27-4F8A-B71A-A5466BC4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FE53-45F7-482B-85CF-5FB1BB90940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5B6B97-6A15-4D8B-9BBA-D88BA1E4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0FC2E-4118-42B3-B399-F12DD569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6F2E3-7FC0-4105-BFFF-D4315E79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B94D7C-7AB6-45ED-AFA6-44EDEB63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3BD348-72EA-477E-BE4D-B01BEA29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ACB2C5-9345-416C-B4FC-C82C3FE0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4E2168-A2D4-4CF2-8081-04680E2A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2175BD-2249-4088-B2C6-E2F8541E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D09290-66CD-48D5-B78B-683F2DF5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23D46C-8262-453C-9DC2-2E3124DF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577F-E2E2-4EFB-BED8-2AA7D9882F80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981080" y="6370560"/>
            <a:ext cx="47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0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2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3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20AB-59C2-47D4-98F7-C13512E94690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4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5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6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653A-BCD5-40E9-A10E-78DA9D8AE92A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9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8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29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EFF6-2A26-4C7A-B56A-D9EC4B790456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53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0"/>
          </p:nvPr>
        </p:nvSpPr>
        <p:spPr>
          <a:xfrm>
            <a:off x="196848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1"/>
          </p:nvPr>
        </p:nvSpPr>
        <p:spPr>
          <a:xfrm>
            <a:off x="1981080" y="6370560"/>
            <a:ext cx="47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2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DA91-5787-49F6-8D21-95EE5EE9567E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5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4"/>
          <a:stretch/>
        </p:blipFill>
        <p:spPr>
          <a:xfrm>
            <a:off x="5105520" y="3203640"/>
            <a:ext cx="4038480" cy="365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23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Title 1"/>
          <p:cNvSpPr/>
          <p:nvPr/>
        </p:nvSpPr>
        <p:spPr>
          <a:xfrm>
            <a:off x="1219320" y="548640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Your Interactive Guide to the Digital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0" y="426708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scover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uters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91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3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781C-4FDB-48B8-93ED-52BF95EFCBE7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135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6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7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BFC4-9D33-4FDD-AB80-31BEB8552C32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180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8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9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14D7-63EC-471E-9434-356254D9ABA4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224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0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1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103F-A23F-4793-81AD-9037A1C6C9D3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26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3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4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BECD-81D5-4519-A5EB-D90663A6038B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1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6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7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81C8-DEBD-4F83-8270-FBC9AA26B668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5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19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0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877C-3003-456F-877C-CB07E2A48184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Box 1"/>
          <p:cNvSpPr/>
          <p:nvPr/>
        </p:nvSpPr>
        <p:spPr>
          <a:xfrm>
            <a:off x="609480" y="64771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ted by : Noor Alhareq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a52439"/>
                </a:solidFill>
                <a:latin typeface="Calibri"/>
              </a:rPr>
              <a:t>control unit</a:t>
            </a:r>
            <a:r>
              <a:rPr b="0" lang="en-US" sz="30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 component of the processor that directs and coordinates most of the operations in the compu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ndles the transmission of data into and out of the CPU and supervises its overall oper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s interprets each instruction issued by a program &amp; then initiates the appropriate action to carry out the instru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a52439"/>
                </a:solidFill>
                <a:latin typeface="Calibri"/>
              </a:rPr>
              <a:t>arithmetic logic unit</a:t>
            </a:r>
            <a:r>
              <a:rPr b="0" lang="en-US" sz="30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LU) performs arithmetic, comparison, and other oper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5E12-F3C4-4520-80FC-C2C1177CA470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instruction, a processor repeats a set of four basic operations, which comprise a machin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5192-8A6D-4D0A-A62D-107E24C1EB70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5" name="Picture 7" descr="CFig4-05.gif"/>
          <p:cNvPicPr/>
          <p:nvPr/>
        </p:nvPicPr>
        <p:blipFill>
          <a:blip r:embed="rId1"/>
          <a:stretch/>
        </p:blipFill>
        <p:spPr>
          <a:xfrm>
            <a:off x="1981080" y="2666880"/>
            <a:ext cx="588168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47" name="Content Placeholder 9" descr=""/>
          <p:cNvPicPr/>
          <p:nvPr/>
        </p:nvPicPr>
        <p:blipFill>
          <a:blip r:embed="rId1"/>
          <a:stretch/>
        </p:blipFill>
        <p:spPr>
          <a:xfrm>
            <a:off x="96840" y="1596960"/>
            <a:ext cx="8950320" cy="4651560"/>
          </a:xfrm>
          <a:prstGeom prst="rect">
            <a:avLst/>
          </a:prstGeom>
          <a:ln w="0">
            <a:noFill/>
          </a:ln>
        </p:spPr>
      </p:pic>
      <p:sp>
        <p:nvSpPr>
          <p:cNvPr id="648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43FD-57DD-41AA-BABD-3FC387C2C73B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gisters are special storage areas in the CP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ir function is to hold instructions, data values, memory addresses of both the instructions and da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re are 4 basic types of it: </a:t>
            </a: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CU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AL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Instruction register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ld instruction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Address register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ld address of( data , next instruction 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Storage register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ore data retrieved from main memory prior to processing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Accumula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tore the results of arithmetic &amp; logic opera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BDE5-0DE4-44DF-B42D-9C38A6961449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System</a:t>
            </a:r>
            <a:r>
              <a:rPr b="0" lang="en-US" sz="32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clock</a:t>
            </a:r>
            <a:r>
              <a:rPr b="0" lang="en-US" sz="3200" spc="-1" strike="noStrike">
                <a:solidFill>
                  <a:srgbClr val="a5243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generates regular electronic pulses , or ticks, that control the timing of all computer operations ( i.e. set operating pace of components of system un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e of system  clock is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clock speed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lock speeds are  in the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gigahert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GHz) range (1 GHz = 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llion ticks of system clock per secon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8B93-4250-4B92-8FDB-6D189F4D2BBB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urrent personal computers support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pipel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or begins fetching a second instruction before it completes the machine cycle for the first instr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3" name="Content Placeholder 8" descr="Fig4-06.gif"/>
          <p:cNvPicPr/>
          <p:nvPr/>
        </p:nvPicPr>
        <p:blipFill>
          <a:blip r:embed="rId1"/>
          <a:stretch/>
        </p:blipFill>
        <p:spPr>
          <a:xfrm>
            <a:off x="4648320" y="2436840"/>
            <a:ext cx="4038480" cy="2852640"/>
          </a:xfrm>
          <a:prstGeom prst="rect">
            <a:avLst/>
          </a:prstGeom>
          <a:ln w="0">
            <a:noFill/>
          </a:ln>
        </p:spPr>
      </p:pic>
      <p:sp>
        <p:nvSpPr>
          <p:cNvPr id="664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64CA-371C-4EF9-A294-BC80A6AA6DD3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5 – 2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llel processing uses multiple processors simultaneously to execute a single program or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sively parallel processing involves hundreds or thousands of proces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A3B3-477C-48EB-9E94-E177212F3485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2" name="Picture 9" descr="Fig4-11.gif"/>
          <p:cNvPicPr/>
          <p:nvPr/>
        </p:nvPicPr>
        <p:blipFill>
          <a:blip r:embed="rId1"/>
          <a:stretch/>
        </p:blipFill>
        <p:spPr>
          <a:xfrm>
            <a:off x="2819520" y="2971800"/>
            <a:ext cx="3743280" cy="333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eading manufacturers of personal computer processor chips are Intel and A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6050-6D89-4BEE-933E-299C0B09D875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6 – 21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Content Placeholder 6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510552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51920" y="1600200"/>
            <a:ext cx="2667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how you plan to use a new computer before selecting a proces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6DA8-8DF4-4395-BD26-D57B597D0D9E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4" name="Picture 2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6248520" cy="548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cessor chip generates heat that could cause the chip to burn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 additional coo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t s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cooling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7" name="Content Placeholder 9" descr="CFig4-09.gif"/>
          <p:cNvPicPr/>
          <p:nvPr/>
        </p:nvPicPr>
        <p:blipFill>
          <a:blip r:embed="rId1"/>
          <a:stretch/>
        </p:blipFill>
        <p:spPr>
          <a:xfrm>
            <a:off x="5181480" y="1752480"/>
            <a:ext cx="2895840" cy="1925640"/>
          </a:xfrm>
          <a:prstGeom prst="rect">
            <a:avLst/>
          </a:prstGeom>
          <a:ln w="0">
            <a:noFill/>
          </a:ln>
        </p:spPr>
      </p:pic>
      <p:sp>
        <p:nvSpPr>
          <p:cNvPr id="688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11A4-6B62-414E-9FAD-739750AA7CBD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9 - 2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s 4-9 – 4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Picture 10" descr="Fig4-10.gif"/>
          <p:cNvPicPr/>
          <p:nvPr/>
        </p:nvPicPr>
        <p:blipFill>
          <a:blip r:embed="rId2"/>
          <a:stretch/>
        </p:blipFill>
        <p:spPr>
          <a:xfrm>
            <a:off x="5181480" y="3809880"/>
            <a:ext cx="2895840" cy="23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Objectives Overview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591" name="Content Placeholder 6" descr=""/>
          <p:cNvPicPr/>
          <p:nvPr/>
        </p:nvPicPr>
        <p:blipFill>
          <a:blip r:embed="rId1"/>
          <a:stretch/>
        </p:blipFill>
        <p:spPr>
          <a:xfrm>
            <a:off x="96840" y="1596960"/>
            <a:ext cx="8950320" cy="4651560"/>
          </a:xfrm>
          <a:prstGeom prst="rect">
            <a:avLst/>
          </a:prstGeom>
          <a:ln w="0">
            <a:noFill/>
          </a:ln>
        </p:spPr>
      </p:pic>
      <p:sp>
        <p:nvSpPr>
          <p:cNvPr id="59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3826-478F-4939-8F4A-1734E515BAB8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e Page 209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 Detailed Objectiv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93" name="Content Placeholder 6" descr=""/>
          <p:cNvPicPr/>
          <p:nvPr/>
        </p:nvPicPr>
        <p:blipFill>
          <a:blip r:embed="rId1"/>
          <a:stretch/>
        </p:blipFill>
        <p:spPr>
          <a:xfrm>
            <a:off x="96840" y="1596960"/>
            <a:ext cx="8950320" cy="4651560"/>
          </a:xfrm>
          <a:prstGeom prst="rect">
            <a:avLst/>
          </a:prstGeom>
          <a:ln w="0">
            <a:noFill/>
          </a:ln>
        </p:spPr>
      </p:pic>
      <p:sp>
        <p:nvSpPr>
          <p:cNvPr id="694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4CCC-D2B8-4A55-95A6-FD37F7F03B37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3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 computer circuit represents the 0 or the 1 electronically by the presence or absence of an electrical char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Content Placeholder 11" descr="Fig4-12.gif"/>
          <p:cNvPicPr/>
          <p:nvPr/>
        </p:nvPicPr>
        <p:blipFill>
          <a:blip r:embed="rId1"/>
          <a:stretch/>
        </p:blipFill>
        <p:spPr>
          <a:xfrm>
            <a:off x="457200" y="3255840"/>
            <a:ext cx="4040280" cy="258624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8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Eight bi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ouped together as a unit are called a </a:t>
            </a:r>
            <a:r>
              <a:rPr b="1" lang="en-US" sz="2200" spc="-1" strike="noStrike">
                <a:solidFill>
                  <a:srgbClr val="a52439"/>
                </a:solidFill>
                <a:latin typeface="Calibri"/>
              </a:rPr>
              <a:t>byt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 A byte represents a single character in the computer ( numbers, upper or lower case letters, or punctuation mark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Content Placeholder 12" descr="Fig4-13.gif"/>
          <p:cNvPicPr/>
          <p:nvPr/>
        </p:nvPicPr>
        <p:blipFill>
          <a:blip r:embed="rId2"/>
          <a:stretch/>
        </p:blipFill>
        <p:spPr>
          <a:xfrm>
            <a:off x="4724280" y="3581280"/>
            <a:ext cx="4191120" cy="2286000"/>
          </a:xfrm>
          <a:prstGeom prst="rect">
            <a:avLst/>
          </a:prstGeom>
          <a:ln w="0">
            <a:noFill/>
          </a:ln>
        </p:spPr>
      </p:pic>
      <p:sp>
        <p:nvSpPr>
          <p:cNvPr id="70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0CF3-4753-4609-865B-FE0EEDD6A0C6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s 4-12 – 4-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fferent combinations of 0s and 1s are defined by patterns called </a:t>
            </a:r>
            <a:r>
              <a:rPr b="0" lang="en-US" sz="2400" spc="-1" strike="noStrike">
                <a:solidFill>
                  <a:srgbClr val="a52439"/>
                </a:solidFill>
                <a:latin typeface="Calibri"/>
              </a:rPr>
              <a:t>a coding sche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two coding schemas used to represent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CII—American Standard Code for Information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[Personal Computers – PC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BCDIC—Extended Binary Coded Decimal Interchange C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[Mainframes, Mini-computer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ooter Placeholder 6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7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A1BC-C388-44BF-84FC-8C1568EF15B0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2209680" y="4952880"/>
            <a:ext cx="4353120" cy="146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CII is the most widely used coding scheme to represent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Content Placeholder 13" descr="Fig4-14.gif"/>
          <p:cNvPicPr/>
          <p:nvPr/>
        </p:nvPicPr>
        <p:blipFill>
          <a:blip r:embed="rId1"/>
          <a:stretch/>
        </p:blipFill>
        <p:spPr>
          <a:xfrm>
            <a:off x="1523880" y="2658960"/>
            <a:ext cx="6248520" cy="4199040"/>
          </a:xfrm>
          <a:prstGeom prst="rect">
            <a:avLst/>
          </a:prstGeom>
          <a:ln w="0">
            <a:noFill/>
          </a:ln>
        </p:spPr>
      </p:pic>
      <p:sp>
        <p:nvSpPr>
          <p:cNvPr id="714" name="Footer Placeholder 6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lide Number Placeholder 7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CBC4-D3EB-49FE-B4CA-404168812CB6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81D5-7BD9-4B9F-9FD7-8A6639054C29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Content Placeholder 3" descr=""/>
          <p:cNvPicPr/>
          <p:nvPr/>
        </p:nvPicPr>
        <p:blipFill>
          <a:blip r:embed="rId1"/>
          <a:srcRect l="0" t="0" r="3447" b="7965"/>
          <a:stretch/>
        </p:blipFill>
        <p:spPr>
          <a:xfrm>
            <a:off x="457200" y="1676520"/>
            <a:ext cx="8305920" cy="464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The System Uni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5228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system unit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case that contains electronic components of the computer used to process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of metal or plastic to protects the internal components from dam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computers have a system unit. It is available in variety of shapes &amp; siz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E1E3-9800-4EAE-950A-4A4258EAC918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oter Placeholder 3"/>
          <p:cNvSpPr/>
          <p:nvPr/>
        </p:nvSpPr>
        <p:spPr>
          <a:xfrm>
            <a:off x="274320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5986-1769-4344-8E1A-7B7909114B77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Picture 6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The System Uni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side of the system unit on a desktop personal computer 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1973-3F88-4AF2-A9D9-4BE68D010EAD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Diagram 6" descr=""/>
          <p:cNvPicPr/>
          <p:nvPr/>
        </p:nvPicPr>
        <p:blipFill>
          <a:blip r:embed="rId1"/>
          <a:stretch/>
        </p:blipFill>
        <p:spPr>
          <a:xfrm>
            <a:off x="401760" y="2724120"/>
            <a:ext cx="2322360" cy="3591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9" descr=""/>
          <p:cNvPicPr/>
          <p:nvPr/>
        </p:nvPicPr>
        <p:blipFill>
          <a:blip r:embed="rId2"/>
          <a:stretch/>
        </p:blipFill>
        <p:spPr>
          <a:xfrm>
            <a:off x="2971800" y="2743200"/>
            <a:ext cx="54878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Motherboard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52280" y="1600200"/>
            <a:ext cx="4724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motherboa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main circuit board of the system un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ansion slots, processor chips, and memory sl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called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ystem 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4F6E-C684-4264-B680-7FEACA8A8797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6" descr="CFig4-03.gif"/>
          <p:cNvPicPr/>
          <p:nvPr/>
        </p:nvPicPr>
        <p:blipFill>
          <a:blip r:embed="rId1"/>
          <a:stretch/>
        </p:blipFill>
        <p:spPr>
          <a:xfrm>
            <a:off x="5029200" y="1752480"/>
            <a:ext cx="388620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Motherboard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grpSp>
        <p:nvGrpSpPr>
          <p:cNvPr id="617" name="Group 21"/>
          <p:cNvGrpSpPr/>
          <p:nvPr/>
        </p:nvGrpSpPr>
        <p:grpSpPr>
          <a:xfrm>
            <a:off x="7846920" y="6402240"/>
            <a:ext cx="860400" cy="271440"/>
            <a:chOff x="7846920" y="6402240"/>
            <a:chExt cx="860400" cy="271440"/>
          </a:xfrm>
        </p:grpSpPr>
        <p:sp>
          <p:nvSpPr>
            <p:cNvPr id="618" name="AutoShape 22">
              <a:hlinkClick r:id="" action="ppaction://hlinkshowjump?jump=nextslide"/>
            </p:cNvPr>
            <p:cNvSpPr/>
            <p:nvPr/>
          </p:nvSpPr>
          <p:spPr>
            <a:xfrm>
              <a:off x="7873920" y="6402240"/>
              <a:ext cx="833400" cy="271440"/>
            </a:xfrm>
            <a:custGeom>
              <a:avLst/>
              <a:gdLst>
                <a:gd name="textAreaLeft" fmla="*/ 17280 w 833400"/>
                <a:gd name="textAreaRight" fmla="*/ 816120 w 833400"/>
                <a:gd name="textAreaTop" fmla="*/ 17280 h 271440"/>
                <a:gd name="textAreaBottom" fmla="*/ 254160 h 271440"/>
              </a:gdLst>
              <a:ahLst/>
              <a:rect l="textAreaLeft" t="textAreaTop" r="textAreaRight" b="textAreaBottom"/>
              <a:pathLst>
                <a:path w="66259" h="21600">
                  <a:moveTo>
                    <a:pt x="0" y="0"/>
                  </a:moveTo>
                  <a:lnTo>
                    <a:pt x="66259" y="0"/>
                  </a:lnTo>
                  <a:lnTo>
                    <a:pt x="66259" y="21600"/>
                  </a:lnTo>
                  <a:lnTo>
                    <a:pt x="0" y="21600"/>
                  </a:lnTo>
                  <a:close/>
                </a:path>
                <a:path fill="lightenLess" w="66259" h="21600">
                  <a:moveTo>
                    <a:pt x="0" y="0"/>
                  </a:moveTo>
                  <a:lnTo>
                    <a:pt x="66259" y="0"/>
                  </a:lnTo>
                  <a:lnTo>
                    <a:pt x="64859" y="1400"/>
                  </a:lnTo>
                  <a:lnTo>
                    <a:pt x="1400" y="1400"/>
                  </a:lnTo>
                  <a:close/>
                </a:path>
                <a:path fill="darken" w="66259" h="21600">
                  <a:moveTo>
                    <a:pt x="66259" y="0"/>
                  </a:moveTo>
                  <a:lnTo>
                    <a:pt x="66259" y="21600"/>
                  </a:lnTo>
                  <a:lnTo>
                    <a:pt x="64859" y="20200"/>
                  </a:lnTo>
                  <a:lnTo>
                    <a:pt x="64859" y="1400"/>
                  </a:lnTo>
                  <a:close/>
                </a:path>
                <a:path fill="darkenLess" w="66259" h="21600">
                  <a:moveTo>
                    <a:pt x="662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859" y="20200"/>
                  </a:lnTo>
                  <a:close/>
                </a:path>
                <a:path fill="lighten" w="662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66259" h="21600">
                  <a:moveTo>
                    <a:pt x="26123" y="3794"/>
                  </a:moveTo>
                  <a:lnTo>
                    <a:pt x="40136" y="10800"/>
                  </a:lnTo>
                  <a:lnTo>
                    <a:pt x="26123" y="17806"/>
                  </a:lnTo>
                  <a:close/>
                </a:path>
              </a:pathLst>
            </a:custGeom>
            <a:solidFill>
              <a:srgbClr val="ffb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Text Box 23"/>
            <p:cNvSpPr/>
            <p:nvPr/>
          </p:nvSpPr>
          <p:spPr>
            <a:xfrm>
              <a:off x="7846920" y="6407280"/>
              <a:ext cx="46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eece1"/>
                  </a:solidFill>
                  <a:latin typeface="Times New Roman"/>
                </a:rPr>
                <a:t>N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0" name="Rectangle 30"/>
          <p:cNvSpPr/>
          <p:nvPr/>
        </p:nvSpPr>
        <p:spPr>
          <a:xfrm>
            <a:off x="380880" y="1752480"/>
            <a:ext cx="778212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st computers use integrated circuits  also called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chip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, for their CPU and main memo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ory chips are installed on memory module( card) that fit in a slot on the mother bo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is a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chi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mall piece of semi-conducting material on whic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grated circuits (I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e etch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C contain many microscopic pathways capable of carrying electrical cur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ach IC can contain millions of elements such as resistors, capacitors, transisto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176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37"/>
          <p:cNvSpPr/>
          <p:nvPr/>
        </p:nvSpPr>
        <p:spPr>
          <a:xfrm>
            <a:off x="304920" y="3000240"/>
            <a:ext cx="778176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02888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Picture 7" descr="04PHY011_ChipScaleClock2_HR"/>
          <p:cNvPicPr/>
          <p:nvPr/>
        </p:nvPicPr>
        <p:blipFill>
          <a:blip r:embed="rId1"/>
          <a:stretch/>
        </p:blipFill>
        <p:spPr>
          <a:xfrm rot="849600">
            <a:off x="7508520" y="2976480"/>
            <a:ext cx="1471680" cy="15130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r100004large"/>
          <p:cNvPicPr/>
          <p:nvPr/>
        </p:nvPicPr>
        <p:blipFill>
          <a:blip r:embed="rId2"/>
          <a:stretch/>
        </p:blipFill>
        <p:spPr>
          <a:xfrm rot="1036200">
            <a:off x="7735680" y="4644720"/>
            <a:ext cx="122220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process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lso called 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central processing uni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CP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interprets and carries out the basic instructions that operate a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rol uni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ithmetic logic unit (ALU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work together to perform processing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E861-F682-4242-B16C-475F095B61B8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Diagram 6" descr=""/>
          <p:cNvPicPr/>
          <p:nvPr/>
        </p:nvPicPr>
        <p:blipFill>
          <a:blip r:embed="rId1"/>
          <a:stretch/>
        </p:blipFill>
        <p:spPr>
          <a:xfrm>
            <a:off x="244440" y="4340160"/>
            <a:ext cx="8960040" cy="229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31" name="Content Placeholder 6" descr="Fig4-04.gif"/>
          <p:cNvPicPr/>
          <p:nvPr/>
        </p:nvPicPr>
        <p:blipFill>
          <a:blip r:embed="rId1"/>
          <a:stretch/>
        </p:blipFill>
        <p:spPr>
          <a:xfrm>
            <a:off x="1066680" y="1600200"/>
            <a:ext cx="6705720" cy="4648320"/>
          </a:xfrm>
          <a:prstGeom prst="rect">
            <a:avLst/>
          </a:prstGeom>
          <a:ln w="0">
            <a:noFill/>
          </a:ln>
        </p:spPr>
      </p:pic>
      <p:sp>
        <p:nvSpPr>
          <p:cNvPr id="63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0BF0-4FFF-4C60-A418-B5053DCAF9B7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7:11:12Z</dcterms:created>
  <dc:creator>steven</dc:creator>
  <dc:description/>
  <dc:language>en-US</dc:language>
  <cp:lastModifiedBy>Nawal</cp:lastModifiedBy>
  <dcterms:modified xsi:type="dcterms:W3CDTF">2014-02-05T19:36:09Z</dcterms:modified>
  <cp:revision>1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9FB6436308CE4449AEA8207A63B4C9CB</vt:lpwstr>
  </property>
</Properties>
</file>