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B056-394D-4DBF-B8A7-F8AAA800A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A5C4-3BEB-49A9-B45F-78F545946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0779-939C-4B8C-B2BE-4E60CBA54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For every instruction, a processor repeats a set of four basic oper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Fetch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obtaining a program instruction or data item from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Decod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translating the instruction into signals the computer can exec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Execut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carrying out the comma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Stor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, if necessary. Means writing the result to </a:t>
            </a:r>
            <a:r>
              <a:rPr b="0" i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38F5-A3F8-404B-9DA5-AD9091A9F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16CD-8D5D-4A77-A51D-CBD0DFF41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ing actions occur at each “tick” of the electronic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Speed of the clock determines the speed at which the CPU can process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faster  the clock speed, the more instruction the processor can execute per second (hertz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052F-4EBA-4CDE-8A58-0E0A8CDF2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4F92-44D7-4480-8FF7-255F815D0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B45A-B4EE-4A33-9DE9-717235183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y often identify their processor chip by a model name or mode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Other leading processor chip manufactur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ransm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otorol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or had a   different design from the Intel-style proces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4C25-B77C-47E8-96E0-5F40D8050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1293-E4E9-42A5-A09D-E176D4DD4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B0ED-1D10-4E67-B1BD-6951E783A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664E-42CD-4433-843C-151F0C79D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06B8-2AA9-4C1C-9B74-19F9076EC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7100-6701-4501-A9B3-DDC79CB9F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0D65-DB8F-4CAA-A45C-0175C9CF8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CE8F-CCAA-42F6-BB12-CD43D1C36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D17F-07CF-4906-9465-06D74C040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477B-2F87-49EE-990C-6DB299E30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rocessor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interprets &amp; carries out the basic instructions that operate a compu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holds data waiting to be processed &amp; instruction waiting to be execu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or &amp; Memory are connected to a circuit board called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dapter cards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are circuit boards that provide connections and functions not built into the 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evices outside the system unit often attach to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 drive ba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holds one or more disk dr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The Power suppl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vide the computer with the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D755-11D1-4AE0-89A6-5BC730039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any electronic components attach to the motherboard, others are built into it. Ex: adapter cards, a processor chip and a memory mod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E438-258D-4ED9-8B5C-12EB871DD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dual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single chip that contains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multi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chip with two or mo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ch processor on a dual-core/multi-core chip generall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s at a slower clock speed, but increase overall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D077-E52D-4C1B-B7DE-AA4EB574D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operations typically performed by a CPU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reading of programs and input f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ts activates input unit to read program an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Controls the transmission of program &amp; data files from disk to main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process data according to instructions in a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processed arithmetically- number can be added, subtracted, multiplied and di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Logical tests can be performed on data. E.g., compa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transmitted or copied from one area of primary storag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creation of outp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8B32-AC14-43B1-9759-CB60A7231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5486-4274-495E-BF8E-6A9334446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3567-AF45-4588-8E77-1647E407157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85D66A-E63F-4743-80CF-22559D27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BF2219-31C3-4D10-9934-A84DD717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5C8E38-E492-49F0-BC7D-BC97271E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785A0-9F95-4AA8-8F78-2508D811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456BB-6150-4AA3-BA0C-DE1EF4FE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B44A6-3332-4753-A6E9-4AD565E9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EB0B51-80EB-45DF-8934-427DB86E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DD8D3-2DB7-408D-A504-20032310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171F2-CBEA-4716-873F-F620C4C5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7FA1CD-270D-40C0-B267-3B635C12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3997-EBA2-4A5C-830D-A63B5E241C7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038A38-9290-4200-B26C-C41A1E1D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EC6508-71FC-4B7F-8961-EB8FE823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0A18FF-3E96-4B3D-8706-884270D0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0C7EC0-81A7-44E8-A5E4-F4A2B56D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7CC20F-7F3F-4902-A68F-DDCD068B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A03264-FFDA-43B4-9E40-8CCFE90F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D9A067-C216-4B56-A414-8C9A794D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B378FE-7FE9-4D40-B010-C9B6C39A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078548-914D-470E-AB7F-B551CDEA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567349-CB31-4183-AEB5-C6C9CE5E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542A-1217-431E-864A-9894BC9E6DE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5C9ACC-DEB0-437C-9D72-9B4A0F16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1318CD-4CD6-4C9B-8504-2DFBC8D7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9BBF73-3167-4463-A768-AE07FFD9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0A330C-B1F0-4B06-BF8E-E1B66265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778356-EB0F-4FA4-99E8-41002842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6D470E-4EBC-4346-80AE-289C34EE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07C4BD-7B7A-419A-A8A5-6FF8301F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B54B46-2B75-49BE-B6A7-6745DF80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09EE30-3FC6-4E85-ACF0-85D50898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54A6B0-A60C-4BDA-AFD2-98D0A795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1F0039-8E96-47C6-93B3-E2ECAE8A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5E5940-BABE-4885-A7F1-0FC7A93F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18E732-AE1E-4817-BA4B-DB1F323F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4856EA-B68D-4020-8606-58F07FE9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1C341D-193A-4D53-A0FE-08573E91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D192B1-4A54-404E-9C98-0CDDB7A8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35F244-9321-4F9D-8E5A-7D69E8B0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0396FD-C192-4F89-92FB-610EE182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F79EA1-F64D-42F3-AB4D-1EE48D4E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2B9524-D446-4EED-A4F8-9F4724CB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8C6724-5A71-473E-8812-B5970B11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9FCD7E-54CF-4B7C-AB20-06C2C900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905ABE-3FAA-464F-9AD0-F22A4839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AFB752-4A27-463A-B01E-2BF87E9F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ADE93E-1E41-46A7-B2E1-FA1090E3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CC699E-D218-43B7-8F04-97B26FB2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629080-AC5F-4B34-9853-7F7A90FC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689DCE-4956-499F-BBAA-9EA73F93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3020FA-4662-4F6F-9A5B-40199C3B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429AE5-FEE9-4891-A216-DA709C6F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7211B9-CDCA-46E1-9889-8BC121FE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E1708D-2145-43C0-B944-EECA1017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FA549B-7FDD-4BC6-A4B4-1DCD3EE6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A606A2-6462-4084-9EB4-3E5674B7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3C8442-6725-46DE-A26E-5F6A2E43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BCC58E-012B-4850-8E77-9CE91DEC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274E6B-8188-414A-A6B9-D0D864FB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6D55-2611-4F00-A18F-D0B03974B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9F28F-B233-4DA8-AFD9-048DB44CE7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095BF-D73B-48A9-BF31-2133C6F720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DB224-C8B9-4DE1-BA2A-AB98D07C06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68E43-633F-4AD0-BE76-5ADF38023B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73EE1-1C89-482D-B1F8-3E12FEC9BE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E5E1-BD71-41CE-B643-A23343C662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35631-DCDF-404D-A261-F899B0E474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361EE-C487-40D4-BE79-C5AC6F693F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90B38-159F-4425-9288-A2C661871A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EAF64-2D2B-4C2D-93EB-2C5D497474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E6F3F-271A-4F2F-ADCB-26513F8849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F931C-FECA-4B5A-8C00-8D830F637B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58BC3-2614-44BC-B624-88DDF56546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77B485-0160-40EF-9EF5-90E2BE31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01CFEB-86A6-4FA2-886E-FC223EF0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8A4C0C-B4F5-48F0-8CFE-A6A113AD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42AB-74C9-4117-8C5A-9779AE6A10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A2735C-43C1-4420-A87D-F5B637D1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66660E-CCDC-4229-BC1A-800980B6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DF072E-AE4B-49BB-8E10-C0B4A707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11BE82-A146-4081-AE39-630C0CCF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566FC7-3359-4879-A033-4B63CEB1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6D4BB0-2AA5-49DB-8177-BCC9E830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0F8C8A-B347-4833-AF79-D60A2AF0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5180D-A8DB-4EFC-B3C6-6864284B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65A516-6313-456C-B4C6-3B151B0A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FB7B0-955E-488C-B6EE-FFB2AED94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97A8-8922-436F-9AAB-AB7B2491726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0E908-4DE3-4EFA-82F2-089D9DBF72B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CD8FB-0081-4E69-B615-EDFABA7DF8B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F8CE-B205-46F6-8560-FEAB28AAAE0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38A3-C0A6-438F-956D-BEF615DBBB0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A424-8706-4C65-B4F7-0C88A7A8FB3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39410-4EFB-46EF-80BF-A1C36DFE506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0BCEC-5538-4635-AB88-E9276468A5D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7FDB5-0763-4570-9697-424BA5CCC1E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C372E-D89A-44AA-AB02-EFC30AC784D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71664-B7AA-48C9-B48D-669FE0998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A1E8-E409-4267-A725-1B758F9ADD3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0CC6-9C45-4941-B227-05FBC5D496F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536079-C8E9-404D-8D83-F9305F5E368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FE0AC-48E0-44B8-8494-9548223ADBB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8652A-9F7A-4BDC-933B-8C9F6864F81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0DD1A-4161-4E67-ACAB-B2294C83A05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1392F5-01FD-4D81-AEE2-116A76A6456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8E0496-A3C9-436F-A86B-0BE6E0A34F7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46D5A-07AD-4ED3-AA64-911C81B5B6A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237FC-B97E-4C65-A0BA-563D400043A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2AA75-E3B0-41C5-9BBA-6D66D2C42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9BC1-93A1-4F7A-8651-787F31A8B58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29E48D-74C2-4597-8FAE-C0FE3B00027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BA5ECC-6990-4B38-BD57-722F18AD32E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1359C-37C4-4E85-B83B-D14D579E8F0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62D8F-32F2-44BE-98E4-10C920A5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53F98-CF95-4A5D-8F21-2428B3BE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D6E53-947D-440A-8FD8-D03A7E2F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3E676-192C-48FA-B861-EF2B5E1E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09B93-672F-45D4-9DE1-4A09A4B9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C1558-B760-403E-8D52-64411A05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70D859-7ECF-4EC2-AEEC-4C797B33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2C3C-F886-4AA0-92A8-E7252C97C0B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B0B2C-9E5A-41D9-98FA-F5862077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E58143-7FB5-47E9-B774-C5D252CA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7A7401-ECEA-4062-ABBD-685DCA79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3645D-6588-41F3-B490-1FC385E3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12572-D9DF-4F99-A0C7-5FD319B6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4B5DC1-B552-4701-B82A-D5A0D51E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F049D-F3F6-4922-AC2D-85E1618D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8DD31-ECB3-449F-8EF7-97E0161A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61BA8C-BA16-4441-A3AC-EA12747F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C42B29-9F0C-47CD-86E0-31A14396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051C-3483-41F2-8DF1-F80C3992722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801BD9-F5BB-44B9-89A1-A56C0058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BBCBB-A40F-46DA-BA4B-5021F5E1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17B56-C843-426A-BDD4-E1679DAE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A5E31-1C9D-4239-BC93-C9D36F0E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95A96-041F-4545-95BE-4267B427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1153A-E46E-45AD-8C22-79A46784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DC13B-6143-48B9-95E4-DF98332A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AED81C-9324-447D-B91F-053FECCE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D80EC-6639-46AC-97E5-B9109603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8ABE90-7B4F-402D-8331-0A3389D3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CC2A-FA72-4994-BA5A-2847A2A73F38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0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2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3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3722-8068-4C2C-B4E3-84044C4EE9F6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4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5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6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413E-69E8-44DA-86F5-BE7193046723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9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8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A93C-6786-4E9A-8DCD-08C59C57CA32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53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0"/>
          </p:nvPr>
        </p:nvSpPr>
        <p:spPr>
          <a:xfrm>
            <a:off x="196848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1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2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E792-8572-4655-9CEC-E64A34FC86C2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5105520" y="3203640"/>
            <a:ext cx="4038480" cy="365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23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itle 1"/>
          <p:cNvSpPr/>
          <p:nvPr/>
        </p:nvSpPr>
        <p:spPr>
          <a:xfrm>
            <a:off x="1219320" y="54864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Your Interactive Guide to the Digital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42670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scover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uter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3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491D-88F5-4211-8F82-4FC79C8A758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3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959C-9533-4272-9B49-9DDA8EC5548C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80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8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72D8-558F-4157-A628-69E0F74C32D3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24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0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D06F-23EA-4395-92FF-58624D83FFFB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6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3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DF45-D570-44B1-AFCB-03B99701C19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1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CEF4-DB24-4249-964C-5EC9D6CFDCBD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5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9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0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559B-B623-4B28-8575-07497675843D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1"/>
          <p:cNvSpPr/>
          <p:nvPr/>
        </p:nvSpPr>
        <p:spPr>
          <a:xfrm>
            <a:off x="609480" y="64771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ed by : Noor Alhareq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control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mponent of the processor that directs and coordinates most of the operations in the compu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les the transmission of data into and out of the CPU and supervises its overall oper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s interprets each instruction issued by a program &amp; then initiates the appropriate action to carry out the instru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arithmetic logic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LU) performs arithmetic, comparison, and other ope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06AA-AF54-44E0-B6D9-8F64D4D51AB6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instruction, a processor repeats a set of four basic operations, which comprise a machin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086F-7983-43EE-9F1C-3E29E42B606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Picture 7" descr="CFig4-05.gif"/>
          <p:cNvPicPr/>
          <p:nvPr/>
        </p:nvPicPr>
        <p:blipFill>
          <a:blip r:embed="rId1"/>
          <a:stretch/>
        </p:blipFill>
        <p:spPr>
          <a:xfrm>
            <a:off x="1981080" y="2666880"/>
            <a:ext cx="588168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47" name="Content Placeholder 9" descr=""/>
          <p:cNvPicPr/>
          <p:nvPr/>
        </p:nvPicPr>
        <p:blipFill>
          <a:blip r:embed="rId1"/>
          <a:stretch/>
        </p:blipFill>
        <p:spPr>
          <a:xfrm>
            <a:off x="96840" y="1596960"/>
            <a:ext cx="8950320" cy="4651560"/>
          </a:xfrm>
          <a:prstGeom prst="rect">
            <a:avLst/>
          </a:prstGeom>
          <a:ln w="0">
            <a:noFill/>
          </a:ln>
        </p:spPr>
      </p:pic>
      <p:sp>
        <p:nvSpPr>
          <p:cNvPr id="648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0E67-84D3-4627-A3AA-22907306189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gisters are special storage areas in the C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ir function is to hold instructions, data values, memory addresses of both the instructions and da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re are 4 basic types of it: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CU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L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Instruction register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instructio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ddress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address of( data , next instruction 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Storage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ore data retrieved from main memory prior to process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ccumula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ore the results of arithmetic &amp; logic oper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C01D-454E-4E2A-8FE7-9C6981E120E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clock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enerates regular electronic pulses , or ticks, that control the timing of all computer operations ( i.e. set operating pace of components of system un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e of system  clock is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clock speed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lock speeds are  in the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gigahert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GHz) range (1 GHz =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ion ticks of system clock per seco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AA5F-E91F-488D-874D-00EFD45BC2C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urrent personal computers support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or begins fetching a second instruction before it completes the machine cycle for the first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Content Placeholder 8" descr="Fig4-06.gif"/>
          <p:cNvPicPr/>
          <p:nvPr/>
        </p:nvPicPr>
        <p:blipFill>
          <a:blip r:embed="rId1"/>
          <a:stretch/>
        </p:blipFill>
        <p:spPr>
          <a:xfrm>
            <a:off x="4648320" y="2436840"/>
            <a:ext cx="4038480" cy="2852640"/>
          </a:xfrm>
          <a:prstGeom prst="rect">
            <a:avLst/>
          </a:prstGeom>
          <a:ln w="0">
            <a:noFill/>
          </a:ln>
        </p:spPr>
      </p:pic>
      <p:sp>
        <p:nvSpPr>
          <p:cNvPr id="664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64DF-1E2F-4699-AD32-DEC5EBEA09B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5 – 2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llel processing uses multiple processors simultaneously to execute a single program or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ively parallel processing involves hundreds or thousands of proces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7F88-C000-4D72-B9F0-E60C50116CBF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Picture 9" descr="Fig4-11.gif"/>
          <p:cNvPicPr/>
          <p:nvPr/>
        </p:nvPicPr>
        <p:blipFill>
          <a:blip r:embed="rId1"/>
          <a:stretch/>
        </p:blipFill>
        <p:spPr>
          <a:xfrm>
            <a:off x="2819520" y="2971800"/>
            <a:ext cx="3743280" cy="333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eading manufacturers of personal computer processor chips are Intel and A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52B0-C4D8-4A6E-88A9-F2F98F6AA60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6 – 2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Content Placeholder 6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510552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51920" y="1600200"/>
            <a:ext cx="266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how you plan to use a new computer before selecting a proc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B787-D6B9-4E07-A89E-4126B903A0DF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624852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cessor chip generates heat that could cause the chip to burn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additional coo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t s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cooling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Content Placeholder 9" descr="CFig4-09.gif"/>
          <p:cNvPicPr/>
          <p:nvPr/>
        </p:nvPicPr>
        <p:blipFill>
          <a:blip r:embed="rId1"/>
          <a:stretch/>
        </p:blipFill>
        <p:spPr>
          <a:xfrm>
            <a:off x="5181480" y="1752480"/>
            <a:ext cx="2895840" cy="1925640"/>
          </a:xfrm>
          <a:prstGeom prst="rect">
            <a:avLst/>
          </a:prstGeom>
          <a:ln w="0">
            <a:noFill/>
          </a:ln>
        </p:spPr>
      </p:pic>
      <p:sp>
        <p:nvSpPr>
          <p:cNvPr id="688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7FBC-BBD6-4DB8-98B9-6B00051566BA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9 -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9 – 4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Picture 10" descr="Fig4-10.gif"/>
          <p:cNvPicPr/>
          <p:nvPr/>
        </p:nvPicPr>
        <p:blipFill>
          <a:blip r:embed="rId2"/>
          <a:stretch/>
        </p:blipFill>
        <p:spPr>
          <a:xfrm>
            <a:off x="5181480" y="3809880"/>
            <a:ext cx="2895840" cy="23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Objectives Overview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591" name="Content Placeholder 6" descr=""/>
          <p:cNvPicPr/>
          <p:nvPr/>
        </p:nvPicPr>
        <p:blipFill>
          <a:blip r:embed="rId1"/>
          <a:stretch/>
        </p:blipFill>
        <p:spPr>
          <a:xfrm>
            <a:off x="96840" y="1596960"/>
            <a:ext cx="8950320" cy="4651560"/>
          </a:xfrm>
          <a:prstGeom prst="rect">
            <a:avLst/>
          </a:prstGeom>
          <a:ln w="0">
            <a:noFill/>
          </a:ln>
        </p:spPr>
      </p:pic>
      <p:sp>
        <p:nvSpPr>
          <p:cNvPr id="59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56AF-4D0A-43ED-8AA7-C0AAC9A981F6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e Page 209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 Detailed Objectiv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93" name="Content Placeholder 6" descr=""/>
          <p:cNvPicPr/>
          <p:nvPr/>
        </p:nvPicPr>
        <p:blipFill>
          <a:blip r:embed="rId1"/>
          <a:stretch/>
        </p:blipFill>
        <p:spPr>
          <a:xfrm>
            <a:off x="96840" y="1596960"/>
            <a:ext cx="8950320" cy="4651560"/>
          </a:xfrm>
          <a:prstGeom prst="rect">
            <a:avLst/>
          </a:prstGeom>
          <a:ln w="0">
            <a:noFill/>
          </a:ln>
        </p:spPr>
      </p:pic>
      <p:sp>
        <p:nvSpPr>
          <p:cNvPr id="694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24E0-5436-41FE-925D-B880082C748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3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 computer circuit represents the 0 or the 1 electronically by the presence or absence of an electrical char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Content Placeholder 11" descr="Fig4-12.gif"/>
          <p:cNvPicPr/>
          <p:nvPr/>
        </p:nvPicPr>
        <p:blipFill>
          <a:blip r:embed="rId1"/>
          <a:stretch/>
        </p:blipFill>
        <p:spPr>
          <a:xfrm>
            <a:off x="457200" y="3255840"/>
            <a:ext cx="4040280" cy="258624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8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Eight bi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ed together as a unit are called a </a:t>
            </a:r>
            <a:r>
              <a:rPr b="1" lang="en-US" sz="2200" spc="-1" strike="noStrike">
                <a:solidFill>
                  <a:srgbClr val="a52439"/>
                </a:solidFill>
                <a:latin typeface="Calibri"/>
              </a:rPr>
              <a:t>byt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A byte represents a single character in the computer ( numbers, upper or lower case letters, or punctuation mark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Content Placeholder 12" descr="Fig4-13.gif"/>
          <p:cNvPicPr/>
          <p:nvPr/>
        </p:nvPicPr>
        <p:blipFill>
          <a:blip r:embed="rId2"/>
          <a:stretch/>
        </p:blipFill>
        <p:spPr>
          <a:xfrm>
            <a:off x="4724280" y="3581280"/>
            <a:ext cx="4191120" cy="2286000"/>
          </a:xfrm>
          <a:prstGeom prst="rect">
            <a:avLst/>
          </a:prstGeom>
          <a:ln w="0">
            <a:noFill/>
          </a:ln>
        </p:spPr>
      </p:pic>
      <p:sp>
        <p:nvSpPr>
          <p:cNvPr id="70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243B-BBE3-43C5-9083-17D63A91F354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12 – 4-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fferent combinations of 0s and 1s are defined by patterns called </a:t>
            </a:r>
            <a:r>
              <a:rPr b="0" lang="en-US" sz="2400" spc="-1" strike="noStrike">
                <a:solidFill>
                  <a:srgbClr val="a52439"/>
                </a:solidFill>
                <a:latin typeface="Calibri"/>
              </a:rPr>
              <a:t>a coding sche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coding schemas used to represe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II—American Standard Code for Information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Personal Computers – PC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BCDIC—Extended Binary Coded Decimal Interchange C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Mainframes, Mini-computer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5A61-7876-487E-AEEF-34D79C2B3972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09680" y="4952880"/>
            <a:ext cx="4353120" cy="14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CII is the most widely used coding scheme to represen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Content Placeholder 13" descr="Fig4-14.gif"/>
          <p:cNvPicPr/>
          <p:nvPr/>
        </p:nvPicPr>
        <p:blipFill>
          <a:blip r:embed="rId1"/>
          <a:stretch/>
        </p:blipFill>
        <p:spPr>
          <a:xfrm>
            <a:off x="1523880" y="2658960"/>
            <a:ext cx="6248520" cy="4199040"/>
          </a:xfrm>
          <a:prstGeom prst="rect">
            <a:avLst/>
          </a:prstGeom>
          <a:ln w="0">
            <a:noFill/>
          </a:ln>
        </p:spPr>
      </p:pic>
      <p:sp>
        <p:nvSpPr>
          <p:cNvPr id="714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867D-2A04-4BF7-917A-B64B81627F1E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B18E-9037-4917-A600-E5A142659C60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Content Placeholder 3" descr=""/>
          <p:cNvPicPr/>
          <p:nvPr/>
        </p:nvPicPr>
        <p:blipFill>
          <a:blip r:embed="rId1"/>
          <a:srcRect l="0" t="0" r="3447" b="7965"/>
          <a:stretch/>
        </p:blipFill>
        <p:spPr>
          <a:xfrm>
            <a:off x="457200" y="16765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522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 unit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case that contains electronic components of the computer used to process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of metal or plastic to protects the internal components from da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computers have a system unit. It is available in variety of shapes &amp; siz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C65E-7944-434B-9D5E-C7CDC5459CA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oter Placeholder 3"/>
          <p:cNvSpPr/>
          <p:nvPr/>
        </p:nvSpPr>
        <p:spPr>
          <a:xfrm>
            <a:off x="274320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C20E-F8E9-42B1-91CE-828754610D44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6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ide of the system unit on a desktop personal computer 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C20E-8A5C-43F4-8645-F862136B436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Diagram 6" descr=""/>
          <p:cNvPicPr/>
          <p:nvPr/>
        </p:nvPicPr>
        <p:blipFill>
          <a:blip r:embed="rId1"/>
          <a:stretch/>
        </p:blipFill>
        <p:spPr>
          <a:xfrm>
            <a:off x="401760" y="2724120"/>
            <a:ext cx="2322360" cy="3591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9" descr=""/>
          <p:cNvPicPr/>
          <p:nvPr/>
        </p:nvPicPr>
        <p:blipFill>
          <a:blip r:embed="rId2"/>
          <a:stretch/>
        </p:blipFill>
        <p:spPr>
          <a:xfrm>
            <a:off x="2971800" y="2743200"/>
            <a:ext cx="54878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52280" y="1600200"/>
            <a:ext cx="4724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motherbo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main circuit board of the system un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ansion slots, processor chips, and memory sl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calle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stem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9DA4-86C9-493E-9929-D577CC5C08E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6" descr="CFig4-03.gif"/>
          <p:cNvPicPr/>
          <p:nvPr/>
        </p:nvPicPr>
        <p:blipFill>
          <a:blip r:embed="rId1"/>
          <a:stretch/>
        </p:blipFill>
        <p:spPr>
          <a:xfrm>
            <a:off x="5029200" y="1752480"/>
            <a:ext cx="388620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617" name="Group 21"/>
          <p:cNvGrpSpPr/>
          <p:nvPr/>
        </p:nvGrpSpPr>
        <p:grpSpPr>
          <a:xfrm>
            <a:off x="7846920" y="6402240"/>
            <a:ext cx="860400" cy="271440"/>
            <a:chOff x="7846920" y="6402240"/>
            <a:chExt cx="860400" cy="271440"/>
          </a:xfrm>
        </p:grpSpPr>
        <p:sp>
          <p:nvSpPr>
            <p:cNvPr id="618" name="AutoShape 22">
              <a:hlinkClick r:id="" action="ppaction://hlinkshowjump?jump=nextslide"/>
            </p:cNvPr>
            <p:cNvSpPr/>
            <p:nvPr/>
          </p:nvSpPr>
          <p:spPr>
            <a:xfrm>
              <a:off x="7873920" y="6402240"/>
              <a:ext cx="833400" cy="271440"/>
            </a:xfrm>
            <a:custGeom>
              <a:avLst/>
              <a:gdLst>
                <a:gd name="textAreaLeft" fmla="*/ 17280 w 833400"/>
                <a:gd name="textAreaRight" fmla="*/ 816120 w 833400"/>
                <a:gd name="textAreaTop" fmla="*/ 17280 h 271440"/>
                <a:gd name="textAreaBottom" fmla="*/ 254160 h 271440"/>
              </a:gdLst>
              <a:ahLst/>
              <a:rect l="textAreaLeft" t="textAreaTop" r="textAreaRight" b="textAreaBottom"/>
              <a:pathLst>
                <a:path w="66259" h="21600">
                  <a:moveTo>
                    <a:pt x="0" y="0"/>
                  </a:moveTo>
                  <a:lnTo>
                    <a:pt x="66259" y="0"/>
                  </a:lnTo>
                  <a:lnTo>
                    <a:pt x="66259" y="21600"/>
                  </a:lnTo>
                  <a:lnTo>
                    <a:pt x="0" y="21600"/>
                  </a:lnTo>
                  <a:close/>
                </a:path>
                <a:path fill="lightenLess" w="66259" h="21600">
                  <a:moveTo>
                    <a:pt x="0" y="0"/>
                  </a:moveTo>
                  <a:lnTo>
                    <a:pt x="66259" y="0"/>
                  </a:lnTo>
                  <a:lnTo>
                    <a:pt x="64859" y="1400"/>
                  </a:lnTo>
                  <a:lnTo>
                    <a:pt x="1400" y="1400"/>
                  </a:lnTo>
                  <a:close/>
                </a:path>
                <a:path fill="darken" w="66259" h="21600">
                  <a:moveTo>
                    <a:pt x="66259" y="0"/>
                  </a:moveTo>
                  <a:lnTo>
                    <a:pt x="66259" y="21600"/>
                  </a:lnTo>
                  <a:lnTo>
                    <a:pt x="64859" y="20200"/>
                  </a:lnTo>
                  <a:lnTo>
                    <a:pt x="64859" y="1400"/>
                  </a:lnTo>
                  <a:close/>
                </a:path>
                <a:path fill="darkenLess" w="66259" h="21600">
                  <a:moveTo>
                    <a:pt x="662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859" y="20200"/>
                  </a:lnTo>
                  <a:close/>
                </a:path>
                <a:path fill="lighten" w="662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6259" h="21600">
                  <a:moveTo>
                    <a:pt x="26123" y="3794"/>
                  </a:moveTo>
                  <a:lnTo>
                    <a:pt x="40136" y="10800"/>
                  </a:lnTo>
                  <a:lnTo>
                    <a:pt x="26123" y="17806"/>
                  </a:lnTo>
                  <a:close/>
                </a:path>
              </a:pathLst>
            </a:custGeom>
            <a:solidFill>
              <a:srgbClr val="ffb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Text Box 23"/>
            <p:cNvSpPr/>
            <p:nvPr/>
          </p:nvSpPr>
          <p:spPr>
            <a:xfrm>
              <a:off x="7846920" y="6407280"/>
              <a:ext cx="46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eece1"/>
                  </a:solidFill>
                  <a:latin typeface="Times New Roman"/>
                </a:rPr>
                <a:t>N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0" name="Rectangle 30"/>
          <p:cNvSpPr/>
          <p:nvPr/>
        </p:nvSpPr>
        <p:spPr>
          <a:xfrm>
            <a:off x="380880" y="1752480"/>
            <a:ext cx="77821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st computers use integrated circuits  also called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chip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, for their CPU and main mem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ory chips are installed on memory module( card) that fit in a slot on the mother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is a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chi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mall piece of semi-conducting material on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grated circuits (I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e etch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C contain many microscopic pathways capable of carrying electrical cur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ach IC can contain millions of elements such as resistors, capacitors, transisto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176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37"/>
          <p:cNvSpPr/>
          <p:nvPr/>
        </p:nvSpPr>
        <p:spPr>
          <a:xfrm>
            <a:off x="304920" y="3000240"/>
            <a:ext cx="778176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2888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7" descr="04PHY011_ChipScaleClock2_HR"/>
          <p:cNvPicPr/>
          <p:nvPr/>
        </p:nvPicPr>
        <p:blipFill>
          <a:blip r:embed="rId1"/>
          <a:stretch/>
        </p:blipFill>
        <p:spPr>
          <a:xfrm rot="849600">
            <a:off x="7508520" y="2976480"/>
            <a:ext cx="1471680" cy="15130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r100004large"/>
          <p:cNvPicPr/>
          <p:nvPr/>
        </p:nvPicPr>
        <p:blipFill>
          <a:blip r:embed="rId2"/>
          <a:stretch/>
        </p:blipFill>
        <p:spPr>
          <a:xfrm rot="1036200">
            <a:off x="7735680" y="4644720"/>
            <a:ext cx="12222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process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so called 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entral processing uni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P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interprets and carries out the basic instructions that operat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ol un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ithmetic logic unit (ALU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work together to perform processing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0795-2BF0-4BBD-A0AF-C15B2A6C47BA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Diagram 6" descr=""/>
          <p:cNvPicPr/>
          <p:nvPr/>
        </p:nvPicPr>
        <p:blipFill>
          <a:blip r:embed="rId1"/>
          <a:stretch/>
        </p:blipFill>
        <p:spPr>
          <a:xfrm>
            <a:off x="244440" y="4340160"/>
            <a:ext cx="8960040" cy="229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31" name="Content Placeholder 6" descr="Fig4-04.gif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63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313E-CAD7-46CB-BAED-4689292FBDCE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11:12Z</dcterms:created>
  <dc:creator>steven</dc:creator>
  <dc:description/>
  <dc:language>en-US</dc:language>
  <cp:lastModifiedBy>Nawal</cp:lastModifiedBy>
  <dcterms:modified xsi:type="dcterms:W3CDTF">2014-02-05T19:36:09Z</dcterms:modified>
  <cp:revision>1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FB6436308CE4449AEA8207A63B4C9CB</vt:lpwstr>
  </property>
</Properties>
</file>