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0D7D-96F0-40B7-B818-3D177F6B3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1D88-9085-48B2-8FD6-A32AD6FE8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2B9-3A2A-4003-AE7E-E0F4F8942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DE65-FC84-4B2A-891A-BC336D5E8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6BE9-7BE9-41A5-9B9B-2A7DD3BFF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2D8C-51A1-49F3-BCA4-6198222E8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53A3-9E5E-4EA6-8D45-BE8ECE9DC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383F-FDAE-480F-86C1-6D0624811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87F8-C364-495E-9057-124C3630D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0141-4ECA-4704-90F6-6BFD00442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029A-8CA0-4912-9111-9C702059C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081-F3A5-4907-9159-C1B6A10E1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D8F7-AC08-40AE-A965-F3EC8718D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0B6A-6E2C-45B2-8063-CA3E51753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8E53-DA8A-4560-9277-7AA93CFE1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72A-41D9-434D-8B35-D75B8EE57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7AF1-BA9A-4A2E-8B2A-CB738A840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DB7A-2469-4592-ABC6-DED16FE87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2268-403A-46E3-BC35-5ACC86480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9C3A-4EDC-4861-9AED-F24109C2D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97A8-B70B-4B6F-8A0C-63A312186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7513-FAFA-446D-89A6-B354FE5AE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A076-A4C1-4955-8BA2-151455B6F5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F4DAF-30DF-4F73-BDDC-48A1B089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CB851-089D-456F-AB99-B91711F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9A834-0318-4F44-95A0-63AFC154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9D892-6EFE-4096-9DC6-02FCC5E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398F0-B3F7-4D8C-AD16-AA72162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28939-7906-439D-A595-4D8C12D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D28B0-A975-47AD-B19F-4BF37820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4AC9A-8333-4FE6-9BA7-F061287B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C4486-9F91-4A25-A5BF-3245B197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8C200F-9B94-4908-BC05-C6DD6426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13BE-87FA-409E-BF28-A10B446C3B7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82ED6-12F1-4003-9D8A-4A4E4506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33D87D-29CD-4162-9002-CF34FBA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BE1EB-4F12-4F6C-8945-D8F53858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88763E-5360-443C-A593-4362B7DE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C77EA3-1981-4C39-A7B6-6CD6CF12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950EE-E889-4EA6-93AB-F995C13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AECC7-5928-41DE-BD83-08E398D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794F9-7FD3-4B3B-9F92-150FB90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256A3-3628-4E26-AF05-C8F6AE5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37EEEB-F64C-424D-87F9-DDA8DE91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38AD-8EDE-4701-B453-E1B1939FF1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A06C7-D18E-4187-8DEC-D1E82A85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56C41-D7E6-4128-9526-718051F0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91D896-7E8A-493C-BAD7-1863BE29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338FB-1316-49B6-A9F1-7E83BA7F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684957-7E89-41A6-9C65-BBF501CF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D359D-5879-45FC-8CE2-6EA17F4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9E2F2A-F332-4924-B8B2-FC32264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0E009-2E54-40FE-91E5-38AD60D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61D4C-387B-4918-A9FF-B4E1DC5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C11DB-7032-46FD-B9F6-574BD2C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9563E7-BBDB-4268-A72A-193E5524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3AB03-7CD5-4264-8F71-D10BFE22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0D7D6-84E0-4865-8EB2-C389713D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DA09E-E74D-46B3-BF9A-FA98E229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10721D-8053-4A33-AACC-1A3DC6B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C74201-72A5-4E82-BACA-87A3F868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CE3B68-9E0D-49D4-A6B6-A013A975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9A5CDC-96F9-44C5-830B-BAAFAE53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7DEACB-C053-425A-AA92-28B21353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2D3C2-E949-4035-9B62-E8F2E0B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E92CFF-B8AD-43FB-9ED7-C316064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271E0E-ADA2-4A47-BBF0-D688461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9FEF9F-1AFB-477B-B5F0-F1052CA8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4757F8-B577-4CEE-9C07-8B4E0559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3A5DE-11F8-4CF5-829B-A70EAAF9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145B84-C1D3-4493-8321-7ABC47B6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2C3A63-8125-40C5-B44A-B12BF0F7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03CB21-D308-4362-89FB-3AD016C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10ACE7-A79B-49D3-BC24-10048188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3A03D7-34D6-48FD-907B-653E026E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118ECA-1530-4C58-9F1B-E3430EF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91E651-7F46-479D-B43A-5336F870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A3D6B3-B317-47F2-B532-73A3688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798C38-44B2-41FC-B423-42848238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8E9816-341B-4AAD-BA6B-BC8466F9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A5087E-CD1F-4F4D-B907-70D4534B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D4055E-A0A7-42AF-AA84-9D193388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9B7F-4831-4C70-B781-E50AE6D2C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50B76-6F82-4BDB-A8BD-3E67834B97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FA58F-1E5C-4E8A-856B-B6DF3F899C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EC4A-1FEF-4D48-9470-F1AB369D47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D955F-D6F4-40B3-8268-BE1C90063F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32038-51DE-40B2-8938-B57B7868E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6131-96DD-4DC6-A3BF-8F589565D6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8B527-1723-4991-AF90-3B3CA33C87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E639C-5F31-44C1-8E96-E12D5542AD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A2BB0-3878-49A9-ACDE-B6E3CB4087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ABE3-F733-4671-92F1-2363482D18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6B232-40D1-49AE-82A6-1DDD536F23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FA58B-0614-4EDE-8601-A3771718DB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7FE06-CF4C-4BF9-A09A-E761892800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BF85A-74E6-45EA-8C58-9A516480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BAA86-640C-40B4-85C8-AD0DC4E2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466B2-8BB9-49EB-8D08-36495A06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C8BB-6017-459E-B0A9-337224F8E3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BA9A1-7CF5-4C5D-B4BE-0BD2E80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B7A54-2CE7-45D8-97D7-08E13B73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DED28-EADA-4E2F-BF51-FB0AD137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6DEB8-CC74-479E-80E5-88F6CBC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9CB25-72A2-480B-827B-47BD6E3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F314C-1616-419D-832B-88E105A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85B78-8097-44D4-AB37-62B3048D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D537B-1EB0-425B-9E75-E2060B2A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7584D-B17B-41F8-ABA3-A0A0CFCE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ECAE-F5AA-474B-861D-F113FA8F9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1C07-3976-4F54-BDEA-21C6B1FE9C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E62E-70C4-40F8-82C2-DCEEB96BEC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33C3-C051-4CB1-A6D5-3DE5EF5D42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ED22-5B12-475B-9749-E09336F87A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C64E-4F22-4604-8803-4C28EA3E64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91D3-90BC-4B17-95F3-11393A9B00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825D-AA08-4672-9076-4346EE4CD4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FCBA-93A8-4C3D-A1E1-6A7EBC5673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1739-B2FD-4B12-AB53-21DBFD4AE0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98F6-49A6-4A84-B597-83387E9284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4093-CF6B-46DE-AD9D-36B323157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E29D-6456-4E8C-BCBE-2982E41858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BE25-8BBD-47A4-B221-C92FB72F84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6CDE0-05FA-4F27-B2E5-57881FCC9B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424C3-B618-404B-9CD6-A653157E30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B1CB8-D793-4AED-AA56-7BAD9D5B0A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F6E19-92C0-4C2F-B5A4-FA5622AC26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788D4-F1CC-463B-98D7-F7D478A12B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6883D-83C3-481D-BEFF-594F5D8C95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2D55D-4993-4CC5-95AF-7A205BA2C5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CADE9-E9EC-439F-89FD-8468C5EC01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BFE81-D045-44DF-8A0D-470FF7A6B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E95A-13E4-4BA7-983A-B6D4D814A0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1FD9A-3FC8-4AA5-A4AC-AF210FA10CA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17F04-DB47-416A-8729-2AA158EFBE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7A40D-B14D-4D55-9182-E91E12AD22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8CA4A-83BD-4999-840C-F91D502B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9C914-AD5F-4230-B1CD-55DE1BB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2FBD7-5164-4F4A-8764-F64C7F4C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8CB6F-DEBE-4925-AED9-3FDA097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6E98A-F819-4814-A206-E69BA536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8B27C-2897-45EF-8F33-CD30EBD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F5F09-6F4A-40E8-AE39-255D0C1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D429-CA07-4B9F-9F9C-4DAB2A37CB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65AF1-9CAB-4AE5-A034-696C070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A6AAB-1211-46BA-A523-BED1085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4620D-8E4E-410C-9AB0-711D9F29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9AEEE-C6E5-4154-986F-CD5E3217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48AF3-53FC-46FF-A2C5-5693B67E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5ACC2-AF96-4A88-867B-5864CF87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B4682-5793-433F-B398-1C75375B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48E42-3B62-47A3-B817-FA609823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3A2D1-1587-45C1-8530-553A224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1EB77-D171-44D1-8231-F846DE41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69EE-6734-4E32-9C3A-7880668750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23940-F8F0-4E43-8DE9-C3AFD74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D4AA4-C232-4DE6-9219-46F390B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AD4AF-D914-45B2-BBA9-AE859E8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989D9-FF6B-4CFB-9FE0-7B689672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A5046-D7BE-4F79-878F-EFDEA0A7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4DBDC-414B-4BF8-BDF1-734654C5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E15A8-13CF-4DCA-AD81-2B3B55F2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F5753-740B-4FF9-B1C1-06DB9AF1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3A8AC-1536-4A7A-968B-15103285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E4EA2-A722-4CEA-A482-A0BEF74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232-2BB5-47C0-807D-B838176A619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639-BF46-4A34-86EF-2B7D3714410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F92-19CC-499B-A995-4862B2991665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3EE-FE68-4A08-BC9B-D74FB409E68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13C4-5BD4-455F-9DF2-B787358115F7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5D40-8469-438F-A49F-DA2AE0B70A5A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609-27C9-4D56-ADA9-AD676EA59FCD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A0BB-8DAF-444F-883D-6A85B2C816D9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4EA-4522-49E9-ACE1-5D78EC99E1A9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339-A83F-403B-A7F0-0B5453C2335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B92-3EAF-426B-B7C4-0A5439089C6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9E9D-610C-4DA1-867E-BD3E5F274361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4D3B-4D10-4C2F-97B3-7B984B4D4A4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2" name="Content Placeholder 9" descr=""/>
          <p:cNvPicPr/>
          <p:nvPr/>
        </p:nvPicPr>
        <p:blipFill>
          <a:blip r:embed="rId1"/>
          <a:stretch/>
        </p:blipFill>
        <p:spPr>
          <a:xfrm>
            <a:off x="12600" y="1603440"/>
            <a:ext cx="9058320" cy="4645080"/>
          </a:xfrm>
          <a:prstGeom prst="rect">
            <a:avLst/>
          </a:prstGeom>
          <a:ln w="0">
            <a:noFill/>
          </a:ln>
        </p:spPr>
      </p:pic>
      <p:sp>
        <p:nvSpPr>
          <p:cNvPr id="64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2AAE-AD16-4152-88C9-FC7B93D2AD9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9FDB-FEA4-45AE-82FC-C2A976744FC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197F-FB08-4427-93BA-785FCF28201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59D-D1AF-43CA-923E-126EEEEBC0F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04D0-A587-4A6C-8748-AB912DC4EA3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CA4B-0CC9-497B-8F47-23F8A79B9A0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7BC3-4570-423F-855C-0D0247F6870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86E-43B2-4738-B495-DF589EA2169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88" name="Content Placeholder 6" descr=""/>
          <p:cNvPicPr/>
          <p:nvPr/>
        </p:nvPicPr>
        <p:blipFill>
          <a:blip r:embed="rId1"/>
          <a:stretch/>
        </p:blipFill>
        <p:spPr>
          <a:xfrm>
            <a:off x="30240" y="1603440"/>
            <a:ext cx="9016920" cy="4645080"/>
          </a:xfrm>
          <a:prstGeom prst="rect">
            <a:avLst/>
          </a:prstGeom>
          <a:ln w="0">
            <a:noFill/>
          </a:ln>
        </p:spPr>
      </p:pic>
      <p:sp>
        <p:nvSpPr>
          <p:cNvPr id="68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BD82-79CC-413B-A9DE-AA4A052DF6B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2B50-F1AF-4435-B5F0-06DF1271D18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CCC7-2300-492B-BED0-B13BAAE9FE6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9C2C-EAA7-4420-9337-CB3916E43CE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09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377-9F95-4631-9626-A59D1304442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0E7-2EE5-49C1-938D-5BF739DC5E2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D776-AA30-4174-84F8-2CD81A89DB8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E06-2CE3-4189-9F94-31EE642CBA8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Diagram 6" descr=""/>
          <p:cNvPicPr/>
          <p:nvPr/>
        </p:nvPicPr>
        <p:blipFill>
          <a:blip r:embed="rId1"/>
          <a:stretch/>
        </p:blipFill>
        <p:spPr>
          <a:xfrm>
            <a:off x="341280" y="2712960"/>
            <a:ext cx="2382840" cy="36640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201-A471-447D-B0A2-D06E5275BCF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2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3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CA2E-59A8-45C8-A963-FDFCB5147AB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Diagram 6" descr=""/>
          <p:cNvPicPr/>
          <p:nvPr/>
        </p:nvPicPr>
        <p:blipFill>
          <a:blip r:embed="rId1"/>
          <a:stretch/>
        </p:blipFill>
        <p:spPr>
          <a:xfrm>
            <a:off x="109440" y="4346640"/>
            <a:ext cx="9339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26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D7B8-CA29-4F36-8BDD-D18D47447CE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92F4-E9FD-4F8B-87F5-C2AFB6D76A2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Abdulrahman Abdullah O Alomair</cp:lastModifiedBy>
  <dcterms:modified xsi:type="dcterms:W3CDTF">2017-10-30T16:00:13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