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4E0C-2F9A-4479-A5D0-64C958C4E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743D-3B04-4E8A-9BB1-419986829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For every instruction, a processor repeats a set of four basic oper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Fetch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obtaining a program instruction or data item from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Decod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translating the instruction into signals the computer can exec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Execut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 of carrying out the comma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Storing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, if necessary. Means writing the result to </a:t>
            </a:r>
            <a:r>
              <a:rPr b="0" i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F607-8FB5-45A4-A343-9641BBD73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067-4D40-4E3D-8823-FB5F20EE0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ing actions occur at each “tick” of the electronic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Speed of the clock determines the speed at which the CPU can process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faster  the clock speed, the more instruction the processor can execute per second (hertz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4249-72CA-4E62-AA84-18E392C5C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23C7-FB9D-4D4B-95C9-03A0A663D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28C6-C43E-42ED-849A-6BE9F821A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y often identify their processor chip by a model name or mode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Other leading processor chip manufactur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rans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otoro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IBM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processor had a   different design from the Intel-style proces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84E6-B85B-4F35-BD7B-291DBEDA5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97E5-6C9A-45B5-A7D3-0160350FC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55EA-32A6-438F-9F07-4DAA822D0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3E67-A5E0-4D10-B62A-7FA42E03C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29D-0345-417B-9403-1AB42AB1F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D6D8-A44E-46C5-B1EA-41BBC3DF6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2DD8-0E7B-4C49-ADB5-C99D6047D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E092-AA13-4DAE-AD8E-5AEAEA5F9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6B15-EA27-49F2-BF45-C370F4A3D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interprets &amp; carries out the basic instructions that operate a compu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 holds data waiting to be processed &amp; instruction waiting to be execu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cessor &amp; Memory are connected to a circuit board called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dapter cards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are circuit boards that provide connections and functions not built into the mother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evices outside the system unit often attach to the </a:t>
            </a: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A drive ba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holds one or more disk dr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w Cen MT Condensed"/>
              </a:rPr>
              <a:t>The Power supply </a:t>
            </a: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provide the computer with the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97ED-5415-4869-96CA-D4C753B5F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Many electronic components attach to the motherboard, others are built into it. Ex: adapter cards, a processor chip and a memory mod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E2B7-F5BD-4781-8DF8-5D0B96A30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dual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single chip that contains tw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d94439"/>
                </a:solidFill>
                <a:latin typeface="Times New Roman"/>
              </a:rPr>
              <a:t>multi-core process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 a chip with two or mor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parate process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-40644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ach processor on a dual-core/multi-core chip generall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uns at a slower clock speed, but increase overall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06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19C9-FABD-4278-B4F6-2BB388B14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The operations typically performed by a CPU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reading of programs and input f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Its activates input unit to read program and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Controls the transmission of program &amp; data files from disk to main mem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process data according to instructions in a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processed arithmetically- number can be added, subtracted, multiplied and di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Logical tests can be performed on data. E.g., compa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 Condensed"/>
              </a:rPr>
              <a:t>Data can be transmitted or copied from one area of primary storag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w Cen MT Condense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"/>
              </a:rPr>
              <a:t>CPUs control the creation of outp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FAFD-F820-4812-AF7D-F1D6C545E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2832-2C1E-413A-8B4B-0D8028F2F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BC41-677D-459C-939F-5549FD56C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ECC3-8129-4C3C-8F0E-C6CAD01C706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E288C-F95F-457C-B853-DAD4762A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168D3-EEB2-4D09-9FE2-06377FD8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7859A-2AC4-4F34-BA38-C46E270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A1E569-C210-4813-827E-B69E6F7B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C6EB2-6FA7-403B-B356-151C5B89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A37A3-5FAF-482A-894D-3F6C7210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42F64-3297-4338-97C0-A9015AA7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880C2-6485-4CFF-BAC6-CA6E743B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984B6-81D5-4C52-A289-66514177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899CC1-C659-49D4-9317-B763CD96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E977-FC9B-4B2C-BB65-4FF9EE7569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7B98E-80D2-475B-B381-5C0991F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8BFBDF-702F-44D1-AE6C-3EAEA413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59356E-55D7-43AC-A9B2-047AE336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4FD23-4A0E-49FA-AFDC-3D7DD7B6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6A5B14-4A0B-456D-8575-1CC2445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5FA62-B57A-4AF9-A940-7F623E0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291BA-C89D-4303-B2EE-3CA42814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6FFDA0-455D-4145-A146-2FD68E9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2814A-F30D-4125-B2C3-C1BFE7EB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BAC34-E546-44C9-8560-544489D9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7E85-5BDD-4881-89ED-EAB76EFB669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E3BC9-59A6-4328-9CDD-2AC2FAEB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62FA5-240A-4714-9AF1-5DB6F794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1D82E-5D61-475F-AD85-435334CE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DF5D4-F56E-4C31-9100-3C278EA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2670D-8D0E-41F4-8F1F-3648FBD8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8F4BDC-F14D-4EDF-9CDB-847D04AD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B9F899-C750-4C86-AE86-6E0A30B0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2FE48F-A2E9-4EAC-8DFC-0ECF2409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BC108-BBB8-45D9-BCCF-944CE6E6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CDC63-43DF-496E-9019-9CFD354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82AF93-9A98-4573-9ECC-E451DCCF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D9A4B-8042-4426-B46C-28C212ED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4D0790-F788-4522-BD6D-0928EE44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E85F61-4FA3-4CA1-9CBE-79B2150B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2E99BE-92F8-40F5-974B-4B7AED63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BEEA43-855C-4834-8FD4-62C32EAB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F5207-F22D-4060-A449-5162707A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94F8C9-830C-496A-B9B9-B3B819A9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349FD5-63B1-489E-BE62-75CF6F94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70BC6A-5447-47D2-AC64-DE6DB7C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335715-31E9-48C5-93ED-37047CF8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05581C-B176-483F-BCF5-2FBC729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D440E3-E542-4F46-90AA-B04019F8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D6F8A6-7A90-4656-84C7-C894CC8B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71C821-2137-4FD7-9688-6D1ABD61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DE9234-9B8B-4472-A456-9F55F800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08484E-FEBF-4F78-A285-4227DD8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C853B7-341C-46BF-8B09-D32DF1D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D4FA9F-7416-4847-96E5-94C9BD94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08AA0B-42E9-4011-BA51-631FE138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9C8427-2A8E-415C-989A-1764640B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F65A3E-0D47-4FD2-8454-751B10F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C8B052-0EAD-48F3-92BB-65F90EF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296253-98ED-474D-9A55-0CD425A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037318-3E04-4D72-81E5-7FFFAAE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BC8F64-9FA1-4216-8E9F-FB899E2A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0F2D17-B0F2-4661-B332-AF630CA7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7884-2ACE-41FC-9237-1433207A4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C58CA-F8D3-40C3-B7C1-6195CE5E30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831F3-D445-44C4-ADA7-679909B5BD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C2841-CBE2-4F2C-810A-678661B8C2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CABF5-9E28-4F90-9A95-775A785E8F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5E2C7-2193-4D6E-A447-279A9C787E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6233-13DC-4E7A-BB73-771894DFE4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F8633-7CEF-40D9-B74E-82B7850D3C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AB958-F227-4DE0-84B5-7ECE273069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A37EF-A5B2-4B46-9CFB-8ABDA31711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0934E-C3FE-4F46-BFFD-01B414B5F0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C56B0-2A9B-41E4-B5E6-5EDEDB8809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DCB06-1F79-43AD-839A-F4D30A2F2A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E6B92-0E36-49BD-AC70-079752E863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81C77-B941-4CC2-8FC6-7A60363D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B8F93-2F12-47F2-A83C-CE120497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875F20-075A-4CCA-B31F-7637B37A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A852-2D52-478F-98BA-C101A5C3C6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53BE8-A9DA-4B85-ADD3-B4FC8C1A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CF95E-DF14-4F4F-AEC4-66E95713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24C51-89F3-4A28-B198-B862FD9A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1A89A-E465-41DD-A94B-674248C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DAF00E-9282-40AE-B1EE-CEF3A705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D825C-4860-49B3-9EFB-D50B3E8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7D8D8A-20B6-4ABF-9FC8-CCD9F0CF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48857-1029-4874-A1FA-D96FD3FE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83292-988D-4657-BD50-B4ADF88F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B240-01D7-44A9-BFD7-A8B7D5962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C1D6-22C5-479E-8630-771ACC1AB4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A1AB-C729-41D8-8860-AC4BF1EAD3F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15C5-01C3-41CD-8B76-6224A07592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2FBA-5904-48A8-9E24-6C3C4A3680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9175-B9BE-45AA-BF34-21ADA38EB9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09BB0-2763-4340-A330-8780B413BFE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012A-58CE-4006-94A0-2F81892953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1FE8-D1F3-45D0-B4E2-A8040AEC0D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1042-DF64-4F0D-9AC8-8385213387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FED2-8A55-444F-A81C-94DC84A044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E445-B3E2-41F4-B9FD-B8201AC44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34EB-BE9C-4600-A7BC-011F25ADBDB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5B80-7E0F-46A5-B740-94C133BB92F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31FC5-C911-4837-B19F-436129A418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C0B7C-4A61-447C-8CF4-0219358182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4ABF3-23C4-4925-8A90-6AE8BF343E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4B539-2663-4354-9189-2C9F715ED1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0C05C-6A2F-4693-AD3A-1D0DFA1442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3D1EF-71FE-4ED0-8795-132CE45BB3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8D639-0CF8-45E9-917C-E4C1F87372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B88FE-1BCB-4F1B-8D24-F8F0D38527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B00D8-E882-4D72-9A79-83A331835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2572-03F2-4996-8C1C-7EC7A274328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16EAC-B75D-494D-B95B-0C37FB551E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4E414-29F0-46A9-A4C2-094F0B4301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31107-2FB6-4637-B5B8-F4A991DFB0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E3F97-04D0-41F8-AFDE-AE735732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2DFCF-007A-46F5-AAB8-6CD869A7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8DA936-0D6C-43F5-8AE7-DEC91409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88B0A-A617-424C-922F-0E18555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52199-8006-417B-955C-630E6E04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E01DC-78FA-4B98-91EB-812503A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33017-F4D7-4D73-A3E9-691028D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75F7-6B29-4EA7-8B34-DDEB9EB7E6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D3617-BB0C-4395-A3D8-541458F1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484BB-B34F-4848-B351-B1B6FF7D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0AFCC-E6FC-4058-894F-F64EF55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D96CE-88F3-4860-95AF-DDAC2325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BF0BC-173D-4DAF-AE73-F9196D83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17611-9564-4EE7-BEE5-68791E84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6B06D-58D3-4C18-A8A1-30F2585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2637B-ABB7-4B7B-9760-3DCF28D0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5C900-8721-4F2B-8D1E-1806DD86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A2C26-4595-4B2A-8F65-E73D9DB3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F48B-C283-4371-953C-ED46982173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3E02E-4070-431C-BCBC-E60FFA9C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9A61F-B7D6-42CC-B3FE-D2D1CB87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E6C8F-6956-4E6A-ADE1-02E2EDB3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7046F-6ABC-41D5-892A-EBAA2B3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52280" y="40284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8F357-8DFC-4E38-9D21-96B39BBD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800" y="16002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5228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1800" y="40284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AB5D4F-49D1-4D28-983B-478BE60F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14100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30080" y="16002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522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14100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30080" y="40284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B1A35-FA46-4442-B1CE-88C1FCFE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11860-3B9E-43FC-8D81-A7A10C7E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DB0FC-1266-4E3C-8A2D-7518DEB5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FCF49-3ABB-49FF-A036-8E078AF4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BD4F-1847-4BAC-83F4-1BCE7644B77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2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3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6857-0354-4934-BFDD-110D08C545AF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4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5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6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9B64-CE27-4941-B2C7-329CFBF50B4B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9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8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E38-0DEB-4A76-B105-040F690D508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53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0"/>
          </p:nvPr>
        </p:nvSpPr>
        <p:spPr>
          <a:xfrm>
            <a:off x="196848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1"/>
          </p:nvPr>
        </p:nvSpPr>
        <p:spPr>
          <a:xfrm>
            <a:off x="1981080" y="6370560"/>
            <a:ext cx="472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2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F3E3-72DC-41B0-8AB9-2751E82B763A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4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4"/>
          <a:stretch/>
        </p:blipFill>
        <p:spPr>
          <a:xfrm>
            <a:off x="5105520" y="3203640"/>
            <a:ext cx="4038480" cy="36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323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itle 1"/>
          <p:cNvSpPr/>
          <p:nvPr/>
        </p:nvSpPr>
        <p:spPr>
          <a:xfrm>
            <a:off x="1219320" y="54864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Your Interactive Guide to the Digital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42670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scover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uters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91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7E96-9E10-4899-86A7-13A6B9387570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35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E444-2FDA-4105-AE05-B6F506901A33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180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B43-F158-4758-975F-F121E2405B74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24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0"/>
          </p:nvPr>
        </p:nvSpPr>
        <p:spPr>
          <a:xfrm>
            <a:off x="274284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1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E5F3-7420-401B-B816-ACE5B5F8F503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3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4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6D80-D4A5-48C4-95EC-F93C037B0899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13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50B9-37E8-43B1-A63B-62D2A42C96C5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Rectangle 8"/>
          <p:cNvGrpSpPr/>
          <p:nvPr/>
        </p:nvGrpSpPr>
        <p:grpSpPr>
          <a:xfrm>
            <a:off x="0" y="1219320"/>
            <a:ext cx="9144000" cy="457200"/>
            <a:chOff x="0" y="1219320"/>
            <a:chExt cx="9144000" cy="457200"/>
          </a:xfrm>
        </p:grpSpPr>
        <p:pic>
          <p:nvPicPr>
            <p:cNvPr id="358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1219320"/>
              <a:ext cx="9144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1932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0" name="Rectangle 10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solidFill>
            <a:srgbClr val="a52439"/>
          </a:solidFill>
          <a:ln w="0">
            <a:noFill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04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9"/>
          </p:nvPr>
        </p:nvSpPr>
        <p:spPr>
          <a:xfrm>
            <a:off x="274284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0"/>
          </p:nvPr>
        </p:nvSpPr>
        <p:spPr>
          <a:xfrm>
            <a:off x="8534160" y="6248160"/>
            <a:ext cx="60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eebc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C127-D069-48BC-9E8A-A90D53F269E3}" type="slidenum">
              <a:rPr b="1" lang="en-US" sz="1200" spc="-1" strike="noStrike">
                <a:solidFill>
                  <a:srgbClr val="eeebc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609480" y="647712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ted by : Noor Alhareq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instruction, a processor repeats a set of four basic operations, which comprise a machin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595B-38DD-4A4B-8E69-AC87C374878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7" descr="CFig4-05.gif"/>
          <p:cNvPicPr/>
          <p:nvPr/>
        </p:nvPicPr>
        <p:blipFill>
          <a:blip r:embed="rId1"/>
          <a:stretch/>
        </p:blipFill>
        <p:spPr>
          <a:xfrm>
            <a:off x="1981080" y="2666880"/>
            <a:ext cx="588168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42" name="Content Placeholder 9" descr=""/>
          <p:cNvPicPr/>
          <p:nvPr/>
        </p:nvPicPr>
        <p:blipFill>
          <a:blip r:embed="rId1"/>
          <a:stretch/>
        </p:blipFill>
        <p:spPr>
          <a:xfrm>
            <a:off x="12600" y="1603440"/>
            <a:ext cx="9058320" cy="4645080"/>
          </a:xfrm>
          <a:prstGeom prst="rect">
            <a:avLst/>
          </a:prstGeom>
          <a:ln w="0">
            <a:noFill/>
          </a:ln>
        </p:spPr>
      </p:pic>
      <p:sp>
        <p:nvSpPr>
          <p:cNvPr id="64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798E-59F1-4FF9-AE01-2EE1069DF90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gisters are special storage areas in the C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ir function is to hold instructions, data values, memory addresses of both the instructions and da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are 4 basic types of it: </a:t>
            </a: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CU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L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Instruction register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instruction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ddress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ld address of( data , next instruction 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Storage register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ore data retrieved from main memory prior to processing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Calibri"/>
              </a:rPr>
              <a:t>Accumula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store the results of arithmetic &amp; logic oper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7B40-D672-4089-A114-D9ADCD8DE4B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clock</a:t>
            </a:r>
            <a:r>
              <a:rPr b="0" lang="en-US" sz="3200" spc="-1" strike="noStrike">
                <a:solidFill>
                  <a:srgbClr val="a5243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generates regular electronic pulses , or ticks, that control the timing of all computer operations ( i.e. set operating pace of components of system uni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 of system  clock is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clock speed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lock speeds are  in the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GHz) range (1 GHz = 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on ticks of system clock per seco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5AE7-1FC0-4C1A-A546-E919361C406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urrent personal computers support 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or begins fetching a second instruction before it completes the machine cycle for the first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Content Placeholder 8" descr="Fig4-06.gif"/>
          <p:cNvPicPr/>
          <p:nvPr/>
        </p:nvPicPr>
        <p:blipFill>
          <a:blip r:embed="rId1"/>
          <a:stretch/>
        </p:blipFill>
        <p:spPr>
          <a:xfrm>
            <a:off x="4648320" y="2436840"/>
            <a:ext cx="4038480" cy="285264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865E-0104-4113-9AC2-781F29D7AEF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5 – 2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llel processing uses multiple processors simultaneously to execute a single program or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ively parallel processing involves hundreds or thousands of process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8731-7C31-4851-9F37-C9FA607EDD87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Picture 9" descr="Fig4-11.gif"/>
          <p:cNvPicPr/>
          <p:nvPr/>
        </p:nvPicPr>
        <p:blipFill>
          <a:blip r:embed="rId1"/>
          <a:stretch/>
        </p:blipFill>
        <p:spPr>
          <a:xfrm>
            <a:off x="2819520" y="2971800"/>
            <a:ext cx="3743280" cy="333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eading manufacturers of personal computer processor chips are Intel and A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7845-C998-48A7-B804-C352ED775D54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6 – 2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3" name="Content Placeholder 6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51920" y="1600200"/>
            <a:ext cx="266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how you plan to use a new computer before selecting a proc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90A0-2E82-453A-B27D-9FDECF908D0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624852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cessor chip generates heat that could cause the chip to burn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 additional coo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t s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cooling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Content Placeholder 9" descr="CFig4-09.gif"/>
          <p:cNvPicPr/>
          <p:nvPr/>
        </p:nvPicPr>
        <p:blipFill>
          <a:blip r:embed="rId1"/>
          <a:stretch/>
        </p:blipFill>
        <p:spPr>
          <a:xfrm>
            <a:off x="5181480" y="1752480"/>
            <a:ext cx="2895840" cy="1925640"/>
          </a:xfrm>
          <a:prstGeom prst="rect">
            <a:avLst/>
          </a:prstGeom>
          <a:ln w="0">
            <a:noFill/>
          </a:ln>
        </p:spPr>
      </p:pic>
      <p:sp>
        <p:nvSpPr>
          <p:cNvPr id="683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A381-61B8-454F-BCDD-E7DE831070A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s 219 - 2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9 – 4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10" descr="Fig4-10.gif"/>
          <p:cNvPicPr/>
          <p:nvPr/>
        </p:nvPicPr>
        <p:blipFill>
          <a:blip r:embed="rId2"/>
          <a:stretch/>
        </p:blipFill>
        <p:spPr>
          <a:xfrm>
            <a:off x="5181480" y="3809880"/>
            <a:ext cx="2895840" cy="23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88" name="Content Placeholder 6" descr=""/>
          <p:cNvPicPr/>
          <p:nvPr/>
        </p:nvPicPr>
        <p:blipFill>
          <a:blip r:embed="rId1"/>
          <a:stretch/>
        </p:blipFill>
        <p:spPr>
          <a:xfrm>
            <a:off x="30240" y="1603440"/>
            <a:ext cx="9016920" cy="4645080"/>
          </a:xfrm>
          <a:prstGeom prst="rect">
            <a:avLst/>
          </a:prstGeom>
          <a:ln w="0">
            <a:noFill/>
          </a:ln>
        </p:spPr>
      </p:pic>
      <p:sp>
        <p:nvSpPr>
          <p:cNvPr id="689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3CF9-85DB-4D1F-A8D9-50431C5C23DC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52280" y="17521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a52439"/>
                </a:solidFill>
                <a:latin typeface="Calibri"/>
              </a:rPr>
              <a:t>system unit</a:t>
            </a:r>
            <a:r>
              <a:rPr b="0" lang="en-US" sz="28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case that contains electronic components of the computer used to proces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of metal or plastic to protects the internal components from dam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computers have a system unit. It is available in variety of shapes &amp; siz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A515-1200-4F39-A7FF-3959B481822B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3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 computer circuit represents the 0 or the 1 electronically by the presence or absence of an electrical char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Content Placeholder 11" descr="Fig4-12.gif"/>
          <p:cNvPicPr/>
          <p:nvPr/>
        </p:nvPicPr>
        <p:blipFill>
          <a:blip r:embed="rId1"/>
          <a:stretch/>
        </p:blipFill>
        <p:spPr>
          <a:xfrm>
            <a:off x="457200" y="3255840"/>
            <a:ext cx="4040280" cy="258624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Eight bi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rouped together as a unit are called a </a:t>
            </a:r>
            <a:r>
              <a:rPr b="1" lang="en-US" sz="2200" spc="-1" strike="noStrike">
                <a:solidFill>
                  <a:srgbClr val="a52439"/>
                </a:solidFill>
                <a:latin typeface="Calibri"/>
              </a:rPr>
              <a:t>byt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A byte represents a single character in the computer ( numbers, upper or lower case letters, or punctuation mark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Content Placeholder 12" descr="Fig4-13.gif"/>
          <p:cNvPicPr/>
          <p:nvPr/>
        </p:nvPicPr>
        <p:blipFill>
          <a:blip r:embed="rId2"/>
          <a:stretch/>
        </p:blipFill>
        <p:spPr>
          <a:xfrm>
            <a:off x="4724280" y="3581280"/>
            <a:ext cx="4191120" cy="2286000"/>
          </a:xfrm>
          <a:prstGeom prst="rect">
            <a:avLst/>
          </a:prstGeom>
          <a:ln w="0">
            <a:noFill/>
          </a:ln>
        </p:spPr>
      </p:pic>
      <p:sp>
        <p:nvSpPr>
          <p:cNvPr id="69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187D-501F-402C-86F6-DFE60D2885D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s 4-12 – 4-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fferent combinations of 0s and 1s are defined by patterns called </a:t>
            </a:r>
            <a:r>
              <a:rPr b="0" lang="en-US" sz="2400" spc="-1" strike="noStrike">
                <a:solidFill>
                  <a:srgbClr val="a52439"/>
                </a:solidFill>
                <a:latin typeface="Calibri"/>
              </a:rPr>
              <a:t>a coding sche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coding schemas used to represent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CII—American Standard Code for Information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Personal Computers – PC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BCDIC—Extended Binary Coded Decimal Interchange C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[Mainframes, Mini-computer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ADA-A477-4B8B-9FA0-B201B89FB5C2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2209680" y="4952880"/>
            <a:ext cx="4353120" cy="146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II is the most widely used coding scheme to repres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Content Placeholder 13" descr="Fig4-14.gif"/>
          <p:cNvPicPr/>
          <p:nvPr/>
        </p:nvPicPr>
        <p:blipFill>
          <a:blip r:embed="rId1"/>
          <a:stretch/>
        </p:blipFill>
        <p:spPr>
          <a:xfrm>
            <a:off x="1523880" y="2658960"/>
            <a:ext cx="6248520" cy="4199040"/>
          </a:xfrm>
          <a:prstGeom prst="rect">
            <a:avLst/>
          </a:prstGeom>
          <a:ln w="0">
            <a:noFill/>
          </a:ln>
        </p:spPr>
      </p:pic>
      <p:sp>
        <p:nvSpPr>
          <p:cNvPr id="709" name="Footer Placeholder 6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7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375-05E5-4F90-B280-97CD6B33A3FE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Data Representation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9791-7107-4490-B777-92371DBD8585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Content Placeholder 3" descr=""/>
          <p:cNvPicPr/>
          <p:nvPr/>
        </p:nvPicPr>
        <p:blipFill>
          <a:blip r:embed="rId1"/>
          <a:srcRect l="0" t="0" r="3447" b="7965"/>
          <a:stretch/>
        </p:blipFill>
        <p:spPr>
          <a:xfrm>
            <a:off x="457200" y="1676520"/>
            <a:ext cx="830592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2743200" y="6356520"/>
            <a:ext cx="380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9446-AF1E-4323-BE1A-F9C683B274B3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The System Unit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ide of the system unit on a desktop personal computer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FE62-6290-4700-98E3-E38F27DBDE2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Diagram 6" descr=""/>
          <p:cNvPicPr/>
          <p:nvPr/>
        </p:nvPicPr>
        <p:blipFill>
          <a:blip r:embed="rId1"/>
          <a:stretch/>
        </p:blipFill>
        <p:spPr>
          <a:xfrm>
            <a:off x="341280" y="2712960"/>
            <a:ext cx="2382840" cy="36640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54878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52280" y="1600200"/>
            <a:ext cx="47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motherboa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main circuit board of the system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ansion slots, processor chips, and memory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called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stem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4BD6-1710-46BE-908D-9CD972030559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6" descr="CFig4-03.gif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Motherboard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grpSp>
        <p:nvGrpSpPr>
          <p:cNvPr id="612" name="Group 21"/>
          <p:cNvGrpSpPr/>
          <p:nvPr/>
        </p:nvGrpSpPr>
        <p:grpSpPr>
          <a:xfrm>
            <a:off x="7846920" y="6402240"/>
            <a:ext cx="860400" cy="271440"/>
            <a:chOff x="7846920" y="6402240"/>
            <a:chExt cx="860400" cy="271440"/>
          </a:xfrm>
        </p:grpSpPr>
        <p:sp>
          <p:nvSpPr>
            <p:cNvPr id="613" name="AutoShape 22">
              <a:hlinkClick r:id="" action="ppaction://hlinkshowjump?jump=nextslide"/>
            </p:cNvPr>
            <p:cNvSpPr/>
            <p:nvPr/>
          </p:nvSpPr>
          <p:spPr>
            <a:xfrm>
              <a:off x="7873920" y="6402240"/>
              <a:ext cx="833400" cy="271440"/>
            </a:xfrm>
            <a:custGeom>
              <a:avLst/>
              <a:gdLst>
                <a:gd name="textAreaLeft" fmla="*/ 17280 w 833400"/>
                <a:gd name="textAreaRight" fmla="*/ 816120 w 833400"/>
                <a:gd name="textAreaTop" fmla="*/ 17280 h 271440"/>
                <a:gd name="textAreaBottom" fmla="*/ 254160 h 271440"/>
              </a:gdLst>
              <a:ahLst/>
              <a:rect l="textAreaLeft" t="textAreaTop" r="textAreaRight" b="textAreaBottom"/>
              <a:pathLst>
                <a:path w="66259" h="21600">
                  <a:moveTo>
                    <a:pt x="0" y="0"/>
                  </a:moveTo>
                  <a:lnTo>
                    <a:pt x="66259" y="0"/>
                  </a:lnTo>
                  <a:lnTo>
                    <a:pt x="66259" y="21600"/>
                  </a:lnTo>
                  <a:lnTo>
                    <a:pt x="0" y="21600"/>
                  </a:lnTo>
                  <a:close/>
                </a:path>
                <a:path fill="lightenLess" w="66259" h="21600">
                  <a:moveTo>
                    <a:pt x="0" y="0"/>
                  </a:moveTo>
                  <a:lnTo>
                    <a:pt x="66259" y="0"/>
                  </a:lnTo>
                  <a:lnTo>
                    <a:pt x="64859" y="1400"/>
                  </a:lnTo>
                  <a:lnTo>
                    <a:pt x="1400" y="1400"/>
                  </a:lnTo>
                  <a:close/>
                </a:path>
                <a:path fill="darken" w="66259" h="21600">
                  <a:moveTo>
                    <a:pt x="66259" y="0"/>
                  </a:moveTo>
                  <a:lnTo>
                    <a:pt x="66259" y="21600"/>
                  </a:lnTo>
                  <a:lnTo>
                    <a:pt x="64859" y="20200"/>
                  </a:lnTo>
                  <a:lnTo>
                    <a:pt x="64859" y="1400"/>
                  </a:lnTo>
                  <a:close/>
                </a:path>
                <a:path fill="darkenLess" w="66259" h="21600">
                  <a:moveTo>
                    <a:pt x="6625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4859" y="20200"/>
                  </a:lnTo>
                  <a:close/>
                </a:path>
                <a:path fill="lighten" w="6625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66259" h="21600">
                  <a:moveTo>
                    <a:pt x="26123" y="3794"/>
                  </a:moveTo>
                  <a:lnTo>
                    <a:pt x="40136" y="10800"/>
                  </a:lnTo>
                  <a:lnTo>
                    <a:pt x="26123" y="17806"/>
                  </a:lnTo>
                  <a:close/>
                </a:path>
              </a:pathLst>
            </a:custGeom>
            <a:solidFill>
              <a:srgbClr val="ffb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Text Box 23"/>
            <p:cNvSpPr/>
            <p:nvPr/>
          </p:nvSpPr>
          <p:spPr>
            <a:xfrm>
              <a:off x="7846920" y="6407280"/>
              <a:ext cx="46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eece1"/>
                  </a:solidFill>
                  <a:latin typeface="Times New Roman"/>
                </a:rPr>
                <a:t>N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Rectangle 30"/>
          <p:cNvSpPr/>
          <p:nvPr/>
        </p:nvSpPr>
        <p:spPr>
          <a:xfrm>
            <a:off x="380880" y="1752480"/>
            <a:ext cx="778212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ost computers use integrated circuits  also called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, for their CPU and main memo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Memory chips are installed on memory module( card) that fit in a slot on the mother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at is a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  <a:ea typeface="MS PGothic"/>
              </a:rPr>
              <a:t>chip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mall piece of semi-conducting material on whic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ntegrated circuits (I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re etch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C contain many microscopic pathways capable of carrying electrical cur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Each IC can contain millions of elements such as resistors, capacitors, transisto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176"/>
              </a:spcBef>
              <a:buClr>
                <a:srgbClr val="d9443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37"/>
          <p:cNvSpPr/>
          <p:nvPr/>
        </p:nvSpPr>
        <p:spPr>
          <a:xfrm>
            <a:off x="304920" y="3000240"/>
            <a:ext cx="778176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02888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7" descr="04PHY011_ChipScaleClock2_HR"/>
          <p:cNvPicPr/>
          <p:nvPr/>
        </p:nvPicPr>
        <p:blipFill>
          <a:blip r:embed="rId1"/>
          <a:stretch/>
        </p:blipFill>
        <p:spPr>
          <a:xfrm rot="849600">
            <a:off x="7508520" y="2976480"/>
            <a:ext cx="1471680" cy="15130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r100004large"/>
          <p:cNvPicPr/>
          <p:nvPr/>
        </p:nvPicPr>
        <p:blipFill>
          <a:blip r:embed="rId2"/>
          <a:stretch/>
        </p:blipFill>
        <p:spPr>
          <a:xfrm rot="1036200">
            <a:off x="7735680" y="4644720"/>
            <a:ext cx="12222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process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so called the 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entral processing un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a52439"/>
                </a:solidFill>
                <a:latin typeface="Calibri"/>
              </a:rPr>
              <a:t>CP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interprets and carries out the basic instructions that operate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rol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ithmetic logic unit (ALU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ork together to perform process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DE83-FC3F-4856-B8F9-10246D60B058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Diagram 6" descr=""/>
          <p:cNvPicPr/>
          <p:nvPr/>
        </p:nvPicPr>
        <p:blipFill>
          <a:blip r:embed="rId1"/>
          <a:stretch/>
        </p:blipFill>
        <p:spPr>
          <a:xfrm>
            <a:off x="109440" y="4346640"/>
            <a:ext cx="93394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626" name="Content Placeholder 6" descr="Fig4-04.gif"/>
          <p:cNvPicPr/>
          <p:nvPr/>
        </p:nvPicPr>
        <p:blipFill>
          <a:blip r:embed="rId1"/>
          <a:stretch/>
        </p:blipFill>
        <p:spPr>
          <a:xfrm>
            <a:off x="1066680" y="16002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3B58-CB78-4385-B7EF-B8A13EBB0080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4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Calibri"/>
              </a:rPr>
              <a:t>Processor</a:t>
            </a:r>
            <a:endParaRPr b="1" lang="en-US" sz="40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control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mponent of the processor that directs and coordinates most of the operations in the compu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ndles the transmission of data into and out of the CPU and supervises its overall oper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s interprets each instruction issued by a program &amp; then initiates the appropriate action to carry out the instru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a52439"/>
                </a:solidFill>
                <a:latin typeface="Calibri"/>
              </a:rPr>
              <a:t>arithmetic logic unit</a:t>
            </a:r>
            <a:r>
              <a:rPr b="0" lang="en-US" sz="3000" spc="-1" strike="noStrike">
                <a:solidFill>
                  <a:srgbClr val="a5243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ALU) performs arithmetic, comparison, and other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274320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ng Computers 2012: Chapt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534520" y="62485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769-E46D-4B84-B58E-06A4CBB75E6F}" type="slidenum">
              <a:rPr b="1" lang="en-US" sz="1200" spc="-1" strike="noStrike">
                <a:solidFill>
                  <a:srgbClr val="eeebc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5192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2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11:12Z</dcterms:created>
  <dc:creator>steven</dc:creator>
  <dc:description/>
  <dc:language>en-US</dc:language>
  <cp:lastModifiedBy>Abdulrahman Abdullah O Alomair</cp:lastModifiedBy>
  <dcterms:modified xsi:type="dcterms:W3CDTF">2017-10-30T16:00:13Z</dcterms:modified>
  <cp:revision>1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9FB6436308CE4449AEA8207A63B4C9CB</vt:lpwstr>
  </property>
</Properties>
</file>