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3B04-8F7A-4CD7-B41A-DF6F36B2F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4FDE-E6BB-400F-8324-337EDF975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79E0-D42C-4481-8782-450B5D69D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For every instruction, a processor repeats a set of four basic opera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Fetch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obtaining a program instruction or data item from mem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Decod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translating the instruction into signals the computer can exec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Execut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carrying out the comma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Stor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, if necessary. Means writing the result to </a:t>
            </a:r>
            <a:r>
              <a:rPr b="0" i="1" lang="en-US" sz="1200" spc="-1" strike="noStrike">
                <a:solidFill>
                  <a:srgbClr val="000000"/>
                </a:solidFill>
                <a:latin typeface="Tw Cen MT Condensed"/>
              </a:rPr>
              <a:t>memory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95D2-95FE-4327-BE37-C40873A60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3880-DE1E-470F-BECD-8866F3AA5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cessing actions occur at each “tick” of the electronic 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Speed of the clock determines the speed at which the CPU can process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faster  the clock speed, the more instruction the processor can execute per second (hertz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5E78-37C2-48BC-B3F9-861DC763DD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F6AE-870F-4312-8185-A5A8E4C2B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A378-76D2-45EB-8460-FE80427DF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y often identify their processor chip by a model name or model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Other leading processor chip manufactur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ransm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IB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Motorol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IBM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or had a   different design from the Intel-style process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4A66-747C-4968-8C5E-7E25E9D32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F866-A640-45FB-B963-97C2CB4D8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A430-2691-4636-9CAC-0D862016D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7843-848B-482B-86A9-00F051FDE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54F4-4CB3-4EDC-9CD4-B83B9E87E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931C-0DEA-4555-BB52-00BD2238F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74A0-A26D-409C-B753-895C1C181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1A95-39A3-4BE2-B753-AF5DCDDBF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8BD2-3626-4904-A24E-8ED3C8C27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FB81-FAC5-4A62-9072-0F381A0CA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Processor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interprets &amp; carries out the basic instructions that operate a compu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Memory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holds data waiting to be processed &amp; instruction waiting to be execu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cessor &amp; Memory are connected to a circuit board called the </a:t>
            </a: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mother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Adapter cards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are circuit boards that provide connections and functions not built into the mother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evices outside the system unit often attach to the </a:t>
            </a: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po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A drive bay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holds one or more disk dr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The Power supply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vide the computer with the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DFDD-8625-43E7-8985-DAB01A274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Many electronic components attach to the motherboard, others are built into it. Ex: adapter cards, a processor chip and a memory mod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91D6-3458-496E-B3CC-0E5540FE6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d94439"/>
                </a:solidFill>
                <a:latin typeface="Times New Roman"/>
              </a:rPr>
              <a:t>dual-core process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s a single chip that contains tw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parate process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d94439"/>
                </a:solidFill>
                <a:latin typeface="Times New Roman"/>
              </a:rPr>
              <a:t>multi-core process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s a chip with two or mor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parate process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ach processor on a dual-core/multi-core chip generall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uns at a slower clock speed, but increase overall perform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DBF5-8669-40DA-A74B-E8C7AAA40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operations typically performed by a CPU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control the reading of programs and input fi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Its activates input unit to read program and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Controls the transmission of program &amp; data files from disk to main mem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process data according to instructions in a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ata can be processed arithmetically- number can be added, subtracted, multiplied and divi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Logical tests can be performed on data. E.g., compari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ata can be transmitted or copied from one area of primary storag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control the creation of outpu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BFF8-B6AE-4AB3-935B-379CE29EA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EA4A-D202-4DCE-B63E-1C2498081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76AF7-705D-4B99-8C89-8888C6E80EE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968826-3CE2-499C-AD82-BD0F7C1B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F77E49-95D8-47EE-AE64-A5C1D14E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D1029C-5A4D-4E37-9643-9912CD42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C8EFDA-0D54-43BD-8979-8154D6A1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64951E-59A7-4CB6-9A5C-DB3B7ADE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B7CD34-1DF7-4188-BC4E-013DC489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C4B4C3-51D8-4E53-8FC1-C2819BF0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B72BC5-F8BA-4CE3-95CD-766F0F1F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AF97C2-EE7B-40C0-BDA2-E1D47BC1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A3E5FB-0899-4EA7-B6EB-CA30254B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C209A-00C4-49D3-AB1C-C2EC9B2B952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C2982D-E238-4A56-87B8-B742A37D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041B28-9317-4F04-8E1B-5FD822C7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D32344-6155-4F4B-911E-A703A572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27D8AD-7A57-456A-AC88-A58B3BF7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67A336-57DC-45A2-B8CC-8CED9157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858D6F-13D0-425F-B731-C504046D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EBB579-513C-47C0-960A-EC4D9D64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39A014-4511-4928-9232-922CAFAB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91A420-0EE2-4AE8-8250-E6854EC5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467F2F-0D7C-4AA2-A4F1-F3A0CE14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D2BD-D860-498A-8CEC-12AB3B96ACE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099FF8-6E25-499E-A134-556E3671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DE8A3A-2E17-4C07-9C8A-51AA30AE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663AFC-E694-4388-8DB9-14D92A31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961283-7CFB-4138-BBF8-B162AA77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ED5EAC-894C-417C-AC62-AD0C04AD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55EFD5-D884-45F4-A5CF-491D5D39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D12D13-87A4-42E5-BFDC-7E15DEF0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F5F785-9C2A-4557-BAF5-294C6077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CD0F44-D136-4EA3-9614-FF5CFC45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5D2E4B-23BF-4F2E-BA5B-3FBF3BB9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CEB6D5-F7FD-4DB1-B7B0-55ADEFB4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46C23C-E820-47A5-A081-031FDFD2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AADFF9-B5FA-4D45-97F5-BFC64FCE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5A7E64-5ADB-4078-AF19-8AA28C75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C80E7D-A1FE-4157-B588-82A43868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C3D955-2CFF-434D-B148-B9549A0E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0587A0-3C54-4765-B68C-F7BCE396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DC810E-0601-4332-AAAD-FCCF864F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B1D207-4C85-4B33-81D6-8BD4D851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3A7B48-3EA1-4732-829D-8AF47FA8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050A15-DBAA-4784-935D-50ACABEA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9E3DBA-7910-4F18-A774-AE4A0746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D69476-45DE-4833-83D0-B0F40A0F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F7E90C-A919-4789-9143-7047D163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5DEBF7-A961-4C45-8B11-0BC2AA4F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C31E20-F350-43C5-9B8C-5F2DCEF2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04411F-FCB2-4681-B5AD-D33D4132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A78DF0-E56E-4D11-AE7C-ADCDF384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51521E-C6FC-4B63-AC23-CFF385A3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D298EA-6430-4A40-A946-0B4BE688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E1E24F-6540-45EA-A5A7-033669E8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4FF7F6-DC87-45FF-BCC9-867675DA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306F4B-E05E-4966-A6DA-3241E0D9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49708C-B811-4263-8A7A-ABBB1FF5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1AC5D6-8CC3-407E-91D1-9DFC5276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23E307-421A-4ED0-BB20-22EDBAAE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BE70DE-5049-415A-8260-3C6A3B5D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3A383-ADC2-4A92-ACCE-D4A4C0D60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7B27A-9131-4A6C-9E70-151F3BEA70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673FE-67FD-4B37-AAA9-9DF6465EAC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CF8F6-6CFE-4E20-A29E-7C04EF7EFC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B696E-801D-464A-9962-7C66BB64FE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CC2B4-CD57-4094-B727-F87A8E1EDD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80065-8237-4C27-A9FE-0E0C8F9D67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6C02D-44F2-427F-93FF-82A3BD6F57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E0F10-AEF4-45AD-B2DE-B81E15E450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71D4E-33BF-4BD2-9E9B-8CC0D6C68A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E86B7-2F87-486E-BE44-87C7A2C6A4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4ECDF-B3A5-44A6-9FCD-D57162B7E8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A2723-5E3C-42CE-9BCB-9BC8EDA9C9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36D26-BD62-4563-B7CA-72E263B0D1C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FE233F-C1CC-40FE-A423-FCF51958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3E0F52-A2D1-4FAD-8DC6-2031AF36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4ECA48-F04C-4FDE-8032-E275F944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D5F61-FEF9-45EA-BFBB-843B589AFD9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7F1B38-9480-4527-A3B9-E37476EC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0EC8CE-AC07-4D91-89E3-9C5EB7F1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A3688E-267C-4DDF-A6D2-AA942B27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E573D2-70DE-4B37-9963-B4E00765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C5B2A5-3C9D-4470-B89A-87BA036D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7D16C9-920F-41D5-9B17-AAADAC4E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78F5DB-65D2-45FC-963A-79BBA8EB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7FA8EE-905E-48BC-97FC-95CCA3F8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A8D4DE-4EF8-4E98-8671-24528E48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C5591-ED4B-4ABB-BF31-EAF152D05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1AD0-3543-4E8F-AA59-AF6FD7FF061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EAF82-3798-4B8D-8351-12EB27003C8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67D23-1BF9-47B6-8F68-1AFDBB22839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8FB97-D2A6-4ABB-93DC-0CF71DEE659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01345-033D-478E-B0D7-9274B71D29F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E88C3-140D-4952-8287-7B55EC38A20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9ECB4-6074-4286-BCD8-C18BD5782D6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0BF15-B17F-4C90-AF09-6C2AFB08E46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7D7D3-9D11-4873-8794-A8E07ABD67B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92764-19D0-428B-9F03-30A7D3E29E2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3F5C3-E1C2-4EED-AE46-00390671D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1A57-6F5D-48CE-A721-1D7B2957627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AF58C-A9E5-41E6-AA25-E5B5AF5D314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1A6A50-0A42-43D0-B80D-C6E611D36CA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D27F41-A30B-4C86-AD03-7D68C36C7C0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449E58-C491-4208-873F-6C40F36A5A9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293C79-5B9F-449B-9632-0454D234CAB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F3C197-42F2-4F75-8938-0D97367C638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058E0D-2D25-4434-982E-80FCF00B8B1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CC8168-FC1E-4D03-95BC-BFE3B9CACD2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E8B89B-0E08-420D-BF0C-CC592897BF5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163A96-DF9E-434A-A3FB-6127DFBF13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E640-5C2F-471D-AC81-64982F5AC3B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420143-54D5-4905-AB7F-CDAEED18F1C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7678CB-2087-47B4-8225-1854A640208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6DD1A8-1496-4FE5-8CCE-953E17528B5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61478D-3293-49D7-A9AD-9A50234E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D5BD2D-981B-4A8C-896C-8178E6EA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318EE8-2571-4231-BE73-3AFCEC90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2F8BC4-C548-4431-A208-511211BF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57DFA0-0569-4143-A264-06EB1375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72C8EF-3F8E-41D9-908D-C21D2D67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8E69F0-6475-402D-AE64-6EC18C19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59D02-3441-4E13-89F1-DC44920915E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600379-0D88-4B5B-AE1B-1449080A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78A0CF-F107-4E3A-995E-0B52B038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31E627-0985-493A-8D16-F1955660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DF0456-6017-4F11-A5E2-B80EC5F3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8F7054-475E-4111-B647-690B8596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5F653C-2596-4B91-8A17-FB9A4209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A9919E-38EE-4326-82D5-71628CAF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935E17-9E5F-455B-91E7-D4018EA8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59DC67-03F7-451A-8D1C-594DC6C5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57F553-DF13-4F6E-8D89-11ABE384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713BC-F003-4D1F-9C7A-2A0C4620B8D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50A377-7DFF-4238-99C5-D3757439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44FFD6-06AD-4E63-BC25-10813055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E948DB-345C-4D6A-AC03-CE1DB7A6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A01463-5FB8-47A8-ABFF-28B376C5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B70DA7-DC68-486D-923C-1BE633DD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29C1DC-8663-4F37-AFEB-C76F9C2A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8886A6-E958-4C78-86D0-B1A9E72D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D504B8-F9FD-4CBE-94EC-BE0245AC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AC051F-B8F7-4674-A9ED-EA8A3FDE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DBB020-D037-46AE-837C-574BC3A6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D6E3-1AFB-4C17-B1AB-167D81E3B310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981080" y="6370560"/>
            <a:ext cx="47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0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2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3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78C5-DD0F-4619-8415-A73169493D25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4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5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6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6DA8-D3E8-4224-B1B7-B7BA9FD80494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9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8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29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B36E-AECC-4B59-8C97-BE5B465C70AF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53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0"/>
          </p:nvPr>
        </p:nvSpPr>
        <p:spPr>
          <a:xfrm>
            <a:off x="196848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1"/>
          </p:nvPr>
        </p:nvSpPr>
        <p:spPr>
          <a:xfrm>
            <a:off x="1981080" y="6370560"/>
            <a:ext cx="47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2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4655-F498-4446-8825-FC737B02CC82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5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4"/>
          <a:stretch/>
        </p:blipFill>
        <p:spPr>
          <a:xfrm>
            <a:off x="5105520" y="3203640"/>
            <a:ext cx="4038480" cy="365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23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Title 1"/>
          <p:cNvSpPr/>
          <p:nvPr/>
        </p:nvSpPr>
        <p:spPr>
          <a:xfrm>
            <a:off x="1219320" y="548640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Your Interactive Guide to the Digital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0" y="426708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scover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uters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91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3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4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1160-A87E-469C-A43B-ACAC78D85FC8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135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6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7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4DBA-3C66-4296-B5F2-53AB3E76A2C4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180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8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9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E837-F49D-4D69-BCD4-AD0A8B9BB571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224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0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1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514D-2B59-4ACA-9DFD-6F2D3DA2E04F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26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3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4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0C13-7C29-47C2-BEA9-FAA402305B01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31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6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7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D945-9C70-477E-9828-6DDD4D07C89F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35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19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0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5667-8214-42EB-946F-527D5CCDC7B5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a52439"/>
                </a:solidFill>
                <a:latin typeface="Calibri"/>
              </a:rPr>
              <a:t>control unit</a:t>
            </a:r>
            <a:r>
              <a:rPr b="0" lang="en-US" sz="30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 component of the processor that directs and coordinates most of the operations in the compu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ndles the transmission of data into and out of the CPU and supervises its overall oper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s interprets each instruction issued by a program &amp; then initiates the appropriate action to carry out the instruc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a52439"/>
                </a:solidFill>
                <a:latin typeface="Calibri"/>
              </a:rPr>
              <a:t>arithmetic logic unit</a:t>
            </a:r>
            <a:r>
              <a:rPr b="0" lang="en-US" sz="30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LU) performs arithmetic, comparison, and other oper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FFD3-013F-4ED3-949A-4C60DAB3A85D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instruction, a processor repeats a set of four basic operations, which comprise a machin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B02D-61EC-424A-A280-79F074FC5C65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Picture 7" descr="CFig4-05.gif"/>
          <p:cNvPicPr/>
          <p:nvPr/>
        </p:nvPicPr>
        <p:blipFill>
          <a:blip r:embed="rId1"/>
          <a:stretch/>
        </p:blipFill>
        <p:spPr>
          <a:xfrm>
            <a:off x="1981080" y="2666880"/>
            <a:ext cx="588168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46" name="Content Placeholder 9" descr=""/>
          <p:cNvPicPr/>
          <p:nvPr/>
        </p:nvPicPr>
        <p:blipFill>
          <a:blip r:embed="rId1"/>
          <a:stretch/>
        </p:blipFill>
        <p:spPr>
          <a:xfrm>
            <a:off x="12600" y="1603440"/>
            <a:ext cx="9058320" cy="4645080"/>
          </a:xfrm>
          <a:prstGeom prst="rect">
            <a:avLst/>
          </a:prstGeom>
          <a:ln w="0">
            <a:noFill/>
          </a:ln>
        </p:spPr>
      </p:pic>
      <p:sp>
        <p:nvSpPr>
          <p:cNvPr id="647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D95A-29A7-4C0B-B154-625FD9307A0A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gisters are special storage areas in the CP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ir function is to hold instructions, data values, memory addresses of both the instructions and dat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re are 4 basic types of it: </a:t>
            </a: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CU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AL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Instruction register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ld instruction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Address register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ld address of( data , next instruction 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Storage register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ore data retrieved from main memory prior to processing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Accumulat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tore the results of arithmetic &amp; logic opera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1006-AE9A-42EF-AEBC-B12817F1E24B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System</a:t>
            </a:r>
            <a:r>
              <a:rPr b="0" lang="en-US" sz="32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clock</a:t>
            </a:r>
            <a:r>
              <a:rPr b="0" lang="en-US" sz="3200" spc="-1" strike="noStrike">
                <a:solidFill>
                  <a:srgbClr val="a5243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generates regular electronic pulses , or ticks, that control the timing of all computer operations ( i.e. set operating pace of components of system un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e of system  clock is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clock speed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lock speeds are  in the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gigahert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GHz) range (1 GHz = 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llion ticks of system clock per secon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89C4-67E8-4B9B-8794-243F0221F032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urrent personal computers support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pipel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or begins fetching a second instruction before it completes the machine cycle for the first instr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2" name="Content Placeholder 8" descr="Fig4-06.gif"/>
          <p:cNvPicPr/>
          <p:nvPr/>
        </p:nvPicPr>
        <p:blipFill>
          <a:blip r:embed="rId1"/>
          <a:stretch/>
        </p:blipFill>
        <p:spPr>
          <a:xfrm>
            <a:off x="4648320" y="2436840"/>
            <a:ext cx="4038480" cy="2852640"/>
          </a:xfrm>
          <a:prstGeom prst="rect">
            <a:avLst/>
          </a:prstGeom>
          <a:ln w="0">
            <a:noFill/>
          </a:ln>
        </p:spPr>
      </p:pic>
      <p:sp>
        <p:nvSpPr>
          <p:cNvPr id="663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F494-A0A2-4512-9EC7-E176ADF77C1B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5 – 21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llel processing uses multiple processors simultaneously to execute a single program or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ssively parallel processing involves hundreds or thousands of process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0A98-4F87-4D4C-AB98-21E09D57746A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1" name="Picture 9" descr="Fig4-11.gif"/>
          <p:cNvPicPr/>
          <p:nvPr/>
        </p:nvPicPr>
        <p:blipFill>
          <a:blip r:embed="rId1"/>
          <a:stretch/>
        </p:blipFill>
        <p:spPr>
          <a:xfrm>
            <a:off x="2819520" y="2971800"/>
            <a:ext cx="3743280" cy="333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eading manufacturers of personal computer processor chips are Intel and A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9BE9-BDA3-4579-979C-608F774EAD5E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6 – 21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7" name="Content Placeholder 6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5105520" cy="47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151920" y="1600200"/>
            <a:ext cx="2667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how you plan to use a new computer before selecting a proces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39BA-2ABF-48FB-BDF3-1CED72FBD656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6248520" cy="548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cessor chip generates heat that could cause the chip to burn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 additional coo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t s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cooling tech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Content Placeholder 9" descr="CFig4-09.gif"/>
          <p:cNvPicPr/>
          <p:nvPr/>
        </p:nvPicPr>
        <p:blipFill>
          <a:blip r:embed="rId1"/>
          <a:stretch/>
        </p:blipFill>
        <p:spPr>
          <a:xfrm>
            <a:off x="5181480" y="1752480"/>
            <a:ext cx="2895840" cy="1925640"/>
          </a:xfrm>
          <a:prstGeom prst="rect">
            <a:avLst/>
          </a:prstGeom>
          <a:ln w="0">
            <a:noFill/>
          </a:ln>
        </p:spPr>
      </p:pic>
      <p:sp>
        <p:nvSpPr>
          <p:cNvPr id="68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B4F0-F283-4C50-B3D9-EC74BE9F1AC2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9 - 2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s 4-9 – 4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0" name="Picture 10" descr="Fig4-10.gif"/>
          <p:cNvPicPr/>
          <p:nvPr/>
        </p:nvPicPr>
        <p:blipFill>
          <a:blip r:embed="rId2"/>
          <a:stretch/>
        </p:blipFill>
        <p:spPr>
          <a:xfrm>
            <a:off x="5181480" y="3809880"/>
            <a:ext cx="2895840" cy="23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Objectives Overview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590" name="Content Placeholder 6" descr=""/>
          <p:cNvPicPr/>
          <p:nvPr/>
        </p:nvPicPr>
        <p:blipFill>
          <a:blip r:embed="rId1"/>
          <a:stretch/>
        </p:blipFill>
        <p:spPr>
          <a:xfrm>
            <a:off x="42840" y="1603440"/>
            <a:ext cx="9124920" cy="4645080"/>
          </a:xfrm>
          <a:prstGeom prst="rect">
            <a:avLst/>
          </a:prstGeom>
          <a:ln w="0">
            <a:noFill/>
          </a:ln>
        </p:spPr>
      </p:pic>
      <p:sp>
        <p:nvSpPr>
          <p:cNvPr id="591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D7CC-D2C2-492B-A81D-A4EC35C6DC40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e Page 209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r Detailed Objectiv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92" name="Content Placeholder 6" descr=""/>
          <p:cNvPicPr/>
          <p:nvPr/>
        </p:nvPicPr>
        <p:blipFill>
          <a:blip r:embed="rId1"/>
          <a:stretch/>
        </p:blipFill>
        <p:spPr>
          <a:xfrm>
            <a:off x="30240" y="1603440"/>
            <a:ext cx="9016920" cy="4645080"/>
          </a:xfrm>
          <a:prstGeom prst="rect">
            <a:avLst/>
          </a:prstGeom>
          <a:ln w="0">
            <a:noFill/>
          </a:ln>
        </p:spPr>
      </p:pic>
      <p:sp>
        <p:nvSpPr>
          <p:cNvPr id="693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E6CF-915D-46B1-821D-DF0DF6305985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13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 computer circuit represents the 0 or the 1 electronically by the presence or absence of an electrical char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Content Placeholder 11" descr="Fig4-12.gif"/>
          <p:cNvPicPr/>
          <p:nvPr/>
        </p:nvPicPr>
        <p:blipFill>
          <a:blip r:embed="rId1"/>
          <a:stretch/>
        </p:blipFill>
        <p:spPr>
          <a:xfrm>
            <a:off x="457200" y="3255840"/>
            <a:ext cx="4040280" cy="2586240"/>
          </a:xfrm>
          <a:prstGeom prst="rect">
            <a:avLst/>
          </a:prstGeom>
          <a:ln w="0">
            <a:noFill/>
          </a:ln>
        </p:spPr>
      </p:pic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18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Eight bi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rouped together as a unit are called a </a:t>
            </a:r>
            <a:r>
              <a:rPr b="1" lang="en-US" sz="2200" spc="-1" strike="noStrike">
                <a:solidFill>
                  <a:srgbClr val="a52439"/>
                </a:solidFill>
                <a:latin typeface="Calibri"/>
              </a:rPr>
              <a:t>byt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 A byte represents a single character in the computer ( numbers, upper or lower case letters, or punctuation mark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0" name="Content Placeholder 12" descr="Fig4-13.gif"/>
          <p:cNvPicPr/>
          <p:nvPr/>
        </p:nvPicPr>
        <p:blipFill>
          <a:blip r:embed="rId2"/>
          <a:stretch/>
        </p:blipFill>
        <p:spPr>
          <a:xfrm>
            <a:off x="4724280" y="3581280"/>
            <a:ext cx="4191120" cy="2286000"/>
          </a:xfrm>
          <a:prstGeom prst="rect">
            <a:avLst/>
          </a:prstGeom>
          <a:ln w="0">
            <a:noFill/>
          </a:ln>
        </p:spPr>
      </p:pic>
      <p:sp>
        <p:nvSpPr>
          <p:cNvPr id="701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22FA-413B-44EF-BBEA-5645564898F3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s 4-12 – 4-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fferent combinations of 0s and 1s are defined by patterns called </a:t>
            </a:r>
            <a:r>
              <a:rPr b="0" lang="en-US" sz="2400" spc="-1" strike="noStrike">
                <a:solidFill>
                  <a:srgbClr val="a52439"/>
                </a:solidFill>
                <a:latin typeface="Calibri"/>
              </a:rPr>
              <a:t>a coding schem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two coding schemas used to represent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CII—American Standard Code for Information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[Personal Computers – PC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BCDIC—Extended Binary Coded Decimal Interchange C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[Mainframes, Mini-computer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ooter Placeholder 6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7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A971-A858-4EB4-A500-D153C3BFCAED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"/>
          <p:cNvPicPr/>
          <p:nvPr/>
        </p:nvPicPr>
        <p:blipFill>
          <a:blip r:embed="rId1"/>
          <a:stretch/>
        </p:blipFill>
        <p:spPr>
          <a:xfrm>
            <a:off x="2209680" y="4952880"/>
            <a:ext cx="4353120" cy="146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CII is the most widely used coding scheme to represent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2" name="Content Placeholder 13" descr="Fig4-14.gif"/>
          <p:cNvPicPr/>
          <p:nvPr/>
        </p:nvPicPr>
        <p:blipFill>
          <a:blip r:embed="rId1"/>
          <a:stretch/>
        </p:blipFill>
        <p:spPr>
          <a:xfrm>
            <a:off x="1523880" y="2658960"/>
            <a:ext cx="6248520" cy="4199040"/>
          </a:xfrm>
          <a:prstGeom prst="rect">
            <a:avLst/>
          </a:prstGeom>
          <a:ln w="0">
            <a:noFill/>
          </a:ln>
        </p:spPr>
      </p:pic>
      <p:sp>
        <p:nvSpPr>
          <p:cNvPr id="713" name="Footer Placeholder 6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lide Number Placeholder 7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78EC-B9EB-48CD-9F5F-219C14BADFB5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17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FDEC-6956-46BA-9A74-1FA772375568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Content Placeholder 3" descr=""/>
          <p:cNvPicPr/>
          <p:nvPr/>
        </p:nvPicPr>
        <p:blipFill>
          <a:blip r:embed="rId1"/>
          <a:srcRect l="0" t="0" r="3447" b="7965"/>
          <a:stretch/>
        </p:blipFill>
        <p:spPr>
          <a:xfrm>
            <a:off x="457200" y="1676520"/>
            <a:ext cx="8305920" cy="464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The System Uni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5228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system unit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case that contains electronic components of the computer used to process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of metal or plastic to protects the internal components from dam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computers have a system unit. It is available in variety of shapes &amp; siz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23E2-9CDF-4BE6-A966-255F89B54879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3"/>
          <p:cNvSpPr/>
          <p:nvPr/>
        </p:nvSpPr>
        <p:spPr>
          <a:xfrm>
            <a:off x="274320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A034-2614-4054-98D2-50FB665FFE99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6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The System Uni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side of the system unit on a desktop personal computer 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804F-D610-418A-B4AF-4FC1F2F8E84E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Diagram 6" descr=""/>
          <p:cNvPicPr/>
          <p:nvPr/>
        </p:nvPicPr>
        <p:blipFill>
          <a:blip r:embed="rId1"/>
          <a:stretch/>
        </p:blipFill>
        <p:spPr>
          <a:xfrm>
            <a:off x="341280" y="2712960"/>
            <a:ext cx="2382840" cy="36640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9" descr=""/>
          <p:cNvPicPr/>
          <p:nvPr/>
        </p:nvPicPr>
        <p:blipFill>
          <a:blip r:embed="rId2"/>
          <a:stretch/>
        </p:blipFill>
        <p:spPr>
          <a:xfrm>
            <a:off x="2971800" y="2743200"/>
            <a:ext cx="548784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Motherboard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52280" y="1600200"/>
            <a:ext cx="4724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motherboa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main circuit board of the system un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ansion slots, processor chips, and memory sl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called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ystem bo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8FD7-20E0-4FAD-A463-1F18E86E12AD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Picture 6" descr="CFig4-03.gif"/>
          <p:cNvPicPr/>
          <p:nvPr/>
        </p:nvPicPr>
        <p:blipFill>
          <a:blip r:embed="rId1"/>
          <a:stretch/>
        </p:blipFill>
        <p:spPr>
          <a:xfrm>
            <a:off x="5029200" y="1752480"/>
            <a:ext cx="388620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Motherboard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grpSp>
        <p:nvGrpSpPr>
          <p:cNvPr id="616" name="Group 21"/>
          <p:cNvGrpSpPr/>
          <p:nvPr/>
        </p:nvGrpSpPr>
        <p:grpSpPr>
          <a:xfrm>
            <a:off x="7846920" y="6402240"/>
            <a:ext cx="860400" cy="271440"/>
            <a:chOff x="7846920" y="6402240"/>
            <a:chExt cx="860400" cy="271440"/>
          </a:xfrm>
        </p:grpSpPr>
        <p:sp>
          <p:nvSpPr>
            <p:cNvPr id="617" name="AutoShape 22">
              <a:hlinkClick r:id="" action="ppaction://hlinkshowjump?jump=nextslide"/>
            </p:cNvPr>
            <p:cNvSpPr/>
            <p:nvPr/>
          </p:nvSpPr>
          <p:spPr>
            <a:xfrm>
              <a:off x="7873920" y="6402240"/>
              <a:ext cx="833400" cy="271440"/>
            </a:xfrm>
            <a:custGeom>
              <a:avLst/>
              <a:gdLst>
                <a:gd name="textAreaLeft" fmla="*/ 17280 w 833400"/>
                <a:gd name="textAreaRight" fmla="*/ 816120 w 833400"/>
                <a:gd name="textAreaTop" fmla="*/ 17280 h 271440"/>
                <a:gd name="textAreaBottom" fmla="*/ 254160 h 271440"/>
              </a:gdLst>
              <a:ahLst/>
              <a:rect l="textAreaLeft" t="textAreaTop" r="textAreaRight" b="textAreaBottom"/>
              <a:pathLst>
                <a:path w="66259" h="21600">
                  <a:moveTo>
                    <a:pt x="0" y="0"/>
                  </a:moveTo>
                  <a:lnTo>
                    <a:pt x="66259" y="0"/>
                  </a:lnTo>
                  <a:lnTo>
                    <a:pt x="66259" y="21600"/>
                  </a:lnTo>
                  <a:lnTo>
                    <a:pt x="0" y="21600"/>
                  </a:lnTo>
                  <a:close/>
                </a:path>
                <a:path fill="lightenLess" w="66259" h="21600">
                  <a:moveTo>
                    <a:pt x="0" y="0"/>
                  </a:moveTo>
                  <a:lnTo>
                    <a:pt x="66259" y="0"/>
                  </a:lnTo>
                  <a:lnTo>
                    <a:pt x="64859" y="1400"/>
                  </a:lnTo>
                  <a:lnTo>
                    <a:pt x="1400" y="1400"/>
                  </a:lnTo>
                  <a:close/>
                </a:path>
                <a:path fill="darken" w="66259" h="21600">
                  <a:moveTo>
                    <a:pt x="66259" y="0"/>
                  </a:moveTo>
                  <a:lnTo>
                    <a:pt x="66259" y="21600"/>
                  </a:lnTo>
                  <a:lnTo>
                    <a:pt x="64859" y="20200"/>
                  </a:lnTo>
                  <a:lnTo>
                    <a:pt x="64859" y="1400"/>
                  </a:lnTo>
                  <a:close/>
                </a:path>
                <a:path fill="darkenLess" w="66259" h="21600">
                  <a:moveTo>
                    <a:pt x="662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859" y="20200"/>
                  </a:lnTo>
                  <a:close/>
                </a:path>
                <a:path fill="lighten" w="662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66259" h="21600">
                  <a:moveTo>
                    <a:pt x="26123" y="3794"/>
                  </a:moveTo>
                  <a:lnTo>
                    <a:pt x="40136" y="10800"/>
                  </a:lnTo>
                  <a:lnTo>
                    <a:pt x="26123" y="17806"/>
                  </a:lnTo>
                  <a:close/>
                </a:path>
              </a:pathLst>
            </a:custGeom>
            <a:solidFill>
              <a:srgbClr val="ffb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Text Box 23"/>
            <p:cNvSpPr/>
            <p:nvPr/>
          </p:nvSpPr>
          <p:spPr>
            <a:xfrm>
              <a:off x="7846920" y="6407280"/>
              <a:ext cx="46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eece1"/>
                  </a:solidFill>
                  <a:latin typeface="Times New Roman"/>
                </a:rPr>
                <a:t>N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9" name="Rectangle 30"/>
          <p:cNvSpPr/>
          <p:nvPr/>
        </p:nvSpPr>
        <p:spPr>
          <a:xfrm>
            <a:off x="380880" y="1752480"/>
            <a:ext cx="778212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Most computers use integrated circuits  also called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MS PGothic"/>
              </a:rPr>
              <a:t>chip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, for their CPU and main memo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Memory chips are installed on memory module( card) that fit in a slot on the mother bo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What is a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  <a:ea typeface="MS PGothic"/>
              </a:rPr>
              <a:t>chi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Small piece of semi-conducting material on whic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integrated circuits (IC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re etch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IC contain many microscopic pathways capable of carrying electrical curr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Each IC can contain millions of elements such as resistors, capacitors, transisto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176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Rectangle 37"/>
          <p:cNvSpPr/>
          <p:nvPr/>
        </p:nvSpPr>
        <p:spPr>
          <a:xfrm>
            <a:off x="304920" y="3000240"/>
            <a:ext cx="778176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02888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1" name="Picture 7" descr="04PHY011_ChipScaleClock2_HR"/>
          <p:cNvPicPr/>
          <p:nvPr/>
        </p:nvPicPr>
        <p:blipFill>
          <a:blip r:embed="rId1"/>
          <a:stretch/>
        </p:blipFill>
        <p:spPr>
          <a:xfrm rot="849600">
            <a:off x="7508520" y="2976480"/>
            <a:ext cx="1471680" cy="15130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6" descr="r100004large"/>
          <p:cNvPicPr/>
          <p:nvPr/>
        </p:nvPicPr>
        <p:blipFill>
          <a:blip r:embed="rId2"/>
          <a:stretch/>
        </p:blipFill>
        <p:spPr>
          <a:xfrm rot="1036200">
            <a:off x="7735680" y="4644720"/>
            <a:ext cx="122220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process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lso called 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central processing uni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CP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interprets and carries out the basic instructions that operate a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in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rol uni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ithmetic logic unit (ALU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work together to perform processing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A59E-C2FF-4C29-AD2C-0CB1353DBA7B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8" name="Diagram 6" descr=""/>
          <p:cNvPicPr/>
          <p:nvPr/>
        </p:nvPicPr>
        <p:blipFill>
          <a:blip r:embed="rId1"/>
          <a:stretch/>
        </p:blipFill>
        <p:spPr>
          <a:xfrm>
            <a:off x="109440" y="4346640"/>
            <a:ext cx="933948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30" name="Content Placeholder 6" descr="Fig4-04.gif"/>
          <p:cNvPicPr/>
          <p:nvPr/>
        </p:nvPicPr>
        <p:blipFill>
          <a:blip r:embed="rId1"/>
          <a:stretch/>
        </p:blipFill>
        <p:spPr>
          <a:xfrm>
            <a:off x="1066680" y="1600200"/>
            <a:ext cx="6705720" cy="4648320"/>
          </a:xfrm>
          <a:prstGeom prst="rect">
            <a:avLst/>
          </a:prstGeom>
          <a:ln w="0">
            <a:noFill/>
          </a:ln>
        </p:spPr>
      </p:pic>
      <p:sp>
        <p:nvSpPr>
          <p:cNvPr id="631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6D66-CC0C-4E61-A7A5-F48DCD793491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7:11:12Z</dcterms:created>
  <dc:creator>steven</dc:creator>
  <dc:description/>
  <dc:language>en-US</dc:language>
  <cp:lastModifiedBy>Toshiba</cp:lastModifiedBy>
  <dcterms:modified xsi:type="dcterms:W3CDTF">2016-10-01T12:08:57Z</dcterms:modified>
  <cp:revision>1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9FB6436308CE4449AEA8207A63B4C9CB</vt:lpwstr>
  </property>
</Properties>
</file>