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dt" idx="3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ftr" idx="3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 type="sldNum" idx="3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D2C3-CA86-4768-BB95-BD30C851A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9301-D804-44D8-A47A-4E8D9DFEF7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F4A6-FF77-4B19-81F7-00FFFD77D9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For every instruction, a processor repeats a set of four basic opera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Fetching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process of obtaining a program instruction or data item from mem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Decoding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process of translating the instruction into signals the computer can execu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Executing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process of carrying out the comma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Storing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, if necessary. Means writing the result to </a:t>
            </a:r>
            <a:r>
              <a:rPr b="0" i="1" lang="en-US" sz="1200" spc="-1" strike="noStrike">
                <a:solidFill>
                  <a:srgbClr val="000000"/>
                </a:solidFill>
                <a:latin typeface="Tw Cen MT Condensed"/>
              </a:rPr>
              <a:t>memory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8997-9809-4D51-9D85-6B225B1CF8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03E4-0853-4E43-9B23-820A5BA523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Processing actions occur at each “tick” of the electronic clo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he Speed of the clock determines the speed at which the CPU can process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he faster  the clock speed, the more instruction the processor can execute per second (hertz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6CB1-2619-4FA8-B1A7-A7B9B406D9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30CC-361A-4DD4-8D07-51BA1B88DC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E44F-1A78-4D79-8AA4-8577446152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hey often identify their processor chip by a model name or model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Other leading processor chip manufactur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ransme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IB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Motorol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IBM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processor had a   different design from the Intel-style process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5F7B-4D59-471B-8032-32E05FC1B7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18CC-F38E-4A18-938A-39C4698092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629C-ECA5-467A-A77A-41D6567B68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4AEE-B569-4EBA-89D1-84AD12F5BB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5429-B521-4E60-ABFF-2BFD86D45A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4FED-12FA-4E05-BDA1-22065B317C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0EF3-C2FA-4E7A-B8D9-949FC0CFD9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986F-3EFB-4169-A3E4-557E52B63C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AB00-1412-4227-92A7-179EBD3975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9617-373C-4CC9-91CD-7574FEE43A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Processor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interprets &amp; carries out the basic instructions that operate a compu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Memory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holds data waiting to be processed &amp; instruction waiting to be execu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Processor &amp; Memory are connected to a circuit board called the </a:t>
            </a: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motherbo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Adapter cards 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are circuit boards that provide connections and functions not built into the motherbo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Devices outside the system unit often attach to the </a:t>
            </a: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po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A drive bay 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holds one or more disk dr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The Power supply 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provide the computer with the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B25E-18AF-4737-BDF9-F5AEE717A0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Many electronic components attach to the motherboard, others are built into it. Ex: adapter cards, a processor chip and a memory modu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FA66-4456-4CA6-B25E-42DECBCB61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6440" indent="-40644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200" spc="-1" strike="noStrike">
                <a:solidFill>
                  <a:srgbClr val="d94439"/>
                </a:solidFill>
                <a:latin typeface="Times New Roman"/>
              </a:rPr>
              <a:t>dual-core processo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is a single chip that contains two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parate process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200" spc="-1" strike="noStrike">
                <a:solidFill>
                  <a:srgbClr val="d94439"/>
                </a:solidFill>
                <a:latin typeface="Times New Roman"/>
              </a:rPr>
              <a:t>multi-core processo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is a chip with two or mor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parate process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ach processor on a dual-core/multi-core chip generall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uns at a slower clock speed, but increase overall perform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06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26EE-3EBF-48A6-83F9-FEE5015C76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he operations typically performed by a CPU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PUs control the reading of programs and input fi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Its activates input unit to read program and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Controls the transmission of program &amp; data files from disk to main mem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PUs process data according to instructions in a progr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Data can be processed arithmetically- number can be added, subtracted, multiplied and divi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Logical tests can be performed on data. E.g., compari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Data can be transmitted or copied from one area of primary storage to an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PUs control the creation of outpu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042D-623C-46A8-AF8D-C7567D2E2A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383E3-38EF-428D-AEEA-96386B16E7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1C240-2D0D-4CB9-AF0A-9583BC39EDF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948800-7D65-47A4-BEC0-DE148B64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5A871A-CD46-413C-A479-67FFDAC8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299AC7-6FA0-4A47-9B59-3016A166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3EE6A6-DA42-4E86-B4D8-88A9EC91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41435F-2A55-4B47-BBB3-75AAC4EA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A5C781-B491-4D18-A107-1E96F61B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D423AD-5FC8-48E2-A050-A1EED6C2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2BD8C5-7AAE-4B49-A9B3-B0E8C4BD8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D5C256-DB58-4EAA-BF83-7AE53779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BA2C4D-6A69-496E-976F-32B49DF9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638EB-3202-4520-A64B-7E81C7A5976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7DD04F-1CA2-4CAB-8E07-C1081F8D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37810D-C01D-4228-BCE4-1C1745C6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F4BEB3-E32B-4801-BC11-CBD54FCE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B831D1-C14F-47B3-97FC-BCD9810F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BA7A13-E4C9-4060-9ADB-CF59EA3C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8EBA12-ECBD-4B43-9701-C7819FBF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21DC32-A6F9-430A-A207-AA8E2E5A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5D76F0-9639-47E9-9247-AD86D4DE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761594-AA18-4F85-AB38-A07F28CB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F720EC-935D-4D72-8D35-ED79E943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E43B4-7023-4DF7-883A-9BEE41D61B8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59C614-3EDF-4062-93CF-E7DDA5E1E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25DC70-09B3-4A2C-A8FA-BA5B3E73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4BCD97-8FC4-49F1-8C4C-963970FA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412B56-E1B2-4145-8B3D-6B249932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2E8236-C5D9-4E86-AA0B-23458D19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741DB6-2DA0-4073-980C-A9CCE280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31C92C-9608-4B29-956C-BEED9DCE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A42937-25B2-47F7-8D90-B68628C3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29A3C0-E6EF-427D-A58F-E7838A4F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04BD23-0253-472F-8904-5CEADB0A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E2B113-9AC0-415A-B325-D6E1DB30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D7A418-B863-4B3B-AA79-5D5FFA28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E26D12-7747-4424-985B-99F8580C6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39C455-505D-45E7-B47D-D7D17C80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E1843D-3EC0-47D1-8C4E-D3003056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D7D969-46D8-4EA9-AF01-A05BDF4F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F39872-9E05-4DFC-93C5-EADEEFBD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D67BBD-0AE8-46F8-8DD4-BAC57CDE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A81086-A585-4B54-A841-20F3AFAD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C7E0B4-454B-4FBB-8DDF-273A683B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57B9F7-7A21-482C-819E-EFA344DE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B080E3-6A99-4C83-973F-21173F48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919AE2-8424-4611-BDD8-8C58CA01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944688-2A2E-4F70-A330-239F01DD4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133ACB-1F8F-4C71-9A9E-03E61EA60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E0FD38-31E9-4028-8865-2BEFD7A2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2CD6AA-98C7-415D-AFE9-EA05F061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F779EF-8AA0-4E70-AA14-8B7AEADF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9D3442-9A41-43BC-964E-29196BC0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D642E9-8D4D-43EB-AFA1-CA44EF98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DEA4A7-7A9D-49B3-9C14-4D24AE95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A5129A-4A1F-49BC-BB5B-302FFE08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CECB94E-8FF1-4C21-A123-AA19F341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81F2E9-74ED-497A-ADA3-10CD2A13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672902-AF76-4C25-86AA-7291EBBE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B9D0AF-B98D-48B9-8488-08841047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6598F8-2D7F-40B6-8B27-DEA090A6A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164CF-6646-4265-86AA-7D770E8A92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470FE-B134-4EF2-8943-0963F6F6B9B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D7447-4FE0-4A16-B8B0-EB028F1122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F7502-C4CB-4190-984B-E44EF0324B5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E3641-999E-402E-9A8A-52FA7EBA31F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85F7D-D0EC-4C8B-969A-A9E225193E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6A6D5-6EE1-470D-98F4-406A3045271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0C1C8-E371-47A7-A40C-E69F5494ADB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0B0AB-9103-40CF-94DD-975E0CBD4B6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59694-14B8-481B-B5CE-54CDDE0F97C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2FCDB-2D7E-450F-B924-884A6659D6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A65A4-A2F2-47B8-B66A-704DB5C4CE6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8CBCF-4195-4974-9B91-700ABACDDE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2AF71-011F-4552-99F0-05BA5B2DF1D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AC564F-48BC-4A3F-A013-D9E831FB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4CD2FB-CAA1-4313-8082-8F83A7E3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AF2CC8-C307-4CC1-8408-8F3EAD0A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1A830-DD3E-4E09-994F-7E0BF3A32B8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B142ED-6B66-4637-A634-8737EDA0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52951B-C5C0-49B1-88BF-BEABB7A0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6E419E-2FCC-4709-B243-09CCB273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02D9A8-5575-4ED0-8157-763613A9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803798-F1F7-4407-864A-C45D3885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979948-7CB3-4579-8858-2C38D512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E392B2-DAFA-4231-87C1-805A46F7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7A818A-0103-4B6F-A082-17E85AD3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88EF38-74E1-4344-96BB-05B0B7272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EFC9C-3350-48AC-B96C-CD2A96436B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53AB6-44D2-4914-8587-87374236F09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B9008-9734-4E94-8DBA-0471D1FDD1A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F15DD-8309-4C71-B4E3-2E6965F56E8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CE77F-BF04-498D-9C7A-8CF940B2F4D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2A3FC-76CA-4F87-B07F-FDB17BB44EE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AC32C-AD3F-407F-B7EE-8CE990B5556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5C79C-24EF-4B9C-8001-39D16BF53A4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A1CF3-E6E2-4DCE-B817-0B223881D7F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44232-35B7-4AF5-AD30-5B206D27A37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EB83A-B9BB-4E5C-AC8E-F14CC47E4A2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A2A70-9222-4753-A5C0-8A05AF1E2B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A3E94-C097-44B9-8A79-E556A5367C6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98CC6-69B7-48BE-9941-93F163DE24F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3C1EDE-B001-4E24-B298-689B44A84AF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5E4240-1A46-4E67-9BD5-60602E50B34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08D2C0-B361-4B27-8230-1158517DF24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4A3F86-EA02-448C-B509-5DDC65314C6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8241A1-2627-4D06-BD6D-E9E7D9948F0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FB2FB2-A994-44D5-99B7-3B31FC51AE6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1A178E-FDA2-4DB3-9576-3B56F27C322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F73F4C-B86E-4B19-9B2F-52F08A0BED2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A790EB-B22E-43EA-8121-126426B45E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7A84A-F878-4283-B513-CBEB22E756A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EBA0AF-F189-42EB-A50E-F691521898A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B8ECDE-DE16-4957-9C20-CF608901215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A35C31-7C6D-4055-8378-987DFA35FEE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86B8DA-E821-43F8-8B22-60EDF4B7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B4306B-B159-4739-A465-DC664ED1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7755B7-ED39-4FA1-A3F3-DF5A2235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13E014-4808-40B8-BBEC-9000FBBA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568420-E5C0-4DB3-80A8-D0A0E4E3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BD0B47-520D-40D1-9F9C-CB3F0D31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5D5CAF-D512-4CFE-B435-0FBDC511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F8B91-3A71-4DD8-AEE7-81F7278C109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928626-0CB4-466F-AA41-D03793B2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E6FFF9-5768-4E8E-8B99-38400135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232D33-B044-413E-819A-B88221FE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599963-2A9F-450A-A625-C414C54E3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393AD8-CBB5-4EAA-A853-7F978B2CD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8F7197-7F9E-4B0B-8F76-18B299AC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ED435F-B722-4D84-B167-7033FD24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4F4944-1625-4953-94D5-614493C4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0EBA52-50D6-4554-925A-BABFDA85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7C19BB-A8FD-4657-B8F7-47877DFB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E980A-2ABD-4368-9639-B7D186006F1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489FB3-66BB-44DF-A664-499F2ACC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76FD59-BB7A-4340-B34B-53D1A34C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054603-DBC9-49F3-AE5C-C9336C60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7FF6C3-6AF5-46DA-AD8D-109C9CD8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56B848-3389-4790-AFFD-AD7DF6DA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3F3B53-70C0-42AD-BBE0-E67AE6E01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19DF17-DCE8-41D6-ADB7-B1AB0FD0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94279F-2D71-4D01-BCB8-4F0FB5EC0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8D8D6F-6D14-4AFF-A7E3-DB951818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40F1ED-2A08-4AE8-97AB-3B621046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3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47C2-CD3C-40BE-AA40-A70772843DB4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981080" y="6370560"/>
            <a:ext cx="472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403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5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2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3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976F-3A1C-4178-BF61-F59BC7260F02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448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0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5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26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4EC0-472F-43DE-91FB-8CA06D1CBDE4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493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5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28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29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0AED-52E7-4E45-B5A3-581A5A42D43F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538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0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0"/>
          </p:nvPr>
        </p:nvSpPr>
        <p:spPr>
          <a:xfrm>
            <a:off x="196848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1"/>
          </p:nvPr>
        </p:nvSpPr>
        <p:spPr>
          <a:xfrm>
            <a:off x="1981080" y="6370560"/>
            <a:ext cx="472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2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9FAD-8870-4DD4-9C5F-DAB853AB525A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45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4"/>
          <a:stretch/>
        </p:blipFill>
        <p:spPr>
          <a:xfrm>
            <a:off x="5105520" y="3203640"/>
            <a:ext cx="4038480" cy="3654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23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" name="Title 1"/>
          <p:cNvSpPr/>
          <p:nvPr/>
        </p:nvSpPr>
        <p:spPr>
          <a:xfrm>
            <a:off x="1219320" y="548640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Your Interactive Guide to the Digital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0" y="426708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iscover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puters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91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3"/>
          </p:nvPr>
        </p:nvSpPr>
        <p:spPr>
          <a:xfrm>
            <a:off x="274284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4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0615-68F2-49E2-90B7-DC1FDDE9B140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135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6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7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36FE-074A-4DF9-A38C-B903FB24B8A5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180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2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8"/>
          </p:nvPr>
        </p:nvSpPr>
        <p:spPr>
          <a:xfrm>
            <a:off x="274284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sldNum" idx="9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5F19-D3AD-4BAF-BB06-C0D6A0F6098C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224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0"/>
          </p:nvPr>
        </p:nvSpPr>
        <p:spPr>
          <a:xfrm>
            <a:off x="274284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1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BBAE-6A05-4D97-8C93-7C66F572E50F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268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3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4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39A7-5C86-4885-AE19-B66674BAAC7D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313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5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6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17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0904-8C6B-4A19-8BD7-7C0453C7EEF9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358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0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19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0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6641-EDFC-4209-9025-D124BDF9502F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000" spc="-1" strike="noStrike">
                <a:solidFill>
                  <a:srgbClr val="a52439"/>
                </a:solidFill>
                <a:latin typeface="Calibri"/>
              </a:rPr>
              <a:t>control unit</a:t>
            </a:r>
            <a:r>
              <a:rPr b="0" lang="en-US" sz="3000" spc="-1" strike="noStrike">
                <a:solidFill>
                  <a:srgbClr val="a5243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the component of the processor that directs and coordinates most of the operations in the compu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ndles the transmission of data into and out of the CPU and supervises its overall opera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ts interprets each instruction issued by a program &amp; then initiates the appropriate action to carry out the instruc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000" spc="-1" strike="noStrike">
                <a:solidFill>
                  <a:srgbClr val="a52439"/>
                </a:solidFill>
                <a:latin typeface="Calibri"/>
              </a:rPr>
              <a:t>arithmetic logic unit</a:t>
            </a:r>
            <a:r>
              <a:rPr b="0" lang="en-US" sz="3000" spc="-1" strike="noStrike">
                <a:solidFill>
                  <a:srgbClr val="a5243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ALU) performs arithmetic, comparison, and other oper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897B-E4E7-4E30-B4D4-496CA95FE069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very instruction, a processor repeats a set of four basic operations, which comprise a machine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2628-A2BC-4296-8666-84C2A9CAF575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4" name="Picture 7" descr="CFig4-05.gif"/>
          <p:cNvPicPr/>
          <p:nvPr/>
        </p:nvPicPr>
        <p:blipFill>
          <a:blip r:embed="rId1"/>
          <a:stretch/>
        </p:blipFill>
        <p:spPr>
          <a:xfrm>
            <a:off x="1981080" y="2666880"/>
            <a:ext cx="5881680" cy="373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646" name="Content Placeholder 9" descr=""/>
          <p:cNvPicPr/>
          <p:nvPr/>
        </p:nvPicPr>
        <p:blipFill>
          <a:blip r:embed="rId1"/>
          <a:stretch/>
        </p:blipFill>
        <p:spPr>
          <a:xfrm>
            <a:off x="12600" y="1603440"/>
            <a:ext cx="9058320" cy="4645080"/>
          </a:xfrm>
          <a:prstGeom prst="rect">
            <a:avLst/>
          </a:prstGeom>
          <a:ln w="0">
            <a:noFill/>
          </a:ln>
        </p:spPr>
      </p:pic>
      <p:sp>
        <p:nvSpPr>
          <p:cNvPr id="647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03E4-9A94-443C-91AD-B665FC60862E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2439"/>
                </a:solidFill>
                <a:latin typeface="Calibri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registers are special storage areas in the CP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ir function is to hold instructions, data values, memory addresses of both the instructions and dat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re are 4 basic types of it: </a:t>
            </a: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CU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500" spc="-1" strike="noStrike">
                <a:solidFill>
                  <a:srgbClr val="0070c0"/>
                </a:solidFill>
                <a:latin typeface="Calibri"/>
              </a:rPr>
              <a:t>AL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Instruction register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old instruction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Address register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old address of( data , next instruction 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Calibri"/>
              </a:rPr>
              <a:t>Storage register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tore data retrieved from main memory prior to processing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Calibri"/>
              </a:rPr>
              <a:t>Accumulato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store the results of arithmetic &amp; logic opera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B820-1D78-499E-9404-9B8BBA21C1B9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2439"/>
                </a:solidFill>
                <a:latin typeface="Calibri"/>
              </a:rPr>
              <a:t>System</a:t>
            </a:r>
            <a:r>
              <a:rPr b="0" lang="en-US" sz="3200" spc="-1" strike="noStrike">
                <a:solidFill>
                  <a:srgbClr val="a52439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a52439"/>
                </a:solidFill>
                <a:latin typeface="Calibri"/>
              </a:rPr>
              <a:t>clock</a:t>
            </a:r>
            <a:r>
              <a:rPr b="0" lang="en-US" sz="3200" spc="-1" strike="noStrike">
                <a:solidFill>
                  <a:srgbClr val="a5243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generates regular electronic pulses , or ticks, that control the timing of all computer operations ( i.e. set operating pace of components of system uni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e of system  clock is </a:t>
            </a:r>
            <a:r>
              <a:rPr b="0" lang="en-US" sz="2800" spc="-1" strike="noStrike">
                <a:solidFill>
                  <a:srgbClr val="a52439"/>
                </a:solidFill>
                <a:latin typeface="Calibri"/>
              </a:rPr>
              <a:t>clock speed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clock speeds are  in the </a:t>
            </a:r>
            <a:r>
              <a:rPr b="0" lang="en-US" sz="2800" spc="-1" strike="noStrike">
                <a:solidFill>
                  <a:srgbClr val="a52439"/>
                </a:solidFill>
                <a:latin typeface="Calibri"/>
              </a:rPr>
              <a:t>gigahertz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GHz) range (1 GHz = 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llion ticks of system clock per second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990F-ECB1-40C8-90C4-B023B8EBB67E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current personal computers support </a:t>
            </a:r>
            <a:r>
              <a:rPr b="0" lang="en-US" sz="2800" spc="-1" strike="noStrike">
                <a:solidFill>
                  <a:srgbClr val="a52439"/>
                </a:solidFill>
                <a:latin typeface="Calibri"/>
              </a:rPr>
              <a:t>pipel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or begins fetching a second instruction before it completes the machine cycle for the first instr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2" name="Content Placeholder 8" descr="Fig4-06.gif"/>
          <p:cNvPicPr/>
          <p:nvPr/>
        </p:nvPicPr>
        <p:blipFill>
          <a:blip r:embed="rId1"/>
          <a:stretch/>
        </p:blipFill>
        <p:spPr>
          <a:xfrm>
            <a:off x="4648320" y="2436840"/>
            <a:ext cx="4038480" cy="2852640"/>
          </a:xfrm>
          <a:prstGeom prst="rect">
            <a:avLst/>
          </a:prstGeom>
          <a:ln w="0">
            <a:noFill/>
          </a:ln>
        </p:spPr>
      </p:pic>
      <p:sp>
        <p:nvSpPr>
          <p:cNvPr id="663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0E5B-91BA-4448-AA89-76085BE744A9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s 215 – 21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llel processing uses multiple processors simultaneously to execute a single program or ta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ssively parallel processing involves hundreds or thousands of process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3D5F-942E-4347-84BA-9CB51D1F1986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1" name="Picture 9" descr="Fig4-11.gif"/>
          <p:cNvPicPr/>
          <p:nvPr/>
        </p:nvPicPr>
        <p:blipFill>
          <a:blip r:embed="rId1"/>
          <a:stretch/>
        </p:blipFill>
        <p:spPr>
          <a:xfrm>
            <a:off x="2819520" y="2971800"/>
            <a:ext cx="3743280" cy="333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45684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eading manufacturers of personal computer processor chips are Intel and AM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A901-44D0-4808-B1B0-172E4B98C0B2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s 216 – 21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7" name="Content Placeholder 6" descr=""/>
          <p:cNvPicPr/>
          <p:nvPr/>
        </p:nvPicPr>
        <p:blipFill>
          <a:blip r:embed="rId1"/>
          <a:stretch/>
        </p:blipFill>
        <p:spPr>
          <a:xfrm>
            <a:off x="3809880" y="1600200"/>
            <a:ext cx="5105520" cy="472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151920" y="1600200"/>
            <a:ext cx="2667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e how you plan to use a new computer before selecting a process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6F0C-3000-46DF-9069-23DAFB97596F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3" name="Picture 2" descr=""/>
          <p:cNvPicPr/>
          <p:nvPr/>
        </p:nvPicPr>
        <p:blipFill>
          <a:blip r:embed="rId1"/>
          <a:stretch/>
        </p:blipFill>
        <p:spPr>
          <a:xfrm>
            <a:off x="2895480" y="1371600"/>
            <a:ext cx="6248520" cy="548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rocessor chip generates heat that could cause the chip to burn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 additional coo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t sin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quid cooling techn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Content Placeholder 9" descr="CFig4-09.gif"/>
          <p:cNvPicPr/>
          <p:nvPr/>
        </p:nvPicPr>
        <p:blipFill>
          <a:blip r:embed="rId1"/>
          <a:stretch/>
        </p:blipFill>
        <p:spPr>
          <a:xfrm>
            <a:off x="5181480" y="1752480"/>
            <a:ext cx="2895840" cy="1925640"/>
          </a:xfrm>
          <a:prstGeom prst="rect">
            <a:avLst/>
          </a:prstGeom>
          <a:ln w="0">
            <a:noFill/>
          </a:ln>
        </p:spPr>
      </p:pic>
      <p:sp>
        <p:nvSpPr>
          <p:cNvPr id="687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C492-185B-45FD-9CE6-550FE7CCC98A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s 219 - 2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s 4-9 – 4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0" name="Picture 10" descr="Fig4-10.gif"/>
          <p:cNvPicPr/>
          <p:nvPr/>
        </p:nvPicPr>
        <p:blipFill>
          <a:blip r:embed="rId2"/>
          <a:stretch/>
        </p:blipFill>
        <p:spPr>
          <a:xfrm>
            <a:off x="5181480" y="3809880"/>
            <a:ext cx="2895840" cy="236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Objectives Overview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590" name="Content Placeholder 6" descr=""/>
          <p:cNvPicPr/>
          <p:nvPr/>
        </p:nvPicPr>
        <p:blipFill>
          <a:blip r:embed="rId1"/>
          <a:stretch/>
        </p:blipFill>
        <p:spPr>
          <a:xfrm>
            <a:off x="42840" y="1603440"/>
            <a:ext cx="9124920" cy="4645080"/>
          </a:xfrm>
          <a:prstGeom prst="rect">
            <a:avLst/>
          </a:prstGeom>
          <a:ln w="0">
            <a:noFill/>
          </a:ln>
        </p:spPr>
      </p:pic>
      <p:sp>
        <p:nvSpPr>
          <p:cNvPr id="591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98AD-551B-4039-93F9-D1FEF2617A76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e Page 209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or Detailed Objectiv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692" name="Content Placeholder 6" descr=""/>
          <p:cNvPicPr/>
          <p:nvPr/>
        </p:nvPicPr>
        <p:blipFill>
          <a:blip r:embed="rId1"/>
          <a:stretch/>
        </p:blipFill>
        <p:spPr>
          <a:xfrm>
            <a:off x="30240" y="1603440"/>
            <a:ext cx="9016920" cy="4645080"/>
          </a:xfrm>
          <a:prstGeom prst="rect">
            <a:avLst/>
          </a:prstGeom>
          <a:ln w="0">
            <a:noFill/>
          </a:ln>
        </p:spPr>
      </p:pic>
      <p:sp>
        <p:nvSpPr>
          <p:cNvPr id="693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56D7-EFD0-46CD-AD66-4ACB9B9C0F99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13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 computer circuit represents the 0 or the 1 electronically by the presence or absence of an electrical char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Content Placeholder 11" descr="Fig4-12.gif"/>
          <p:cNvPicPr/>
          <p:nvPr/>
        </p:nvPicPr>
        <p:blipFill>
          <a:blip r:embed="rId1"/>
          <a:stretch/>
        </p:blipFill>
        <p:spPr>
          <a:xfrm>
            <a:off x="457200" y="3255840"/>
            <a:ext cx="4040280" cy="2586240"/>
          </a:xfrm>
          <a:prstGeom prst="rect">
            <a:avLst/>
          </a:prstGeom>
          <a:ln w="0">
            <a:noFill/>
          </a:ln>
        </p:spPr>
      </p:pic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181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Eight bit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rouped together as a unit are called a </a:t>
            </a:r>
            <a:r>
              <a:rPr b="1" lang="en-US" sz="2200" spc="-1" strike="noStrike">
                <a:solidFill>
                  <a:srgbClr val="a52439"/>
                </a:solidFill>
                <a:latin typeface="Calibri"/>
              </a:rPr>
              <a:t>byte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. A byte represents a single character in the computer ( numbers, upper or lower case letters, or punctuation mark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0" name="Content Placeholder 12" descr="Fig4-13.gif"/>
          <p:cNvPicPr/>
          <p:nvPr/>
        </p:nvPicPr>
        <p:blipFill>
          <a:blip r:embed="rId2"/>
          <a:stretch/>
        </p:blipFill>
        <p:spPr>
          <a:xfrm>
            <a:off x="4724280" y="3581280"/>
            <a:ext cx="4191120" cy="2286000"/>
          </a:xfrm>
          <a:prstGeom prst="rect">
            <a:avLst/>
          </a:prstGeom>
          <a:ln w="0">
            <a:noFill/>
          </a:ln>
        </p:spPr>
      </p:pic>
      <p:sp>
        <p:nvSpPr>
          <p:cNvPr id="701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A8C6-4886-451D-954D-3F9943A674EE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s 4-12 – 4-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5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ifferent combinations of 0s and 1s are defined by patterns called </a:t>
            </a:r>
            <a:r>
              <a:rPr b="0" lang="en-US" sz="2400" spc="-1" strike="noStrike">
                <a:solidFill>
                  <a:srgbClr val="a52439"/>
                </a:solidFill>
                <a:latin typeface="Calibri"/>
              </a:rPr>
              <a:t>a coding schem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two coding schemas used to represent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CII—American Standard Code for Information Interchan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[Personal Computers – PCS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BCDIC—Extended Binary Coded Decimal Interchange Co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[Mainframes, Mini-computers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Footer Placeholder 6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7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8D20-58D4-49B6-A045-FB23BE91BA3A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2" descr=""/>
          <p:cNvPicPr/>
          <p:nvPr/>
        </p:nvPicPr>
        <p:blipFill>
          <a:blip r:embed="rId1"/>
          <a:stretch/>
        </p:blipFill>
        <p:spPr>
          <a:xfrm>
            <a:off x="2209680" y="4952880"/>
            <a:ext cx="4353120" cy="146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456840" y="15998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CII is the most widely used coding scheme to represent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2" name="Content Placeholder 13" descr="Fig4-14.gif"/>
          <p:cNvPicPr/>
          <p:nvPr/>
        </p:nvPicPr>
        <p:blipFill>
          <a:blip r:embed="rId1"/>
          <a:stretch/>
        </p:blipFill>
        <p:spPr>
          <a:xfrm>
            <a:off x="1523880" y="2658960"/>
            <a:ext cx="6248520" cy="4199040"/>
          </a:xfrm>
          <a:prstGeom prst="rect">
            <a:avLst/>
          </a:prstGeom>
          <a:ln w="0">
            <a:noFill/>
          </a:ln>
        </p:spPr>
      </p:pic>
      <p:sp>
        <p:nvSpPr>
          <p:cNvPr id="713" name="Footer Placeholder 6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Slide Number Placeholder 7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F4FE-FACB-4214-A269-8B75A0171D4F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17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1BFD-1CCE-4927-AFCD-0BBA98345D75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0" name="Content Placeholder 3" descr=""/>
          <p:cNvPicPr/>
          <p:nvPr/>
        </p:nvPicPr>
        <p:blipFill>
          <a:blip r:embed="rId1"/>
          <a:srcRect l="0" t="0" r="3447" b="7965"/>
          <a:stretch/>
        </p:blipFill>
        <p:spPr>
          <a:xfrm>
            <a:off x="457200" y="1676520"/>
            <a:ext cx="8305920" cy="464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The System Uni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152280" y="17521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a52439"/>
                </a:solidFill>
                <a:latin typeface="Calibri"/>
              </a:rPr>
              <a:t>system unit</a:t>
            </a:r>
            <a:r>
              <a:rPr b="0" lang="en-US" sz="2800" spc="-1" strike="noStrike">
                <a:solidFill>
                  <a:srgbClr val="a52439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case that contains electronic components of the computer used to process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de of metal or plastic to protects the internal components from dama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computers have a system unit. It is available in variety of shapes &amp; siz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884D-7775-458C-8639-9942D4EF1D43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3"/>
          <p:cNvSpPr/>
          <p:nvPr/>
        </p:nvSpPr>
        <p:spPr>
          <a:xfrm>
            <a:off x="274320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CBDF-057F-4A8B-B5A0-C090CC67D7FA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1" name="Picture 6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458200" cy="594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The System Uni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side of the system unit on a desktop personal computer includ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AE91-9F77-4FE1-A54E-256DD3778FD5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7" name="Diagram 6" descr=""/>
          <p:cNvPicPr/>
          <p:nvPr/>
        </p:nvPicPr>
        <p:blipFill>
          <a:blip r:embed="rId1"/>
          <a:stretch/>
        </p:blipFill>
        <p:spPr>
          <a:xfrm>
            <a:off x="341280" y="2712960"/>
            <a:ext cx="2382840" cy="366408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9" descr=""/>
          <p:cNvPicPr/>
          <p:nvPr/>
        </p:nvPicPr>
        <p:blipFill>
          <a:blip r:embed="rId2"/>
          <a:stretch/>
        </p:blipFill>
        <p:spPr>
          <a:xfrm>
            <a:off x="2971800" y="2743200"/>
            <a:ext cx="5487840" cy="350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Motherboard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52280" y="1600200"/>
            <a:ext cx="4724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a52439"/>
                </a:solidFill>
                <a:latin typeface="Calibri"/>
              </a:rPr>
              <a:t>motherboa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the main circuit board of the system un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ansion slots, processor chips, and memory sl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imes called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ystem bo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0B4D-054D-4FB2-989F-CF6077B0267C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4" name="Picture 6" descr="CFig4-03.gif"/>
          <p:cNvPicPr/>
          <p:nvPr/>
        </p:nvPicPr>
        <p:blipFill>
          <a:blip r:embed="rId1"/>
          <a:stretch/>
        </p:blipFill>
        <p:spPr>
          <a:xfrm>
            <a:off x="5029200" y="1752480"/>
            <a:ext cx="3886200" cy="4191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Motherboard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grpSp>
        <p:nvGrpSpPr>
          <p:cNvPr id="616" name="Group 21"/>
          <p:cNvGrpSpPr/>
          <p:nvPr/>
        </p:nvGrpSpPr>
        <p:grpSpPr>
          <a:xfrm>
            <a:off x="7846920" y="6402240"/>
            <a:ext cx="860400" cy="271440"/>
            <a:chOff x="7846920" y="6402240"/>
            <a:chExt cx="860400" cy="271440"/>
          </a:xfrm>
        </p:grpSpPr>
        <p:sp>
          <p:nvSpPr>
            <p:cNvPr id="617" name="AutoShape 22">
              <a:hlinkClick r:id="" action="ppaction://hlinkshowjump?jump=nextslide"/>
            </p:cNvPr>
            <p:cNvSpPr/>
            <p:nvPr/>
          </p:nvSpPr>
          <p:spPr>
            <a:xfrm>
              <a:off x="7873920" y="6402240"/>
              <a:ext cx="833400" cy="271440"/>
            </a:xfrm>
            <a:custGeom>
              <a:avLst/>
              <a:gdLst>
                <a:gd name="textAreaLeft" fmla="*/ 17280 w 833400"/>
                <a:gd name="textAreaRight" fmla="*/ 816120 w 833400"/>
                <a:gd name="textAreaTop" fmla="*/ 17280 h 271440"/>
                <a:gd name="textAreaBottom" fmla="*/ 254160 h 271440"/>
              </a:gdLst>
              <a:ahLst/>
              <a:rect l="textAreaLeft" t="textAreaTop" r="textAreaRight" b="textAreaBottom"/>
              <a:pathLst>
                <a:path w="66259" h="21600">
                  <a:moveTo>
                    <a:pt x="0" y="0"/>
                  </a:moveTo>
                  <a:lnTo>
                    <a:pt x="66259" y="0"/>
                  </a:lnTo>
                  <a:lnTo>
                    <a:pt x="66259" y="21600"/>
                  </a:lnTo>
                  <a:lnTo>
                    <a:pt x="0" y="21600"/>
                  </a:lnTo>
                  <a:close/>
                </a:path>
                <a:path fill="lightenLess" w="66259" h="21600">
                  <a:moveTo>
                    <a:pt x="0" y="0"/>
                  </a:moveTo>
                  <a:lnTo>
                    <a:pt x="66259" y="0"/>
                  </a:lnTo>
                  <a:lnTo>
                    <a:pt x="64859" y="1400"/>
                  </a:lnTo>
                  <a:lnTo>
                    <a:pt x="1400" y="1400"/>
                  </a:lnTo>
                  <a:close/>
                </a:path>
                <a:path fill="darken" w="66259" h="21600">
                  <a:moveTo>
                    <a:pt x="66259" y="0"/>
                  </a:moveTo>
                  <a:lnTo>
                    <a:pt x="66259" y="21600"/>
                  </a:lnTo>
                  <a:lnTo>
                    <a:pt x="64859" y="20200"/>
                  </a:lnTo>
                  <a:lnTo>
                    <a:pt x="64859" y="1400"/>
                  </a:lnTo>
                  <a:close/>
                </a:path>
                <a:path fill="darkenLess" w="66259" h="21600">
                  <a:moveTo>
                    <a:pt x="6625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859" y="20200"/>
                  </a:lnTo>
                  <a:close/>
                </a:path>
                <a:path fill="lighten" w="6625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66259" h="21600">
                  <a:moveTo>
                    <a:pt x="26123" y="3794"/>
                  </a:moveTo>
                  <a:lnTo>
                    <a:pt x="40136" y="10800"/>
                  </a:lnTo>
                  <a:lnTo>
                    <a:pt x="26123" y="17806"/>
                  </a:lnTo>
                  <a:close/>
                </a:path>
              </a:pathLst>
            </a:custGeom>
            <a:solidFill>
              <a:srgbClr val="ffb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Text Box 23"/>
            <p:cNvSpPr/>
            <p:nvPr/>
          </p:nvSpPr>
          <p:spPr>
            <a:xfrm>
              <a:off x="7846920" y="6407280"/>
              <a:ext cx="46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eeece1"/>
                  </a:solidFill>
                  <a:latin typeface="Times New Roman"/>
                </a:rPr>
                <a:t>Nex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9" name="Rectangle 30"/>
          <p:cNvSpPr/>
          <p:nvPr/>
        </p:nvSpPr>
        <p:spPr>
          <a:xfrm>
            <a:off x="380880" y="1752480"/>
            <a:ext cx="778212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Most computers use integrated circuits  also called </a:t>
            </a:r>
            <a:r>
              <a:rPr b="0" lang="en-US" sz="2400" spc="-1" strike="noStrike">
                <a:solidFill>
                  <a:srgbClr val="c0504d"/>
                </a:solidFill>
                <a:latin typeface="Calibri"/>
                <a:ea typeface="MS PGothic"/>
              </a:rPr>
              <a:t>chip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, for their CPU and main memo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Memory chips are installed on memory module( card) that fit in a slot on the mother boa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What is a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  <a:ea typeface="MS PGothic"/>
              </a:rPr>
              <a:t>chi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Small piece of semi-conducting material on which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integrated circuits (IC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are etch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IC contain many microscopic pathways capable of carrying electrical curr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Each IC can contain millions of elements such as resistors, capacitors, transisto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176"/>
              </a:spcBef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Rectangle 37"/>
          <p:cNvSpPr/>
          <p:nvPr/>
        </p:nvSpPr>
        <p:spPr>
          <a:xfrm>
            <a:off x="304920" y="3000240"/>
            <a:ext cx="778176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02888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1" name="Picture 7" descr="04PHY011_ChipScaleClock2_HR"/>
          <p:cNvPicPr/>
          <p:nvPr/>
        </p:nvPicPr>
        <p:blipFill>
          <a:blip r:embed="rId1"/>
          <a:stretch/>
        </p:blipFill>
        <p:spPr>
          <a:xfrm rot="849600">
            <a:off x="7508520" y="2976480"/>
            <a:ext cx="1471680" cy="15130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6" descr="r100004large"/>
          <p:cNvPicPr/>
          <p:nvPr/>
        </p:nvPicPr>
        <p:blipFill>
          <a:blip r:embed="rId2"/>
          <a:stretch/>
        </p:blipFill>
        <p:spPr>
          <a:xfrm rot="1036200">
            <a:off x="7735680" y="4644720"/>
            <a:ext cx="1222200" cy="1439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a52439"/>
                </a:solidFill>
                <a:latin typeface="Calibri"/>
              </a:rPr>
              <a:t>process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lso called the </a:t>
            </a:r>
            <a:r>
              <a:rPr b="1" lang="en-US" sz="3200" spc="-1" strike="noStrike">
                <a:solidFill>
                  <a:srgbClr val="a52439"/>
                </a:solidFill>
                <a:latin typeface="Calibri"/>
              </a:rPr>
              <a:t>central processing uni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3200" spc="-1" strike="noStrike">
                <a:solidFill>
                  <a:srgbClr val="a52439"/>
                </a:solidFill>
                <a:latin typeface="Calibri"/>
              </a:rPr>
              <a:t>CP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, interprets and carries out the basic instructions that operate a compu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ain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trol uni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a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ithmetic logic unit (ALU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 work together to perform processing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1E22-2092-4C81-A892-D672E5023AFC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8" name="Diagram 6" descr=""/>
          <p:cNvPicPr/>
          <p:nvPr/>
        </p:nvPicPr>
        <p:blipFill>
          <a:blip r:embed="rId1"/>
          <a:stretch/>
        </p:blipFill>
        <p:spPr>
          <a:xfrm>
            <a:off x="109440" y="4346640"/>
            <a:ext cx="9339480" cy="22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630" name="Content Placeholder 6" descr="Fig4-04.gif"/>
          <p:cNvPicPr/>
          <p:nvPr/>
        </p:nvPicPr>
        <p:blipFill>
          <a:blip r:embed="rId1"/>
          <a:stretch/>
        </p:blipFill>
        <p:spPr>
          <a:xfrm>
            <a:off x="1066680" y="1600200"/>
            <a:ext cx="6705720" cy="4648320"/>
          </a:xfrm>
          <a:prstGeom prst="rect">
            <a:avLst/>
          </a:prstGeom>
          <a:ln w="0">
            <a:noFill/>
          </a:ln>
        </p:spPr>
      </p:pic>
      <p:sp>
        <p:nvSpPr>
          <p:cNvPr id="631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D009-C56A-429B-9287-0002AE9B4C3D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7:11:12Z</dcterms:created>
  <dc:creator>steven</dc:creator>
  <dc:description/>
  <dc:language>en-US</dc:language>
  <cp:lastModifiedBy>Toshiba</cp:lastModifiedBy>
  <dcterms:modified xsi:type="dcterms:W3CDTF">2016-10-01T12:08:57Z</dcterms:modified>
  <cp:revision>1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9FB6436308CE4449AEA8207A63B4C9CB</vt:lpwstr>
  </property>
</Properties>
</file>