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2972-3C4E-4C69-9033-F1B5EF9DDB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4904-4E9D-40C5-91E6-C00E2DDC4F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CB61-ECD5-4869-A09A-9F82ABA2D4E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57CB-C1A1-44BC-8AF1-E74CECA4296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E93C-CEC7-4994-AD50-723AA499D2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86C1-8044-4796-B6D9-554E8FC16E0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6BEC-EEB4-44D1-816E-59106F4EA8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1086-C2F7-47E2-8CDF-913F453B61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D162-C750-45D8-9D3C-7071FB7E751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C457-3A77-42EB-ABFE-63B56C14A3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9815-95CD-4511-96AE-AAB9ED10D8E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99F1-AF2B-4724-8D90-E690BDB38DE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6D61-8D20-439B-A03C-EA8FE169365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ECC-A525-4854-BCAF-EC66980F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242-7548-4D67-87C5-4A2459C1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65D-DF38-4888-9BAB-C26BAA47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CC6-69D7-4ED2-9F1C-3C82260F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F766-71F1-4D05-97E5-E38CF4BB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ACBC-4E7C-4A06-9BC7-4C3D100E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06B5-DAD7-4703-949A-4DC54B47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169E-5A46-45B8-9125-5425BDB7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1E16-4EEA-40D9-B956-E0BCD152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09DD-DEAA-4698-BE1F-4B2AECC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640F-1165-4B46-94FD-5DD41617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968-72E7-4EC8-A59C-E4B2F730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2181-E0F2-4F90-A595-B4FB3624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9C36-0E80-47C6-BC6F-1A02EF09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5755-7577-4109-AB2B-9F0BD901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86C2-1897-4BAA-96BD-978140AB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7823-E161-47DA-AC48-BFEE74F8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38CD-DCB5-403F-B13F-A80228B9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7504-4091-4CC3-81DE-C104469D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32E6-2DD7-457C-B2EA-775FF51F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2A2A-90F3-4E5B-9E47-42A73288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D55B-F2DB-4C59-B17D-EBA85DD2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903-881D-4338-866A-176C77BE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45D9-BE4F-4FA2-86B4-0CE68C9C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4CE6-7D66-465D-8E64-2C794EE7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EAA6-6C2E-4903-8FD9-9E0E708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730D-1C58-4338-BA82-78539741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3554-0261-4E39-ABD4-DDEF315C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81AF-C04D-4C46-8977-1AB6F29F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28203-DAA1-4A01-8D30-8C811778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EA8BF-06CE-4145-A79E-9B79D310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1C14-37E8-45E5-9435-B86A794F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61DF-54A1-49DC-A4B8-1A7ADC7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F8E-3201-4F17-87EE-CD0D5C8B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21F9B-2109-4857-B9B8-1290DAA2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5ED8-4CD5-401C-8D9C-F381C2E8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973C-FDCE-46B0-B6F4-73F5E2EE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5309C-1DA5-49D4-A871-98813E8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F743-43D9-44BA-BC80-C9FD4A61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3D23C-8CEE-4E62-9D65-6F18362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0D158-1746-41BD-BD4F-365DA714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ED1C-5F26-4045-9FAC-62C58A7F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566E6-C98E-45E3-A186-85EB2EBB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E16FB-7635-4A19-BC63-96B58BA4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83B-2285-4869-BDCD-9ACEC46C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F095B-7132-4B1C-964F-B8C7B929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AEC9-3DE2-4D9E-B689-3037CE6D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2B04-FFD4-4363-9641-7FF8739F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57B98-C183-4DBE-8619-3E9AA7A3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B3546-59C6-4401-98A1-34561798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75F2F-A06B-4648-A819-16A7322F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2B20D-69A8-4BC8-A220-D92DB13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EB76-7DC7-4DB9-8FF9-EB163CC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22F93-C6A4-4AE6-BE0D-6FA479AF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5793B-E396-4EDA-BC41-F0DCEA71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278-87FD-41E4-8E91-9AD048A3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EF3F2-DD13-4450-9389-79FD5AB2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0F0C5-A207-434C-B7B9-3129773D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73B10-DE71-4925-AEC9-D3C9378E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579D6-72A4-46CD-9C6D-7B687EAF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BFA7E-C5C5-43BF-BF85-B8F8E80E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78E5D-1A83-446C-9806-E1627338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30F4D-A4F6-4FBE-B0A7-1A81A15B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011DB-BCA9-4A31-AFEC-C1868B87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6875A-4381-4895-8386-AE96CF0E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54921-8824-4F77-BDD6-658D75FA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4AF-C159-48F2-A28C-0C6FE4D2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2540D-3770-4C3D-AD3D-1A7B777F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2BEDF-37CC-4C3B-A270-516431A1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2100E-8959-4E2C-9EF0-F05EEBDE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E416A-8ADD-4721-98B4-FAB08686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05817-FD4D-492E-9DBD-CC362939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CB0CD-6B57-457A-B764-4A56CFB4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EC73C-90B7-4A13-AFD9-57E82185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8A37E-6578-47D9-A79D-920136B3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3C37E-4ECB-43FF-A7DF-B85ECCAD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C4A1-995F-403F-9F42-56E7A2C6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ECB-12F0-4A80-8498-B4E28CCE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F04E2-7C76-4E83-9C29-61129366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07F0A-CB43-415A-9841-8F14130F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14E42-5D5E-449C-A5BE-30E07AC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6AC06-CEA9-4325-954E-0C8D3BF6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B787B-D76F-4372-A582-FC01FC50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8449B-4A5A-4F5C-96F6-B408A711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EEE92-6BD6-462A-A035-09E3FB9A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D306A-B83A-479B-94D0-A1AAE07E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D7865-5FDA-4934-B476-D0324087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18BA6-57EF-4603-8B01-BF746FBC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D36-A3EC-4009-ADBB-EDFB6B0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C13B-3226-4A5E-AD44-ACEBAA50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62CD7-1A7F-416A-99A1-869E15F2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EA301-F314-4FC3-9F0F-17333D0D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7064A-B83A-406C-92E8-79192384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5DC23-386D-4A70-A1CE-72363D3E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DE70A-B2CD-4E82-A0B6-2BABC4AC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1F7AD-43CD-47E4-8A27-DF9BB90D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F976-D23B-4823-96BC-2D937F2550D9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580B-A525-41AA-8362-93BEA3B67A07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63A1-CB35-4859-8302-BACE80FEE09C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5E65-BF00-4756-A0D1-C5756F90A3C6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252C-9DBB-4A92-91B3-DD711B691619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5944-AD59-421D-9B2F-9D2DD5574F53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382A-5951-4435-8CD9-40D97B000FFF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7A5D-75C2-4EBA-BAA5-4E6D0E485926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  <a:ea typeface="MS PGothic"/>
              </a:rPr>
              <a:t>Java Fundamentals 3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bddc3"/>
              </a:solidFill>
              <a:latin typeface="Arial"/>
              <a:ea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518148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Type conversion 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Length of the string  is the number of characters in i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When determining the length of  a  string 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lanks coun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 “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has length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bc”  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3  , position of a = 0 ,b= 1 , c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  boy”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15BE-EFAF-439A-9FA5-7B60C9997E11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C9AC-64C8-4929-9C59-8B38FBCF47A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7912080" cy="2533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380880" y="4343400"/>
            <a:ext cx="609624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charAt(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‘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5715000" y="4952880"/>
            <a:ext cx="3200400" cy="1219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7462-1C8F-4E2E-AD27-253DD3FF0DD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1252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8382240" cy="1046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83822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066680" y="1600200"/>
            <a:ext cx="739152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a',1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with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ing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2590920" y="3809880"/>
            <a:ext cx="3809880" cy="2133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F372-EC14-49BF-B9F5-F6822CF6C0F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9" name="Object 5"/>
          <p:cNvGraphicFramePr/>
          <p:nvPr/>
        </p:nvGraphicFramePr>
        <p:xfrm>
          <a:off x="704880" y="2462040"/>
          <a:ext cx="7732800" cy="30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462040"/>
                    <a:ext cx="7732800" cy="30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31AE-C1CD-408A-803F-CA1225F7F87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tring s1 , s2 , s3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1 = “abcdefeg”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length() );   //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3));  /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));  /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“cd”)); /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toUpperCase()); //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027A-5160-4B72-9C9A-1EA83DD6935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substring(1 , 4)); //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 + “xyz”); // abcdefeg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replace(‘d’ ,’D’)); // 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4) );  //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b’));  //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,5));  //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fault type of floating point numbers is doub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clar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float rate = 15.5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without th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 , the compiler will generate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3057-A35C-4F25-B174-A5ABB531E3AC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When using the char data type, you enclose each character represented within single quotations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c =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space = ‘ 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ach character is represented by a value (‘A’ is represented by the value 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F363-3CAB-48D1-A993-0B45F106F806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609480" y="4495680"/>
            <a:ext cx="4496040" cy="1676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harecter='A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Ascii =6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Charect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Asci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6781680" y="4648320"/>
            <a:ext cx="91440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01956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F8B6-DD2A-4B2E-A475-AFE240E7B92E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change one data type to anoth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avoid implicit type coer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31f20"/>
                </a:solidFill>
                <a:latin typeface="Courier New"/>
              </a:rPr>
              <a:t>(dataTypeName) ex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xpression evaluated first, then the value is  converted to </a:t>
            </a:r>
            <a:r>
              <a:rPr b="0" lang="en-US" sz="2200" spc="-1" strike="noStrike">
                <a:solidFill>
                  <a:srgbClr val="404040"/>
                </a:solidFill>
                <a:latin typeface="Courier New"/>
              </a:rPr>
              <a:t>dataType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D406-5E51-498C-A9D7-368D8D6C16EA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 + 6.7)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) + 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6.7)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double)(17) = 1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) /2 = 7.0/2 =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/2) =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7.8+(double)(15)/2) =(int)15.3 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DC6-B91C-4536-B2ED-9C6F574C984E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533520" y="4648320"/>
            <a:ext cx="373356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x=7.9 ,y= 6.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=(int)(7.9 + 6.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A’) = 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8’)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(65) = ‘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56)  = ‘8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6E5C-484C-497C-81A7-776414F56B6F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ontains operations to manipulate str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tr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quence of zero or more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nclosed in double quotation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s processed as a single uni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ull or empty strings have no characters. “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character has a relative position , the first character is in position 0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EA51-D2C2-4473-B4D5-3EF9FF090992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B064-C4C7-4EAD-AFEC-ACC1D7825F5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Java system automatically makes the class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tring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available (i.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 need to import this class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Examp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Consider the following declaratio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tring  sentence 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entence = “programming with jav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Nouf</cp:lastModifiedBy>
  <dcterms:modified xsi:type="dcterms:W3CDTF">2014-02-11T09:58:05Z</dcterms:modified>
  <cp:revision>140</cp:revision>
  <dc:subject/>
  <dc:title>Chapter 1</dc:title>
</cp:coreProperties>
</file>