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D427-8907-42BE-8649-3E104B67AA0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F8B6-A6B2-431F-B84C-02AC23489E4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1A85-BC5A-4010-B734-9F927B7AF53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0E84-33F5-456D-8D06-1023AB8D8A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839C-44B6-4ACC-8D18-E98111DBA20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D221-8FE4-4C09-A963-0CD13F29E3D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D993-EA1B-4DF4-B437-6CAE9F9E041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E57C-E2DB-4EDE-836E-8A6A432EF13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3943-CAA9-43D0-A4DD-A8A1BE21306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2B60-FEC5-46FF-99F1-EFF62D2C321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961D-10A8-4BBC-BA05-A2815ABD246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DA4B-66D4-4DC4-8663-70DA7B1D685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2687-E5EE-468C-9709-C9C097C9BB7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D54-9472-4917-AAD5-74626DA0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A8E-5493-49CA-AB04-0542B47C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E19-2297-4288-A8C0-27109C6F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EE8-3852-45D6-BF18-BE32D881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62FF-377D-4995-AA24-C5D0FEB4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E798-BC62-4047-AA82-1DEC33BB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32D3-6755-49E7-9B8E-58CA9B14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4F75-C7E4-4A56-A2EE-C3D3C999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24E7-BA03-4811-8DD7-7A7DEFE0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BB1C-1DEA-4B25-9BD1-66BAB49A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BC0B-A6AD-43A1-8BC4-B95C2953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F97-DED5-40EF-A7BF-0974D457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2FB1-219C-4D35-9B04-77B5971B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AE36-4E90-4B3F-BA3C-36FFB54E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186E-E518-473A-B1F2-53C74A76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BAAD-6C6F-4FD4-A8EF-FB22D496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184E-23D0-4BCC-B217-4C58AFE9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9D99-1BE6-46DE-914D-DB4641DD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7F80-60EB-4550-84E0-8A0F3E9E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B28C-A41F-4800-9484-BF75DF61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8919-E07A-4FFF-BEDB-C256635E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B5DA9-97E6-41AC-91A2-856E4120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2E1-D82D-4080-81C7-F846796E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62FEC-CBB1-4F73-A460-89F18CC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5FE7-A35A-4ADF-AAEF-90A5EFB4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7DD4-08E7-4062-B5BA-521AEE24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3AB6-3212-4A43-9AE5-99D103C7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62FBA-3536-4571-9C27-0D0CAAC2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7961-4946-4969-8F72-AF88E8B4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47350-4DCE-4A48-82E1-3338844A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0C025-8888-4363-B41B-8B9CE27F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5C43C-528E-44DB-BE96-06E31931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6DCA2-A0F7-4E25-832C-F16821B6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4D5-443B-4BC9-AA91-4D55C6F6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C701F-A38B-4FB4-9AD6-0C3F44A6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FF11-7851-41C7-93A1-DBD4220C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C632B-3AEA-46AE-8CA8-FF0B48D9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82437-D5E2-4A0D-9A31-9FF7F22A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2AE77-4466-4DF8-9952-ACB16FB7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66D2-FF2F-4C68-A52E-4338D78C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E224-32D4-4049-B955-98465EF1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5CB84-0027-4015-B9AF-2D66C0C6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45C8A-9449-4690-BB6A-90FF3CD3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B9BC9-9DFA-4637-979F-CD8B0364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774-1817-4AF5-95A1-D06BEBB8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927DE-F618-4516-BE52-2E7B5D7E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F804-9BA4-462B-A6C7-72AF058C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876B3-2C0E-435A-90B6-83DB3A1F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68A85-A41F-41E3-A914-5F852461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F83B-146C-4DB0-93A5-B64CE481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18B66-A4CB-4D8F-9C10-2B46711A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78136-8BC3-4079-BD3F-45DDE20F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5CA69-88B3-473B-B4C7-F445C6F8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5E9F2-DEEB-411F-99A7-ED6B7724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9147-5C05-49CD-9E90-C81D7ECB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01F-2019-4A2D-AB1D-48897693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3363-E49A-45BC-8381-88A382B1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98DC6-066C-40EF-B968-924280C3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81599-3B4F-442C-8B11-E7869D00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BA9C7-FF21-4CF0-9844-8990E792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B90A5-2F63-4BCD-B622-1329245E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1AB7E-796D-4C7F-86B1-6B530A04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EDABF-3138-4CB1-80D1-89B16F04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AA6D5-F53A-4A03-9919-111AFAF6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D3735-81D4-449E-9619-169EB9AC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53153-6A0D-4A9F-B477-7791D60F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241-5CD6-4963-A162-6D6719C6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772B-A2AC-42E1-9FD2-BACC8101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AE033-ABF2-4BAE-9708-FAFB879D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FB095-99D9-4BAE-BA2E-48C16CAF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155FD-7AF3-4808-A96C-3DCD538E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18224-52CD-47AD-81AC-9C267CFD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563C3-1228-415A-9594-674552E1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02834-D496-461C-A59B-697AB374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DD313-742F-43AB-8C1B-71EC0566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82F65-27CC-4D01-8882-21D51C0C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E552D-BF43-4FF2-89B3-6D59F80C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A50-5077-4058-BBCB-207E19F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792DC-553B-4D4B-AB99-AEB86A24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09CAA-BC99-44EC-9CD6-363793CC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BB979-AC44-4DE2-B92B-F124B580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F350B-684C-4D26-9C72-30675248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DBA5D-7682-44B3-8738-F10F6F09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B0AB1-76CC-4414-93B3-B2E0E062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10FA5-FA2F-40EB-A7F1-4C1E697D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029BA-AC30-4B37-BDD6-3CEAFC05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5D976-F46A-4C89-A157-A2230459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47CF8-750A-4EA9-953F-6FC82BFA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9DA-DC4C-4753-A3AF-B15DD24B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EEBEF-E601-42DB-9972-B2FA9B4D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28711-B998-402A-A4A2-4A081669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74210-5A6D-402C-998B-DB004686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8A297-BCCB-4EE0-BBA5-4F0633F0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91684-9292-41CD-9FDA-1ECFA8C5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9A06C-9F69-4C2A-BD0B-D1CFB405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54E32-907E-434B-A83E-356B9F8B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1C78-4368-49CA-A169-0429A308A4E0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47EA-1F8F-4042-B0FF-E59B495A729D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EC24-502B-4F43-B366-DDFF967617A4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CE59-6D51-4027-9031-9B9616EE651E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62BB-2923-4F06-86EB-3BB433822B96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A1C5-FA62-4B26-A22B-DDEB7F5F8748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792-B7D1-4F82-A859-EDB7F147778D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7DFF-048B-4091-A42D-AC5438BF5ED7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  <a:ea typeface="MS PGothic"/>
              </a:rPr>
              <a:t>Java Fundamentals 3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ebddc3"/>
              </a:solidFill>
              <a:latin typeface="Arial"/>
              <a:ea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518148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Type conversion 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Length of the string  is the number of characters in i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When determining the length of  a  string 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lanks coun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xamp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 “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has length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bc”  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has length = 3  , position of a = 0 ,b= 1 , c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  boy”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has length = 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96F1-EE14-4611-B2E7-BEE7DF32F468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1BEE-F995-45FD-8351-AAEBEB95542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7912080" cy="25336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380880" y="4343400"/>
            <a:ext cx="609624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charAt(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'J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‘j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5715000" y="4952880"/>
            <a:ext cx="3200400" cy="1219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26F0-7E12-408C-8E61-57BEF60E70E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1252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8382240" cy="1046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83822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Exampl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066680" y="1600200"/>
            <a:ext cx="739152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'a',1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"with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"ing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2590920" y="3809880"/>
            <a:ext cx="3809880" cy="21337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5350-07F1-43EF-9A61-20841C85EE3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9" name="Object 5"/>
          <p:cNvGraphicFramePr/>
          <p:nvPr/>
        </p:nvGraphicFramePr>
        <p:xfrm>
          <a:off x="704880" y="2462040"/>
          <a:ext cx="7732800" cy="30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462040"/>
                    <a:ext cx="7732800" cy="30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9D25-DF47-4882-A26B-68D7962B7A9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n string metho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tring s1 , s2 , s3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1 = “abcdefeg”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 s1.length() );   //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charAt(3));  /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e’));  /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“cd”)); /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toUpperCase()); //ABCDEF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512E-BE2C-4721-8024-D2A6B2EADD7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n string metho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substring(1 , 4)); //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 + “xyz”); // abcdefeg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 s1.replace(‘d’ ,’D’)); // abcDef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charAt(4) );  //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b’));  //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e’,5));  //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Variables – Cont.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The default type of floating point numbers is doubl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The declar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float rate = 15.5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without th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 , the compiler will generate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F36E-EC22-423B-8FEC-070FCD95EB74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Variables – Cont.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When using the char data type, you enclose each character represented within single quotations 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r c =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r space = ‘ 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ach character is represented by a value (‘A’ is represented by the value 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3AAC-73DD-48D3-AA9D-392047BD1A4A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609480" y="4495680"/>
            <a:ext cx="4496040" cy="16765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harecter='A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Ascii =6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.out.println(aCharect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.out.println(aAsci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6781680" y="4648320"/>
            <a:ext cx="914400" cy="11430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229600" cy="601956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E097-51B7-4601-B802-960A56909B96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change one data type to anothe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avoid implicit type coer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31f20"/>
                </a:solidFill>
                <a:latin typeface="Courier New"/>
              </a:rPr>
              <a:t>(dataTypeName) ex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xpression evaluated first, then the value is  converted to </a:t>
            </a:r>
            <a:r>
              <a:rPr b="0" lang="en-US" sz="2200" spc="-1" strike="noStrike">
                <a:solidFill>
                  <a:srgbClr val="404040"/>
                </a:solidFill>
                <a:latin typeface="Courier New"/>
              </a:rPr>
              <a:t>dataType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33DD-FF12-4A47-A304-3D5BFFB14F60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 + 6.7)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) + 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6.7)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double)(17) = 1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) /2 = 7.0/2 =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/2) =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7.8+(double)(15)/2) =(int)15.3 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9B35-9648-4C84-B943-6CBD5FB26915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533520" y="4648320"/>
            <a:ext cx="373356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x=7.9 ,y= 6.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=(int)(7.9 + 6.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A’) = 6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8’) =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(65) = ‘A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56)  = ‘8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BBA9-4C23-4F55-B39A-3BDDC8604752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ontains operations to manipulate str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tr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quence of zero or more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nclosed in double quotation 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s processed as a single uni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ull or empty strings have no characters. “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character has a relative position , the first character is in position 0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5C9F-875E-4F6B-9332-22276F7D92F7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3C8D-B69B-4075-8417-0735B406832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Java system automatically makes the class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tring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available (i.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 need to import this class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Examp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Consider the following declaratio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String  sentence 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sentence = “programming with jav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Nouf</cp:lastModifiedBy>
  <dcterms:modified xsi:type="dcterms:W3CDTF">2014-02-11T09:58:05Z</dcterms:modified>
  <cp:revision>140</cp:revision>
  <dc:subject/>
  <dc:title>Chapter 1</dc:title>
</cp:coreProperties>
</file>