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0AFF-1415-4F74-B692-C63E83742F2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A4C5-3371-4E18-A3BB-F8DCC74C679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C4B2-8183-467A-BBE0-A4CCD25D2C8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4E6D-C214-48E4-BA9B-8178B212E2D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46E8-6DCC-4C25-9141-B1EF291BBB8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D7E8-BA99-4887-9706-60EEFFC6E6A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686F-4903-4DEE-84C7-CACAB26E764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571A-EE94-4F6F-97ED-DDC550EABDA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E9B3-A988-43EB-979B-998ADBF8821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98DE-F329-4D38-A17C-2BED4C9DF2E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6BEC-BE7D-4097-9D4F-00ABCE17592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E149-F370-44A8-9A47-72C12BD0B8E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116A-5994-4F66-BBC9-87F531C2883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257-AD51-4597-88F9-FA052355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9CA-F77E-4A75-971E-ACDA3DF7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1F1-4996-47A5-A8ED-B739C4C1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294-512E-4978-B545-A2FDFA2E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52B0-CC28-4AF0-879C-85325516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57E8-AB22-406F-B492-5EFB73DA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FCBC-5437-4C2B-A839-C4DC0971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059B-05C1-42BD-B293-69B910C0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E953-22EE-4D8E-A8FE-5B5FE6CB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810C-B2A4-42CB-8A36-A2F834E9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EE65-7944-4995-B1F9-DBA8CC1E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FFA-3704-4511-B949-91A0F7FA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D7F0-0C65-4445-99BA-3AE9F0F4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83CD-86F7-4831-992E-9BF42176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299E-1385-4EBC-9461-25D417F5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2241-A4DE-4033-A3BE-8A7D2E2D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C0E3-7847-447E-B276-85C76249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2B38F-ED08-49AB-8437-143502E1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C398-9D9E-4DF7-BD54-45C8FBA0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0A607-2DDA-484C-A5CB-2B4D5548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4CBE4-7D2E-4B3C-8AA9-6F4102CD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FF69F-9A81-4DBE-B295-4FDFA86F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74F-20BB-4D68-B096-FFFA6766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5E80-DF56-4349-8BAE-4063796C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2C8A-9261-4FB1-B891-B6099739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BB70-C889-4196-A06F-B04F54F9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BFA4-A664-454A-9671-14C9CF0F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54DE-DFB8-4221-B535-D16127C7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8E33-9C99-47C2-9E0B-780478B8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99E2-692C-4A9A-B4A4-8ABDD05F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34EE5-E4BC-4984-AF26-3485620B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E0995-065B-49EF-8F5A-60000FAF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B3238-6751-4647-A56F-492CF589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CAC-573F-4673-883E-01A8F6CE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39AD4-2947-4EFB-A295-C1D50AD1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10D95-60DA-45FA-B4D7-071D5C22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C41FD-7CD1-4460-A026-FA4CB67F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EC7B8-AE63-4580-9AD9-75F68FA4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AE93-87AF-4DA6-9826-77AB8AFB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A7F90-EF53-46BF-9A21-0A850392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D985-0D41-43D6-89AE-D4187239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BA479-41E6-4AEE-A3F8-A48C1B38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48280-CA21-4135-8EE4-1A22C5FB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DEC7A-7333-4BFA-A90A-6A09F217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8D2-4C2C-4DA1-991D-B4A286AD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5B665-A105-4C6A-A57D-3F3AC81B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23E78-FE63-489E-BA42-C7526348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6861B-D353-4457-BF29-5F21FFD5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26F10-206A-4A6B-8D30-808150B7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40320-B2DC-4FA0-ABB4-BA64C49F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33FF5-CE0E-4276-AB47-060BF14E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779F7-003E-4CEA-AD91-588468FF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85B0C-A7DA-4DDE-9A49-DA84794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5495E-32E9-4E1D-A718-1EE989D8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3896-7CAE-49E3-AF81-A18F802A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230-72BA-465D-83BB-DCF8E604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507FD-82E0-4CD6-9D45-1BF64A51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D0529-7CCE-44B5-AC21-9EB09449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62FEB-C47B-4050-8CFE-55DDB3C0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7B04E-987A-419E-9C10-89F46CF6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ACE4E-AE1A-4742-91A8-FCDA331E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3AFC8-F387-499C-B1D1-10D16694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874AD-F30A-4B7F-BA47-190D0E6A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CA5F2-CB0B-472D-B1D8-B8DC68E4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1DB98-36B1-40B8-B068-B750A2E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5BC7B-B784-4FDA-AA79-F46908B0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DC3-DC1F-4059-A953-9EE19CF7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9E5B3-A31B-414D-B281-D5DB5167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2E0B5-84B7-47A2-B452-233341E8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9B297-1882-46B7-914D-E97DC293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35CBE-955B-45D9-81A1-198F91F1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44FA5-7F6B-4DAD-BBCE-BFE638AC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13DAA-450D-497B-AA1C-E6F405ED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7C0AC-1353-4445-BD1D-3A23F5A1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E8E42-9213-414A-AE11-33E50210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D4524-53E8-47C0-9110-59020BFE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7909-89E3-4EEE-8DDC-949620B0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579-11DF-4909-A977-B92D542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E68AF-3768-41E6-AD34-C882E600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8E6BF-4A9B-46F0-98A5-354A14A9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B3A01-00C5-46AE-BA28-09574547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79ECD-2684-4612-BC57-AEF0A0CF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EC6C8-7A80-494F-B511-86764C66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9DC74-3980-43E0-89B7-63787A1C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4C220-92CF-430D-8408-9E0B7676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53C89-12A4-4FCF-A8F5-9A8C5CFF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42E5A-B31C-4A28-8D7E-004FC47E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4ECEF-1146-4F79-8139-C58D9BE9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27F-132C-4BB1-BE68-632589DB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54FD5-0B61-49DD-89BD-786F34FA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62634-3B32-4850-A099-E0539C66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7D2DD-44A0-42B8-B65E-F0DED87E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857FF-19EB-4ED0-9ACE-257223D7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52AF8-2270-475D-9429-1381A605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383F6-614F-472C-BFAA-F26FED42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4422B-2F15-43FB-AC31-FE5CB648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5BC3-897E-4D62-805A-2C4CF2C81458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39A3-BED4-4BF4-A890-2423AADF0269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C2DC-6948-4FC4-B4AC-F1C3B4EB4866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AB11-3BF1-4FD5-B2DC-BBC6DF40E1C8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0938-6F72-4136-8AD0-40683E85A5F0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1C74-91B4-4E7A-BB45-AF5C269ECB3F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499C-E5ED-490D-B44C-EA4A93B0B397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FA19-FD5E-43F9-A07E-8A6B4511C6A9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  <a:ea typeface="MS PGothic"/>
              </a:rPr>
              <a:t>Java Fundamentals 3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ebddc3"/>
              </a:solidFill>
              <a:latin typeface="Arial"/>
              <a:ea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518148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Type conversion ,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Length of the string  is the number of characters in i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When determining the length of  a  string 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lanks coun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xamp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 “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has length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bc”  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has length = 3  , position of a = 0 ,b= 1 , c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  boy”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has length = 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9CB5-C36D-45D2-81C3-939079CEBB48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8131-A52A-49A4-BC97-E553C759C32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7912080" cy="25336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380880" y="4343400"/>
            <a:ext cx="6096240" cy="14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charAt(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'J'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‘j'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5715000" y="4952880"/>
            <a:ext cx="3200400" cy="1219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6A04-FA00-4628-AB49-F7584E0E88F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1252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8382240" cy="1046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83822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Exampl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1066680" y="1600200"/>
            <a:ext cx="739152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ystr=new String("programming with Java is fu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'a',1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"with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mystr.indexOf("ing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2590920" y="3809880"/>
            <a:ext cx="3809880" cy="21337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with Jav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31E1-48D0-4A54-A3CF-660E2484F5F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mmonly Used String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09" name="Object 5"/>
          <p:cNvGraphicFramePr/>
          <p:nvPr/>
        </p:nvGraphicFramePr>
        <p:xfrm>
          <a:off x="704880" y="2462040"/>
          <a:ext cx="7732800" cy="30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462040"/>
                    <a:ext cx="7732800" cy="30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E5D0-469D-409A-AA92-6637CC0841F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n string metho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tring s1 , s2 , s3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1 = “abcdefeg”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 s1.length() );   //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charAt(3));  /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e’));  /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“cd”)); /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toUpperCase()); //ABCDEF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3E1F-B2EB-437D-95AB-B39BB49E7A2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 on string metho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substring(1 , 4)); //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 + “xyz”); // abcdefeg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 s1.replace(‘d’ ,’D’)); // abcDef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charAt(4) );  //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b’));  //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ystem.out.println(s1.indexOf(‘e’,5));  //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Variables – Cont.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The default type of floating point numbers is doubl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The declar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float rate = 15.5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without th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 , the compiler will generate 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1275-B33C-4D66-BA56-A59512A0956D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Variables – Cont.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When using the char data type, you enclose each character represented within single quotations 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r c = ‘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r space = ‘ 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ach character is represented by a value (‘A’ is represented by the value 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F6EE-6911-4AB1-81FA-F4BBC93F4357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609480" y="4495680"/>
            <a:ext cx="4496040" cy="16765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harecter='A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Ascii =6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.out.println(aCharect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.out.println(aAsci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6781680" y="4648320"/>
            <a:ext cx="914400" cy="11430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229600" cy="601956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1912-6736-4FD7-8734-538B5CDECFAE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change one data type to anothe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avoid implicit type coer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31f20"/>
                </a:solidFill>
                <a:latin typeface="Courier New"/>
              </a:rPr>
              <a:t>(dataTypeName) ex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xpression evaluated first, then the value is  converted to </a:t>
            </a:r>
            <a:r>
              <a:rPr b="0" lang="en-US" sz="2200" spc="-1" strike="noStrike">
                <a:solidFill>
                  <a:srgbClr val="404040"/>
                </a:solidFill>
                <a:latin typeface="Courier New"/>
              </a:rPr>
              <a:t>dataType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7062-CE40-4633-A479-2BC8A5862837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 + 6.7)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7.9) + (</a:t>
            </a:r>
            <a:r>
              <a:rPr b="0" lang="en-US" sz="2400" spc="-1" strike="noStrike">
                <a:solidFill>
                  <a:srgbClr val="dd8047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)(6.7)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</a:rPr>
              <a:t>(double)(17) = 1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) /2 = 7.0/2 = 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double)(7/2) =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7.8+(double)(15)/2) =(int)15.3 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87A6-1840-4050-984B-CB4B43DB2137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533520" y="4648320"/>
            <a:ext cx="373356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x=7.9 ,y= 6.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=(int)(7.9 + 6.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ype Conversion (Casting)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A’) = 6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int)(‘8’) =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(65) = ‘A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dd8047"/>
              </a:buClr>
              <a:buSzPct val="85000"/>
              <a:buFont typeface="Courier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Courier New"/>
                <a:ea typeface="Courier New"/>
              </a:rPr>
              <a:t>(char)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(56)  = ‘8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	</a:t>
            </a:r>
            <a:r>
              <a:rPr b="0" lang="en-US" sz="900" spc="-1" strike="noStrike">
                <a:solidFill>
                  <a:srgbClr val="231f20"/>
                </a:solidFill>
                <a:latin typeface="Courier New"/>
                <a:ea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EEE0-5D31-426A-9E20-9F3DC7DAE8D3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ontains operations to manipulate str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tr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quence of zero or more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nclosed in double quotation 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s processed as a single uni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Null or empty strings have no characters. “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499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character has a relative position , the first character is in position 0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DE8B-EF42-486E-BB11-9F598D697D6B}" type="slidenum">
              <a:rPr b="0" lang="ar-SA" sz="1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3"/>
          <p:cNvSpPr/>
          <p:nvPr/>
        </p:nvSpPr>
        <p:spPr>
          <a:xfrm>
            <a:off x="762120" y="6477120"/>
            <a:ext cx="701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Programming: From Problem Analysis to Program Design, Second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7772400" y="6477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0095-CF34-4A47-BDC6-CB13FAEBBAF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Java system automatically makes the class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String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available (i.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 need to import this class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Examp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Consider the following declaratio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String  sentence 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Times New Roman"/>
              </a:rPr>
              <a:t>sentence = “programming with jav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Nouf</cp:lastModifiedBy>
  <dcterms:modified xsi:type="dcterms:W3CDTF">2014-02-11T09:58:05Z</dcterms:modified>
  <cp:revision>140</cp:revision>
  <dc:subject/>
  <dc:title>Chapter 1</dc:title>
</cp:coreProperties>
</file>