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68BD-79FF-4F3E-81A7-E35E29241C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6053-6CFD-4E06-BC74-3C36BABBD4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1B86-3AB4-455E-800E-EB775CEA46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09A-918C-4192-956C-1A243360AF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9F0-B7B2-41BA-82AF-501DA536C4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E6F-492C-4D79-AC39-3FA41EBFD04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36C0-8C69-43C5-97B5-7144999A759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2BA-0693-4042-A16C-F4561699BBC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461-9DC9-4E9A-9509-42661DE2B5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16A2-21A7-4251-A9BA-0B3F23C94A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E29F-C936-4C28-81EE-94F44971BD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34F-3399-48EB-9DCE-AC318DAACE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C2F-125E-495B-A30C-435C6A3A0C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17E-79F8-4947-891D-BFF4122E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745-7693-44A6-97D3-95EBCB4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38C-FC43-48CC-9AF1-125A5602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2F5-2981-4392-955F-95ECA9C5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DC0-FE04-4E37-BB91-B3ADB6E4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7853-5CC7-4F5A-9E3B-BC75ADD7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2571-50B0-415E-B49C-A07F125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1106-250D-4CC3-81F9-DE2AD221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23DA-8FB1-44F4-9AF0-B4FAA5C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529C-D21C-4107-9600-223A9D3F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595-A3F4-44A9-88D2-1D697B2B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72A-00D9-458E-A879-2D5E673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9F07-BD7F-4CB6-AB3D-222C508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08C7-E935-4CD8-B06D-41C37BF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F226-63CB-4361-BC50-FA8BD6E2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4B1-3D25-4F4A-9339-624950FB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8EC0-CAAF-4AAC-84FD-CD73ADC9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9A2B-8EF9-45CC-A258-F9E7FB2C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C682-4D1D-4E3F-928C-5F110BD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F7A7-1A24-4030-AF28-A52F4E38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C101-B979-4F91-BE3C-686A3447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ECB9-4614-4C6D-B969-140F9622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EEE-0278-4953-A9B3-3F5CA2C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FD2C-14C8-471A-8042-D80CA00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8F16-10BE-4B13-9AFC-50CB8C8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4D06-FCDA-49B6-9349-DDCE72B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1634-8C6D-4A6E-B423-C44E32A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2A6B-213E-4785-B717-8F915E07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320F-0605-456B-A2A7-B93D22CE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C764-ED44-4D4D-9CBE-3ED5507E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2C6D-4A71-4212-901F-1997D0BA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6AEE-DB5F-4122-9660-08AF983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162D-22C2-4EAC-B5DF-619B3965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F6D-CC7F-48A5-A11C-5217C53B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C45E-CFF0-43F6-8DDB-9951146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971A-4D07-4431-8EF0-BC80A64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19F5-4DE8-4208-8931-5675557B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EAE5-D894-4EE8-825E-B0AFE4E7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FC28-975B-467E-BB9C-C716827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BF6E-B84B-4E43-BFBF-D9B7AA0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30F4-1F54-406B-B8F8-3034E070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4065-7840-471D-A235-CA8CB94F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C4D5-9797-43DE-9A2A-842EF9A4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A50A8-4581-46E9-9175-FBBD47AF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748-28CF-4C8C-B5B5-3606028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B836-CE2C-439F-ADDF-F00FF066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15BC-905B-460D-80F6-67C4350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843D-5CFB-4876-AD7B-93196B6D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4324-E693-4CA2-92ED-81566F55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2FD6-3FC2-4805-9655-53F61339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D748-4ADC-40CA-BF02-39A15F56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0754-BDFA-4739-A957-2174EEAB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D960-54E7-450B-A9E7-AA8AD6D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F80D-B676-47C6-8A76-CB21A466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C5DB-6734-4B96-AFBC-51BF3E46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71D-EB9E-4EEA-8385-E57C2505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8F03-D8D3-4836-959D-0F7EC0A3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8985-0363-474E-AC4E-F5F60BF7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C32D-B184-41DB-9E57-EFD17F35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6669-2D18-4D93-A2BB-4550B7A1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E9EA-45D1-476A-944E-8B957161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B276-B323-4C32-A093-7DDD9487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EEF4-F02F-4602-BE02-AF66DA6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C3DC-6B4F-44B4-ABD4-F740F08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D78F-62AC-4A3A-B310-67465B5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75E4-1404-4A9E-817D-4E51382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C17-08E2-405A-B745-EB20E17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CC45-DFBA-4C15-A0E2-920CC28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5F73-BDCC-4C4B-80A6-103F5B02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DE42-5A0F-4F16-94D9-A5C6A34C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1B7A3-9C0F-4618-9DA1-54589940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B17A-937C-4B74-AE6D-B96F7E7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46F2-926C-4181-AEC8-A3EF3F8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CAC0A-52AB-4394-B3F9-818A044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8C42-57B1-4D24-8C89-9FF70166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41419-06FE-4C55-AB1E-EBAA2B8D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8B63C-2983-41A6-8387-60993EF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2E8-C34C-4192-B7A5-82CFB95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BCCE-3383-4A73-AF2B-BC64BBE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C7983-1560-4773-AFB3-16AE14A8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D07A-54FA-4AA2-821B-63413C86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12A8-A473-4CF9-89C2-99382E88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A111-FA2A-49D0-A07F-95FE8035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CB5D-F113-4033-BDF7-7F7FDEA7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E17D6-1E11-4B4D-AACA-0BA699B5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0A5AD-9B3D-4DAE-B914-03990DB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77F2A-6D94-4F04-90FA-22C1181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BECA-3E09-4961-B4C2-9AE88AE2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7CE-3EC7-463D-8736-B71EC2C2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0415-790C-4970-89E7-D8261751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ADF68-5731-4A34-A816-BE4D39A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289BF-BC92-4DA6-A2E6-9694E17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134D-E412-4BB4-9F12-568EF6A7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FE80-1373-4C10-B2C7-01D0AAC5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0E410-06FE-4250-8568-EDAB4BB3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42453-5C38-499E-9F7C-2AA1F4B8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5CF-83BE-4EE0-A7D3-4D31BCB9630E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5E7-D48D-422E-94BF-5D97B26F058D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912F-BF94-4410-B7B4-D7533C0FBE8B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40CE-E23D-4308-A0CF-271F22D2DFFD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5D73-D099-45D0-9A95-529756D66A57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8576-5F57-4609-B1C3-1A2415A95C20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9B0-F082-4BEE-8C75-38E0702F7D9B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E0C-CAC2-4C41-A2A1-9DDAC867F15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18148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Type conversion 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ength of the string  is the number of characters in 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hen determining the length of  a  string 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anks cou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 “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as length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bc”  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3  , position of a = 0 ,b= 1 , c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 boy”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F24C-ED2C-4351-9533-A2524999AAFB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DFB2-6B98-4862-88BA-1066D15DFC2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380880" y="4343400"/>
            <a:ext cx="609624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15000" y="4952880"/>
            <a:ext cx="3200400" cy="1219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8EDC-6035-44D2-8F20-6135AEB41C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8382240" cy="1046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3822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66680" y="1600200"/>
            <a:ext cx="73915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590920" y="3809880"/>
            <a:ext cx="3809880" cy="2133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193D-8B11-47AC-A3D8-48DE07B4BBE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704880" y="2462040"/>
          <a:ext cx="7732800" cy="30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462040"/>
                    <a:ext cx="7732800" cy="30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3EA6-BDA1-483C-90DC-948EDEA13DE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ring s1 , s2 , s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1 = “abcdefeg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length() );   /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3));  /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));  /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“cd”)); /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toUpperCase()); //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B6C-B0B0-426B-A048-834DC93880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substring(1 , 4)); //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 + “xyz”); // abcdefeg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replace(‘d’ ,’D’)); // 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4) );  /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b’)); 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,5));  //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fault type of floating point numbers is dou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clar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float rate = 15.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without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, the compi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00F-AD0F-4B31-883C-546AC29ABE5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n using the char data type, you enclose each character represented within single quotations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c 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space = ‘ 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ach character is represented by a value (‘A’ is represented by the value 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AFC-7A2B-40B1-BC86-01DEB378A5B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09480" y="4495680"/>
            <a:ext cx="449604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ADF-3B21-4683-AF84-2E726CF6BC14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change one data type to anoth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avoid implicit type coer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pression evaluated first, then the value is  converted to </a:t>
            </a:r>
            <a:r>
              <a:rPr b="0" lang="en-US" sz="2200" spc="-1" strike="noStrike">
                <a:solidFill>
                  <a:srgbClr val="404040"/>
                </a:solidFill>
                <a:latin typeface="Courier New"/>
              </a:rPr>
              <a:t>dataType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8D1-4851-45FB-9B76-C99B8680BFAB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A61-FFD3-45CC-82BA-4B7915F4B38E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3520" y="4648320"/>
            <a:ext cx="373356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7A1-8591-44D4-8444-FDB4FFA7F3AD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ntains operations to manipulate str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t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quence of zero or more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closed in double quotation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s processed as a single un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ull or empty strings have no characters. “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75A-7391-4B46-907C-BF1C572B290C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F1D0-8A2F-4AE9-A47E-31A43B6BCE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system automatically makes the class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ring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available (i.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 need to import this clas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Consider the following declar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tring  sentence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entence = “programming with jav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1T09:58:05Z</dcterms:modified>
  <cp:revision>140</cp:revision>
  <dc:subject/>
  <dc:title>Chapter 1</dc:title>
</cp:coreProperties>
</file>