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1620-8A1B-4735-8842-E5798EEF954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F925-1EED-4ADB-9702-624091AFBC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E509-87D5-4A51-80B2-A7A4EACF69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02CA-68AE-4A9A-8F00-59710B2BF3A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FCEC-94B2-4D20-8F9F-EA9EA6F090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4E60-A14A-4980-9783-F4B7348B65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EDD7-7BAA-4014-A477-7CAA6E1CE0A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7842-823E-417E-A0E1-0981E422CD2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6BCE-90FD-40E9-A5DA-8695C67D60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CFFB-B713-482E-B0AE-7C54FFE0782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EB4-D7AC-4F72-B406-1D552CDC3F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77F4-1E59-4E69-BC50-D4FE65DAE3D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E009-EB21-4DEF-82CF-EADC24F525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C67-0F8B-441D-BDD8-1EA6C850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066-7BB3-4966-8905-BE641287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882-9FDD-41F7-B34B-3E8E8E44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FBE-81BA-466D-8422-48C6F379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7EB4-B994-45E8-9DD9-5321E02F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6440-D13B-4C6E-BE48-22A3C0C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D27E-46FA-4374-8136-70D6883F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A10A-D774-469D-8F38-4855E53F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5DA-47A4-4305-A553-AA954F92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E840-2F64-419D-B849-D20A7E3A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C9CB-7C6B-447C-A33F-79ECB045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7D0-BEA8-44AD-A62C-813C2367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6AE5-3957-45E0-9501-BD081F2E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9E15-BBA1-442D-BE67-22E7BDA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EA47-8B7F-4D59-800F-60A7B7F4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0472-6A87-4592-BD64-839D0930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931-83CF-43E4-A583-66735D16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997E-90F5-4DC2-B542-60906B08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51DE-60BE-4E85-9D8F-28998C7A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A75B7-73F0-4982-B893-41F8B6B6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3B54-34C1-4E1E-89AC-BACC1995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883E-22E8-4120-9036-5B5BD126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353-D6E2-4D71-86DE-7FC9223C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7D9BE-7D2E-420F-BC7B-6CC32CF8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2DA2-11B6-4691-90C4-9B15645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2885-B474-4BEC-BE83-38F0CF0D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114D-5AD3-41D8-B6D1-09CC4D4B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A73A5-5113-4131-AAEF-D783C428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9111-5EA9-43D7-BFE8-C8CD8EEC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187C-9C6B-4139-81F1-265CC624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9F03-6E52-46E4-B042-DC842FE9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E82A-12C1-42D4-BC1D-6C18B7E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8DD1-35E5-4769-B2ED-F2C63B9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DAA-7B91-4AA4-80D2-1FAD0050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0C56-BBCD-4072-80BC-1B46DDDA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1E92E-1EFC-4992-8EB7-86EDAC8E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4DAD-B82D-4A57-905B-B78F1CAF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251D-20CC-473A-89AD-55B20EF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1AC4-A114-4734-B0BF-C544CEE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B27C-4272-49DC-AC6D-149DE13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50B7F-25B0-4CAB-BB2B-8A36050C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0260-20B0-4242-9BB7-56DFA1FF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03E6-79F8-4404-A66D-08ACC7F3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96EB-9432-420F-9E35-76B78F05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C3B-4912-4CEF-9BE4-379274EC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D1F7-D150-4681-ACDC-415A3825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757BA-C938-4DEB-AA83-5839BCA2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6F1F-C816-4920-8031-372669B5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F99A8-9113-4471-BB58-FF9AF4E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26B3E-E7A0-4BE9-87F4-A52B9C7E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ABBF-28AE-4FCD-B35F-4E9FF5C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ADD78-E0EB-4E7F-A4B8-B425AAF6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0BCDC-4170-481C-8D2C-66794E3F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33573-ADEB-4091-9095-6B71D2C5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03B2-E123-456C-959C-86968742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95E-4D09-45C9-8EC4-FE2EA8BD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A1E0-9EC9-4FD6-941E-9324AA86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6133-2B6B-434B-9607-2B2B405A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B8275-364B-42A2-9F4A-A8AE77F4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12E3-677E-455F-A05B-776536EE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0F340-9E8C-4DF7-9B1A-D59E9924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AB99-5239-4580-B72A-189296F9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EC38C-972B-4E2D-BA17-1A4A8729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F08AC-5BA8-49C6-B2F8-1457CF9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6D2FF-020E-4EA6-8CFE-392AA2F2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693DA-79B0-4780-B090-F90FC3D8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3AA-B1B9-41E5-948A-0A414057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16C6C-DF5E-4BE2-A691-80AC30B4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0EAED-0C4C-4F96-9754-6B5F9942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F05C2-5C85-47E4-AA60-368CE2B8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A93DD-E2F1-4A92-BA3A-2C2676BF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0C156-64CC-40D7-A343-3A880023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CA8BB-107C-4EE7-91F0-E3B21795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DDBAA-0AF2-4FE7-A69F-A5AE43E5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BA401-A8D1-435C-A9A4-60F8AF8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1D776-557E-4BE5-8065-D0108F1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0CAD8-1886-422D-90C0-1298AE8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70C-3460-4E77-B863-AD96CD8C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4587F-DAD0-418C-A974-ABDE78AB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5DD4-D0DD-49A9-9424-CF31986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9C687-DED5-46BF-97AA-6AE1CF6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FAC6C-2636-463D-9B6A-7035FEFB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A4236-1DB6-467C-9A8D-842BA505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7FF5A-83E2-40AC-885A-53420E28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C108B-8729-412F-8533-63643CE4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DBDF-C262-4684-95CB-99BDE586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B8707-028C-483D-A208-ED21545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9A2B1-6C68-4618-8601-3E766FE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D14-74E8-484B-9CD2-DFDAB1E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EE88-386A-4004-8FD5-EAB29F2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D9FE6-ED28-4C3B-A62C-55EE811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D91AC-C909-499E-824C-09E62E6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2D714-6967-490A-B073-3CF4E680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52FE0-AD62-4BBF-8C60-9941A00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FE42B-CE1E-4266-9DDE-8316C46B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C472B-FADF-4BE4-AC75-66BB78BA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5659-32C1-44AF-90DC-95904F2117E3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B807-1C65-429B-88A6-97556CFE9001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FBB5-31AB-4734-A0F2-C860DC7780C2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361D-AB88-403A-A1CB-A62C1D5B0F53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77C3-7D07-43B3-84B1-53AE8EBCA733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E177-5791-4B89-978A-D60F5501B350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00C-A0FC-4053-A233-DE89FF07EDE9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1D18-AD9D-4E68-A848-E86F6C161C6F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3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bddc3"/>
              </a:solidFill>
              <a:latin typeface="Arial"/>
              <a:ea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518148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Type conversion 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Length of the string  is the number of characters in i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When determining the length of  a  string 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anks coun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 “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has length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bc”  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3  , position of a = 0 ,b= 1 , c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  boy”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11BB-5E8E-4D20-9F9A-8F270ECA7137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8DE0-E741-4273-BBB1-B0236507315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7912080" cy="2533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380880" y="4343400"/>
            <a:ext cx="609624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charAt(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‘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715000" y="4952880"/>
            <a:ext cx="3200400" cy="1219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17EE-A908-424D-A50C-75DFD28F7C9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1252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8382240" cy="1046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83822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066680" y="1600200"/>
            <a:ext cx="739152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a',1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with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ing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2590920" y="3809880"/>
            <a:ext cx="3809880" cy="2133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1CE3-EC2A-4C8A-9F6E-C5FA10B4231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9" name="Object 5"/>
          <p:cNvGraphicFramePr/>
          <p:nvPr/>
        </p:nvGraphicFramePr>
        <p:xfrm>
          <a:off x="704880" y="2462040"/>
          <a:ext cx="7732800" cy="30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462040"/>
                    <a:ext cx="7732800" cy="30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3810-F3D6-4156-BF8B-CCF1BD8FB7C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tring s1 , s2 , s3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1 = “abcdefeg”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length() );   //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3));  /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));  /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“cd”)); /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toUpperCase()); //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6906-2023-4827-8C02-955A58017B0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substring(1 , 4)); //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 + “xyz”); // abcdefeg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replace(‘d’ ,’D’)); // 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4) );  //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b’));  //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,5));  //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fault type of floating point numbers is dou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clar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float rate = 15.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without th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 , the compiler will generate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DA2C-809B-47DD-9402-CA2BAEE78104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hen using the char data type, you enclose each character represented within single quotations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c =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space = ‘ 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ach character is represented by a value (‘A’ is represented by the value 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E42E-2F14-4A10-A30A-15DA9FC237C1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609480" y="4495680"/>
            <a:ext cx="4496040" cy="1676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harecter='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Ascii =6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Charect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Asci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6781680" y="4648320"/>
            <a:ext cx="91440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0195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CEAA-0E92-46CC-AD8A-5D2C80DCBFA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change one data type to anoth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avoid implicit type coer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</a:rPr>
              <a:t>(dataTypeName) ex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pression evaluated first, then the value is  converted to </a:t>
            </a:r>
            <a:r>
              <a:rPr b="0" lang="en-US" sz="2200" spc="-1" strike="noStrike">
                <a:solidFill>
                  <a:srgbClr val="404040"/>
                </a:solidFill>
                <a:latin typeface="Courier New"/>
              </a:rPr>
              <a:t>dataType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6649-9C31-4E96-82AE-14064C8F036C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 + 6.7)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) + 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6.7)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double)(17) = 1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) /2 = 7.0/2 =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/2) =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7.8+(double)(15)/2) =(int)15.3 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D15C-1BC7-48D3-AF20-0886E6DE5A9E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533520" y="4648320"/>
            <a:ext cx="373356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x=7.9 ,y= 6.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=(int)(7.9 + 6.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A’) = 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8’)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(65) = ‘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56)  = ‘8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A11A-9B9A-4F92-8869-FB577C8385CD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ontains operations to manipulate str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t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quence of zero or more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closed in double quotation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s processed as a single uni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ull or empty strings have no characters. “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character has a relative position , the first character is in position 0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0908-2E48-4005-865A-5D10C28EC9FA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BFD5-F3A9-4C6B-B25E-8AE39E69E06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system automatically makes the class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tring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available (i.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 need to import this class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Examp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Consider the following declaratio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tring  sentence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entence = “programming with jav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4-02-11T09:58:05Z</dcterms:modified>
  <cp:revision>140</cp:revision>
  <dc:subject/>
  <dc:title>Chapter 1</dc:title>
</cp:coreProperties>
</file>