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3E15B-CA9C-47C6-993D-0EB3118149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BDA30-7165-418E-BF68-355A7D49B5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0EA6D-9460-46CB-BCE5-BD7070D442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B27CB-F57C-44B8-91D1-DAEB1A4652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CF666-7D2B-4E73-B670-5CBDFD90A2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6451A-FC41-41F0-8F4F-2B16ABC828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FD487-2046-402B-87E4-DAD45AAE5A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1ADED-1F77-49B7-8E3C-E3B38D87CC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39E28-1804-4B12-A444-34822CBB55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770D1-B22E-4110-A5E0-6F993AF917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4E7A1-0900-42F0-85A3-3D27306EEA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8DCB7-E3B7-4A70-9197-FC01B5A90A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76D8F-8D9A-488D-86B9-235A20BADE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B0E66-13A6-4A8F-822D-F8A9FAE57A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024CE-8A35-42CD-87C3-835E4A975E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999F9-52BF-4CE9-B9EE-316F556694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6CAC2-4DD4-4E47-B950-4C2F880351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ADB38-BCBC-4703-B447-B85B0B13B4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F2D5B-785F-496E-BC67-8BC883A198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05E2D-F0A9-41DC-A4D9-3CBFDEB9F1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9C58F-FC28-44D2-9F67-0421F235C2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845A3-1637-402E-951F-829DDD1656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6453A-D76A-46A5-94CE-877DC768C2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ECD9A-3093-43FD-B670-A872422B00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1898640" y="1600200"/>
            <a:ext cx="8007480" cy="5257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8AFD-1C9F-4A89-ABAB-1047B048390B}" type="slidenum"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Num" idx="2"/>
          </p:nvPr>
        </p:nvSpPr>
        <p:spPr>
          <a:xfrm>
            <a:off x="709884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21EE-05CD-49CB-BD42-3AC291E5E3BB}" type="slidenum"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96640" y="1298520"/>
            <a:ext cx="7512120" cy="236232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 Area Networks and Interne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14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96640" y="3580920"/>
            <a:ext cx="751212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ecture3: Internet Network L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34BE-C38E-4A08-832C-6E5790168E1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AutoShape 1"/>
          <p:cNvSpPr/>
          <p:nvPr/>
        </p:nvSpPr>
        <p:spPr>
          <a:xfrm>
            <a:off x="743040" y="6494400"/>
            <a:ext cx="206352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66760" y="930240"/>
            <a:ext cx="86724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33ff"/>
                </a:solidFill>
                <a:latin typeface="Times New Roman"/>
                <a:ea typeface="Times New Roman"/>
              </a:rPr>
              <a:t>Classes of IP Addr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5" descr="pasted-image.png"/>
          <p:cNvPicPr/>
          <p:nvPr/>
        </p:nvPicPr>
        <p:blipFill>
          <a:blip r:embed="rId1"/>
          <a:stretch/>
        </p:blipFill>
        <p:spPr>
          <a:xfrm>
            <a:off x="1492200" y="1949400"/>
            <a:ext cx="6693120" cy="4305240"/>
          </a:xfrm>
          <a:prstGeom prst="rect">
            <a:avLst/>
          </a:prstGeom>
          <a:ln w="0">
            <a:noFill/>
          </a:ln>
        </p:spPr>
      </p:pic>
      <p:sp>
        <p:nvSpPr>
          <p:cNvPr id="463" name="Slide Number Placeholder 7"/>
          <p:cNvSpPr/>
          <p:nvPr/>
        </p:nvSpPr>
        <p:spPr>
          <a:xfrm>
            <a:off x="709920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5FBD-01A0-4A99-8842-1061A598F33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AutoShape 1"/>
          <p:cNvSpPr/>
          <p:nvPr/>
        </p:nvSpPr>
        <p:spPr>
          <a:xfrm>
            <a:off x="743040" y="6494400"/>
            <a:ext cx="206352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AutoShape 2"/>
          <p:cNvSpPr/>
          <p:nvPr/>
        </p:nvSpPr>
        <p:spPr>
          <a:xfrm>
            <a:off x="3384720" y="6570720"/>
            <a:ext cx="313668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T14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AutoShape 3"/>
          <p:cNvSpPr/>
          <p:nvPr/>
        </p:nvSpPr>
        <p:spPr>
          <a:xfrm>
            <a:off x="7099200" y="6494400"/>
            <a:ext cx="206388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79640" y="488880"/>
            <a:ext cx="86724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33ff"/>
                </a:solidFill>
                <a:latin typeface="Times New Roman"/>
                <a:ea typeface="Times New Roman"/>
              </a:rPr>
              <a:t>Classes of IP Addr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5" descr="pasted-image.png"/>
          <p:cNvPicPr/>
          <p:nvPr/>
        </p:nvPicPr>
        <p:blipFill>
          <a:blip r:embed="rId1"/>
          <a:srcRect l="5881" t="0" r="2264" b="1687"/>
          <a:stretch/>
        </p:blipFill>
        <p:spPr>
          <a:xfrm>
            <a:off x="228600" y="1692360"/>
            <a:ext cx="9524880" cy="5013360"/>
          </a:xfrm>
          <a:prstGeom prst="rect">
            <a:avLst/>
          </a:prstGeom>
          <a:ln w="0">
            <a:noFill/>
          </a:ln>
        </p:spPr>
      </p:pic>
      <p:sp>
        <p:nvSpPr>
          <p:cNvPr id="469" name="Slide Number Placeholder 7"/>
          <p:cNvSpPr/>
          <p:nvPr/>
        </p:nvSpPr>
        <p:spPr>
          <a:xfrm>
            <a:off x="709920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4AC5-0886-46F9-8A63-C9F0491E438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AutoShape 1"/>
          <p:cNvSpPr/>
          <p:nvPr/>
        </p:nvSpPr>
        <p:spPr>
          <a:xfrm>
            <a:off x="743040" y="6494400"/>
            <a:ext cx="206352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61440" y="438120"/>
            <a:ext cx="867276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33ff"/>
                </a:solidFill>
                <a:latin typeface="Times New Roman"/>
                <a:ea typeface="Times New Roman"/>
              </a:rPr>
              <a:t>Classes of IP Addr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88520" y="1638000"/>
            <a:ext cx="842004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6" descr="pasted-image.png"/>
          <p:cNvPicPr/>
          <p:nvPr/>
        </p:nvPicPr>
        <p:blipFill>
          <a:blip r:embed="rId1"/>
          <a:stretch/>
        </p:blipFill>
        <p:spPr>
          <a:xfrm>
            <a:off x="1219320" y="2343240"/>
            <a:ext cx="7467480" cy="3873240"/>
          </a:xfrm>
          <a:prstGeom prst="rect">
            <a:avLst/>
          </a:prstGeom>
          <a:ln w="0">
            <a:noFill/>
          </a:ln>
        </p:spPr>
      </p:pic>
      <p:sp>
        <p:nvSpPr>
          <p:cNvPr id="474" name="Slide Number Placeholder 8"/>
          <p:cNvSpPr/>
          <p:nvPr/>
        </p:nvSpPr>
        <p:spPr>
          <a:xfrm>
            <a:off x="709920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D8CB-8067-4C32-ADD1-159DA0F5DB5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AutoShape 2"/>
          <p:cNvSpPr/>
          <p:nvPr/>
        </p:nvSpPr>
        <p:spPr>
          <a:xfrm>
            <a:off x="4584600" y="3297240"/>
            <a:ext cx="1866960" cy="739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33ff"/>
                </a:solidFill>
                <a:latin typeface="Gill Sans MT"/>
              </a:rPr>
              <a:t>Subn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Slide Number Placeholder 4"/>
          <p:cNvSpPr/>
          <p:nvPr/>
        </p:nvSpPr>
        <p:spPr>
          <a:xfrm>
            <a:off x="709920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285D-0B5B-4D86-83DE-5D807EA45F4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subnett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netting is the process of borrowing bits from the HOST bits, in order to divide the larger network into small subn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netting doe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ve you more hosts, but actually costs you hosts (decrease number of host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lose two host IP Addresses for each subnet,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erha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e for the subnet IP address and one for the subnet broadcast IP add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2"/>
          <p:cNvSpPr/>
          <p:nvPr/>
        </p:nvSpPr>
        <p:spPr>
          <a:xfrm>
            <a:off x="8585280" y="64771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3629-A2CE-4814-A267-45ABBFAF614B}" type="slidenum"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We Use Subnet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838080" y="16002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company uses two or more types of LAN technology (for example, Ethernet, Token Ring) on their network or different physical media (such as Ethernet, FDDI, WAN, etc.) 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wo network segments are restricted by distance limitations (for example, remote offices linked via point-to-point circuit).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gments need to be localized for network management reasons (accounting segment, sales segment, etc.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osts which dominate most of the LAN bandwidth need to be isolate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urit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d60093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d60093"/>
                </a:solidFill>
                <a:latin typeface="Arial"/>
              </a:rPr>
              <a:t>The most common reason is to control network traffic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d60093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4"/>
          <p:cNvSpPr/>
          <p:nvPr/>
        </p:nvSpPr>
        <p:spPr>
          <a:xfrm>
            <a:off x="8585280" y="64771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5DCB-CA4B-45DD-9386-6465A4ADE12B}" type="slidenum"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t wor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P address is split into a network and host por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twork portion always remains fixed for a particular network, while the remaining bits which make up the host portion can be altered to give the range of addresses to assign to ho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termine where the network portion ends and the host portion begins, a subnet mask is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8585280" y="64771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A3BC-FAB5-4CA5-AA8F-27967BF3EB86}" type="slidenum"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Date Placeholder 3"/>
          <p:cNvSpPr/>
          <p:nvPr/>
        </p:nvSpPr>
        <p:spPr>
          <a:xfrm>
            <a:off x="709920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4C56-4B46-489A-A2E4-960EE9E2F363}" type="datetime"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/30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3021120" y="6477120"/>
            <a:ext cx="550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timah Al-Akeel - Network 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Slide Number Placeholder 5"/>
          <p:cNvSpPr/>
          <p:nvPr/>
        </p:nvSpPr>
        <p:spPr>
          <a:xfrm>
            <a:off x="8585280" y="64771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06C5-AFB2-43ED-A6F2-0F431331C9F6}" type="slidenum"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Subnet Mask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subnet mask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used to separate a network number from the host number in an IP addre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55 represents a network and 0 represents a ho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 subnet mas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- 255.0.0.0 - 11111111.00000000.00000000.000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- 255.255.0.0 - 11111111.11111111.00000000.000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- 255.255.255.0 - 11111111.11111111.11111111.000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s to Solve Subnetting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6840" y="1523880"/>
            <a:ext cx="8915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buClr>
                <a:srgbClr val="000000"/>
              </a:buClr>
              <a:buFont typeface="Helvetica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ok at the MSB (Most Significant Bit) of the IP, Identify the Class(A, B or C), then determine the number of bits assigned  to the Network Por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8 for class A, 16 for Class B and 24 for Class 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buClr>
                <a:srgbClr val="92d05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92d050"/>
                </a:solidFill>
                <a:latin typeface="Arial"/>
              </a:rPr>
              <a:t>Ex.: IP=182.250.200.3, Class = B, N =16 b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Helvetica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ok at Subnet Mask (SM), the number of zeros identify the Host por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buClr>
                <a:srgbClr val="92d05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92d050"/>
                </a:solidFill>
                <a:latin typeface="Arial"/>
              </a:rPr>
              <a:t>Ex. SM = 11111111.11111111.11111111.00000000, H=8 b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Helvetica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ok at IP and SM together, The portion Between the Network and Host portions is the Sub Network por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. IP=     182     .       250     .      200    .  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110110. 11111010.11001000.00000011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 = 11111111.11111111.11111111.00000000    = 255.255.255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عنصر نائب لرقم الشريحة 10"/>
          <p:cNvSpPr/>
          <p:nvPr/>
        </p:nvSpPr>
        <p:spPr>
          <a:xfrm>
            <a:off x="8763120" y="62485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DD94-6A57-4CEF-86B4-7F98F83F947B}" type="slidenum"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مربع نص 3"/>
          <p:cNvSpPr/>
          <p:nvPr/>
        </p:nvSpPr>
        <p:spPr>
          <a:xfrm>
            <a:off x="2766960" y="6226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 = 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قوس كبير أيمن 5"/>
          <p:cNvSpPr/>
          <p:nvPr/>
        </p:nvSpPr>
        <p:spPr>
          <a:xfrm rot="5400000">
            <a:off x="3033720" y="4916520"/>
            <a:ext cx="380880" cy="223848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2238480"/>
              <a:gd name="textAreaBottom" fmla="*/ 2228760 h 223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16200" y="10800"/>
                  <a:pt x="21600" y="10800"/>
                </a:cubicBezTo>
                <a:cubicBezTo>
                  <a:pt x="162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8e0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قوس كبير أيمن 6"/>
          <p:cNvSpPr/>
          <p:nvPr/>
        </p:nvSpPr>
        <p:spPr>
          <a:xfrm rot="5400000">
            <a:off x="4814640" y="5505480"/>
            <a:ext cx="314280" cy="1028520"/>
          </a:xfrm>
          <a:custGeom>
            <a:avLst/>
            <a:gdLst>
              <a:gd name="textAreaLeft" fmla="*/ 0 w 314280"/>
              <a:gd name="textAreaRight" fmla="*/ 113400 w 314280"/>
              <a:gd name="textAreaTop" fmla="*/ 7920 h 1028520"/>
              <a:gd name="textAreaBottom" fmla="*/ 1020600 h 102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5"/>
                  <a:pt x="10800" y="550"/>
                </a:cubicBezTo>
                <a:lnTo>
                  <a:pt x="10800" y="10964"/>
                </a:lnTo>
                <a:cubicBezTo>
                  <a:pt x="10800" y="11239"/>
                  <a:pt x="16200" y="11514"/>
                  <a:pt x="21600" y="11514"/>
                </a:cubicBezTo>
                <a:cubicBezTo>
                  <a:pt x="16200" y="11514"/>
                  <a:pt x="10800" y="11789"/>
                  <a:pt x="10800" y="12064"/>
                </a:cubicBezTo>
                <a:lnTo>
                  <a:pt x="10800" y="21050"/>
                </a:lnTo>
                <a:cubicBezTo>
                  <a:pt x="10800" y="2132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8e0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مربع نص 7"/>
          <p:cNvSpPr/>
          <p:nvPr/>
        </p:nvSpPr>
        <p:spPr>
          <a:xfrm>
            <a:off x="4457880" y="618804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N =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قوس كبير أيمن 8"/>
          <p:cNvSpPr/>
          <p:nvPr/>
        </p:nvSpPr>
        <p:spPr>
          <a:xfrm rot="5400000">
            <a:off x="6038640" y="5443200"/>
            <a:ext cx="228600" cy="1067040"/>
          </a:xfrm>
          <a:custGeom>
            <a:avLst/>
            <a:gdLst>
              <a:gd name="textAreaLeft" fmla="*/ 0 w 228600"/>
              <a:gd name="textAreaRight" fmla="*/ 82440 w 228600"/>
              <a:gd name="textAreaTop" fmla="*/ 5760 h 1067040"/>
              <a:gd name="textAreaBottom" fmla="*/ 106128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3"/>
                  <a:pt x="10800" y="386"/>
                </a:cubicBezTo>
                <a:lnTo>
                  <a:pt x="10800" y="10414"/>
                </a:lnTo>
                <a:cubicBezTo>
                  <a:pt x="10800" y="10607"/>
                  <a:pt x="16200" y="10800"/>
                  <a:pt x="21600" y="10800"/>
                </a:cubicBezTo>
                <a:cubicBezTo>
                  <a:pt x="16200" y="10800"/>
                  <a:pt x="10800" y="10993"/>
                  <a:pt x="10800" y="11186"/>
                </a:cubicBezTo>
                <a:lnTo>
                  <a:pt x="10800" y="21214"/>
                </a:lnTo>
                <a:cubicBezTo>
                  <a:pt x="10800" y="2140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8e0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مربع نص 9"/>
          <p:cNvSpPr/>
          <p:nvPr/>
        </p:nvSpPr>
        <p:spPr>
          <a:xfrm>
            <a:off x="5729400" y="603576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=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838080" y="15238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 algn="just">
              <a:buClr>
                <a:srgbClr val="000000"/>
              </a:buClr>
              <a:buFont typeface="Helvetica"/>
              <a:buAutoNum type="arabicParenR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the Subnet ID: By doing (IP address ) AND (Mas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 algn="just"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net ID = 10110110. 11111010.11001000.000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buClr>
                <a:srgbClr val="000000"/>
              </a:buClr>
              <a:buFont typeface="Helvetica"/>
              <a:buAutoNum type="arabicParenR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Broadcast address: By changing all bits of host portion in Subnet ID to 1’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cast address  = 10110110. 11111010.11001000.111111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buClr>
                <a:srgbClr val="000000"/>
              </a:buClr>
              <a:buFont typeface="Helvetica"/>
              <a:buAutoNum type="arabicParenR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the First IP address: Change the LSB of  host portion in Subnet ID to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 algn="just"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IP address = 10110110. 11111010.11001000.00000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buClr>
                <a:srgbClr val="000000"/>
              </a:buClr>
              <a:buFont typeface="Helvetica"/>
              <a:buAutoNum type="arabicParenR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the Last IP address: Subtract 1 from host portion of Broadcast addr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 algn="just"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IP address  = 10110110. 11111010.11001000.11111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8585280" y="64771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37A6-2FCE-4620-A6EC-B54251A41DE4}" type="slidenum"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عنوان 1" descr=""/>
          <p:cNvPicPr/>
          <p:nvPr/>
        </p:nvPicPr>
        <p:blipFill>
          <a:blip r:embed="rId1"/>
          <a:stretch/>
        </p:blipFill>
        <p:spPr>
          <a:xfrm>
            <a:off x="762120" y="231840"/>
            <a:ext cx="777240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1"/>
          <p:cNvSpPr/>
          <p:nvPr/>
        </p:nvSpPr>
        <p:spPr>
          <a:xfrm>
            <a:off x="743040" y="6494400"/>
            <a:ext cx="206352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2"/>
          <p:cNvSpPr/>
          <p:nvPr/>
        </p:nvSpPr>
        <p:spPr>
          <a:xfrm>
            <a:off x="3384720" y="6570720"/>
            <a:ext cx="313668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T14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6400" y="930240"/>
            <a:ext cx="842004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33ff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9840" y="1888920"/>
            <a:ext cx="8505720" cy="46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9880" indent="-2998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gram format, fragmentation and assembl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addressing: Classes, Subne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DR: Classless Interdomain Rout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HCP: Dynamic Host Configuration Protoco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7"/>
          <p:cNvSpPr/>
          <p:nvPr/>
        </p:nvSpPr>
        <p:spPr>
          <a:xfrm>
            <a:off x="709920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7B16-956D-4574-898D-86DB3EBA51A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83772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iven the following IP address 38.9.211.19 with a subnet mask of 255.255.255.240 determ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buClr>
                <a:srgbClr val="ff0000"/>
              </a:buClr>
              <a:buFont typeface="Helvetic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etwork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buClr>
                <a:srgbClr val="ff0000"/>
              </a:buClr>
              <a:buFont typeface="Helvetic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fault subnet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buClr>
                <a:srgbClr val="ff0000"/>
              </a:buClr>
              <a:buFont typeface="Helvetic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roadcast address of th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buClr>
                <a:srgbClr val="ff0000"/>
              </a:buClr>
              <a:buFont typeface="Helvetic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bnet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buClr>
                <a:srgbClr val="ff0000"/>
              </a:buClr>
              <a:buFont typeface="Helvetic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roadcast address of the sub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buClr>
                <a:srgbClr val="ff0000"/>
              </a:buClr>
              <a:buFont typeface="Helvetic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rst &amp; last host address in the sub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lide Number Placeholder 6"/>
          <p:cNvSpPr/>
          <p:nvPr/>
        </p:nvSpPr>
        <p:spPr>
          <a:xfrm>
            <a:off x="8585280" y="64771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E40B-26DA-4842-8985-7DF7B4C115CE}" type="slidenum"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1800" indent="-514440">
              <a:buClr>
                <a:srgbClr val="ff0000"/>
              </a:buClr>
              <a:buFont typeface="Helvetic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etwork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90520" indent="-514080">
              <a:buClr>
                <a:srgbClr val="0070c0"/>
              </a:buClr>
              <a:buFont typeface="Helvetica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o determine the network address we have to determine the class of the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90520" indent="-514080">
              <a:buClr>
                <a:srgbClr val="0070c0"/>
              </a:buClr>
              <a:buFont typeface="Helvetica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 u="sng">
                <a:solidFill>
                  <a:srgbClr val="0070c0"/>
                </a:solidFill>
                <a:uFillTx/>
                <a:latin typeface="Arial"/>
              </a:rPr>
              <a:t>38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.9.211.0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38 </a:t>
            </a:r>
            <a:r>
              <a:rPr b="1" lang="el-GR" sz="3200" spc="-1" strike="noStrike">
                <a:solidFill>
                  <a:srgbClr val="0070c0"/>
                </a:solidFill>
                <a:latin typeface="Arial"/>
              </a:rPr>
              <a:t>ϵ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 {1-126} Class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90520" indent="-514080">
              <a:buClr>
                <a:srgbClr val="0070c0"/>
              </a:buClr>
              <a:buFont typeface="Wingdings" charset="2"/>
              <a:buChar char="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In class A network portion is the first octet &amp; the remaining three octets for the host are ze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90520" indent="-514080">
              <a:buClr>
                <a:srgbClr val="0070c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Network Address: 38.0.0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8585280" y="64771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7C2F-0731-4155-ACC8-7CA53D3EB3F0}" type="slidenum"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685800" y="1774800"/>
            <a:ext cx="861048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4560" indent="-457200">
              <a:buClr>
                <a:srgbClr val="ffffcc"/>
              </a:buClr>
              <a:buSzPct val="80000"/>
              <a:buFont typeface="Helvetica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fault subnet m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buClr>
                <a:srgbClr val="ffffcc"/>
              </a:buClr>
              <a:buSzPct val="80000"/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buClr>
                <a:srgbClr val="ffffcc"/>
              </a:buClr>
              <a:buSzPct val="80000"/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For Class A addresses,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default subnet mask is: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 255.0.0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buClr>
                <a:srgbClr val="ffffcc"/>
              </a:buClr>
              <a:buSzPct val="80000"/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buClr>
                <a:srgbClr val="ffffcc"/>
              </a:buClr>
              <a:buSzPct val="80000"/>
              <a:buFont typeface="Helvetica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roadcast address of the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buClr>
                <a:srgbClr val="ffffcc"/>
              </a:buClr>
              <a:buSzPct val="80000"/>
              <a:buFont typeface="Helvetica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buClr>
                <a:srgbClr val="ffffcc"/>
              </a:buClr>
              <a:buSzPct val="80000"/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hanging all the host bits to 1 give you the broad cast addr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buClr>
                <a:srgbClr val="ffffcc"/>
              </a:buClr>
              <a:buSzPct val="80000"/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Broadcast Address  = 38.255.255.2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buClr>
                <a:srgbClr val="ffffcc"/>
              </a:buClr>
              <a:buSzPct val="80000"/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8585280" y="64771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7719-E756-4E02-B324-8BA1373928F2}" type="slidenum"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838080" y="15238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4560" indent="-457200">
              <a:buClr>
                <a:srgbClr val="ffffcc"/>
              </a:buClr>
              <a:buSzPct val="80000"/>
              <a:buFont typeface="Helvetica"/>
              <a:buAutoNum type="arabicPeriod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net 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buClr>
                <a:srgbClr val="ffffcc"/>
              </a:buClr>
              <a:buSzPct val="80000"/>
              <a:buFont typeface="Helvetica"/>
              <a:buAutoNum type="arabicPeriod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457200">
              <a:buClr>
                <a:srgbClr val="ffffcc"/>
              </a:buClr>
              <a:buSzPct val="80000"/>
              <a:buFont typeface="Helvetic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irst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termine the following bits in the following or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60560" indent="-457200">
              <a:buClr>
                <a:srgbClr val="ffffcc"/>
              </a:buClr>
              <a:buSzPct val="80000"/>
              <a:buFont typeface="Helvetica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portion (N) (Fixed depends on the IP cla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60560" indent="-457200">
              <a:buClr>
                <a:srgbClr val="ffffcc"/>
              </a:buClr>
              <a:buSzPct val="80000"/>
              <a:buFont typeface="Helvetica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net portion (S) (From the end of the network portion to the last bit in the mask with the value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60560" indent="-457200">
              <a:buClr>
                <a:srgbClr val="ffffcc"/>
              </a:buClr>
              <a:buSzPct val="80000"/>
              <a:buFont typeface="Helvetica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portion (H) (The remaining bits after the subnet por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60560" indent="-457200">
              <a:buClr>
                <a:srgbClr val="ffffcc"/>
              </a:buClr>
              <a:buSzPct val="80000"/>
              <a:buFont typeface="Helvetica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60560" indent="-457200">
              <a:buClr>
                <a:srgbClr val="ffffcc"/>
              </a:buClr>
              <a:buSzPct val="80000"/>
              <a:buFont typeface="Helvetica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60560" indent="-457200">
              <a:buClr>
                <a:srgbClr val="ffffcc"/>
              </a:buClr>
              <a:buSzPct val="80000"/>
              <a:buFont typeface="Helvetica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      00100110.00001001.11010011 . 00010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k  11111111 . 11111111 . 11111111  .1111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8585280" y="64771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57AC-14CC-48B0-BA6A-009CCB0C5333}" type="slidenum"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eft Brace 5"/>
          <p:cNvSpPr/>
          <p:nvPr/>
        </p:nvSpPr>
        <p:spPr>
          <a:xfrm rot="5400000">
            <a:off x="2171520" y="3771720"/>
            <a:ext cx="533160" cy="1371600"/>
          </a:xfrm>
          <a:custGeom>
            <a:avLst/>
            <a:gdLst>
              <a:gd name="textAreaLeft" fmla="*/ 340560 w 533160"/>
              <a:gd name="textAreaRight" fmla="*/ 533520 w 533160"/>
              <a:gd name="textAreaTop" fmla="*/ 13680 h 1371600"/>
              <a:gd name="textAreaBottom" fmla="*/ 13579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50"/>
                  <a:pt x="10800" y="700"/>
                </a:cubicBezTo>
                <a:lnTo>
                  <a:pt x="10800" y="10100"/>
                </a:lnTo>
                <a:cubicBezTo>
                  <a:pt x="10800" y="10450"/>
                  <a:pt x="5400" y="10800"/>
                  <a:pt x="0" y="10800"/>
                </a:cubicBezTo>
                <a:cubicBezTo>
                  <a:pt x="5400" y="10800"/>
                  <a:pt x="10800" y="11150"/>
                  <a:pt x="10800" y="11500"/>
                </a:cubicBezTo>
                <a:lnTo>
                  <a:pt x="10800" y="20900"/>
                </a:lnTo>
                <a:cubicBezTo>
                  <a:pt x="10800" y="212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eft Brace 6"/>
          <p:cNvSpPr/>
          <p:nvPr/>
        </p:nvSpPr>
        <p:spPr>
          <a:xfrm rot="5400000">
            <a:off x="4800240" y="2666880"/>
            <a:ext cx="381240" cy="3581280"/>
          </a:xfrm>
          <a:custGeom>
            <a:avLst/>
            <a:gdLst>
              <a:gd name="textAreaLeft" fmla="*/ 243720 w 381240"/>
              <a:gd name="textAreaRight" fmla="*/ 381600 w 381240"/>
              <a:gd name="textAreaTop" fmla="*/ 9720 h 3581280"/>
              <a:gd name="textAreaBottom" fmla="*/ 357156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6"/>
                  <a:pt x="10800" y="191"/>
                </a:cubicBezTo>
                <a:lnTo>
                  <a:pt x="10800" y="10609"/>
                </a:lnTo>
                <a:cubicBezTo>
                  <a:pt x="10800" y="10705"/>
                  <a:pt x="5400" y="10800"/>
                  <a:pt x="0" y="10800"/>
                </a:cubicBezTo>
                <a:cubicBezTo>
                  <a:pt x="5400" y="10800"/>
                  <a:pt x="10800" y="10896"/>
                  <a:pt x="10800" y="10991"/>
                </a:cubicBezTo>
                <a:lnTo>
                  <a:pt x="10800" y="21409"/>
                </a:lnTo>
                <a:cubicBezTo>
                  <a:pt x="10800" y="215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eft Brace 7"/>
          <p:cNvSpPr/>
          <p:nvPr/>
        </p:nvSpPr>
        <p:spPr>
          <a:xfrm rot="5400000">
            <a:off x="6933600" y="4114800"/>
            <a:ext cx="457200" cy="6094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609480"/>
              <a:gd name="textAreaBottom" fmla="*/ 59760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75"/>
                  <a:pt x="10800" y="1350"/>
                </a:cubicBezTo>
                <a:lnTo>
                  <a:pt x="10800" y="9450"/>
                </a:lnTo>
                <a:cubicBezTo>
                  <a:pt x="10800" y="10125"/>
                  <a:pt x="5400" y="10800"/>
                  <a:pt x="0" y="10800"/>
                </a:cubicBezTo>
                <a:cubicBezTo>
                  <a:pt x="5400" y="10800"/>
                  <a:pt x="10800" y="11475"/>
                  <a:pt x="10800" y="12150"/>
                </a:cubicBezTo>
                <a:lnTo>
                  <a:pt x="10800" y="20250"/>
                </a:lnTo>
                <a:cubicBezTo>
                  <a:pt x="10800" y="2092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8"/>
          <p:cNvSpPr/>
          <p:nvPr/>
        </p:nvSpPr>
        <p:spPr>
          <a:xfrm>
            <a:off x="2133720" y="38862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 =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9"/>
          <p:cNvSpPr/>
          <p:nvPr/>
        </p:nvSpPr>
        <p:spPr>
          <a:xfrm>
            <a:off x="6553080" y="3809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4cbce"/>
                </a:solidFill>
                <a:latin typeface="Times New Roman"/>
              </a:rPr>
              <a:t>H=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Box 10"/>
          <p:cNvSpPr/>
          <p:nvPr/>
        </p:nvSpPr>
        <p:spPr>
          <a:xfrm>
            <a:off x="4495680" y="3809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 =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438120" indent="-318960">
              <a:buClr>
                <a:srgbClr val="ffffcc"/>
              </a:buClr>
              <a:buSzPct val="80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38120" indent="-318960">
              <a:buClr>
                <a:srgbClr val="ffffcc"/>
              </a:buClr>
              <a:buSzPct val="80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92d050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92d050"/>
                </a:solidFill>
                <a:latin typeface="Arial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38120" indent="-3189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the AND operation between the IP address &amp; the m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38120" indent="-318960">
              <a:buClr>
                <a:srgbClr val="ffffcc"/>
              </a:buClr>
              <a:buSzPct val="80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38120" indent="-318960">
              <a:buClr>
                <a:srgbClr val="ffffcc"/>
              </a:buClr>
              <a:buSzPct val="80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IP               00100110.00001001.11010011 . 00010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11111111 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111111 . 11111111  .1111</a:t>
            </a:r>
            <a:r>
              <a:rPr b="0" lang="en-US" sz="2400" spc="-1" strike="noStrike">
                <a:solidFill>
                  <a:srgbClr val="a4cbce"/>
                </a:solidFill>
                <a:latin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38120" indent="-3189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38120" indent="-3189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7520" indent="-31752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Subnet ID  00100110.00001001.11010011 . 0001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7520" indent="-31752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7520" indent="-31752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Subnet ID in decimal =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8.9.211.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38120" indent="-3189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38120" indent="-3189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buClr>
                <a:srgbClr val="0070c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8585280" y="64771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16AF-C9AF-4D15-AA56-808D337544C2}" type="slidenum"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Box 4"/>
          <p:cNvSpPr/>
          <p:nvPr/>
        </p:nvSpPr>
        <p:spPr>
          <a:xfrm>
            <a:off x="8305920" y="3505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buClr>
                <a:srgbClr val="ff0000"/>
              </a:buClr>
              <a:buFont typeface="Helvetica"/>
              <a:buAutoNum type="arabicPeriod" startAt="5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roadcast address of the sub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et the broad cast address replace the host bits in the subnet ID with 1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Subnet ID  00100110.00001001.11010011 . 0001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064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Broadcast Address </a:t>
            </a: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00100110.00001001.11010011 . 0001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064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064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Broadcast Address in decimal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8.9.211.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8585280" y="64771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E8A1-3FAD-4C59-9BC4-64EB93B665E4}" type="slidenum"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eft Brace 4"/>
          <p:cNvSpPr/>
          <p:nvPr/>
        </p:nvSpPr>
        <p:spPr>
          <a:xfrm rot="5400000">
            <a:off x="7810560" y="2604960"/>
            <a:ext cx="457200" cy="60984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609840"/>
              <a:gd name="textAreaBottom" fmla="*/ 59796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75"/>
                  <a:pt x="10800" y="1350"/>
                </a:cubicBezTo>
                <a:lnTo>
                  <a:pt x="10800" y="9450"/>
                </a:lnTo>
                <a:cubicBezTo>
                  <a:pt x="10800" y="10125"/>
                  <a:pt x="5400" y="10800"/>
                  <a:pt x="0" y="10800"/>
                </a:cubicBezTo>
                <a:cubicBezTo>
                  <a:pt x="5400" y="10800"/>
                  <a:pt x="10800" y="11475"/>
                  <a:pt x="10800" y="12150"/>
                </a:cubicBezTo>
                <a:lnTo>
                  <a:pt x="10800" y="20250"/>
                </a:lnTo>
                <a:cubicBezTo>
                  <a:pt x="10800" y="2092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a4cb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5"/>
          <p:cNvSpPr/>
          <p:nvPr/>
        </p:nvSpPr>
        <p:spPr>
          <a:xfrm>
            <a:off x="7467480" y="23130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Times New Roman"/>
              </a:rPr>
              <a:t>Host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4560" indent="-457200">
              <a:buClr>
                <a:srgbClr val="ffffcc"/>
              </a:buClr>
              <a:buSzPct val="80000"/>
              <a:buFont typeface="Helvetica"/>
              <a:buAutoNum type="arabicPeriod" startAt="6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rst &amp; last host address in the sub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buClr>
                <a:srgbClr val="ffffcc"/>
              </a:buClr>
              <a:buSzPct val="80000"/>
              <a:buFont typeface="Helvetica"/>
              <a:buAutoNum type="arabicPeriod" startAt="6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et the first address replace all the host bits with zeros except the last bit replace it with one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Subnet ID  00100110.00001001.11010011 . 0001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1f100"/>
                </a:solidFill>
                <a:latin typeface="Arial"/>
              </a:rPr>
              <a:t>First Host Address  </a:t>
            </a: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00100110.00001001.11010011 . 0001</a:t>
            </a:r>
            <a:r>
              <a:rPr b="0" lang="en-US" sz="2000" spc="-1" strike="noStrike">
                <a:solidFill>
                  <a:srgbClr val="f1f100"/>
                </a:solidFill>
                <a:latin typeface="Arial"/>
              </a:rPr>
              <a:t>000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1f100"/>
                </a:solidFill>
                <a:latin typeface="Arial"/>
              </a:rPr>
              <a:t>First Host Address in decimal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8.9.211.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8585280" y="64771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0795-6091-4638-B017-77EBF0F82731}" type="slidenum"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eft Brace 4"/>
          <p:cNvSpPr/>
          <p:nvPr/>
        </p:nvSpPr>
        <p:spPr>
          <a:xfrm rot="5400000">
            <a:off x="7848000" y="3352680"/>
            <a:ext cx="457200" cy="6094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609480"/>
              <a:gd name="textAreaBottom" fmla="*/ 59760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75"/>
                  <a:pt x="10800" y="1350"/>
                </a:cubicBezTo>
                <a:lnTo>
                  <a:pt x="10800" y="9450"/>
                </a:lnTo>
                <a:cubicBezTo>
                  <a:pt x="10800" y="10125"/>
                  <a:pt x="5400" y="10800"/>
                  <a:pt x="0" y="10800"/>
                </a:cubicBezTo>
                <a:cubicBezTo>
                  <a:pt x="5400" y="10800"/>
                  <a:pt x="10800" y="11475"/>
                  <a:pt x="10800" y="12150"/>
                </a:cubicBezTo>
                <a:lnTo>
                  <a:pt x="10800" y="20250"/>
                </a:lnTo>
                <a:cubicBezTo>
                  <a:pt x="10800" y="2092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Box 5"/>
          <p:cNvSpPr/>
          <p:nvPr/>
        </p:nvSpPr>
        <p:spPr>
          <a:xfrm>
            <a:off x="7715160" y="3003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Times New Roman"/>
              </a:rPr>
              <a:t>Host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eft Brace 6"/>
          <p:cNvSpPr/>
          <p:nvPr/>
        </p:nvSpPr>
        <p:spPr>
          <a:xfrm rot="5400000">
            <a:off x="7248600" y="4446360"/>
            <a:ext cx="457200" cy="533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533520"/>
              <a:gd name="textAreaBottom" fmla="*/ 5216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72"/>
                  <a:pt x="10800" y="1543"/>
                </a:cubicBezTo>
                <a:lnTo>
                  <a:pt x="10800" y="9257"/>
                </a:lnTo>
                <a:cubicBezTo>
                  <a:pt x="10800" y="10029"/>
                  <a:pt x="5400" y="10800"/>
                  <a:pt x="0" y="10800"/>
                </a:cubicBezTo>
                <a:cubicBezTo>
                  <a:pt x="5400" y="10800"/>
                  <a:pt x="10800" y="11572"/>
                  <a:pt x="10800" y="12343"/>
                </a:cubicBezTo>
                <a:lnTo>
                  <a:pt x="10800" y="20057"/>
                </a:lnTo>
                <a:cubicBezTo>
                  <a:pt x="10800" y="2082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Box 7"/>
          <p:cNvSpPr/>
          <p:nvPr/>
        </p:nvSpPr>
        <p:spPr>
          <a:xfrm>
            <a:off x="6905520" y="41338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Times New Roman"/>
              </a:rPr>
              <a:t>Host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4560" indent="-457200">
              <a:buClr>
                <a:srgbClr val="ffffcc"/>
              </a:buClr>
              <a:buSzPct val="80000"/>
              <a:buFont typeface="Helvetica"/>
              <a:buAutoNum type="arabicPeriod" startAt="6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rst &amp; last host address in the sub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buClr>
                <a:srgbClr val="ffffcc"/>
              </a:buClr>
              <a:buSzPct val="80000"/>
              <a:buFont typeface="Helvetica"/>
              <a:buAutoNum type="arabicPeriod" startAt="6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et the last address replace all the host bits with ones except the last bit replace it with zero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Subnet ID  00100110.00001001.11010011 . 0001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1f100"/>
                </a:solidFill>
                <a:latin typeface="Arial"/>
              </a:rPr>
              <a:t>Last Host Address  </a:t>
            </a: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00100110.00001001.11010011 . 000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1f100"/>
                </a:solidFill>
                <a:latin typeface="Arial"/>
              </a:rPr>
              <a:t>Last Host Address in decimal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8.9.211.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8585280" y="64771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540C-9727-45B0-97FE-A843E405C356}" type="slidenum"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eft Brace 4"/>
          <p:cNvSpPr/>
          <p:nvPr/>
        </p:nvSpPr>
        <p:spPr>
          <a:xfrm rot="5400000">
            <a:off x="7810560" y="3365280"/>
            <a:ext cx="457200" cy="60984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609840"/>
              <a:gd name="textAreaBottom" fmla="*/ 59796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75"/>
                  <a:pt x="10800" y="1350"/>
                </a:cubicBezTo>
                <a:lnTo>
                  <a:pt x="10800" y="9450"/>
                </a:lnTo>
                <a:cubicBezTo>
                  <a:pt x="10800" y="10125"/>
                  <a:pt x="5400" y="10800"/>
                  <a:pt x="0" y="10800"/>
                </a:cubicBezTo>
                <a:cubicBezTo>
                  <a:pt x="5400" y="10800"/>
                  <a:pt x="10800" y="11475"/>
                  <a:pt x="10800" y="12150"/>
                </a:cubicBezTo>
                <a:lnTo>
                  <a:pt x="10800" y="20250"/>
                </a:lnTo>
                <a:cubicBezTo>
                  <a:pt x="10800" y="2092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Box 5"/>
          <p:cNvSpPr/>
          <p:nvPr/>
        </p:nvSpPr>
        <p:spPr>
          <a:xfrm>
            <a:off x="7467480" y="3165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d050"/>
                </a:solidFill>
                <a:latin typeface="Times New Roman"/>
              </a:rPr>
              <a:t>Host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eft Brace 6"/>
          <p:cNvSpPr/>
          <p:nvPr/>
        </p:nvSpPr>
        <p:spPr>
          <a:xfrm rot="5400000">
            <a:off x="7238520" y="4336920"/>
            <a:ext cx="457200" cy="53316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533160"/>
              <a:gd name="textAreaBottom" fmla="*/ 5212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72"/>
                  <a:pt x="10800" y="1543"/>
                </a:cubicBezTo>
                <a:lnTo>
                  <a:pt x="10800" y="9257"/>
                </a:lnTo>
                <a:cubicBezTo>
                  <a:pt x="10800" y="10029"/>
                  <a:pt x="5400" y="10800"/>
                  <a:pt x="0" y="10800"/>
                </a:cubicBezTo>
                <a:cubicBezTo>
                  <a:pt x="5400" y="10800"/>
                  <a:pt x="10800" y="11572"/>
                  <a:pt x="10800" y="12343"/>
                </a:cubicBezTo>
                <a:lnTo>
                  <a:pt x="10800" y="20057"/>
                </a:lnTo>
                <a:cubicBezTo>
                  <a:pt x="10800" y="2082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Box 7"/>
          <p:cNvSpPr/>
          <p:nvPr/>
        </p:nvSpPr>
        <p:spPr>
          <a:xfrm>
            <a:off x="6896160" y="4146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d050"/>
                </a:solidFill>
                <a:latin typeface="Times New Roman"/>
              </a:rPr>
              <a:t>Host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(2): IP=182.250.200.028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SM= 255.255.255.2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09120" y="99072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87320" indent="-514440">
              <a:spcAft>
                <a:spcPts val="6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    =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0110110. 11111010.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11001000.00011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spcAft>
                <a:spcPts val="6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  =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1111111.11111111.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11111111.111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50000"/>
              </a:lnSpc>
              <a:spcAft>
                <a:spcPts val="6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of the IP is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50000"/>
              </a:lnSpc>
              <a:spcAft>
                <a:spcPts val="6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Address=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110110. 11111010.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00000000.00000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50000"/>
              </a:lnSpc>
              <a:spcAft>
                <a:spcPts val="6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ault Subnet Mask of the IP = 11111111.11111111.00000000.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50000"/>
              </a:lnSpc>
              <a:spcAft>
                <a:spcPts val="6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cast address of the network =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110110. 11111010.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11111111.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50000"/>
              </a:lnSpc>
              <a:spcAft>
                <a:spcPts val="6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net ID              =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110110. 11111010.11001000.00011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50000"/>
              </a:lnSpc>
              <a:spcAft>
                <a:spcPts val="6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cast address of the subnet  = 10110110. 11111010.11001000.00011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50000"/>
              </a:lnSpc>
              <a:spcAft>
                <a:spcPts val="6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IP address      = 10110110. 11111010.11001000. 00011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50000"/>
              </a:lnSpc>
              <a:spcAft>
                <a:spcPts val="6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IP address       = 10110110. 11111010.11001000. 00011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80000"/>
              </a:lnSpc>
              <a:buClr>
                <a:srgbClr val="00b05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80000"/>
              </a:lnSpc>
              <a:buClr>
                <a:srgbClr val="00b05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80000"/>
              </a:lnSpc>
              <a:buClr>
                <a:srgbClr val="00b05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80000"/>
              </a:lnSpc>
              <a:buClr>
                <a:srgbClr val="00b05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80000"/>
              </a:lnSpc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80000"/>
              </a:lnSpc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80000"/>
              </a:lnSpc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عنصر نائب لرقم الشريحة 2"/>
          <p:cNvSpPr/>
          <p:nvPr/>
        </p:nvSpPr>
        <p:spPr>
          <a:xfrm>
            <a:off x="8585280" y="64771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D031-C526-4926-9933-33009E21F933}" type="slidenum"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قوس كبير أيمن 10"/>
          <p:cNvSpPr/>
          <p:nvPr/>
        </p:nvSpPr>
        <p:spPr>
          <a:xfrm rot="5400000">
            <a:off x="3181320" y="742680"/>
            <a:ext cx="380880" cy="224784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2247840"/>
              <a:gd name="textAreaBottom" fmla="*/ 2238120 h 224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3"/>
                  <a:pt x="10800" y="305"/>
                </a:cubicBezTo>
                <a:lnTo>
                  <a:pt x="10800" y="10495"/>
                </a:lnTo>
                <a:cubicBezTo>
                  <a:pt x="10800" y="10648"/>
                  <a:pt x="16200" y="10800"/>
                  <a:pt x="21600" y="10800"/>
                </a:cubicBezTo>
                <a:cubicBezTo>
                  <a:pt x="16200" y="10800"/>
                  <a:pt x="10800" y="10953"/>
                  <a:pt x="10800" y="11105"/>
                </a:cubicBezTo>
                <a:lnTo>
                  <a:pt x="10800" y="21295"/>
                </a:lnTo>
                <a:cubicBezTo>
                  <a:pt x="10800" y="2144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قوس كبير أيمن 11"/>
          <p:cNvSpPr/>
          <p:nvPr/>
        </p:nvSpPr>
        <p:spPr>
          <a:xfrm rot="5400000">
            <a:off x="5393880" y="974520"/>
            <a:ext cx="380880" cy="178452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784520"/>
              <a:gd name="textAreaBottom" fmla="*/ 1774800 h 178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2"/>
                  <a:pt x="10800" y="384"/>
                </a:cubicBezTo>
                <a:lnTo>
                  <a:pt x="10800" y="11130"/>
                </a:lnTo>
                <a:cubicBezTo>
                  <a:pt x="10800" y="11322"/>
                  <a:pt x="16200" y="11514"/>
                  <a:pt x="21600" y="11514"/>
                </a:cubicBezTo>
                <a:cubicBezTo>
                  <a:pt x="16200" y="11514"/>
                  <a:pt x="10800" y="11706"/>
                  <a:pt x="10800" y="11898"/>
                </a:cubicBezTo>
                <a:lnTo>
                  <a:pt x="10800" y="21216"/>
                </a:lnTo>
                <a:cubicBezTo>
                  <a:pt x="10800" y="2140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7d4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قوس كبير أيمن 12"/>
          <p:cNvSpPr/>
          <p:nvPr/>
        </p:nvSpPr>
        <p:spPr>
          <a:xfrm rot="5400000">
            <a:off x="6590520" y="1588320"/>
            <a:ext cx="380880" cy="40464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404640"/>
              <a:gd name="textAreaBottom" fmla="*/ 39492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47"/>
                  <a:pt x="10800" y="1694"/>
                </a:cubicBezTo>
                <a:lnTo>
                  <a:pt x="10800" y="9106"/>
                </a:lnTo>
                <a:cubicBezTo>
                  <a:pt x="10800" y="9953"/>
                  <a:pt x="16200" y="10800"/>
                  <a:pt x="21600" y="10800"/>
                </a:cubicBezTo>
                <a:cubicBezTo>
                  <a:pt x="16200" y="10800"/>
                  <a:pt x="10800" y="11647"/>
                  <a:pt x="10800" y="12494"/>
                </a:cubicBezTo>
                <a:lnTo>
                  <a:pt x="10800" y="19906"/>
                </a:lnTo>
                <a:cubicBezTo>
                  <a:pt x="10800" y="2075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مربع نص 13"/>
          <p:cNvSpPr/>
          <p:nvPr/>
        </p:nvSpPr>
        <p:spPr>
          <a:xfrm>
            <a:off x="3124080" y="19810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N = 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مربع نص 14"/>
          <p:cNvSpPr/>
          <p:nvPr/>
        </p:nvSpPr>
        <p:spPr>
          <a:xfrm>
            <a:off x="5148360" y="19810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5e0e3"/>
                </a:solidFill>
                <a:latin typeface="Arial"/>
                <a:ea typeface="Arial"/>
              </a:rPr>
              <a:t>SN = 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مربع نص 15"/>
          <p:cNvSpPr/>
          <p:nvPr/>
        </p:nvSpPr>
        <p:spPr>
          <a:xfrm>
            <a:off x="6338880" y="18622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=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70000" y="-1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ecimal Example (2): IP=182.250.200.28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SM= 255.255.255.2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609120" y="12189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87320" indent="-514440">
              <a:lnSpc>
                <a:spcPct val="110000"/>
              </a:lnSpc>
              <a:spcAft>
                <a:spcPts val="601"/>
              </a:spcAft>
              <a:buClr>
                <a:srgbClr val="0070c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IP   = 182.250.200.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10000"/>
              </a:lnSpc>
              <a:spcAft>
                <a:spcPts val="601"/>
              </a:spcAft>
              <a:buClr>
                <a:srgbClr val="0070c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SM = 255.255.255.2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60000"/>
              </a:lnSpc>
              <a:spcAft>
                <a:spcPts val="601"/>
              </a:spcAft>
              <a:buClr>
                <a:srgbClr val="0070c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Class of the IP is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60000"/>
              </a:lnSpc>
              <a:spcAft>
                <a:spcPts val="601"/>
              </a:spcAft>
              <a:buClr>
                <a:srgbClr val="0070c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Network Address= 182.250.0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60000"/>
              </a:lnSpc>
              <a:spcAft>
                <a:spcPts val="601"/>
              </a:spcAft>
              <a:buClr>
                <a:srgbClr val="0070c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Default Subnet Mask of the IP = 255.255.0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60000"/>
              </a:lnSpc>
              <a:spcAft>
                <a:spcPts val="601"/>
              </a:spcAft>
              <a:buClr>
                <a:srgbClr val="0070c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Broadcast address of the network =  182.250.255.2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60000"/>
              </a:lnSpc>
              <a:spcAft>
                <a:spcPts val="601"/>
              </a:spcAft>
              <a:buClr>
                <a:srgbClr val="0070c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Subnet ID              = 182.250.200.0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60000"/>
              </a:lnSpc>
              <a:spcAft>
                <a:spcPts val="601"/>
              </a:spcAft>
              <a:buClr>
                <a:srgbClr val="0070c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Broadcast address of the subnet  = 182.250.200.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60000"/>
              </a:lnSpc>
              <a:spcAft>
                <a:spcPts val="601"/>
              </a:spcAft>
              <a:buClr>
                <a:srgbClr val="0070c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First IP address      = 182.250.200.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60000"/>
              </a:lnSpc>
              <a:spcAft>
                <a:spcPts val="601"/>
              </a:spcAft>
              <a:buClr>
                <a:srgbClr val="0070c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Last IP address       = 182.250.200.0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90000"/>
              </a:lnSpc>
              <a:buClr>
                <a:srgbClr val="00b05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90000"/>
              </a:lnSpc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90000"/>
              </a:lnSpc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90000"/>
              </a:lnSpc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عنصر نائب لرقم الشريحة 2"/>
          <p:cNvSpPr/>
          <p:nvPr/>
        </p:nvSpPr>
        <p:spPr>
          <a:xfrm>
            <a:off x="8585280" y="64771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D158-291F-465B-9A76-ABD2DD3CB65B}" type="slidenum"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2"/>
          <p:cNvSpPr/>
          <p:nvPr/>
        </p:nvSpPr>
        <p:spPr>
          <a:xfrm>
            <a:off x="3292560" y="3297240"/>
            <a:ext cx="4451400" cy="3025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19240" indent="-219240" algn="ctr">
              <a:lnSpc>
                <a:spcPct val="100000"/>
              </a:lnSpc>
              <a:buClr>
                <a:srgbClr val="0433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33ff"/>
                </a:solidFill>
                <a:latin typeface="Gill Sans MT"/>
              </a:rPr>
              <a:t>datagram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3120" indent="-330120" algn="ctr"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433ff"/>
                </a:solidFill>
                <a:latin typeface="Gill Sans MT"/>
                <a:ea typeface="Arial"/>
              </a:rPr>
              <a:t>Fragmentation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3120" indent="-330120" algn="ctr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433ff"/>
                </a:solidFill>
                <a:latin typeface="Gill Sans MT"/>
                <a:ea typeface="Arial"/>
              </a:rPr>
              <a:t>Reassembly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709920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6A59-5E69-4F6B-AE87-2722891D5FA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AutoShape 2"/>
          <p:cNvSpPr/>
          <p:nvPr/>
        </p:nvSpPr>
        <p:spPr>
          <a:xfrm>
            <a:off x="1523880" y="1752480"/>
            <a:ext cx="7078680" cy="1387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33ff"/>
                </a:solidFill>
                <a:latin typeface="Gill Sans MT"/>
              </a:rPr>
              <a:t>CID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33ff"/>
                </a:solidFill>
                <a:latin typeface="Gill Sans MT"/>
              </a:rPr>
              <a:t> </a:t>
            </a:r>
            <a:r>
              <a:rPr b="0" lang="en-US" sz="4400" spc="-1" strike="noStrike">
                <a:solidFill>
                  <a:srgbClr val="0433ff"/>
                </a:solidFill>
                <a:latin typeface="Gill Sans MT"/>
              </a:rPr>
              <a:t>Classless Interdomain Rou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Slide Number Placeholder 4"/>
          <p:cNvSpPr/>
          <p:nvPr/>
        </p:nvSpPr>
        <p:spPr>
          <a:xfrm>
            <a:off x="709920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D4A3-494F-402B-A3B2-C9E427F7F44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4" descr="underline_base"/>
          <p:cNvPicPr/>
          <p:nvPr/>
        </p:nvPicPr>
        <p:blipFill>
          <a:blip r:embed="rId1"/>
          <a:stretch/>
        </p:blipFill>
        <p:spPr>
          <a:xfrm>
            <a:off x="922320" y="87300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80920" y="19512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addressing: CI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45720" y="1528920"/>
            <a:ext cx="8107560" cy="31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CIDR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ssless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ter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main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33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ubnet portion of address of arbitrary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33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dress format: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a.b.c.d/x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where x is # bits in subnet portion of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7"/>
          <p:cNvSpPr/>
          <p:nvPr/>
        </p:nvSpPr>
        <p:spPr>
          <a:xfrm>
            <a:off x="1704960" y="4459320"/>
            <a:ext cx="4141800" cy="357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Gill Sans MT"/>
              </a:rPr>
              <a:t>11001000  00010111  0001000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0  00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AutoShape 8"/>
          <p:cNvSpPr/>
          <p:nvPr/>
        </p:nvSpPr>
        <p:spPr>
          <a:xfrm>
            <a:off x="3409920" y="3914640"/>
            <a:ext cx="782640" cy="623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Gill Sans MT"/>
              </a:rPr>
              <a:t>sub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Gill Sans MT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9"/>
          <p:cNvSpPr/>
          <p:nvPr/>
        </p:nvSpPr>
        <p:spPr>
          <a:xfrm>
            <a:off x="6667560" y="3878280"/>
            <a:ext cx="573120" cy="623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Line 10"/>
          <p:cNvSpPr/>
          <p:nvPr/>
        </p:nvSpPr>
        <p:spPr>
          <a:xfrm>
            <a:off x="4373640" y="4224240"/>
            <a:ext cx="162072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11"/>
          <p:cNvSpPr/>
          <p:nvPr/>
        </p:nvSpPr>
        <p:spPr>
          <a:xfrm>
            <a:off x="7164360" y="4213080"/>
            <a:ext cx="595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12"/>
          <p:cNvSpPr/>
          <p:nvPr/>
        </p:nvSpPr>
        <p:spPr>
          <a:xfrm>
            <a:off x="3641760" y="5045040"/>
            <a:ext cx="1460520" cy="357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200.23.16.0/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13"/>
          <p:cNvSpPr/>
          <p:nvPr/>
        </p:nvSpPr>
        <p:spPr>
          <a:xfrm flipH="1">
            <a:off x="1774440" y="4214880"/>
            <a:ext cx="14382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14"/>
          <p:cNvSpPr/>
          <p:nvPr/>
        </p:nvSpPr>
        <p:spPr>
          <a:xfrm flipH="1">
            <a:off x="6033960" y="422604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Slide Number Placeholder 16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4EDE-A89D-4EB4-90CF-A4A6751EA42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4" descr="underline_base"/>
          <p:cNvPicPr/>
          <p:nvPr/>
        </p:nvPicPr>
        <p:blipFill>
          <a:blip r:embed="rId1"/>
          <a:stretch/>
        </p:blipFill>
        <p:spPr>
          <a:xfrm>
            <a:off x="922320" y="87300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80920" y="19512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lang="en-US" sz="3800" spc="-1" strike="noStrike">
                <a:solidFill>
                  <a:srgbClr val="000099"/>
                </a:solidFill>
                <a:latin typeface="Gill Sans MT"/>
              </a:rPr>
              <a:t>Classless Interdomain Routing : CID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98560" y="1494000"/>
            <a:ext cx="81072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9360" indent="-2793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eneralizes the notation of subnet addres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 within the subnet addressing, the 32-bit address is divided into two parts (net#, host # ) and has the dotted decimal form (a.b.c.d/x), where x indicates the number of bits in the first part of the addre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IDR replaces Classful addressing, where the network portion of IP addresses were constrained to 8, 16, or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assful addressing waists IP addres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8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335C-FF14-4581-BFFE-7597FC520EB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AutoShape 2"/>
          <p:cNvSpPr/>
          <p:nvPr/>
        </p:nvSpPr>
        <p:spPr>
          <a:xfrm>
            <a:off x="5913360" y="6467400"/>
            <a:ext cx="2894040" cy="268200"/>
          </a:xfrm>
          <a:custGeom>
            <a:avLst/>
            <a:gdLst>
              <a:gd name="textAreaLeft" fmla="*/ 0 w 2894040"/>
              <a:gd name="textAreaRight" fmla="*/ 2894400 w 289404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599" y="0"/>
                </a:lnTo>
                <a:lnTo>
                  <a:pt x="21599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Picture 4" descr="underline_base"/>
          <p:cNvPicPr/>
          <p:nvPr/>
        </p:nvPicPr>
        <p:blipFill>
          <a:blip r:embed="rId1"/>
          <a:stretch/>
        </p:blipFill>
        <p:spPr>
          <a:xfrm>
            <a:off x="922320" y="87300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80920" y="19512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lang="en-US" sz="3800" spc="-1" strike="noStrike">
                <a:solidFill>
                  <a:srgbClr val="000099"/>
                </a:solidFill>
                <a:latin typeface="Gill Sans MT"/>
              </a:rPr>
              <a:t>Classless Interdomain Routing : CID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98560" y="1493640"/>
            <a:ext cx="810720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9360" indent="-2793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st organizations needs more than class C but less than class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IDR allocates IP address blocks of variable size without regard to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793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: site needs 2000 addres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sign a block of 2048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ith CIDR address lookup is more complic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8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51CF-62D7-4156-B2F4-1F42293B063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AutoShape 1"/>
          <p:cNvSpPr/>
          <p:nvPr/>
        </p:nvSpPr>
        <p:spPr>
          <a:xfrm>
            <a:off x="743040" y="6494400"/>
            <a:ext cx="206352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AutoShape 2"/>
          <p:cNvSpPr/>
          <p:nvPr/>
        </p:nvSpPr>
        <p:spPr>
          <a:xfrm>
            <a:off x="3384720" y="6570720"/>
            <a:ext cx="313668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T14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66760" y="779400"/>
            <a:ext cx="86724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33ff"/>
                </a:solidFill>
                <a:latin typeface="Times New Roman"/>
                <a:ea typeface="Times New Roman"/>
              </a:rPr>
              <a:t>CIDR Ex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011240" y="1573200"/>
            <a:ext cx="8096400" cy="46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 algn="r">
              <a:lnSpc>
                <a:spcPct val="100000"/>
              </a:lnSpc>
              <a:spcBef>
                <a:spcPts val="499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3399"/>
                </a:solidFill>
                <a:uFillTx/>
                <a:latin typeface="Times New Roman Bold"/>
              </a:rPr>
              <a:t>مثال </a:t>
            </a:r>
            <a:r>
              <a:rPr b="0" lang="en-US" sz="2200" spc="-1" strike="noStrike" u="sng">
                <a:solidFill>
                  <a:srgbClr val="003399"/>
                </a:solidFill>
                <a:uFillTx/>
                <a:latin typeface="Times New Roman Bold"/>
              </a:rPr>
              <a:t>6</a:t>
            </a:r>
            <a:r>
              <a:rPr b="0" lang="en-US" sz="2200" spc="-1" strike="noStrike" u="sng">
                <a:solidFill>
                  <a:srgbClr val="003399"/>
                </a:solidFill>
                <a:uFillTx/>
                <a:latin typeface="Times New Roman Bold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قناع الشبكة الفرعية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ubnet Mask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</a:t>
            </a:r>
            <a:r>
              <a:rPr b="0" lang="en-US" sz="2200" spc="-1" strike="noStrike">
                <a:solidFill>
                  <a:srgbClr val="003399"/>
                </a:solidFill>
                <a:latin typeface="Times New Roman Bold"/>
              </a:rPr>
              <a:t>(/</a:t>
            </a:r>
            <a:r>
              <a:rPr b="0" lang="en-US" sz="2200" spc="-1" strike="noStrike">
                <a:solidFill>
                  <a:srgbClr val="003399"/>
                </a:solidFill>
                <a:latin typeface="Times New Roman Bold"/>
              </a:rPr>
              <a:t>30</a:t>
            </a:r>
            <a:r>
              <a:rPr b="0" lang="en-US" sz="2200" spc="-1" strike="noStrike">
                <a:solidFill>
                  <a:srgbClr val="003399"/>
                </a:solidFill>
                <a:latin typeface="Times New Roman Bold"/>
              </a:rPr>
              <a:t>)</a:t>
            </a:r>
            <a:r>
              <a:rPr b="0" lang="en-US" sz="2200" spc="-1" strike="noStrike">
                <a:solidFill>
                  <a:srgbClr val="003399"/>
                </a:solidFill>
                <a:latin typeface="Times New Roman Bol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Group 6"/>
          <p:cNvGrpSpPr/>
          <p:nvPr/>
        </p:nvGrpSpPr>
        <p:grpSpPr>
          <a:xfrm>
            <a:off x="652320" y="2711520"/>
            <a:ext cx="9023400" cy="1711080"/>
            <a:chOff x="652320" y="2711520"/>
            <a:chExt cx="9023400" cy="1711080"/>
          </a:xfrm>
        </p:grpSpPr>
        <p:grpSp>
          <p:nvGrpSpPr>
            <p:cNvPr id="587" name="Group 7"/>
            <p:cNvGrpSpPr/>
            <p:nvPr/>
          </p:nvGrpSpPr>
          <p:grpSpPr>
            <a:xfrm>
              <a:off x="3728520" y="3055680"/>
              <a:ext cx="5778000" cy="369720"/>
              <a:chOff x="3728520" y="3055680"/>
              <a:chExt cx="5778000" cy="369720"/>
            </a:xfrm>
          </p:grpSpPr>
          <p:sp>
            <p:nvSpPr>
              <p:cNvPr id="588" name="AutoShape 8"/>
              <p:cNvSpPr/>
              <p:nvPr/>
            </p:nvSpPr>
            <p:spPr>
              <a:xfrm>
                <a:off x="3728520" y="3055680"/>
                <a:ext cx="5778000" cy="369720"/>
              </a:xfrm>
              <a:custGeom>
                <a:avLst/>
                <a:gdLst>
                  <a:gd name="textAreaLeft" fmla="*/ 0 w 5778000"/>
                  <a:gd name="textAreaRight" fmla="*/ 5778360 w 5778000"/>
                  <a:gd name="textAreaTop" fmla="*/ 0 h 369720"/>
                  <a:gd name="textAreaBottom" fmla="*/ 370080 h 36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599" y="0"/>
                    </a:lnTo>
                    <a:lnTo>
                      <a:pt x="21599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AutoShape 9"/>
              <p:cNvSpPr/>
              <p:nvPr/>
            </p:nvSpPr>
            <p:spPr>
              <a:xfrm>
                <a:off x="3728520" y="3099960"/>
                <a:ext cx="4918680" cy="281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 Bold"/>
                  </a:rPr>
                  <a:t>11111111 .  11111111  .  11111111   .   111111   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" name="AutoShape 10"/>
            <p:cNvSpPr/>
            <p:nvPr/>
          </p:nvSpPr>
          <p:spPr>
            <a:xfrm>
              <a:off x="968040" y="2938320"/>
              <a:ext cx="1711080" cy="348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990000"/>
                  </a:solidFill>
                  <a:latin typeface="Times New Roman Bold"/>
                  <a:cs typeface="Arial"/>
                </a:rPr>
                <a:t>قناع الشبكة الفرعي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11"/>
            <p:cNvSpPr/>
            <p:nvPr/>
          </p:nvSpPr>
          <p:spPr>
            <a:xfrm>
              <a:off x="3353760" y="3756960"/>
              <a:ext cx="49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12"/>
            <p:cNvSpPr/>
            <p:nvPr/>
          </p:nvSpPr>
          <p:spPr>
            <a:xfrm>
              <a:off x="8354160" y="3752280"/>
              <a:ext cx="52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AutoShape 13"/>
            <p:cNvSpPr/>
            <p:nvPr/>
          </p:nvSpPr>
          <p:spPr>
            <a:xfrm>
              <a:off x="5252400" y="3861720"/>
              <a:ext cx="1614240" cy="348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990000"/>
                  </a:solidFill>
                  <a:latin typeface="Times New Roman Bold"/>
                  <a:cs typeface="Arial"/>
                </a:rPr>
                <a:t>ثابتة (رقم الشبكة</a:t>
              </a:r>
              <a:r>
                <a:rPr b="0" lang="en-US" sz="1800" spc="-1" strike="noStrike">
                  <a:solidFill>
                    <a:srgbClr val="990000"/>
                  </a:solidFill>
                  <a:latin typeface="Times New Roman Bold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AutoShape 14"/>
            <p:cNvSpPr/>
            <p:nvPr/>
          </p:nvSpPr>
          <p:spPr>
            <a:xfrm>
              <a:off x="8332920" y="3782520"/>
              <a:ext cx="1342800" cy="64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990000"/>
                  </a:solidFill>
                  <a:latin typeface="Times New Roman Bold"/>
                  <a:cs typeface="Arial"/>
                </a:rPr>
                <a:t>متغيرة</a:t>
              </a:r>
              <a:r>
                <a:rPr b="0" lang="en-US" sz="1800" spc="-1" strike="noStrike">
                  <a:solidFill>
                    <a:srgbClr val="990000"/>
                  </a:solidFill>
                  <a:latin typeface="Times New Roman Bol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00"/>
                  </a:solidFill>
                  <a:latin typeface="Times New Roman Bold"/>
                </a:rPr>
                <a:t>(</a:t>
              </a:r>
              <a:r>
                <a:rPr b="0" lang="ar-SA" sz="1800" spc="-1" strike="noStrike">
                  <a:solidFill>
                    <a:srgbClr val="990000"/>
                  </a:solidFill>
                  <a:latin typeface="Times New Roman Bold"/>
                  <a:cs typeface="Arial"/>
                </a:rPr>
                <a:t>رقم الطرفية</a:t>
              </a:r>
              <a:r>
                <a:rPr b="0" lang="en-US" sz="1800" spc="-1" strike="noStrike">
                  <a:solidFill>
                    <a:srgbClr val="990000"/>
                  </a:solidFill>
                  <a:latin typeface="Times New Roman Bold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15"/>
            <p:cNvSpPr/>
            <p:nvPr/>
          </p:nvSpPr>
          <p:spPr>
            <a:xfrm>
              <a:off x="8322480" y="2793960"/>
              <a:ext cx="1440" cy="1340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Line 16"/>
            <p:cNvSpPr/>
            <p:nvPr/>
          </p:nvSpPr>
          <p:spPr>
            <a:xfrm>
              <a:off x="8879400" y="2800080"/>
              <a:ext cx="1440" cy="130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Line 17"/>
            <p:cNvSpPr/>
            <p:nvPr/>
          </p:nvSpPr>
          <p:spPr>
            <a:xfrm flipH="1">
              <a:off x="3345840" y="2711520"/>
              <a:ext cx="10800" cy="1323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AutoShape 18"/>
            <p:cNvSpPr/>
            <p:nvPr/>
          </p:nvSpPr>
          <p:spPr>
            <a:xfrm>
              <a:off x="652320" y="3168360"/>
              <a:ext cx="2317320" cy="348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00"/>
                  </a:solidFill>
                  <a:latin typeface="Times New Roman Bold"/>
                </a:rPr>
                <a:t>255.255.255.252 (/2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99" name=""/>
          <p:cNvGraphicFramePr/>
          <p:nvPr/>
        </p:nvGraphicFramePr>
        <p:xfrm>
          <a:off x="1155600" y="4762440"/>
          <a:ext cx="7807320" cy="1224000"/>
        </p:xfrm>
        <a:graphic>
          <a:graphicData uri="http://schemas.openxmlformats.org/drawingml/2006/table">
            <a:tbl>
              <a:tblPr/>
              <a:tblGrid>
                <a:gridCol w="3895920"/>
                <a:gridCol w="3911400"/>
              </a:tblGrid>
              <a:tr h="696960">
                <a:tc>
                  <a:txBody>
                    <a:bodyPr lIns="45720" rIns="45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 Bold"/>
                          <a:ea typeface="Times New Roman Bold"/>
                        </a:rPr>
                        <a:t>255.255.255.2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 Bold"/>
                          <a:cs typeface="Arial"/>
                        </a:rPr>
                        <a:t>قناع الشبكة الفرعي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Times New Roman Bold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Times New Roman Bold"/>
                        </a:rPr>
                        <a:t>(Dotted Decimal Nota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45720" rIns="45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baseline="30000">
                          <a:solidFill>
                            <a:srgbClr val="800000"/>
                          </a:solidFill>
                          <a:latin typeface="Times New Roman Bold"/>
                          <a:ea typeface="Times New Roman Bold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800000"/>
                          </a:solidFill>
                          <a:latin typeface="Times New Roman Bold"/>
                          <a:ea typeface="Times New Roman Bold"/>
                        </a:rPr>
                        <a:t>2 -  2 = 2 </a:t>
                      </a:r>
                      <a:r>
                        <a:rPr b="0" lang="ar-SA" sz="2400" spc="-1" strike="noStrike">
                          <a:solidFill>
                            <a:srgbClr val="800000"/>
                          </a:solidFill>
                          <a:latin typeface="Times New Roman Bold"/>
                          <a:cs typeface="Arial"/>
                        </a:rPr>
                        <a:t>طرف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 Bold"/>
                          <a:cs typeface="Arial"/>
                        </a:rPr>
                        <a:t>عدد الطرفيات التي تدعمها الشبك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0" name="Slide Number Placeholder 37"/>
          <p:cNvSpPr/>
          <p:nvPr/>
        </p:nvSpPr>
        <p:spPr>
          <a:xfrm>
            <a:off x="709920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2E68-2FD5-4526-9F07-311548EEF99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AutoShape 8"/>
          <p:cNvSpPr/>
          <p:nvPr/>
        </p:nvSpPr>
        <p:spPr>
          <a:xfrm>
            <a:off x="471600" y="6062760"/>
            <a:ext cx="2063520" cy="718920"/>
          </a:xfrm>
          <a:prstGeom prst="pie">
            <a:avLst/>
          </a:prstGeom>
          <a:noFill/>
          <a:ln w="25560">
            <a:solidFill>
              <a:srgbClr val="b5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eference: This slide was created by Dr. Mohammad Arafa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Picture 4" descr="underline_base"/>
          <p:cNvPicPr/>
          <p:nvPr/>
        </p:nvPicPr>
        <p:blipFill>
          <a:blip r:embed="rId1"/>
          <a:stretch/>
        </p:blipFill>
        <p:spPr>
          <a:xfrm>
            <a:off x="2354400" y="3733920"/>
            <a:ext cx="4113000" cy="172800"/>
          </a:xfrm>
          <a:prstGeom prst="rect">
            <a:avLst/>
          </a:prstGeom>
          <a:ln w="0">
            <a:noFill/>
          </a:ln>
        </p:spPr>
      </p:pic>
      <p:sp>
        <p:nvSpPr>
          <p:cNvPr id="604" name="AutoShape 5"/>
          <p:cNvSpPr/>
          <p:nvPr/>
        </p:nvSpPr>
        <p:spPr>
          <a:xfrm>
            <a:off x="1727280" y="2579760"/>
            <a:ext cx="7772400" cy="739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Obtaining IP Address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Slide Number Placeholder 7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EB1D-582E-43A0-9F07-4878A02D866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Picture 4" descr="underline_base"/>
          <p:cNvPicPr/>
          <p:nvPr/>
        </p:nvPicPr>
        <p:blipFill>
          <a:blip r:embed="rId1"/>
          <a:stretch/>
        </p:blipFill>
        <p:spPr>
          <a:xfrm>
            <a:off x="949320" y="104760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2268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addresses: how to get o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92080" y="1507680"/>
            <a:ext cx="80344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does a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hos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get IP addr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rd-coded by system administrator in a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ndows: control-panel-&gt;network-&gt;configuration-&gt;tcp/ip-&gt;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IX: /etc/rc.conf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re often using ===&gt;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HCP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ynamic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st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figuration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tocol: dynamically get address from as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lug-and-play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lide Number Placeholder 8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E01F-EFCA-4BDF-B2F2-92D90C0DC2C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AutoShape 3"/>
          <p:cNvSpPr/>
          <p:nvPr/>
        </p:nvSpPr>
        <p:spPr>
          <a:xfrm>
            <a:off x="8705880" y="6462720"/>
            <a:ext cx="674640" cy="268200"/>
          </a:xfrm>
          <a:custGeom>
            <a:avLst/>
            <a:gdLst>
              <a:gd name="textAreaLeft" fmla="*/ 0 w 674640"/>
              <a:gd name="textAreaRight" fmla="*/ 675000 w 67464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599" y="0"/>
                </a:lnTo>
                <a:lnTo>
                  <a:pt x="21599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Picture 4" descr="underline_base"/>
          <p:cNvPicPr/>
          <p:nvPr/>
        </p:nvPicPr>
        <p:blipFill>
          <a:blip r:embed="rId1"/>
          <a:stretch/>
        </p:blipFill>
        <p:spPr>
          <a:xfrm>
            <a:off x="588960" y="1025640"/>
            <a:ext cx="8228160" cy="17280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58720" y="266400"/>
            <a:ext cx="88264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</a:t>
            </a:r>
            <a:r>
              <a:rPr b="0" lang="en-US" sz="3400" spc="-1" strike="noStrike">
                <a:solidFill>
                  <a:srgbClr val="000099"/>
                </a:solidFill>
                <a:latin typeface="Gill Sans MT"/>
              </a:rPr>
              <a:t>Dynamic Host Configuration Protoco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892080" y="1587240"/>
            <a:ext cx="8632800" cy="33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allow host to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dynamically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btain its IP address from network server when it join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43720">
              <a:lnSpc>
                <a:spcPct val="85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n renew its lease on address 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43720">
              <a:lnSpc>
                <a:spcPct val="85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llows reuse of addresses (only hold address while connected/“on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43720">
              <a:lnSpc>
                <a:spcPct val="85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pport for mobile users who want to join network (more short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DHCP overvie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43720">
              <a:lnSpc>
                <a:spcPct val="85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ost broadcasts </a:t>
            </a: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“DHCP discover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msg [optional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43720">
              <a:lnSpc>
                <a:spcPct val="85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HCP server responds with </a:t>
            </a: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“DHCP offer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msg [optional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43720">
              <a:lnSpc>
                <a:spcPct val="85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ost requests IP address: </a:t>
            </a: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“DHCP request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m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43720">
              <a:lnSpc>
                <a:spcPct val="85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HCP server sends address: </a:t>
            </a: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“DHCP ack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ms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lide Number Placeholder 8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A5EE-4CE4-40EF-881A-877050739C6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AutoShape 2"/>
          <p:cNvSpPr/>
          <p:nvPr/>
        </p:nvSpPr>
        <p:spPr>
          <a:xfrm>
            <a:off x="5913360" y="6467400"/>
            <a:ext cx="2894040" cy="268200"/>
          </a:xfrm>
          <a:custGeom>
            <a:avLst/>
            <a:gdLst>
              <a:gd name="textAreaLeft" fmla="*/ 0 w 2894040"/>
              <a:gd name="textAreaRight" fmla="*/ 2894400 w 289404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599" y="0"/>
                </a:lnTo>
                <a:lnTo>
                  <a:pt x="21599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AutoShape 3"/>
          <p:cNvSpPr/>
          <p:nvPr/>
        </p:nvSpPr>
        <p:spPr>
          <a:xfrm>
            <a:off x="8705880" y="6462720"/>
            <a:ext cx="674640" cy="268200"/>
          </a:xfrm>
          <a:custGeom>
            <a:avLst/>
            <a:gdLst>
              <a:gd name="textAreaLeft" fmla="*/ 0 w 674640"/>
              <a:gd name="textAreaRight" fmla="*/ 675000 w 67464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599" y="0"/>
                </a:lnTo>
                <a:lnTo>
                  <a:pt x="21599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19000" y="255600"/>
            <a:ext cx="682488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HCP client-server scen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5"/>
          <p:cNvSpPr/>
          <p:nvPr/>
        </p:nvSpPr>
        <p:spPr>
          <a:xfrm>
            <a:off x="2789280" y="6037200"/>
            <a:ext cx="4978440" cy="319320"/>
          </a:xfrm>
          <a:custGeom>
            <a:avLst/>
            <a:gdLst>
              <a:gd name="textAreaLeft" fmla="*/ 0 w 4978440"/>
              <a:gd name="textAreaRight" fmla="*/ 4978440 w 49784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599" y="0"/>
                </a:lnTo>
                <a:lnTo>
                  <a:pt x="21599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6"/>
          <p:cNvSpPr/>
          <p:nvPr/>
        </p:nvSpPr>
        <p:spPr>
          <a:xfrm>
            <a:off x="6591240" y="6770520"/>
            <a:ext cx="127080" cy="366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AutoShape 7"/>
          <p:cNvSpPr/>
          <p:nvPr/>
        </p:nvSpPr>
        <p:spPr>
          <a:xfrm>
            <a:off x="1251000" y="1903320"/>
            <a:ext cx="1181160" cy="331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ill Sans MT"/>
              </a:rPr>
              <a:t>223.1.1.0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AutoShape 8"/>
          <p:cNvSpPr/>
          <p:nvPr/>
        </p:nvSpPr>
        <p:spPr>
          <a:xfrm>
            <a:off x="4729320" y="4398840"/>
            <a:ext cx="1180800" cy="331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ill Sans MT"/>
              </a:rPr>
              <a:t>223.1.2.0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AutoShape 9"/>
          <p:cNvSpPr/>
          <p:nvPr/>
        </p:nvSpPr>
        <p:spPr>
          <a:xfrm>
            <a:off x="3032280" y="5992920"/>
            <a:ext cx="1180800" cy="331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ill Sans MT"/>
              </a:rPr>
              <a:t>223.1.3.0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AutoShape 10"/>
          <p:cNvSpPr/>
          <p:nvPr/>
        </p:nvSpPr>
        <p:spPr>
          <a:xfrm>
            <a:off x="2044800" y="4233960"/>
            <a:ext cx="847800" cy="179280"/>
          </a:xfrm>
          <a:custGeom>
            <a:avLst/>
            <a:gdLst>
              <a:gd name="textAreaLeft" fmla="*/ 0 w 847800"/>
              <a:gd name="textAreaRight" fmla="*/ 848160 w 84780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AutoShape 11"/>
          <p:cNvSpPr/>
          <p:nvPr/>
        </p:nvSpPr>
        <p:spPr>
          <a:xfrm>
            <a:off x="1473120" y="2227320"/>
            <a:ext cx="1906560" cy="194940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949400"/>
              <a:gd name="textAreaBottom" fmla="*/ 1949760 h 1949400"/>
            </a:gdLst>
            <a:ahLst/>
            <a:rect l="textAreaLeft" t="textAreaTop" r="textAreaRight" b="textAreaBottom"/>
            <a:pathLst>
              <a:path w="21215" h="20549">
                <a:moveTo>
                  <a:pt x="21030" y="12067"/>
                </a:moveTo>
                <a:cubicBezTo>
                  <a:pt x="20659" y="10126"/>
                  <a:pt x="13912" y="11867"/>
                  <a:pt x="12217" y="10628"/>
                </a:cubicBezTo>
                <a:cubicBezTo>
                  <a:pt x="10468" y="8805"/>
                  <a:pt x="11634" y="2865"/>
                  <a:pt x="10557" y="1142"/>
                </a:cubicBezTo>
                <a:cubicBezTo>
                  <a:pt x="9479" y="-581"/>
                  <a:pt x="7325" y="339"/>
                  <a:pt x="5735" y="289"/>
                </a:cubicBezTo>
                <a:cubicBezTo>
                  <a:pt x="4146" y="238"/>
                  <a:pt x="1832" y="-581"/>
                  <a:pt x="966" y="790"/>
                </a:cubicBezTo>
                <a:cubicBezTo>
                  <a:pt x="101" y="2162"/>
                  <a:pt x="613" y="6663"/>
                  <a:pt x="543" y="8520"/>
                </a:cubicBezTo>
                <a:cubicBezTo>
                  <a:pt x="472" y="10377"/>
                  <a:pt x="543" y="10879"/>
                  <a:pt x="490" y="11984"/>
                </a:cubicBezTo>
                <a:cubicBezTo>
                  <a:pt x="437" y="13088"/>
                  <a:pt x="278" y="14142"/>
                  <a:pt x="225" y="15146"/>
                </a:cubicBezTo>
                <a:cubicBezTo>
                  <a:pt x="172" y="16150"/>
                  <a:pt x="-181" y="17287"/>
                  <a:pt x="119" y="18057"/>
                </a:cubicBezTo>
                <a:cubicBezTo>
                  <a:pt x="419" y="18827"/>
                  <a:pt x="366" y="19462"/>
                  <a:pt x="2079" y="19814"/>
                </a:cubicBezTo>
                <a:cubicBezTo>
                  <a:pt x="3792" y="20165"/>
                  <a:pt x="8808" y="21019"/>
                  <a:pt x="10451" y="20215"/>
                </a:cubicBezTo>
                <a:cubicBezTo>
                  <a:pt x="12093" y="19412"/>
                  <a:pt x="10239" y="15882"/>
                  <a:pt x="11934" y="14979"/>
                </a:cubicBezTo>
                <a:cubicBezTo>
                  <a:pt x="13630" y="14075"/>
                  <a:pt x="19087" y="15229"/>
                  <a:pt x="20606" y="14744"/>
                </a:cubicBezTo>
                <a:cubicBezTo>
                  <a:pt x="21154" y="13874"/>
                  <a:pt x="21418" y="13991"/>
                  <a:pt x="21030" y="1206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AutoShape 12"/>
          <p:cNvSpPr/>
          <p:nvPr/>
        </p:nvSpPr>
        <p:spPr>
          <a:xfrm>
            <a:off x="4003560" y="2508120"/>
            <a:ext cx="1851120" cy="1927440"/>
          </a:xfrm>
          <a:custGeom>
            <a:avLst/>
            <a:gdLst>
              <a:gd name="textAreaLeft" fmla="*/ 0 w 1851120"/>
              <a:gd name="textAreaRight" fmla="*/ 1851480 w 1851120"/>
              <a:gd name="textAreaTop" fmla="*/ 0 h 1927440"/>
              <a:gd name="textAreaBottom" fmla="*/ 1927800 h 1927440"/>
            </a:gdLst>
            <a:ahLst/>
            <a:rect l="textAreaLeft" t="textAreaTop" r="textAreaRight" b="textAreaBottom"/>
            <a:pathLst>
              <a:path w="20978" h="21246">
                <a:moveTo>
                  <a:pt x="227" y="12119"/>
                </a:moveTo>
                <a:cubicBezTo>
                  <a:pt x="659" y="14132"/>
                  <a:pt x="7475" y="12119"/>
                  <a:pt x="9238" y="13362"/>
                </a:cubicBezTo>
                <a:cubicBezTo>
                  <a:pt x="11000" y="14604"/>
                  <a:pt x="9543" y="18245"/>
                  <a:pt x="10802" y="19558"/>
                </a:cubicBezTo>
                <a:cubicBezTo>
                  <a:pt x="12061" y="20871"/>
                  <a:pt x="15119" y="21308"/>
                  <a:pt x="16791" y="21238"/>
                </a:cubicBezTo>
                <a:cubicBezTo>
                  <a:pt x="18464" y="21168"/>
                  <a:pt x="20298" y="20066"/>
                  <a:pt x="20838" y="19085"/>
                </a:cubicBezTo>
                <a:cubicBezTo>
                  <a:pt x="21377" y="18105"/>
                  <a:pt x="20190" y="16565"/>
                  <a:pt x="20029" y="15357"/>
                </a:cubicBezTo>
                <a:cubicBezTo>
                  <a:pt x="19867" y="14149"/>
                  <a:pt x="19903" y="13222"/>
                  <a:pt x="19813" y="11839"/>
                </a:cubicBezTo>
                <a:cubicBezTo>
                  <a:pt x="19723" y="10456"/>
                  <a:pt x="19471" y="8496"/>
                  <a:pt x="19543" y="7113"/>
                </a:cubicBezTo>
                <a:cubicBezTo>
                  <a:pt x="19615" y="5730"/>
                  <a:pt x="20298" y="4627"/>
                  <a:pt x="20298" y="3489"/>
                </a:cubicBezTo>
                <a:cubicBezTo>
                  <a:pt x="20298" y="2352"/>
                  <a:pt x="21090" y="689"/>
                  <a:pt x="19597" y="286"/>
                </a:cubicBezTo>
                <a:cubicBezTo>
                  <a:pt x="18104" y="-116"/>
                  <a:pt x="13086" y="-291"/>
                  <a:pt x="11396" y="1126"/>
                </a:cubicBezTo>
                <a:cubicBezTo>
                  <a:pt x="9705" y="2544"/>
                  <a:pt x="11198" y="7428"/>
                  <a:pt x="9399" y="8793"/>
                </a:cubicBezTo>
                <a:cubicBezTo>
                  <a:pt x="7601" y="10158"/>
                  <a:pt x="2098" y="8741"/>
                  <a:pt x="569" y="9301"/>
                </a:cubicBezTo>
                <a:cubicBezTo>
                  <a:pt x="47" y="10228"/>
                  <a:pt x="-222" y="10106"/>
                  <a:pt x="227" y="12119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AutoShape 13"/>
          <p:cNvSpPr/>
          <p:nvPr/>
        </p:nvSpPr>
        <p:spPr>
          <a:xfrm>
            <a:off x="2703600" y="3936960"/>
            <a:ext cx="1977840" cy="1936800"/>
          </a:xfrm>
          <a:custGeom>
            <a:avLst/>
            <a:gdLst>
              <a:gd name="textAreaLeft" fmla="*/ 0 w 1977840"/>
              <a:gd name="textAreaRight" fmla="*/ 1978200 w 1977840"/>
              <a:gd name="textAreaTop" fmla="*/ 0 h 1936800"/>
              <a:gd name="textAreaBottom" fmla="*/ 1937160 h 1936800"/>
            </a:gdLst>
            <a:ahLst/>
            <a:rect l="textAreaLeft" t="textAreaTop" r="textAreaRight" b="textAreaBottom"/>
            <a:pathLst>
              <a:path w="20927" h="21127">
                <a:moveTo>
                  <a:pt x="9366" y="286"/>
                </a:moveTo>
                <a:cubicBezTo>
                  <a:pt x="7451" y="806"/>
                  <a:pt x="9601" y="7994"/>
                  <a:pt x="8056" y="10471"/>
                </a:cubicBezTo>
                <a:cubicBezTo>
                  <a:pt x="6628" y="13018"/>
                  <a:pt x="2093" y="14143"/>
                  <a:pt x="800" y="15512"/>
                </a:cubicBezTo>
                <a:cubicBezTo>
                  <a:pt x="-493" y="16880"/>
                  <a:pt x="128" y="17833"/>
                  <a:pt x="296" y="18734"/>
                </a:cubicBezTo>
                <a:cubicBezTo>
                  <a:pt x="464" y="19634"/>
                  <a:pt x="699" y="20639"/>
                  <a:pt x="1858" y="20968"/>
                </a:cubicBezTo>
                <a:cubicBezTo>
                  <a:pt x="3017" y="21297"/>
                  <a:pt x="5704" y="20760"/>
                  <a:pt x="7250" y="20708"/>
                </a:cubicBezTo>
                <a:cubicBezTo>
                  <a:pt x="8795" y="20656"/>
                  <a:pt x="9097" y="20656"/>
                  <a:pt x="11130" y="20708"/>
                </a:cubicBezTo>
                <a:cubicBezTo>
                  <a:pt x="13162" y="20760"/>
                  <a:pt x="17882" y="21366"/>
                  <a:pt x="19494" y="21020"/>
                </a:cubicBezTo>
                <a:cubicBezTo>
                  <a:pt x="21106" y="20674"/>
                  <a:pt x="20989" y="20033"/>
                  <a:pt x="20855" y="18630"/>
                </a:cubicBezTo>
                <a:cubicBezTo>
                  <a:pt x="20720" y="17227"/>
                  <a:pt x="19948" y="13936"/>
                  <a:pt x="18637" y="12602"/>
                </a:cubicBezTo>
                <a:cubicBezTo>
                  <a:pt x="17327" y="11268"/>
                  <a:pt x="14035" y="12636"/>
                  <a:pt x="12944" y="10627"/>
                </a:cubicBezTo>
                <a:cubicBezTo>
                  <a:pt x="11852" y="8618"/>
                  <a:pt x="12692" y="2226"/>
                  <a:pt x="12087" y="494"/>
                </a:cubicBezTo>
                <a:cubicBezTo>
                  <a:pt x="11180" y="26"/>
                  <a:pt x="11281" y="-233"/>
                  <a:pt x="9366" y="28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14"/>
          <p:cNvSpPr/>
          <p:nvPr/>
        </p:nvSpPr>
        <p:spPr>
          <a:xfrm>
            <a:off x="2004840" y="2695680"/>
            <a:ext cx="27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Line 15"/>
          <p:cNvSpPr/>
          <p:nvPr/>
        </p:nvSpPr>
        <p:spPr>
          <a:xfrm flipV="1">
            <a:off x="2054160" y="3416400"/>
            <a:ext cx="277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16"/>
          <p:cNvSpPr/>
          <p:nvPr/>
        </p:nvSpPr>
        <p:spPr>
          <a:xfrm>
            <a:off x="2014560" y="3967200"/>
            <a:ext cx="27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17"/>
          <p:cNvSpPr/>
          <p:nvPr/>
        </p:nvSpPr>
        <p:spPr>
          <a:xfrm flipV="1">
            <a:off x="2857680" y="3543480"/>
            <a:ext cx="56196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AutoShape 18"/>
          <p:cNvSpPr/>
          <p:nvPr/>
        </p:nvSpPr>
        <p:spPr>
          <a:xfrm>
            <a:off x="2054160" y="2370240"/>
            <a:ext cx="75420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223.1.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AutoShape 19"/>
          <p:cNvSpPr/>
          <p:nvPr/>
        </p:nvSpPr>
        <p:spPr>
          <a:xfrm>
            <a:off x="1940040" y="3995640"/>
            <a:ext cx="75384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223.1.1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AutoShape 20"/>
          <p:cNvSpPr/>
          <p:nvPr/>
        </p:nvSpPr>
        <p:spPr>
          <a:xfrm>
            <a:off x="2685960" y="3235320"/>
            <a:ext cx="75420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223.1.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21"/>
          <p:cNvSpPr/>
          <p:nvPr/>
        </p:nvSpPr>
        <p:spPr>
          <a:xfrm>
            <a:off x="3933720" y="3546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AutoShape 22"/>
          <p:cNvSpPr/>
          <p:nvPr/>
        </p:nvSpPr>
        <p:spPr>
          <a:xfrm>
            <a:off x="3807000" y="3236760"/>
            <a:ext cx="75384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223.1.2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23"/>
          <p:cNvSpPr/>
          <p:nvPr/>
        </p:nvSpPr>
        <p:spPr>
          <a:xfrm>
            <a:off x="5124600" y="2857680"/>
            <a:ext cx="23472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24"/>
          <p:cNvSpPr/>
          <p:nvPr/>
        </p:nvSpPr>
        <p:spPr>
          <a:xfrm>
            <a:off x="5178600" y="4133880"/>
            <a:ext cx="23472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25"/>
          <p:cNvSpPr/>
          <p:nvPr/>
        </p:nvSpPr>
        <p:spPr>
          <a:xfrm flipH="1">
            <a:off x="3692160" y="3884760"/>
            <a:ext cx="3240" cy="70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26"/>
          <p:cNvSpPr/>
          <p:nvPr/>
        </p:nvSpPr>
        <p:spPr>
          <a:xfrm flipH="1" flipV="1">
            <a:off x="3115800" y="5230800"/>
            <a:ext cx="324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27"/>
          <p:cNvSpPr/>
          <p:nvPr/>
        </p:nvSpPr>
        <p:spPr>
          <a:xfrm flipH="1" flipV="1">
            <a:off x="4257360" y="5164200"/>
            <a:ext cx="324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AutoShape 28"/>
          <p:cNvSpPr/>
          <p:nvPr/>
        </p:nvSpPr>
        <p:spPr>
          <a:xfrm>
            <a:off x="4230720" y="5041800"/>
            <a:ext cx="75420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223.1.3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AutoShape 29"/>
          <p:cNvSpPr/>
          <p:nvPr/>
        </p:nvSpPr>
        <p:spPr>
          <a:xfrm>
            <a:off x="2082960" y="5052960"/>
            <a:ext cx="75384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223.1.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Group 30"/>
          <p:cNvGrpSpPr/>
          <p:nvPr/>
        </p:nvGrpSpPr>
        <p:grpSpPr>
          <a:xfrm>
            <a:off x="1452240" y="2397240"/>
            <a:ext cx="641160" cy="558720"/>
            <a:chOff x="1452240" y="2397240"/>
            <a:chExt cx="641160" cy="558720"/>
          </a:xfrm>
        </p:grpSpPr>
        <p:pic>
          <p:nvPicPr>
            <p:cNvPr id="647" name="Picture 31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452240" y="23972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AutoShape 32"/>
            <p:cNvSpPr/>
            <p:nvPr/>
          </p:nvSpPr>
          <p:spPr>
            <a:xfrm flipH="1">
              <a:off x="1725840" y="2450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202" y="821"/>
                  </a:lnTo>
                  <a:lnTo>
                    <a:pt x="21599" y="17256"/>
                  </a:lnTo>
                  <a:lnTo>
                    <a:pt x="4732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Group 33"/>
          <p:cNvGrpSpPr/>
          <p:nvPr/>
        </p:nvGrpSpPr>
        <p:grpSpPr>
          <a:xfrm>
            <a:off x="1447560" y="3006720"/>
            <a:ext cx="641160" cy="558720"/>
            <a:chOff x="1447560" y="3006720"/>
            <a:chExt cx="641160" cy="558720"/>
          </a:xfrm>
        </p:grpSpPr>
        <p:pic>
          <p:nvPicPr>
            <p:cNvPr id="650" name="Picture 34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447560" y="300672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AutoShape 35"/>
            <p:cNvSpPr/>
            <p:nvPr/>
          </p:nvSpPr>
          <p:spPr>
            <a:xfrm flipH="1">
              <a:off x="1721160" y="30600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202" y="821"/>
                  </a:lnTo>
                  <a:lnTo>
                    <a:pt x="21599" y="17256"/>
                  </a:lnTo>
                  <a:lnTo>
                    <a:pt x="4732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Group 36"/>
          <p:cNvGrpSpPr/>
          <p:nvPr/>
        </p:nvGrpSpPr>
        <p:grpSpPr>
          <a:xfrm>
            <a:off x="1476360" y="3616200"/>
            <a:ext cx="641520" cy="559080"/>
            <a:chOff x="1476360" y="3616200"/>
            <a:chExt cx="641520" cy="559080"/>
          </a:xfrm>
        </p:grpSpPr>
        <p:pic>
          <p:nvPicPr>
            <p:cNvPr id="653" name="Picture 37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1476360" y="36162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AutoShape 38"/>
            <p:cNvSpPr/>
            <p:nvPr/>
          </p:nvSpPr>
          <p:spPr>
            <a:xfrm flipH="1">
              <a:off x="1749600" y="36698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202" y="821"/>
                  </a:lnTo>
                  <a:lnTo>
                    <a:pt x="21599" y="17256"/>
                  </a:lnTo>
                  <a:lnTo>
                    <a:pt x="4732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Group 39"/>
          <p:cNvGrpSpPr/>
          <p:nvPr/>
        </p:nvGrpSpPr>
        <p:grpSpPr>
          <a:xfrm>
            <a:off x="5184720" y="2565360"/>
            <a:ext cx="641520" cy="558720"/>
            <a:chOff x="5184720" y="2565360"/>
            <a:chExt cx="641520" cy="558720"/>
          </a:xfrm>
        </p:grpSpPr>
        <p:pic>
          <p:nvPicPr>
            <p:cNvPr id="656" name="Picture 40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5184720" y="256536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AutoShape 41"/>
            <p:cNvSpPr/>
            <p:nvPr/>
          </p:nvSpPr>
          <p:spPr>
            <a:xfrm>
              <a:off x="5240880" y="26186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202" y="821"/>
                  </a:lnTo>
                  <a:lnTo>
                    <a:pt x="21599" y="17256"/>
                  </a:lnTo>
                  <a:lnTo>
                    <a:pt x="4732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Group 42"/>
          <p:cNvGrpSpPr/>
          <p:nvPr/>
        </p:nvGrpSpPr>
        <p:grpSpPr>
          <a:xfrm>
            <a:off x="5259240" y="3844800"/>
            <a:ext cx="641520" cy="559080"/>
            <a:chOff x="5259240" y="3844800"/>
            <a:chExt cx="641520" cy="559080"/>
          </a:xfrm>
        </p:grpSpPr>
        <p:pic>
          <p:nvPicPr>
            <p:cNvPr id="659" name="Picture 43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5259240" y="38448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AutoShape 44"/>
            <p:cNvSpPr/>
            <p:nvPr/>
          </p:nvSpPr>
          <p:spPr>
            <a:xfrm>
              <a:off x="5315400" y="38984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202" y="821"/>
                  </a:lnTo>
                  <a:lnTo>
                    <a:pt x="21599" y="17256"/>
                  </a:lnTo>
                  <a:lnTo>
                    <a:pt x="4732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Group 45"/>
          <p:cNvGrpSpPr/>
          <p:nvPr/>
        </p:nvGrpSpPr>
        <p:grpSpPr>
          <a:xfrm>
            <a:off x="4051440" y="5369040"/>
            <a:ext cx="641160" cy="558720"/>
            <a:chOff x="4051440" y="5369040"/>
            <a:chExt cx="641160" cy="558720"/>
          </a:xfrm>
        </p:grpSpPr>
        <p:pic>
          <p:nvPicPr>
            <p:cNvPr id="662" name="Picture 46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4051440" y="53690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AutoShape 47"/>
            <p:cNvSpPr/>
            <p:nvPr/>
          </p:nvSpPr>
          <p:spPr>
            <a:xfrm>
              <a:off x="4107600" y="542232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202" y="821"/>
                  </a:lnTo>
                  <a:lnTo>
                    <a:pt x="21599" y="17256"/>
                  </a:lnTo>
                  <a:lnTo>
                    <a:pt x="4732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Group 48"/>
          <p:cNvGrpSpPr/>
          <p:nvPr/>
        </p:nvGrpSpPr>
        <p:grpSpPr>
          <a:xfrm>
            <a:off x="2887560" y="5410080"/>
            <a:ext cx="641520" cy="559080"/>
            <a:chOff x="2887560" y="5410080"/>
            <a:chExt cx="641520" cy="559080"/>
          </a:xfrm>
        </p:grpSpPr>
        <p:pic>
          <p:nvPicPr>
            <p:cNvPr id="665" name="Picture 49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2887560" y="541008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AutoShape 50"/>
            <p:cNvSpPr/>
            <p:nvPr/>
          </p:nvSpPr>
          <p:spPr>
            <a:xfrm>
              <a:off x="2943720" y="546372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202" y="821"/>
                  </a:lnTo>
                  <a:lnTo>
                    <a:pt x="21599" y="17256"/>
                  </a:lnTo>
                  <a:lnTo>
                    <a:pt x="4732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Group 51"/>
          <p:cNvGrpSpPr/>
          <p:nvPr/>
        </p:nvGrpSpPr>
        <p:grpSpPr>
          <a:xfrm>
            <a:off x="3316320" y="3503520"/>
            <a:ext cx="698400" cy="355680"/>
            <a:chOff x="3316320" y="3503520"/>
            <a:chExt cx="698400" cy="355680"/>
          </a:xfrm>
        </p:grpSpPr>
        <p:sp>
          <p:nvSpPr>
            <p:cNvPr id="668" name="AutoShape 52"/>
            <p:cNvSpPr/>
            <p:nvPr/>
          </p:nvSpPr>
          <p:spPr>
            <a:xfrm>
              <a:off x="3319200" y="3661200"/>
              <a:ext cx="692280" cy="198000"/>
            </a:xfrm>
            <a:custGeom>
              <a:avLst/>
              <a:gdLst>
                <a:gd name="textAreaLeft" fmla="*/ 0 w 692280"/>
                <a:gd name="textAreaRight" fmla="*/ 692640 w 69228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AutoShape 53"/>
            <p:cNvSpPr/>
            <p:nvPr/>
          </p:nvSpPr>
          <p:spPr>
            <a:xfrm>
              <a:off x="3319200" y="3638160"/>
              <a:ext cx="695520" cy="123120"/>
            </a:xfrm>
            <a:custGeom>
              <a:avLst/>
              <a:gdLst>
                <a:gd name="textAreaLeft" fmla="*/ 0 w 695520"/>
                <a:gd name="textAreaRight" fmla="*/ 695880 w 69552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AutoShape 54"/>
            <p:cNvSpPr/>
            <p:nvPr/>
          </p:nvSpPr>
          <p:spPr>
            <a:xfrm>
              <a:off x="3316320" y="3503520"/>
              <a:ext cx="693360" cy="23256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1" name="Group 55"/>
            <p:cNvGrpSpPr/>
            <p:nvPr/>
          </p:nvGrpSpPr>
          <p:grpSpPr>
            <a:xfrm>
              <a:off x="3455640" y="3563640"/>
              <a:ext cx="391680" cy="107640"/>
              <a:chOff x="3455640" y="3563640"/>
              <a:chExt cx="391680" cy="107640"/>
            </a:xfrm>
          </p:grpSpPr>
          <p:sp>
            <p:nvSpPr>
              <p:cNvPr id="672" name="AutoShape 56"/>
              <p:cNvSpPr/>
              <p:nvPr/>
            </p:nvSpPr>
            <p:spPr>
              <a:xfrm>
                <a:off x="3455640" y="3563640"/>
                <a:ext cx="391680" cy="10764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6689" y="21600"/>
                    </a:lnTo>
                    <a:lnTo>
                      <a:pt x="13378" y="0"/>
                    </a:lnTo>
                    <a:lnTo>
                      <a:pt x="2159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AutoShape 57"/>
              <p:cNvSpPr/>
              <p:nvPr/>
            </p:nvSpPr>
            <p:spPr>
              <a:xfrm>
                <a:off x="3473280" y="3563640"/>
                <a:ext cx="356400" cy="10764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7353" y="0"/>
                    </a:lnTo>
                    <a:lnTo>
                      <a:pt x="14706" y="21600"/>
                    </a:lnTo>
                    <a:lnTo>
                      <a:pt x="216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Line 58"/>
            <p:cNvSpPr/>
            <p:nvPr/>
          </p:nvSpPr>
          <p:spPr>
            <a:xfrm>
              <a:off x="3319200" y="3612600"/>
              <a:ext cx="0" cy="15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59"/>
            <p:cNvSpPr/>
            <p:nvPr/>
          </p:nvSpPr>
          <p:spPr>
            <a:xfrm>
              <a:off x="4009680" y="3619800"/>
              <a:ext cx="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6" name="AutoShape 60"/>
          <p:cNvSpPr/>
          <p:nvPr/>
        </p:nvSpPr>
        <p:spPr>
          <a:xfrm>
            <a:off x="2170080" y="3119400"/>
            <a:ext cx="289080" cy="233280"/>
          </a:xfrm>
          <a:custGeom>
            <a:avLst/>
            <a:gdLst>
              <a:gd name="textAreaLeft" fmla="*/ 0 w 289080"/>
              <a:gd name="textAreaRight" fmla="*/ 289080 w 28908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61"/>
          <p:cNvSpPr/>
          <p:nvPr/>
        </p:nvSpPr>
        <p:spPr>
          <a:xfrm>
            <a:off x="2004840" y="3025800"/>
            <a:ext cx="75420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223.1.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AutoShape 62"/>
          <p:cNvSpPr/>
          <p:nvPr/>
        </p:nvSpPr>
        <p:spPr>
          <a:xfrm>
            <a:off x="4911840" y="3828960"/>
            <a:ext cx="288720" cy="233280"/>
          </a:xfrm>
          <a:custGeom>
            <a:avLst/>
            <a:gdLst>
              <a:gd name="textAreaLeft" fmla="*/ 0 w 288720"/>
              <a:gd name="textAreaRight" fmla="*/ 289080 w 28872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AutoShape 63"/>
          <p:cNvSpPr/>
          <p:nvPr/>
        </p:nvSpPr>
        <p:spPr>
          <a:xfrm>
            <a:off x="3559320" y="4014720"/>
            <a:ext cx="288720" cy="233280"/>
          </a:xfrm>
          <a:custGeom>
            <a:avLst/>
            <a:gdLst>
              <a:gd name="textAreaLeft" fmla="*/ 0 w 288720"/>
              <a:gd name="textAreaRight" fmla="*/ 289080 w 28872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AutoShape 64"/>
          <p:cNvSpPr/>
          <p:nvPr/>
        </p:nvSpPr>
        <p:spPr>
          <a:xfrm>
            <a:off x="3182760" y="3976560"/>
            <a:ext cx="84312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223.1.3.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65"/>
          <p:cNvSpPr/>
          <p:nvPr/>
        </p:nvSpPr>
        <p:spPr>
          <a:xfrm>
            <a:off x="4281480" y="3843360"/>
            <a:ext cx="75420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223.1.2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AutoShape 66"/>
          <p:cNvSpPr/>
          <p:nvPr/>
        </p:nvSpPr>
        <p:spPr>
          <a:xfrm>
            <a:off x="5111640" y="2327400"/>
            <a:ext cx="754200" cy="293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223.1.2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AutoShape 67"/>
          <p:cNvSpPr/>
          <p:nvPr/>
        </p:nvSpPr>
        <p:spPr>
          <a:xfrm>
            <a:off x="3846600" y="1760400"/>
            <a:ext cx="771480" cy="654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DH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AutoShape 68"/>
          <p:cNvSpPr/>
          <p:nvPr/>
        </p:nvSpPr>
        <p:spPr>
          <a:xfrm>
            <a:off x="7008840" y="3059280"/>
            <a:ext cx="1544760" cy="1172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arriving </a:t>
            </a: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DH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client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 nee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address in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Group 69"/>
          <p:cNvGrpSpPr/>
          <p:nvPr/>
        </p:nvGrpSpPr>
        <p:grpSpPr>
          <a:xfrm>
            <a:off x="4253040" y="2394000"/>
            <a:ext cx="403200" cy="682560"/>
            <a:chOff x="4253040" y="2394000"/>
            <a:chExt cx="403200" cy="682560"/>
          </a:xfrm>
        </p:grpSpPr>
        <p:sp>
          <p:nvSpPr>
            <p:cNvPr id="686" name="AutoShape 70"/>
            <p:cNvSpPr/>
            <p:nvPr/>
          </p:nvSpPr>
          <p:spPr>
            <a:xfrm>
              <a:off x="4572360" y="2395080"/>
              <a:ext cx="79920" cy="65124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44" y="0"/>
                  </a:moveTo>
                  <a:lnTo>
                    <a:pt x="21600" y="2670"/>
                  </a:lnTo>
                  <a:lnTo>
                    <a:pt x="21111" y="20670"/>
                  </a:lnTo>
                  <a:lnTo>
                    <a:pt x="0" y="21599"/>
                  </a:lnTo>
                  <a:lnTo>
                    <a:pt x="3844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AutoShape 71"/>
            <p:cNvSpPr/>
            <p:nvPr/>
          </p:nvSpPr>
          <p:spPr>
            <a:xfrm>
              <a:off x="4272120" y="2394000"/>
              <a:ext cx="296640" cy="6508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AutoShape 72"/>
            <p:cNvSpPr/>
            <p:nvPr/>
          </p:nvSpPr>
          <p:spPr>
            <a:xfrm>
              <a:off x="4588920" y="2433960"/>
              <a:ext cx="46080" cy="5943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94360"/>
                <a:gd name="textAreaBottom" fmla="*/ 594720 h 594360"/>
              </a:gdLst>
              <a:ahLst/>
              <a:rect l="textAreaLeft" t="textAreaTop" r="textAreaRight" b="textAreaBottom"/>
              <a:pathLst>
                <a:path w="20883" h="21300">
                  <a:moveTo>
                    <a:pt x="-1" y="0"/>
                  </a:moveTo>
                  <a:cubicBezTo>
                    <a:pt x="-1" y="0"/>
                    <a:pt x="5118" y="238"/>
                    <a:pt x="20882" y="1856"/>
                  </a:cubicBezTo>
                  <a:cubicBezTo>
                    <a:pt x="-717" y="10463"/>
                    <a:pt x="3480" y="21599"/>
                    <a:pt x="-1" y="21293"/>
                  </a:cubicBez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AutoShape 73"/>
            <p:cNvSpPr/>
            <p:nvPr/>
          </p:nvSpPr>
          <p:spPr>
            <a:xfrm>
              <a:off x="4576680" y="2738880"/>
              <a:ext cx="74160" cy="5364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63" y="0"/>
                  </a:moveTo>
                  <a:cubicBezTo>
                    <a:pt x="3951" y="955"/>
                    <a:pt x="11985" y="7072"/>
                    <a:pt x="21599" y="12233"/>
                  </a:cubicBezTo>
                  <a:cubicBezTo>
                    <a:pt x="21468" y="15483"/>
                    <a:pt x="21468" y="15100"/>
                    <a:pt x="21468" y="21599"/>
                  </a:cubicBezTo>
                  <a:cubicBezTo>
                    <a:pt x="21468" y="21599"/>
                    <a:pt x="11129" y="14814"/>
                    <a:pt x="0" y="9557"/>
                  </a:cubicBezTo>
                  <a:cubicBezTo>
                    <a:pt x="0" y="4587"/>
                    <a:pt x="263" y="1624"/>
                    <a:pt x="26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AutoShape 74"/>
            <p:cNvSpPr/>
            <p:nvPr/>
          </p:nvSpPr>
          <p:spPr>
            <a:xfrm>
              <a:off x="4273560" y="2468520"/>
              <a:ext cx="168840" cy="1404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Group 75"/>
            <p:cNvGrpSpPr/>
            <p:nvPr/>
          </p:nvGrpSpPr>
          <p:grpSpPr>
            <a:xfrm>
              <a:off x="4425120" y="2462400"/>
              <a:ext cx="164160" cy="41040"/>
              <a:chOff x="4425120" y="2462400"/>
              <a:chExt cx="164160" cy="41040"/>
            </a:xfrm>
          </p:grpSpPr>
          <p:sp>
            <p:nvSpPr>
              <p:cNvPr id="692" name="AutoShape 76"/>
              <p:cNvSpPr/>
              <p:nvPr/>
            </p:nvSpPr>
            <p:spPr>
              <a:xfrm>
                <a:off x="4425120" y="2462400"/>
                <a:ext cx="164160" cy="41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AutoShape 77"/>
              <p:cNvSpPr/>
              <p:nvPr/>
            </p:nvSpPr>
            <p:spPr>
              <a:xfrm>
                <a:off x="4428000" y="2467080"/>
                <a:ext cx="1562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" name="AutoShape 78"/>
            <p:cNvSpPr/>
            <p:nvPr/>
          </p:nvSpPr>
          <p:spPr>
            <a:xfrm>
              <a:off x="4276800" y="2562480"/>
              <a:ext cx="168840" cy="1260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5" name="Group 79"/>
            <p:cNvGrpSpPr/>
            <p:nvPr/>
          </p:nvGrpSpPr>
          <p:grpSpPr>
            <a:xfrm>
              <a:off x="4425120" y="2554560"/>
              <a:ext cx="164160" cy="38160"/>
              <a:chOff x="4425120" y="2554560"/>
              <a:chExt cx="164160" cy="38160"/>
            </a:xfrm>
          </p:grpSpPr>
          <p:sp>
            <p:nvSpPr>
              <p:cNvPr id="696" name="AutoShape 80"/>
              <p:cNvSpPr/>
              <p:nvPr/>
            </p:nvSpPr>
            <p:spPr>
              <a:xfrm>
                <a:off x="4425120" y="2554560"/>
                <a:ext cx="16416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AutoShape 81"/>
              <p:cNvSpPr/>
              <p:nvPr/>
            </p:nvSpPr>
            <p:spPr>
              <a:xfrm>
                <a:off x="4428000" y="2559240"/>
                <a:ext cx="15624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8" name="AutoShape 82"/>
            <p:cNvSpPr/>
            <p:nvPr/>
          </p:nvSpPr>
          <p:spPr>
            <a:xfrm>
              <a:off x="4275360" y="2657880"/>
              <a:ext cx="167040" cy="14040"/>
            </a:xfrm>
            <a:custGeom>
              <a:avLst/>
              <a:gdLst>
                <a:gd name="textAreaLeft" fmla="*/ 0 w 167040"/>
                <a:gd name="textAreaRight" fmla="*/ 167400 w 167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AutoShape 83"/>
            <p:cNvSpPr/>
            <p:nvPr/>
          </p:nvSpPr>
          <p:spPr>
            <a:xfrm>
              <a:off x="4278240" y="2744280"/>
              <a:ext cx="167040" cy="12600"/>
            </a:xfrm>
            <a:custGeom>
              <a:avLst/>
              <a:gdLst>
                <a:gd name="textAreaLeft" fmla="*/ 0 w 167040"/>
                <a:gd name="textAreaRight" fmla="*/ 167400 w 167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0" name="Group 84"/>
            <p:cNvGrpSpPr/>
            <p:nvPr/>
          </p:nvGrpSpPr>
          <p:grpSpPr>
            <a:xfrm>
              <a:off x="4421880" y="2736360"/>
              <a:ext cx="164160" cy="42840"/>
              <a:chOff x="4421880" y="2736360"/>
              <a:chExt cx="164160" cy="42840"/>
            </a:xfrm>
          </p:grpSpPr>
          <p:sp>
            <p:nvSpPr>
              <p:cNvPr id="701" name="AutoShape 85"/>
              <p:cNvSpPr/>
              <p:nvPr/>
            </p:nvSpPr>
            <p:spPr>
              <a:xfrm>
                <a:off x="4421880" y="2736360"/>
                <a:ext cx="16416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AutoShape 86"/>
              <p:cNvSpPr/>
              <p:nvPr/>
            </p:nvSpPr>
            <p:spPr>
              <a:xfrm>
                <a:off x="4424760" y="2740680"/>
                <a:ext cx="1562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3" name="AutoShape 87"/>
            <p:cNvSpPr/>
            <p:nvPr/>
          </p:nvSpPr>
          <p:spPr>
            <a:xfrm>
              <a:off x="4578120" y="2657520"/>
              <a:ext cx="74160" cy="5328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63" y="0"/>
                  </a:moveTo>
                  <a:cubicBezTo>
                    <a:pt x="3951" y="955"/>
                    <a:pt x="11985" y="7072"/>
                    <a:pt x="21599" y="12233"/>
                  </a:cubicBezTo>
                  <a:cubicBezTo>
                    <a:pt x="21468" y="15483"/>
                    <a:pt x="21468" y="15100"/>
                    <a:pt x="21468" y="21599"/>
                  </a:cubicBezTo>
                  <a:cubicBezTo>
                    <a:pt x="21468" y="21599"/>
                    <a:pt x="11129" y="14814"/>
                    <a:pt x="0" y="9557"/>
                  </a:cubicBezTo>
                  <a:cubicBezTo>
                    <a:pt x="0" y="4587"/>
                    <a:pt x="263" y="1624"/>
                    <a:pt x="26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4" name="Group 88"/>
            <p:cNvGrpSpPr/>
            <p:nvPr/>
          </p:nvGrpSpPr>
          <p:grpSpPr>
            <a:xfrm>
              <a:off x="4421880" y="2649960"/>
              <a:ext cx="165600" cy="39600"/>
              <a:chOff x="4421880" y="2649960"/>
              <a:chExt cx="165600" cy="39600"/>
            </a:xfrm>
          </p:grpSpPr>
          <p:sp>
            <p:nvSpPr>
              <p:cNvPr id="705" name="AutoShape 89"/>
              <p:cNvSpPr/>
              <p:nvPr/>
            </p:nvSpPr>
            <p:spPr>
              <a:xfrm>
                <a:off x="4421880" y="2649960"/>
                <a:ext cx="165600" cy="396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AutoShape 90"/>
              <p:cNvSpPr/>
              <p:nvPr/>
            </p:nvSpPr>
            <p:spPr>
              <a:xfrm>
                <a:off x="4424760" y="2654640"/>
                <a:ext cx="15768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7" name="AutoShape 91"/>
            <p:cNvSpPr/>
            <p:nvPr/>
          </p:nvSpPr>
          <p:spPr>
            <a:xfrm>
              <a:off x="4567320" y="2394000"/>
              <a:ext cx="19080" cy="6526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AutoShape 92"/>
            <p:cNvSpPr/>
            <p:nvPr/>
          </p:nvSpPr>
          <p:spPr>
            <a:xfrm>
              <a:off x="4584600" y="2558520"/>
              <a:ext cx="66960" cy="604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91" y="0"/>
                  </a:moveTo>
                  <a:cubicBezTo>
                    <a:pt x="4013" y="843"/>
                    <a:pt x="10508" y="5737"/>
                    <a:pt x="21308" y="12150"/>
                  </a:cubicBezTo>
                  <a:cubicBezTo>
                    <a:pt x="21162" y="15018"/>
                    <a:pt x="21600" y="15862"/>
                    <a:pt x="21600" y="21600"/>
                  </a:cubicBezTo>
                  <a:cubicBezTo>
                    <a:pt x="21600" y="21600"/>
                    <a:pt x="11675" y="14849"/>
                    <a:pt x="0" y="8437"/>
                  </a:cubicBezTo>
                  <a:cubicBezTo>
                    <a:pt x="0" y="4049"/>
                    <a:pt x="291" y="1434"/>
                    <a:pt x="29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AutoShape 93"/>
            <p:cNvSpPr/>
            <p:nvPr/>
          </p:nvSpPr>
          <p:spPr>
            <a:xfrm>
              <a:off x="4585680" y="2465280"/>
              <a:ext cx="68760" cy="6840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3623" y="750"/>
                    <a:pt x="10515" y="5700"/>
                    <a:pt x="21599" y="12300"/>
                  </a:cubicBezTo>
                  <a:cubicBezTo>
                    <a:pt x="21457" y="14849"/>
                    <a:pt x="20178" y="16500"/>
                    <a:pt x="20178" y="21599"/>
                  </a:cubicBezTo>
                  <a:cubicBezTo>
                    <a:pt x="20178" y="21599"/>
                    <a:pt x="11581" y="13425"/>
                    <a:pt x="568" y="9299"/>
                  </a:cubicBezTo>
                  <a:cubicBezTo>
                    <a:pt x="568" y="5400"/>
                    <a:pt x="0" y="1275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AutoShape 94"/>
            <p:cNvSpPr/>
            <p:nvPr/>
          </p:nvSpPr>
          <p:spPr>
            <a:xfrm>
              <a:off x="4641840" y="3016440"/>
              <a:ext cx="14400" cy="270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AutoShape 95"/>
            <p:cNvSpPr/>
            <p:nvPr/>
          </p:nvSpPr>
          <p:spPr>
            <a:xfrm>
              <a:off x="4582080" y="3016440"/>
              <a:ext cx="69120" cy="5688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9540"/>
                  </a:moveTo>
                  <a:lnTo>
                    <a:pt x="141" y="21600"/>
                  </a:lnTo>
                  <a:lnTo>
                    <a:pt x="21599" y="9900"/>
                  </a:lnTo>
                  <a:lnTo>
                    <a:pt x="21176" y="0"/>
                  </a:lnTo>
                  <a:lnTo>
                    <a:pt x="0" y="954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AutoShape 96"/>
            <p:cNvSpPr/>
            <p:nvPr/>
          </p:nvSpPr>
          <p:spPr>
            <a:xfrm>
              <a:off x="4253040" y="3035520"/>
              <a:ext cx="339840" cy="410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AutoShape 97"/>
            <p:cNvSpPr/>
            <p:nvPr/>
          </p:nvSpPr>
          <p:spPr>
            <a:xfrm>
              <a:off x="4272120" y="3044880"/>
              <a:ext cx="302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AutoShape 98"/>
            <p:cNvSpPr/>
            <p:nvPr/>
          </p:nvSpPr>
          <p:spPr>
            <a:xfrm>
              <a:off x="4300560" y="2950920"/>
              <a:ext cx="44640" cy="396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AutoShape 99"/>
            <p:cNvSpPr/>
            <p:nvPr/>
          </p:nvSpPr>
          <p:spPr>
            <a:xfrm>
              <a:off x="4350240" y="2950920"/>
              <a:ext cx="46080" cy="410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AutoShape 100"/>
            <p:cNvSpPr/>
            <p:nvPr/>
          </p:nvSpPr>
          <p:spPr>
            <a:xfrm>
              <a:off x="4401360" y="2950920"/>
              <a:ext cx="44640" cy="396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AutoShape 101"/>
            <p:cNvSpPr/>
            <p:nvPr/>
          </p:nvSpPr>
          <p:spPr>
            <a:xfrm>
              <a:off x="4514400" y="2794680"/>
              <a:ext cx="23760" cy="2163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16360"/>
                <a:gd name="textAreaBottom" fmla="*/ 216720 h 21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9292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Group 102"/>
          <p:cNvGrpSpPr/>
          <p:nvPr/>
        </p:nvGrpSpPr>
        <p:grpSpPr>
          <a:xfrm>
            <a:off x="5867280" y="3139920"/>
            <a:ext cx="1101960" cy="571320"/>
            <a:chOff x="5867280" y="3139920"/>
            <a:chExt cx="1101960" cy="571320"/>
          </a:xfrm>
        </p:grpSpPr>
        <p:grpSp>
          <p:nvGrpSpPr>
            <p:cNvPr id="719" name="Group 103"/>
            <p:cNvGrpSpPr/>
            <p:nvPr/>
          </p:nvGrpSpPr>
          <p:grpSpPr>
            <a:xfrm>
              <a:off x="6175800" y="3139920"/>
              <a:ext cx="793440" cy="571320"/>
              <a:chOff x="6175800" y="3139920"/>
              <a:chExt cx="793440" cy="571320"/>
            </a:xfrm>
          </p:grpSpPr>
          <p:pic>
            <p:nvPicPr>
              <p:cNvPr id="720" name="Picture 104" descr="laptop_keyboard"/>
              <p:cNvPicPr/>
              <p:nvPr/>
            </p:nvPicPr>
            <p:blipFill>
              <a:blip r:embed="rId8"/>
              <a:stretch/>
            </p:blipFill>
            <p:spPr>
              <a:xfrm flipH="1" rot="109800">
                <a:off x="6180120" y="3421080"/>
                <a:ext cx="677160" cy="27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1" name="AutoShape 105"/>
              <p:cNvSpPr/>
              <p:nvPr/>
            </p:nvSpPr>
            <p:spPr>
              <a:xfrm>
                <a:off x="6405120" y="3152160"/>
                <a:ext cx="544680" cy="36360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911" y="0"/>
                    </a:moveTo>
                    <a:lnTo>
                      <a:pt x="0" y="15337"/>
                    </a:lnTo>
                    <a:lnTo>
                      <a:pt x="17340" y="21599"/>
                    </a:lnTo>
                    <a:lnTo>
                      <a:pt x="21599" y="2812"/>
                    </a:lnTo>
                    <a:lnTo>
                      <a:pt x="39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22" name="Picture 106" descr="screen"/>
              <p:cNvPicPr/>
              <p:nvPr/>
            </p:nvPicPr>
            <p:blipFill>
              <a:blip r:embed="rId9"/>
              <a:stretch/>
            </p:blipFill>
            <p:spPr>
              <a:xfrm>
                <a:off x="6432120" y="3160440"/>
                <a:ext cx="494640" cy="33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3" name="AutoShape 107"/>
              <p:cNvSpPr/>
              <p:nvPr/>
            </p:nvSpPr>
            <p:spPr>
              <a:xfrm>
                <a:off x="6504120" y="3141000"/>
                <a:ext cx="461160" cy="67320"/>
              </a:xfrm>
              <a:custGeom>
                <a:avLst/>
                <a:gdLst>
                  <a:gd name="textAreaLeft" fmla="*/ 0 w 461160"/>
                  <a:gd name="textAreaRight" fmla="*/ 461520 w 46116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19" y="0"/>
                    </a:moveTo>
                    <a:lnTo>
                      <a:pt x="21600" y="16188"/>
                    </a:lnTo>
                    <a:lnTo>
                      <a:pt x="21189" y="21600"/>
                    </a:lnTo>
                    <a:lnTo>
                      <a:pt x="0" y="4082"/>
                    </a:lnTo>
                    <a:lnTo>
                      <a:pt x="1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AutoShape 108"/>
              <p:cNvSpPr/>
              <p:nvPr/>
            </p:nvSpPr>
            <p:spPr>
              <a:xfrm>
                <a:off x="6400080" y="3139920"/>
                <a:ext cx="128520" cy="2815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815" y="0"/>
                    </a:moveTo>
                    <a:lnTo>
                      <a:pt x="0" y="21326"/>
                    </a:lnTo>
                    <a:lnTo>
                      <a:pt x="3507" y="21599"/>
                    </a:lnTo>
                    <a:lnTo>
                      <a:pt x="21599" y="581"/>
                    </a:lnTo>
                    <a:lnTo>
                      <a:pt x="17815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AutoShape 109"/>
              <p:cNvSpPr/>
              <p:nvPr/>
            </p:nvSpPr>
            <p:spPr>
              <a:xfrm>
                <a:off x="6824160" y="3191040"/>
                <a:ext cx="138600" cy="324360"/>
              </a:xfrm>
              <a:custGeom>
                <a:avLst/>
                <a:gdLst>
                  <a:gd name="textAreaLeft" fmla="*/ 0 w 138600"/>
                  <a:gd name="textAreaRight" fmla="*/ 138960 w 138600"/>
                  <a:gd name="textAreaTop" fmla="*/ 0 h 324360"/>
                  <a:gd name="textAreaBottom" fmla="*/ 324720 h 324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lnTo>
                      <a:pt x="3942" y="21599"/>
                    </a:lnTo>
                    <a:lnTo>
                      <a:pt x="0" y="21243"/>
                    </a:lnTo>
                    <a:lnTo>
                      <a:pt x="17314" y="771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AutoShape 110"/>
              <p:cNvSpPr/>
              <p:nvPr/>
            </p:nvSpPr>
            <p:spPr>
              <a:xfrm>
                <a:off x="6398640" y="3407760"/>
                <a:ext cx="471960" cy="108720"/>
              </a:xfrm>
              <a:custGeom>
                <a:avLst/>
                <a:gdLst>
                  <a:gd name="textAreaLeft" fmla="*/ 0 w 471960"/>
                  <a:gd name="textAreaRight" fmla="*/ 472320 w 471960"/>
                  <a:gd name="textAreaTop" fmla="*/ 0 h 108720"/>
                  <a:gd name="textAreaBottom" fmla="*/ 109080 h 108720"/>
                </a:gdLst>
                <a:ahLst/>
                <a:rect l="textAreaLeft" t="textAreaTop" r="textAreaRight" b="textAreaBottom"/>
                <a:pathLst>
                  <a:path w="20144" h="21600">
                    <a:moveTo>
                      <a:pt x="257" y="0"/>
                    </a:moveTo>
                    <a:lnTo>
                      <a:pt x="0" y="2897"/>
                    </a:lnTo>
                    <a:lnTo>
                      <a:pt x="18974" y="21600"/>
                    </a:lnTo>
                    <a:cubicBezTo>
                      <a:pt x="19465" y="14663"/>
                      <a:pt x="21600" y="21278"/>
                      <a:pt x="18484" y="17648"/>
                    </a:cubicBezTo>
                    <a:lnTo>
                      <a:pt x="25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AutoShape 111"/>
              <p:cNvSpPr/>
              <p:nvPr/>
            </p:nvSpPr>
            <p:spPr>
              <a:xfrm>
                <a:off x="6839640" y="3193560"/>
                <a:ext cx="129600" cy="325440"/>
              </a:xfrm>
              <a:custGeom>
                <a:avLst/>
                <a:gdLst>
                  <a:gd name="textAreaLeft" fmla="*/ 0 w 129600"/>
                  <a:gd name="textAreaRight" fmla="*/ 129960 w 129600"/>
                  <a:gd name="textAreaTop" fmla="*/ 0 h 325440"/>
                  <a:gd name="textAreaBottom" fmla="*/ 325800 h 325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0854" y="0"/>
                    </a:moveTo>
                    <a:lnTo>
                      <a:pt x="21599" y="0"/>
                    </a:lnTo>
                    <a:lnTo>
                      <a:pt x="2305" y="21599"/>
                    </a:lnTo>
                    <a:lnTo>
                      <a:pt x="0" y="21443"/>
                    </a:lnTo>
                    <a:lnTo>
                      <a:pt x="20854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AutoShape 112"/>
              <p:cNvSpPr/>
              <p:nvPr/>
            </p:nvSpPr>
            <p:spPr>
              <a:xfrm>
                <a:off x="6398640" y="3422520"/>
                <a:ext cx="451080" cy="107640"/>
              </a:xfrm>
              <a:custGeom>
                <a:avLst/>
                <a:gdLst>
                  <a:gd name="textAreaLeft" fmla="*/ 0 w 451080"/>
                  <a:gd name="textAreaRight" fmla="*/ 451440 w 4510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87" y="2238"/>
                    </a:lnTo>
                    <a:lnTo>
                      <a:pt x="21093" y="21600"/>
                    </a:lnTo>
                    <a:lnTo>
                      <a:pt x="21600" y="19479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9" name="Group 113"/>
              <p:cNvGrpSpPr/>
              <p:nvPr/>
            </p:nvGrpSpPr>
            <p:grpSpPr>
              <a:xfrm>
                <a:off x="6391080" y="3537720"/>
                <a:ext cx="152640" cy="64800"/>
                <a:chOff x="6391080" y="3537720"/>
                <a:chExt cx="152640" cy="64800"/>
              </a:xfrm>
            </p:grpSpPr>
            <p:sp>
              <p:nvSpPr>
                <p:cNvPr id="730" name="AutoShape 114"/>
                <p:cNvSpPr/>
                <p:nvPr/>
              </p:nvSpPr>
              <p:spPr>
                <a:xfrm>
                  <a:off x="6391080" y="3537720"/>
                  <a:ext cx="152640" cy="64800"/>
                </a:xfrm>
                <a:custGeom>
                  <a:avLst/>
                  <a:gdLst>
                    <a:gd name="textAreaLeft" fmla="*/ 0 w 152640"/>
                    <a:gd name="textAreaRight" fmla="*/ 153000 w 152640"/>
                    <a:gd name="textAreaTop" fmla="*/ 0 h 64800"/>
                    <a:gd name="textAreaBottom" fmla="*/ 65160 h 64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15" y="0"/>
                      </a:moveTo>
                      <a:lnTo>
                        <a:pt x="21599" y="8190"/>
                      </a:lnTo>
                      <a:lnTo>
                        <a:pt x="13499" y="21599"/>
                      </a:lnTo>
                      <a:lnTo>
                        <a:pt x="0" y="12088"/>
                      </a:lnTo>
                      <a:lnTo>
                        <a:pt x="8415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AutoShape 115"/>
                <p:cNvSpPr/>
                <p:nvPr/>
              </p:nvSpPr>
              <p:spPr>
                <a:xfrm>
                  <a:off x="6393600" y="3538800"/>
                  <a:ext cx="147600" cy="61920"/>
                </a:xfrm>
                <a:custGeom>
                  <a:avLst/>
                  <a:gdLst>
                    <a:gd name="textAreaLeft" fmla="*/ 0 w 147600"/>
                    <a:gd name="textAreaRight" fmla="*/ 147960 w 14760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390" y="0"/>
                      </a:moveTo>
                      <a:lnTo>
                        <a:pt x="21600" y="8264"/>
                      </a:lnTo>
                      <a:lnTo>
                        <a:pt x="13596" y="21599"/>
                      </a:lnTo>
                      <a:lnTo>
                        <a:pt x="0" y="12015"/>
                      </a:lnTo>
                      <a:lnTo>
                        <a:pt x="839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AutoShape 116"/>
                <p:cNvSpPr/>
                <p:nvPr/>
              </p:nvSpPr>
              <p:spPr>
                <a:xfrm>
                  <a:off x="6404760" y="3562920"/>
                  <a:ext cx="52200" cy="19800"/>
                </a:xfrm>
                <a:custGeom>
                  <a:avLst/>
                  <a:gdLst>
                    <a:gd name="textAreaLeft" fmla="*/ 0 w 52200"/>
                    <a:gd name="textAreaRight" fmla="*/ 52560 w 52200"/>
                    <a:gd name="textAreaTop" fmla="*/ 0 h 19800"/>
                    <a:gd name="textAreaBottom" fmla="*/ 2016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9504"/>
                      </a:moveTo>
                      <a:lnTo>
                        <a:pt x="6279" y="0"/>
                      </a:lnTo>
                      <a:lnTo>
                        <a:pt x="21600" y="10800"/>
                      </a:lnTo>
                      <a:lnTo>
                        <a:pt x="15320" y="21599"/>
                      </a:lnTo>
                      <a:lnTo>
                        <a:pt x="0" y="950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AutoShape 117"/>
                <p:cNvSpPr/>
                <p:nvPr/>
              </p:nvSpPr>
              <p:spPr>
                <a:xfrm>
                  <a:off x="6402960" y="3572280"/>
                  <a:ext cx="39240" cy="1224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336" y="0"/>
                      </a:moveTo>
                      <a:lnTo>
                        <a:pt x="21599" y="18171"/>
                      </a:lnTo>
                      <a:lnTo>
                        <a:pt x="20041" y="21600"/>
                      </a:lnTo>
                      <a:lnTo>
                        <a:pt x="0" y="3085"/>
                      </a:lnTo>
                      <a:lnTo>
                        <a:pt x="1336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AutoShape 118"/>
                <p:cNvSpPr/>
                <p:nvPr/>
              </p:nvSpPr>
              <p:spPr>
                <a:xfrm>
                  <a:off x="6447960" y="3575880"/>
                  <a:ext cx="52200" cy="20160"/>
                </a:xfrm>
                <a:custGeom>
                  <a:avLst/>
                  <a:gdLst>
                    <a:gd name="textAreaLeft" fmla="*/ 0 w 52200"/>
                    <a:gd name="textAreaRight" fmla="*/ 52560 w 52200"/>
                    <a:gd name="textAreaTop" fmla="*/ 0 h 20160"/>
                    <a:gd name="textAreaBottom" fmla="*/ 20520 h 20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9741"/>
                      </a:moveTo>
                      <a:lnTo>
                        <a:pt x="5944" y="0"/>
                      </a:lnTo>
                      <a:lnTo>
                        <a:pt x="21600" y="11011"/>
                      </a:lnTo>
                      <a:lnTo>
                        <a:pt x="15320" y="21600"/>
                      </a:lnTo>
                      <a:lnTo>
                        <a:pt x="0" y="9741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AutoShape 119"/>
                <p:cNvSpPr/>
                <p:nvPr/>
              </p:nvSpPr>
              <p:spPr>
                <a:xfrm>
                  <a:off x="6446160" y="3585240"/>
                  <a:ext cx="39240" cy="1224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336" y="0"/>
                      </a:moveTo>
                      <a:lnTo>
                        <a:pt x="21599" y="18171"/>
                      </a:lnTo>
                      <a:lnTo>
                        <a:pt x="20041" y="21600"/>
                      </a:lnTo>
                      <a:lnTo>
                        <a:pt x="0" y="3085"/>
                      </a:lnTo>
                      <a:lnTo>
                        <a:pt x="1336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6" name="AutoShape 120"/>
              <p:cNvSpPr/>
              <p:nvPr/>
            </p:nvSpPr>
            <p:spPr>
              <a:xfrm>
                <a:off x="6653160" y="3547440"/>
                <a:ext cx="185040" cy="141840"/>
              </a:xfrm>
              <a:custGeom>
                <a:avLst/>
                <a:gdLst>
                  <a:gd name="textAreaLeft" fmla="*/ 0 w 185040"/>
                  <a:gd name="textAreaRight" fmla="*/ 185400 w 185040"/>
                  <a:gd name="textAreaTop" fmla="*/ 0 h 141840"/>
                  <a:gd name="textAreaBottom" fmla="*/ 141840 h 14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5" y="20127"/>
                    </a:moveTo>
                    <a:lnTo>
                      <a:pt x="21600" y="0"/>
                    </a:lnTo>
                    <a:lnTo>
                      <a:pt x="21534" y="1636"/>
                    </a:lnTo>
                    <a:lnTo>
                      <a:pt x="0" y="21599"/>
                    </a:lnTo>
                    <a:lnTo>
                      <a:pt x="65" y="20127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AutoShape 121"/>
              <p:cNvSpPr/>
              <p:nvPr/>
            </p:nvSpPr>
            <p:spPr>
              <a:xfrm>
                <a:off x="6180480" y="3558600"/>
                <a:ext cx="474120" cy="129600"/>
              </a:xfrm>
              <a:custGeom>
                <a:avLst/>
                <a:gdLst>
                  <a:gd name="textAreaLeft" fmla="*/ 0 w 474120"/>
                  <a:gd name="textAreaRight" fmla="*/ 474480 w 47412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1" y="0"/>
                    </a:moveTo>
                    <a:cubicBezTo>
                      <a:pt x="136" y="0"/>
                      <a:pt x="221" y="0"/>
                      <a:pt x="307" y="0"/>
                    </a:cubicBezTo>
                    <a:lnTo>
                      <a:pt x="21600" y="20255"/>
                    </a:lnTo>
                    <a:lnTo>
                      <a:pt x="21574" y="21599"/>
                    </a:lnTo>
                    <a:lnTo>
                      <a:pt x="0" y="717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AutoShape 122"/>
              <p:cNvSpPr/>
              <p:nvPr/>
            </p:nvSpPr>
            <p:spPr>
              <a:xfrm>
                <a:off x="6180480" y="3535200"/>
                <a:ext cx="5040" cy="2556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1469"/>
                    </a:moveTo>
                    <a:lnTo>
                      <a:pt x="19107" y="21600"/>
                    </a:lnTo>
                    <a:lnTo>
                      <a:pt x="0" y="21159"/>
                    </a:lnTo>
                    <a:lnTo>
                      <a:pt x="2492" y="0"/>
                    </a:lnTo>
                    <a:lnTo>
                      <a:pt x="21600" y="1469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AutoShape 123"/>
              <p:cNvSpPr/>
              <p:nvPr/>
            </p:nvSpPr>
            <p:spPr>
              <a:xfrm>
                <a:off x="6181560" y="3428640"/>
                <a:ext cx="219600" cy="107640"/>
              </a:xfrm>
              <a:custGeom>
                <a:avLst/>
                <a:gdLst>
                  <a:gd name="textAreaLeft" fmla="*/ 0 w 219600"/>
                  <a:gd name="textAreaRight" fmla="*/ 219960 w 2196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489" y="0"/>
                    </a:moveTo>
                    <a:lnTo>
                      <a:pt x="0" y="21279"/>
                    </a:lnTo>
                    <a:lnTo>
                      <a:pt x="551" y="21600"/>
                    </a:lnTo>
                    <a:lnTo>
                      <a:pt x="21599" y="641"/>
                    </a:lnTo>
                    <a:lnTo>
                      <a:pt x="2148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AutoShape 124"/>
              <p:cNvSpPr/>
              <p:nvPr/>
            </p:nvSpPr>
            <p:spPr>
              <a:xfrm>
                <a:off x="6195600" y="3540240"/>
                <a:ext cx="449640" cy="124560"/>
              </a:xfrm>
              <a:custGeom>
                <a:avLst/>
                <a:gdLst>
                  <a:gd name="textAreaLeft" fmla="*/ 0 w 449640"/>
                  <a:gd name="textAreaRight" fmla="*/ 450000 w 449640"/>
                  <a:gd name="textAreaTop" fmla="*/ 0 h 124560"/>
                  <a:gd name="textAreaBottom" fmla="*/ 124920 h 12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1" y="0"/>
                    </a:moveTo>
                    <a:cubicBezTo>
                      <a:pt x="136" y="0"/>
                      <a:pt x="221" y="0"/>
                      <a:pt x="307" y="0"/>
                    </a:cubicBezTo>
                    <a:lnTo>
                      <a:pt x="21599" y="20255"/>
                    </a:lnTo>
                    <a:lnTo>
                      <a:pt x="21574" y="21599"/>
                    </a:lnTo>
                    <a:lnTo>
                      <a:pt x="0" y="717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AutoShape 125"/>
              <p:cNvSpPr/>
              <p:nvPr/>
            </p:nvSpPr>
            <p:spPr>
              <a:xfrm flipH="1" rot="10800000">
                <a:off x="6645600" y="3531240"/>
                <a:ext cx="182160" cy="128520"/>
              </a:xfrm>
              <a:custGeom>
                <a:avLst/>
                <a:gdLst>
                  <a:gd name="textAreaLeft" fmla="*/ 0 w 182160"/>
                  <a:gd name="textAreaRight" fmla="*/ 182160 w 18216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1" y="0"/>
                    </a:moveTo>
                    <a:cubicBezTo>
                      <a:pt x="136" y="0"/>
                      <a:pt x="221" y="0"/>
                      <a:pt x="307" y="0"/>
                    </a:cubicBezTo>
                    <a:lnTo>
                      <a:pt x="21600" y="20255"/>
                    </a:lnTo>
                    <a:lnTo>
                      <a:pt x="21574" y="21600"/>
                    </a:lnTo>
                    <a:lnTo>
                      <a:pt x="0" y="717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Line 126"/>
            <p:cNvSpPr/>
            <p:nvPr/>
          </p:nvSpPr>
          <p:spPr>
            <a:xfrm flipH="1">
              <a:off x="5867280" y="3464280"/>
              <a:ext cx="434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AutoShape 127"/>
          <p:cNvSpPr/>
          <p:nvPr/>
        </p:nvSpPr>
        <p:spPr>
          <a:xfrm>
            <a:off x="6135840" y="3699000"/>
            <a:ext cx="976320" cy="374400"/>
          </a:xfrm>
          <a:prstGeom prst="leftArrow">
            <a:avLst>
              <a:gd name="adj1" fmla="val 50000"/>
              <a:gd name="adj2" fmla="val 65192"/>
            </a:avLst>
          </a:prstGeom>
          <a:gradFill rotWithShape="0">
            <a:gsLst>
              <a:gs pos="0">
                <a:srgbClr val="cc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128"/>
          <p:cNvSpPr/>
          <p:nvPr/>
        </p:nvSpPr>
        <p:spPr>
          <a:xfrm flipH="1">
            <a:off x="4647960" y="2952720"/>
            <a:ext cx="31428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Picture 129" descr="underline_base"/>
          <p:cNvPicPr/>
          <p:nvPr/>
        </p:nvPicPr>
        <p:blipFill>
          <a:blip r:embed="rId10"/>
          <a:stretch/>
        </p:blipFill>
        <p:spPr>
          <a:xfrm>
            <a:off x="895320" y="93204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746" name="Slide Number Placeholder 131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7192-F04E-458A-8736-C7F7943695F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AutoShape 2"/>
          <p:cNvSpPr/>
          <p:nvPr/>
        </p:nvSpPr>
        <p:spPr>
          <a:xfrm>
            <a:off x="5913360" y="6467400"/>
            <a:ext cx="28940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AutoShape 3"/>
          <p:cNvSpPr/>
          <p:nvPr/>
        </p:nvSpPr>
        <p:spPr>
          <a:xfrm>
            <a:off x="8705880" y="6462720"/>
            <a:ext cx="6746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-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AutoShape 4"/>
          <p:cNvSpPr/>
          <p:nvPr/>
        </p:nvSpPr>
        <p:spPr>
          <a:xfrm>
            <a:off x="1398600" y="1270080"/>
            <a:ext cx="2066760" cy="331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Gill Sans MT"/>
              </a:rPr>
              <a:t>DHCP server: 223.1.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AutoShape 5"/>
          <p:cNvSpPr/>
          <p:nvPr/>
        </p:nvSpPr>
        <p:spPr>
          <a:xfrm>
            <a:off x="6456240" y="1311120"/>
            <a:ext cx="771480" cy="536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Gill Sans MT"/>
              </a:rPr>
              <a:t>arri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Gill Sans MT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Line 6"/>
          <p:cNvSpPr/>
          <p:nvPr/>
        </p:nvSpPr>
        <p:spPr>
          <a:xfrm flipH="1">
            <a:off x="2239560" y="2206800"/>
            <a:ext cx="4397400" cy="53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Line 7"/>
          <p:cNvSpPr/>
          <p:nvPr/>
        </p:nvSpPr>
        <p:spPr>
          <a:xfrm flipH="1">
            <a:off x="2196720" y="2163600"/>
            <a:ext cx="9720" cy="4026240"/>
          </a:xfrm>
          <a:prstGeom prst="line">
            <a:avLst/>
          </a:prstGeom>
          <a:ln w="3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Line 8"/>
          <p:cNvSpPr/>
          <p:nvPr/>
        </p:nvSpPr>
        <p:spPr>
          <a:xfrm flipH="1">
            <a:off x="6722640" y="2238480"/>
            <a:ext cx="9720" cy="4141800"/>
          </a:xfrm>
          <a:prstGeom prst="line">
            <a:avLst/>
          </a:prstGeom>
          <a:ln w="3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Group 9"/>
          <p:cNvGrpSpPr/>
          <p:nvPr/>
        </p:nvGrpSpPr>
        <p:grpSpPr>
          <a:xfrm>
            <a:off x="3770280" y="1343160"/>
            <a:ext cx="2671920" cy="1114200"/>
            <a:chOff x="3770280" y="1343160"/>
            <a:chExt cx="2671920" cy="1114200"/>
          </a:xfrm>
        </p:grpSpPr>
        <p:grpSp>
          <p:nvGrpSpPr>
            <p:cNvPr id="756" name="Group 10"/>
            <p:cNvGrpSpPr/>
            <p:nvPr/>
          </p:nvGrpSpPr>
          <p:grpSpPr>
            <a:xfrm>
              <a:off x="3770280" y="1343160"/>
              <a:ext cx="1481040" cy="433080"/>
              <a:chOff x="3770280" y="1343160"/>
              <a:chExt cx="1481040" cy="433080"/>
            </a:xfrm>
          </p:grpSpPr>
          <p:sp>
            <p:nvSpPr>
              <p:cNvPr id="757" name="AutoShape 11"/>
              <p:cNvSpPr/>
              <p:nvPr/>
            </p:nvSpPr>
            <p:spPr>
              <a:xfrm>
                <a:off x="3770280" y="1343160"/>
                <a:ext cx="1481040" cy="433080"/>
              </a:xfrm>
              <a:custGeom>
                <a:avLst/>
                <a:gdLst>
                  <a:gd name="textAreaLeft" fmla="*/ 0 w 1481040"/>
                  <a:gd name="textAreaRight" fmla="*/ 1481400 w 1481040"/>
                  <a:gd name="textAreaTop" fmla="*/ 0 h 433080"/>
                  <a:gd name="textAreaBottom" fmla="*/ 433440 h 43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599"/>
                    </a:lnTo>
                    <a:lnTo>
                      <a:pt x="0" y="215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AutoShape 12"/>
              <p:cNvSpPr/>
              <p:nvPr/>
            </p:nvSpPr>
            <p:spPr>
              <a:xfrm>
                <a:off x="3770280" y="1343160"/>
                <a:ext cx="1481040" cy="268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ill Sans MT"/>
                  </a:rPr>
                  <a:t>DHCP disco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Group 13"/>
            <p:cNvGrpSpPr/>
            <p:nvPr/>
          </p:nvGrpSpPr>
          <p:grpSpPr>
            <a:xfrm>
              <a:off x="3877920" y="1649160"/>
              <a:ext cx="2564280" cy="808200"/>
              <a:chOff x="3877920" y="1649160"/>
              <a:chExt cx="2564280" cy="808200"/>
            </a:xfrm>
          </p:grpSpPr>
          <p:sp>
            <p:nvSpPr>
              <p:cNvPr id="760" name="AutoShape 14"/>
              <p:cNvSpPr/>
              <p:nvPr/>
            </p:nvSpPr>
            <p:spPr>
              <a:xfrm>
                <a:off x="3877920" y="1649160"/>
                <a:ext cx="2564280" cy="808200"/>
              </a:xfrm>
              <a:custGeom>
                <a:avLst/>
                <a:gdLst>
                  <a:gd name="textAreaLeft" fmla="*/ 0 w 2564280"/>
                  <a:gd name="textAreaRight" fmla="*/ 2564640 w 2564280"/>
                  <a:gd name="textAreaTop" fmla="*/ 0 h 808200"/>
                  <a:gd name="textAreaBottom" fmla="*/ 808560 h 808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599" y="0"/>
                    </a:lnTo>
                    <a:lnTo>
                      <a:pt x="21599" y="21599"/>
                    </a:lnTo>
                    <a:lnTo>
                      <a:pt x="0" y="215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AutoShape 15"/>
              <p:cNvSpPr/>
              <p:nvPr/>
            </p:nvSpPr>
            <p:spPr>
              <a:xfrm>
                <a:off x="3877920" y="1649160"/>
                <a:ext cx="2564280" cy="801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Gill Sans MT"/>
                  </a:rPr>
                  <a:t>src : 0.0.0.0, 68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Gill Sans MT"/>
                  </a:rPr>
                  <a:t>dest.: 255.255.255.255,6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Gill Sans MT"/>
                  </a:rPr>
                  <a:t>yiaddr:    0.0.0.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Gill Sans MT"/>
                  </a:rPr>
                  <a:t>transaction ID: 65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2" name="Line 16"/>
          <p:cNvSpPr/>
          <p:nvPr/>
        </p:nvSpPr>
        <p:spPr>
          <a:xfrm>
            <a:off x="2282760" y="3193920"/>
            <a:ext cx="4397400" cy="53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Group 17"/>
          <p:cNvGrpSpPr/>
          <p:nvPr/>
        </p:nvGrpSpPr>
        <p:grpSpPr>
          <a:xfrm>
            <a:off x="3943440" y="2577960"/>
            <a:ext cx="1379520" cy="331920"/>
            <a:chOff x="3943440" y="2577960"/>
            <a:chExt cx="1379520" cy="331920"/>
          </a:xfrm>
        </p:grpSpPr>
        <p:sp>
          <p:nvSpPr>
            <p:cNvPr id="764" name="AutoShape 18"/>
            <p:cNvSpPr/>
            <p:nvPr/>
          </p:nvSpPr>
          <p:spPr>
            <a:xfrm>
              <a:off x="3943440" y="2577960"/>
              <a:ext cx="1379520" cy="331920"/>
            </a:xfrm>
            <a:custGeom>
              <a:avLst/>
              <a:gdLst>
                <a:gd name="textAreaLeft" fmla="*/ 0 w 1379520"/>
                <a:gd name="textAreaRight" fmla="*/ 1379880 w 137952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AutoShape 19"/>
            <p:cNvSpPr/>
            <p:nvPr/>
          </p:nvSpPr>
          <p:spPr>
            <a:xfrm>
              <a:off x="3943440" y="2577960"/>
              <a:ext cx="1379520" cy="270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</a:rPr>
                <a:t>DHCP off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Group 20"/>
          <p:cNvGrpSpPr/>
          <p:nvPr/>
        </p:nvGrpSpPr>
        <p:grpSpPr>
          <a:xfrm>
            <a:off x="4040280" y="2832120"/>
            <a:ext cx="2423880" cy="979560"/>
            <a:chOff x="4040280" y="2832120"/>
            <a:chExt cx="2423880" cy="979560"/>
          </a:xfrm>
        </p:grpSpPr>
        <p:sp>
          <p:nvSpPr>
            <p:cNvPr id="767" name="AutoShape 21"/>
            <p:cNvSpPr/>
            <p:nvPr/>
          </p:nvSpPr>
          <p:spPr>
            <a:xfrm>
              <a:off x="4040280" y="2832120"/>
              <a:ext cx="2423880" cy="964440"/>
            </a:xfrm>
            <a:custGeom>
              <a:avLst/>
              <a:gdLst>
                <a:gd name="textAreaLeft" fmla="*/ 0 w 2423880"/>
                <a:gd name="textAreaRight" fmla="*/ 2423880 w 2423880"/>
                <a:gd name="textAreaTop" fmla="*/ 0 h 964440"/>
                <a:gd name="textAreaBottom" fmla="*/ 964800 h 96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AutoShape 22"/>
            <p:cNvSpPr/>
            <p:nvPr/>
          </p:nvSpPr>
          <p:spPr>
            <a:xfrm>
              <a:off x="4040280" y="2832120"/>
              <a:ext cx="2423880" cy="979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src: 223.1.2.5, 67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dest:  255.255.255.255, 6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yiaddrr: 223.1.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transaction ID: 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lifetime: 3600 se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" name="Line 23"/>
          <p:cNvSpPr/>
          <p:nvPr/>
        </p:nvSpPr>
        <p:spPr>
          <a:xfrm flipH="1">
            <a:off x="2174400" y="4421160"/>
            <a:ext cx="4397400" cy="538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Group 24"/>
          <p:cNvGrpSpPr/>
          <p:nvPr/>
        </p:nvGrpSpPr>
        <p:grpSpPr>
          <a:xfrm>
            <a:off x="2347920" y="3763800"/>
            <a:ext cx="1379520" cy="330480"/>
            <a:chOff x="2347920" y="3763800"/>
            <a:chExt cx="1379520" cy="330480"/>
          </a:xfrm>
        </p:grpSpPr>
        <p:sp>
          <p:nvSpPr>
            <p:cNvPr id="771" name="AutoShape 25"/>
            <p:cNvSpPr/>
            <p:nvPr/>
          </p:nvSpPr>
          <p:spPr>
            <a:xfrm>
              <a:off x="2347920" y="3763800"/>
              <a:ext cx="1379520" cy="330480"/>
            </a:xfrm>
            <a:custGeom>
              <a:avLst/>
              <a:gdLst>
                <a:gd name="textAreaLeft" fmla="*/ 0 w 1379520"/>
                <a:gd name="textAreaRight" fmla="*/ 1379880 w 137952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AutoShape 26"/>
            <p:cNvSpPr/>
            <p:nvPr/>
          </p:nvSpPr>
          <p:spPr>
            <a:xfrm>
              <a:off x="2347920" y="3763800"/>
              <a:ext cx="1379520" cy="270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</a:rPr>
                <a:t>DHCP requ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3" name="Group 27"/>
          <p:cNvGrpSpPr/>
          <p:nvPr/>
        </p:nvGrpSpPr>
        <p:grpSpPr>
          <a:xfrm>
            <a:off x="2478240" y="4027320"/>
            <a:ext cx="2757240" cy="998640"/>
            <a:chOff x="2478240" y="4027320"/>
            <a:chExt cx="2757240" cy="998640"/>
          </a:xfrm>
        </p:grpSpPr>
        <p:sp>
          <p:nvSpPr>
            <p:cNvPr id="774" name="AutoShape 28"/>
            <p:cNvSpPr/>
            <p:nvPr/>
          </p:nvSpPr>
          <p:spPr>
            <a:xfrm>
              <a:off x="2478240" y="4027320"/>
              <a:ext cx="2757240" cy="99864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998640"/>
                <a:gd name="textAreaBottom" fmla="*/ 998640 h 99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AutoShape 29"/>
            <p:cNvSpPr/>
            <p:nvPr/>
          </p:nvSpPr>
          <p:spPr>
            <a:xfrm>
              <a:off x="2478240" y="4027320"/>
              <a:ext cx="2757240" cy="980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src:  0.0.0.0, 68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dest::  255.255.255.255, 6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yiaddrr: 223.1.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transaction ID: 65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lifetime: 3600 se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6" name="Line 30"/>
          <p:cNvSpPr/>
          <p:nvPr/>
        </p:nvSpPr>
        <p:spPr>
          <a:xfrm>
            <a:off x="2260440" y="5452920"/>
            <a:ext cx="4397400" cy="53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7" name="Group 31"/>
          <p:cNvGrpSpPr/>
          <p:nvPr/>
        </p:nvGrpSpPr>
        <p:grpSpPr>
          <a:xfrm>
            <a:off x="3900600" y="5167440"/>
            <a:ext cx="1379520" cy="330120"/>
            <a:chOff x="3900600" y="5167440"/>
            <a:chExt cx="1379520" cy="330120"/>
          </a:xfrm>
        </p:grpSpPr>
        <p:sp>
          <p:nvSpPr>
            <p:cNvPr id="778" name="AutoShape 32"/>
            <p:cNvSpPr/>
            <p:nvPr/>
          </p:nvSpPr>
          <p:spPr>
            <a:xfrm>
              <a:off x="3900600" y="5167440"/>
              <a:ext cx="1379520" cy="330120"/>
            </a:xfrm>
            <a:custGeom>
              <a:avLst/>
              <a:gdLst>
                <a:gd name="textAreaLeft" fmla="*/ 0 w 1379520"/>
                <a:gd name="textAreaRight" fmla="*/ 1379880 w 13795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AutoShape 33"/>
            <p:cNvSpPr/>
            <p:nvPr/>
          </p:nvSpPr>
          <p:spPr>
            <a:xfrm>
              <a:off x="3900600" y="5167440"/>
              <a:ext cx="1379520" cy="270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</a:rPr>
                <a:t>DHCP 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0" name="Group 34"/>
          <p:cNvGrpSpPr/>
          <p:nvPr/>
        </p:nvGrpSpPr>
        <p:grpSpPr>
          <a:xfrm>
            <a:off x="3997440" y="5421240"/>
            <a:ext cx="2412720" cy="1019160"/>
            <a:chOff x="3997440" y="5421240"/>
            <a:chExt cx="2412720" cy="1019160"/>
          </a:xfrm>
        </p:grpSpPr>
        <p:sp>
          <p:nvSpPr>
            <p:cNvPr id="781" name="AutoShape 35"/>
            <p:cNvSpPr/>
            <p:nvPr/>
          </p:nvSpPr>
          <p:spPr>
            <a:xfrm>
              <a:off x="3997440" y="5421240"/>
              <a:ext cx="2412720" cy="1019160"/>
            </a:xfrm>
            <a:custGeom>
              <a:avLst/>
              <a:gdLst>
                <a:gd name="textAreaLeft" fmla="*/ 0 w 2412720"/>
                <a:gd name="textAreaRight" fmla="*/ 2413080 w 2412720"/>
                <a:gd name="textAreaTop" fmla="*/ 0 h 1019160"/>
                <a:gd name="textAreaBottom" fmla="*/ 1019520 h 101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AutoShape 36"/>
            <p:cNvSpPr/>
            <p:nvPr/>
          </p:nvSpPr>
          <p:spPr>
            <a:xfrm>
              <a:off x="3997440" y="5421240"/>
              <a:ext cx="2412720" cy="980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src: 223.1.2.5, 67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dest:  255.255.255.255, 6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yiaddrr: 223.1.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transaction ID: 65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lifetime: 3600 se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Group 37"/>
          <p:cNvGrpSpPr/>
          <p:nvPr/>
        </p:nvGrpSpPr>
        <p:grpSpPr>
          <a:xfrm>
            <a:off x="6666120" y="1781280"/>
            <a:ext cx="793440" cy="569520"/>
            <a:chOff x="6666120" y="1781280"/>
            <a:chExt cx="793440" cy="569520"/>
          </a:xfrm>
        </p:grpSpPr>
        <p:pic>
          <p:nvPicPr>
            <p:cNvPr id="784" name="Picture 38" descr="laptop_keyboard"/>
            <p:cNvPicPr/>
            <p:nvPr/>
          </p:nvPicPr>
          <p:blipFill>
            <a:blip r:embed="rId1"/>
            <a:stretch/>
          </p:blipFill>
          <p:spPr>
            <a:xfrm flipH="1" rot="109800">
              <a:off x="6670440" y="2061360"/>
              <a:ext cx="677160" cy="27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AutoShape 39"/>
            <p:cNvSpPr/>
            <p:nvPr/>
          </p:nvSpPr>
          <p:spPr>
            <a:xfrm>
              <a:off x="6895440" y="1793160"/>
              <a:ext cx="544680" cy="362520"/>
            </a:xfrm>
            <a:custGeom>
              <a:avLst/>
              <a:gdLst>
                <a:gd name="textAreaLeft" fmla="*/ 0 w 544680"/>
                <a:gd name="textAreaRight" fmla="*/ 545040 w 544680"/>
                <a:gd name="textAreaTop" fmla="*/ 0 h 362520"/>
                <a:gd name="textAreaBottom" fmla="*/ 362880 h 36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911" y="0"/>
                  </a:moveTo>
                  <a:lnTo>
                    <a:pt x="0" y="15337"/>
                  </a:lnTo>
                  <a:lnTo>
                    <a:pt x="17340" y="21599"/>
                  </a:lnTo>
                  <a:lnTo>
                    <a:pt x="21599" y="2812"/>
                  </a:lnTo>
                  <a:lnTo>
                    <a:pt x="391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6" name="Picture 40" descr="screen"/>
            <p:cNvPicPr/>
            <p:nvPr/>
          </p:nvPicPr>
          <p:blipFill>
            <a:blip r:embed="rId2"/>
            <a:stretch/>
          </p:blipFill>
          <p:spPr>
            <a:xfrm>
              <a:off x="6922440" y="1801800"/>
              <a:ext cx="49464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7" name="AutoShape 41"/>
            <p:cNvSpPr/>
            <p:nvPr/>
          </p:nvSpPr>
          <p:spPr>
            <a:xfrm>
              <a:off x="6994440" y="1782360"/>
              <a:ext cx="461160" cy="66960"/>
            </a:xfrm>
            <a:custGeom>
              <a:avLst/>
              <a:gdLst>
                <a:gd name="textAreaLeft" fmla="*/ 0 w 461160"/>
                <a:gd name="textAreaRight" fmla="*/ 461520 w 4611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9" y="0"/>
                  </a:moveTo>
                  <a:lnTo>
                    <a:pt x="21600" y="16188"/>
                  </a:lnTo>
                  <a:lnTo>
                    <a:pt x="21189" y="21600"/>
                  </a:lnTo>
                  <a:lnTo>
                    <a:pt x="0" y="4082"/>
                  </a:lnTo>
                  <a:lnTo>
                    <a:pt x="119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AutoShape 42"/>
            <p:cNvSpPr/>
            <p:nvPr/>
          </p:nvSpPr>
          <p:spPr>
            <a:xfrm>
              <a:off x="6890400" y="1781280"/>
              <a:ext cx="128520" cy="2804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280440"/>
                <a:gd name="textAreaBottom" fmla="*/ 280440 h 28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15" y="0"/>
                  </a:moveTo>
                  <a:lnTo>
                    <a:pt x="0" y="21326"/>
                  </a:lnTo>
                  <a:lnTo>
                    <a:pt x="3507" y="21599"/>
                  </a:lnTo>
                  <a:lnTo>
                    <a:pt x="21599" y="581"/>
                  </a:lnTo>
                  <a:lnTo>
                    <a:pt x="17815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AutoShape 43"/>
            <p:cNvSpPr/>
            <p:nvPr/>
          </p:nvSpPr>
          <p:spPr>
            <a:xfrm>
              <a:off x="7314480" y="1832400"/>
              <a:ext cx="138600" cy="3232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323280"/>
                <a:gd name="textAreaBottom" fmla="*/ 323640 h 32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3942" y="21599"/>
                  </a:lnTo>
                  <a:lnTo>
                    <a:pt x="0" y="21243"/>
                  </a:lnTo>
                  <a:lnTo>
                    <a:pt x="17314" y="771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AutoShape 44"/>
            <p:cNvSpPr/>
            <p:nvPr/>
          </p:nvSpPr>
          <p:spPr>
            <a:xfrm>
              <a:off x="6888960" y="2048400"/>
              <a:ext cx="471960" cy="108360"/>
            </a:xfrm>
            <a:custGeom>
              <a:avLst/>
              <a:gdLst>
                <a:gd name="textAreaLeft" fmla="*/ 0 w 471960"/>
                <a:gd name="textAreaRight" fmla="*/ 472320 w 47196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20144" h="21600">
                  <a:moveTo>
                    <a:pt x="257" y="0"/>
                  </a:moveTo>
                  <a:lnTo>
                    <a:pt x="0" y="2897"/>
                  </a:lnTo>
                  <a:lnTo>
                    <a:pt x="18974" y="21600"/>
                  </a:lnTo>
                  <a:cubicBezTo>
                    <a:pt x="19465" y="14663"/>
                    <a:pt x="21600" y="21278"/>
                    <a:pt x="18484" y="17648"/>
                  </a:cubicBezTo>
                  <a:lnTo>
                    <a:pt x="25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AutoShape 45"/>
            <p:cNvSpPr/>
            <p:nvPr/>
          </p:nvSpPr>
          <p:spPr>
            <a:xfrm>
              <a:off x="7329960" y="1834920"/>
              <a:ext cx="129600" cy="32436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854" y="0"/>
                  </a:moveTo>
                  <a:lnTo>
                    <a:pt x="21599" y="0"/>
                  </a:lnTo>
                  <a:lnTo>
                    <a:pt x="2305" y="21599"/>
                  </a:lnTo>
                  <a:lnTo>
                    <a:pt x="0" y="21443"/>
                  </a:lnTo>
                  <a:lnTo>
                    <a:pt x="20854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AutoShape 46"/>
            <p:cNvSpPr/>
            <p:nvPr/>
          </p:nvSpPr>
          <p:spPr>
            <a:xfrm>
              <a:off x="6888960" y="2063160"/>
              <a:ext cx="451080" cy="10728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7" y="2238"/>
                  </a:lnTo>
                  <a:lnTo>
                    <a:pt x="21093" y="21600"/>
                  </a:lnTo>
                  <a:lnTo>
                    <a:pt x="21600" y="1947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3" name="Group 47"/>
            <p:cNvGrpSpPr/>
            <p:nvPr/>
          </p:nvGrpSpPr>
          <p:grpSpPr>
            <a:xfrm>
              <a:off x="6881400" y="2178000"/>
              <a:ext cx="152640" cy="64440"/>
              <a:chOff x="6881400" y="2178000"/>
              <a:chExt cx="152640" cy="64440"/>
            </a:xfrm>
          </p:grpSpPr>
          <p:sp>
            <p:nvSpPr>
              <p:cNvPr id="794" name="AutoShape 48"/>
              <p:cNvSpPr/>
              <p:nvPr/>
            </p:nvSpPr>
            <p:spPr>
              <a:xfrm>
                <a:off x="6881400" y="2178000"/>
                <a:ext cx="152640" cy="64440"/>
              </a:xfrm>
              <a:custGeom>
                <a:avLst/>
                <a:gdLst>
                  <a:gd name="textAreaLeft" fmla="*/ 0 w 152640"/>
                  <a:gd name="textAreaRight" fmla="*/ 153000 w 15264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415" y="0"/>
                    </a:moveTo>
                    <a:lnTo>
                      <a:pt x="21599" y="8190"/>
                    </a:lnTo>
                    <a:lnTo>
                      <a:pt x="13499" y="21599"/>
                    </a:lnTo>
                    <a:lnTo>
                      <a:pt x="0" y="12088"/>
                    </a:lnTo>
                    <a:lnTo>
                      <a:pt x="8415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AutoShape 49"/>
              <p:cNvSpPr/>
              <p:nvPr/>
            </p:nvSpPr>
            <p:spPr>
              <a:xfrm>
                <a:off x="6883920" y="2179080"/>
                <a:ext cx="147600" cy="615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390" y="0"/>
                    </a:moveTo>
                    <a:lnTo>
                      <a:pt x="21600" y="8264"/>
                    </a:lnTo>
                    <a:lnTo>
                      <a:pt x="13596" y="21599"/>
                    </a:lnTo>
                    <a:lnTo>
                      <a:pt x="0" y="12015"/>
                    </a:lnTo>
                    <a:lnTo>
                      <a:pt x="839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AutoShape 50"/>
              <p:cNvSpPr/>
              <p:nvPr/>
            </p:nvSpPr>
            <p:spPr>
              <a:xfrm>
                <a:off x="6895080" y="2203200"/>
                <a:ext cx="52200" cy="1980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9504"/>
                    </a:moveTo>
                    <a:lnTo>
                      <a:pt x="6279" y="0"/>
                    </a:lnTo>
                    <a:lnTo>
                      <a:pt x="21600" y="10800"/>
                    </a:lnTo>
                    <a:lnTo>
                      <a:pt x="15320" y="21599"/>
                    </a:lnTo>
                    <a:lnTo>
                      <a:pt x="0" y="950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AutoShape 51"/>
              <p:cNvSpPr/>
              <p:nvPr/>
            </p:nvSpPr>
            <p:spPr>
              <a:xfrm>
                <a:off x="6893280" y="2212200"/>
                <a:ext cx="39240" cy="12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36" y="0"/>
                    </a:moveTo>
                    <a:lnTo>
                      <a:pt x="21599" y="18171"/>
                    </a:lnTo>
                    <a:lnTo>
                      <a:pt x="20041" y="21600"/>
                    </a:lnTo>
                    <a:lnTo>
                      <a:pt x="0" y="3085"/>
                    </a:lnTo>
                    <a:lnTo>
                      <a:pt x="133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AutoShape 52"/>
              <p:cNvSpPr/>
              <p:nvPr/>
            </p:nvSpPr>
            <p:spPr>
              <a:xfrm>
                <a:off x="6938280" y="2215800"/>
                <a:ext cx="52200" cy="2016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9741"/>
                    </a:moveTo>
                    <a:lnTo>
                      <a:pt x="5944" y="0"/>
                    </a:lnTo>
                    <a:lnTo>
                      <a:pt x="21600" y="11011"/>
                    </a:lnTo>
                    <a:lnTo>
                      <a:pt x="15320" y="21600"/>
                    </a:lnTo>
                    <a:lnTo>
                      <a:pt x="0" y="9741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AutoShape 53"/>
              <p:cNvSpPr/>
              <p:nvPr/>
            </p:nvSpPr>
            <p:spPr>
              <a:xfrm>
                <a:off x="6936480" y="2225520"/>
                <a:ext cx="39240" cy="12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36" y="0"/>
                    </a:moveTo>
                    <a:lnTo>
                      <a:pt x="21599" y="18171"/>
                    </a:lnTo>
                    <a:lnTo>
                      <a:pt x="20041" y="21600"/>
                    </a:lnTo>
                    <a:lnTo>
                      <a:pt x="0" y="3085"/>
                    </a:lnTo>
                    <a:lnTo>
                      <a:pt x="133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0" name="AutoShape 54"/>
            <p:cNvSpPr/>
            <p:nvPr/>
          </p:nvSpPr>
          <p:spPr>
            <a:xfrm>
              <a:off x="7143480" y="2187720"/>
              <a:ext cx="185040" cy="14148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65" y="20127"/>
                  </a:moveTo>
                  <a:lnTo>
                    <a:pt x="21600" y="0"/>
                  </a:lnTo>
                  <a:lnTo>
                    <a:pt x="21534" y="1636"/>
                  </a:lnTo>
                  <a:lnTo>
                    <a:pt x="0" y="21599"/>
                  </a:lnTo>
                  <a:lnTo>
                    <a:pt x="65" y="20127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AutoShape 55"/>
            <p:cNvSpPr/>
            <p:nvPr/>
          </p:nvSpPr>
          <p:spPr>
            <a:xfrm>
              <a:off x="6670800" y="2198520"/>
              <a:ext cx="474120" cy="129240"/>
            </a:xfrm>
            <a:custGeom>
              <a:avLst/>
              <a:gdLst>
                <a:gd name="textAreaLeft" fmla="*/ 0 w 474120"/>
                <a:gd name="textAreaRight" fmla="*/ 474480 w 47412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1" y="0"/>
                  </a:moveTo>
                  <a:cubicBezTo>
                    <a:pt x="136" y="0"/>
                    <a:pt x="221" y="0"/>
                    <a:pt x="307" y="0"/>
                  </a:cubicBezTo>
                  <a:lnTo>
                    <a:pt x="21600" y="20255"/>
                  </a:lnTo>
                  <a:lnTo>
                    <a:pt x="21574" y="21599"/>
                  </a:lnTo>
                  <a:lnTo>
                    <a:pt x="0" y="717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AutoShape 56"/>
            <p:cNvSpPr/>
            <p:nvPr/>
          </p:nvSpPr>
          <p:spPr>
            <a:xfrm>
              <a:off x="6670800" y="2175480"/>
              <a:ext cx="5040" cy="255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1469"/>
                  </a:moveTo>
                  <a:lnTo>
                    <a:pt x="19107" y="21600"/>
                  </a:lnTo>
                  <a:lnTo>
                    <a:pt x="0" y="21159"/>
                  </a:lnTo>
                  <a:lnTo>
                    <a:pt x="2492" y="0"/>
                  </a:lnTo>
                  <a:lnTo>
                    <a:pt x="21600" y="1469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AutoShape 57"/>
            <p:cNvSpPr/>
            <p:nvPr/>
          </p:nvSpPr>
          <p:spPr>
            <a:xfrm>
              <a:off x="6671880" y="2069280"/>
              <a:ext cx="219600" cy="10728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489" y="0"/>
                  </a:moveTo>
                  <a:lnTo>
                    <a:pt x="0" y="21279"/>
                  </a:lnTo>
                  <a:lnTo>
                    <a:pt x="551" y="21600"/>
                  </a:lnTo>
                  <a:lnTo>
                    <a:pt x="21599" y="641"/>
                  </a:lnTo>
                  <a:lnTo>
                    <a:pt x="2148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AutoShape 58"/>
            <p:cNvSpPr/>
            <p:nvPr/>
          </p:nvSpPr>
          <p:spPr>
            <a:xfrm>
              <a:off x="6685920" y="2180160"/>
              <a:ext cx="449640" cy="1242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1" y="0"/>
                  </a:moveTo>
                  <a:cubicBezTo>
                    <a:pt x="136" y="0"/>
                    <a:pt x="221" y="0"/>
                    <a:pt x="307" y="0"/>
                  </a:cubicBezTo>
                  <a:lnTo>
                    <a:pt x="21599" y="20255"/>
                  </a:lnTo>
                  <a:lnTo>
                    <a:pt x="21574" y="21599"/>
                  </a:lnTo>
                  <a:lnTo>
                    <a:pt x="0" y="717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AutoShape 59"/>
            <p:cNvSpPr/>
            <p:nvPr/>
          </p:nvSpPr>
          <p:spPr>
            <a:xfrm flipH="1" rot="10800000">
              <a:off x="7135920" y="2171880"/>
              <a:ext cx="182160" cy="128160"/>
            </a:xfrm>
            <a:custGeom>
              <a:avLst/>
              <a:gdLst>
                <a:gd name="textAreaLeft" fmla="*/ 0 w 182160"/>
                <a:gd name="textAreaRight" fmla="*/ 182160 w 18216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1" y="0"/>
                  </a:moveTo>
                  <a:cubicBezTo>
                    <a:pt x="136" y="0"/>
                    <a:pt x="221" y="0"/>
                    <a:pt x="307" y="0"/>
                  </a:cubicBezTo>
                  <a:lnTo>
                    <a:pt x="21600" y="20255"/>
                  </a:lnTo>
                  <a:lnTo>
                    <a:pt x="21574" y="21600"/>
                  </a:lnTo>
                  <a:lnTo>
                    <a:pt x="0" y="717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Group 60"/>
          <p:cNvGrpSpPr/>
          <p:nvPr/>
        </p:nvGrpSpPr>
        <p:grpSpPr>
          <a:xfrm>
            <a:off x="2098800" y="1590840"/>
            <a:ext cx="333360" cy="536400"/>
            <a:chOff x="2098800" y="1590840"/>
            <a:chExt cx="333360" cy="536400"/>
          </a:xfrm>
        </p:grpSpPr>
        <p:sp>
          <p:nvSpPr>
            <p:cNvPr id="807" name="AutoShape 61"/>
            <p:cNvSpPr/>
            <p:nvPr/>
          </p:nvSpPr>
          <p:spPr>
            <a:xfrm>
              <a:off x="2362680" y="1591560"/>
              <a:ext cx="66240" cy="51192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44" y="0"/>
                  </a:moveTo>
                  <a:lnTo>
                    <a:pt x="21599" y="2670"/>
                  </a:lnTo>
                  <a:lnTo>
                    <a:pt x="21111" y="20670"/>
                  </a:lnTo>
                  <a:lnTo>
                    <a:pt x="0" y="21600"/>
                  </a:lnTo>
                  <a:lnTo>
                    <a:pt x="3844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AutoShape 62"/>
            <p:cNvSpPr/>
            <p:nvPr/>
          </p:nvSpPr>
          <p:spPr>
            <a:xfrm>
              <a:off x="2114640" y="1590840"/>
              <a:ext cx="245160" cy="511200"/>
            </a:xfrm>
            <a:custGeom>
              <a:avLst/>
              <a:gdLst>
                <a:gd name="textAreaLeft" fmla="*/ 0 w 245160"/>
                <a:gd name="textAreaRight" fmla="*/ 245520 w 24516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AutoShape 63"/>
            <p:cNvSpPr/>
            <p:nvPr/>
          </p:nvSpPr>
          <p:spPr>
            <a:xfrm>
              <a:off x="2376360" y="1622160"/>
              <a:ext cx="38160" cy="4669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66920"/>
                <a:gd name="textAreaBottom" fmla="*/ 467280 h 466920"/>
              </a:gdLst>
              <a:ahLst/>
              <a:rect l="textAreaLeft" t="textAreaTop" r="textAreaRight" b="textAreaBottom"/>
              <a:pathLst>
                <a:path w="20883" h="21300">
                  <a:moveTo>
                    <a:pt x="-1" y="0"/>
                  </a:moveTo>
                  <a:cubicBezTo>
                    <a:pt x="-1" y="0"/>
                    <a:pt x="5118" y="238"/>
                    <a:pt x="20882" y="1856"/>
                  </a:cubicBezTo>
                  <a:cubicBezTo>
                    <a:pt x="-717" y="10463"/>
                    <a:pt x="3480" y="21600"/>
                    <a:pt x="-1" y="21293"/>
                  </a:cubicBez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AutoShape 64"/>
            <p:cNvSpPr/>
            <p:nvPr/>
          </p:nvSpPr>
          <p:spPr>
            <a:xfrm>
              <a:off x="2366640" y="1861920"/>
              <a:ext cx="61560" cy="4212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63" y="0"/>
                  </a:moveTo>
                  <a:cubicBezTo>
                    <a:pt x="3951" y="955"/>
                    <a:pt x="11985" y="7072"/>
                    <a:pt x="21599" y="12233"/>
                  </a:cubicBezTo>
                  <a:cubicBezTo>
                    <a:pt x="21468" y="15483"/>
                    <a:pt x="21468" y="15100"/>
                    <a:pt x="21468" y="21600"/>
                  </a:cubicBezTo>
                  <a:cubicBezTo>
                    <a:pt x="21468" y="21600"/>
                    <a:pt x="11129" y="14814"/>
                    <a:pt x="0" y="9557"/>
                  </a:cubicBezTo>
                  <a:cubicBezTo>
                    <a:pt x="0" y="4587"/>
                    <a:pt x="263" y="1624"/>
                    <a:pt x="26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AutoShape 65"/>
            <p:cNvSpPr/>
            <p:nvPr/>
          </p:nvSpPr>
          <p:spPr>
            <a:xfrm>
              <a:off x="2116080" y="1649520"/>
              <a:ext cx="138960" cy="1116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2" name="Group 66"/>
            <p:cNvGrpSpPr/>
            <p:nvPr/>
          </p:nvGrpSpPr>
          <p:grpSpPr>
            <a:xfrm>
              <a:off x="2241000" y="1644840"/>
              <a:ext cx="135720" cy="31680"/>
              <a:chOff x="2241000" y="1644840"/>
              <a:chExt cx="135720" cy="31680"/>
            </a:xfrm>
          </p:grpSpPr>
          <p:sp>
            <p:nvSpPr>
              <p:cNvPr id="813" name="AutoShape 67"/>
              <p:cNvSpPr/>
              <p:nvPr/>
            </p:nvSpPr>
            <p:spPr>
              <a:xfrm>
                <a:off x="2241000" y="1644840"/>
                <a:ext cx="135720" cy="31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AutoShape 68"/>
              <p:cNvSpPr/>
              <p:nvPr/>
            </p:nvSpPr>
            <p:spPr>
              <a:xfrm>
                <a:off x="2243880" y="1648080"/>
                <a:ext cx="12960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AutoShape 69"/>
            <p:cNvSpPr/>
            <p:nvPr/>
          </p:nvSpPr>
          <p:spPr>
            <a:xfrm>
              <a:off x="2117520" y="1722240"/>
              <a:ext cx="140400" cy="1116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6" name="Group 70"/>
            <p:cNvGrpSpPr/>
            <p:nvPr/>
          </p:nvGrpSpPr>
          <p:grpSpPr>
            <a:xfrm>
              <a:off x="2241000" y="1717560"/>
              <a:ext cx="135720" cy="29880"/>
              <a:chOff x="2241000" y="1717560"/>
              <a:chExt cx="135720" cy="29880"/>
            </a:xfrm>
          </p:grpSpPr>
          <p:sp>
            <p:nvSpPr>
              <p:cNvPr id="817" name="AutoShape 71"/>
              <p:cNvSpPr/>
              <p:nvPr/>
            </p:nvSpPr>
            <p:spPr>
              <a:xfrm>
                <a:off x="2241000" y="1717560"/>
                <a:ext cx="13572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AutoShape 72"/>
              <p:cNvSpPr/>
              <p:nvPr/>
            </p:nvSpPr>
            <p:spPr>
              <a:xfrm>
                <a:off x="2243880" y="1720440"/>
                <a:ext cx="12960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9" name="AutoShape 73"/>
            <p:cNvSpPr/>
            <p:nvPr/>
          </p:nvSpPr>
          <p:spPr>
            <a:xfrm>
              <a:off x="2116080" y="1798920"/>
              <a:ext cx="140400" cy="1116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AutoShape 74"/>
            <p:cNvSpPr/>
            <p:nvPr/>
          </p:nvSpPr>
          <p:spPr>
            <a:xfrm>
              <a:off x="2119320" y="1865160"/>
              <a:ext cx="138960" cy="1116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1" name="Group 75"/>
            <p:cNvGrpSpPr/>
            <p:nvPr/>
          </p:nvGrpSpPr>
          <p:grpSpPr>
            <a:xfrm>
              <a:off x="2237760" y="1859040"/>
              <a:ext cx="136080" cy="33120"/>
              <a:chOff x="2237760" y="1859040"/>
              <a:chExt cx="136080" cy="33120"/>
            </a:xfrm>
          </p:grpSpPr>
          <p:sp>
            <p:nvSpPr>
              <p:cNvPr id="822" name="AutoShape 76"/>
              <p:cNvSpPr/>
              <p:nvPr/>
            </p:nvSpPr>
            <p:spPr>
              <a:xfrm>
                <a:off x="2237760" y="1859040"/>
                <a:ext cx="136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AutoShape 77"/>
              <p:cNvSpPr/>
              <p:nvPr/>
            </p:nvSpPr>
            <p:spPr>
              <a:xfrm>
                <a:off x="2240640" y="1861920"/>
                <a:ext cx="129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4" name="AutoShape 78"/>
            <p:cNvSpPr/>
            <p:nvPr/>
          </p:nvSpPr>
          <p:spPr>
            <a:xfrm>
              <a:off x="2367360" y="1797840"/>
              <a:ext cx="61560" cy="4176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63" y="0"/>
                  </a:moveTo>
                  <a:cubicBezTo>
                    <a:pt x="3951" y="955"/>
                    <a:pt x="11985" y="7072"/>
                    <a:pt x="21599" y="12233"/>
                  </a:cubicBezTo>
                  <a:cubicBezTo>
                    <a:pt x="21468" y="15483"/>
                    <a:pt x="21468" y="15100"/>
                    <a:pt x="21468" y="21599"/>
                  </a:cubicBezTo>
                  <a:cubicBezTo>
                    <a:pt x="21468" y="21599"/>
                    <a:pt x="11129" y="14814"/>
                    <a:pt x="0" y="9557"/>
                  </a:cubicBezTo>
                  <a:cubicBezTo>
                    <a:pt x="0" y="4587"/>
                    <a:pt x="263" y="1624"/>
                    <a:pt x="26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5" name="Group 79"/>
            <p:cNvGrpSpPr/>
            <p:nvPr/>
          </p:nvGrpSpPr>
          <p:grpSpPr>
            <a:xfrm>
              <a:off x="2239560" y="1792440"/>
              <a:ext cx="136080" cy="30240"/>
              <a:chOff x="2239560" y="1792440"/>
              <a:chExt cx="136080" cy="30240"/>
            </a:xfrm>
          </p:grpSpPr>
          <p:sp>
            <p:nvSpPr>
              <p:cNvPr id="826" name="AutoShape 80"/>
              <p:cNvSpPr/>
              <p:nvPr/>
            </p:nvSpPr>
            <p:spPr>
              <a:xfrm>
                <a:off x="2239560" y="1792440"/>
                <a:ext cx="13608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AutoShape 81"/>
              <p:cNvSpPr/>
              <p:nvPr/>
            </p:nvSpPr>
            <p:spPr>
              <a:xfrm>
                <a:off x="2242440" y="1795320"/>
                <a:ext cx="12996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8" name="AutoShape 82"/>
            <p:cNvSpPr/>
            <p:nvPr/>
          </p:nvSpPr>
          <p:spPr>
            <a:xfrm>
              <a:off x="2358000" y="1590840"/>
              <a:ext cx="15840" cy="5130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13000"/>
                <a:gd name="textAreaBottom" fmla="*/ 513360 h 51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AutoShape 83"/>
            <p:cNvSpPr/>
            <p:nvPr/>
          </p:nvSpPr>
          <p:spPr>
            <a:xfrm>
              <a:off x="2373120" y="1720080"/>
              <a:ext cx="55440" cy="4752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91" y="0"/>
                  </a:moveTo>
                  <a:cubicBezTo>
                    <a:pt x="4013" y="843"/>
                    <a:pt x="10508" y="5737"/>
                    <a:pt x="21308" y="12150"/>
                  </a:cubicBezTo>
                  <a:cubicBezTo>
                    <a:pt x="21162" y="15018"/>
                    <a:pt x="21599" y="15862"/>
                    <a:pt x="21599" y="21600"/>
                  </a:cubicBezTo>
                  <a:cubicBezTo>
                    <a:pt x="21599" y="21600"/>
                    <a:pt x="11675" y="14850"/>
                    <a:pt x="0" y="8437"/>
                  </a:cubicBezTo>
                  <a:cubicBezTo>
                    <a:pt x="0" y="4050"/>
                    <a:pt x="291" y="1434"/>
                    <a:pt x="29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AutoShape 84"/>
            <p:cNvSpPr/>
            <p:nvPr/>
          </p:nvSpPr>
          <p:spPr>
            <a:xfrm>
              <a:off x="2373840" y="1647000"/>
              <a:ext cx="56880" cy="536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3623" y="750"/>
                    <a:pt x="10515" y="5700"/>
                    <a:pt x="21600" y="12300"/>
                  </a:cubicBezTo>
                  <a:cubicBezTo>
                    <a:pt x="21457" y="14849"/>
                    <a:pt x="20178" y="16499"/>
                    <a:pt x="20178" y="21599"/>
                  </a:cubicBezTo>
                  <a:cubicBezTo>
                    <a:pt x="20178" y="21599"/>
                    <a:pt x="11581" y="13424"/>
                    <a:pt x="568" y="9299"/>
                  </a:cubicBezTo>
                  <a:cubicBezTo>
                    <a:pt x="568" y="5400"/>
                    <a:pt x="0" y="1275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AutoShape 85"/>
            <p:cNvSpPr/>
            <p:nvPr/>
          </p:nvSpPr>
          <p:spPr>
            <a:xfrm>
              <a:off x="2421360" y="2079720"/>
              <a:ext cx="10800" cy="205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AutoShape 86"/>
            <p:cNvSpPr/>
            <p:nvPr/>
          </p:nvSpPr>
          <p:spPr>
            <a:xfrm>
              <a:off x="2370600" y="2080080"/>
              <a:ext cx="57240" cy="446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9539"/>
                  </a:moveTo>
                  <a:lnTo>
                    <a:pt x="141" y="21599"/>
                  </a:lnTo>
                  <a:lnTo>
                    <a:pt x="21600" y="9899"/>
                  </a:lnTo>
                  <a:lnTo>
                    <a:pt x="21176" y="0"/>
                  </a:lnTo>
                  <a:lnTo>
                    <a:pt x="0" y="9539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AutoShape 87"/>
            <p:cNvSpPr/>
            <p:nvPr/>
          </p:nvSpPr>
          <p:spPr>
            <a:xfrm>
              <a:off x="2098800" y="2094120"/>
              <a:ext cx="281160" cy="331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AutoShape 88"/>
            <p:cNvSpPr/>
            <p:nvPr/>
          </p:nvSpPr>
          <p:spPr>
            <a:xfrm>
              <a:off x="2114640" y="2102040"/>
              <a:ext cx="24984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AutoShape 89"/>
            <p:cNvSpPr/>
            <p:nvPr/>
          </p:nvSpPr>
          <p:spPr>
            <a:xfrm>
              <a:off x="2138040" y="2028960"/>
              <a:ext cx="36000" cy="316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AutoShape 90"/>
            <p:cNvSpPr/>
            <p:nvPr/>
          </p:nvSpPr>
          <p:spPr>
            <a:xfrm>
              <a:off x="2179080" y="2028960"/>
              <a:ext cx="37800" cy="31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AutoShape 91"/>
            <p:cNvSpPr/>
            <p:nvPr/>
          </p:nvSpPr>
          <p:spPr>
            <a:xfrm>
              <a:off x="2220480" y="2027160"/>
              <a:ext cx="37800" cy="31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AutoShape 92"/>
            <p:cNvSpPr/>
            <p:nvPr/>
          </p:nvSpPr>
          <p:spPr>
            <a:xfrm>
              <a:off x="2315160" y="1905120"/>
              <a:ext cx="18720" cy="171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9292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19000" y="255600"/>
            <a:ext cx="682488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DHCP client-server scen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94" descr="underline_base"/>
          <p:cNvPicPr/>
          <p:nvPr/>
        </p:nvPicPr>
        <p:blipFill>
          <a:blip r:embed="rId3"/>
          <a:stretch/>
        </p:blipFill>
        <p:spPr>
          <a:xfrm>
            <a:off x="895320" y="93204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841" name="Slide Number Placeholder 96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CF8A-C709-4E5B-9362-3F3D9F7B64E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2085840" y="1781280"/>
            <a:ext cx="6534360" cy="4076640"/>
          </a:xfrm>
          <a:custGeom>
            <a:avLst/>
            <a:gdLst>
              <a:gd name="textAreaLeft" fmla="*/ 0 w 6534360"/>
              <a:gd name="textAreaRight" fmla="*/ 6534720 w 6534360"/>
              <a:gd name="textAreaTop" fmla="*/ 0 h 4076640"/>
              <a:gd name="textAreaBottom" fmla="*/ 4077000 h 407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599" y="0"/>
                </a:lnTo>
                <a:lnTo>
                  <a:pt x="21599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2019240" y="1855800"/>
            <a:ext cx="6534360" cy="4076640"/>
          </a:xfrm>
          <a:custGeom>
            <a:avLst/>
            <a:gdLst>
              <a:gd name="textAreaLeft" fmla="*/ 0 w 6534360"/>
              <a:gd name="textAreaRight" fmla="*/ 6534720 w 6534360"/>
              <a:gd name="textAreaTop" fmla="*/ 0 h 4076640"/>
              <a:gd name="textAreaBottom" fmla="*/ 4077000 h 407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599" y="0"/>
                </a:lnTo>
                <a:lnTo>
                  <a:pt x="21599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00280" y="131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he Internet network lay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7"/>
          <p:cNvGrpSpPr/>
          <p:nvPr/>
        </p:nvGrpSpPr>
        <p:grpSpPr>
          <a:xfrm>
            <a:off x="4152960" y="3479760"/>
            <a:ext cx="1251000" cy="1214640"/>
            <a:chOff x="4152960" y="3479760"/>
            <a:chExt cx="1251000" cy="1214640"/>
          </a:xfrm>
        </p:grpSpPr>
        <p:sp>
          <p:nvSpPr>
            <p:cNvPr id="90" name="AutoShape 8"/>
            <p:cNvSpPr/>
            <p:nvPr/>
          </p:nvSpPr>
          <p:spPr>
            <a:xfrm>
              <a:off x="4208400" y="3479760"/>
              <a:ext cx="1195560" cy="1171800"/>
            </a:xfrm>
            <a:custGeom>
              <a:avLst/>
              <a:gdLst>
                <a:gd name="textAreaLeft" fmla="*/ 0 w 1195560"/>
                <a:gd name="textAreaRight" fmla="*/ 1195920 w 1195560"/>
                <a:gd name="textAreaTop" fmla="*/ 0 h 1171800"/>
                <a:gd name="textAreaBottom" fmla="*/ 1172160 h 11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AutoShape 9"/>
            <p:cNvSpPr/>
            <p:nvPr/>
          </p:nvSpPr>
          <p:spPr>
            <a:xfrm>
              <a:off x="4152960" y="3522600"/>
              <a:ext cx="1195560" cy="1171800"/>
            </a:xfrm>
            <a:custGeom>
              <a:avLst/>
              <a:gdLst>
                <a:gd name="textAreaLeft" fmla="*/ 0 w 1195560"/>
                <a:gd name="textAreaRight" fmla="*/ 1195920 w 1195560"/>
                <a:gd name="textAreaTop" fmla="*/ 0 h 1171800"/>
                <a:gd name="textAreaBottom" fmla="*/ 1172160 h 11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AutoShape 10"/>
            <p:cNvSpPr/>
            <p:nvPr/>
          </p:nvSpPr>
          <p:spPr>
            <a:xfrm>
              <a:off x="4186440" y="3778200"/>
              <a:ext cx="1167120" cy="62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forwar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11"/>
            <p:cNvSpPr/>
            <p:nvPr/>
          </p:nvSpPr>
          <p:spPr>
            <a:xfrm>
              <a:off x="4294440" y="3655800"/>
              <a:ext cx="89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12"/>
            <p:cNvSpPr/>
            <p:nvPr/>
          </p:nvSpPr>
          <p:spPr>
            <a:xfrm>
              <a:off x="4307040" y="3741480"/>
              <a:ext cx="89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3"/>
            <p:cNvSpPr/>
            <p:nvPr/>
          </p:nvSpPr>
          <p:spPr>
            <a:xfrm>
              <a:off x="4313160" y="3827520"/>
              <a:ext cx="89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4"/>
            <p:cNvSpPr/>
            <p:nvPr/>
          </p:nvSpPr>
          <p:spPr>
            <a:xfrm>
              <a:off x="4294440" y="4422960"/>
              <a:ext cx="89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5"/>
            <p:cNvSpPr/>
            <p:nvPr/>
          </p:nvSpPr>
          <p:spPr>
            <a:xfrm>
              <a:off x="4300560" y="4503960"/>
              <a:ext cx="89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16"/>
            <p:cNvSpPr/>
            <p:nvPr/>
          </p:nvSpPr>
          <p:spPr>
            <a:xfrm>
              <a:off x="4307040" y="4584960"/>
              <a:ext cx="89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39960" y="1188720"/>
            <a:ext cx="753408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host, router network layer function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8"/>
          <p:cNvSpPr/>
          <p:nvPr/>
        </p:nvSpPr>
        <p:spPr>
          <a:xfrm flipV="1">
            <a:off x="2008080" y="5408280"/>
            <a:ext cx="6507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9"/>
          <p:cNvSpPr/>
          <p:nvPr/>
        </p:nvSpPr>
        <p:spPr>
          <a:xfrm flipV="1">
            <a:off x="2036880" y="4884480"/>
            <a:ext cx="65260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20"/>
          <p:cNvSpPr/>
          <p:nvPr/>
        </p:nvSpPr>
        <p:spPr>
          <a:xfrm>
            <a:off x="2295360" y="2666880"/>
            <a:ext cx="1810080" cy="819360"/>
          </a:xfrm>
          <a:custGeom>
            <a:avLst/>
            <a:gdLst>
              <a:gd name="textAreaLeft" fmla="*/ 0 w 1810080"/>
              <a:gd name="textAreaRight" fmla="*/ 1810440 w 1810080"/>
              <a:gd name="textAreaTop" fmla="*/ 0 h 819360"/>
              <a:gd name="textAreaBottom" fmla="*/ 819720 h 81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21"/>
          <p:cNvSpPr/>
          <p:nvPr/>
        </p:nvSpPr>
        <p:spPr>
          <a:xfrm>
            <a:off x="2228760" y="2733840"/>
            <a:ext cx="1809720" cy="819000"/>
          </a:xfrm>
          <a:custGeom>
            <a:avLst/>
            <a:gdLst>
              <a:gd name="textAreaLeft" fmla="*/ 0 w 1809720"/>
              <a:gd name="textAreaRight" fmla="*/ 1810080 w 1809720"/>
              <a:gd name="textAreaTop" fmla="*/ 0 h 819000"/>
              <a:gd name="textAreaBottom" fmla="*/ 819360 h 81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22"/>
          <p:cNvSpPr/>
          <p:nvPr/>
        </p:nvSpPr>
        <p:spPr>
          <a:xfrm>
            <a:off x="2217600" y="2714760"/>
            <a:ext cx="1581120" cy="839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Gill Sans MT"/>
              </a:rPr>
              <a:t>routing protoc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path se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RIP, OSPF, BG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23"/>
          <p:cNvSpPr/>
          <p:nvPr/>
        </p:nvSpPr>
        <p:spPr>
          <a:xfrm>
            <a:off x="3524400" y="3657600"/>
            <a:ext cx="628560" cy="347760"/>
          </a:xfrm>
          <a:custGeom>
            <a:avLst/>
            <a:gdLst>
              <a:gd name="textAreaLeft" fmla="*/ 0 w 628560"/>
              <a:gd name="textAreaRight" fmla="*/ 628920 w 62856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21600" h="19235">
                <a:moveTo>
                  <a:pt x="0" y="0"/>
                </a:moveTo>
                <a:cubicBezTo>
                  <a:pt x="1636" y="1404"/>
                  <a:pt x="2290" y="11063"/>
                  <a:pt x="8181" y="16331"/>
                </a:cubicBezTo>
                <a:cubicBezTo>
                  <a:pt x="14072" y="21600"/>
                  <a:pt x="18818" y="18000"/>
                  <a:pt x="21600" y="18439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24"/>
          <p:cNvGrpSpPr/>
          <p:nvPr/>
        </p:nvGrpSpPr>
        <p:grpSpPr>
          <a:xfrm>
            <a:off x="5473800" y="2575080"/>
            <a:ext cx="3000240" cy="1182600"/>
            <a:chOff x="5473800" y="2575080"/>
            <a:chExt cx="3000240" cy="1182600"/>
          </a:xfrm>
        </p:grpSpPr>
        <p:sp>
          <p:nvSpPr>
            <p:cNvPr id="107" name="AutoShape 25"/>
            <p:cNvSpPr/>
            <p:nvPr/>
          </p:nvSpPr>
          <p:spPr>
            <a:xfrm>
              <a:off x="5540400" y="2575080"/>
              <a:ext cx="2933640" cy="1096920"/>
            </a:xfrm>
            <a:custGeom>
              <a:avLst/>
              <a:gdLst>
                <a:gd name="textAreaLeft" fmla="*/ 0 w 2933640"/>
                <a:gd name="textAreaRight" fmla="*/ 2934000 w 2933640"/>
                <a:gd name="textAreaTop" fmla="*/ 0 h 1096920"/>
                <a:gd name="textAreaBottom" fmla="*/ 1097280 h 109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AutoShape 26"/>
            <p:cNvSpPr/>
            <p:nvPr/>
          </p:nvSpPr>
          <p:spPr>
            <a:xfrm>
              <a:off x="5473800" y="2641680"/>
              <a:ext cx="2933640" cy="1116000"/>
            </a:xfrm>
            <a:custGeom>
              <a:avLst/>
              <a:gdLst>
                <a:gd name="textAreaLeft" fmla="*/ 0 w 2933640"/>
                <a:gd name="textAreaRight" fmla="*/ 2934000 w 293364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AutoShape 27"/>
            <p:cNvSpPr/>
            <p:nvPr/>
          </p:nvSpPr>
          <p:spPr>
            <a:xfrm>
              <a:off x="5495760" y="2598840"/>
              <a:ext cx="2537640" cy="1121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Gill Sans MT"/>
                </a:rPr>
                <a:t>IP protoc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addressing conven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datagram form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packet handling conven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AutoShape 28"/>
          <p:cNvSpPr/>
          <p:nvPr/>
        </p:nvSpPr>
        <p:spPr>
          <a:xfrm>
            <a:off x="5597640" y="3878280"/>
            <a:ext cx="1933560" cy="847800"/>
          </a:xfrm>
          <a:custGeom>
            <a:avLst/>
            <a:gdLst>
              <a:gd name="textAreaLeft" fmla="*/ 0 w 1933560"/>
              <a:gd name="textAreaRight" fmla="*/ 1933920 w 193356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599" y="0"/>
                </a:lnTo>
                <a:lnTo>
                  <a:pt x="21599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29"/>
          <p:cNvSpPr/>
          <p:nvPr/>
        </p:nvSpPr>
        <p:spPr>
          <a:xfrm>
            <a:off x="5530680" y="3946680"/>
            <a:ext cx="1933920" cy="847440"/>
          </a:xfrm>
          <a:custGeom>
            <a:avLst/>
            <a:gdLst>
              <a:gd name="textAreaLeft" fmla="*/ 0 w 1933920"/>
              <a:gd name="textAreaRight" fmla="*/ 1934280 w 1933920"/>
              <a:gd name="textAreaTop" fmla="*/ 0 h 847440"/>
              <a:gd name="textAreaBottom" fmla="*/ 847800 h 84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599" y="0"/>
                </a:lnTo>
                <a:lnTo>
                  <a:pt x="21599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30"/>
          <p:cNvSpPr/>
          <p:nvPr/>
        </p:nvSpPr>
        <p:spPr>
          <a:xfrm>
            <a:off x="5543640" y="3911760"/>
            <a:ext cx="1900080" cy="877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ICMP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error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router “signaling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31"/>
          <p:cNvSpPr/>
          <p:nvPr/>
        </p:nvSpPr>
        <p:spPr>
          <a:xfrm flipV="1">
            <a:off x="2036880" y="2464920"/>
            <a:ext cx="65260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32"/>
          <p:cNvSpPr/>
          <p:nvPr/>
        </p:nvSpPr>
        <p:spPr>
          <a:xfrm>
            <a:off x="3479760" y="1989000"/>
            <a:ext cx="2473200" cy="357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ransport layer: TCP, U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33"/>
          <p:cNvSpPr/>
          <p:nvPr/>
        </p:nvSpPr>
        <p:spPr>
          <a:xfrm>
            <a:off x="4594320" y="4960800"/>
            <a:ext cx="925560" cy="357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link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34"/>
          <p:cNvSpPr/>
          <p:nvPr/>
        </p:nvSpPr>
        <p:spPr>
          <a:xfrm>
            <a:off x="4441680" y="5484960"/>
            <a:ext cx="1308240" cy="357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physical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35"/>
          <p:cNvSpPr/>
          <p:nvPr/>
        </p:nvSpPr>
        <p:spPr>
          <a:xfrm>
            <a:off x="998640" y="3259080"/>
            <a:ext cx="952560" cy="623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36"/>
          <p:cNvSpPr/>
          <p:nvPr/>
        </p:nvSpPr>
        <p:spPr>
          <a:xfrm flipV="1">
            <a:off x="1762200" y="2485800"/>
            <a:ext cx="0" cy="74268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37"/>
          <p:cNvSpPr/>
          <p:nvPr/>
        </p:nvSpPr>
        <p:spPr>
          <a:xfrm>
            <a:off x="1762200" y="4152960"/>
            <a:ext cx="0" cy="74304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38" descr="underline_base"/>
          <p:cNvPicPr/>
          <p:nvPr/>
        </p:nvPicPr>
        <p:blipFill>
          <a:blip r:embed="rId1"/>
          <a:stretch/>
        </p:blipFill>
        <p:spPr>
          <a:xfrm>
            <a:off x="941400" y="93816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121" name="Slide Number Placeholder 40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F83D-7CB4-4A3D-9FA5-8AAF5273836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AutoShape 2"/>
          <p:cNvSpPr/>
          <p:nvPr/>
        </p:nvSpPr>
        <p:spPr>
          <a:xfrm>
            <a:off x="5913360" y="6467400"/>
            <a:ext cx="28940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AutoShape 3"/>
          <p:cNvSpPr/>
          <p:nvPr/>
        </p:nvSpPr>
        <p:spPr>
          <a:xfrm>
            <a:off x="8705880" y="6462720"/>
            <a:ext cx="6746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-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914400" y="2268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DHCP: more than 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HCP can return more than just allocated IP address on subn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ress of first-hop router for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 and IP address of DNS s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mask (indicating network versus host portion of addr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6" descr="underline_base"/>
          <p:cNvPicPr/>
          <p:nvPr/>
        </p:nvPicPr>
        <p:blipFill>
          <a:blip r:embed="rId1"/>
          <a:stretch/>
        </p:blipFill>
        <p:spPr>
          <a:xfrm>
            <a:off x="982800" y="104760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848" name="Slide Number Placeholder 8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9543-58DF-4B0D-BEFF-BC51BDAEFE1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AutoShape 2"/>
          <p:cNvSpPr/>
          <p:nvPr/>
        </p:nvSpPr>
        <p:spPr>
          <a:xfrm>
            <a:off x="5913360" y="6467400"/>
            <a:ext cx="28940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AutoShape 3"/>
          <p:cNvSpPr/>
          <p:nvPr/>
        </p:nvSpPr>
        <p:spPr>
          <a:xfrm>
            <a:off x="8705880" y="6462720"/>
            <a:ext cx="6746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-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/>
          </p:nvPr>
        </p:nvSpPr>
        <p:spPr>
          <a:xfrm>
            <a:off x="5417640" y="1284120"/>
            <a:ext cx="34210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52000" indent="-2520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necting laptop needs its IP address, addr of first-hop router, addr of DNS server: use DHC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5"/>
          <p:cNvSpPr/>
          <p:nvPr/>
        </p:nvSpPr>
        <p:spPr>
          <a:xfrm>
            <a:off x="1184400" y="1444680"/>
            <a:ext cx="3465360" cy="2730600"/>
          </a:xfrm>
          <a:custGeom>
            <a:avLst/>
            <a:gdLst>
              <a:gd name="textAreaLeft" fmla="*/ 0 w 3465360"/>
              <a:gd name="textAreaRight" fmla="*/ 3465720 w 3465360"/>
              <a:gd name="textAreaTop" fmla="*/ 0 h 2730600"/>
              <a:gd name="textAreaBottom" fmla="*/ 2730960 h 2730600"/>
            </a:gdLst>
            <a:ahLst/>
            <a:rect l="textAreaLeft" t="textAreaTop" r="textAreaRight" b="textAreaBottom"/>
            <a:pathLst>
              <a:path w="21060" h="21407">
                <a:moveTo>
                  <a:pt x="19490" y="6041"/>
                </a:moveTo>
                <a:cubicBezTo>
                  <a:pt x="17569" y="1983"/>
                  <a:pt x="17677" y="2614"/>
                  <a:pt x="16483" y="1600"/>
                </a:cubicBezTo>
                <a:cubicBezTo>
                  <a:pt x="15289" y="585"/>
                  <a:pt x="14032" y="-136"/>
                  <a:pt x="12317" y="21"/>
                </a:cubicBezTo>
                <a:cubicBezTo>
                  <a:pt x="10603" y="179"/>
                  <a:pt x="7873" y="1757"/>
                  <a:pt x="6212" y="2614"/>
                </a:cubicBezTo>
                <a:cubicBezTo>
                  <a:pt x="4552" y="3471"/>
                  <a:pt x="3358" y="3651"/>
                  <a:pt x="2325" y="5139"/>
                </a:cubicBezTo>
                <a:cubicBezTo>
                  <a:pt x="1302" y="6650"/>
                  <a:pt x="278" y="9604"/>
                  <a:pt x="45" y="11633"/>
                </a:cubicBezTo>
                <a:cubicBezTo>
                  <a:pt x="-188" y="13662"/>
                  <a:pt x="539" y="15894"/>
                  <a:pt x="907" y="17292"/>
                </a:cubicBezTo>
                <a:cubicBezTo>
                  <a:pt x="1275" y="18690"/>
                  <a:pt x="700" y="19637"/>
                  <a:pt x="2262" y="20020"/>
                </a:cubicBezTo>
                <a:cubicBezTo>
                  <a:pt x="3824" y="20404"/>
                  <a:pt x="8232" y="19389"/>
                  <a:pt x="10306" y="19615"/>
                </a:cubicBezTo>
                <a:cubicBezTo>
                  <a:pt x="12380" y="19840"/>
                  <a:pt x="13269" y="21283"/>
                  <a:pt x="14705" y="21373"/>
                </a:cubicBezTo>
                <a:cubicBezTo>
                  <a:pt x="16142" y="21464"/>
                  <a:pt x="17892" y="21464"/>
                  <a:pt x="18925" y="20088"/>
                </a:cubicBezTo>
                <a:cubicBezTo>
                  <a:pt x="19957" y="18713"/>
                  <a:pt x="20702" y="19164"/>
                  <a:pt x="20909" y="13189"/>
                </a:cubicBezTo>
                <a:cubicBezTo>
                  <a:pt x="21115" y="7214"/>
                  <a:pt x="21411" y="10100"/>
                  <a:pt x="19490" y="604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Line 6"/>
          <p:cNvSpPr/>
          <p:nvPr/>
        </p:nvSpPr>
        <p:spPr>
          <a:xfrm flipV="1">
            <a:off x="4156200" y="2498400"/>
            <a:ext cx="155520" cy="144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Line 7"/>
          <p:cNvSpPr/>
          <p:nvPr/>
        </p:nvSpPr>
        <p:spPr>
          <a:xfrm>
            <a:off x="3046320" y="2673360"/>
            <a:ext cx="6955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Line 8"/>
          <p:cNvSpPr/>
          <p:nvPr/>
        </p:nvSpPr>
        <p:spPr>
          <a:xfrm flipV="1">
            <a:off x="4305240" y="2355480"/>
            <a:ext cx="138240" cy="1443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Line 9"/>
          <p:cNvSpPr/>
          <p:nvPr/>
        </p:nvSpPr>
        <p:spPr>
          <a:xfrm flipV="1">
            <a:off x="3660840" y="2890440"/>
            <a:ext cx="512640" cy="614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AutoShape 10"/>
          <p:cNvSpPr/>
          <p:nvPr/>
        </p:nvSpPr>
        <p:spPr>
          <a:xfrm>
            <a:off x="2943360" y="3967200"/>
            <a:ext cx="1763640" cy="890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router with DHC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server built i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AutoShape 11"/>
          <p:cNvSpPr/>
          <p:nvPr/>
        </p:nvSpPr>
        <p:spPr>
          <a:xfrm>
            <a:off x="5418000" y="2575080"/>
            <a:ext cx="3892680" cy="1617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HCP request encapsulated in UDP, encapsulated in IP, encapsulated in 802.1 Ether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AutoShape 12"/>
          <p:cNvSpPr/>
          <p:nvPr/>
        </p:nvSpPr>
        <p:spPr>
          <a:xfrm>
            <a:off x="5416560" y="3821040"/>
            <a:ext cx="3924360" cy="1265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thernet frame broadcast (dest: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FFFFFFFFFFF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) on LAN, received at router running DHCP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AutoShape 13"/>
          <p:cNvSpPr/>
          <p:nvPr/>
        </p:nvSpPr>
        <p:spPr>
          <a:xfrm>
            <a:off x="5415120" y="5157720"/>
            <a:ext cx="3801960" cy="979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thernet demuxed to IP demuxed, UDP demuxed to DHC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AutoShape 14"/>
          <p:cNvSpPr/>
          <p:nvPr/>
        </p:nvSpPr>
        <p:spPr>
          <a:xfrm>
            <a:off x="3708360" y="3284640"/>
            <a:ext cx="10479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168.1.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3" name="Group 15"/>
          <p:cNvGrpSpPr/>
          <p:nvPr/>
        </p:nvGrpSpPr>
        <p:grpSpPr>
          <a:xfrm>
            <a:off x="3521160" y="2598840"/>
            <a:ext cx="963360" cy="299880"/>
            <a:chOff x="3521160" y="2598840"/>
            <a:chExt cx="963360" cy="299880"/>
          </a:xfrm>
        </p:grpSpPr>
        <p:sp>
          <p:nvSpPr>
            <p:cNvPr id="864" name="AutoShape 16"/>
            <p:cNvSpPr/>
            <p:nvPr/>
          </p:nvSpPr>
          <p:spPr>
            <a:xfrm>
              <a:off x="3521160" y="2779560"/>
              <a:ext cx="719280" cy="116280"/>
            </a:xfrm>
            <a:custGeom>
              <a:avLst/>
              <a:gdLst>
                <a:gd name="textAreaLeft" fmla="*/ 0 w 719280"/>
                <a:gd name="textAreaRight" fmla="*/ 719640 w 71928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AutoShape 17"/>
            <p:cNvSpPr/>
            <p:nvPr/>
          </p:nvSpPr>
          <p:spPr>
            <a:xfrm>
              <a:off x="3521160" y="2603880"/>
              <a:ext cx="963360" cy="179280"/>
            </a:xfrm>
            <a:custGeom>
              <a:avLst/>
              <a:gdLst>
                <a:gd name="textAreaLeft" fmla="*/ 0 w 963360"/>
                <a:gd name="textAreaRight" fmla="*/ 963720 w 9633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60" y="0"/>
                  </a:moveTo>
                  <a:lnTo>
                    <a:pt x="0" y="21599"/>
                  </a:lnTo>
                  <a:lnTo>
                    <a:pt x="16240" y="21599"/>
                  </a:lnTo>
                  <a:lnTo>
                    <a:pt x="21599" y="0"/>
                  </a:lnTo>
                  <a:lnTo>
                    <a:pt x="536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AutoShape 18"/>
            <p:cNvSpPr/>
            <p:nvPr/>
          </p:nvSpPr>
          <p:spPr>
            <a:xfrm>
              <a:off x="4239000" y="2598840"/>
              <a:ext cx="245520" cy="29988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3307"/>
                  </a:moveTo>
                  <a:lnTo>
                    <a:pt x="0" y="21599"/>
                  </a:lnTo>
                  <a:lnTo>
                    <a:pt x="21600" y="7425"/>
                  </a:lnTo>
                  <a:lnTo>
                    <a:pt x="21600" y="0"/>
                  </a:lnTo>
                  <a:lnTo>
                    <a:pt x="0" y="13307"/>
                  </a:lnTo>
                  <a:close/>
                </a:path>
              </a:pathLst>
            </a:custGeom>
            <a:solidFill>
              <a:srgbClr val="bbe0e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AutoShape 19"/>
            <p:cNvSpPr/>
            <p:nvPr/>
          </p:nvSpPr>
          <p:spPr>
            <a:xfrm>
              <a:off x="3615480" y="2638800"/>
              <a:ext cx="735480" cy="106920"/>
            </a:xfrm>
            <a:custGeom>
              <a:avLst/>
              <a:gdLst>
                <a:gd name="textAreaLeft" fmla="*/ 0 w 735480"/>
                <a:gd name="textAreaRight" fmla="*/ 735840 w 73548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2854" y="21257"/>
                  </a:lnTo>
                  <a:lnTo>
                    <a:pt x="16894" y="0"/>
                  </a:lnTo>
                  <a:lnTo>
                    <a:pt x="2160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AutoShape 20"/>
            <p:cNvSpPr/>
            <p:nvPr/>
          </p:nvSpPr>
          <p:spPr>
            <a:xfrm>
              <a:off x="3786840" y="2633400"/>
              <a:ext cx="425880" cy="124560"/>
            </a:xfrm>
            <a:custGeom>
              <a:avLst/>
              <a:gdLst>
                <a:gd name="textAreaLeft" fmla="*/ 0 w 425880"/>
                <a:gd name="textAreaRight" fmla="*/ 426240 w 42588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4939" y="232"/>
                  </a:lnTo>
                  <a:lnTo>
                    <a:pt x="14375" y="21600"/>
                  </a:lnTo>
                  <a:lnTo>
                    <a:pt x="21599" y="2160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Group 21"/>
          <p:cNvGrpSpPr/>
          <p:nvPr/>
        </p:nvGrpSpPr>
        <p:grpSpPr>
          <a:xfrm>
            <a:off x="3054240" y="3525840"/>
            <a:ext cx="1068480" cy="406440"/>
            <a:chOff x="3054240" y="3525840"/>
            <a:chExt cx="1068480" cy="406440"/>
          </a:xfrm>
        </p:grpSpPr>
        <p:sp>
          <p:nvSpPr>
            <p:cNvPr id="870" name="AutoShape 22"/>
            <p:cNvSpPr/>
            <p:nvPr/>
          </p:nvSpPr>
          <p:spPr>
            <a:xfrm>
              <a:off x="3058920" y="3706200"/>
              <a:ext cx="1059120" cy="226080"/>
            </a:xfrm>
            <a:custGeom>
              <a:avLst/>
              <a:gdLst>
                <a:gd name="textAreaLeft" fmla="*/ 0 w 1059120"/>
                <a:gd name="textAreaRight" fmla="*/ 1059480 w 1059120"/>
                <a:gd name="textAreaTop" fmla="*/ 0 h 226080"/>
                <a:gd name="textAreaBottom" fmla="*/ 226440 h 22608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AutoShape 23"/>
            <p:cNvSpPr/>
            <p:nvPr/>
          </p:nvSpPr>
          <p:spPr>
            <a:xfrm>
              <a:off x="3058920" y="3679920"/>
              <a:ext cx="1063800" cy="140760"/>
            </a:xfrm>
            <a:custGeom>
              <a:avLst/>
              <a:gdLst>
                <a:gd name="textAreaLeft" fmla="*/ 0 w 1063800"/>
                <a:gd name="textAreaRight" fmla="*/ 1064160 w 106380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AutoShape 24"/>
            <p:cNvSpPr/>
            <p:nvPr/>
          </p:nvSpPr>
          <p:spPr>
            <a:xfrm>
              <a:off x="3054240" y="3525840"/>
              <a:ext cx="1060560" cy="265680"/>
            </a:xfrm>
            <a:custGeom>
              <a:avLst/>
              <a:gdLst>
                <a:gd name="textAreaLeft" fmla="*/ 0 w 1060560"/>
                <a:gd name="textAreaRight" fmla="*/ 1060920 w 1060560"/>
                <a:gd name="textAreaTop" fmla="*/ 0 h 265680"/>
                <a:gd name="textAreaBottom" fmla="*/ 266040 h 26568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3" name="Group 25"/>
            <p:cNvGrpSpPr/>
            <p:nvPr/>
          </p:nvGrpSpPr>
          <p:grpSpPr>
            <a:xfrm>
              <a:off x="3267360" y="3594600"/>
              <a:ext cx="599400" cy="122760"/>
              <a:chOff x="3267360" y="3594600"/>
              <a:chExt cx="599400" cy="122760"/>
            </a:xfrm>
          </p:grpSpPr>
          <p:sp>
            <p:nvSpPr>
              <p:cNvPr id="874" name="AutoShape 26"/>
              <p:cNvSpPr/>
              <p:nvPr/>
            </p:nvSpPr>
            <p:spPr>
              <a:xfrm>
                <a:off x="3267360" y="3594600"/>
                <a:ext cx="599400" cy="122760"/>
              </a:xfrm>
              <a:custGeom>
                <a:avLst/>
                <a:gdLst>
                  <a:gd name="textAreaLeft" fmla="*/ 0 w 599400"/>
                  <a:gd name="textAreaRight" fmla="*/ 599760 w 59940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6689" y="21600"/>
                    </a:lnTo>
                    <a:lnTo>
                      <a:pt x="13378" y="0"/>
                    </a:lnTo>
                    <a:lnTo>
                      <a:pt x="21600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AutoShape 27"/>
              <p:cNvSpPr/>
              <p:nvPr/>
            </p:nvSpPr>
            <p:spPr>
              <a:xfrm>
                <a:off x="3294360" y="3594600"/>
                <a:ext cx="545400" cy="122760"/>
              </a:xfrm>
              <a:custGeom>
                <a:avLst/>
                <a:gdLst>
                  <a:gd name="textAreaLeft" fmla="*/ 0 w 545400"/>
                  <a:gd name="textAreaRight" fmla="*/ 545760 w 54540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7353" y="0"/>
                    </a:lnTo>
                    <a:lnTo>
                      <a:pt x="14706" y="21600"/>
                    </a:lnTo>
                    <a:lnTo>
                      <a:pt x="21600" y="2160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6" name="Line 28"/>
            <p:cNvSpPr/>
            <p:nvPr/>
          </p:nvSpPr>
          <p:spPr>
            <a:xfrm>
              <a:off x="3058920" y="3650400"/>
              <a:ext cx="0" cy="17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Line 29"/>
            <p:cNvSpPr/>
            <p:nvPr/>
          </p:nvSpPr>
          <p:spPr>
            <a:xfrm>
              <a:off x="4114800" y="3658680"/>
              <a:ext cx="0" cy="17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Group 30"/>
          <p:cNvGrpSpPr/>
          <p:nvPr/>
        </p:nvGrpSpPr>
        <p:grpSpPr>
          <a:xfrm>
            <a:off x="3086280" y="3328920"/>
            <a:ext cx="425160" cy="649440"/>
            <a:chOff x="3086280" y="3328920"/>
            <a:chExt cx="425160" cy="649440"/>
          </a:xfrm>
        </p:grpSpPr>
        <p:sp>
          <p:nvSpPr>
            <p:cNvPr id="879" name="AutoShape 31"/>
            <p:cNvSpPr/>
            <p:nvPr/>
          </p:nvSpPr>
          <p:spPr>
            <a:xfrm>
              <a:off x="3422880" y="3330000"/>
              <a:ext cx="84240" cy="619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619920"/>
                <a:gd name="textAreaBottom" fmla="*/ 620280 h 61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44" y="0"/>
                  </a:moveTo>
                  <a:lnTo>
                    <a:pt x="21600" y="2670"/>
                  </a:lnTo>
                  <a:lnTo>
                    <a:pt x="21111" y="20670"/>
                  </a:lnTo>
                  <a:lnTo>
                    <a:pt x="0" y="21600"/>
                  </a:lnTo>
                  <a:lnTo>
                    <a:pt x="3844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AutoShape 32"/>
            <p:cNvSpPr/>
            <p:nvPr/>
          </p:nvSpPr>
          <p:spPr>
            <a:xfrm>
              <a:off x="3105360" y="3328920"/>
              <a:ext cx="313560" cy="619200"/>
            </a:xfrm>
            <a:custGeom>
              <a:avLst/>
              <a:gdLst>
                <a:gd name="textAreaLeft" fmla="*/ 0 w 313560"/>
                <a:gd name="textAreaRight" fmla="*/ 313920 w 31356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AutoShape 33"/>
            <p:cNvSpPr/>
            <p:nvPr/>
          </p:nvSpPr>
          <p:spPr>
            <a:xfrm>
              <a:off x="3440520" y="3367080"/>
              <a:ext cx="48600" cy="56556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565560"/>
                <a:gd name="textAreaBottom" fmla="*/ 565920 h 565560"/>
              </a:gdLst>
              <a:ahLst/>
              <a:rect l="textAreaLeft" t="textAreaTop" r="textAreaRight" b="textAreaBottom"/>
              <a:pathLst>
                <a:path w="20883" h="21300">
                  <a:moveTo>
                    <a:pt x="-1" y="0"/>
                  </a:moveTo>
                  <a:cubicBezTo>
                    <a:pt x="-1" y="0"/>
                    <a:pt x="5118" y="238"/>
                    <a:pt x="20883" y="1856"/>
                  </a:cubicBezTo>
                  <a:cubicBezTo>
                    <a:pt x="-717" y="10463"/>
                    <a:pt x="3480" y="21599"/>
                    <a:pt x="-1" y="21293"/>
                  </a:cubicBez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AutoShape 34"/>
            <p:cNvSpPr/>
            <p:nvPr/>
          </p:nvSpPr>
          <p:spPr>
            <a:xfrm>
              <a:off x="3427560" y="3657240"/>
              <a:ext cx="78480" cy="5112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63" y="0"/>
                  </a:moveTo>
                  <a:cubicBezTo>
                    <a:pt x="3951" y="955"/>
                    <a:pt x="11985" y="7072"/>
                    <a:pt x="21599" y="12233"/>
                  </a:cubicBezTo>
                  <a:cubicBezTo>
                    <a:pt x="21468" y="15483"/>
                    <a:pt x="21468" y="15100"/>
                    <a:pt x="21468" y="21599"/>
                  </a:cubicBezTo>
                  <a:cubicBezTo>
                    <a:pt x="21468" y="21599"/>
                    <a:pt x="11129" y="14814"/>
                    <a:pt x="0" y="9557"/>
                  </a:cubicBezTo>
                  <a:cubicBezTo>
                    <a:pt x="0" y="4587"/>
                    <a:pt x="263" y="1624"/>
                    <a:pt x="26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AutoShape 35"/>
            <p:cNvSpPr/>
            <p:nvPr/>
          </p:nvSpPr>
          <p:spPr>
            <a:xfrm>
              <a:off x="3106800" y="3400200"/>
              <a:ext cx="178560" cy="1260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4" name="Group 36"/>
            <p:cNvGrpSpPr/>
            <p:nvPr/>
          </p:nvGrpSpPr>
          <p:grpSpPr>
            <a:xfrm>
              <a:off x="3267720" y="3394080"/>
              <a:ext cx="173520" cy="38160"/>
              <a:chOff x="3267720" y="3394080"/>
              <a:chExt cx="173520" cy="38160"/>
            </a:xfrm>
          </p:grpSpPr>
          <p:sp>
            <p:nvSpPr>
              <p:cNvPr id="885" name="AutoShape 37"/>
              <p:cNvSpPr/>
              <p:nvPr/>
            </p:nvSpPr>
            <p:spPr>
              <a:xfrm>
                <a:off x="3267720" y="3394080"/>
                <a:ext cx="17352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AutoShape 38"/>
              <p:cNvSpPr/>
              <p:nvPr/>
            </p:nvSpPr>
            <p:spPr>
              <a:xfrm>
                <a:off x="3270960" y="3398760"/>
                <a:ext cx="1659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7" name="AutoShape 39"/>
            <p:cNvSpPr/>
            <p:nvPr/>
          </p:nvSpPr>
          <p:spPr>
            <a:xfrm>
              <a:off x="3111480" y="3488040"/>
              <a:ext cx="176760" cy="1260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8" name="Group 40"/>
            <p:cNvGrpSpPr/>
            <p:nvPr/>
          </p:nvGrpSpPr>
          <p:grpSpPr>
            <a:xfrm>
              <a:off x="3267720" y="3481560"/>
              <a:ext cx="173520" cy="36360"/>
              <a:chOff x="3267720" y="3481560"/>
              <a:chExt cx="173520" cy="36360"/>
            </a:xfrm>
          </p:grpSpPr>
          <p:sp>
            <p:nvSpPr>
              <p:cNvPr id="889" name="AutoShape 41"/>
              <p:cNvSpPr/>
              <p:nvPr/>
            </p:nvSpPr>
            <p:spPr>
              <a:xfrm>
                <a:off x="3267720" y="3481560"/>
                <a:ext cx="173520" cy="363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AutoShape 42"/>
              <p:cNvSpPr/>
              <p:nvPr/>
            </p:nvSpPr>
            <p:spPr>
              <a:xfrm>
                <a:off x="3270600" y="3486240"/>
                <a:ext cx="16596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1" name="AutoShape 43"/>
            <p:cNvSpPr/>
            <p:nvPr/>
          </p:nvSpPr>
          <p:spPr>
            <a:xfrm>
              <a:off x="3108600" y="3580560"/>
              <a:ext cx="178560" cy="1260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AutoShape 44"/>
            <p:cNvSpPr/>
            <p:nvPr/>
          </p:nvSpPr>
          <p:spPr>
            <a:xfrm>
              <a:off x="3111480" y="3661560"/>
              <a:ext cx="178560" cy="1260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3" name="Group 45"/>
            <p:cNvGrpSpPr/>
            <p:nvPr/>
          </p:nvGrpSpPr>
          <p:grpSpPr>
            <a:xfrm>
              <a:off x="3263040" y="3653640"/>
              <a:ext cx="174960" cy="41400"/>
              <a:chOff x="3263040" y="3653640"/>
              <a:chExt cx="174960" cy="41400"/>
            </a:xfrm>
          </p:grpSpPr>
          <p:sp>
            <p:nvSpPr>
              <p:cNvPr id="894" name="AutoShape 46"/>
              <p:cNvSpPr/>
              <p:nvPr/>
            </p:nvSpPr>
            <p:spPr>
              <a:xfrm>
                <a:off x="3263040" y="3653640"/>
                <a:ext cx="17496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AutoShape 47"/>
              <p:cNvSpPr/>
              <p:nvPr/>
            </p:nvSpPr>
            <p:spPr>
              <a:xfrm>
                <a:off x="3265920" y="3658320"/>
                <a:ext cx="16740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6" name="AutoShape 48"/>
            <p:cNvSpPr/>
            <p:nvPr/>
          </p:nvSpPr>
          <p:spPr>
            <a:xfrm>
              <a:off x="3429000" y="3579480"/>
              <a:ext cx="78480" cy="507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63" y="0"/>
                  </a:moveTo>
                  <a:cubicBezTo>
                    <a:pt x="3951" y="955"/>
                    <a:pt x="11985" y="7072"/>
                    <a:pt x="21599" y="12233"/>
                  </a:cubicBezTo>
                  <a:cubicBezTo>
                    <a:pt x="21468" y="15483"/>
                    <a:pt x="21468" y="15100"/>
                    <a:pt x="21468" y="21599"/>
                  </a:cubicBezTo>
                  <a:cubicBezTo>
                    <a:pt x="21468" y="21599"/>
                    <a:pt x="11129" y="14814"/>
                    <a:pt x="0" y="9557"/>
                  </a:cubicBezTo>
                  <a:cubicBezTo>
                    <a:pt x="0" y="4587"/>
                    <a:pt x="263" y="1624"/>
                    <a:pt x="26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7" name="Group 49"/>
            <p:cNvGrpSpPr/>
            <p:nvPr/>
          </p:nvGrpSpPr>
          <p:grpSpPr>
            <a:xfrm>
              <a:off x="3264480" y="3572640"/>
              <a:ext cx="173520" cy="38160"/>
              <a:chOff x="3264480" y="3572640"/>
              <a:chExt cx="173520" cy="38160"/>
            </a:xfrm>
          </p:grpSpPr>
          <p:sp>
            <p:nvSpPr>
              <p:cNvPr id="898" name="AutoShape 50"/>
              <p:cNvSpPr/>
              <p:nvPr/>
            </p:nvSpPr>
            <p:spPr>
              <a:xfrm>
                <a:off x="3264480" y="3572640"/>
                <a:ext cx="17352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AutoShape 51"/>
              <p:cNvSpPr/>
              <p:nvPr/>
            </p:nvSpPr>
            <p:spPr>
              <a:xfrm>
                <a:off x="3267720" y="3576960"/>
                <a:ext cx="16560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0" name="AutoShape 52"/>
            <p:cNvSpPr/>
            <p:nvPr/>
          </p:nvSpPr>
          <p:spPr>
            <a:xfrm>
              <a:off x="3417480" y="3328920"/>
              <a:ext cx="20520" cy="621000"/>
            </a:xfrm>
            <a:custGeom>
              <a:avLst/>
              <a:gdLst>
                <a:gd name="textAreaLeft" fmla="*/ 0 w 20520"/>
                <a:gd name="textAreaRight" fmla="*/ 20520 w 20520"/>
                <a:gd name="textAreaTop" fmla="*/ 0 h 621000"/>
                <a:gd name="textAreaBottom" fmla="*/ 621360 h 6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AutoShape 53"/>
            <p:cNvSpPr/>
            <p:nvPr/>
          </p:nvSpPr>
          <p:spPr>
            <a:xfrm>
              <a:off x="3436200" y="3485520"/>
              <a:ext cx="70560" cy="5760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91" y="0"/>
                  </a:moveTo>
                  <a:cubicBezTo>
                    <a:pt x="4013" y="843"/>
                    <a:pt x="10508" y="5737"/>
                    <a:pt x="21308" y="12149"/>
                  </a:cubicBezTo>
                  <a:cubicBezTo>
                    <a:pt x="21162" y="15018"/>
                    <a:pt x="21599" y="15862"/>
                    <a:pt x="21599" y="21600"/>
                  </a:cubicBezTo>
                  <a:cubicBezTo>
                    <a:pt x="21599" y="21600"/>
                    <a:pt x="11675" y="14849"/>
                    <a:pt x="0" y="8437"/>
                  </a:cubicBezTo>
                  <a:cubicBezTo>
                    <a:pt x="0" y="4049"/>
                    <a:pt x="291" y="1434"/>
                    <a:pt x="29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AutoShape 54"/>
            <p:cNvSpPr/>
            <p:nvPr/>
          </p:nvSpPr>
          <p:spPr>
            <a:xfrm>
              <a:off x="3436920" y="3396960"/>
              <a:ext cx="72720" cy="648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3623" y="749"/>
                    <a:pt x="10515" y="5699"/>
                    <a:pt x="21600" y="12300"/>
                  </a:cubicBezTo>
                  <a:cubicBezTo>
                    <a:pt x="21457" y="14850"/>
                    <a:pt x="20178" y="16500"/>
                    <a:pt x="20178" y="21600"/>
                  </a:cubicBezTo>
                  <a:cubicBezTo>
                    <a:pt x="20178" y="21600"/>
                    <a:pt x="11581" y="13425"/>
                    <a:pt x="568" y="9299"/>
                  </a:cubicBezTo>
                  <a:cubicBezTo>
                    <a:pt x="568" y="5399"/>
                    <a:pt x="0" y="1274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AutoShape 55"/>
            <p:cNvSpPr/>
            <p:nvPr/>
          </p:nvSpPr>
          <p:spPr>
            <a:xfrm>
              <a:off x="3497400" y="3921480"/>
              <a:ext cx="14040" cy="252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AutoShape 56"/>
            <p:cNvSpPr/>
            <p:nvPr/>
          </p:nvSpPr>
          <p:spPr>
            <a:xfrm>
              <a:off x="3432960" y="3921480"/>
              <a:ext cx="73080" cy="540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9539"/>
                  </a:moveTo>
                  <a:lnTo>
                    <a:pt x="141" y="21600"/>
                  </a:lnTo>
                  <a:lnTo>
                    <a:pt x="21600" y="9899"/>
                  </a:lnTo>
                  <a:lnTo>
                    <a:pt x="21176" y="0"/>
                  </a:lnTo>
                  <a:lnTo>
                    <a:pt x="0" y="9539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AutoShape 57"/>
            <p:cNvSpPr/>
            <p:nvPr/>
          </p:nvSpPr>
          <p:spPr>
            <a:xfrm>
              <a:off x="3086280" y="3938760"/>
              <a:ext cx="35856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AutoShape 58"/>
            <p:cNvSpPr/>
            <p:nvPr/>
          </p:nvSpPr>
          <p:spPr>
            <a:xfrm>
              <a:off x="3105360" y="3948120"/>
              <a:ext cx="32040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AutoShape 59"/>
            <p:cNvSpPr/>
            <p:nvPr/>
          </p:nvSpPr>
          <p:spPr>
            <a:xfrm>
              <a:off x="3135240" y="3859200"/>
              <a:ext cx="47520" cy="38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AutoShape 60"/>
            <p:cNvSpPr/>
            <p:nvPr/>
          </p:nvSpPr>
          <p:spPr>
            <a:xfrm>
              <a:off x="3189600" y="3859200"/>
              <a:ext cx="47520" cy="38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AutoShape 61"/>
            <p:cNvSpPr/>
            <p:nvPr/>
          </p:nvSpPr>
          <p:spPr>
            <a:xfrm>
              <a:off x="3242160" y="3857760"/>
              <a:ext cx="46080" cy="381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AutoShape 62"/>
            <p:cNvSpPr/>
            <p:nvPr/>
          </p:nvSpPr>
          <p:spPr>
            <a:xfrm>
              <a:off x="3361680" y="3709440"/>
              <a:ext cx="25200" cy="2066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9292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Group 63"/>
          <p:cNvGrpSpPr/>
          <p:nvPr/>
        </p:nvGrpSpPr>
        <p:grpSpPr>
          <a:xfrm>
            <a:off x="2349360" y="2295360"/>
            <a:ext cx="860400" cy="639000"/>
            <a:chOff x="2349360" y="2295360"/>
            <a:chExt cx="860400" cy="639000"/>
          </a:xfrm>
        </p:grpSpPr>
        <p:pic>
          <p:nvPicPr>
            <p:cNvPr id="912" name="Picture 64" descr="laptop_keyboard"/>
            <p:cNvPicPr/>
            <p:nvPr/>
          </p:nvPicPr>
          <p:blipFill>
            <a:blip r:embed="rId1"/>
            <a:stretch/>
          </p:blipFill>
          <p:spPr>
            <a:xfrm flipH="1" rot="109800">
              <a:off x="2354040" y="2610360"/>
              <a:ext cx="734400" cy="31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3" name="AutoShape 65"/>
            <p:cNvSpPr/>
            <p:nvPr/>
          </p:nvSpPr>
          <p:spPr>
            <a:xfrm>
              <a:off x="2598120" y="2309040"/>
              <a:ext cx="590760" cy="406800"/>
            </a:xfrm>
            <a:custGeom>
              <a:avLst/>
              <a:gdLst>
                <a:gd name="textAreaLeft" fmla="*/ 0 w 590760"/>
                <a:gd name="textAreaRight" fmla="*/ 590760 w 590760"/>
                <a:gd name="textAreaTop" fmla="*/ 0 h 406800"/>
                <a:gd name="textAreaBottom" fmla="*/ 407160 h 40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911" y="0"/>
                  </a:moveTo>
                  <a:lnTo>
                    <a:pt x="0" y="15337"/>
                  </a:lnTo>
                  <a:lnTo>
                    <a:pt x="17340" y="21599"/>
                  </a:lnTo>
                  <a:lnTo>
                    <a:pt x="21599" y="2812"/>
                  </a:lnTo>
                  <a:lnTo>
                    <a:pt x="391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4" name="Picture 66" descr="screen"/>
            <p:cNvPicPr/>
            <p:nvPr/>
          </p:nvPicPr>
          <p:blipFill>
            <a:blip r:embed="rId2"/>
            <a:stretch/>
          </p:blipFill>
          <p:spPr>
            <a:xfrm>
              <a:off x="2627280" y="2318400"/>
              <a:ext cx="5364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AutoShape 67"/>
            <p:cNvSpPr/>
            <p:nvPr/>
          </p:nvSpPr>
          <p:spPr>
            <a:xfrm>
              <a:off x="2705400" y="2296440"/>
              <a:ext cx="500040" cy="752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9" y="0"/>
                  </a:moveTo>
                  <a:lnTo>
                    <a:pt x="21600" y="16188"/>
                  </a:lnTo>
                  <a:lnTo>
                    <a:pt x="21189" y="21599"/>
                  </a:lnTo>
                  <a:lnTo>
                    <a:pt x="0" y="4082"/>
                  </a:lnTo>
                  <a:lnTo>
                    <a:pt x="119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AutoShape 68"/>
            <p:cNvSpPr/>
            <p:nvPr/>
          </p:nvSpPr>
          <p:spPr>
            <a:xfrm>
              <a:off x="2592360" y="2295360"/>
              <a:ext cx="139320" cy="31500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15" y="0"/>
                  </a:moveTo>
                  <a:lnTo>
                    <a:pt x="0" y="21326"/>
                  </a:lnTo>
                  <a:lnTo>
                    <a:pt x="3507" y="21600"/>
                  </a:lnTo>
                  <a:lnTo>
                    <a:pt x="21599" y="581"/>
                  </a:lnTo>
                  <a:lnTo>
                    <a:pt x="17815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AutoShape 69"/>
            <p:cNvSpPr/>
            <p:nvPr/>
          </p:nvSpPr>
          <p:spPr>
            <a:xfrm>
              <a:off x="3052440" y="2352600"/>
              <a:ext cx="150480" cy="36288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362880"/>
                <a:gd name="textAreaBottom" fmla="*/ 363240 h 36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599" y="0"/>
                  </a:moveTo>
                  <a:lnTo>
                    <a:pt x="3942" y="21600"/>
                  </a:lnTo>
                  <a:lnTo>
                    <a:pt x="0" y="21243"/>
                  </a:lnTo>
                  <a:lnTo>
                    <a:pt x="17314" y="771"/>
                  </a:lnTo>
                  <a:lnTo>
                    <a:pt x="21599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AutoShape 70"/>
            <p:cNvSpPr/>
            <p:nvPr/>
          </p:nvSpPr>
          <p:spPr>
            <a:xfrm>
              <a:off x="2591280" y="2595240"/>
              <a:ext cx="511920" cy="121680"/>
            </a:xfrm>
            <a:custGeom>
              <a:avLst/>
              <a:gdLst>
                <a:gd name="textAreaLeft" fmla="*/ 0 w 511920"/>
                <a:gd name="textAreaRight" fmla="*/ 512280 w 51192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20144" h="21600">
                  <a:moveTo>
                    <a:pt x="257" y="0"/>
                  </a:moveTo>
                  <a:lnTo>
                    <a:pt x="0" y="2897"/>
                  </a:lnTo>
                  <a:lnTo>
                    <a:pt x="18974" y="21600"/>
                  </a:lnTo>
                  <a:cubicBezTo>
                    <a:pt x="19465" y="14663"/>
                    <a:pt x="21600" y="21278"/>
                    <a:pt x="18484" y="17648"/>
                  </a:cubicBezTo>
                  <a:lnTo>
                    <a:pt x="25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AutoShape 71"/>
            <p:cNvSpPr/>
            <p:nvPr/>
          </p:nvSpPr>
          <p:spPr>
            <a:xfrm>
              <a:off x="3069000" y="2355480"/>
              <a:ext cx="140760" cy="36432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364320"/>
                <a:gd name="textAreaBottom" fmla="*/ 364680 h 36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854" y="0"/>
                  </a:moveTo>
                  <a:lnTo>
                    <a:pt x="21599" y="0"/>
                  </a:lnTo>
                  <a:lnTo>
                    <a:pt x="2305" y="21600"/>
                  </a:lnTo>
                  <a:lnTo>
                    <a:pt x="0" y="21443"/>
                  </a:lnTo>
                  <a:lnTo>
                    <a:pt x="20854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AutoShape 72"/>
            <p:cNvSpPr/>
            <p:nvPr/>
          </p:nvSpPr>
          <p:spPr>
            <a:xfrm>
              <a:off x="2591280" y="2611800"/>
              <a:ext cx="488880" cy="12024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7" y="2238"/>
                  </a:lnTo>
                  <a:lnTo>
                    <a:pt x="21093" y="21599"/>
                  </a:lnTo>
                  <a:lnTo>
                    <a:pt x="21599" y="1947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1" name="Group 73"/>
            <p:cNvGrpSpPr/>
            <p:nvPr/>
          </p:nvGrpSpPr>
          <p:grpSpPr>
            <a:xfrm>
              <a:off x="2582640" y="2740320"/>
              <a:ext cx="165600" cy="72360"/>
              <a:chOff x="2582640" y="2740320"/>
              <a:chExt cx="165600" cy="72360"/>
            </a:xfrm>
          </p:grpSpPr>
          <p:sp>
            <p:nvSpPr>
              <p:cNvPr id="922" name="AutoShape 74"/>
              <p:cNvSpPr/>
              <p:nvPr/>
            </p:nvSpPr>
            <p:spPr>
              <a:xfrm>
                <a:off x="2582640" y="2740320"/>
                <a:ext cx="165600" cy="72360"/>
              </a:xfrm>
              <a:custGeom>
                <a:avLst/>
                <a:gdLst>
                  <a:gd name="textAreaLeft" fmla="*/ 0 w 165600"/>
                  <a:gd name="textAreaRight" fmla="*/ 165960 w 16560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415" y="0"/>
                    </a:moveTo>
                    <a:lnTo>
                      <a:pt x="21600" y="8190"/>
                    </a:lnTo>
                    <a:lnTo>
                      <a:pt x="13499" y="21599"/>
                    </a:lnTo>
                    <a:lnTo>
                      <a:pt x="0" y="12088"/>
                    </a:lnTo>
                    <a:lnTo>
                      <a:pt x="8415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AutoShape 75"/>
              <p:cNvSpPr/>
              <p:nvPr/>
            </p:nvSpPr>
            <p:spPr>
              <a:xfrm>
                <a:off x="2585520" y="2741760"/>
                <a:ext cx="160200" cy="6912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390" y="0"/>
                    </a:moveTo>
                    <a:lnTo>
                      <a:pt x="21600" y="8264"/>
                    </a:lnTo>
                    <a:lnTo>
                      <a:pt x="13596" y="21599"/>
                    </a:lnTo>
                    <a:lnTo>
                      <a:pt x="0" y="12015"/>
                    </a:lnTo>
                    <a:lnTo>
                      <a:pt x="839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AutoShape 76"/>
              <p:cNvSpPr/>
              <p:nvPr/>
            </p:nvSpPr>
            <p:spPr>
              <a:xfrm>
                <a:off x="2597400" y="2768760"/>
                <a:ext cx="56880" cy="219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9503"/>
                    </a:moveTo>
                    <a:lnTo>
                      <a:pt x="6279" y="0"/>
                    </a:lnTo>
                    <a:lnTo>
                      <a:pt x="21600" y="10800"/>
                    </a:lnTo>
                    <a:lnTo>
                      <a:pt x="15320" y="21599"/>
                    </a:lnTo>
                    <a:lnTo>
                      <a:pt x="0" y="9503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AutoShape 77"/>
              <p:cNvSpPr/>
              <p:nvPr/>
            </p:nvSpPr>
            <p:spPr>
              <a:xfrm>
                <a:off x="2595600" y="2778840"/>
                <a:ext cx="42480" cy="13680"/>
              </a:xfrm>
              <a:custGeom>
                <a:avLst/>
                <a:gdLst>
                  <a:gd name="textAreaLeft" fmla="*/ 0 w 42480"/>
                  <a:gd name="textAreaRight" fmla="*/ 4248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36" y="0"/>
                    </a:moveTo>
                    <a:lnTo>
                      <a:pt x="21600" y="18171"/>
                    </a:lnTo>
                    <a:lnTo>
                      <a:pt x="20041" y="21599"/>
                    </a:lnTo>
                    <a:lnTo>
                      <a:pt x="0" y="3085"/>
                    </a:lnTo>
                    <a:lnTo>
                      <a:pt x="133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AutoShape 78"/>
              <p:cNvSpPr/>
              <p:nvPr/>
            </p:nvSpPr>
            <p:spPr>
              <a:xfrm>
                <a:off x="2644200" y="2782800"/>
                <a:ext cx="56880" cy="2268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9741"/>
                    </a:moveTo>
                    <a:lnTo>
                      <a:pt x="5944" y="0"/>
                    </a:lnTo>
                    <a:lnTo>
                      <a:pt x="21600" y="11011"/>
                    </a:lnTo>
                    <a:lnTo>
                      <a:pt x="15320" y="21599"/>
                    </a:lnTo>
                    <a:lnTo>
                      <a:pt x="0" y="9741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AutoShape 79"/>
              <p:cNvSpPr/>
              <p:nvPr/>
            </p:nvSpPr>
            <p:spPr>
              <a:xfrm>
                <a:off x="2642400" y="2793600"/>
                <a:ext cx="42480" cy="13680"/>
              </a:xfrm>
              <a:custGeom>
                <a:avLst/>
                <a:gdLst>
                  <a:gd name="textAreaLeft" fmla="*/ 0 w 42480"/>
                  <a:gd name="textAreaRight" fmla="*/ 4248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36" y="0"/>
                    </a:moveTo>
                    <a:lnTo>
                      <a:pt x="21600" y="18171"/>
                    </a:lnTo>
                    <a:lnTo>
                      <a:pt x="20041" y="21599"/>
                    </a:lnTo>
                    <a:lnTo>
                      <a:pt x="0" y="3085"/>
                    </a:lnTo>
                    <a:lnTo>
                      <a:pt x="133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8" name="AutoShape 80"/>
            <p:cNvSpPr/>
            <p:nvPr/>
          </p:nvSpPr>
          <p:spPr>
            <a:xfrm>
              <a:off x="2867040" y="2751480"/>
              <a:ext cx="200520" cy="15876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65" y="20127"/>
                  </a:moveTo>
                  <a:lnTo>
                    <a:pt x="21600" y="0"/>
                  </a:lnTo>
                  <a:lnTo>
                    <a:pt x="21534" y="1636"/>
                  </a:lnTo>
                  <a:lnTo>
                    <a:pt x="0" y="21599"/>
                  </a:lnTo>
                  <a:lnTo>
                    <a:pt x="65" y="20127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AutoShape 81"/>
            <p:cNvSpPr/>
            <p:nvPr/>
          </p:nvSpPr>
          <p:spPr>
            <a:xfrm>
              <a:off x="2354400" y="2763720"/>
              <a:ext cx="514080" cy="145080"/>
            </a:xfrm>
            <a:custGeom>
              <a:avLst/>
              <a:gdLst>
                <a:gd name="textAreaLeft" fmla="*/ 0 w 514080"/>
                <a:gd name="textAreaRight" fmla="*/ 514080 w 51408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1" y="0"/>
                  </a:moveTo>
                  <a:cubicBezTo>
                    <a:pt x="136" y="0"/>
                    <a:pt x="221" y="0"/>
                    <a:pt x="307" y="0"/>
                  </a:cubicBezTo>
                  <a:lnTo>
                    <a:pt x="21600" y="20255"/>
                  </a:lnTo>
                  <a:lnTo>
                    <a:pt x="21574" y="21600"/>
                  </a:lnTo>
                  <a:lnTo>
                    <a:pt x="0" y="717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AutoShape 82"/>
            <p:cNvSpPr/>
            <p:nvPr/>
          </p:nvSpPr>
          <p:spPr>
            <a:xfrm>
              <a:off x="2354400" y="2737800"/>
              <a:ext cx="5400" cy="2844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599" y="1469"/>
                  </a:moveTo>
                  <a:lnTo>
                    <a:pt x="19107" y="21600"/>
                  </a:lnTo>
                  <a:lnTo>
                    <a:pt x="0" y="21159"/>
                  </a:lnTo>
                  <a:lnTo>
                    <a:pt x="2492" y="0"/>
                  </a:lnTo>
                  <a:lnTo>
                    <a:pt x="21599" y="1469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AutoShape 83"/>
            <p:cNvSpPr/>
            <p:nvPr/>
          </p:nvSpPr>
          <p:spPr>
            <a:xfrm>
              <a:off x="2355480" y="2618640"/>
              <a:ext cx="238320" cy="1202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489" y="0"/>
                  </a:moveTo>
                  <a:lnTo>
                    <a:pt x="0" y="21279"/>
                  </a:lnTo>
                  <a:lnTo>
                    <a:pt x="551" y="21599"/>
                  </a:lnTo>
                  <a:lnTo>
                    <a:pt x="21600" y="641"/>
                  </a:lnTo>
                  <a:lnTo>
                    <a:pt x="2148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AutoShape 84"/>
            <p:cNvSpPr/>
            <p:nvPr/>
          </p:nvSpPr>
          <p:spPr>
            <a:xfrm>
              <a:off x="2370960" y="2743200"/>
              <a:ext cx="487440" cy="13968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1" y="0"/>
                  </a:moveTo>
                  <a:cubicBezTo>
                    <a:pt x="136" y="0"/>
                    <a:pt x="221" y="0"/>
                    <a:pt x="307" y="0"/>
                  </a:cubicBezTo>
                  <a:lnTo>
                    <a:pt x="21599" y="20255"/>
                  </a:lnTo>
                  <a:lnTo>
                    <a:pt x="21574" y="21599"/>
                  </a:lnTo>
                  <a:lnTo>
                    <a:pt x="0" y="717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AutoShape 85"/>
            <p:cNvSpPr/>
            <p:nvPr/>
          </p:nvSpPr>
          <p:spPr>
            <a:xfrm flipH="1" rot="10800000">
              <a:off x="2857680" y="2733120"/>
              <a:ext cx="197640" cy="143640"/>
            </a:xfrm>
            <a:custGeom>
              <a:avLst/>
              <a:gdLst>
                <a:gd name="textAreaLeft" fmla="*/ -360 w 197640"/>
                <a:gd name="textAreaRight" fmla="*/ 197640 w 197640"/>
                <a:gd name="textAreaTop" fmla="*/ 0 h 143640"/>
                <a:gd name="textAreaBottom" fmla="*/ 144000 h 14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1" y="0"/>
                  </a:moveTo>
                  <a:cubicBezTo>
                    <a:pt x="136" y="0"/>
                    <a:pt x="221" y="0"/>
                    <a:pt x="307" y="0"/>
                  </a:cubicBezTo>
                  <a:lnTo>
                    <a:pt x="21600" y="20255"/>
                  </a:lnTo>
                  <a:lnTo>
                    <a:pt x="21574" y="21599"/>
                  </a:lnTo>
                  <a:lnTo>
                    <a:pt x="0" y="717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Group 86"/>
          <p:cNvGrpSpPr/>
          <p:nvPr/>
        </p:nvGrpSpPr>
        <p:grpSpPr>
          <a:xfrm>
            <a:off x="1209600" y="2422440"/>
            <a:ext cx="978120" cy="486000"/>
            <a:chOff x="1209600" y="2422440"/>
            <a:chExt cx="978120" cy="486000"/>
          </a:xfrm>
        </p:grpSpPr>
        <p:sp>
          <p:nvSpPr>
            <p:cNvPr id="935" name="AutoShape 87"/>
            <p:cNvSpPr/>
            <p:nvPr/>
          </p:nvSpPr>
          <p:spPr>
            <a:xfrm>
              <a:off x="1362240" y="2422440"/>
              <a:ext cx="825480" cy="48600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199" y="0"/>
                  </a:moveTo>
                  <a:lnTo>
                    <a:pt x="15199" y="5400"/>
                  </a:lnTo>
                  <a:lnTo>
                    <a:pt x="0" y="5400"/>
                  </a:lnTo>
                  <a:lnTo>
                    <a:pt x="0" y="16199"/>
                  </a:lnTo>
                  <a:lnTo>
                    <a:pt x="15199" y="16199"/>
                  </a:lnTo>
                  <a:lnTo>
                    <a:pt x="15199" y="21599"/>
                  </a:lnTo>
                  <a:lnTo>
                    <a:pt x="21599" y="10800"/>
                  </a:lnTo>
                  <a:lnTo>
                    <a:pt x="15199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AutoShape 88"/>
            <p:cNvSpPr/>
            <p:nvPr/>
          </p:nvSpPr>
          <p:spPr>
            <a:xfrm>
              <a:off x="1270440" y="2543760"/>
              <a:ext cx="60840" cy="243000"/>
            </a:xfrm>
            <a:custGeom>
              <a:avLst/>
              <a:gdLst>
                <a:gd name="textAreaLeft" fmla="*/ 0 w 60840"/>
                <a:gd name="textAreaRight" fmla="*/ 60840 w 6084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599"/>
                  </a:lnTo>
                  <a:lnTo>
                    <a:pt x="21600" y="21599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AutoShape 89"/>
            <p:cNvSpPr/>
            <p:nvPr/>
          </p:nvSpPr>
          <p:spPr>
            <a:xfrm>
              <a:off x="1209600" y="2543760"/>
              <a:ext cx="30240" cy="243000"/>
            </a:xfrm>
            <a:custGeom>
              <a:avLst/>
              <a:gdLst>
                <a:gd name="textAreaLeft" fmla="*/ 0 w 30240"/>
                <a:gd name="textAreaRight" fmla="*/ 30240 w 3024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599"/>
                  </a:lnTo>
                  <a:lnTo>
                    <a:pt x="21600" y="21599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90"/>
          <p:cNvGrpSpPr/>
          <p:nvPr/>
        </p:nvGrpSpPr>
        <p:grpSpPr>
          <a:xfrm>
            <a:off x="1574640" y="1258920"/>
            <a:ext cx="978120" cy="1460520"/>
            <a:chOff x="1574640" y="1258920"/>
            <a:chExt cx="978120" cy="1460520"/>
          </a:xfrm>
        </p:grpSpPr>
        <p:sp>
          <p:nvSpPr>
            <p:cNvPr id="939" name="AutoShape 91"/>
            <p:cNvSpPr/>
            <p:nvPr/>
          </p:nvSpPr>
          <p:spPr>
            <a:xfrm>
              <a:off x="1591920" y="1285560"/>
              <a:ext cx="960840" cy="1433880"/>
            </a:xfrm>
            <a:custGeom>
              <a:avLst/>
              <a:gdLst>
                <a:gd name="textAreaLeft" fmla="*/ 0 w 960840"/>
                <a:gd name="textAreaRight" fmla="*/ 961200 w 960840"/>
                <a:gd name="textAreaTop" fmla="*/ 0 h 1433880"/>
                <a:gd name="textAreaBottom" fmla="*/ 1434240 h 143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737" y="0"/>
                  </a:moveTo>
                  <a:lnTo>
                    <a:pt x="21599" y="21599"/>
                  </a:lnTo>
                  <a:lnTo>
                    <a:pt x="0" y="18849"/>
                  </a:lnTo>
                  <a:lnTo>
                    <a:pt x="16307" y="17940"/>
                  </a:lnTo>
                  <a:lnTo>
                    <a:pt x="17737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67058"/>
                  </a:srgbClr>
                </a:gs>
                <a:gs pos="100000">
                  <a:srgbClr val="000099">
                    <a:alpha val="66274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0" name="Group 92"/>
            <p:cNvGrpSpPr/>
            <p:nvPr/>
          </p:nvGrpSpPr>
          <p:grpSpPr>
            <a:xfrm>
              <a:off x="1574640" y="1258920"/>
              <a:ext cx="795240" cy="1298160"/>
              <a:chOff x="1574640" y="1258920"/>
              <a:chExt cx="795240" cy="1298160"/>
            </a:xfrm>
          </p:grpSpPr>
          <p:sp>
            <p:nvSpPr>
              <p:cNvPr id="941" name="AutoShape 93"/>
              <p:cNvSpPr/>
              <p:nvPr/>
            </p:nvSpPr>
            <p:spPr>
              <a:xfrm>
                <a:off x="1585440" y="1288800"/>
                <a:ext cx="784440" cy="1254600"/>
              </a:xfrm>
              <a:custGeom>
                <a:avLst/>
                <a:gdLst>
                  <a:gd name="textAreaLeft" fmla="*/ 0 w 784440"/>
                  <a:gd name="textAreaRight" fmla="*/ 784800 w 784440"/>
                  <a:gd name="textAreaTop" fmla="*/ 0 h 1254600"/>
                  <a:gd name="textAreaBottom" fmla="*/ 1254960 h 1254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599" y="0"/>
                    </a:lnTo>
                    <a:lnTo>
                      <a:pt x="21599" y="21599"/>
                    </a:lnTo>
                    <a:lnTo>
                      <a:pt x="0" y="215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AutoShape 94"/>
              <p:cNvSpPr/>
              <p:nvPr/>
            </p:nvSpPr>
            <p:spPr>
              <a:xfrm>
                <a:off x="1636920" y="1258920"/>
                <a:ext cx="709920" cy="1298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95"/>
              <p:cNvSpPr/>
              <p:nvPr/>
            </p:nvSpPr>
            <p:spPr>
              <a:xfrm>
                <a:off x="1588680" y="1538280"/>
                <a:ext cx="777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Line 96"/>
              <p:cNvSpPr/>
              <p:nvPr/>
            </p:nvSpPr>
            <p:spPr>
              <a:xfrm>
                <a:off x="1584000" y="1790640"/>
                <a:ext cx="777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Line 97"/>
              <p:cNvSpPr/>
              <p:nvPr/>
            </p:nvSpPr>
            <p:spPr>
              <a:xfrm>
                <a:off x="1579320" y="2043360"/>
                <a:ext cx="777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Line 98"/>
              <p:cNvSpPr/>
              <p:nvPr/>
            </p:nvSpPr>
            <p:spPr>
              <a:xfrm>
                <a:off x="1574640" y="2295720"/>
                <a:ext cx="777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7" name="Group 99"/>
          <p:cNvGrpSpPr/>
          <p:nvPr/>
        </p:nvGrpSpPr>
        <p:grpSpPr>
          <a:xfrm>
            <a:off x="900000" y="1316160"/>
            <a:ext cx="462240" cy="231480"/>
            <a:chOff x="900000" y="1316160"/>
            <a:chExt cx="462240" cy="231480"/>
          </a:xfrm>
        </p:grpSpPr>
        <p:sp>
          <p:nvSpPr>
            <p:cNvPr id="948" name="AutoShape 100"/>
            <p:cNvSpPr/>
            <p:nvPr/>
          </p:nvSpPr>
          <p:spPr>
            <a:xfrm>
              <a:off x="971640" y="1368360"/>
              <a:ext cx="390600" cy="13680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AutoShape 101"/>
            <p:cNvSpPr/>
            <p:nvPr/>
          </p:nvSpPr>
          <p:spPr>
            <a:xfrm>
              <a:off x="900000" y="1316160"/>
              <a:ext cx="448560" cy="23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Gill Sans MT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Group 102"/>
          <p:cNvGrpSpPr/>
          <p:nvPr/>
        </p:nvGrpSpPr>
        <p:grpSpPr>
          <a:xfrm>
            <a:off x="447840" y="1336680"/>
            <a:ext cx="1079280" cy="1166760"/>
            <a:chOff x="447840" y="1336680"/>
            <a:chExt cx="1079280" cy="1166760"/>
          </a:xfrm>
        </p:grpSpPr>
        <p:grpSp>
          <p:nvGrpSpPr>
            <p:cNvPr id="951" name="Group 103"/>
            <p:cNvGrpSpPr/>
            <p:nvPr/>
          </p:nvGrpSpPr>
          <p:grpSpPr>
            <a:xfrm>
              <a:off x="447840" y="1562040"/>
              <a:ext cx="1079280" cy="729720"/>
              <a:chOff x="447840" y="1562040"/>
              <a:chExt cx="1079280" cy="729720"/>
            </a:xfrm>
          </p:grpSpPr>
          <p:grpSp>
            <p:nvGrpSpPr>
              <p:cNvPr id="952" name="Group 104"/>
              <p:cNvGrpSpPr/>
              <p:nvPr/>
            </p:nvGrpSpPr>
            <p:grpSpPr>
              <a:xfrm>
                <a:off x="821880" y="1562040"/>
                <a:ext cx="560880" cy="231120"/>
                <a:chOff x="821880" y="1562040"/>
                <a:chExt cx="560880" cy="231120"/>
              </a:xfrm>
            </p:grpSpPr>
            <p:grpSp>
              <p:nvGrpSpPr>
                <p:cNvPr id="953" name="Group 105"/>
                <p:cNvGrpSpPr/>
                <p:nvPr/>
              </p:nvGrpSpPr>
              <p:grpSpPr>
                <a:xfrm>
                  <a:off x="907200" y="1562040"/>
                  <a:ext cx="459720" cy="231120"/>
                  <a:chOff x="907200" y="1562040"/>
                  <a:chExt cx="459720" cy="231120"/>
                </a:xfrm>
              </p:grpSpPr>
              <p:sp>
                <p:nvSpPr>
                  <p:cNvPr id="954" name="AutoShape 106"/>
                  <p:cNvSpPr/>
                  <p:nvPr/>
                </p:nvSpPr>
                <p:spPr>
                  <a:xfrm>
                    <a:off x="978480" y="1614240"/>
                    <a:ext cx="388440" cy="136440"/>
                  </a:xfrm>
                  <a:custGeom>
                    <a:avLst/>
                    <a:gdLst>
                      <a:gd name="textAreaLeft" fmla="*/ 0 w 388440"/>
                      <a:gd name="textAreaRight" fmla="*/ 388800 w 388440"/>
                      <a:gd name="textAreaTop" fmla="*/ 0 h 136440"/>
                      <a:gd name="textAreaBottom" fmla="*/ 136800 h 136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1600" y="21600"/>
                        </a:ln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AutoShape 107"/>
                  <p:cNvSpPr/>
                  <p:nvPr/>
                </p:nvSpPr>
                <p:spPr>
                  <a:xfrm>
                    <a:off x="907200" y="1562040"/>
                    <a:ext cx="446040" cy="2311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Gill Sans MT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56" name="AutoShape 108"/>
                <p:cNvSpPr/>
                <p:nvPr/>
              </p:nvSpPr>
              <p:spPr>
                <a:xfrm>
                  <a:off x="837720" y="1617480"/>
                  <a:ext cx="139320" cy="130320"/>
                </a:xfrm>
                <a:custGeom>
                  <a:avLst/>
                  <a:gdLst>
                    <a:gd name="textAreaLeft" fmla="*/ 0 w 139320"/>
                    <a:gd name="textAreaRight" fmla="*/ 139680 w 139320"/>
                    <a:gd name="textAreaTop" fmla="*/ 0 h 130320"/>
                    <a:gd name="textAreaBottom" fmla="*/ 130680 h 130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599" y="0"/>
                      </a:lnTo>
                      <a:lnTo>
                        <a:pt x="21599" y="21600"/>
                      </a:ln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AutoShape 109"/>
                <p:cNvSpPr/>
                <p:nvPr/>
              </p:nvSpPr>
              <p:spPr>
                <a:xfrm>
                  <a:off x="821880" y="1608120"/>
                  <a:ext cx="560880" cy="149400"/>
                </a:xfrm>
                <a:custGeom>
                  <a:avLst/>
                  <a:gdLst>
                    <a:gd name="textAreaLeft" fmla="*/ 0 w 560880"/>
                    <a:gd name="textAreaRight" fmla="*/ 561240 w 560880"/>
                    <a:gd name="textAreaTop" fmla="*/ 0 h 149400"/>
                    <a:gd name="textAreaBottom" fmla="*/ 149760 h 149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599" y="0"/>
                      </a:lnTo>
                      <a:lnTo>
                        <a:pt x="21599" y="21599"/>
                      </a:lnTo>
                      <a:lnTo>
                        <a:pt x="0" y="2159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8" name="Group 110"/>
              <p:cNvGrpSpPr/>
              <p:nvPr/>
            </p:nvGrpSpPr>
            <p:grpSpPr>
              <a:xfrm>
                <a:off x="821880" y="1797120"/>
                <a:ext cx="560880" cy="231120"/>
                <a:chOff x="821880" y="1797120"/>
                <a:chExt cx="560880" cy="231120"/>
              </a:xfrm>
            </p:grpSpPr>
            <p:grpSp>
              <p:nvGrpSpPr>
                <p:cNvPr id="959" name="Group 111"/>
                <p:cNvGrpSpPr/>
                <p:nvPr/>
              </p:nvGrpSpPr>
              <p:grpSpPr>
                <a:xfrm>
                  <a:off x="907200" y="1797120"/>
                  <a:ext cx="459720" cy="231120"/>
                  <a:chOff x="907200" y="1797120"/>
                  <a:chExt cx="459720" cy="231120"/>
                </a:xfrm>
              </p:grpSpPr>
              <p:sp>
                <p:nvSpPr>
                  <p:cNvPr id="960" name="AutoShape 112"/>
                  <p:cNvSpPr/>
                  <p:nvPr/>
                </p:nvSpPr>
                <p:spPr>
                  <a:xfrm>
                    <a:off x="978480" y="1849320"/>
                    <a:ext cx="388440" cy="136440"/>
                  </a:xfrm>
                  <a:custGeom>
                    <a:avLst/>
                    <a:gdLst>
                      <a:gd name="textAreaLeft" fmla="*/ 0 w 388440"/>
                      <a:gd name="textAreaRight" fmla="*/ 388800 w 388440"/>
                      <a:gd name="textAreaTop" fmla="*/ 0 h 136440"/>
                      <a:gd name="textAreaBottom" fmla="*/ 136800 h 136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1600" y="21600"/>
                        </a:ln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AutoShape 113"/>
                  <p:cNvSpPr/>
                  <p:nvPr/>
                </p:nvSpPr>
                <p:spPr>
                  <a:xfrm>
                    <a:off x="907200" y="1797120"/>
                    <a:ext cx="446040" cy="2311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Gill Sans MT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2" name="Group 114"/>
                <p:cNvGrpSpPr/>
                <p:nvPr/>
              </p:nvGrpSpPr>
              <p:grpSpPr>
                <a:xfrm>
                  <a:off x="821880" y="1843200"/>
                  <a:ext cx="560880" cy="149400"/>
                  <a:chOff x="821880" y="1843200"/>
                  <a:chExt cx="560880" cy="149400"/>
                </a:xfrm>
              </p:grpSpPr>
              <p:sp>
                <p:nvSpPr>
                  <p:cNvPr id="963" name="AutoShape 115"/>
                  <p:cNvSpPr/>
                  <p:nvPr/>
                </p:nvSpPr>
                <p:spPr>
                  <a:xfrm>
                    <a:off x="837720" y="1852560"/>
                    <a:ext cx="139320" cy="130320"/>
                  </a:xfrm>
                  <a:custGeom>
                    <a:avLst/>
                    <a:gdLst>
                      <a:gd name="textAreaLeft" fmla="*/ 0 w 139320"/>
                      <a:gd name="textAreaRight" fmla="*/ 139680 w 139320"/>
                      <a:gd name="textAreaTop" fmla="*/ 0 h 130320"/>
                      <a:gd name="textAreaBottom" fmla="*/ 130680 h 130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599" y="0"/>
                        </a:lnTo>
                        <a:lnTo>
                          <a:pt x="21599" y="21600"/>
                        </a:ln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4" name="AutoShape 116"/>
                  <p:cNvSpPr/>
                  <p:nvPr/>
                </p:nvSpPr>
                <p:spPr>
                  <a:xfrm>
                    <a:off x="821880" y="1843200"/>
                    <a:ext cx="560880" cy="149400"/>
                  </a:xfrm>
                  <a:custGeom>
                    <a:avLst/>
                    <a:gdLst>
                      <a:gd name="textAreaLeft" fmla="*/ 0 w 560880"/>
                      <a:gd name="textAreaRight" fmla="*/ 561240 w 560880"/>
                      <a:gd name="textAreaTop" fmla="*/ 0 h 149400"/>
                      <a:gd name="textAreaBottom" fmla="*/ 149760 h 149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599" y="0"/>
                        </a:lnTo>
                        <a:lnTo>
                          <a:pt x="21599" y="21599"/>
                        </a:lnTo>
                        <a:lnTo>
                          <a:pt x="0" y="215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65" name="Group 117"/>
              <p:cNvGrpSpPr/>
              <p:nvPr/>
            </p:nvGrpSpPr>
            <p:grpSpPr>
              <a:xfrm>
                <a:off x="642600" y="1828800"/>
                <a:ext cx="760680" cy="177840"/>
                <a:chOff x="642600" y="1828800"/>
                <a:chExt cx="760680" cy="177840"/>
              </a:xfrm>
            </p:grpSpPr>
            <p:sp>
              <p:nvSpPr>
                <p:cNvPr id="966" name="AutoShape 118"/>
                <p:cNvSpPr/>
                <p:nvPr/>
              </p:nvSpPr>
              <p:spPr>
                <a:xfrm>
                  <a:off x="656640" y="1846080"/>
                  <a:ext cx="151920" cy="147960"/>
                </a:xfrm>
                <a:custGeom>
                  <a:avLst/>
                  <a:gdLst>
                    <a:gd name="textAreaLeft" fmla="*/ 0 w 151920"/>
                    <a:gd name="textAreaRight" fmla="*/ 152280 w 151920"/>
                    <a:gd name="textAreaTop" fmla="*/ 0 h 147960"/>
                    <a:gd name="textAreaBottom" fmla="*/ 148320 h 147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1600" y="21600"/>
                      </a:ln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AutoShape 119"/>
                <p:cNvSpPr/>
                <p:nvPr/>
              </p:nvSpPr>
              <p:spPr>
                <a:xfrm>
                  <a:off x="642600" y="1828800"/>
                  <a:ext cx="760680" cy="177840"/>
                </a:xfrm>
                <a:custGeom>
                  <a:avLst/>
                  <a:gdLst>
                    <a:gd name="textAreaLeft" fmla="*/ 0 w 760680"/>
                    <a:gd name="textAreaRight" fmla="*/ 761040 w 760680"/>
                    <a:gd name="textAreaTop" fmla="*/ 0 h 177840"/>
                    <a:gd name="textAreaBottom" fmla="*/ 177840 h 177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1600" y="21600"/>
                      </a:ln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8" name="Group 120"/>
              <p:cNvGrpSpPr/>
              <p:nvPr/>
            </p:nvGrpSpPr>
            <p:grpSpPr>
              <a:xfrm>
                <a:off x="447840" y="2060640"/>
                <a:ext cx="1079280" cy="231120"/>
                <a:chOff x="447840" y="2060640"/>
                <a:chExt cx="1079280" cy="231120"/>
              </a:xfrm>
            </p:grpSpPr>
            <p:grpSp>
              <p:nvGrpSpPr>
                <p:cNvPr id="969" name="Group 121"/>
                <p:cNvGrpSpPr/>
                <p:nvPr/>
              </p:nvGrpSpPr>
              <p:grpSpPr>
                <a:xfrm>
                  <a:off x="636480" y="2060640"/>
                  <a:ext cx="760680" cy="231120"/>
                  <a:chOff x="636480" y="2060640"/>
                  <a:chExt cx="760680" cy="231120"/>
                </a:xfrm>
              </p:grpSpPr>
              <p:grpSp>
                <p:nvGrpSpPr>
                  <p:cNvPr id="970" name="Group 122"/>
                  <p:cNvGrpSpPr/>
                  <p:nvPr/>
                </p:nvGrpSpPr>
                <p:grpSpPr>
                  <a:xfrm>
                    <a:off x="815400" y="2060640"/>
                    <a:ext cx="561240" cy="231120"/>
                    <a:chOff x="815400" y="2060640"/>
                    <a:chExt cx="561240" cy="231120"/>
                  </a:xfrm>
                </p:grpSpPr>
                <p:grpSp>
                  <p:nvGrpSpPr>
                    <p:cNvPr id="971" name="Group 123"/>
                    <p:cNvGrpSpPr/>
                    <p:nvPr/>
                  </p:nvGrpSpPr>
                  <p:grpSpPr>
                    <a:xfrm>
                      <a:off x="900720" y="2060640"/>
                      <a:ext cx="459720" cy="231120"/>
                      <a:chOff x="900720" y="2060640"/>
                      <a:chExt cx="459720" cy="231120"/>
                    </a:xfrm>
                  </p:grpSpPr>
                  <p:sp>
                    <p:nvSpPr>
                      <p:cNvPr id="972" name="AutoShape 124"/>
                      <p:cNvSpPr/>
                      <p:nvPr/>
                    </p:nvSpPr>
                    <p:spPr>
                      <a:xfrm>
                        <a:off x="972000" y="2112840"/>
                        <a:ext cx="388440" cy="136440"/>
                      </a:xfrm>
                      <a:custGeom>
                        <a:avLst/>
                        <a:gdLst>
                          <a:gd name="textAreaLeft" fmla="*/ 0 w 388440"/>
                          <a:gd name="textAreaRight" fmla="*/ 388800 w 388440"/>
                          <a:gd name="textAreaTop" fmla="*/ 0 h 136440"/>
                          <a:gd name="textAreaBottom" fmla="*/ 136800 h 1364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21600" y="21600"/>
                            </a:lnTo>
                            <a:lnTo>
                              <a:pt x="0" y="2160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324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noAutofit/>
                      </a:bodyPr>
                      <a:p>
                        <a:pPr algn="ctr">
                          <a:spcBef>
                            <a:spcPts val="9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3" name="AutoShape 125"/>
                      <p:cNvSpPr/>
                      <p:nvPr/>
                    </p:nvSpPr>
                    <p:spPr>
                      <a:xfrm>
                        <a:off x="900720" y="2060640"/>
                        <a:ext cx="446040" cy="231120"/>
                      </a:xfrm>
                      <a:prstGeom prst="pie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Gill Sans MT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74" name="Group 126"/>
                    <p:cNvGrpSpPr/>
                    <p:nvPr/>
                  </p:nvGrpSpPr>
                  <p:grpSpPr>
                    <a:xfrm>
                      <a:off x="815400" y="2106720"/>
                      <a:ext cx="561240" cy="149400"/>
                      <a:chOff x="815400" y="2106720"/>
                      <a:chExt cx="561240" cy="149400"/>
                    </a:xfrm>
                  </p:grpSpPr>
                  <p:sp>
                    <p:nvSpPr>
                      <p:cNvPr id="975" name="AutoShape 127"/>
                      <p:cNvSpPr/>
                      <p:nvPr/>
                    </p:nvSpPr>
                    <p:spPr>
                      <a:xfrm>
                        <a:off x="831240" y="2116080"/>
                        <a:ext cx="139320" cy="130320"/>
                      </a:xfrm>
                      <a:custGeom>
                        <a:avLst/>
                        <a:gdLst>
                          <a:gd name="textAreaLeft" fmla="*/ 0 w 139320"/>
                          <a:gd name="textAreaRight" fmla="*/ 139680 w 139320"/>
                          <a:gd name="textAreaTop" fmla="*/ 0 h 130320"/>
                          <a:gd name="textAreaBottom" fmla="*/ 130680 h 1303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599" y="0"/>
                            </a:lnTo>
                            <a:lnTo>
                              <a:pt x="21599" y="21600"/>
                            </a:lnTo>
                            <a:lnTo>
                              <a:pt x="0" y="2160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cc99"/>
                      </a:solidFill>
                      <a:ln w="324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noAutofit/>
                      </a:bodyPr>
                      <a:p>
                        <a:pPr algn="ctr">
                          <a:spcBef>
                            <a:spcPts val="9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6" name="AutoShape 128"/>
                      <p:cNvSpPr/>
                      <p:nvPr/>
                    </p:nvSpPr>
                    <p:spPr>
                      <a:xfrm>
                        <a:off x="815400" y="2106720"/>
                        <a:ext cx="561240" cy="149400"/>
                      </a:xfrm>
                      <a:custGeom>
                        <a:avLst/>
                        <a:gdLst>
                          <a:gd name="textAreaLeft" fmla="*/ 0 w 561240"/>
                          <a:gd name="textAreaRight" fmla="*/ 561240 w 561240"/>
                          <a:gd name="textAreaTop" fmla="*/ 0 h 149400"/>
                          <a:gd name="textAreaBottom" fmla="*/ 149760 h 1494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599" y="0"/>
                            </a:lnTo>
                            <a:lnTo>
                              <a:pt x="21599" y="21599"/>
                            </a:lnTo>
                            <a:lnTo>
                              <a:pt x="0" y="2159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noFill/>
                      <a:ln w="3240">
                        <a:solidFill>
                          <a:srgbClr val="00cc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noAutofit/>
                      </a:bodyPr>
                      <a:p>
                        <a:pPr algn="ctr">
                          <a:spcBef>
                            <a:spcPts val="9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977" name="AutoShape 129"/>
                  <p:cNvSpPr/>
                  <p:nvPr/>
                </p:nvSpPr>
                <p:spPr>
                  <a:xfrm>
                    <a:off x="650520" y="2109600"/>
                    <a:ext cx="151920" cy="147600"/>
                  </a:xfrm>
                  <a:custGeom>
                    <a:avLst/>
                    <a:gdLst>
                      <a:gd name="textAreaLeft" fmla="*/ 0 w 151920"/>
                      <a:gd name="textAreaRight" fmla="*/ 152280 w 15192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1600" y="21600"/>
                        </a:ln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AutoShape 130"/>
                  <p:cNvSpPr/>
                  <p:nvPr/>
                </p:nvSpPr>
                <p:spPr>
                  <a:xfrm>
                    <a:off x="636480" y="2092320"/>
                    <a:ext cx="760680" cy="177840"/>
                  </a:xfrm>
                  <a:custGeom>
                    <a:avLst/>
                    <a:gdLst>
                      <a:gd name="textAreaLeft" fmla="*/ 0 w 760680"/>
                      <a:gd name="textAreaRight" fmla="*/ 761040 w 760680"/>
                      <a:gd name="textAreaTop" fmla="*/ 0 h 177840"/>
                      <a:gd name="textAreaBottom" fmla="*/ 177840 h 177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1600" y="21600"/>
                        </a:ln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79" name="AutoShape 131"/>
                <p:cNvSpPr/>
                <p:nvPr/>
              </p:nvSpPr>
              <p:spPr>
                <a:xfrm>
                  <a:off x="468360" y="2095560"/>
                  <a:ext cx="148680" cy="171360"/>
                </a:xfrm>
                <a:custGeom>
                  <a:avLst/>
                  <a:gdLst>
                    <a:gd name="textAreaLeft" fmla="*/ 0 w 148680"/>
                    <a:gd name="textAreaRight" fmla="*/ 148680 w 14868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599" y="0"/>
                      </a:lnTo>
                      <a:lnTo>
                        <a:pt x="21599" y="21600"/>
                      </a:ln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AutoShape 132"/>
                <p:cNvSpPr/>
                <p:nvPr/>
              </p:nvSpPr>
              <p:spPr>
                <a:xfrm>
                  <a:off x="1416240" y="2093760"/>
                  <a:ext cx="95040" cy="171360"/>
                </a:xfrm>
                <a:custGeom>
                  <a:avLst/>
                  <a:gdLst>
                    <a:gd name="textAreaLeft" fmla="*/ 0 w 95040"/>
                    <a:gd name="textAreaRight" fmla="*/ 95400 w 9504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1600" y="21600"/>
                      </a:ln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AutoShape 133"/>
                <p:cNvSpPr/>
                <p:nvPr/>
              </p:nvSpPr>
              <p:spPr>
                <a:xfrm>
                  <a:off x="447840" y="2070000"/>
                  <a:ext cx="1079280" cy="219240"/>
                </a:xfrm>
                <a:custGeom>
                  <a:avLst/>
                  <a:gdLst>
                    <a:gd name="textAreaLeft" fmla="*/ 0 w 1079280"/>
                    <a:gd name="textAreaRight" fmla="*/ 1079640 w 107928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1600" y="21600"/>
                      </a:ln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82" name="AutoShape 134"/>
            <p:cNvSpPr/>
            <p:nvPr/>
          </p:nvSpPr>
          <p:spPr>
            <a:xfrm>
              <a:off x="990000" y="1336680"/>
              <a:ext cx="380160" cy="1166760"/>
            </a:xfrm>
            <a:custGeom>
              <a:avLst/>
              <a:gdLst>
                <a:gd name="textAreaLeft" fmla="*/ 0 w 380160"/>
                <a:gd name="textAreaRight" fmla="*/ 380520 w 380160"/>
                <a:gd name="textAreaTop" fmla="*/ 0 h 1166760"/>
                <a:gd name="textAreaBottom" fmla="*/ 1167120 h 11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8131"/>
                  </a:moveTo>
                  <a:lnTo>
                    <a:pt x="4950" y="18131"/>
                  </a:lnTo>
                  <a:lnTo>
                    <a:pt x="4950" y="0"/>
                  </a:lnTo>
                  <a:lnTo>
                    <a:pt x="16650" y="0"/>
                  </a:lnTo>
                  <a:lnTo>
                    <a:pt x="16650" y="18131"/>
                  </a:lnTo>
                  <a:lnTo>
                    <a:pt x="21600" y="18131"/>
                  </a:lnTo>
                  <a:lnTo>
                    <a:pt x="10800" y="21599"/>
                  </a:lnTo>
                  <a:lnTo>
                    <a:pt x="0" y="18131"/>
                  </a:lnTo>
                  <a:close/>
                </a:path>
              </a:pathLst>
            </a:cu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Group 135"/>
          <p:cNvGrpSpPr/>
          <p:nvPr/>
        </p:nvGrpSpPr>
        <p:grpSpPr>
          <a:xfrm>
            <a:off x="1031760" y="2543040"/>
            <a:ext cx="1079640" cy="231840"/>
            <a:chOff x="1031760" y="2543040"/>
            <a:chExt cx="1079640" cy="231840"/>
          </a:xfrm>
        </p:grpSpPr>
        <p:grpSp>
          <p:nvGrpSpPr>
            <p:cNvPr id="984" name="Group 136"/>
            <p:cNvGrpSpPr/>
            <p:nvPr/>
          </p:nvGrpSpPr>
          <p:grpSpPr>
            <a:xfrm>
              <a:off x="1220400" y="2543040"/>
              <a:ext cx="761040" cy="231840"/>
              <a:chOff x="1220400" y="2543040"/>
              <a:chExt cx="761040" cy="231840"/>
            </a:xfrm>
          </p:grpSpPr>
          <p:grpSp>
            <p:nvGrpSpPr>
              <p:cNvPr id="985" name="Group 137"/>
              <p:cNvGrpSpPr/>
              <p:nvPr/>
            </p:nvGrpSpPr>
            <p:grpSpPr>
              <a:xfrm>
                <a:off x="1399320" y="2543040"/>
                <a:ext cx="561240" cy="231840"/>
                <a:chOff x="1399320" y="2543040"/>
                <a:chExt cx="561240" cy="231840"/>
              </a:xfrm>
            </p:grpSpPr>
            <p:grpSp>
              <p:nvGrpSpPr>
                <p:cNvPr id="986" name="Group 138"/>
                <p:cNvGrpSpPr/>
                <p:nvPr/>
              </p:nvGrpSpPr>
              <p:grpSpPr>
                <a:xfrm>
                  <a:off x="1484640" y="2543040"/>
                  <a:ext cx="459720" cy="231840"/>
                  <a:chOff x="1484640" y="2543040"/>
                  <a:chExt cx="459720" cy="231840"/>
                </a:xfrm>
              </p:grpSpPr>
              <p:sp>
                <p:nvSpPr>
                  <p:cNvPr id="987" name="AutoShape 139"/>
                  <p:cNvSpPr/>
                  <p:nvPr/>
                </p:nvSpPr>
                <p:spPr>
                  <a:xfrm>
                    <a:off x="1555920" y="2595600"/>
                    <a:ext cx="388440" cy="136800"/>
                  </a:xfrm>
                  <a:custGeom>
                    <a:avLst/>
                    <a:gdLst>
                      <a:gd name="textAreaLeft" fmla="*/ 0 w 388440"/>
                      <a:gd name="textAreaRight" fmla="*/ 388800 w 388440"/>
                      <a:gd name="textAreaTop" fmla="*/ 0 h 136800"/>
                      <a:gd name="textAreaBottom" fmla="*/ 137160 h 136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1600" y="21600"/>
                        </a:ln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8" name="AutoShape 140"/>
                  <p:cNvSpPr/>
                  <p:nvPr/>
                </p:nvSpPr>
                <p:spPr>
                  <a:xfrm>
                    <a:off x="1484640" y="2543040"/>
                    <a:ext cx="446040" cy="231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Gill Sans MT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9" name="Group 141"/>
                <p:cNvGrpSpPr/>
                <p:nvPr/>
              </p:nvGrpSpPr>
              <p:grpSpPr>
                <a:xfrm>
                  <a:off x="1399320" y="2589120"/>
                  <a:ext cx="561240" cy="149760"/>
                  <a:chOff x="1399320" y="2589120"/>
                  <a:chExt cx="561240" cy="149760"/>
                </a:xfrm>
              </p:grpSpPr>
              <p:sp>
                <p:nvSpPr>
                  <p:cNvPr id="990" name="AutoShape 142"/>
                  <p:cNvSpPr/>
                  <p:nvPr/>
                </p:nvSpPr>
                <p:spPr>
                  <a:xfrm>
                    <a:off x="1415160" y="2598480"/>
                    <a:ext cx="139320" cy="130680"/>
                  </a:xfrm>
                  <a:custGeom>
                    <a:avLst/>
                    <a:gdLst>
                      <a:gd name="textAreaLeft" fmla="*/ 0 w 139320"/>
                      <a:gd name="textAreaRight" fmla="*/ 139680 w 139320"/>
                      <a:gd name="textAreaTop" fmla="*/ 0 h 130680"/>
                      <a:gd name="textAreaBottom" fmla="*/ 130680 h 130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599" y="0"/>
                        </a:lnTo>
                        <a:lnTo>
                          <a:pt x="21599" y="21600"/>
                        </a:ln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AutoShape 143"/>
                  <p:cNvSpPr/>
                  <p:nvPr/>
                </p:nvSpPr>
                <p:spPr>
                  <a:xfrm>
                    <a:off x="1399320" y="2589120"/>
                    <a:ext cx="561240" cy="149760"/>
                  </a:xfrm>
                  <a:custGeom>
                    <a:avLst/>
                    <a:gdLst>
                      <a:gd name="textAreaLeft" fmla="*/ 0 w 561240"/>
                      <a:gd name="textAreaRight" fmla="*/ 561240 w 561240"/>
                      <a:gd name="textAreaTop" fmla="*/ 0 h 149760"/>
                      <a:gd name="textAreaBottom" fmla="*/ 150120 h 1497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599" y="0"/>
                        </a:lnTo>
                        <a:lnTo>
                          <a:pt x="21599" y="21599"/>
                        </a:lnTo>
                        <a:lnTo>
                          <a:pt x="0" y="215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92" name="AutoShape 144"/>
              <p:cNvSpPr/>
              <p:nvPr/>
            </p:nvSpPr>
            <p:spPr>
              <a:xfrm>
                <a:off x="1234440" y="2592360"/>
                <a:ext cx="152280" cy="1479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AutoShape 145"/>
              <p:cNvSpPr/>
              <p:nvPr/>
            </p:nvSpPr>
            <p:spPr>
              <a:xfrm>
                <a:off x="1220400" y="2574720"/>
                <a:ext cx="761040" cy="178560"/>
              </a:xfrm>
              <a:custGeom>
                <a:avLst/>
                <a:gdLst>
                  <a:gd name="textAreaLeft" fmla="*/ 0 w 761040"/>
                  <a:gd name="textAreaRight" fmla="*/ 761400 w 76104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AutoShape 146"/>
            <p:cNvSpPr/>
            <p:nvPr/>
          </p:nvSpPr>
          <p:spPr>
            <a:xfrm>
              <a:off x="1052280" y="2577960"/>
              <a:ext cx="149040" cy="17208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AutoShape 147"/>
            <p:cNvSpPr/>
            <p:nvPr/>
          </p:nvSpPr>
          <p:spPr>
            <a:xfrm>
              <a:off x="2000520" y="2576520"/>
              <a:ext cx="95040" cy="1720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AutoShape 148"/>
            <p:cNvSpPr/>
            <p:nvPr/>
          </p:nvSpPr>
          <p:spPr>
            <a:xfrm>
              <a:off x="1031760" y="2552400"/>
              <a:ext cx="1079640" cy="219960"/>
            </a:xfrm>
            <a:custGeom>
              <a:avLst/>
              <a:gdLst>
                <a:gd name="textAreaLeft" fmla="*/ 0 w 1079640"/>
                <a:gd name="textAreaRight" fmla="*/ 1080000 w 107964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7" name="Group 149"/>
          <p:cNvGrpSpPr/>
          <p:nvPr/>
        </p:nvGrpSpPr>
        <p:grpSpPr>
          <a:xfrm>
            <a:off x="1857240" y="3236760"/>
            <a:ext cx="1317600" cy="1309680"/>
            <a:chOff x="1857240" y="3236760"/>
            <a:chExt cx="1317600" cy="1309680"/>
          </a:xfrm>
        </p:grpSpPr>
        <p:sp>
          <p:nvSpPr>
            <p:cNvPr id="998" name="AutoShape 150"/>
            <p:cNvSpPr/>
            <p:nvPr/>
          </p:nvSpPr>
          <p:spPr>
            <a:xfrm>
              <a:off x="2640960" y="3274560"/>
              <a:ext cx="533880" cy="1271880"/>
            </a:xfrm>
            <a:custGeom>
              <a:avLst/>
              <a:gdLst>
                <a:gd name="textAreaLeft" fmla="*/ 0 w 533880"/>
                <a:gd name="textAreaRight" fmla="*/ 533880 w 533880"/>
                <a:gd name="textAreaTop" fmla="*/ 0 h 1271880"/>
                <a:gd name="textAreaBottom" fmla="*/ 1272240 h 127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8" y="0"/>
                  </a:moveTo>
                  <a:lnTo>
                    <a:pt x="21599" y="10840"/>
                  </a:lnTo>
                  <a:lnTo>
                    <a:pt x="235" y="21599"/>
                  </a:lnTo>
                  <a:lnTo>
                    <a:pt x="509" y="14426"/>
                  </a:lnTo>
                  <a:lnTo>
                    <a:pt x="0" y="10004"/>
                  </a:lnTo>
                  <a:lnTo>
                    <a:pt x="54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65098"/>
                  </a:srgbClr>
                </a:gs>
                <a:gs pos="100000">
                  <a:srgbClr val="000099">
                    <a:alpha val="65098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9" name="Group 151"/>
            <p:cNvGrpSpPr/>
            <p:nvPr/>
          </p:nvGrpSpPr>
          <p:grpSpPr>
            <a:xfrm>
              <a:off x="1857240" y="3236760"/>
              <a:ext cx="794880" cy="1298160"/>
              <a:chOff x="1857240" y="3236760"/>
              <a:chExt cx="794880" cy="1298160"/>
            </a:xfrm>
          </p:grpSpPr>
          <p:sp>
            <p:nvSpPr>
              <p:cNvPr id="1000" name="AutoShape 152"/>
              <p:cNvSpPr/>
              <p:nvPr/>
            </p:nvSpPr>
            <p:spPr>
              <a:xfrm>
                <a:off x="1868040" y="3266640"/>
                <a:ext cx="784080" cy="1254600"/>
              </a:xfrm>
              <a:custGeom>
                <a:avLst/>
                <a:gdLst>
                  <a:gd name="textAreaLeft" fmla="*/ 0 w 784080"/>
                  <a:gd name="textAreaRight" fmla="*/ 784440 w 784080"/>
                  <a:gd name="textAreaTop" fmla="*/ 0 h 1254600"/>
                  <a:gd name="textAreaBottom" fmla="*/ 1254960 h 1254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599" y="0"/>
                    </a:lnTo>
                    <a:lnTo>
                      <a:pt x="21599" y="21599"/>
                    </a:lnTo>
                    <a:lnTo>
                      <a:pt x="0" y="215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AutoShape 153"/>
              <p:cNvSpPr/>
              <p:nvPr/>
            </p:nvSpPr>
            <p:spPr>
              <a:xfrm>
                <a:off x="1919520" y="3236760"/>
                <a:ext cx="709560" cy="1298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Line 154"/>
              <p:cNvSpPr/>
              <p:nvPr/>
            </p:nvSpPr>
            <p:spPr>
              <a:xfrm>
                <a:off x="1871280" y="3516120"/>
                <a:ext cx="777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Line 155"/>
              <p:cNvSpPr/>
              <p:nvPr/>
            </p:nvSpPr>
            <p:spPr>
              <a:xfrm>
                <a:off x="1866600" y="3768480"/>
                <a:ext cx="777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Line 156"/>
              <p:cNvSpPr/>
              <p:nvPr/>
            </p:nvSpPr>
            <p:spPr>
              <a:xfrm>
                <a:off x="1861920" y="4021200"/>
                <a:ext cx="777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Line 157"/>
              <p:cNvSpPr/>
              <p:nvPr/>
            </p:nvSpPr>
            <p:spPr>
              <a:xfrm>
                <a:off x="1857240" y="4273560"/>
                <a:ext cx="777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6" name="Group 158"/>
          <p:cNvGrpSpPr/>
          <p:nvPr/>
        </p:nvGrpSpPr>
        <p:grpSpPr>
          <a:xfrm>
            <a:off x="720720" y="3137040"/>
            <a:ext cx="1079640" cy="1217520"/>
            <a:chOff x="720720" y="3137040"/>
            <a:chExt cx="1079640" cy="1217520"/>
          </a:xfrm>
        </p:grpSpPr>
        <p:grpSp>
          <p:nvGrpSpPr>
            <p:cNvPr id="1007" name="Group 159"/>
            <p:cNvGrpSpPr/>
            <p:nvPr/>
          </p:nvGrpSpPr>
          <p:grpSpPr>
            <a:xfrm>
              <a:off x="720720" y="3533760"/>
              <a:ext cx="1079640" cy="729720"/>
              <a:chOff x="720720" y="3533760"/>
              <a:chExt cx="1079640" cy="729720"/>
            </a:xfrm>
          </p:grpSpPr>
          <p:grpSp>
            <p:nvGrpSpPr>
              <p:cNvPr id="1008" name="Group 160"/>
              <p:cNvGrpSpPr/>
              <p:nvPr/>
            </p:nvGrpSpPr>
            <p:grpSpPr>
              <a:xfrm>
                <a:off x="1094760" y="3533760"/>
                <a:ext cx="561240" cy="231120"/>
                <a:chOff x="1094760" y="3533760"/>
                <a:chExt cx="561240" cy="231120"/>
              </a:xfrm>
            </p:grpSpPr>
            <p:grpSp>
              <p:nvGrpSpPr>
                <p:cNvPr id="1009" name="Group 161"/>
                <p:cNvGrpSpPr/>
                <p:nvPr/>
              </p:nvGrpSpPr>
              <p:grpSpPr>
                <a:xfrm>
                  <a:off x="1180080" y="3533760"/>
                  <a:ext cx="459720" cy="231120"/>
                  <a:chOff x="1180080" y="3533760"/>
                  <a:chExt cx="459720" cy="231120"/>
                </a:xfrm>
              </p:grpSpPr>
              <p:sp>
                <p:nvSpPr>
                  <p:cNvPr id="1010" name="AutoShape 162"/>
                  <p:cNvSpPr/>
                  <p:nvPr/>
                </p:nvSpPr>
                <p:spPr>
                  <a:xfrm>
                    <a:off x="1251360" y="3585960"/>
                    <a:ext cx="388440" cy="136440"/>
                  </a:xfrm>
                  <a:custGeom>
                    <a:avLst/>
                    <a:gdLst>
                      <a:gd name="textAreaLeft" fmla="*/ 0 w 388440"/>
                      <a:gd name="textAreaRight" fmla="*/ 388800 w 388440"/>
                      <a:gd name="textAreaTop" fmla="*/ 0 h 136440"/>
                      <a:gd name="textAreaBottom" fmla="*/ 136800 h 136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1600" y="21600"/>
                        </a:ln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AutoShape 163"/>
                  <p:cNvSpPr/>
                  <p:nvPr/>
                </p:nvSpPr>
                <p:spPr>
                  <a:xfrm>
                    <a:off x="1180080" y="3533760"/>
                    <a:ext cx="446040" cy="2311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Gill Sans MT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12" name="AutoShape 164"/>
                <p:cNvSpPr/>
                <p:nvPr/>
              </p:nvSpPr>
              <p:spPr>
                <a:xfrm>
                  <a:off x="1110600" y="3589200"/>
                  <a:ext cx="139320" cy="130320"/>
                </a:xfrm>
                <a:custGeom>
                  <a:avLst/>
                  <a:gdLst>
                    <a:gd name="textAreaLeft" fmla="*/ 0 w 139320"/>
                    <a:gd name="textAreaRight" fmla="*/ 139680 w 139320"/>
                    <a:gd name="textAreaTop" fmla="*/ 0 h 130320"/>
                    <a:gd name="textAreaBottom" fmla="*/ 130680 h 130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599" y="0"/>
                      </a:lnTo>
                      <a:lnTo>
                        <a:pt x="21599" y="21600"/>
                      </a:ln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AutoShape 165"/>
                <p:cNvSpPr/>
                <p:nvPr/>
              </p:nvSpPr>
              <p:spPr>
                <a:xfrm>
                  <a:off x="1094760" y="3579840"/>
                  <a:ext cx="561240" cy="149400"/>
                </a:xfrm>
                <a:custGeom>
                  <a:avLst/>
                  <a:gdLst>
                    <a:gd name="textAreaLeft" fmla="*/ 0 w 561240"/>
                    <a:gd name="textAreaRight" fmla="*/ 561240 w 561240"/>
                    <a:gd name="textAreaTop" fmla="*/ 0 h 149400"/>
                    <a:gd name="textAreaBottom" fmla="*/ 149760 h 149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599" y="0"/>
                      </a:lnTo>
                      <a:lnTo>
                        <a:pt x="21599" y="21599"/>
                      </a:lnTo>
                      <a:lnTo>
                        <a:pt x="0" y="2159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4" name="Group 166"/>
              <p:cNvGrpSpPr/>
              <p:nvPr/>
            </p:nvGrpSpPr>
            <p:grpSpPr>
              <a:xfrm>
                <a:off x="1094760" y="3768840"/>
                <a:ext cx="561240" cy="231120"/>
                <a:chOff x="1094760" y="3768840"/>
                <a:chExt cx="561240" cy="231120"/>
              </a:xfrm>
            </p:grpSpPr>
            <p:grpSp>
              <p:nvGrpSpPr>
                <p:cNvPr id="1015" name="Group 167"/>
                <p:cNvGrpSpPr/>
                <p:nvPr/>
              </p:nvGrpSpPr>
              <p:grpSpPr>
                <a:xfrm>
                  <a:off x="1180080" y="3768840"/>
                  <a:ext cx="459720" cy="231120"/>
                  <a:chOff x="1180080" y="3768840"/>
                  <a:chExt cx="459720" cy="231120"/>
                </a:xfrm>
              </p:grpSpPr>
              <p:sp>
                <p:nvSpPr>
                  <p:cNvPr id="1016" name="AutoShape 168"/>
                  <p:cNvSpPr/>
                  <p:nvPr/>
                </p:nvSpPr>
                <p:spPr>
                  <a:xfrm>
                    <a:off x="1251360" y="3821040"/>
                    <a:ext cx="388440" cy="136440"/>
                  </a:xfrm>
                  <a:custGeom>
                    <a:avLst/>
                    <a:gdLst>
                      <a:gd name="textAreaLeft" fmla="*/ 0 w 388440"/>
                      <a:gd name="textAreaRight" fmla="*/ 388800 w 388440"/>
                      <a:gd name="textAreaTop" fmla="*/ 0 h 136440"/>
                      <a:gd name="textAreaBottom" fmla="*/ 136800 h 136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1600" y="21600"/>
                        </a:ln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7" name="AutoShape 169"/>
                  <p:cNvSpPr/>
                  <p:nvPr/>
                </p:nvSpPr>
                <p:spPr>
                  <a:xfrm>
                    <a:off x="1180080" y="3768840"/>
                    <a:ext cx="446040" cy="2311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Gill Sans MT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8" name="Group 170"/>
                <p:cNvGrpSpPr/>
                <p:nvPr/>
              </p:nvGrpSpPr>
              <p:grpSpPr>
                <a:xfrm>
                  <a:off x="1094760" y="3814920"/>
                  <a:ext cx="561240" cy="149400"/>
                  <a:chOff x="1094760" y="3814920"/>
                  <a:chExt cx="561240" cy="149400"/>
                </a:xfrm>
              </p:grpSpPr>
              <p:sp>
                <p:nvSpPr>
                  <p:cNvPr id="1019" name="AutoShape 171"/>
                  <p:cNvSpPr/>
                  <p:nvPr/>
                </p:nvSpPr>
                <p:spPr>
                  <a:xfrm>
                    <a:off x="1110600" y="3824280"/>
                    <a:ext cx="139320" cy="130320"/>
                  </a:xfrm>
                  <a:custGeom>
                    <a:avLst/>
                    <a:gdLst>
                      <a:gd name="textAreaLeft" fmla="*/ 0 w 139320"/>
                      <a:gd name="textAreaRight" fmla="*/ 139680 w 139320"/>
                      <a:gd name="textAreaTop" fmla="*/ 0 h 130320"/>
                      <a:gd name="textAreaBottom" fmla="*/ 130680 h 130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599" y="0"/>
                        </a:lnTo>
                        <a:lnTo>
                          <a:pt x="21599" y="21600"/>
                        </a:ln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AutoShape 172"/>
                  <p:cNvSpPr/>
                  <p:nvPr/>
                </p:nvSpPr>
                <p:spPr>
                  <a:xfrm>
                    <a:off x="1094760" y="3814920"/>
                    <a:ext cx="561240" cy="149400"/>
                  </a:xfrm>
                  <a:custGeom>
                    <a:avLst/>
                    <a:gdLst>
                      <a:gd name="textAreaLeft" fmla="*/ 0 w 561240"/>
                      <a:gd name="textAreaRight" fmla="*/ 561240 w 561240"/>
                      <a:gd name="textAreaTop" fmla="*/ 0 h 149400"/>
                      <a:gd name="textAreaBottom" fmla="*/ 149760 h 149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599" y="0"/>
                        </a:lnTo>
                        <a:lnTo>
                          <a:pt x="21599" y="21599"/>
                        </a:lnTo>
                        <a:lnTo>
                          <a:pt x="0" y="215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21" name="Group 173"/>
              <p:cNvGrpSpPr/>
              <p:nvPr/>
            </p:nvGrpSpPr>
            <p:grpSpPr>
              <a:xfrm>
                <a:off x="915480" y="3800520"/>
                <a:ext cx="761040" cy="177840"/>
                <a:chOff x="915480" y="3800520"/>
                <a:chExt cx="761040" cy="177840"/>
              </a:xfrm>
            </p:grpSpPr>
            <p:sp>
              <p:nvSpPr>
                <p:cNvPr id="1022" name="AutoShape 174"/>
                <p:cNvSpPr/>
                <p:nvPr/>
              </p:nvSpPr>
              <p:spPr>
                <a:xfrm>
                  <a:off x="929520" y="3817800"/>
                  <a:ext cx="152280" cy="14796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147960"/>
                    <a:gd name="textAreaBottom" fmla="*/ 148320 h 147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1600" y="21600"/>
                      </a:ln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AutoShape 175"/>
                <p:cNvSpPr/>
                <p:nvPr/>
              </p:nvSpPr>
              <p:spPr>
                <a:xfrm>
                  <a:off x="915480" y="3800520"/>
                  <a:ext cx="761040" cy="177840"/>
                </a:xfrm>
                <a:custGeom>
                  <a:avLst/>
                  <a:gdLst>
                    <a:gd name="textAreaLeft" fmla="*/ 0 w 761040"/>
                    <a:gd name="textAreaRight" fmla="*/ 761400 w 761040"/>
                    <a:gd name="textAreaTop" fmla="*/ 0 h 177840"/>
                    <a:gd name="textAreaBottom" fmla="*/ 177840 h 177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1600" y="21600"/>
                      </a:ln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4" name="Group 176"/>
              <p:cNvGrpSpPr/>
              <p:nvPr/>
            </p:nvGrpSpPr>
            <p:grpSpPr>
              <a:xfrm>
                <a:off x="720720" y="4032360"/>
                <a:ext cx="1079640" cy="231120"/>
                <a:chOff x="720720" y="4032360"/>
                <a:chExt cx="1079640" cy="231120"/>
              </a:xfrm>
            </p:grpSpPr>
            <p:grpSp>
              <p:nvGrpSpPr>
                <p:cNvPr id="1025" name="Group 177"/>
                <p:cNvGrpSpPr/>
                <p:nvPr/>
              </p:nvGrpSpPr>
              <p:grpSpPr>
                <a:xfrm>
                  <a:off x="909360" y="4032360"/>
                  <a:ext cx="761040" cy="231120"/>
                  <a:chOff x="909360" y="4032360"/>
                  <a:chExt cx="761040" cy="231120"/>
                </a:xfrm>
              </p:grpSpPr>
              <p:grpSp>
                <p:nvGrpSpPr>
                  <p:cNvPr id="1026" name="Group 178"/>
                  <p:cNvGrpSpPr/>
                  <p:nvPr/>
                </p:nvGrpSpPr>
                <p:grpSpPr>
                  <a:xfrm>
                    <a:off x="1088280" y="4032360"/>
                    <a:ext cx="561240" cy="231120"/>
                    <a:chOff x="1088280" y="4032360"/>
                    <a:chExt cx="561240" cy="231120"/>
                  </a:xfrm>
                </p:grpSpPr>
                <p:grpSp>
                  <p:nvGrpSpPr>
                    <p:cNvPr id="1027" name="Group 179"/>
                    <p:cNvGrpSpPr/>
                    <p:nvPr/>
                  </p:nvGrpSpPr>
                  <p:grpSpPr>
                    <a:xfrm>
                      <a:off x="1173600" y="4032360"/>
                      <a:ext cx="459720" cy="231120"/>
                      <a:chOff x="1173600" y="4032360"/>
                      <a:chExt cx="459720" cy="231120"/>
                    </a:xfrm>
                  </p:grpSpPr>
                  <p:sp>
                    <p:nvSpPr>
                      <p:cNvPr id="1028" name="AutoShape 180"/>
                      <p:cNvSpPr/>
                      <p:nvPr/>
                    </p:nvSpPr>
                    <p:spPr>
                      <a:xfrm>
                        <a:off x="1244880" y="4084560"/>
                        <a:ext cx="388440" cy="136440"/>
                      </a:xfrm>
                      <a:custGeom>
                        <a:avLst/>
                        <a:gdLst>
                          <a:gd name="textAreaLeft" fmla="*/ 0 w 388440"/>
                          <a:gd name="textAreaRight" fmla="*/ 388800 w 388440"/>
                          <a:gd name="textAreaTop" fmla="*/ 0 h 136440"/>
                          <a:gd name="textAreaBottom" fmla="*/ 136800 h 1364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21600" y="21600"/>
                            </a:lnTo>
                            <a:lnTo>
                              <a:pt x="0" y="2160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324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noAutofit/>
                      </a:bodyPr>
                      <a:p>
                        <a:pPr algn="ctr">
                          <a:spcBef>
                            <a:spcPts val="9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9" name="AutoShape 181"/>
                      <p:cNvSpPr/>
                      <p:nvPr/>
                    </p:nvSpPr>
                    <p:spPr>
                      <a:xfrm>
                        <a:off x="1173600" y="4032360"/>
                        <a:ext cx="446040" cy="231120"/>
                      </a:xfrm>
                      <a:prstGeom prst="pie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Gill Sans MT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30" name="Group 182"/>
                    <p:cNvGrpSpPr/>
                    <p:nvPr/>
                  </p:nvGrpSpPr>
                  <p:grpSpPr>
                    <a:xfrm>
                      <a:off x="1088280" y="4078440"/>
                      <a:ext cx="561240" cy="149400"/>
                      <a:chOff x="1088280" y="4078440"/>
                      <a:chExt cx="561240" cy="149400"/>
                    </a:xfrm>
                  </p:grpSpPr>
                  <p:sp>
                    <p:nvSpPr>
                      <p:cNvPr id="1031" name="AutoShape 183"/>
                      <p:cNvSpPr/>
                      <p:nvPr/>
                    </p:nvSpPr>
                    <p:spPr>
                      <a:xfrm>
                        <a:off x="1104120" y="4087800"/>
                        <a:ext cx="139320" cy="130320"/>
                      </a:xfrm>
                      <a:custGeom>
                        <a:avLst/>
                        <a:gdLst>
                          <a:gd name="textAreaLeft" fmla="*/ 0 w 139320"/>
                          <a:gd name="textAreaRight" fmla="*/ 139680 w 139320"/>
                          <a:gd name="textAreaTop" fmla="*/ 0 h 130320"/>
                          <a:gd name="textAreaBottom" fmla="*/ 130680 h 1303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599" y="0"/>
                            </a:lnTo>
                            <a:lnTo>
                              <a:pt x="21599" y="21600"/>
                            </a:lnTo>
                            <a:lnTo>
                              <a:pt x="0" y="2160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cc99"/>
                      </a:solidFill>
                      <a:ln w="324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noAutofit/>
                      </a:bodyPr>
                      <a:p>
                        <a:pPr algn="ctr">
                          <a:spcBef>
                            <a:spcPts val="9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2" name="AutoShape 184"/>
                      <p:cNvSpPr/>
                      <p:nvPr/>
                    </p:nvSpPr>
                    <p:spPr>
                      <a:xfrm>
                        <a:off x="1088280" y="4078440"/>
                        <a:ext cx="561240" cy="149400"/>
                      </a:xfrm>
                      <a:custGeom>
                        <a:avLst/>
                        <a:gdLst>
                          <a:gd name="textAreaLeft" fmla="*/ 0 w 561240"/>
                          <a:gd name="textAreaRight" fmla="*/ 561240 w 561240"/>
                          <a:gd name="textAreaTop" fmla="*/ 0 h 149400"/>
                          <a:gd name="textAreaBottom" fmla="*/ 149760 h 1494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599" y="0"/>
                            </a:lnTo>
                            <a:lnTo>
                              <a:pt x="21599" y="21599"/>
                            </a:lnTo>
                            <a:lnTo>
                              <a:pt x="0" y="2159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noFill/>
                      <a:ln w="3240">
                        <a:solidFill>
                          <a:srgbClr val="00cc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noAutofit/>
                      </a:bodyPr>
                      <a:p>
                        <a:pPr algn="ctr">
                          <a:spcBef>
                            <a:spcPts val="9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033" name="AutoShape 185"/>
                  <p:cNvSpPr/>
                  <p:nvPr/>
                </p:nvSpPr>
                <p:spPr>
                  <a:xfrm>
                    <a:off x="923400" y="4081320"/>
                    <a:ext cx="152280" cy="147600"/>
                  </a:xfrm>
                  <a:custGeom>
                    <a:avLst/>
                    <a:gdLst>
                      <a:gd name="textAreaLeft" fmla="*/ 0 w 152280"/>
                      <a:gd name="textAreaRight" fmla="*/ 152640 w 15228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1600" y="21600"/>
                        </a:ln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AutoShape 186"/>
                  <p:cNvSpPr/>
                  <p:nvPr/>
                </p:nvSpPr>
                <p:spPr>
                  <a:xfrm>
                    <a:off x="909360" y="4064040"/>
                    <a:ext cx="761040" cy="177840"/>
                  </a:xfrm>
                  <a:custGeom>
                    <a:avLst/>
                    <a:gdLst>
                      <a:gd name="textAreaLeft" fmla="*/ 0 w 761040"/>
                      <a:gd name="textAreaRight" fmla="*/ 761400 w 761040"/>
                      <a:gd name="textAreaTop" fmla="*/ 0 h 177840"/>
                      <a:gd name="textAreaBottom" fmla="*/ 177840 h 177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1600" y="21600"/>
                        </a:ln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35" name="AutoShape 187"/>
                <p:cNvSpPr/>
                <p:nvPr/>
              </p:nvSpPr>
              <p:spPr>
                <a:xfrm>
                  <a:off x="741240" y="4067280"/>
                  <a:ext cx="149040" cy="171360"/>
                </a:xfrm>
                <a:custGeom>
                  <a:avLst/>
                  <a:gdLst>
                    <a:gd name="textAreaLeft" fmla="*/ 0 w 149040"/>
                    <a:gd name="textAreaRight" fmla="*/ 149400 w 14904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599" y="0"/>
                      </a:lnTo>
                      <a:lnTo>
                        <a:pt x="21599" y="21600"/>
                      </a:ln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AutoShape 188"/>
                <p:cNvSpPr/>
                <p:nvPr/>
              </p:nvSpPr>
              <p:spPr>
                <a:xfrm>
                  <a:off x="1689480" y="4065480"/>
                  <a:ext cx="95040" cy="171360"/>
                </a:xfrm>
                <a:custGeom>
                  <a:avLst/>
                  <a:gdLst>
                    <a:gd name="textAreaLeft" fmla="*/ 0 w 95040"/>
                    <a:gd name="textAreaRight" fmla="*/ 95400 w 9504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1600" y="21600"/>
                      </a:ln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AutoShape 189"/>
                <p:cNvSpPr/>
                <p:nvPr/>
              </p:nvSpPr>
              <p:spPr>
                <a:xfrm>
                  <a:off x="720720" y="4041720"/>
                  <a:ext cx="1079640" cy="219240"/>
                </a:xfrm>
                <a:custGeom>
                  <a:avLst/>
                  <a:gdLst>
                    <a:gd name="textAreaLeft" fmla="*/ 0 w 1079640"/>
                    <a:gd name="textAreaRight" fmla="*/ 1080000 w 107964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1600" y="21600"/>
                      </a:ln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38" name="AutoShape 190"/>
            <p:cNvSpPr/>
            <p:nvPr/>
          </p:nvSpPr>
          <p:spPr>
            <a:xfrm rot="10800000">
              <a:off x="1232280" y="3137040"/>
              <a:ext cx="380520" cy="121752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8131"/>
                  </a:moveTo>
                  <a:lnTo>
                    <a:pt x="4950" y="18131"/>
                  </a:lnTo>
                  <a:lnTo>
                    <a:pt x="4950" y="0"/>
                  </a:lnTo>
                  <a:lnTo>
                    <a:pt x="16650" y="0"/>
                  </a:lnTo>
                  <a:lnTo>
                    <a:pt x="16650" y="18131"/>
                  </a:lnTo>
                  <a:lnTo>
                    <a:pt x="21600" y="18131"/>
                  </a:lnTo>
                  <a:lnTo>
                    <a:pt x="10800" y="21599"/>
                  </a:lnTo>
                  <a:lnTo>
                    <a:pt x="0" y="18131"/>
                  </a:lnTo>
                  <a:close/>
                </a:path>
              </a:pathLst>
            </a:cu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9" name="Group 191"/>
            <p:cNvGrpSpPr/>
            <p:nvPr/>
          </p:nvGrpSpPr>
          <p:grpSpPr>
            <a:xfrm>
              <a:off x="1181880" y="3330720"/>
              <a:ext cx="459720" cy="231120"/>
              <a:chOff x="1181880" y="3330720"/>
              <a:chExt cx="459720" cy="231120"/>
            </a:xfrm>
          </p:grpSpPr>
          <p:sp>
            <p:nvSpPr>
              <p:cNvPr id="1040" name="AutoShape 192"/>
              <p:cNvSpPr/>
              <p:nvPr/>
            </p:nvSpPr>
            <p:spPr>
              <a:xfrm>
                <a:off x="1253160" y="3382920"/>
                <a:ext cx="388440" cy="136440"/>
              </a:xfrm>
              <a:custGeom>
                <a:avLst/>
                <a:gdLst>
                  <a:gd name="textAreaLeft" fmla="*/ 0 w 388440"/>
                  <a:gd name="textAreaRight" fmla="*/ 388800 w 38844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AutoShape 193"/>
              <p:cNvSpPr/>
              <p:nvPr/>
            </p:nvSpPr>
            <p:spPr>
              <a:xfrm>
                <a:off x="1181880" y="3330720"/>
                <a:ext cx="446040" cy="231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Gill Sans MT"/>
                  </a:rPr>
                  <a:t>DHC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2" name="Group 194"/>
          <p:cNvGrpSpPr/>
          <p:nvPr/>
        </p:nvGrpSpPr>
        <p:grpSpPr>
          <a:xfrm>
            <a:off x="1182600" y="3332160"/>
            <a:ext cx="461880" cy="231840"/>
            <a:chOff x="1182600" y="3332160"/>
            <a:chExt cx="461880" cy="231840"/>
          </a:xfrm>
        </p:grpSpPr>
        <p:sp>
          <p:nvSpPr>
            <p:cNvPr id="1043" name="AutoShape 195"/>
            <p:cNvSpPr/>
            <p:nvPr/>
          </p:nvSpPr>
          <p:spPr>
            <a:xfrm>
              <a:off x="1254240" y="3384720"/>
              <a:ext cx="390240" cy="13680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AutoShape 196"/>
            <p:cNvSpPr/>
            <p:nvPr/>
          </p:nvSpPr>
          <p:spPr>
            <a:xfrm>
              <a:off x="1182600" y="3332160"/>
              <a:ext cx="448200" cy="231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Gill Sans MT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45" name="Picture 197" descr="underline_base"/>
          <p:cNvPicPr/>
          <p:nvPr/>
        </p:nvPicPr>
        <p:blipFill>
          <a:blip r:embed="rId3"/>
          <a:stretch/>
        </p:blipFill>
        <p:spPr>
          <a:xfrm>
            <a:off x="779400" y="722160"/>
            <a:ext cx="3198960" cy="173160"/>
          </a:xfrm>
          <a:prstGeom prst="rect">
            <a:avLst/>
          </a:prstGeom>
          <a:ln w="0">
            <a:noFill/>
          </a:ln>
        </p:spPr>
      </p:pic>
      <p:sp>
        <p:nvSpPr>
          <p:cNvPr id="1046" name="PlaceHolder 2"/>
          <p:cNvSpPr>
            <a:spLocks noGrp="1"/>
          </p:cNvSpPr>
          <p:nvPr>
            <p:ph type="title"/>
          </p:nvPr>
        </p:nvSpPr>
        <p:spPr>
          <a:xfrm>
            <a:off x="704880" y="77400"/>
            <a:ext cx="435456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Slide Number Placeholder 200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39CB-61FE-4FEA-9C40-EED5740A6A7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4196480" presetSubtype="9434977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AutoShape 2"/>
          <p:cNvSpPr/>
          <p:nvPr/>
        </p:nvSpPr>
        <p:spPr>
          <a:xfrm>
            <a:off x="5913360" y="6467400"/>
            <a:ext cx="28940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AutoShape 3"/>
          <p:cNvSpPr/>
          <p:nvPr/>
        </p:nvSpPr>
        <p:spPr>
          <a:xfrm>
            <a:off x="8705880" y="6462720"/>
            <a:ext cx="6746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-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1" name="Picture 4" descr="underline_base"/>
          <p:cNvPicPr/>
          <p:nvPr/>
        </p:nvPicPr>
        <p:blipFill>
          <a:blip r:embed="rId1"/>
          <a:stretch/>
        </p:blipFill>
        <p:spPr>
          <a:xfrm>
            <a:off x="779400" y="722160"/>
            <a:ext cx="3198960" cy="17316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5418000" y="1158840"/>
            <a:ext cx="3430800" cy="15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1200" indent="-241200">
              <a:lnSpc>
                <a:spcPct val="85000"/>
              </a:lnSpc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DHCP server formulates DHCP ACK containing client’s IP address, IP address of first-hop router for client, name &amp; IP address of DNS serv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AutoShape 6"/>
          <p:cNvSpPr/>
          <p:nvPr/>
        </p:nvSpPr>
        <p:spPr>
          <a:xfrm>
            <a:off x="1184400" y="1444680"/>
            <a:ext cx="3465360" cy="2730600"/>
          </a:xfrm>
          <a:custGeom>
            <a:avLst/>
            <a:gdLst>
              <a:gd name="textAreaLeft" fmla="*/ 0 w 3465360"/>
              <a:gd name="textAreaRight" fmla="*/ 3465720 w 3465360"/>
              <a:gd name="textAreaTop" fmla="*/ 0 h 2730600"/>
              <a:gd name="textAreaBottom" fmla="*/ 2730960 h 2730600"/>
            </a:gdLst>
            <a:ahLst/>
            <a:rect l="textAreaLeft" t="textAreaTop" r="textAreaRight" b="textAreaBottom"/>
            <a:pathLst>
              <a:path w="21060" h="21407">
                <a:moveTo>
                  <a:pt x="19490" y="6041"/>
                </a:moveTo>
                <a:cubicBezTo>
                  <a:pt x="17569" y="1983"/>
                  <a:pt x="17677" y="2614"/>
                  <a:pt x="16483" y="1600"/>
                </a:cubicBezTo>
                <a:cubicBezTo>
                  <a:pt x="15289" y="585"/>
                  <a:pt x="14032" y="-136"/>
                  <a:pt x="12317" y="21"/>
                </a:cubicBezTo>
                <a:cubicBezTo>
                  <a:pt x="10603" y="179"/>
                  <a:pt x="7873" y="1757"/>
                  <a:pt x="6212" y="2614"/>
                </a:cubicBezTo>
                <a:cubicBezTo>
                  <a:pt x="4552" y="3471"/>
                  <a:pt x="3358" y="3651"/>
                  <a:pt x="2325" y="5139"/>
                </a:cubicBezTo>
                <a:cubicBezTo>
                  <a:pt x="1302" y="6650"/>
                  <a:pt x="278" y="9604"/>
                  <a:pt x="45" y="11633"/>
                </a:cubicBezTo>
                <a:cubicBezTo>
                  <a:pt x="-188" y="13662"/>
                  <a:pt x="539" y="15894"/>
                  <a:pt x="907" y="17292"/>
                </a:cubicBezTo>
                <a:cubicBezTo>
                  <a:pt x="1275" y="18690"/>
                  <a:pt x="700" y="19637"/>
                  <a:pt x="2262" y="20020"/>
                </a:cubicBezTo>
                <a:cubicBezTo>
                  <a:pt x="3824" y="20404"/>
                  <a:pt x="8232" y="19389"/>
                  <a:pt x="10306" y="19615"/>
                </a:cubicBezTo>
                <a:cubicBezTo>
                  <a:pt x="12380" y="19840"/>
                  <a:pt x="13269" y="21283"/>
                  <a:pt x="14705" y="21373"/>
                </a:cubicBezTo>
                <a:cubicBezTo>
                  <a:pt x="16142" y="21464"/>
                  <a:pt x="17892" y="21464"/>
                  <a:pt x="18925" y="20088"/>
                </a:cubicBezTo>
                <a:cubicBezTo>
                  <a:pt x="19957" y="18713"/>
                  <a:pt x="20702" y="19164"/>
                  <a:pt x="20909" y="13189"/>
                </a:cubicBezTo>
                <a:cubicBezTo>
                  <a:pt x="21115" y="7214"/>
                  <a:pt x="21411" y="10100"/>
                  <a:pt x="19490" y="604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Line 7"/>
          <p:cNvSpPr/>
          <p:nvPr/>
        </p:nvSpPr>
        <p:spPr>
          <a:xfrm flipV="1">
            <a:off x="4156200" y="2509560"/>
            <a:ext cx="155520" cy="144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Line 8"/>
          <p:cNvSpPr/>
          <p:nvPr/>
        </p:nvSpPr>
        <p:spPr>
          <a:xfrm>
            <a:off x="3046320" y="2673360"/>
            <a:ext cx="6955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9"/>
          <p:cNvSpPr/>
          <p:nvPr/>
        </p:nvSpPr>
        <p:spPr>
          <a:xfrm flipV="1">
            <a:off x="4305240" y="2366640"/>
            <a:ext cx="138240" cy="1443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10"/>
          <p:cNvSpPr/>
          <p:nvPr/>
        </p:nvSpPr>
        <p:spPr>
          <a:xfrm flipV="1">
            <a:off x="3660840" y="2901600"/>
            <a:ext cx="512640" cy="614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AutoShape 11"/>
          <p:cNvSpPr/>
          <p:nvPr/>
        </p:nvSpPr>
        <p:spPr>
          <a:xfrm>
            <a:off x="5411880" y="2930400"/>
            <a:ext cx="3421080" cy="1217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19040" indent="-41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ncapsulation of DHCP server, frame forwarded to client, demuxing up to DHCP at cli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title"/>
          </p:nvPr>
        </p:nvSpPr>
        <p:spPr>
          <a:xfrm>
            <a:off x="704880" y="77400"/>
            <a:ext cx="435456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0" name="Group 13"/>
          <p:cNvGrpSpPr/>
          <p:nvPr/>
        </p:nvGrpSpPr>
        <p:grpSpPr>
          <a:xfrm>
            <a:off x="2349360" y="2295360"/>
            <a:ext cx="860400" cy="639000"/>
            <a:chOff x="2349360" y="2295360"/>
            <a:chExt cx="860400" cy="639000"/>
          </a:xfrm>
        </p:grpSpPr>
        <p:pic>
          <p:nvPicPr>
            <p:cNvPr id="1061" name="Picture 14" descr="laptop_keyboard"/>
            <p:cNvPicPr/>
            <p:nvPr/>
          </p:nvPicPr>
          <p:blipFill>
            <a:blip r:embed="rId2"/>
            <a:stretch/>
          </p:blipFill>
          <p:spPr>
            <a:xfrm flipH="1" rot="109800">
              <a:off x="2354040" y="2610360"/>
              <a:ext cx="734400" cy="31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2" name="AutoShape 15"/>
            <p:cNvSpPr/>
            <p:nvPr/>
          </p:nvSpPr>
          <p:spPr>
            <a:xfrm>
              <a:off x="2598120" y="2309040"/>
              <a:ext cx="590760" cy="406800"/>
            </a:xfrm>
            <a:custGeom>
              <a:avLst/>
              <a:gdLst>
                <a:gd name="textAreaLeft" fmla="*/ 0 w 590760"/>
                <a:gd name="textAreaRight" fmla="*/ 590760 w 590760"/>
                <a:gd name="textAreaTop" fmla="*/ 0 h 406800"/>
                <a:gd name="textAreaBottom" fmla="*/ 407160 h 40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911" y="0"/>
                  </a:moveTo>
                  <a:lnTo>
                    <a:pt x="0" y="15337"/>
                  </a:lnTo>
                  <a:lnTo>
                    <a:pt x="17340" y="21599"/>
                  </a:lnTo>
                  <a:lnTo>
                    <a:pt x="21599" y="2812"/>
                  </a:lnTo>
                  <a:lnTo>
                    <a:pt x="391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3" name="Picture 16" descr="screen"/>
            <p:cNvPicPr/>
            <p:nvPr/>
          </p:nvPicPr>
          <p:blipFill>
            <a:blip r:embed="rId3"/>
            <a:stretch/>
          </p:blipFill>
          <p:spPr>
            <a:xfrm>
              <a:off x="2627280" y="2318400"/>
              <a:ext cx="5364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4" name="AutoShape 17"/>
            <p:cNvSpPr/>
            <p:nvPr/>
          </p:nvSpPr>
          <p:spPr>
            <a:xfrm>
              <a:off x="2705400" y="2296440"/>
              <a:ext cx="500040" cy="752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9" y="0"/>
                  </a:moveTo>
                  <a:lnTo>
                    <a:pt x="21600" y="16188"/>
                  </a:lnTo>
                  <a:lnTo>
                    <a:pt x="21189" y="21599"/>
                  </a:lnTo>
                  <a:lnTo>
                    <a:pt x="0" y="4082"/>
                  </a:lnTo>
                  <a:lnTo>
                    <a:pt x="119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AutoShape 18"/>
            <p:cNvSpPr/>
            <p:nvPr/>
          </p:nvSpPr>
          <p:spPr>
            <a:xfrm>
              <a:off x="2592360" y="2295360"/>
              <a:ext cx="139320" cy="31500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15" y="0"/>
                  </a:moveTo>
                  <a:lnTo>
                    <a:pt x="0" y="21326"/>
                  </a:lnTo>
                  <a:lnTo>
                    <a:pt x="3507" y="21600"/>
                  </a:lnTo>
                  <a:lnTo>
                    <a:pt x="21599" y="581"/>
                  </a:lnTo>
                  <a:lnTo>
                    <a:pt x="17815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AutoShape 19"/>
            <p:cNvSpPr/>
            <p:nvPr/>
          </p:nvSpPr>
          <p:spPr>
            <a:xfrm>
              <a:off x="3052440" y="2352600"/>
              <a:ext cx="150480" cy="36288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362880"/>
                <a:gd name="textAreaBottom" fmla="*/ 363240 h 36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599" y="0"/>
                  </a:moveTo>
                  <a:lnTo>
                    <a:pt x="3942" y="21600"/>
                  </a:lnTo>
                  <a:lnTo>
                    <a:pt x="0" y="21243"/>
                  </a:lnTo>
                  <a:lnTo>
                    <a:pt x="17314" y="771"/>
                  </a:lnTo>
                  <a:lnTo>
                    <a:pt x="21599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AutoShape 20"/>
            <p:cNvSpPr/>
            <p:nvPr/>
          </p:nvSpPr>
          <p:spPr>
            <a:xfrm>
              <a:off x="2591280" y="2595240"/>
              <a:ext cx="511920" cy="121680"/>
            </a:xfrm>
            <a:custGeom>
              <a:avLst/>
              <a:gdLst>
                <a:gd name="textAreaLeft" fmla="*/ 0 w 511920"/>
                <a:gd name="textAreaRight" fmla="*/ 512280 w 51192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20144" h="21600">
                  <a:moveTo>
                    <a:pt x="257" y="0"/>
                  </a:moveTo>
                  <a:lnTo>
                    <a:pt x="0" y="2897"/>
                  </a:lnTo>
                  <a:lnTo>
                    <a:pt x="18974" y="21600"/>
                  </a:lnTo>
                  <a:cubicBezTo>
                    <a:pt x="19465" y="14663"/>
                    <a:pt x="21600" y="21278"/>
                    <a:pt x="18484" y="17648"/>
                  </a:cubicBezTo>
                  <a:lnTo>
                    <a:pt x="25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AutoShape 21"/>
            <p:cNvSpPr/>
            <p:nvPr/>
          </p:nvSpPr>
          <p:spPr>
            <a:xfrm>
              <a:off x="3069000" y="2355480"/>
              <a:ext cx="140760" cy="36432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364320"/>
                <a:gd name="textAreaBottom" fmla="*/ 364680 h 36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854" y="0"/>
                  </a:moveTo>
                  <a:lnTo>
                    <a:pt x="21599" y="0"/>
                  </a:lnTo>
                  <a:lnTo>
                    <a:pt x="2305" y="21600"/>
                  </a:lnTo>
                  <a:lnTo>
                    <a:pt x="0" y="21443"/>
                  </a:lnTo>
                  <a:lnTo>
                    <a:pt x="20854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AutoShape 22"/>
            <p:cNvSpPr/>
            <p:nvPr/>
          </p:nvSpPr>
          <p:spPr>
            <a:xfrm>
              <a:off x="2591280" y="2611800"/>
              <a:ext cx="488880" cy="12024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7" y="2238"/>
                  </a:lnTo>
                  <a:lnTo>
                    <a:pt x="21093" y="21599"/>
                  </a:lnTo>
                  <a:lnTo>
                    <a:pt x="21599" y="1947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0" name="Group 23"/>
            <p:cNvGrpSpPr/>
            <p:nvPr/>
          </p:nvGrpSpPr>
          <p:grpSpPr>
            <a:xfrm>
              <a:off x="2582640" y="2740320"/>
              <a:ext cx="165600" cy="72360"/>
              <a:chOff x="2582640" y="2740320"/>
              <a:chExt cx="165600" cy="72360"/>
            </a:xfrm>
          </p:grpSpPr>
          <p:sp>
            <p:nvSpPr>
              <p:cNvPr id="1071" name="AutoShape 24"/>
              <p:cNvSpPr/>
              <p:nvPr/>
            </p:nvSpPr>
            <p:spPr>
              <a:xfrm>
                <a:off x="2582640" y="2740320"/>
                <a:ext cx="165600" cy="72360"/>
              </a:xfrm>
              <a:custGeom>
                <a:avLst/>
                <a:gdLst>
                  <a:gd name="textAreaLeft" fmla="*/ 0 w 165600"/>
                  <a:gd name="textAreaRight" fmla="*/ 165960 w 16560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415" y="0"/>
                    </a:moveTo>
                    <a:lnTo>
                      <a:pt x="21600" y="8190"/>
                    </a:lnTo>
                    <a:lnTo>
                      <a:pt x="13499" y="21599"/>
                    </a:lnTo>
                    <a:lnTo>
                      <a:pt x="0" y="12088"/>
                    </a:lnTo>
                    <a:lnTo>
                      <a:pt x="8415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AutoShape 25"/>
              <p:cNvSpPr/>
              <p:nvPr/>
            </p:nvSpPr>
            <p:spPr>
              <a:xfrm>
                <a:off x="2585520" y="2741760"/>
                <a:ext cx="160200" cy="6912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390" y="0"/>
                    </a:moveTo>
                    <a:lnTo>
                      <a:pt x="21600" y="8264"/>
                    </a:lnTo>
                    <a:lnTo>
                      <a:pt x="13596" y="21599"/>
                    </a:lnTo>
                    <a:lnTo>
                      <a:pt x="0" y="12015"/>
                    </a:lnTo>
                    <a:lnTo>
                      <a:pt x="839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AutoShape 26"/>
              <p:cNvSpPr/>
              <p:nvPr/>
            </p:nvSpPr>
            <p:spPr>
              <a:xfrm>
                <a:off x="2597400" y="2768760"/>
                <a:ext cx="56880" cy="219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9503"/>
                    </a:moveTo>
                    <a:lnTo>
                      <a:pt x="6279" y="0"/>
                    </a:lnTo>
                    <a:lnTo>
                      <a:pt x="21600" y="10800"/>
                    </a:lnTo>
                    <a:lnTo>
                      <a:pt x="15320" y="21599"/>
                    </a:lnTo>
                    <a:lnTo>
                      <a:pt x="0" y="9503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AutoShape 27"/>
              <p:cNvSpPr/>
              <p:nvPr/>
            </p:nvSpPr>
            <p:spPr>
              <a:xfrm>
                <a:off x="2595600" y="2778840"/>
                <a:ext cx="42480" cy="13680"/>
              </a:xfrm>
              <a:custGeom>
                <a:avLst/>
                <a:gdLst>
                  <a:gd name="textAreaLeft" fmla="*/ 0 w 42480"/>
                  <a:gd name="textAreaRight" fmla="*/ 4248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36" y="0"/>
                    </a:moveTo>
                    <a:lnTo>
                      <a:pt x="21600" y="18171"/>
                    </a:lnTo>
                    <a:lnTo>
                      <a:pt x="20041" y="21599"/>
                    </a:lnTo>
                    <a:lnTo>
                      <a:pt x="0" y="3085"/>
                    </a:lnTo>
                    <a:lnTo>
                      <a:pt x="133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AutoShape 28"/>
              <p:cNvSpPr/>
              <p:nvPr/>
            </p:nvSpPr>
            <p:spPr>
              <a:xfrm>
                <a:off x="2644200" y="2782800"/>
                <a:ext cx="56880" cy="2268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9741"/>
                    </a:moveTo>
                    <a:lnTo>
                      <a:pt x="5944" y="0"/>
                    </a:lnTo>
                    <a:lnTo>
                      <a:pt x="21600" y="11011"/>
                    </a:lnTo>
                    <a:lnTo>
                      <a:pt x="15320" y="21599"/>
                    </a:lnTo>
                    <a:lnTo>
                      <a:pt x="0" y="9741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AutoShape 29"/>
              <p:cNvSpPr/>
              <p:nvPr/>
            </p:nvSpPr>
            <p:spPr>
              <a:xfrm>
                <a:off x="2642400" y="2793600"/>
                <a:ext cx="42480" cy="13680"/>
              </a:xfrm>
              <a:custGeom>
                <a:avLst/>
                <a:gdLst>
                  <a:gd name="textAreaLeft" fmla="*/ 0 w 42480"/>
                  <a:gd name="textAreaRight" fmla="*/ 4248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36" y="0"/>
                    </a:moveTo>
                    <a:lnTo>
                      <a:pt x="21600" y="18171"/>
                    </a:lnTo>
                    <a:lnTo>
                      <a:pt x="20041" y="21599"/>
                    </a:lnTo>
                    <a:lnTo>
                      <a:pt x="0" y="3085"/>
                    </a:lnTo>
                    <a:lnTo>
                      <a:pt x="133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7" name="AutoShape 30"/>
            <p:cNvSpPr/>
            <p:nvPr/>
          </p:nvSpPr>
          <p:spPr>
            <a:xfrm>
              <a:off x="2867040" y="2751480"/>
              <a:ext cx="200520" cy="15876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65" y="20127"/>
                  </a:moveTo>
                  <a:lnTo>
                    <a:pt x="21600" y="0"/>
                  </a:lnTo>
                  <a:lnTo>
                    <a:pt x="21534" y="1636"/>
                  </a:lnTo>
                  <a:lnTo>
                    <a:pt x="0" y="21599"/>
                  </a:lnTo>
                  <a:lnTo>
                    <a:pt x="65" y="20127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AutoShape 31"/>
            <p:cNvSpPr/>
            <p:nvPr/>
          </p:nvSpPr>
          <p:spPr>
            <a:xfrm>
              <a:off x="2354400" y="2763720"/>
              <a:ext cx="514080" cy="145080"/>
            </a:xfrm>
            <a:custGeom>
              <a:avLst/>
              <a:gdLst>
                <a:gd name="textAreaLeft" fmla="*/ 0 w 514080"/>
                <a:gd name="textAreaRight" fmla="*/ 514080 w 51408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1" y="0"/>
                  </a:moveTo>
                  <a:cubicBezTo>
                    <a:pt x="136" y="0"/>
                    <a:pt x="221" y="0"/>
                    <a:pt x="307" y="0"/>
                  </a:cubicBezTo>
                  <a:lnTo>
                    <a:pt x="21600" y="20255"/>
                  </a:lnTo>
                  <a:lnTo>
                    <a:pt x="21574" y="21600"/>
                  </a:lnTo>
                  <a:lnTo>
                    <a:pt x="0" y="717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AutoShape 32"/>
            <p:cNvSpPr/>
            <p:nvPr/>
          </p:nvSpPr>
          <p:spPr>
            <a:xfrm>
              <a:off x="2354400" y="2737800"/>
              <a:ext cx="5400" cy="2844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599" y="1469"/>
                  </a:moveTo>
                  <a:lnTo>
                    <a:pt x="19107" y="21600"/>
                  </a:lnTo>
                  <a:lnTo>
                    <a:pt x="0" y="21159"/>
                  </a:lnTo>
                  <a:lnTo>
                    <a:pt x="2492" y="0"/>
                  </a:lnTo>
                  <a:lnTo>
                    <a:pt x="21599" y="1469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AutoShape 33"/>
            <p:cNvSpPr/>
            <p:nvPr/>
          </p:nvSpPr>
          <p:spPr>
            <a:xfrm>
              <a:off x="2355480" y="2618640"/>
              <a:ext cx="238320" cy="1202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489" y="0"/>
                  </a:moveTo>
                  <a:lnTo>
                    <a:pt x="0" y="21279"/>
                  </a:lnTo>
                  <a:lnTo>
                    <a:pt x="551" y="21599"/>
                  </a:lnTo>
                  <a:lnTo>
                    <a:pt x="21600" y="641"/>
                  </a:lnTo>
                  <a:lnTo>
                    <a:pt x="2148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AutoShape 34"/>
            <p:cNvSpPr/>
            <p:nvPr/>
          </p:nvSpPr>
          <p:spPr>
            <a:xfrm>
              <a:off x="2370960" y="2743200"/>
              <a:ext cx="487440" cy="13968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1" y="0"/>
                  </a:moveTo>
                  <a:cubicBezTo>
                    <a:pt x="136" y="0"/>
                    <a:pt x="221" y="0"/>
                    <a:pt x="307" y="0"/>
                  </a:cubicBezTo>
                  <a:lnTo>
                    <a:pt x="21599" y="20255"/>
                  </a:lnTo>
                  <a:lnTo>
                    <a:pt x="21574" y="21599"/>
                  </a:lnTo>
                  <a:lnTo>
                    <a:pt x="0" y="717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AutoShape 35"/>
            <p:cNvSpPr/>
            <p:nvPr/>
          </p:nvSpPr>
          <p:spPr>
            <a:xfrm flipH="1" rot="10800000">
              <a:off x="2857680" y="2733120"/>
              <a:ext cx="197640" cy="143640"/>
            </a:xfrm>
            <a:custGeom>
              <a:avLst/>
              <a:gdLst>
                <a:gd name="textAreaLeft" fmla="*/ -360 w 197640"/>
                <a:gd name="textAreaRight" fmla="*/ 197640 w 197640"/>
                <a:gd name="textAreaTop" fmla="*/ 0 h 143640"/>
                <a:gd name="textAreaBottom" fmla="*/ 144000 h 14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1" y="0"/>
                  </a:moveTo>
                  <a:cubicBezTo>
                    <a:pt x="136" y="0"/>
                    <a:pt x="221" y="0"/>
                    <a:pt x="307" y="0"/>
                  </a:cubicBezTo>
                  <a:lnTo>
                    <a:pt x="21600" y="20255"/>
                  </a:lnTo>
                  <a:lnTo>
                    <a:pt x="21574" y="21599"/>
                  </a:lnTo>
                  <a:lnTo>
                    <a:pt x="0" y="717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3" name="AutoShape 36"/>
          <p:cNvSpPr/>
          <p:nvPr/>
        </p:nvSpPr>
        <p:spPr>
          <a:xfrm>
            <a:off x="2943360" y="3967200"/>
            <a:ext cx="1763640" cy="890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router with DHC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server built i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4" name="Group 37"/>
          <p:cNvGrpSpPr/>
          <p:nvPr/>
        </p:nvGrpSpPr>
        <p:grpSpPr>
          <a:xfrm>
            <a:off x="3054240" y="3525840"/>
            <a:ext cx="1068480" cy="406440"/>
            <a:chOff x="3054240" y="3525840"/>
            <a:chExt cx="1068480" cy="406440"/>
          </a:xfrm>
        </p:grpSpPr>
        <p:sp>
          <p:nvSpPr>
            <p:cNvPr id="1085" name="AutoShape 38"/>
            <p:cNvSpPr/>
            <p:nvPr/>
          </p:nvSpPr>
          <p:spPr>
            <a:xfrm>
              <a:off x="3058920" y="3706200"/>
              <a:ext cx="1059120" cy="226080"/>
            </a:xfrm>
            <a:custGeom>
              <a:avLst/>
              <a:gdLst>
                <a:gd name="textAreaLeft" fmla="*/ 0 w 1059120"/>
                <a:gd name="textAreaRight" fmla="*/ 1059480 w 1059120"/>
                <a:gd name="textAreaTop" fmla="*/ 0 h 226080"/>
                <a:gd name="textAreaBottom" fmla="*/ 226440 h 22608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AutoShape 39"/>
            <p:cNvSpPr/>
            <p:nvPr/>
          </p:nvSpPr>
          <p:spPr>
            <a:xfrm>
              <a:off x="3058920" y="3679920"/>
              <a:ext cx="1063800" cy="140760"/>
            </a:xfrm>
            <a:custGeom>
              <a:avLst/>
              <a:gdLst>
                <a:gd name="textAreaLeft" fmla="*/ 0 w 1063800"/>
                <a:gd name="textAreaRight" fmla="*/ 1064160 w 106380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AutoShape 40"/>
            <p:cNvSpPr/>
            <p:nvPr/>
          </p:nvSpPr>
          <p:spPr>
            <a:xfrm>
              <a:off x="3054240" y="3525840"/>
              <a:ext cx="1060560" cy="265680"/>
            </a:xfrm>
            <a:custGeom>
              <a:avLst/>
              <a:gdLst>
                <a:gd name="textAreaLeft" fmla="*/ 0 w 1060560"/>
                <a:gd name="textAreaRight" fmla="*/ 1060920 w 1060560"/>
                <a:gd name="textAreaTop" fmla="*/ 0 h 265680"/>
                <a:gd name="textAreaBottom" fmla="*/ 266040 h 26568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8" name="Group 41"/>
            <p:cNvGrpSpPr/>
            <p:nvPr/>
          </p:nvGrpSpPr>
          <p:grpSpPr>
            <a:xfrm>
              <a:off x="3267360" y="3594600"/>
              <a:ext cx="599400" cy="122760"/>
              <a:chOff x="3267360" y="3594600"/>
              <a:chExt cx="599400" cy="122760"/>
            </a:xfrm>
          </p:grpSpPr>
          <p:sp>
            <p:nvSpPr>
              <p:cNvPr id="1089" name="AutoShape 42"/>
              <p:cNvSpPr/>
              <p:nvPr/>
            </p:nvSpPr>
            <p:spPr>
              <a:xfrm>
                <a:off x="3267360" y="3594600"/>
                <a:ext cx="599400" cy="122760"/>
              </a:xfrm>
              <a:custGeom>
                <a:avLst/>
                <a:gdLst>
                  <a:gd name="textAreaLeft" fmla="*/ 0 w 599400"/>
                  <a:gd name="textAreaRight" fmla="*/ 599760 w 59940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6689" y="21600"/>
                    </a:lnTo>
                    <a:lnTo>
                      <a:pt x="13378" y="0"/>
                    </a:lnTo>
                    <a:lnTo>
                      <a:pt x="21600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AutoShape 43"/>
              <p:cNvSpPr/>
              <p:nvPr/>
            </p:nvSpPr>
            <p:spPr>
              <a:xfrm>
                <a:off x="3294360" y="3594600"/>
                <a:ext cx="545400" cy="122760"/>
              </a:xfrm>
              <a:custGeom>
                <a:avLst/>
                <a:gdLst>
                  <a:gd name="textAreaLeft" fmla="*/ 0 w 545400"/>
                  <a:gd name="textAreaRight" fmla="*/ 545760 w 54540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7353" y="0"/>
                    </a:lnTo>
                    <a:lnTo>
                      <a:pt x="14706" y="21600"/>
                    </a:lnTo>
                    <a:lnTo>
                      <a:pt x="21600" y="2160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1" name="Line 44"/>
            <p:cNvSpPr/>
            <p:nvPr/>
          </p:nvSpPr>
          <p:spPr>
            <a:xfrm>
              <a:off x="3058920" y="3650400"/>
              <a:ext cx="0" cy="17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Line 45"/>
            <p:cNvSpPr/>
            <p:nvPr/>
          </p:nvSpPr>
          <p:spPr>
            <a:xfrm>
              <a:off x="4114800" y="3658680"/>
              <a:ext cx="0" cy="17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3" name="Group 46"/>
          <p:cNvGrpSpPr/>
          <p:nvPr/>
        </p:nvGrpSpPr>
        <p:grpSpPr>
          <a:xfrm>
            <a:off x="3086280" y="3328920"/>
            <a:ext cx="425160" cy="649440"/>
            <a:chOff x="3086280" y="3328920"/>
            <a:chExt cx="425160" cy="649440"/>
          </a:xfrm>
        </p:grpSpPr>
        <p:sp>
          <p:nvSpPr>
            <p:cNvPr id="1094" name="AutoShape 47"/>
            <p:cNvSpPr/>
            <p:nvPr/>
          </p:nvSpPr>
          <p:spPr>
            <a:xfrm>
              <a:off x="3422880" y="3330000"/>
              <a:ext cx="84240" cy="619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619920"/>
                <a:gd name="textAreaBottom" fmla="*/ 620280 h 61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44" y="0"/>
                  </a:moveTo>
                  <a:lnTo>
                    <a:pt x="21600" y="2670"/>
                  </a:lnTo>
                  <a:lnTo>
                    <a:pt x="21111" y="20670"/>
                  </a:lnTo>
                  <a:lnTo>
                    <a:pt x="0" y="21600"/>
                  </a:lnTo>
                  <a:lnTo>
                    <a:pt x="3844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AutoShape 48"/>
            <p:cNvSpPr/>
            <p:nvPr/>
          </p:nvSpPr>
          <p:spPr>
            <a:xfrm>
              <a:off x="3105360" y="3328920"/>
              <a:ext cx="313560" cy="619200"/>
            </a:xfrm>
            <a:custGeom>
              <a:avLst/>
              <a:gdLst>
                <a:gd name="textAreaLeft" fmla="*/ 0 w 313560"/>
                <a:gd name="textAreaRight" fmla="*/ 313920 w 31356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AutoShape 49"/>
            <p:cNvSpPr/>
            <p:nvPr/>
          </p:nvSpPr>
          <p:spPr>
            <a:xfrm>
              <a:off x="3440520" y="3367080"/>
              <a:ext cx="48600" cy="56556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565560"/>
                <a:gd name="textAreaBottom" fmla="*/ 565920 h 565560"/>
              </a:gdLst>
              <a:ahLst/>
              <a:rect l="textAreaLeft" t="textAreaTop" r="textAreaRight" b="textAreaBottom"/>
              <a:pathLst>
                <a:path w="20883" h="21300">
                  <a:moveTo>
                    <a:pt x="-1" y="0"/>
                  </a:moveTo>
                  <a:cubicBezTo>
                    <a:pt x="-1" y="0"/>
                    <a:pt x="5118" y="238"/>
                    <a:pt x="20883" y="1856"/>
                  </a:cubicBezTo>
                  <a:cubicBezTo>
                    <a:pt x="-717" y="10463"/>
                    <a:pt x="3480" y="21599"/>
                    <a:pt x="-1" y="21293"/>
                  </a:cubicBez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AutoShape 50"/>
            <p:cNvSpPr/>
            <p:nvPr/>
          </p:nvSpPr>
          <p:spPr>
            <a:xfrm>
              <a:off x="3427560" y="3657240"/>
              <a:ext cx="78480" cy="5112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63" y="0"/>
                  </a:moveTo>
                  <a:cubicBezTo>
                    <a:pt x="3951" y="955"/>
                    <a:pt x="11985" y="7072"/>
                    <a:pt x="21599" y="12233"/>
                  </a:cubicBezTo>
                  <a:cubicBezTo>
                    <a:pt x="21468" y="15483"/>
                    <a:pt x="21468" y="15100"/>
                    <a:pt x="21468" y="21599"/>
                  </a:cubicBezTo>
                  <a:cubicBezTo>
                    <a:pt x="21468" y="21599"/>
                    <a:pt x="11129" y="14814"/>
                    <a:pt x="0" y="9557"/>
                  </a:cubicBezTo>
                  <a:cubicBezTo>
                    <a:pt x="0" y="4587"/>
                    <a:pt x="263" y="1624"/>
                    <a:pt x="26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AutoShape 51"/>
            <p:cNvSpPr/>
            <p:nvPr/>
          </p:nvSpPr>
          <p:spPr>
            <a:xfrm>
              <a:off x="3106800" y="3400200"/>
              <a:ext cx="178560" cy="1260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9" name="Group 52"/>
            <p:cNvGrpSpPr/>
            <p:nvPr/>
          </p:nvGrpSpPr>
          <p:grpSpPr>
            <a:xfrm>
              <a:off x="3267720" y="3394080"/>
              <a:ext cx="173520" cy="38160"/>
              <a:chOff x="3267720" y="3394080"/>
              <a:chExt cx="173520" cy="38160"/>
            </a:xfrm>
          </p:grpSpPr>
          <p:sp>
            <p:nvSpPr>
              <p:cNvPr id="1100" name="AutoShape 53"/>
              <p:cNvSpPr/>
              <p:nvPr/>
            </p:nvSpPr>
            <p:spPr>
              <a:xfrm>
                <a:off x="3267720" y="3394080"/>
                <a:ext cx="17352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AutoShape 54"/>
              <p:cNvSpPr/>
              <p:nvPr/>
            </p:nvSpPr>
            <p:spPr>
              <a:xfrm>
                <a:off x="3270960" y="3398760"/>
                <a:ext cx="1659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2" name="AutoShape 55"/>
            <p:cNvSpPr/>
            <p:nvPr/>
          </p:nvSpPr>
          <p:spPr>
            <a:xfrm>
              <a:off x="3111480" y="3488040"/>
              <a:ext cx="176760" cy="1260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3" name="Group 56"/>
            <p:cNvGrpSpPr/>
            <p:nvPr/>
          </p:nvGrpSpPr>
          <p:grpSpPr>
            <a:xfrm>
              <a:off x="3267720" y="3481560"/>
              <a:ext cx="173520" cy="36360"/>
              <a:chOff x="3267720" y="3481560"/>
              <a:chExt cx="173520" cy="36360"/>
            </a:xfrm>
          </p:grpSpPr>
          <p:sp>
            <p:nvSpPr>
              <p:cNvPr id="1104" name="AutoShape 57"/>
              <p:cNvSpPr/>
              <p:nvPr/>
            </p:nvSpPr>
            <p:spPr>
              <a:xfrm>
                <a:off x="3267720" y="3481560"/>
                <a:ext cx="173520" cy="363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AutoShape 58"/>
              <p:cNvSpPr/>
              <p:nvPr/>
            </p:nvSpPr>
            <p:spPr>
              <a:xfrm>
                <a:off x="3270600" y="3486240"/>
                <a:ext cx="16596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6" name="AutoShape 59"/>
            <p:cNvSpPr/>
            <p:nvPr/>
          </p:nvSpPr>
          <p:spPr>
            <a:xfrm>
              <a:off x="3108600" y="3580560"/>
              <a:ext cx="178560" cy="1260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AutoShape 60"/>
            <p:cNvSpPr/>
            <p:nvPr/>
          </p:nvSpPr>
          <p:spPr>
            <a:xfrm>
              <a:off x="3111480" y="3661560"/>
              <a:ext cx="178560" cy="1260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8" name="Group 61"/>
            <p:cNvGrpSpPr/>
            <p:nvPr/>
          </p:nvGrpSpPr>
          <p:grpSpPr>
            <a:xfrm>
              <a:off x="3263040" y="3653640"/>
              <a:ext cx="174960" cy="41400"/>
              <a:chOff x="3263040" y="3653640"/>
              <a:chExt cx="174960" cy="41400"/>
            </a:xfrm>
          </p:grpSpPr>
          <p:sp>
            <p:nvSpPr>
              <p:cNvPr id="1109" name="AutoShape 62"/>
              <p:cNvSpPr/>
              <p:nvPr/>
            </p:nvSpPr>
            <p:spPr>
              <a:xfrm>
                <a:off x="3263040" y="3653640"/>
                <a:ext cx="17496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AutoShape 63"/>
              <p:cNvSpPr/>
              <p:nvPr/>
            </p:nvSpPr>
            <p:spPr>
              <a:xfrm>
                <a:off x="3265920" y="3658320"/>
                <a:ext cx="16740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1" name="AutoShape 64"/>
            <p:cNvSpPr/>
            <p:nvPr/>
          </p:nvSpPr>
          <p:spPr>
            <a:xfrm>
              <a:off x="3429000" y="3579480"/>
              <a:ext cx="78480" cy="507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63" y="0"/>
                  </a:moveTo>
                  <a:cubicBezTo>
                    <a:pt x="3951" y="955"/>
                    <a:pt x="11985" y="7072"/>
                    <a:pt x="21599" y="12233"/>
                  </a:cubicBezTo>
                  <a:cubicBezTo>
                    <a:pt x="21468" y="15483"/>
                    <a:pt x="21468" y="15100"/>
                    <a:pt x="21468" y="21599"/>
                  </a:cubicBezTo>
                  <a:cubicBezTo>
                    <a:pt x="21468" y="21599"/>
                    <a:pt x="11129" y="14814"/>
                    <a:pt x="0" y="9557"/>
                  </a:cubicBezTo>
                  <a:cubicBezTo>
                    <a:pt x="0" y="4587"/>
                    <a:pt x="263" y="1624"/>
                    <a:pt x="26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2" name="Group 65"/>
            <p:cNvGrpSpPr/>
            <p:nvPr/>
          </p:nvGrpSpPr>
          <p:grpSpPr>
            <a:xfrm>
              <a:off x="3264480" y="3572640"/>
              <a:ext cx="173520" cy="38160"/>
              <a:chOff x="3264480" y="3572640"/>
              <a:chExt cx="173520" cy="38160"/>
            </a:xfrm>
          </p:grpSpPr>
          <p:sp>
            <p:nvSpPr>
              <p:cNvPr id="1113" name="AutoShape 66"/>
              <p:cNvSpPr/>
              <p:nvPr/>
            </p:nvSpPr>
            <p:spPr>
              <a:xfrm>
                <a:off x="3264480" y="3572640"/>
                <a:ext cx="17352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AutoShape 67"/>
              <p:cNvSpPr/>
              <p:nvPr/>
            </p:nvSpPr>
            <p:spPr>
              <a:xfrm>
                <a:off x="3267720" y="3576960"/>
                <a:ext cx="16560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5" name="AutoShape 68"/>
            <p:cNvSpPr/>
            <p:nvPr/>
          </p:nvSpPr>
          <p:spPr>
            <a:xfrm>
              <a:off x="3417480" y="3328920"/>
              <a:ext cx="20520" cy="621000"/>
            </a:xfrm>
            <a:custGeom>
              <a:avLst/>
              <a:gdLst>
                <a:gd name="textAreaLeft" fmla="*/ 0 w 20520"/>
                <a:gd name="textAreaRight" fmla="*/ 20520 w 20520"/>
                <a:gd name="textAreaTop" fmla="*/ 0 h 621000"/>
                <a:gd name="textAreaBottom" fmla="*/ 621360 h 6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AutoShape 69"/>
            <p:cNvSpPr/>
            <p:nvPr/>
          </p:nvSpPr>
          <p:spPr>
            <a:xfrm>
              <a:off x="3436200" y="3485520"/>
              <a:ext cx="70560" cy="5760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91" y="0"/>
                  </a:moveTo>
                  <a:cubicBezTo>
                    <a:pt x="4013" y="843"/>
                    <a:pt x="10508" y="5737"/>
                    <a:pt x="21308" y="12149"/>
                  </a:cubicBezTo>
                  <a:cubicBezTo>
                    <a:pt x="21162" y="15018"/>
                    <a:pt x="21599" y="15862"/>
                    <a:pt x="21599" y="21600"/>
                  </a:cubicBezTo>
                  <a:cubicBezTo>
                    <a:pt x="21599" y="21600"/>
                    <a:pt x="11675" y="14849"/>
                    <a:pt x="0" y="8437"/>
                  </a:cubicBezTo>
                  <a:cubicBezTo>
                    <a:pt x="0" y="4049"/>
                    <a:pt x="291" y="1434"/>
                    <a:pt x="29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AutoShape 70"/>
            <p:cNvSpPr/>
            <p:nvPr/>
          </p:nvSpPr>
          <p:spPr>
            <a:xfrm>
              <a:off x="3436920" y="3396960"/>
              <a:ext cx="72720" cy="648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3623" y="749"/>
                    <a:pt x="10515" y="5699"/>
                    <a:pt x="21600" y="12300"/>
                  </a:cubicBezTo>
                  <a:cubicBezTo>
                    <a:pt x="21457" y="14850"/>
                    <a:pt x="20178" y="16500"/>
                    <a:pt x="20178" y="21600"/>
                  </a:cubicBezTo>
                  <a:cubicBezTo>
                    <a:pt x="20178" y="21600"/>
                    <a:pt x="11581" y="13425"/>
                    <a:pt x="568" y="9299"/>
                  </a:cubicBezTo>
                  <a:cubicBezTo>
                    <a:pt x="568" y="5399"/>
                    <a:pt x="0" y="1274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AutoShape 71"/>
            <p:cNvSpPr/>
            <p:nvPr/>
          </p:nvSpPr>
          <p:spPr>
            <a:xfrm>
              <a:off x="3497400" y="3921480"/>
              <a:ext cx="14040" cy="252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AutoShape 72"/>
            <p:cNvSpPr/>
            <p:nvPr/>
          </p:nvSpPr>
          <p:spPr>
            <a:xfrm>
              <a:off x="3432960" y="3921480"/>
              <a:ext cx="73080" cy="540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9539"/>
                  </a:moveTo>
                  <a:lnTo>
                    <a:pt x="141" y="21600"/>
                  </a:lnTo>
                  <a:lnTo>
                    <a:pt x="21600" y="9899"/>
                  </a:lnTo>
                  <a:lnTo>
                    <a:pt x="21176" y="0"/>
                  </a:lnTo>
                  <a:lnTo>
                    <a:pt x="0" y="9539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AutoShape 73"/>
            <p:cNvSpPr/>
            <p:nvPr/>
          </p:nvSpPr>
          <p:spPr>
            <a:xfrm>
              <a:off x="3086280" y="3938760"/>
              <a:ext cx="35856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AutoShape 74"/>
            <p:cNvSpPr/>
            <p:nvPr/>
          </p:nvSpPr>
          <p:spPr>
            <a:xfrm>
              <a:off x="3105360" y="3948120"/>
              <a:ext cx="32040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AutoShape 75"/>
            <p:cNvSpPr/>
            <p:nvPr/>
          </p:nvSpPr>
          <p:spPr>
            <a:xfrm>
              <a:off x="3135240" y="3859200"/>
              <a:ext cx="47520" cy="38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AutoShape 76"/>
            <p:cNvSpPr/>
            <p:nvPr/>
          </p:nvSpPr>
          <p:spPr>
            <a:xfrm>
              <a:off x="3189600" y="3859200"/>
              <a:ext cx="47520" cy="38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AutoShape 77"/>
            <p:cNvSpPr/>
            <p:nvPr/>
          </p:nvSpPr>
          <p:spPr>
            <a:xfrm>
              <a:off x="3242160" y="3857760"/>
              <a:ext cx="46080" cy="381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AutoShape 78"/>
            <p:cNvSpPr/>
            <p:nvPr/>
          </p:nvSpPr>
          <p:spPr>
            <a:xfrm>
              <a:off x="3361680" y="3709440"/>
              <a:ext cx="25200" cy="2066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9292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6" name="Line 79"/>
          <p:cNvSpPr/>
          <p:nvPr/>
        </p:nvSpPr>
        <p:spPr>
          <a:xfrm flipV="1">
            <a:off x="4156200" y="2498400"/>
            <a:ext cx="155520" cy="144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7" name="Group 80"/>
          <p:cNvGrpSpPr/>
          <p:nvPr/>
        </p:nvGrpSpPr>
        <p:grpSpPr>
          <a:xfrm>
            <a:off x="3521160" y="2598840"/>
            <a:ext cx="963360" cy="299880"/>
            <a:chOff x="3521160" y="2598840"/>
            <a:chExt cx="963360" cy="299880"/>
          </a:xfrm>
        </p:grpSpPr>
        <p:sp>
          <p:nvSpPr>
            <p:cNvPr id="1128" name="AutoShape 81"/>
            <p:cNvSpPr/>
            <p:nvPr/>
          </p:nvSpPr>
          <p:spPr>
            <a:xfrm>
              <a:off x="3521160" y="2779560"/>
              <a:ext cx="719280" cy="116280"/>
            </a:xfrm>
            <a:custGeom>
              <a:avLst/>
              <a:gdLst>
                <a:gd name="textAreaLeft" fmla="*/ 0 w 719280"/>
                <a:gd name="textAreaRight" fmla="*/ 719640 w 71928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AutoShape 82"/>
            <p:cNvSpPr/>
            <p:nvPr/>
          </p:nvSpPr>
          <p:spPr>
            <a:xfrm>
              <a:off x="3521160" y="2603880"/>
              <a:ext cx="963360" cy="179280"/>
            </a:xfrm>
            <a:custGeom>
              <a:avLst/>
              <a:gdLst>
                <a:gd name="textAreaLeft" fmla="*/ 0 w 963360"/>
                <a:gd name="textAreaRight" fmla="*/ 963720 w 9633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60" y="0"/>
                  </a:moveTo>
                  <a:lnTo>
                    <a:pt x="0" y="21599"/>
                  </a:lnTo>
                  <a:lnTo>
                    <a:pt x="16240" y="21599"/>
                  </a:lnTo>
                  <a:lnTo>
                    <a:pt x="21599" y="0"/>
                  </a:lnTo>
                  <a:lnTo>
                    <a:pt x="536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AutoShape 83"/>
            <p:cNvSpPr/>
            <p:nvPr/>
          </p:nvSpPr>
          <p:spPr>
            <a:xfrm>
              <a:off x="4239000" y="2598840"/>
              <a:ext cx="245520" cy="29988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3307"/>
                  </a:moveTo>
                  <a:lnTo>
                    <a:pt x="0" y="21599"/>
                  </a:lnTo>
                  <a:lnTo>
                    <a:pt x="21600" y="7425"/>
                  </a:lnTo>
                  <a:lnTo>
                    <a:pt x="21600" y="0"/>
                  </a:lnTo>
                  <a:lnTo>
                    <a:pt x="0" y="13307"/>
                  </a:lnTo>
                  <a:close/>
                </a:path>
              </a:pathLst>
            </a:custGeom>
            <a:solidFill>
              <a:srgbClr val="bbe0e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AutoShape 84"/>
            <p:cNvSpPr/>
            <p:nvPr/>
          </p:nvSpPr>
          <p:spPr>
            <a:xfrm>
              <a:off x="3615480" y="2638800"/>
              <a:ext cx="735480" cy="106920"/>
            </a:xfrm>
            <a:custGeom>
              <a:avLst/>
              <a:gdLst>
                <a:gd name="textAreaLeft" fmla="*/ 0 w 735480"/>
                <a:gd name="textAreaRight" fmla="*/ 735840 w 73548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2854" y="21257"/>
                  </a:lnTo>
                  <a:lnTo>
                    <a:pt x="16894" y="0"/>
                  </a:lnTo>
                  <a:lnTo>
                    <a:pt x="2160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AutoShape 85"/>
            <p:cNvSpPr/>
            <p:nvPr/>
          </p:nvSpPr>
          <p:spPr>
            <a:xfrm>
              <a:off x="3786840" y="2633400"/>
              <a:ext cx="425880" cy="124560"/>
            </a:xfrm>
            <a:custGeom>
              <a:avLst/>
              <a:gdLst>
                <a:gd name="textAreaLeft" fmla="*/ 0 w 425880"/>
                <a:gd name="textAreaRight" fmla="*/ 426240 w 42588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4939" y="232"/>
                  </a:lnTo>
                  <a:lnTo>
                    <a:pt x="14375" y="21600"/>
                  </a:lnTo>
                  <a:lnTo>
                    <a:pt x="21599" y="2160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3" name="Group 86"/>
          <p:cNvGrpSpPr/>
          <p:nvPr/>
        </p:nvGrpSpPr>
        <p:grpSpPr>
          <a:xfrm>
            <a:off x="733320" y="3319560"/>
            <a:ext cx="1079640" cy="1166760"/>
            <a:chOff x="733320" y="3319560"/>
            <a:chExt cx="1079640" cy="1166760"/>
          </a:xfrm>
        </p:grpSpPr>
        <p:grpSp>
          <p:nvGrpSpPr>
            <p:cNvPr id="1134" name="Group 87"/>
            <p:cNvGrpSpPr/>
            <p:nvPr/>
          </p:nvGrpSpPr>
          <p:grpSpPr>
            <a:xfrm>
              <a:off x="733320" y="3544920"/>
              <a:ext cx="1079640" cy="729720"/>
              <a:chOff x="733320" y="3544920"/>
              <a:chExt cx="1079640" cy="729720"/>
            </a:xfrm>
          </p:grpSpPr>
          <p:grpSp>
            <p:nvGrpSpPr>
              <p:cNvPr id="1135" name="Group 88"/>
              <p:cNvGrpSpPr/>
              <p:nvPr/>
            </p:nvGrpSpPr>
            <p:grpSpPr>
              <a:xfrm>
                <a:off x="1107360" y="3544920"/>
                <a:ext cx="561240" cy="231120"/>
                <a:chOff x="1107360" y="3544920"/>
                <a:chExt cx="561240" cy="231120"/>
              </a:xfrm>
            </p:grpSpPr>
            <p:grpSp>
              <p:nvGrpSpPr>
                <p:cNvPr id="1136" name="Group 89"/>
                <p:cNvGrpSpPr/>
                <p:nvPr/>
              </p:nvGrpSpPr>
              <p:grpSpPr>
                <a:xfrm>
                  <a:off x="1192680" y="3544920"/>
                  <a:ext cx="459720" cy="231120"/>
                  <a:chOff x="1192680" y="3544920"/>
                  <a:chExt cx="459720" cy="231120"/>
                </a:xfrm>
              </p:grpSpPr>
              <p:sp>
                <p:nvSpPr>
                  <p:cNvPr id="1137" name="AutoShape 90"/>
                  <p:cNvSpPr/>
                  <p:nvPr/>
                </p:nvSpPr>
                <p:spPr>
                  <a:xfrm>
                    <a:off x="1263960" y="3597120"/>
                    <a:ext cx="388440" cy="136440"/>
                  </a:xfrm>
                  <a:custGeom>
                    <a:avLst/>
                    <a:gdLst>
                      <a:gd name="textAreaLeft" fmla="*/ 0 w 388440"/>
                      <a:gd name="textAreaRight" fmla="*/ 388800 w 388440"/>
                      <a:gd name="textAreaTop" fmla="*/ 0 h 136440"/>
                      <a:gd name="textAreaBottom" fmla="*/ 136800 h 136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1600" y="21600"/>
                        </a:ln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AutoShape 91"/>
                  <p:cNvSpPr/>
                  <p:nvPr/>
                </p:nvSpPr>
                <p:spPr>
                  <a:xfrm>
                    <a:off x="1192680" y="3544920"/>
                    <a:ext cx="446040" cy="2311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Gill Sans MT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39" name="AutoShape 92"/>
                <p:cNvSpPr/>
                <p:nvPr/>
              </p:nvSpPr>
              <p:spPr>
                <a:xfrm>
                  <a:off x="1123200" y="3600360"/>
                  <a:ext cx="139320" cy="130320"/>
                </a:xfrm>
                <a:custGeom>
                  <a:avLst/>
                  <a:gdLst>
                    <a:gd name="textAreaLeft" fmla="*/ 0 w 139320"/>
                    <a:gd name="textAreaRight" fmla="*/ 139680 w 139320"/>
                    <a:gd name="textAreaTop" fmla="*/ 0 h 130320"/>
                    <a:gd name="textAreaBottom" fmla="*/ 130680 h 130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599" y="0"/>
                      </a:lnTo>
                      <a:lnTo>
                        <a:pt x="21599" y="21600"/>
                      </a:ln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AutoShape 93"/>
                <p:cNvSpPr/>
                <p:nvPr/>
              </p:nvSpPr>
              <p:spPr>
                <a:xfrm>
                  <a:off x="1107360" y="3591000"/>
                  <a:ext cx="561240" cy="149400"/>
                </a:xfrm>
                <a:custGeom>
                  <a:avLst/>
                  <a:gdLst>
                    <a:gd name="textAreaLeft" fmla="*/ 0 w 561240"/>
                    <a:gd name="textAreaRight" fmla="*/ 561240 w 561240"/>
                    <a:gd name="textAreaTop" fmla="*/ 0 h 149400"/>
                    <a:gd name="textAreaBottom" fmla="*/ 149760 h 149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599" y="0"/>
                      </a:lnTo>
                      <a:lnTo>
                        <a:pt x="21599" y="21599"/>
                      </a:lnTo>
                      <a:lnTo>
                        <a:pt x="0" y="2159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1" name="Group 94"/>
              <p:cNvGrpSpPr/>
              <p:nvPr/>
            </p:nvGrpSpPr>
            <p:grpSpPr>
              <a:xfrm>
                <a:off x="1107360" y="3780000"/>
                <a:ext cx="561240" cy="231120"/>
                <a:chOff x="1107360" y="3780000"/>
                <a:chExt cx="561240" cy="231120"/>
              </a:xfrm>
            </p:grpSpPr>
            <p:grpSp>
              <p:nvGrpSpPr>
                <p:cNvPr id="1142" name="Group 95"/>
                <p:cNvGrpSpPr/>
                <p:nvPr/>
              </p:nvGrpSpPr>
              <p:grpSpPr>
                <a:xfrm>
                  <a:off x="1192680" y="3780000"/>
                  <a:ext cx="459720" cy="231120"/>
                  <a:chOff x="1192680" y="3780000"/>
                  <a:chExt cx="459720" cy="231120"/>
                </a:xfrm>
              </p:grpSpPr>
              <p:sp>
                <p:nvSpPr>
                  <p:cNvPr id="1143" name="AutoShape 96"/>
                  <p:cNvSpPr/>
                  <p:nvPr/>
                </p:nvSpPr>
                <p:spPr>
                  <a:xfrm>
                    <a:off x="1263960" y="3832200"/>
                    <a:ext cx="388440" cy="136440"/>
                  </a:xfrm>
                  <a:custGeom>
                    <a:avLst/>
                    <a:gdLst>
                      <a:gd name="textAreaLeft" fmla="*/ 0 w 388440"/>
                      <a:gd name="textAreaRight" fmla="*/ 388800 w 388440"/>
                      <a:gd name="textAreaTop" fmla="*/ 0 h 136440"/>
                      <a:gd name="textAreaBottom" fmla="*/ 136800 h 136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1600" y="21600"/>
                        </a:ln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AutoShape 97"/>
                  <p:cNvSpPr/>
                  <p:nvPr/>
                </p:nvSpPr>
                <p:spPr>
                  <a:xfrm>
                    <a:off x="1192680" y="3780000"/>
                    <a:ext cx="446040" cy="2311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Gill Sans MT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5" name="Group 98"/>
                <p:cNvGrpSpPr/>
                <p:nvPr/>
              </p:nvGrpSpPr>
              <p:grpSpPr>
                <a:xfrm>
                  <a:off x="1107360" y="3826080"/>
                  <a:ext cx="561240" cy="149400"/>
                  <a:chOff x="1107360" y="3826080"/>
                  <a:chExt cx="561240" cy="149400"/>
                </a:xfrm>
              </p:grpSpPr>
              <p:sp>
                <p:nvSpPr>
                  <p:cNvPr id="1146" name="AutoShape 99"/>
                  <p:cNvSpPr/>
                  <p:nvPr/>
                </p:nvSpPr>
                <p:spPr>
                  <a:xfrm>
                    <a:off x="1123200" y="3835440"/>
                    <a:ext cx="139320" cy="130320"/>
                  </a:xfrm>
                  <a:custGeom>
                    <a:avLst/>
                    <a:gdLst>
                      <a:gd name="textAreaLeft" fmla="*/ 0 w 139320"/>
                      <a:gd name="textAreaRight" fmla="*/ 139680 w 139320"/>
                      <a:gd name="textAreaTop" fmla="*/ 0 h 130320"/>
                      <a:gd name="textAreaBottom" fmla="*/ 130680 h 130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599" y="0"/>
                        </a:lnTo>
                        <a:lnTo>
                          <a:pt x="21599" y="21600"/>
                        </a:ln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AutoShape 100"/>
                  <p:cNvSpPr/>
                  <p:nvPr/>
                </p:nvSpPr>
                <p:spPr>
                  <a:xfrm>
                    <a:off x="1107360" y="3826080"/>
                    <a:ext cx="561240" cy="149400"/>
                  </a:xfrm>
                  <a:custGeom>
                    <a:avLst/>
                    <a:gdLst>
                      <a:gd name="textAreaLeft" fmla="*/ 0 w 561240"/>
                      <a:gd name="textAreaRight" fmla="*/ 561240 w 561240"/>
                      <a:gd name="textAreaTop" fmla="*/ 0 h 149400"/>
                      <a:gd name="textAreaBottom" fmla="*/ 149760 h 149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599" y="0"/>
                        </a:lnTo>
                        <a:lnTo>
                          <a:pt x="21599" y="21599"/>
                        </a:lnTo>
                        <a:lnTo>
                          <a:pt x="0" y="215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48" name="Group 101"/>
              <p:cNvGrpSpPr/>
              <p:nvPr/>
            </p:nvGrpSpPr>
            <p:grpSpPr>
              <a:xfrm>
                <a:off x="928080" y="3811680"/>
                <a:ext cx="761040" cy="177840"/>
                <a:chOff x="928080" y="3811680"/>
                <a:chExt cx="761040" cy="177840"/>
              </a:xfrm>
            </p:grpSpPr>
            <p:sp>
              <p:nvSpPr>
                <p:cNvPr id="1149" name="AutoShape 102"/>
                <p:cNvSpPr/>
                <p:nvPr/>
              </p:nvSpPr>
              <p:spPr>
                <a:xfrm>
                  <a:off x="942120" y="3828960"/>
                  <a:ext cx="152280" cy="14796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147960"/>
                    <a:gd name="textAreaBottom" fmla="*/ 148320 h 147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1600" y="21600"/>
                      </a:ln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AutoShape 103"/>
                <p:cNvSpPr/>
                <p:nvPr/>
              </p:nvSpPr>
              <p:spPr>
                <a:xfrm>
                  <a:off x="928080" y="3811680"/>
                  <a:ext cx="761040" cy="177840"/>
                </a:xfrm>
                <a:custGeom>
                  <a:avLst/>
                  <a:gdLst>
                    <a:gd name="textAreaLeft" fmla="*/ 0 w 761040"/>
                    <a:gd name="textAreaRight" fmla="*/ 761400 w 761040"/>
                    <a:gd name="textAreaTop" fmla="*/ 0 h 177840"/>
                    <a:gd name="textAreaBottom" fmla="*/ 177840 h 177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1600" y="21600"/>
                      </a:ln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1" name="Group 104"/>
              <p:cNvGrpSpPr/>
              <p:nvPr/>
            </p:nvGrpSpPr>
            <p:grpSpPr>
              <a:xfrm>
                <a:off x="733320" y="4043520"/>
                <a:ext cx="1079640" cy="231120"/>
                <a:chOff x="733320" y="4043520"/>
                <a:chExt cx="1079640" cy="231120"/>
              </a:xfrm>
            </p:grpSpPr>
            <p:grpSp>
              <p:nvGrpSpPr>
                <p:cNvPr id="1152" name="Group 105"/>
                <p:cNvGrpSpPr/>
                <p:nvPr/>
              </p:nvGrpSpPr>
              <p:grpSpPr>
                <a:xfrm>
                  <a:off x="921960" y="4043520"/>
                  <a:ext cx="761040" cy="231120"/>
                  <a:chOff x="921960" y="4043520"/>
                  <a:chExt cx="761040" cy="231120"/>
                </a:xfrm>
              </p:grpSpPr>
              <p:grpSp>
                <p:nvGrpSpPr>
                  <p:cNvPr id="1153" name="Group 106"/>
                  <p:cNvGrpSpPr/>
                  <p:nvPr/>
                </p:nvGrpSpPr>
                <p:grpSpPr>
                  <a:xfrm>
                    <a:off x="1100880" y="4043520"/>
                    <a:ext cx="561240" cy="231120"/>
                    <a:chOff x="1100880" y="4043520"/>
                    <a:chExt cx="561240" cy="231120"/>
                  </a:xfrm>
                </p:grpSpPr>
                <p:grpSp>
                  <p:nvGrpSpPr>
                    <p:cNvPr id="1154" name="Group 107"/>
                    <p:cNvGrpSpPr/>
                    <p:nvPr/>
                  </p:nvGrpSpPr>
                  <p:grpSpPr>
                    <a:xfrm>
                      <a:off x="1186200" y="4043520"/>
                      <a:ext cx="459720" cy="231120"/>
                      <a:chOff x="1186200" y="4043520"/>
                      <a:chExt cx="459720" cy="231120"/>
                    </a:xfrm>
                  </p:grpSpPr>
                  <p:sp>
                    <p:nvSpPr>
                      <p:cNvPr id="1155" name="AutoShape 108"/>
                      <p:cNvSpPr/>
                      <p:nvPr/>
                    </p:nvSpPr>
                    <p:spPr>
                      <a:xfrm>
                        <a:off x="1257480" y="4095720"/>
                        <a:ext cx="388440" cy="136440"/>
                      </a:xfrm>
                      <a:custGeom>
                        <a:avLst/>
                        <a:gdLst>
                          <a:gd name="textAreaLeft" fmla="*/ 0 w 388440"/>
                          <a:gd name="textAreaRight" fmla="*/ 388800 w 388440"/>
                          <a:gd name="textAreaTop" fmla="*/ 0 h 136440"/>
                          <a:gd name="textAreaBottom" fmla="*/ 136800 h 1364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21600" y="21600"/>
                            </a:lnTo>
                            <a:lnTo>
                              <a:pt x="0" y="2160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324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noAutofit/>
                      </a:bodyPr>
                      <a:p>
                        <a:pPr algn="ctr">
                          <a:spcBef>
                            <a:spcPts val="9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6" name="AutoShape 109"/>
                      <p:cNvSpPr/>
                      <p:nvPr/>
                    </p:nvSpPr>
                    <p:spPr>
                      <a:xfrm>
                        <a:off x="1186200" y="4043520"/>
                        <a:ext cx="446040" cy="231120"/>
                      </a:xfrm>
                      <a:prstGeom prst="pie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Gill Sans MT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57" name="Group 110"/>
                    <p:cNvGrpSpPr/>
                    <p:nvPr/>
                  </p:nvGrpSpPr>
                  <p:grpSpPr>
                    <a:xfrm>
                      <a:off x="1100880" y="4089600"/>
                      <a:ext cx="561240" cy="149400"/>
                      <a:chOff x="1100880" y="4089600"/>
                      <a:chExt cx="561240" cy="149400"/>
                    </a:xfrm>
                  </p:grpSpPr>
                  <p:sp>
                    <p:nvSpPr>
                      <p:cNvPr id="1158" name="AutoShape 111"/>
                      <p:cNvSpPr/>
                      <p:nvPr/>
                    </p:nvSpPr>
                    <p:spPr>
                      <a:xfrm>
                        <a:off x="1116720" y="4098960"/>
                        <a:ext cx="139320" cy="130320"/>
                      </a:xfrm>
                      <a:custGeom>
                        <a:avLst/>
                        <a:gdLst>
                          <a:gd name="textAreaLeft" fmla="*/ 0 w 139320"/>
                          <a:gd name="textAreaRight" fmla="*/ 139680 w 139320"/>
                          <a:gd name="textAreaTop" fmla="*/ 0 h 130320"/>
                          <a:gd name="textAreaBottom" fmla="*/ 130680 h 1303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599" y="0"/>
                            </a:lnTo>
                            <a:lnTo>
                              <a:pt x="21599" y="21600"/>
                            </a:lnTo>
                            <a:lnTo>
                              <a:pt x="0" y="2160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cc99"/>
                      </a:solidFill>
                      <a:ln w="324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noAutofit/>
                      </a:bodyPr>
                      <a:p>
                        <a:pPr algn="ctr">
                          <a:spcBef>
                            <a:spcPts val="9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9" name="AutoShape 112"/>
                      <p:cNvSpPr/>
                      <p:nvPr/>
                    </p:nvSpPr>
                    <p:spPr>
                      <a:xfrm>
                        <a:off x="1100880" y="4089600"/>
                        <a:ext cx="561240" cy="149400"/>
                      </a:xfrm>
                      <a:custGeom>
                        <a:avLst/>
                        <a:gdLst>
                          <a:gd name="textAreaLeft" fmla="*/ 0 w 561240"/>
                          <a:gd name="textAreaRight" fmla="*/ 561240 w 561240"/>
                          <a:gd name="textAreaTop" fmla="*/ 0 h 149400"/>
                          <a:gd name="textAreaBottom" fmla="*/ 149760 h 1494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599" y="0"/>
                            </a:lnTo>
                            <a:lnTo>
                              <a:pt x="21599" y="21599"/>
                            </a:lnTo>
                            <a:lnTo>
                              <a:pt x="0" y="2159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noFill/>
                      <a:ln w="3240">
                        <a:solidFill>
                          <a:srgbClr val="00cc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noAutofit/>
                      </a:bodyPr>
                      <a:p>
                        <a:pPr algn="ctr">
                          <a:spcBef>
                            <a:spcPts val="9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160" name="AutoShape 113"/>
                  <p:cNvSpPr/>
                  <p:nvPr/>
                </p:nvSpPr>
                <p:spPr>
                  <a:xfrm>
                    <a:off x="936000" y="4092480"/>
                    <a:ext cx="152280" cy="147600"/>
                  </a:xfrm>
                  <a:custGeom>
                    <a:avLst/>
                    <a:gdLst>
                      <a:gd name="textAreaLeft" fmla="*/ 0 w 152280"/>
                      <a:gd name="textAreaRight" fmla="*/ 152640 w 15228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1600" y="21600"/>
                        </a:ln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AutoShape 114"/>
                  <p:cNvSpPr/>
                  <p:nvPr/>
                </p:nvSpPr>
                <p:spPr>
                  <a:xfrm>
                    <a:off x="921960" y="4075200"/>
                    <a:ext cx="761040" cy="177840"/>
                  </a:xfrm>
                  <a:custGeom>
                    <a:avLst/>
                    <a:gdLst>
                      <a:gd name="textAreaLeft" fmla="*/ 0 w 761040"/>
                      <a:gd name="textAreaRight" fmla="*/ 761400 w 761040"/>
                      <a:gd name="textAreaTop" fmla="*/ 0 h 177840"/>
                      <a:gd name="textAreaBottom" fmla="*/ 177840 h 177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1600" y="21600"/>
                        </a:ln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62" name="AutoShape 115"/>
                <p:cNvSpPr/>
                <p:nvPr/>
              </p:nvSpPr>
              <p:spPr>
                <a:xfrm>
                  <a:off x="753840" y="4078440"/>
                  <a:ext cx="149040" cy="171360"/>
                </a:xfrm>
                <a:custGeom>
                  <a:avLst/>
                  <a:gdLst>
                    <a:gd name="textAreaLeft" fmla="*/ 0 w 149040"/>
                    <a:gd name="textAreaRight" fmla="*/ 149400 w 14904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599" y="0"/>
                      </a:lnTo>
                      <a:lnTo>
                        <a:pt x="21599" y="21600"/>
                      </a:ln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AutoShape 116"/>
                <p:cNvSpPr/>
                <p:nvPr/>
              </p:nvSpPr>
              <p:spPr>
                <a:xfrm>
                  <a:off x="1702080" y="4076640"/>
                  <a:ext cx="95040" cy="171360"/>
                </a:xfrm>
                <a:custGeom>
                  <a:avLst/>
                  <a:gdLst>
                    <a:gd name="textAreaLeft" fmla="*/ 0 w 95040"/>
                    <a:gd name="textAreaRight" fmla="*/ 95400 w 9504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1600" y="21600"/>
                      </a:ln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AutoShape 117"/>
                <p:cNvSpPr/>
                <p:nvPr/>
              </p:nvSpPr>
              <p:spPr>
                <a:xfrm>
                  <a:off x="733320" y="4052880"/>
                  <a:ext cx="1079640" cy="219240"/>
                </a:xfrm>
                <a:custGeom>
                  <a:avLst/>
                  <a:gdLst>
                    <a:gd name="textAreaLeft" fmla="*/ 0 w 1079640"/>
                    <a:gd name="textAreaRight" fmla="*/ 1080000 w 107964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1600" y="21600"/>
                      </a:ln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5" name="AutoShape 118"/>
            <p:cNvSpPr/>
            <p:nvPr/>
          </p:nvSpPr>
          <p:spPr>
            <a:xfrm>
              <a:off x="1275480" y="3319560"/>
              <a:ext cx="380520" cy="116676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1166760"/>
                <a:gd name="textAreaBottom" fmla="*/ 1167120 h 11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8131"/>
                  </a:moveTo>
                  <a:lnTo>
                    <a:pt x="4950" y="18131"/>
                  </a:lnTo>
                  <a:lnTo>
                    <a:pt x="4950" y="0"/>
                  </a:lnTo>
                  <a:lnTo>
                    <a:pt x="16650" y="0"/>
                  </a:lnTo>
                  <a:lnTo>
                    <a:pt x="16650" y="18131"/>
                  </a:lnTo>
                  <a:lnTo>
                    <a:pt x="21600" y="18131"/>
                  </a:lnTo>
                  <a:lnTo>
                    <a:pt x="10800" y="21599"/>
                  </a:lnTo>
                  <a:lnTo>
                    <a:pt x="0" y="18131"/>
                  </a:lnTo>
                  <a:close/>
                </a:path>
              </a:pathLst>
            </a:cu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6" name="Group 119"/>
          <p:cNvGrpSpPr/>
          <p:nvPr/>
        </p:nvGrpSpPr>
        <p:grpSpPr>
          <a:xfrm>
            <a:off x="830160" y="4403880"/>
            <a:ext cx="1079640" cy="231480"/>
            <a:chOff x="830160" y="4403880"/>
            <a:chExt cx="1079640" cy="231480"/>
          </a:xfrm>
        </p:grpSpPr>
        <p:grpSp>
          <p:nvGrpSpPr>
            <p:cNvPr id="1167" name="Group 120"/>
            <p:cNvGrpSpPr/>
            <p:nvPr/>
          </p:nvGrpSpPr>
          <p:grpSpPr>
            <a:xfrm>
              <a:off x="1018800" y="4403880"/>
              <a:ext cx="761040" cy="231480"/>
              <a:chOff x="1018800" y="4403880"/>
              <a:chExt cx="761040" cy="231480"/>
            </a:xfrm>
          </p:grpSpPr>
          <p:grpSp>
            <p:nvGrpSpPr>
              <p:cNvPr id="1168" name="Group 121"/>
              <p:cNvGrpSpPr/>
              <p:nvPr/>
            </p:nvGrpSpPr>
            <p:grpSpPr>
              <a:xfrm>
                <a:off x="1197720" y="4403880"/>
                <a:ext cx="561240" cy="231480"/>
                <a:chOff x="1197720" y="4403880"/>
                <a:chExt cx="561240" cy="231480"/>
              </a:xfrm>
            </p:grpSpPr>
            <p:grpSp>
              <p:nvGrpSpPr>
                <p:cNvPr id="1169" name="Group 122"/>
                <p:cNvGrpSpPr/>
                <p:nvPr/>
              </p:nvGrpSpPr>
              <p:grpSpPr>
                <a:xfrm>
                  <a:off x="1283040" y="4403880"/>
                  <a:ext cx="459720" cy="231480"/>
                  <a:chOff x="1283040" y="4403880"/>
                  <a:chExt cx="459720" cy="231480"/>
                </a:xfrm>
              </p:grpSpPr>
              <p:sp>
                <p:nvSpPr>
                  <p:cNvPr id="1170" name="AutoShape 123"/>
                  <p:cNvSpPr/>
                  <p:nvPr/>
                </p:nvSpPr>
                <p:spPr>
                  <a:xfrm>
                    <a:off x="1354320" y="4456080"/>
                    <a:ext cx="388440" cy="136800"/>
                  </a:xfrm>
                  <a:custGeom>
                    <a:avLst/>
                    <a:gdLst>
                      <a:gd name="textAreaLeft" fmla="*/ 0 w 388440"/>
                      <a:gd name="textAreaRight" fmla="*/ 388800 w 388440"/>
                      <a:gd name="textAreaTop" fmla="*/ 0 h 136800"/>
                      <a:gd name="textAreaBottom" fmla="*/ 137160 h 136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1600" y="21600"/>
                        </a:ln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AutoShape 124"/>
                  <p:cNvSpPr/>
                  <p:nvPr/>
                </p:nvSpPr>
                <p:spPr>
                  <a:xfrm>
                    <a:off x="1283040" y="4403880"/>
                    <a:ext cx="446040" cy="2314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Gill Sans MT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2" name="Group 125"/>
                <p:cNvGrpSpPr/>
                <p:nvPr/>
              </p:nvGrpSpPr>
              <p:grpSpPr>
                <a:xfrm>
                  <a:off x="1197720" y="4449960"/>
                  <a:ext cx="561240" cy="149400"/>
                  <a:chOff x="1197720" y="4449960"/>
                  <a:chExt cx="561240" cy="149400"/>
                </a:xfrm>
              </p:grpSpPr>
              <p:sp>
                <p:nvSpPr>
                  <p:cNvPr id="1173" name="AutoShape 126"/>
                  <p:cNvSpPr/>
                  <p:nvPr/>
                </p:nvSpPr>
                <p:spPr>
                  <a:xfrm>
                    <a:off x="1213560" y="4459320"/>
                    <a:ext cx="139320" cy="130320"/>
                  </a:xfrm>
                  <a:custGeom>
                    <a:avLst/>
                    <a:gdLst>
                      <a:gd name="textAreaLeft" fmla="*/ 0 w 139320"/>
                      <a:gd name="textAreaRight" fmla="*/ 139680 w 139320"/>
                      <a:gd name="textAreaTop" fmla="*/ 0 h 130320"/>
                      <a:gd name="textAreaBottom" fmla="*/ 130680 h 130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599" y="0"/>
                        </a:lnTo>
                        <a:lnTo>
                          <a:pt x="21599" y="21600"/>
                        </a:ln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AutoShape 127"/>
                  <p:cNvSpPr/>
                  <p:nvPr/>
                </p:nvSpPr>
                <p:spPr>
                  <a:xfrm>
                    <a:off x="1197720" y="4449960"/>
                    <a:ext cx="561240" cy="149400"/>
                  </a:xfrm>
                  <a:custGeom>
                    <a:avLst/>
                    <a:gdLst>
                      <a:gd name="textAreaLeft" fmla="*/ 0 w 561240"/>
                      <a:gd name="textAreaRight" fmla="*/ 561240 w 561240"/>
                      <a:gd name="textAreaTop" fmla="*/ 0 h 149400"/>
                      <a:gd name="textAreaBottom" fmla="*/ 149760 h 149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599" y="0"/>
                        </a:lnTo>
                        <a:lnTo>
                          <a:pt x="21599" y="21599"/>
                        </a:lnTo>
                        <a:lnTo>
                          <a:pt x="0" y="215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75" name="AutoShape 128"/>
              <p:cNvSpPr/>
              <p:nvPr/>
            </p:nvSpPr>
            <p:spPr>
              <a:xfrm>
                <a:off x="1032840" y="4453200"/>
                <a:ext cx="152280" cy="1479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AutoShape 129"/>
              <p:cNvSpPr/>
              <p:nvPr/>
            </p:nvSpPr>
            <p:spPr>
              <a:xfrm>
                <a:off x="1018800" y="4435560"/>
                <a:ext cx="761040" cy="178200"/>
              </a:xfrm>
              <a:custGeom>
                <a:avLst/>
                <a:gdLst>
                  <a:gd name="textAreaLeft" fmla="*/ 0 w 761040"/>
                  <a:gd name="textAreaRight" fmla="*/ 761400 w 761040"/>
                  <a:gd name="textAreaTop" fmla="*/ 0 h 178200"/>
                  <a:gd name="textAreaBottom" fmla="*/ 178560 h 178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7" name="AutoShape 130"/>
            <p:cNvSpPr/>
            <p:nvPr/>
          </p:nvSpPr>
          <p:spPr>
            <a:xfrm>
              <a:off x="850680" y="4438800"/>
              <a:ext cx="149040" cy="1717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AutoShape 131"/>
            <p:cNvSpPr/>
            <p:nvPr/>
          </p:nvSpPr>
          <p:spPr>
            <a:xfrm>
              <a:off x="1798920" y="4437000"/>
              <a:ext cx="95040" cy="1717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AutoShape 132"/>
            <p:cNvSpPr/>
            <p:nvPr/>
          </p:nvSpPr>
          <p:spPr>
            <a:xfrm>
              <a:off x="830160" y="4413240"/>
              <a:ext cx="1079640" cy="219600"/>
            </a:xfrm>
            <a:custGeom>
              <a:avLst/>
              <a:gdLst>
                <a:gd name="textAreaLeft" fmla="*/ 0 w 1079640"/>
                <a:gd name="textAreaRight" fmla="*/ 1080000 w 10796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Group 133"/>
          <p:cNvGrpSpPr/>
          <p:nvPr/>
        </p:nvGrpSpPr>
        <p:grpSpPr>
          <a:xfrm>
            <a:off x="1857240" y="3236760"/>
            <a:ext cx="1317600" cy="1309680"/>
            <a:chOff x="1857240" y="3236760"/>
            <a:chExt cx="1317600" cy="1309680"/>
          </a:xfrm>
        </p:grpSpPr>
        <p:sp>
          <p:nvSpPr>
            <p:cNvPr id="1181" name="AutoShape 134"/>
            <p:cNvSpPr/>
            <p:nvPr/>
          </p:nvSpPr>
          <p:spPr>
            <a:xfrm>
              <a:off x="2640960" y="3274560"/>
              <a:ext cx="533880" cy="1271880"/>
            </a:xfrm>
            <a:custGeom>
              <a:avLst/>
              <a:gdLst>
                <a:gd name="textAreaLeft" fmla="*/ 0 w 533880"/>
                <a:gd name="textAreaRight" fmla="*/ 533880 w 533880"/>
                <a:gd name="textAreaTop" fmla="*/ 0 h 1271880"/>
                <a:gd name="textAreaBottom" fmla="*/ 1272240 h 127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8" y="0"/>
                  </a:moveTo>
                  <a:lnTo>
                    <a:pt x="21599" y="10840"/>
                  </a:lnTo>
                  <a:lnTo>
                    <a:pt x="235" y="21599"/>
                  </a:lnTo>
                  <a:lnTo>
                    <a:pt x="509" y="14426"/>
                  </a:lnTo>
                  <a:lnTo>
                    <a:pt x="0" y="10004"/>
                  </a:lnTo>
                  <a:lnTo>
                    <a:pt x="54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66274"/>
                  </a:srgbClr>
                </a:gs>
                <a:gs pos="100000">
                  <a:srgbClr val="000099">
                    <a:alpha val="66274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2" name="Group 135"/>
            <p:cNvGrpSpPr/>
            <p:nvPr/>
          </p:nvGrpSpPr>
          <p:grpSpPr>
            <a:xfrm>
              <a:off x="1857240" y="3236760"/>
              <a:ext cx="794880" cy="1298160"/>
              <a:chOff x="1857240" y="3236760"/>
              <a:chExt cx="794880" cy="1298160"/>
            </a:xfrm>
          </p:grpSpPr>
          <p:sp>
            <p:nvSpPr>
              <p:cNvPr id="1183" name="AutoShape 136"/>
              <p:cNvSpPr/>
              <p:nvPr/>
            </p:nvSpPr>
            <p:spPr>
              <a:xfrm>
                <a:off x="1868040" y="3266640"/>
                <a:ext cx="784080" cy="1254600"/>
              </a:xfrm>
              <a:custGeom>
                <a:avLst/>
                <a:gdLst>
                  <a:gd name="textAreaLeft" fmla="*/ 0 w 784080"/>
                  <a:gd name="textAreaRight" fmla="*/ 784440 w 784080"/>
                  <a:gd name="textAreaTop" fmla="*/ 0 h 1254600"/>
                  <a:gd name="textAreaBottom" fmla="*/ 1254960 h 1254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599" y="0"/>
                    </a:lnTo>
                    <a:lnTo>
                      <a:pt x="21599" y="21599"/>
                    </a:lnTo>
                    <a:lnTo>
                      <a:pt x="0" y="215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AutoShape 137"/>
              <p:cNvSpPr/>
              <p:nvPr/>
            </p:nvSpPr>
            <p:spPr>
              <a:xfrm>
                <a:off x="1919520" y="3236760"/>
                <a:ext cx="709560" cy="1298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Line 138"/>
              <p:cNvSpPr/>
              <p:nvPr/>
            </p:nvSpPr>
            <p:spPr>
              <a:xfrm>
                <a:off x="1871280" y="3516120"/>
                <a:ext cx="777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Line 139"/>
              <p:cNvSpPr/>
              <p:nvPr/>
            </p:nvSpPr>
            <p:spPr>
              <a:xfrm>
                <a:off x="1866600" y="3768480"/>
                <a:ext cx="777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Line 140"/>
              <p:cNvSpPr/>
              <p:nvPr/>
            </p:nvSpPr>
            <p:spPr>
              <a:xfrm>
                <a:off x="1861920" y="4021200"/>
                <a:ext cx="777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Line 141"/>
              <p:cNvSpPr/>
              <p:nvPr/>
            </p:nvSpPr>
            <p:spPr>
              <a:xfrm>
                <a:off x="1857240" y="4273560"/>
                <a:ext cx="777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9" name="Group 142"/>
          <p:cNvGrpSpPr/>
          <p:nvPr/>
        </p:nvGrpSpPr>
        <p:grpSpPr>
          <a:xfrm>
            <a:off x="1182600" y="3343320"/>
            <a:ext cx="461880" cy="231840"/>
            <a:chOff x="1182600" y="3343320"/>
            <a:chExt cx="461880" cy="231840"/>
          </a:xfrm>
        </p:grpSpPr>
        <p:sp>
          <p:nvSpPr>
            <p:cNvPr id="1190" name="AutoShape 143"/>
            <p:cNvSpPr/>
            <p:nvPr/>
          </p:nvSpPr>
          <p:spPr>
            <a:xfrm>
              <a:off x="1254240" y="3395880"/>
              <a:ext cx="390240" cy="13680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AutoShape 144"/>
            <p:cNvSpPr/>
            <p:nvPr/>
          </p:nvSpPr>
          <p:spPr>
            <a:xfrm>
              <a:off x="1182600" y="3343320"/>
              <a:ext cx="448200" cy="231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Gill Sans MT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2" name="Group 145"/>
          <p:cNvGrpSpPr/>
          <p:nvPr/>
        </p:nvGrpSpPr>
        <p:grpSpPr>
          <a:xfrm>
            <a:off x="1574640" y="1247760"/>
            <a:ext cx="978120" cy="1460520"/>
            <a:chOff x="1574640" y="1247760"/>
            <a:chExt cx="978120" cy="1460520"/>
          </a:xfrm>
        </p:grpSpPr>
        <p:sp>
          <p:nvSpPr>
            <p:cNvPr id="1193" name="AutoShape 146"/>
            <p:cNvSpPr/>
            <p:nvPr/>
          </p:nvSpPr>
          <p:spPr>
            <a:xfrm>
              <a:off x="1591920" y="1274400"/>
              <a:ext cx="960840" cy="1433880"/>
            </a:xfrm>
            <a:custGeom>
              <a:avLst/>
              <a:gdLst>
                <a:gd name="textAreaLeft" fmla="*/ 0 w 960840"/>
                <a:gd name="textAreaRight" fmla="*/ 961200 w 960840"/>
                <a:gd name="textAreaTop" fmla="*/ 0 h 1433880"/>
                <a:gd name="textAreaBottom" fmla="*/ 1434240 h 143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737" y="0"/>
                  </a:moveTo>
                  <a:lnTo>
                    <a:pt x="21599" y="21599"/>
                  </a:lnTo>
                  <a:lnTo>
                    <a:pt x="0" y="18849"/>
                  </a:lnTo>
                  <a:lnTo>
                    <a:pt x="16307" y="17940"/>
                  </a:lnTo>
                  <a:lnTo>
                    <a:pt x="17737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66274"/>
                  </a:srgbClr>
                </a:gs>
                <a:gs pos="100000">
                  <a:srgbClr val="000099">
                    <a:alpha val="66274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4" name="Group 147"/>
            <p:cNvGrpSpPr/>
            <p:nvPr/>
          </p:nvGrpSpPr>
          <p:grpSpPr>
            <a:xfrm>
              <a:off x="1574640" y="1247760"/>
              <a:ext cx="795240" cy="1298160"/>
              <a:chOff x="1574640" y="1247760"/>
              <a:chExt cx="795240" cy="1298160"/>
            </a:xfrm>
          </p:grpSpPr>
          <p:sp>
            <p:nvSpPr>
              <p:cNvPr id="1195" name="AutoShape 148"/>
              <p:cNvSpPr/>
              <p:nvPr/>
            </p:nvSpPr>
            <p:spPr>
              <a:xfrm>
                <a:off x="1585440" y="1277640"/>
                <a:ext cx="784440" cy="1254600"/>
              </a:xfrm>
              <a:custGeom>
                <a:avLst/>
                <a:gdLst>
                  <a:gd name="textAreaLeft" fmla="*/ 0 w 784440"/>
                  <a:gd name="textAreaRight" fmla="*/ 784800 w 784440"/>
                  <a:gd name="textAreaTop" fmla="*/ 0 h 1254600"/>
                  <a:gd name="textAreaBottom" fmla="*/ 1254960 h 1254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599" y="0"/>
                    </a:lnTo>
                    <a:lnTo>
                      <a:pt x="21599" y="21599"/>
                    </a:lnTo>
                    <a:lnTo>
                      <a:pt x="0" y="215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AutoShape 149"/>
              <p:cNvSpPr/>
              <p:nvPr/>
            </p:nvSpPr>
            <p:spPr>
              <a:xfrm>
                <a:off x="1636920" y="1247760"/>
                <a:ext cx="709920" cy="1298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Line 150"/>
              <p:cNvSpPr/>
              <p:nvPr/>
            </p:nvSpPr>
            <p:spPr>
              <a:xfrm>
                <a:off x="1588680" y="1527120"/>
                <a:ext cx="777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Line 151"/>
              <p:cNvSpPr/>
              <p:nvPr/>
            </p:nvSpPr>
            <p:spPr>
              <a:xfrm>
                <a:off x="1584000" y="1779480"/>
                <a:ext cx="777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Line 152"/>
              <p:cNvSpPr/>
              <p:nvPr/>
            </p:nvSpPr>
            <p:spPr>
              <a:xfrm>
                <a:off x="1579320" y="2032200"/>
                <a:ext cx="777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Line 153"/>
              <p:cNvSpPr/>
              <p:nvPr/>
            </p:nvSpPr>
            <p:spPr>
              <a:xfrm>
                <a:off x="1574640" y="2284560"/>
                <a:ext cx="777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1" name="Group 154"/>
          <p:cNvGrpSpPr/>
          <p:nvPr/>
        </p:nvGrpSpPr>
        <p:grpSpPr>
          <a:xfrm>
            <a:off x="452520" y="1136160"/>
            <a:ext cx="1079280" cy="1217880"/>
            <a:chOff x="452520" y="1136160"/>
            <a:chExt cx="1079280" cy="1217880"/>
          </a:xfrm>
        </p:grpSpPr>
        <p:grpSp>
          <p:nvGrpSpPr>
            <p:cNvPr id="1202" name="Group 155"/>
            <p:cNvGrpSpPr/>
            <p:nvPr/>
          </p:nvGrpSpPr>
          <p:grpSpPr>
            <a:xfrm>
              <a:off x="452520" y="1533240"/>
              <a:ext cx="1079280" cy="729720"/>
              <a:chOff x="452520" y="1533240"/>
              <a:chExt cx="1079280" cy="729720"/>
            </a:xfrm>
          </p:grpSpPr>
          <p:grpSp>
            <p:nvGrpSpPr>
              <p:cNvPr id="1203" name="Group 156"/>
              <p:cNvGrpSpPr/>
              <p:nvPr/>
            </p:nvGrpSpPr>
            <p:grpSpPr>
              <a:xfrm>
                <a:off x="826560" y="1533240"/>
                <a:ext cx="560880" cy="231120"/>
                <a:chOff x="826560" y="1533240"/>
                <a:chExt cx="560880" cy="231120"/>
              </a:xfrm>
            </p:grpSpPr>
            <p:grpSp>
              <p:nvGrpSpPr>
                <p:cNvPr id="1204" name="Group 157"/>
                <p:cNvGrpSpPr/>
                <p:nvPr/>
              </p:nvGrpSpPr>
              <p:grpSpPr>
                <a:xfrm>
                  <a:off x="911880" y="1533240"/>
                  <a:ext cx="459720" cy="231120"/>
                  <a:chOff x="911880" y="1533240"/>
                  <a:chExt cx="459720" cy="231120"/>
                </a:xfrm>
              </p:grpSpPr>
              <p:sp>
                <p:nvSpPr>
                  <p:cNvPr id="1205" name="AutoShape 158"/>
                  <p:cNvSpPr/>
                  <p:nvPr/>
                </p:nvSpPr>
                <p:spPr>
                  <a:xfrm>
                    <a:off x="983160" y="1585440"/>
                    <a:ext cx="388440" cy="136440"/>
                  </a:xfrm>
                  <a:custGeom>
                    <a:avLst/>
                    <a:gdLst>
                      <a:gd name="textAreaLeft" fmla="*/ 0 w 388440"/>
                      <a:gd name="textAreaRight" fmla="*/ 388800 w 388440"/>
                      <a:gd name="textAreaTop" fmla="*/ 0 h 136440"/>
                      <a:gd name="textAreaBottom" fmla="*/ 136800 h 136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1600" y="21600"/>
                        </a:ln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AutoShape 159"/>
                  <p:cNvSpPr/>
                  <p:nvPr/>
                </p:nvSpPr>
                <p:spPr>
                  <a:xfrm>
                    <a:off x="911880" y="1533240"/>
                    <a:ext cx="446040" cy="2311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Gill Sans MT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07" name="AutoShape 160"/>
                <p:cNvSpPr/>
                <p:nvPr/>
              </p:nvSpPr>
              <p:spPr>
                <a:xfrm>
                  <a:off x="842400" y="1588680"/>
                  <a:ext cx="139320" cy="130320"/>
                </a:xfrm>
                <a:custGeom>
                  <a:avLst/>
                  <a:gdLst>
                    <a:gd name="textAreaLeft" fmla="*/ 0 w 139320"/>
                    <a:gd name="textAreaRight" fmla="*/ 139680 w 139320"/>
                    <a:gd name="textAreaTop" fmla="*/ 0 h 130320"/>
                    <a:gd name="textAreaBottom" fmla="*/ 130680 h 130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599" y="0"/>
                      </a:lnTo>
                      <a:lnTo>
                        <a:pt x="21599" y="21600"/>
                      </a:ln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AutoShape 161"/>
                <p:cNvSpPr/>
                <p:nvPr/>
              </p:nvSpPr>
              <p:spPr>
                <a:xfrm>
                  <a:off x="826560" y="1579320"/>
                  <a:ext cx="560880" cy="149400"/>
                </a:xfrm>
                <a:custGeom>
                  <a:avLst/>
                  <a:gdLst>
                    <a:gd name="textAreaLeft" fmla="*/ 0 w 560880"/>
                    <a:gd name="textAreaRight" fmla="*/ 561240 w 560880"/>
                    <a:gd name="textAreaTop" fmla="*/ 0 h 149400"/>
                    <a:gd name="textAreaBottom" fmla="*/ 149760 h 149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599" y="0"/>
                      </a:lnTo>
                      <a:lnTo>
                        <a:pt x="21599" y="21599"/>
                      </a:lnTo>
                      <a:lnTo>
                        <a:pt x="0" y="2159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9" name="Group 162"/>
              <p:cNvGrpSpPr/>
              <p:nvPr/>
            </p:nvGrpSpPr>
            <p:grpSpPr>
              <a:xfrm>
                <a:off x="826560" y="1768320"/>
                <a:ext cx="560880" cy="231120"/>
                <a:chOff x="826560" y="1768320"/>
                <a:chExt cx="560880" cy="231120"/>
              </a:xfrm>
            </p:grpSpPr>
            <p:grpSp>
              <p:nvGrpSpPr>
                <p:cNvPr id="1210" name="Group 163"/>
                <p:cNvGrpSpPr/>
                <p:nvPr/>
              </p:nvGrpSpPr>
              <p:grpSpPr>
                <a:xfrm>
                  <a:off x="911880" y="1768320"/>
                  <a:ext cx="459720" cy="231120"/>
                  <a:chOff x="911880" y="1768320"/>
                  <a:chExt cx="459720" cy="231120"/>
                </a:xfrm>
              </p:grpSpPr>
              <p:sp>
                <p:nvSpPr>
                  <p:cNvPr id="1211" name="AutoShape 164"/>
                  <p:cNvSpPr/>
                  <p:nvPr/>
                </p:nvSpPr>
                <p:spPr>
                  <a:xfrm>
                    <a:off x="983160" y="1820520"/>
                    <a:ext cx="388440" cy="136440"/>
                  </a:xfrm>
                  <a:custGeom>
                    <a:avLst/>
                    <a:gdLst>
                      <a:gd name="textAreaLeft" fmla="*/ 0 w 388440"/>
                      <a:gd name="textAreaRight" fmla="*/ 388800 w 388440"/>
                      <a:gd name="textAreaTop" fmla="*/ 0 h 136440"/>
                      <a:gd name="textAreaBottom" fmla="*/ 136800 h 136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1600" y="21600"/>
                        </a:ln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AutoShape 165"/>
                  <p:cNvSpPr/>
                  <p:nvPr/>
                </p:nvSpPr>
                <p:spPr>
                  <a:xfrm>
                    <a:off x="911880" y="1768320"/>
                    <a:ext cx="446040" cy="2311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Gill Sans MT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3" name="Group 166"/>
                <p:cNvGrpSpPr/>
                <p:nvPr/>
              </p:nvGrpSpPr>
              <p:grpSpPr>
                <a:xfrm>
                  <a:off x="826560" y="1814400"/>
                  <a:ext cx="560880" cy="149400"/>
                  <a:chOff x="826560" y="1814400"/>
                  <a:chExt cx="560880" cy="149400"/>
                </a:xfrm>
              </p:grpSpPr>
              <p:sp>
                <p:nvSpPr>
                  <p:cNvPr id="1214" name="AutoShape 167"/>
                  <p:cNvSpPr/>
                  <p:nvPr/>
                </p:nvSpPr>
                <p:spPr>
                  <a:xfrm>
                    <a:off x="842400" y="1823760"/>
                    <a:ext cx="139320" cy="130320"/>
                  </a:xfrm>
                  <a:custGeom>
                    <a:avLst/>
                    <a:gdLst>
                      <a:gd name="textAreaLeft" fmla="*/ 0 w 139320"/>
                      <a:gd name="textAreaRight" fmla="*/ 139680 w 139320"/>
                      <a:gd name="textAreaTop" fmla="*/ 0 h 130320"/>
                      <a:gd name="textAreaBottom" fmla="*/ 130680 h 130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599" y="0"/>
                        </a:lnTo>
                        <a:lnTo>
                          <a:pt x="21599" y="21600"/>
                        </a:ln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AutoShape 168"/>
                  <p:cNvSpPr/>
                  <p:nvPr/>
                </p:nvSpPr>
                <p:spPr>
                  <a:xfrm>
                    <a:off x="826560" y="1814400"/>
                    <a:ext cx="560880" cy="149400"/>
                  </a:xfrm>
                  <a:custGeom>
                    <a:avLst/>
                    <a:gdLst>
                      <a:gd name="textAreaLeft" fmla="*/ 0 w 560880"/>
                      <a:gd name="textAreaRight" fmla="*/ 561240 w 560880"/>
                      <a:gd name="textAreaTop" fmla="*/ 0 h 149400"/>
                      <a:gd name="textAreaBottom" fmla="*/ 149760 h 149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599" y="0"/>
                        </a:lnTo>
                        <a:lnTo>
                          <a:pt x="21599" y="21599"/>
                        </a:lnTo>
                        <a:lnTo>
                          <a:pt x="0" y="215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16" name="Group 169"/>
              <p:cNvGrpSpPr/>
              <p:nvPr/>
            </p:nvGrpSpPr>
            <p:grpSpPr>
              <a:xfrm>
                <a:off x="647280" y="1800000"/>
                <a:ext cx="760680" cy="177840"/>
                <a:chOff x="647280" y="1800000"/>
                <a:chExt cx="760680" cy="177840"/>
              </a:xfrm>
            </p:grpSpPr>
            <p:sp>
              <p:nvSpPr>
                <p:cNvPr id="1217" name="AutoShape 170"/>
                <p:cNvSpPr/>
                <p:nvPr/>
              </p:nvSpPr>
              <p:spPr>
                <a:xfrm>
                  <a:off x="661320" y="1817280"/>
                  <a:ext cx="151920" cy="147960"/>
                </a:xfrm>
                <a:custGeom>
                  <a:avLst/>
                  <a:gdLst>
                    <a:gd name="textAreaLeft" fmla="*/ 0 w 151920"/>
                    <a:gd name="textAreaRight" fmla="*/ 152280 w 151920"/>
                    <a:gd name="textAreaTop" fmla="*/ 0 h 147960"/>
                    <a:gd name="textAreaBottom" fmla="*/ 148320 h 147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1600" y="21600"/>
                      </a:ln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AutoShape 171"/>
                <p:cNvSpPr/>
                <p:nvPr/>
              </p:nvSpPr>
              <p:spPr>
                <a:xfrm>
                  <a:off x="647280" y="1800000"/>
                  <a:ext cx="760680" cy="177840"/>
                </a:xfrm>
                <a:custGeom>
                  <a:avLst/>
                  <a:gdLst>
                    <a:gd name="textAreaLeft" fmla="*/ 0 w 760680"/>
                    <a:gd name="textAreaRight" fmla="*/ 761040 w 760680"/>
                    <a:gd name="textAreaTop" fmla="*/ 0 h 177840"/>
                    <a:gd name="textAreaBottom" fmla="*/ 177840 h 177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1600" y="21600"/>
                      </a:ln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9" name="Group 172"/>
              <p:cNvGrpSpPr/>
              <p:nvPr/>
            </p:nvGrpSpPr>
            <p:grpSpPr>
              <a:xfrm>
                <a:off x="452520" y="2031840"/>
                <a:ext cx="1079280" cy="231120"/>
                <a:chOff x="452520" y="2031840"/>
                <a:chExt cx="1079280" cy="231120"/>
              </a:xfrm>
            </p:grpSpPr>
            <p:grpSp>
              <p:nvGrpSpPr>
                <p:cNvPr id="1220" name="Group 173"/>
                <p:cNvGrpSpPr/>
                <p:nvPr/>
              </p:nvGrpSpPr>
              <p:grpSpPr>
                <a:xfrm>
                  <a:off x="641160" y="2031840"/>
                  <a:ext cx="760680" cy="231120"/>
                  <a:chOff x="641160" y="2031840"/>
                  <a:chExt cx="760680" cy="231120"/>
                </a:xfrm>
              </p:grpSpPr>
              <p:grpSp>
                <p:nvGrpSpPr>
                  <p:cNvPr id="1221" name="Group 174"/>
                  <p:cNvGrpSpPr/>
                  <p:nvPr/>
                </p:nvGrpSpPr>
                <p:grpSpPr>
                  <a:xfrm>
                    <a:off x="820080" y="2031840"/>
                    <a:ext cx="561240" cy="231120"/>
                    <a:chOff x="820080" y="2031840"/>
                    <a:chExt cx="561240" cy="231120"/>
                  </a:xfrm>
                </p:grpSpPr>
                <p:grpSp>
                  <p:nvGrpSpPr>
                    <p:cNvPr id="1222" name="Group 175"/>
                    <p:cNvGrpSpPr/>
                    <p:nvPr/>
                  </p:nvGrpSpPr>
                  <p:grpSpPr>
                    <a:xfrm>
                      <a:off x="905400" y="2031840"/>
                      <a:ext cx="459720" cy="231120"/>
                      <a:chOff x="905400" y="2031840"/>
                      <a:chExt cx="459720" cy="231120"/>
                    </a:xfrm>
                  </p:grpSpPr>
                  <p:sp>
                    <p:nvSpPr>
                      <p:cNvPr id="1223" name="AutoShape 176"/>
                      <p:cNvSpPr/>
                      <p:nvPr/>
                    </p:nvSpPr>
                    <p:spPr>
                      <a:xfrm>
                        <a:off x="976680" y="2084040"/>
                        <a:ext cx="388440" cy="136440"/>
                      </a:xfrm>
                      <a:custGeom>
                        <a:avLst/>
                        <a:gdLst>
                          <a:gd name="textAreaLeft" fmla="*/ 0 w 388440"/>
                          <a:gd name="textAreaRight" fmla="*/ 388800 w 388440"/>
                          <a:gd name="textAreaTop" fmla="*/ 0 h 136440"/>
                          <a:gd name="textAreaBottom" fmla="*/ 136800 h 1364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21600" y="21600"/>
                            </a:lnTo>
                            <a:lnTo>
                              <a:pt x="0" y="2160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324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noAutofit/>
                      </a:bodyPr>
                      <a:p>
                        <a:pPr algn="ctr">
                          <a:spcBef>
                            <a:spcPts val="9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4" name="AutoShape 177"/>
                      <p:cNvSpPr/>
                      <p:nvPr/>
                    </p:nvSpPr>
                    <p:spPr>
                      <a:xfrm>
                        <a:off x="905400" y="2031840"/>
                        <a:ext cx="446040" cy="231120"/>
                      </a:xfrm>
                      <a:prstGeom prst="pie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Gill Sans MT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25" name="Group 178"/>
                    <p:cNvGrpSpPr/>
                    <p:nvPr/>
                  </p:nvGrpSpPr>
                  <p:grpSpPr>
                    <a:xfrm>
                      <a:off x="820080" y="2077920"/>
                      <a:ext cx="561240" cy="149400"/>
                      <a:chOff x="820080" y="2077920"/>
                      <a:chExt cx="561240" cy="149400"/>
                    </a:xfrm>
                  </p:grpSpPr>
                  <p:sp>
                    <p:nvSpPr>
                      <p:cNvPr id="1226" name="AutoShape 179"/>
                      <p:cNvSpPr/>
                      <p:nvPr/>
                    </p:nvSpPr>
                    <p:spPr>
                      <a:xfrm>
                        <a:off x="835920" y="2087280"/>
                        <a:ext cx="139320" cy="130320"/>
                      </a:xfrm>
                      <a:custGeom>
                        <a:avLst/>
                        <a:gdLst>
                          <a:gd name="textAreaLeft" fmla="*/ 0 w 139320"/>
                          <a:gd name="textAreaRight" fmla="*/ 139680 w 139320"/>
                          <a:gd name="textAreaTop" fmla="*/ 0 h 130320"/>
                          <a:gd name="textAreaBottom" fmla="*/ 130680 h 1303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599" y="0"/>
                            </a:lnTo>
                            <a:lnTo>
                              <a:pt x="21599" y="21600"/>
                            </a:lnTo>
                            <a:lnTo>
                              <a:pt x="0" y="2160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cc99"/>
                      </a:solidFill>
                      <a:ln w="324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noAutofit/>
                      </a:bodyPr>
                      <a:p>
                        <a:pPr algn="ctr">
                          <a:spcBef>
                            <a:spcPts val="9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7" name="AutoShape 180"/>
                      <p:cNvSpPr/>
                      <p:nvPr/>
                    </p:nvSpPr>
                    <p:spPr>
                      <a:xfrm>
                        <a:off x="820080" y="2077920"/>
                        <a:ext cx="561240" cy="149400"/>
                      </a:xfrm>
                      <a:custGeom>
                        <a:avLst/>
                        <a:gdLst>
                          <a:gd name="textAreaLeft" fmla="*/ 0 w 561240"/>
                          <a:gd name="textAreaRight" fmla="*/ 561240 w 561240"/>
                          <a:gd name="textAreaTop" fmla="*/ 0 h 149400"/>
                          <a:gd name="textAreaBottom" fmla="*/ 149760 h 1494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599" y="0"/>
                            </a:lnTo>
                            <a:lnTo>
                              <a:pt x="21599" y="21599"/>
                            </a:lnTo>
                            <a:lnTo>
                              <a:pt x="0" y="2159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noFill/>
                      <a:ln w="3240">
                        <a:solidFill>
                          <a:srgbClr val="00cc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noAutofit/>
                      </a:bodyPr>
                      <a:p>
                        <a:pPr algn="ctr">
                          <a:spcBef>
                            <a:spcPts val="9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228" name="AutoShape 181"/>
                  <p:cNvSpPr/>
                  <p:nvPr/>
                </p:nvSpPr>
                <p:spPr>
                  <a:xfrm>
                    <a:off x="655200" y="2080800"/>
                    <a:ext cx="151920" cy="147600"/>
                  </a:xfrm>
                  <a:custGeom>
                    <a:avLst/>
                    <a:gdLst>
                      <a:gd name="textAreaLeft" fmla="*/ 0 w 151920"/>
                      <a:gd name="textAreaRight" fmla="*/ 152280 w 15192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1600" y="21600"/>
                        </a:ln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AutoShape 182"/>
                  <p:cNvSpPr/>
                  <p:nvPr/>
                </p:nvSpPr>
                <p:spPr>
                  <a:xfrm>
                    <a:off x="641160" y="2063520"/>
                    <a:ext cx="760680" cy="177840"/>
                  </a:xfrm>
                  <a:custGeom>
                    <a:avLst/>
                    <a:gdLst>
                      <a:gd name="textAreaLeft" fmla="*/ 0 w 760680"/>
                      <a:gd name="textAreaRight" fmla="*/ 761040 w 760680"/>
                      <a:gd name="textAreaTop" fmla="*/ 0 h 177840"/>
                      <a:gd name="textAreaBottom" fmla="*/ 177840 h 177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1600" y="21600"/>
                        </a:ln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30" name="AutoShape 183"/>
                <p:cNvSpPr/>
                <p:nvPr/>
              </p:nvSpPr>
              <p:spPr>
                <a:xfrm>
                  <a:off x="473040" y="2066760"/>
                  <a:ext cx="148680" cy="171360"/>
                </a:xfrm>
                <a:custGeom>
                  <a:avLst/>
                  <a:gdLst>
                    <a:gd name="textAreaLeft" fmla="*/ 0 w 148680"/>
                    <a:gd name="textAreaRight" fmla="*/ 148680 w 14868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599" y="0"/>
                      </a:lnTo>
                      <a:lnTo>
                        <a:pt x="21599" y="21600"/>
                      </a:ln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AutoShape 184"/>
                <p:cNvSpPr/>
                <p:nvPr/>
              </p:nvSpPr>
              <p:spPr>
                <a:xfrm>
                  <a:off x="1420920" y="2064960"/>
                  <a:ext cx="95040" cy="171360"/>
                </a:xfrm>
                <a:custGeom>
                  <a:avLst/>
                  <a:gdLst>
                    <a:gd name="textAreaLeft" fmla="*/ 0 w 95040"/>
                    <a:gd name="textAreaRight" fmla="*/ 95400 w 9504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1600" y="21600"/>
                      </a:ln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AutoShape 185"/>
                <p:cNvSpPr/>
                <p:nvPr/>
              </p:nvSpPr>
              <p:spPr>
                <a:xfrm>
                  <a:off x="452520" y="2041200"/>
                  <a:ext cx="1079280" cy="219240"/>
                </a:xfrm>
                <a:custGeom>
                  <a:avLst/>
                  <a:gdLst>
                    <a:gd name="textAreaLeft" fmla="*/ 0 w 1079280"/>
                    <a:gd name="textAreaRight" fmla="*/ 1079640 w 107928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1600" y="21600"/>
                      </a:ln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33" name="AutoShape 186"/>
            <p:cNvSpPr/>
            <p:nvPr/>
          </p:nvSpPr>
          <p:spPr>
            <a:xfrm rot="10800000">
              <a:off x="964440" y="1136160"/>
              <a:ext cx="380160" cy="1217880"/>
            </a:xfrm>
            <a:custGeom>
              <a:avLst/>
              <a:gdLst>
                <a:gd name="textAreaLeft" fmla="*/ 0 w 380160"/>
                <a:gd name="textAreaRight" fmla="*/ 380520 w 380160"/>
                <a:gd name="textAreaTop" fmla="*/ 0 h 1217880"/>
                <a:gd name="textAreaBottom" fmla="*/ 1218240 h 121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8131"/>
                  </a:moveTo>
                  <a:lnTo>
                    <a:pt x="4950" y="18131"/>
                  </a:lnTo>
                  <a:lnTo>
                    <a:pt x="4950" y="0"/>
                  </a:lnTo>
                  <a:lnTo>
                    <a:pt x="16650" y="0"/>
                  </a:lnTo>
                  <a:lnTo>
                    <a:pt x="16650" y="18131"/>
                  </a:lnTo>
                  <a:lnTo>
                    <a:pt x="21600" y="18131"/>
                  </a:lnTo>
                  <a:lnTo>
                    <a:pt x="10800" y="21599"/>
                  </a:lnTo>
                  <a:lnTo>
                    <a:pt x="0" y="18131"/>
                  </a:lnTo>
                  <a:close/>
                </a:path>
              </a:pathLst>
            </a:cu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4" name="Group 187"/>
            <p:cNvGrpSpPr/>
            <p:nvPr/>
          </p:nvGrpSpPr>
          <p:grpSpPr>
            <a:xfrm>
              <a:off x="913680" y="1330200"/>
              <a:ext cx="459720" cy="231120"/>
              <a:chOff x="913680" y="1330200"/>
              <a:chExt cx="459720" cy="231120"/>
            </a:xfrm>
          </p:grpSpPr>
          <p:sp>
            <p:nvSpPr>
              <p:cNvPr id="1235" name="AutoShape 188"/>
              <p:cNvSpPr/>
              <p:nvPr/>
            </p:nvSpPr>
            <p:spPr>
              <a:xfrm>
                <a:off x="984960" y="1382400"/>
                <a:ext cx="388440" cy="136440"/>
              </a:xfrm>
              <a:custGeom>
                <a:avLst/>
                <a:gdLst>
                  <a:gd name="textAreaLeft" fmla="*/ 0 w 388440"/>
                  <a:gd name="textAreaRight" fmla="*/ 388800 w 38844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AutoShape 189"/>
              <p:cNvSpPr/>
              <p:nvPr/>
            </p:nvSpPr>
            <p:spPr>
              <a:xfrm>
                <a:off x="913680" y="1330200"/>
                <a:ext cx="446040" cy="231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Gill Sans MT"/>
                  </a:rPr>
                  <a:t>DHC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7" name="AutoShape 190"/>
          <p:cNvSpPr/>
          <p:nvPr/>
        </p:nvSpPr>
        <p:spPr>
          <a:xfrm>
            <a:off x="5407200" y="4230720"/>
            <a:ext cx="3420720" cy="1824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19040" indent="-41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now knows its IP address, name and IP address of DSN server, IP address of its first-hop rou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Slide Number Placeholder 192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A23D-0D19-48DF-99FD-EEE1DD335CA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3443400" y="961920"/>
            <a:ext cx="4127400" cy="5327640"/>
            <a:chOff x="3443400" y="961920"/>
            <a:chExt cx="4127400" cy="5327640"/>
          </a:xfrm>
        </p:grpSpPr>
        <p:sp>
          <p:nvSpPr>
            <p:cNvPr id="124" name="AutoShape 5"/>
            <p:cNvSpPr/>
            <p:nvPr/>
          </p:nvSpPr>
          <p:spPr>
            <a:xfrm>
              <a:off x="3619440" y="1376280"/>
              <a:ext cx="3951360" cy="4826160"/>
            </a:xfrm>
            <a:custGeom>
              <a:avLst/>
              <a:gdLst>
                <a:gd name="textAreaLeft" fmla="*/ 0 w 3951360"/>
                <a:gd name="textAreaRight" fmla="*/ 3951360 w 3951360"/>
                <a:gd name="textAreaTop" fmla="*/ 0 h 4826160"/>
                <a:gd name="textAreaBottom" fmla="*/ 4826520 h 482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AutoShape 6"/>
            <p:cNvSpPr/>
            <p:nvPr/>
          </p:nvSpPr>
          <p:spPr>
            <a:xfrm>
              <a:off x="3524040" y="1482480"/>
              <a:ext cx="3951360" cy="4807080"/>
            </a:xfrm>
            <a:custGeom>
              <a:avLst/>
              <a:gdLst>
                <a:gd name="textAreaLeft" fmla="*/ 0 w 3951360"/>
                <a:gd name="textAreaRight" fmla="*/ 3951360 w 3951360"/>
                <a:gd name="textAreaTop" fmla="*/ 0 h 4807080"/>
                <a:gd name="textAreaBottom" fmla="*/ 4807440 h 480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AutoShape 7"/>
            <p:cNvSpPr/>
            <p:nvPr/>
          </p:nvSpPr>
          <p:spPr>
            <a:xfrm>
              <a:off x="3533760" y="1542960"/>
              <a:ext cx="39960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AutoShape 8"/>
            <p:cNvSpPr/>
            <p:nvPr/>
          </p:nvSpPr>
          <p:spPr>
            <a:xfrm>
              <a:off x="6053760" y="1604880"/>
              <a:ext cx="66600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9"/>
            <p:cNvSpPr/>
            <p:nvPr/>
          </p:nvSpPr>
          <p:spPr>
            <a:xfrm>
              <a:off x="3537000" y="2000520"/>
              <a:ext cx="39466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0"/>
            <p:cNvSpPr/>
            <p:nvPr/>
          </p:nvSpPr>
          <p:spPr>
            <a:xfrm flipV="1">
              <a:off x="5478120" y="1491840"/>
              <a:ext cx="0" cy="50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AutoShape 11"/>
            <p:cNvSpPr/>
            <p:nvPr/>
          </p:nvSpPr>
          <p:spPr>
            <a:xfrm>
              <a:off x="5086080" y="961920"/>
              <a:ext cx="72468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32 b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2"/>
            <p:cNvSpPr/>
            <p:nvPr/>
          </p:nvSpPr>
          <p:spPr>
            <a:xfrm>
              <a:off x="6019920" y="1207800"/>
              <a:ext cx="14270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13"/>
            <p:cNvSpPr/>
            <p:nvPr/>
          </p:nvSpPr>
          <p:spPr>
            <a:xfrm flipH="1">
              <a:off x="3511440" y="1220400"/>
              <a:ext cx="13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AutoShape 14"/>
            <p:cNvSpPr/>
            <p:nvPr/>
          </p:nvSpPr>
          <p:spPr>
            <a:xfrm>
              <a:off x="4628160" y="4431600"/>
              <a:ext cx="1924920" cy="1310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dat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(variable length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typically a TCP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or UDP segmen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AutoShape 15"/>
            <p:cNvSpPr/>
            <p:nvPr/>
          </p:nvSpPr>
          <p:spPr>
            <a:xfrm>
              <a:off x="3443400" y="2094120"/>
              <a:ext cx="215244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16-bit 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16"/>
            <p:cNvSpPr/>
            <p:nvPr/>
          </p:nvSpPr>
          <p:spPr>
            <a:xfrm>
              <a:off x="3530520" y="3500640"/>
              <a:ext cx="395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17"/>
            <p:cNvSpPr/>
            <p:nvPr/>
          </p:nvSpPr>
          <p:spPr>
            <a:xfrm>
              <a:off x="3530520" y="3977280"/>
              <a:ext cx="395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AutoShape 18"/>
            <p:cNvSpPr/>
            <p:nvPr/>
          </p:nvSpPr>
          <p:spPr>
            <a:xfrm>
              <a:off x="5978520" y="2457720"/>
              <a:ext cx="1079640" cy="62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checks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AutoShape 19"/>
            <p:cNvSpPr/>
            <p:nvPr/>
          </p:nvSpPr>
          <p:spPr>
            <a:xfrm>
              <a:off x="3580920" y="2429280"/>
              <a:ext cx="845280" cy="62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time 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l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AutoShape 20"/>
            <p:cNvSpPr/>
            <p:nvPr/>
          </p:nvSpPr>
          <p:spPr>
            <a:xfrm>
              <a:off x="4303800" y="3108960"/>
              <a:ext cx="232344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32 bit source IP 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AutoShape 21"/>
            <p:cNvSpPr/>
            <p:nvPr/>
          </p:nvSpPr>
          <p:spPr>
            <a:xfrm>
              <a:off x="3969720" y="1438200"/>
              <a:ext cx="632520" cy="62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head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l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AutoShape 22"/>
            <p:cNvSpPr/>
            <p:nvPr/>
          </p:nvSpPr>
          <p:spPr>
            <a:xfrm>
              <a:off x="4628160" y="1428480"/>
              <a:ext cx="814320" cy="62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type 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23"/>
            <p:cNvSpPr/>
            <p:nvPr/>
          </p:nvSpPr>
          <p:spPr>
            <a:xfrm flipV="1">
              <a:off x="4582800" y="1487160"/>
              <a:ext cx="0" cy="50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V="1">
              <a:off x="3968280" y="1496520"/>
              <a:ext cx="0" cy="50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5478120" y="2006280"/>
              <a:ext cx="0" cy="50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AutoShape 26"/>
            <p:cNvSpPr/>
            <p:nvPr/>
          </p:nvSpPr>
          <p:spPr>
            <a:xfrm>
              <a:off x="5329440" y="2084400"/>
              <a:ext cx="77148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flg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V="1">
              <a:off x="5945040" y="1996920"/>
              <a:ext cx="0" cy="50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AutoShape 28"/>
            <p:cNvSpPr/>
            <p:nvPr/>
          </p:nvSpPr>
          <p:spPr>
            <a:xfrm>
              <a:off x="5986440" y="1951200"/>
              <a:ext cx="1428840" cy="62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frag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off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29"/>
            <p:cNvSpPr/>
            <p:nvPr/>
          </p:nvSpPr>
          <p:spPr>
            <a:xfrm>
              <a:off x="3530520" y="2509920"/>
              <a:ext cx="395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0"/>
            <p:cNvSpPr/>
            <p:nvPr/>
          </p:nvSpPr>
          <p:spPr>
            <a:xfrm flipV="1">
              <a:off x="5478120" y="2511360"/>
              <a:ext cx="0" cy="50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31"/>
            <p:cNvSpPr/>
            <p:nvPr/>
          </p:nvSpPr>
          <p:spPr>
            <a:xfrm>
              <a:off x="3511440" y="3024360"/>
              <a:ext cx="395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AutoShape 32"/>
            <p:cNvSpPr/>
            <p:nvPr/>
          </p:nvSpPr>
          <p:spPr>
            <a:xfrm>
              <a:off x="4645440" y="2419560"/>
              <a:ext cx="710280" cy="62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upp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lay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33"/>
            <p:cNvSpPr/>
            <p:nvPr/>
          </p:nvSpPr>
          <p:spPr>
            <a:xfrm flipV="1">
              <a:off x="4525560" y="2520720"/>
              <a:ext cx="0" cy="50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AutoShape 34"/>
            <p:cNvSpPr/>
            <p:nvPr/>
          </p:nvSpPr>
          <p:spPr>
            <a:xfrm>
              <a:off x="4145760" y="3547080"/>
              <a:ext cx="271944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32 bit destination IP 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35"/>
            <p:cNvSpPr/>
            <p:nvPr/>
          </p:nvSpPr>
          <p:spPr>
            <a:xfrm>
              <a:off x="3530520" y="4425120"/>
              <a:ext cx="395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AutoShape 36"/>
            <p:cNvSpPr/>
            <p:nvPr/>
          </p:nvSpPr>
          <p:spPr>
            <a:xfrm>
              <a:off x="4721400" y="4014000"/>
              <a:ext cx="148860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options (if any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1800" y="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P datagram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38"/>
          <p:cNvGrpSpPr/>
          <p:nvPr/>
        </p:nvGrpSpPr>
        <p:grpSpPr>
          <a:xfrm>
            <a:off x="1278000" y="857160"/>
            <a:ext cx="2373120" cy="792360"/>
            <a:chOff x="1278000" y="857160"/>
            <a:chExt cx="2373120" cy="792360"/>
          </a:xfrm>
        </p:grpSpPr>
        <p:sp>
          <p:nvSpPr>
            <p:cNvPr id="158" name="AutoShape 39"/>
            <p:cNvSpPr/>
            <p:nvPr/>
          </p:nvSpPr>
          <p:spPr>
            <a:xfrm>
              <a:off x="1278000" y="857160"/>
              <a:ext cx="1947600" cy="62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IP protocol ver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0"/>
            <p:cNvSpPr/>
            <p:nvPr/>
          </p:nvSpPr>
          <p:spPr>
            <a:xfrm>
              <a:off x="3122280" y="1187280"/>
              <a:ext cx="528840" cy="462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41"/>
          <p:cNvGrpSpPr/>
          <p:nvPr/>
        </p:nvGrpSpPr>
        <p:grpSpPr>
          <a:xfrm>
            <a:off x="1789200" y="1405080"/>
            <a:ext cx="2266920" cy="625320"/>
            <a:chOff x="1789200" y="1405080"/>
            <a:chExt cx="2266920" cy="625320"/>
          </a:xfrm>
        </p:grpSpPr>
        <p:sp>
          <p:nvSpPr>
            <p:cNvPr id="161" name="AutoShape 42"/>
            <p:cNvSpPr/>
            <p:nvPr/>
          </p:nvSpPr>
          <p:spPr>
            <a:xfrm>
              <a:off x="1789200" y="1405080"/>
              <a:ext cx="1431720" cy="625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header 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(byt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43"/>
            <p:cNvSpPr/>
            <p:nvPr/>
          </p:nvSpPr>
          <p:spPr>
            <a:xfrm>
              <a:off x="3151080" y="1744920"/>
              <a:ext cx="905040" cy="147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44"/>
          <p:cNvGrpSpPr/>
          <p:nvPr/>
        </p:nvGrpSpPr>
        <p:grpSpPr>
          <a:xfrm>
            <a:off x="1260360" y="2730600"/>
            <a:ext cx="3471840" cy="1576440"/>
            <a:chOff x="1260360" y="2730600"/>
            <a:chExt cx="3471840" cy="1576440"/>
          </a:xfrm>
        </p:grpSpPr>
        <p:sp>
          <p:nvSpPr>
            <p:cNvPr id="164" name="AutoShape 45"/>
            <p:cNvSpPr/>
            <p:nvPr/>
          </p:nvSpPr>
          <p:spPr>
            <a:xfrm>
              <a:off x="1260360" y="3682080"/>
              <a:ext cx="2076120" cy="62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upper layer protoc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to deliver payload 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46"/>
            <p:cNvSpPr/>
            <p:nvPr/>
          </p:nvSpPr>
          <p:spPr>
            <a:xfrm flipV="1">
              <a:off x="3265200" y="2730600"/>
              <a:ext cx="1467000" cy="1124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47"/>
          <p:cNvGrpSpPr/>
          <p:nvPr/>
        </p:nvGrpSpPr>
        <p:grpSpPr>
          <a:xfrm>
            <a:off x="7226280" y="1052640"/>
            <a:ext cx="2040120" cy="736560"/>
            <a:chOff x="7226280" y="1052640"/>
            <a:chExt cx="2040120" cy="736560"/>
          </a:xfrm>
        </p:grpSpPr>
        <p:sp>
          <p:nvSpPr>
            <p:cNvPr id="167" name="AutoShape 48"/>
            <p:cNvSpPr/>
            <p:nvPr/>
          </p:nvSpPr>
          <p:spPr>
            <a:xfrm>
              <a:off x="7758360" y="1052640"/>
              <a:ext cx="1508040" cy="626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total datagr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length (byt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49"/>
            <p:cNvSpPr/>
            <p:nvPr/>
          </p:nvSpPr>
          <p:spPr>
            <a:xfrm flipH="1">
              <a:off x="7226280" y="1378800"/>
              <a:ext cx="638640" cy="4104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50"/>
          <p:cNvGrpSpPr/>
          <p:nvPr/>
        </p:nvGrpSpPr>
        <p:grpSpPr>
          <a:xfrm>
            <a:off x="1806480" y="1760400"/>
            <a:ext cx="2897280" cy="555840"/>
            <a:chOff x="1806480" y="1760400"/>
            <a:chExt cx="2897280" cy="555840"/>
          </a:xfrm>
        </p:grpSpPr>
        <p:sp>
          <p:nvSpPr>
            <p:cNvPr id="170" name="AutoShape 51"/>
            <p:cNvSpPr/>
            <p:nvPr/>
          </p:nvSpPr>
          <p:spPr>
            <a:xfrm>
              <a:off x="1806480" y="1958400"/>
              <a:ext cx="1461600" cy="357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type” of dat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2"/>
            <p:cNvSpPr/>
            <p:nvPr/>
          </p:nvSpPr>
          <p:spPr>
            <a:xfrm flipV="1">
              <a:off x="3169440" y="1760400"/>
              <a:ext cx="1534320" cy="414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53"/>
          <p:cNvGrpSpPr/>
          <p:nvPr/>
        </p:nvGrpSpPr>
        <p:grpSpPr>
          <a:xfrm>
            <a:off x="5332320" y="1787400"/>
            <a:ext cx="3971880" cy="890640"/>
            <a:chOff x="5332320" y="1787400"/>
            <a:chExt cx="3971880" cy="890640"/>
          </a:xfrm>
        </p:grpSpPr>
        <p:sp>
          <p:nvSpPr>
            <p:cNvPr id="173" name="AutoShape 54"/>
            <p:cNvSpPr/>
            <p:nvPr/>
          </p:nvSpPr>
          <p:spPr>
            <a:xfrm>
              <a:off x="7789320" y="1787400"/>
              <a:ext cx="1514880" cy="890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f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fragmentation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reassemb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55"/>
            <p:cNvSpPr/>
            <p:nvPr/>
          </p:nvSpPr>
          <p:spPr>
            <a:xfrm flipH="1">
              <a:off x="5846040" y="2245680"/>
              <a:ext cx="2037960" cy="190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56"/>
            <p:cNvSpPr/>
            <p:nvPr/>
          </p:nvSpPr>
          <p:spPr>
            <a:xfrm flipH="1" flipV="1">
              <a:off x="7207920" y="2140560"/>
              <a:ext cx="657000" cy="114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57"/>
            <p:cNvSpPr/>
            <p:nvPr/>
          </p:nvSpPr>
          <p:spPr>
            <a:xfrm flipH="1">
              <a:off x="5332320" y="2255400"/>
              <a:ext cx="2514240" cy="56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58"/>
          <p:cNvGrpSpPr/>
          <p:nvPr/>
        </p:nvGrpSpPr>
        <p:grpSpPr>
          <a:xfrm>
            <a:off x="1544760" y="2406600"/>
            <a:ext cx="2252520" cy="1157400"/>
            <a:chOff x="1544760" y="2406600"/>
            <a:chExt cx="2252520" cy="1157400"/>
          </a:xfrm>
        </p:grpSpPr>
        <p:sp>
          <p:nvSpPr>
            <p:cNvPr id="178" name="AutoShape 59"/>
            <p:cNvSpPr/>
            <p:nvPr/>
          </p:nvSpPr>
          <p:spPr>
            <a:xfrm>
              <a:off x="1544760" y="2406600"/>
              <a:ext cx="1765440" cy="1157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max 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remaining ho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(decremented a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each route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60"/>
            <p:cNvSpPr/>
            <p:nvPr/>
          </p:nvSpPr>
          <p:spPr>
            <a:xfrm>
              <a:off x="3245040" y="2698560"/>
              <a:ext cx="552240" cy="90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61"/>
          <p:cNvGrpSpPr/>
          <p:nvPr/>
        </p:nvGrpSpPr>
        <p:grpSpPr>
          <a:xfrm>
            <a:off x="6913440" y="3987720"/>
            <a:ext cx="2265480" cy="1424160"/>
            <a:chOff x="6913440" y="3987720"/>
            <a:chExt cx="2265480" cy="1424160"/>
          </a:xfrm>
        </p:grpSpPr>
        <p:sp>
          <p:nvSpPr>
            <p:cNvPr id="181" name="AutoShape 62"/>
            <p:cNvSpPr/>
            <p:nvPr/>
          </p:nvSpPr>
          <p:spPr>
            <a:xfrm>
              <a:off x="7674840" y="3987720"/>
              <a:ext cx="1504080" cy="1424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e.g. timestamp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record ro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taken, specif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list of router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to visi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63"/>
            <p:cNvSpPr/>
            <p:nvPr/>
          </p:nvSpPr>
          <p:spPr>
            <a:xfrm flipH="1">
              <a:off x="6913440" y="4208040"/>
              <a:ext cx="818640" cy="9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64"/>
          <p:cNvGrpSpPr/>
          <p:nvPr/>
        </p:nvGrpSpPr>
        <p:grpSpPr>
          <a:xfrm>
            <a:off x="625320" y="4594320"/>
            <a:ext cx="2621160" cy="1616040"/>
            <a:chOff x="625320" y="4594320"/>
            <a:chExt cx="2621160" cy="1616040"/>
          </a:xfrm>
        </p:grpSpPr>
        <p:sp>
          <p:nvSpPr>
            <p:cNvPr id="184" name="AutoShape 65"/>
            <p:cNvSpPr/>
            <p:nvPr/>
          </p:nvSpPr>
          <p:spPr>
            <a:xfrm>
              <a:off x="625320" y="4594320"/>
              <a:ext cx="2621160" cy="1607400"/>
            </a:xfrm>
            <a:custGeom>
              <a:avLst/>
              <a:gdLst>
                <a:gd name="textAreaLeft" fmla="*/ 0 w 2621160"/>
                <a:gd name="textAreaRight" fmla="*/ 2621520 w 2621160"/>
                <a:gd name="textAreaTop" fmla="*/ 0 h 1607400"/>
                <a:gd name="textAreaBottom" fmla="*/ 1607760 h 160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AutoShape 66"/>
            <p:cNvSpPr/>
            <p:nvPr/>
          </p:nvSpPr>
          <p:spPr>
            <a:xfrm>
              <a:off x="625320" y="4594320"/>
              <a:ext cx="2621160" cy="1616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285840" indent="-285840">
                <a:lnSpc>
                  <a:spcPct val="85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Gill Sans MT"/>
                </a:rPr>
                <a:t>how much overhead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85000"/>
                </a:lnSpc>
                <a:spcBef>
                  <a:spcPts val="400"/>
                </a:spcBef>
                <a:buClr>
                  <a:srgbClr val="000099"/>
                </a:buClr>
                <a:buSzPct val="65000"/>
                <a:buFont typeface="Wingdings" charset="2"/>
                <a:buChar char="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20 bytes of TC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85000"/>
                </a:lnSpc>
                <a:spcBef>
                  <a:spcPts val="400"/>
                </a:spcBef>
                <a:buClr>
                  <a:srgbClr val="000099"/>
                </a:buClr>
                <a:buSzPct val="65000"/>
                <a:buFont typeface="Wingdings" charset="2"/>
                <a:buChar char="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20 bytes of 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85000"/>
                </a:lnSpc>
                <a:spcBef>
                  <a:spcPts val="400"/>
                </a:spcBef>
                <a:buClr>
                  <a:srgbClr val="000099"/>
                </a:buClr>
                <a:buSzPct val="65000"/>
                <a:buFont typeface="Wingdings" charset="2"/>
                <a:buChar char="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= 40 bytes + app layer overh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Slide Number Placeholder 68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4943-CB29-4853-9845-A50F2D75FEE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2094720" presetSubtype="621286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62094720" presetSubtype="721833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2094720" presetSubtype="722455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2094720" presetSubtype="7224609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2094720" presetSubtype="7218359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2094720" presetSubtype="72245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2094720" presetSubtype="7224576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2094720" presetSubtype="722463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2094720" presetSubtype="72247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18576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fragmentation, reassemb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1920" y="1440000"/>
            <a:ext cx="380988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links have MTU (maximum transfer unit) - largest possible link-level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120" indent="-3189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fferent link types, different M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arge IP datagram divided (“fragmented”) within 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120" indent="-3189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datagram becomes several dat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120" indent="-3189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ssembled” only at final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120" indent="-3189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 header bits used to identify, order related fra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5010120" y="1639800"/>
            <a:ext cx="2370240" cy="2217960"/>
          </a:xfrm>
          <a:custGeom>
            <a:avLst/>
            <a:gdLst>
              <a:gd name="textAreaLeft" fmla="*/ 0 w 2370240"/>
              <a:gd name="textAreaRight" fmla="*/ 2370600 w 2370240"/>
              <a:gd name="textAreaTop" fmla="*/ 0 h 2217960"/>
              <a:gd name="textAreaBottom" fmla="*/ 2218320 h 2217960"/>
            </a:gdLst>
            <a:ahLst/>
            <a:rect l="textAreaLeft" t="textAreaTop" r="textAreaRight" b="textAreaBottom"/>
            <a:pathLst>
              <a:path w="21011" h="21230">
                <a:moveTo>
                  <a:pt x="3712" y="7"/>
                </a:moveTo>
                <a:cubicBezTo>
                  <a:pt x="1723" y="127"/>
                  <a:pt x="887" y="1108"/>
                  <a:pt x="302" y="2589"/>
                </a:cubicBezTo>
                <a:cubicBezTo>
                  <a:pt x="-283" y="4069"/>
                  <a:pt x="151" y="6960"/>
                  <a:pt x="201" y="8888"/>
                </a:cubicBezTo>
                <a:cubicBezTo>
                  <a:pt x="251" y="10816"/>
                  <a:pt x="1" y="13156"/>
                  <a:pt x="603" y="14155"/>
                </a:cubicBezTo>
                <a:cubicBezTo>
                  <a:pt x="1204" y="15153"/>
                  <a:pt x="2157" y="14017"/>
                  <a:pt x="3812" y="14877"/>
                </a:cubicBezTo>
                <a:cubicBezTo>
                  <a:pt x="5468" y="15738"/>
                  <a:pt x="8443" y="18268"/>
                  <a:pt x="10533" y="19318"/>
                </a:cubicBezTo>
                <a:cubicBezTo>
                  <a:pt x="12623" y="20368"/>
                  <a:pt x="14813" y="21487"/>
                  <a:pt x="16351" y="21177"/>
                </a:cubicBezTo>
                <a:cubicBezTo>
                  <a:pt x="17889" y="20867"/>
                  <a:pt x="18993" y="19731"/>
                  <a:pt x="19762" y="17459"/>
                </a:cubicBezTo>
                <a:cubicBezTo>
                  <a:pt x="20531" y="15187"/>
                  <a:pt x="20949" y="9869"/>
                  <a:pt x="20965" y="7545"/>
                </a:cubicBezTo>
                <a:cubicBezTo>
                  <a:pt x="20982" y="5222"/>
                  <a:pt x="21316" y="4465"/>
                  <a:pt x="19862" y="3518"/>
                </a:cubicBezTo>
                <a:cubicBezTo>
                  <a:pt x="18408" y="2571"/>
                  <a:pt x="14897" y="2468"/>
                  <a:pt x="12238" y="1866"/>
                </a:cubicBezTo>
                <a:cubicBezTo>
                  <a:pt x="9580" y="1263"/>
                  <a:pt x="5702" y="-113"/>
                  <a:pt x="3712" y="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4981680" y="4049640"/>
            <a:ext cx="1960560" cy="1940040"/>
          </a:xfrm>
          <a:custGeom>
            <a:avLst/>
            <a:gdLst>
              <a:gd name="textAreaLeft" fmla="*/ 0 w 1960560"/>
              <a:gd name="textAreaRight" fmla="*/ 1960920 w 1960560"/>
              <a:gd name="textAreaTop" fmla="*/ 0 h 1940040"/>
              <a:gd name="textAreaBottom" fmla="*/ 1940400 h 1940040"/>
            </a:gdLst>
            <a:ahLst/>
            <a:rect l="textAreaLeft" t="textAreaTop" r="textAreaRight" b="textAreaBottom"/>
            <a:pathLst>
              <a:path w="21417" h="21096">
                <a:moveTo>
                  <a:pt x="1" y="9098"/>
                </a:moveTo>
                <a:cubicBezTo>
                  <a:pt x="372" y="6455"/>
                  <a:pt x="3366" y="2756"/>
                  <a:pt x="5642" y="1285"/>
                </a:cubicBezTo>
                <a:cubicBezTo>
                  <a:pt x="7919" y="-186"/>
                  <a:pt x="11333" y="-208"/>
                  <a:pt x="13683" y="297"/>
                </a:cubicBezTo>
                <a:cubicBezTo>
                  <a:pt x="16034" y="803"/>
                  <a:pt x="18459" y="3077"/>
                  <a:pt x="19745" y="4318"/>
                </a:cubicBezTo>
                <a:cubicBezTo>
                  <a:pt x="21032" y="5559"/>
                  <a:pt x="21205" y="6501"/>
                  <a:pt x="21378" y="7765"/>
                </a:cubicBezTo>
                <a:cubicBezTo>
                  <a:pt x="21551" y="9029"/>
                  <a:pt x="21106" y="10293"/>
                  <a:pt x="20784" y="11901"/>
                </a:cubicBezTo>
                <a:cubicBezTo>
                  <a:pt x="20463" y="13510"/>
                  <a:pt x="20413" y="16198"/>
                  <a:pt x="19448" y="17416"/>
                </a:cubicBezTo>
                <a:cubicBezTo>
                  <a:pt x="18483" y="18634"/>
                  <a:pt x="16529" y="18611"/>
                  <a:pt x="14995" y="19209"/>
                </a:cubicBezTo>
                <a:cubicBezTo>
                  <a:pt x="13461" y="19806"/>
                  <a:pt x="12224" y="21391"/>
                  <a:pt x="10294" y="21047"/>
                </a:cubicBezTo>
                <a:cubicBezTo>
                  <a:pt x="8364" y="20702"/>
                  <a:pt x="5098" y="19094"/>
                  <a:pt x="3391" y="17117"/>
                </a:cubicBezTo>
                <a:cubicBezTo>
                  <a:pt x="1659" y="15118"/>
                  <a:pt x="-48" y="12338"/>
                  <a:pt x="1" y="909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8"/>
          <p:cNvSpPr/>
          <p:nvPr/>
        </p:nvSpPr>
        <p:spPr>
          <a:xfrm flipV="1">
            <a:off x="5051520" y="2582640"/>
            <a:ext cx="12708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9"/>
          <p:cNvSpPr/>
          <p:nvPr/>
        </p:nvSpPr>
        <p:spPr>
          <a:xfrm>
            <a:off x="5626080" y="1908000"/>
            <a:ext cx="65880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6472080" y="2246400"/>
            <a:ext cx="198720" cy="66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5375160" y="2022480"/>
            <a:ext cx="1800" cy="58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2"/>
          <p:cNvSpPr/>
          <p:nvPr/>
        </p:nvSpPr>
        <p:spPr>
          <a:xfrm>
            <a:off x="5610240" y="2674800"/>
            <a:ext cx="971640" cy="40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3"/>
          <p:cNvSpPr/>
          <p:nvPr/>
        </p:nvSpPr>
        <p:spPr>
          <a:xfrm flipH="1" flipV="1">
            <a:off x="6883560" y="3206520"/>
            <a:ext cx="4759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4"/>
          <p:cNvSpPr/>
          <p:nvPr/>
        </p:nvSpPr>
        <p:spPr>
          <a:xfrm flipH="1">
            <a:off x="5634000" y="2214720"/>
            <a:ext cx="760320" cy="51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15"/>
          <p:cNvSpPr/>
          <p:nvPr/>
        </p:nvSpPr>
        <p:spPr>
          <a:xfrm flipH="1">
            <a:off x="5644800" y="1652760"/>
            <a:ext cx="476280" cy="34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6"/>
          <p:cNvSpPr/>
          <p:nvPr/>
        </p:nvSpPr>
        <p:spPr>
          <a:xfrm flipH="1">
            <a:off x="6362280" y="1828800"/>
            <a:ext cx="27324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7"/>
          <p:cNvSpPr/>
          <p:nvPr/>
        </p:nvSpPr>
        <p:spPr>
          <a:xfrm flipH="1">
            <a:off x="6842160" y="4206960"/>
            <a:ext cx="636480" cy="87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18"/>
          <p:cNvGrpSpPr/>
          <p:nvPr/>
        </p:nvGrpSpPr>
        <p:grpSpPr>
          <a:xfrm>
            <a:off x="5337720" y="2605680"/>
            <a:ext cx="1269360" cy="906120"/>
            <a:chOff x="5337720" y="2605680"/>
            <a:chExt cx="1269360" cy="906120"/>
          </a:xfrm>
        </p:grpSpPr>
        <p:grpSp>
          <p:nvGrpSpPr>
            <p:cNvPr id="203" name="Group 19"/>
            <p:cNvGrpSpPr/>
            <p:nvPr/>
          </p:nvGrpSpPr>
          <p:grpSpPr>
            <a:xfrm>
              <a:off x="5337720" y="2605680"/>
              <a:ext cx="1118160" cy="906120"/>
              <a:chOff x="5337720" y="2605680"/>
              <a:chExt cx="1118160" cy="906120"/>
            </a:xfrm>
          </p:grpSpPr>
          <p:sp>
            <p:nvSpPr>
              <p:cNvPr id="204" name="AutoShape 20"/>
              <p:cNvSpPr/>
              <p:nvPr/>
            </p:nvSpPr>
            <p:spPr>
              <a:xfrm rot="1432800">
                <a:off x="5391000" y="2856240"/>
                <a:ext cx="1013040" cy="470520"/>
              </a:xfrm>
              <a:custGeom>
                <a:avLst/>
                <a:gdLst>
                  <a:gd name="textAreaLeft" fmla="*/ 0 w 1013040"/>
                  <a:gd name="textAreaRight" fmla="*/ 1013400 w 1013040"/>
                  <a:gd name="textAreaTop" fmla="*/ 0 h 470520"/>
                  <a:gd name="textAreaBottom" fmla="*/ 470880 h 47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599" y="0"/>
                    </a:lnTo>
                    <a:lnTo>
                      <a:pt x="21599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AutoShape 21"/>
              <p:cNvSpPr/>
              <p:nvPr/>
            </p:nvSpPr>
            <p:spPr>
              <a:xfrm rot="1432800">
                <a:off x="5397120" y="2754360"/>
                <a:ext cx="834840" cy="470520"/>
              </a:xfrm>
              <a:custGeom>
                <a:avLst/>
                <a:gdLst>
                  <a:gd name="textAreaLeft" fmla="*/ 0 w 834840"/>
                  <a:gd name="textAreaRight" fmla="*/ 835200 w 834840"/>
                  <a:gd name="textAreaTop" fmla="*/ 0 h 470520"/>
                  <a:gd name="textAreaBottom" fmla="*/ 470880 h 47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Line 22"/>
            <p:cNvSpPr/>
            <p:nvPr/>
          </p:nvSpPr>
          <p:spPr>
            <a:xfrm>
              <a:off x="6387840" y="3269160"/>
              <a:ext cx="219240" cy="88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AutoShape 23"/>
          <p:cNvSpPr/>
          <p:nvPr/>
        </p:nvSpPr>
        <p:spPr>
          <a:xfrm>
            <a:off x="6996240" y="2241720"/>
            <a:ext cx="2149200" cy="81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Gill Sans MT"/>
              </a:rPr>
              <a:t>fragmentation: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Gill Sans MT"/>
              </a:rPr>
              <a:t>in: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one large data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Gill Sans MT"/>
              </a:rPr>
              <a:t>out: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3 smaller data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24"/>
          <p:cNvSpPr/>
          <p:nvPr/>
        </p:nvSpPr>
        <p:spPr>
          <a:xfrm>
            <a:off x="5864400" y="5176800"/>
            <a:ext cx="28728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Group 25"/>
          <p:cNvGrpSpPr/>
          <p:nvPr/>
        </p:nvGrpSpPr>
        <p:grpSpPr>
          <a:xfrm>
            <a:off x="5781240" y="4348440"/>
            <a:ext cx="713880" cy="565560"/>
            <a:chOff x="5781240" y="4348440"/>
            <a:chExt cx="713880" cy="565560"/>
          </a:xfrm>
        </p:grpSpPr>
        <p:grpSp>
          <p:nvGrpSpPr>
            <p:cNvPr id="210" name="Group 26"/>
            <p:cNvGrpSpPr/>
            <p:nvPr/>
          </p:nvGrpSpPr>
          <p:grpSpPr>
            <a:xfrm>
              <a:off x="6039360" y="4348440"/>
              <a:ext cx="449280" cy="177480"/>
              <a:chOff x="6039360" y="4348440"/>
              <a:chExt cx="449280" cy="177480"/>
            </a:xfrm>
          </p:grpSpPr>
          <p:sp>
            <p:nvSpPr>
              <p:cNvPr id="211" name="AutoShape 27"/>
              <p:cNvSpPr/>
              <p:nvPr/>
            </p:nvSpPr>
            <p:spPr>
              <a:xfrm rot="10826400">
                <a:off x="6039720" y="4349160"/>
                <a:ext cx="229320" cy="173880"/>
              </a:xfrm>
              <a:custGeom>
                <a:avLst/>
                <a:gdLst>
                  <a:gd name="textAreaLeft" fmla="*/ 0 w 229320"/>
                  <a:gd name="textAreaRight" fmla="*/ 229680 w 229320"/>
                  <a:gd name="textAreaTop" fmla="*/ 0 h 173880"/>
                  <a:gd name="textAreaBottom" fmla="*/ 174240 h 17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AutoShape 28"/>
              <p:cNvSpPr/>
              <p:nvPr/>
            </p:nvSpPr>
            <p:spPr>
              <a:xfrm rot="10826400">
                <a:off x="6223320" y="4350960"/>
                <a:ext cx="264240" cy="173880"/>
              </a:xfrm>
              <a:custGeom>
                <a:avLst/>
                <a:gdLst>
                  <a:gd name="textAreaLeft" fmla="*/ 0 w 264240"/>
                  <a:gd name="textAreaRight" fmla="*/ 264240 w 264240"/>
                  <a:gd name="textAreaTop" fmla="*/ 0 h 173880"/>
                  <a:gd name="textAreaBottom" fmla="*/ 174240 h 17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Group 29"/>
            <p:cNvGrpSpPr/>
            <p:nvPr/>
          </p:nvGrpSpPr>
          <p:grpSpPr>
            <a:xfrm>
              <a:off x="6042600" y="4542480"/>
              <a:ext cx="449280" cy="177480"/>
              <a:chOff x="6042600" y="4542480"/>
              <a:chExt cx="449280" cy="177480"/>
            </a:xfrm>
          </p:grpSpPr>
          <p:sp>
            <p:nvSpPr>
              <p:cNvPr id="214" name="AutoShape 30"/>
              <p:cNvSpPr/>
              <p:nvPr/>
            </p:nvSpPr>
            <p:spPr>
              <a:xfrm rot="10826400">
                <a:off x="6042960" y="4543200"/>
                <a:ext cx="229320" cy="173880"/>
              </a:xfrm>
              <a:custGeom>
                <a:avLst/>
                <a:gdLst>
                  <a:gd name="textAreaLeft" fmla="*/ 0 w 229320"/>
                  <a:gd name="textAreaRight" fmla="*/ 229680 w 229320"/>
                  <a:gd name="textAreaTop" fmla="*/ 0 h 173880"/>
                  <a:gd name="textAreaBottom" fmla="*/ 174240 h 17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AutoShape 31"/>
              <p:cNvSpPr/>
              <p:nvPr/>
            </p:nvSpPr>
            <p:spPr>
              <a:xfrm rot="10826400">
                <a:off x="6226560" y="4545000"/>
                <a:ext cx="264240" cy="173880"/>
              </a:xfrm>
              <a:custGeom>
                <a:avLst/>
                <a:gdLst>
                  <a:gd name="textAreaLeft" fmla="*/ 0 w 264240"/>
                  <a:gd name="textAreaRight" fmla="*/ 264240 w 264240"/>
                  <a:gd name="textAreaTop" fmla="*/ 0 h 173880"/>
                  <a:gd name="textAreaBottom" fmla="*/ 174240 h 17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Group 32"/>
            <p:cNvGrpSpPr/>
            <p:nvPr/>
          </p:nvGrpSpPr>
          <p:grpSpPr>
            <a:xfrm>
              <a:off x="6045840" y="4736520"/>
              <a:ext cx="449280" cy="177480"/>
              <a:chOff x="6045840" y="4736520"/>
              <a:chExt cx="449280" cy="177480"/>
            </a:xfrm>
          </p:grpSpPr>
          <p:sp>
            <p:nvSpPr>
              <p:cNvPr id="217" name="AutoShape 33"/>
              <p:cNvSpPr/>
              <p:nvPr/>
            </p:nvSpPr>
            <p:spPr>
              <a:xfrm rot="10826400">
                <a:off x="6046200" y="4737240"/>
                <a:ext cx="229320" cy="173880"/>
              </a:xfrm>
              <a:custGeom>
                <a:avLst/>
                <a:gdLst>
                  <a:gd name="textAreaLeft" fmla="*/ 0 w 229320"/>
                  <a:gd name="textAreaRight" fmla="*/ 229680 w 229320"/>
                  <a:gd name="textAreaTop" fmla="*/ 0 h 173880"/>
                  <a:gd name="textAreaBottom" fmla="*/ 174240 h 17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AutoShape 34"/>
              <p:cNvSpPr/>
              <p:nvPr/>
            </p:nvSpPr>
            <p:spPr>
              <a:xfrm rot="10826400">
                <a:off x="6229800" y="4739040"/>
                <a:ext cx="264240" cy="173880"/>
              </a:xfrm>
              <a:custGeom>
                <a:avLst/>
                <a:gdLst>
                  <a:gd name="textAreaLeft" fmla="*/ 0 w 264240"/>
                  <a:gd name="textAreaRight" fmla="*/ 264240 w 264240"/>
                  <a:gd name="textAreaTop" fmla="*/ 0 h 173880"/>
                  <a:gd name="textAreaBottom" fmla="*/ 174240 h 17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" name="Line 35"/>
            <p:cNvSpPr/>
            <p:nvPr/>
          </p:nvSpPr>
          <p:spPr>
            <a:xfrm flipH="1">
              <a:off x="5790600" y="4442040"/>
              <a:ext cx="2300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36"/>
            <p:cNvSpPr/>
            <p:nvPr/>
          </p:nvSpPr>
          <p:spPr>
            <a:xfrm flipH="1">
              <a:off x="5781240" y="4617360"/>
              <a:ext cx="2300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37"/>
            <p:cNvSpPr/>
            <p:nvPr/>
          </p:nvSpPr>
          <p:spPr>
            <a:xfrm flipH="1">
              <a:off x="5784120" y="4824360"/>
              <a:ext cx="2300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Group 38"/>
          <p:cNvGrpSpPr/>
          <p:nvPr/>
        </p:nvGrpSpPr>
        <p:grpSpPr>
          <a:xfrm>
            <a:off x="4662000" y="3870360"/>
            <a:ext cx="1286280" cy="493200"/>
            <a:chOff x="4662000" y="3870360"/>
            <a:chExt cx="1286280" cy="493200"/>
          </a:xfrm>
        </p:grpSpPr>
        <p:grpSp>
          <p:nvGrpSpPr>
            <p:cNvPr id="223" name="Group 39"/>
            <p:cNvGrpSpPr/>
            <p:nvPr/>
          </p:nvGrpSpPr>
          <p:grpSpPr>
            <a:xfrm>
              <a:off x="4662000" y="4185000"/>
              <a:ext cx="1286280" cy="178560"/>
              <a:chOff x="4662000" y="4185000"/>
              <a:chExt cx="1286280" cy="178560"/>
            </a:xfrm>
          </p:grpSpPr>
          <p:grpSp>
            <p:nvGrpSpPr>
              <p:cNvPr id="224" name="Group 40"/>
              <p:cNvGrpSpPr/>
              <p:nvPr/>
            </p:nvGrpSpPr>
            <p:grpSpPr>
              <a:xfrm>
                <a:off x="4916520" y="4185000"/>
                <a:ext cx="1031760" cy="178560"/>
                <a:chOff x="4916520" y="4185000"/>
                <a:chExt cx="1031760" cy="178560"/>
              </a:xfrm>
            </p:grpSpPr>
            <p:sp>
              <p:nvSpPr>
                <p:cNvPr id="225" name="AutoShape 41"/>
                <p:cNvSpPr/>
                <p:nvPr/>
              </p:nvSpPr>
              <p:spPr>
                <a:xfrm rot="10792800">
                  <a:off x="4916520" y="4187520"/>
                  <a:ext cx="1031400" cy="174960"/>
                </a:xfrm>
                <a:custGeom>
                  <a:avLst/>
                  <a:gdLst>
                    <a:gd name="textAreaLeft" fmla="*/ 0 w 1031400"/>
                    <a:gd name="textAreaRight" fmla="*/ 1031760 w 1031400"/>
                    <a:gd name="textAreaTop" fmla="*/ 0 h 174960"/>
                    <a:gd name="textAreaBottom" fmla="*/ 175320 h 174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599" y="0"/>
                      </a:lnTo>
                      <a:lnTo>
                        <a:pt x="21599" y="21599"/>
                      </a:lnTo>
                      <a:lnTo>
                        <a:pt x="0" y="2159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AutoShape 42"/>
                <p:cNvSpPr/>
                <p:nvPr/>
              </p:nvSpPr>
              <p:spPr>
                <a:xfrm rot="10792800">
                  <a:off x="5096160" y="4185720"/>
                  <a:ext cx="849960" cy="174960"/>
                </a:xfrm>
                <a:custGeom>
                  <a:avLst/>
                  <a:gdLst>
                    <a:gd name="textAreaLeft" fmla="*/ 0 w 849960"/>
                    <a:gd name="textAreaRight" fmla="*/ 850320 w 849960"/>
                    <a:gd name="textAreaTop" fmla="*/ 0 h 174960"/>
                    <a:gd name="textAreaBottom" fmla="*/ 175320 h 174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1600" y="21599"/>
                      </a:lnTo>
                      <a:lnTo>
                        <a:pt x="0" y="2159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Line 43"/>
              <p:cNvSpPr/>
              <p:nvPr/>
            </p:nvSpPr>
            <p:spPr>
              <a:xfrm flipH="1">
                <a:off x="4662000" y="4264560"/>
                <a:ext cx="23004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AutoShape 44"/>
            <p:cNvSpPr/>
            <p:nvPr/>
          </p:nvSpPr>
          <p:spPr>
            <a:xfrm>
              <a:off x="4840920" y="3870360"/>
              <a:ext cx="943920" cy="333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Gill Sans MT"/>
                </a:rPr>
                <a:t>reassemb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9" name="Picture 45" descr="underline_base"/>
          <p:cNvPicPr/>
          <p:nvPr/>
        </p:nvPicPr>
        <p:blipFill>
          <a:blip r:embed="rId1"/>
          <a:stretch/>
        </p:blipFill>
        <p:spPr>
          <a:xfrm>
            <a:off x="961920" y="880920"/>
            <a:ext cx="6856560" cy="17316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46"/>
          <p:cNvGrpSpPr/>
          <p:nvPr/>
        </p:nvGrpSpPr>
        <p:grpSpPr>
          <a:xfrm>
            <a:off x="4230720" y="1708200"/>
            <a:ext cx="838080" cy="1720800"/>
            <a:chOff x="4230720" y="1708200"/>
            <a:chExt cx="838080" cy="1720800"/>
          </a:xfrm>
        </p:grpSpPr>
        <p:sp>
          <p:nvSpPr>
            <p:cNvPr id="231" name="Line 47"/>
            <p:cNvSpPr/>
            <p:nvPr/>
          </p:nvSpPr>
          <p:spPr>
            <a:xfrm flipV="1">
              <a:off x="4970520" y="2214360"/>
              <a:ext cx="9828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8"/>
            <p:cNvSpPr/>
            <p:nvPr/>
          </p:nvSpPr>
          <p:spPr>
            <a:xfrm flipV="1">
              <a:off x="4970520" y="3021120"/>
              <a:ext cx="9828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9"/>
            <p:cNvSpPr/>
            <p:nvPr/>
          </p:nvSpPr>
          <p:spPr>
            <a:xfrm>
              <a:off x="5060880" y="2209680"/>
              <a:ext cx="0" cy="80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" name="Group 50"/>
            <p:cNvGrpSpPr/>
            <p:nvPr/>
          </p:nvGrpSpPr>
          <p:grpSpPr>
            <a:xfrm>
              <a:off x="4230720" y="1708200"/>
              <a:ext cx="798480" cy="704880"/>
              <a:chOff x="4230720" y="1708200"/>
              <a:chExt cx="798480" cy="704880"/>
            </a:xfrm>
          </p:grpSpPr>
          <p:pic>
            <p:nvPicPr>
              <p:cNvPr id="235" name="Picture 51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4230720" y="1708200"/>
                <a:ext cx="7984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AutoShape 52"/>
              <p:cNvSpPr/>
              <p:nvPr/>
            </p:nvSpPr>
            <p:spPr>
              <a:xfrm flipH="1">
                <a:off x="4570920" y="1775520"/>
                <a:ext cx="388080" cy="322920"/>
              </a:xfrm>
              <a:custGeom>
                <a:avLst/>
                <a:gdLst>
                  <a:gd name="textAreaLeft" fmla="*/ 360 w 388080"/>
                  <a:gd name="textAreaRight" fmla="*/ 388800 w 388080"/>
                  <a:gd name="textAreaTop" fmla="*/ 0 h 322920"/>
                  <a:gd name="textAreaBottom" fmla="*/ 323280 h 32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202" y="821"/>
                    </a:lnTo>
                    <a:lnTo>
                      <a:pt x="21600" y="17256"/>
                    </a:lnTo>
                    <a:lnTo>
                      <a:pt x="4732" y="2160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AutoShape 53"/>
            <p:cNvSpPr/>
            <p:nvPr/>
          </p:nvSpPr>
          <p:spPr>
            <a:xfrm rot="5400000">
              <a:off x="4567320" y="2265480"/>
              <a:ext cx="459720" cy="497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Group 54"/>
            <p:cNvGrpSpPr/>
            <p:nvPr/>
          </p:nvGrpSpPr>
          <p:grpSpPr>
            <a:xfrm>
              <a:off x="4249440" y="2724120"/>
              <a:ext cx="798480" cy="704880"/>
              <a:chOff x="4249440" y="2724120"/>
              <a:chExt cx="798480" cy="704880"/>
            </a:xfrm>
          </p:grpSpPr>
          <p:pic>
            <p:nvPicPr>
              <p:cNvPr id="239" name="Picture 55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4249440" y="2724120"/>
                <a:ext cx="7984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AutoShape 56"/>
              <p:cNvSpPr/>
              <p:nvPr/>
            </p:nvSpPr>
            <p:spPr>
              <a:xfrm flipH="1">
                <a:off x="4589640" y="2791440"/>
                <a:ext cx="388080" cy="322920"/>
              </a:xfrm>
              <a:custGeom>
                <a:avLst/>
                <a:gdLst>
                  <a:gd name="textAreaLeft" fmla="*/ 360 w 388080"/>
                  <a:gd name="textAreaRight" fmla="*/ 388800 w 388080"/>
                  <a:gd name="textAreaTop" fmla="*/ 0 h 322920"/>
                  <a:gd name="textAreaBottom" fmla="*/ 323280 h 32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202" y="821"/>
                    </a:lnTo>
                    <a:lnTo>
                      <a:pt x="21600" y="17256"/>
                    </a:lnTo>
                    <a:lnTo>
                      <a:pt x="4732" y="2160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Group 57"/>
          <p:cNvGrpSpPr/>
          <p:nvPr/>
        </p:nvGrpSpPr>
        <p:grpSpPr>
          <a:xfrm>
            <a:off x="6351480" y="2895480"/>
            <a:ext cx="698760" cy="355680"/>
            <a:chOff x="6351480" y="2895480"/>
            <a:chExt cx="698760" cy="355680"/>
          </a:xfrm>
        </p:grpSpPr>
        <p:sp>
          <p:nvSpPr>
            <p:cNvPr id="242" name="AutoShape 58"/>
            <p:cNvSpPr/>
            <p:nvPr/>
          </p:nvSpPr>
          <p:spPr>
            <a:xfrm>
              <a:off x="6354360" y="3053160"/>
              <a:ext cx="692640" cy="198000"/>
            </a:xfrm>
            <a:custGeom>
              <a:avLst/>
              <a:gdLst>
                <a:gd name="textAreaLeft" fmla="*/ 0 w 692640"/>
                <a:gd name="textAreaRight" fmla="*/ 693000 w 69264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AutoShape 59"/>
            <p:cNvSpPr/>
            <p:nvPr/>
          </p:nvSpPr>
          <p:spPr>
            <a:xfrm>
              <a:off x="6354360" y="3030120"/>
              <a:ext cx="695880" cy="123120"/>
            </a:xfrm>
            <a:custGeom>
              <a:avLst/>
              <a:gdLst>
                <a:gd name="textAreaLeft" fmla="*/ 0 w 695880"/>
                <a:gd name="textAreaRight" fmla="*/ 696240 w 69588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AutoShape 60"/>
            <p:cNvSpPr/>
            <p:nvPr/>
          </p:nvSpPr>
          <p:spPr>
            <a:xfrm>
              <a:off x="6351480" y="2895480"/>
              <a:ext cx="693720" cy="232560"/>
            </a:xfrm>
            <a:custGeom>
              <a:avLst/>
              <a:gdLst>
                <a:gd name="textAreaLeft" fmla="*/ 0 w 693720"/>
                <a:gd name="textAreaRight" fmla="*/ 694080 w 6937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Group 61"/>
            <p:cNvGrpSpPr/>
            <p:nvPr/>
          </p:nvGrpSpPr>
          <p:grpSpPr>
            <a:xfrm>
              <a:off x="6490800" y="2955600"/>
              <a:ext cx="392040" cy="107640"/>
              <a:chOff x="6490800" y="2955600"/>
              <a:chExt cx="392040" cy="107640"/>
            </a:xfrm>
          </p:grpSpPr>
          <p:sp>
            <p:nvSpPr>
              <p:cNvPr id="246" name="AutoShape 62"/>
              <p:cNvSpPr/>
              <p:nvPr/>
            </p:nvSpPr>
            <p:spPr>
              <a:xfrm>
                <a:off x="6490800" y="2955600"/>
                <a:ext cx="392040" cy="10764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6689" y="21600"/>
                    </a:lnTo>
                    <a:lnTo>
                      <a:pt x="13378" y="0"/>
                    </a:lnTo>
                    <a:lnTo>
                      <a:pt x="2159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AutoShape 63"/>
              <p:cNvSpPr/>
              <p:nvPr/>
            </p:nvSpPr>
            <p:spPr>
              <a:xfrm>
                <a:off x="6508440" y="2955600"/>
                <a:ext cx="356760" cy="107640"/>
              </a:xfrm>
              <a:custGeom>
                <a:avLst/>
                <a:gdLst>
                  <a:gd name="textAreaLeft" fmla="*/ 0 w 356760"/>
                  <a:gd name="textAreaRight" fmla="*/ 357120 w 3567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7353" y="0"/>
                    </a:lnTo>
                    <a:lnTo>
                      <a:pt x="14706" y="21600"/>
                    </a:lnTo>
                    <a:lnTo>
                      <a:pt x="216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Line 64"/>
            <p:cNvSpPr/>
            <p:nvPr/>
          </p:nvSpPr>
          <p:spPr>
            <a:xfrm>
              <a:off x="6354360" y="3004560"/>
              <a:ext cx="0" cy="15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5"/>
            <p:cNvSpPr/>
            <p:nvPr/>
          </p:nvSpPr>
          <p:spPr>
            <a:xfrm>
              <a:off x="7045200" y="3011760"/>
              <a:ext cx="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Group 66"/>
          <p:cNvGrpSpPr/>
          <p:nvPr/>
        </p:nvGrpSpPr>
        <p:grpSpPr>
          <a:xfrm>
            <a:off x="5138640" y="1790640"/>
            <a:ext cx="698760" cy="355680"/>
            <a:chOff x="5138640" y="1790640"/>
            <a:chExt cx="698760" cy="355680"/>
          </a:xfrm>
        </p:grpSpPr>
        <p:sp>
          <p:nvSpPr>
            <p:cNvPr id="251" name="AutoShape 67"/>
            <p:cNvSpPr/>
            <p:nvPr/>
          </p:nvSpPr>
          <p:spPr>
            <a:xfrm>
              <a:off x="5141520" y="1948320"/>
              <a:ext cx="692640" cy="198000"/>
            </a:xfrm>
            <a:custGeom>
              <a:avLst/>
              <a:gdLst>
                <a:gd name="textAreaLeft" fmla="*/ 0 w 692640"/>
                <a:gd name="textAreaRight" fmla="*/ 693000 w 69264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AutoShape 68"/>
            <p:cNvSpPr/>
            <p:nvPr/>
          </p:nvSpPr>
          <p:spPr>
            <a:xfrm>
              <a:off x="5141520" y="1925280"/>
              <a:ext cx="695880" cy="123120"/>
            </a:xfrm>
            <a:custGeom>
              <a:avLst/>
              <a:gdLst>
                <a:gd name="textAreaLeft" fmla="*/ 0 w 695880"/>
                <a:gd name="textAreaRight" fmla="*/ 696240 w 69588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AutoShape 69"/>
            <p:cNvSpPr/>
            <p:nvPr/>
          </p:nvSpPr>
          <p:spPr>
            <a:xfrm>
              <a:off x="5138640" y="1790640"/>
              <a:ext cx="693720" cy="232560"/>
            </a:xfrm>
            <a:custGeom>
              <a:avLst/>
              <a:gdLst>
                <a:gd name="textAreaLeft" fmla="*/ 0 w 693720"/>
                <a:gd name="textAreaRight" fmla="*/ 694080 w 6937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Group 70"/>
            <p:cNvGrpSpPr/>
            <p:nvPr/>
          </p:nvGrpSpPr>
          <p:grpSpPr>
            <a:xfrm>
              <a:off x="5277960" y="1850760"/>
              <a:ext cx="392040" cy="107640"/>
              <a:chOff x="5277960" y="1850760"/>
              <a:chExt cx="392040" cy="107640"/>
            </a:xfrm>
          </p:grpSpPr>
          <p:sp>
            <p:nvSpPr>
              <p:cNvPr id="255" name="AutoShape 71"/>
              <p:cNvSpPr/>
              <p:nvPr/>
            </p:nvSpPr>
            <p:spPr>
              <a:xfrm>
                <a:off x="5277960" y="1850760"/>
                <a:ext cx="392040" cy="10764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6689" y="21600"/>
                    </a:lnTo>
                    <a:lnTo>
                      <a:pt x="13378" y="0"/>
                    </a:lnTo>
                    <a:lnTo>
                      <a:pt x="2159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AutoShape 72"/>
              <p:cNvSpPr/>
              <p:nvPr/>
            </p:nvSpPr>
            <p:spPr>
              <a:xfrm>
                <a:off x="5295600" y="1850760"/>
                <a:ext cx="356760" cy="107640"/>
              </a:xfrm>
              <a:custGeom>
                <a:avLst/>
                <a:gdLst>
                  <a:gd name="textAreaLeft" fmla="*/ 0 w 356760"/>
                  <a:gd name="textAreaRight" fmla="*/ 357120 w 3567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7353" y="0"/>
                    </a:lnTo>
                    <a:lnTo>
                      <a:pt x="14706" y="21600"/>
                    </a:lnTo>
                    <a:lnTo>
                      <a:pt x="216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Line 73"/>
            <p:cNvSpPr/>
            <p:nvPr/>
          </p:nvSpPr>
          <p:spPr>
            <a:xfrm>
              <a:off x="5141520" y="1899720"/>
              <a:ext cx="0" cy="15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4"/>
            <p:cNvSpPr/>
            <p:nvPr/>
          </p:nvSpPr>
          <p:spPr>
            <a:xfrm>
              <a:off x="5832360" y="1906920"/>
              <a:ext cx="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75"/>
          <p:cNvGrpSpPr/>
          <p:nvPr/>
        </p:nvGrpSpPr>
        <p:grpSpPr>
          <a:xfrm>
            <a:off x="5145120" y="2425680"/>
            <a:ext cx="698400" cy="355680"/>
            <a:chOff x="5145120" y="2425680"/>
            <a:chExt cx="698400" cy="355680"/>
          </a:xfrm>
        </p:grpSpPr>
        <p:sp>
          <p:nvSpPr>
            <p:cNvPr id="260" name="AutoShape 76"/>
            <p:cNvSpPr/>
            <p:nvPr/>
          </p:nvSpPr>
          <p:spPr>
            <a:xfrm>
              <a:off x="5148000" y="2583360"/>
              <a:ext cx="692280" cy="198000"/>
            </a:xfrm>
            <a:custGeom>
              <a:avLst/>
              <a:gdLst>
                <a:gd name="textAreaLeft" fmla="*/ 0 w 692280"/>
                <a:gd name="textAreaRight" fmla="*/ 692640 w 69228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AutoShape 77"/>
            <p:cNvSpPr/>
            <p:nvPr/>
          </p:nvSpPr>
          <p:spPr>
            <a:xfrm>
              <a:off x="5148000" y="2560320"/>
              <a:ext cx="695520" cy="123120"/>
            </a:xfrm>
            <a:custGeom>
              <a:avLst/>
              <a:gdLst>
                <a:gd name="textAreaLeft" fmla="*/ 0 w 695520"/>
                <a:gd name="textAreaRight" fmla="*/ 695880 w 69552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AutoShape 78"/>
            <p:cNvSpPr/>
            <p:nvPr/>
          </p:nvSpPr>
          <p:spPr>
            <a:xfrm>
              <a:off x="5145120" y="2425680"/>
              <a:ext cx="693360" cy="23256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Group 79"/>
            <p:cNvGrpSpPr/>
            <p:nvPr/>
          </p:nvGrpSpPr>
          <p:grpSpPr>
            <a:xfrm>
              <a:off x="5284440" y="2485800"/>
              <a:ext cx="391680" cy="107640"/>
              <a:chOff x="5284440" y="2485800"/>
              <a:chExt cx="391680" cy="107640"/>
            </a:xfrm>
          </p:grpSpPr>
          <p:sp>
            <p:nvSpPr>
              <p:cNvPr id="264" name="AutoShape 80"/>
              <p:cNvSpPr/>
              <p:nvPr/>
            </p:nvSpPr>
            <p:spPr>
              <a:xfrm>
                <a:off x="5284440" y="2485800"/>
                <a:ext cx="391680" cy="10764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6689" y="21600"/>
                    </a:lnTo>
                    <a:lnTo>
                      <a:pt x="13378" y="0"/>
                    </a:lnTo>
                    <a:lnTo>
                      <a:pt x="2159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AutoShape 81"/>
              <p:cNvSpPr/>
              <p:nvPr/>
            </p:nvSpPr>
            <p:spPr>
              <a:xfrm>
                <a:off x="5302080" y="2485800"/>
                <a:ext cx="356400" cy="10764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7353" y="0"/>
                    </a:lnTo>
                    <a:lnTo>
                      <a:pt x="14706" y="21600"/>
                    </a:lnTo>
                    <a:lnTo>
                      <a:pt x="216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Line 82"/>
            <p:cNvSpPr/>
            <p:nvPr/>
          </p:nvSpPr>
          <p:spPr>
            <a:xfrm>
              <a:off x="5148000" y="2534760"/>
              <a:ext cx="0" cy="15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83"/>
            <p:cNvSpPr/>
            <p:nvPr/>
          </p:nvSpPr>
          <p:spPr>
            <a:xfrm>
              <a:off x="5838480" y="2541960"/>
              <a:ext cx="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Group 84"/>
          <p:cNvGrpSpPr/>
          <p:nvPr/>
        </p:nvGrpSpPr>
        <p:grpSpPr>
          <a:xfrm>
            <a:off x="5977080" y="2000160"/>
            <a:ext cx="698400" cy="355680"/>
            <a:chOff x="5977080" y="2000160"/>
            <a:chExt cx="698400" cy="355680"/>
          </a:xfrm>
        </p:grpSpPr>
        <p:sp>
          <p:nvSpPr>
            <p:cNvPr id="269" name="AutoShape 85"/>
            <p:cNvSpPr/>
            <p:nvPr/>
          </p:nvSpPr>
          <p:spPr>
            <a:xfrm>
              <a:off x="5979960" y="2157840"/>
              <a:ext cx="692280" cy="198000"/>
            </a:xfrm>
            <a:custGeom>
              <a:avLst/>
              <a:gdLst>
                <a:gd name="textAreaLeft" fmla="*/ 0 w 692280"/>
                <a:gd name="textAreaRight" fmla="*/ 692640 w 69228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AutoShape 86"/>
            <p:cNvSpPr/>
            <p:nvPr/>
          </p:nvSpPr>
          <p:spPr>
            <a:xfrm>
              <a:off x="5979960" y="2134800"/>
              <a:ext cx="695520" cy="123120"/>
            </a:xfrm>
            <a:custGeom>
              <a:avLst/>
              <a:gdLst>
                <a:gd name="textAreaLeft" fmla="*/ 0 w 695520"/>
                <a:gd name="textAreaRight" fmla="*/ 695880 w 69552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AutoShape 87"/>
            <p:cNvSpPr/>
            <p:nvPr/>
          </p:nvSpPr>
          <p:spPr>
            <a:xfrm>
              <a:off x="5977080" y="2000160"/>
              <a:ext cx="693360" cy="23256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Group 88"/>
            <p:cNvGrpSpPr/>
            <p:nvPr/>
          </p:nvGrpSpPr>
          <p:grpSpPr>
            <a:xfrm>
              <a:off x="6116400" y="2060280"/>
              <a:ext cx="391680" cy="107640"/>
              <a:chOff x="6116400" y="2060280"/>
              <a:chExt cx="391680" cy="107640"/>
            </a:xfrm>
          </p:grpSpPr>
          <p:sp>
            <p:nvSpPr>
              <p:cNvPr id="273" name="AutoShape 89"/>
              <p:cNvSpPr/>
              <p:nvPr/>
            </p:nvSpPr>
            <p:spPr>
              <a:xfrm>
                <a:off x="6116400" y="2060280"/>
                <a:ext cx="391680" cy="10764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6689" y="21600"/>
                    </a:lnTo>
                    <a:lnTo>
                      <a:pt x="13378" y="0"/>
                    </a:lnTo>
                    <a:lnTo>
                      <a:pt x="2159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AutoShape 90"/>
              <p:cNvSpPr/>
              <p:nvPr/>
            </p:nvSpPr>
            <p:spPr>
              <a:xfrm>
                <a:off x="6134040" y="2060280"/>
                <a:ext cx="356400" cy="10764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7353" y="0"/>
                    </a:lnTo>
                    <a:lnTo>
                      <a:pt x="14706" y="21600"/>
                    </a:lnTo>
                    <a:lnTo>
                      <a:pt x="216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Line 91"/>
            <p:cNvSpPr/>
            <p:nvPr/>
          </p:nvSpPr>
          <p:spPr>
            <a:xfrm>
              <a:off x="5979960" y="2109240"/>
              <a:ext cx="0" cy="15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92"/>
            <p:cNvSpPr/>
            <p:nvPr/>
          </p:nvSpPr>
          <p:spPr>
            <a:xfrm>
              <a:off x="6670440" y="2116440"/>
              <a:ext cx="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Group 93"/>
          <p:cNvGrpSpPr/>
          <p:nvPr/>
        </p:nvGrpSpPr>
        <p:grpSpPr>
          <a:xfrm>
            <a:off x="6627960" y="3053160"/>
            <a:ext cx="1207800" cy="850680"/>
            <a:chOff x="6627960" y="3053160"/>
            <a:chExt cx="1207800" cy="850680"/>
          </a:xfrm>
        </p:grpSpPr>
        <p:grpSp>
          <p:nvGrpSpPr>
            <p:cNvPr id="278" name="Group 94"/>
            <p:cNvGrpSpPr/>
            <p:nvPr/>
          </p:nvGrpSpPr>
          <p:grpSpPr>
            <a:xfrm>
              <a:off x="6627960" y="3053160"/>
              <a:ext cx="507240" cy="552240"/>
              <a:chOff x="6627960" y="3053160"/>
              <a:chExt cx="507240" cy="552240"/>
            </a:xfrm>
          </p:grpSpPr>
          <p:sp>
            <p:nvSpPr>
              <p:cNvPr id="279" name="AutoShape 95"/>
              <p:cNvSpPr/>
              <p:nvPr/>
            </p:nvSpPr>
            <p:spPr>
              <a:xfrm rot="3346800">
                <a:off x="6835320" y="3313080"/>
                <a:ext cx="257760" cy="237240"/>
              </a:xfrm>
              <a:custGeom>
                <a:avLst/>
                <a:gdLst>
                  <a:gd name="textAreaLeft" fmla="*/ 0 w 257760"/>
                  <a:gd name="textAreaRight" fmla="*/ 258120 w 25776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AutoShape 96"/>
              <p:cNvSpPr/>
              <p:nvPr/>
            </p:nvSpPr>
            <p:spPr>
              <a:xfrm rot="3346800">
                <a:off x="6660720" y="3124080"/>
                <a:ext cx="297360" cy="237240"/>
              </a:xfrm>
              <a:custGeom>
                <a:avLst/>
                <a:gdLst>
                  <a:gd name="textAreaLeft" fmla="*/ 0 w 297360"/>
                  <a:gd name="textAreaRight" fmla="*/ 297720 w 29736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Group 97"/>
            <p:cNvGrpSpPr/>
            <p:nvPr/>
          </p:nvGrpSpPr>
          <p:grpSpPr>
            <a:xfrm>
              <a:off x="6937560" y="3158280"/>
              <a:ext cx="522360" cy="547920"/>
              <a:chOff x="6937560" y="3158280"/>
              <a:chExt cx="522360" cy="547920"/>
            </a:xfrm>
          </p:grpSpPr>
          <p:sp>
            <p:nvSpPr>
              <p:cNvPr id="282" name="AutoShape 98"/>
              <p:cNvSpPr/>
              <p:nvPr/>
            </p:nvSpPr>
            <p:spPr>
              <a:xfrm rot="3214800">
                <a:off x="7158240" y="3412800"/>
                <a:ext cx="258120" cy="237600"/>
              </a:xfrm>
              <a:custGeom>
                <a:avLst/>
                <a:gdLst>
                  <a:gd name="textAreaLeft" fmla="*/ 0 w 258120"/>
                  <a:gd name="textAreaRight" fmla="*/ 258120 w 258120"/>
                  <a:gd name="textAreaTop" fmla="*/ 0 h 237600"/>
                  <a:gd name="textAreaBottom" fmla="*/ 237960 h 237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AutoShape 99"/>
              <p:cNvSpPr/>
              <p:nvPr/>
            </p:nvSpPr>
            <p:spPr>
              <a:xfrm rot="3214800">
                <a:off x="6972480" y="3229560"/>
                <a:ext cx="297720" cy="237600"/>
              </a:xfrm>
              <a:custGeom>
                <a:avLst/>
                <a:gdLst>
                  <a:gd name="textAreaLeft" fmla="*/ 0 w 297720"/>
                  <a:gd name="textAreaRight" fmla="*/ 297720 w 297720"/>
                  <a:gd name="textAreaTop" fmla="*/ 0 h 237600"/>
                  <a:gd name="textAreaBottom" fmla="*/ 237960 h 237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Group 100"/>
            <p:cNvGrpSpPr/>
            <p:nvPr/>
          </p:nvGrpSpPr>
          <p:grpSpPr>
            <a:xfrm>
              <a:off x="7282800" y="3282840"/>
              <a:ext cx="536400" cy="541440"/>
              <a:chOff x="7282800" y="3282840"/>
              <a:chExt cx="536400" cy="541440"/>
            </a:xfrm>
          </p:grpSpPr>
          <p:sp>
            <p:nvSpPr>
              <p:cNvPr id="285" name="AutoShape 101"/>
              <p:cNvSpPr/>
              <p:nvPr/>
            </p:nvSpPr>
            <p:spPr>
              <a:xfrm rot="3051600">
                <a:off x="7515720" y="3529080"/>
                <a:ext cx="258120" cy="238680"/>
              </a:xfrm>
              <a:custGeom>
                <a:avLst/>
                <a:gdLst>
                  <a:gd name="textAreaLeft" fmla="*/ 0 w 258120"/>
                  <a:gd name="textAreaRight" fmla="*/ 258120 w 258120"/>
                  <a:gd name="textAreaTop" fmla="*/ 0 h 238680"/>
                  <a:gd name="textAreaBottom" fmla="*/ 239040 h 238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AutoShape 102"/>
              <p:cNvSpPr/>
              <p:nvPr/>
            </p:nvSpPr>
            <p:spPr>
              <a:xfrm rot="3051600">
                <a:off x="7320240" y="3354120"/>
                <a:ext cx="297720" cy="238680"/>
              </a:xfrm>
              <a:custGeom>
                <a:avLst/>
                <a:gdLst>
                  <a:gd name="textAreaLeft" fmla="*/ 0 w 297720"/>
                  <a:gd name="textAreaRight" fmla="*/ 297720 w 297720"/>
                  <a:gd name="textAreaTop" fmla="*/ 0 h 238680"/>
                  <a:gd name="textAreaBottom" fmla="*/ 239040 h 238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Line 103"/>
            <p:cNvSpPr/>
            <p:nvPr/>
          </p:nvSpPr>
          <p:spPr>
            <a:xfrm>
              <a:off x="7022880" y="3517200"/>
              <a:ext cx="133200" cy="177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4"/>
            <p:cNvSpPr/>
            <p:nvPr/>
          </p:nvSpPr>
          <p:spPr>
            <a:xfrm>
              <a:off x="7346880" y="3615480"/>
              <a:ext cx="129960" cy="177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105"/>
            <p:cNvSpPr/>
            <p:nvPr/>
          </p:nvSpPr>
          <p:spPr>
            <a:xfrm>
              <a:off x="7715160" y="3729600"/>
              <a:ext cx="120600" cy="174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Group 106"/>
          <p:cNvGrpSpPr/>
          <p:nvPr/>
        </p:nvGrpSpPr>
        <p:grpSpPr>
          <a:xfrm>
            <a:off x="7075440" y="3886200"/>
            <a:ext cx="698400" cy="355680"/>
            <a:chOff x="7075440" y="3886200"/>
            <a:chExt cx="698400" cy="355680"/>
          </a:xfrm>
        </p:grpSpPr>
        <p:sp>
          <p:nvSpPr>
            <p:cNvPr id="291" name="AutoShape 107"/>
            <p:cNvSpPr/>
            <p:nvPr/>
          </p:nvSpPr>
          <p:spPr>
            <a:xfrm>
              <a:off x="7078320" y="4043880"/>
              <a:ext cx="692280" cy="198000"/>
            </a:xfrm>
            <a:custGeom>
              <a:avLst/>
              <a:gdLst>
                <a:gd name="textAreaLeft" fmla="*/ 0 w 692280"/>
                <a:gd name="textAreaRight" fmla="*/ 692640 w 69228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AutoShape 108"/>
            <p:cNvSpPr/>
            <p:nvPr/>
          </p:nvSpPr>
          <p:spPr>
            <a:xfrm>
              <a:off x="7078320" y="4020840"/>
              <a:ext cx="695520" cy="123120"/>
            </a:xfrm>
            <a:custGeom>
              <a:avLst/>
              <a:gdLst>
                <a:gd name="textAreaLeft" fmla="*/ 0 w 695520"/>
                <a:gd name="textAreaRight" fmla="*/ 695880 w 69552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AutoShape 109"/>
            <p:cNvSpPr/>
            <p:nvPr/>
          </p:nvSpPr>
          <p:spPr>
            <a:xfrm>
              <a:off x="7075440" y="3886200"/>
              <a:ext cx="693360" cy="23256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Group 110"/>
            <p:cNvGrpSpPr/>
            <p:nvPr/>
          </p:nvGrpSpPr>
          <p:grpSpPr>
            <a:xfrm>
              <a:off x="7214760" y="3946320"/>
              <a:ext cx="391680" cy="107640"/>
              <a:chOff x="7214760" y="3946320"/>
              <a:chExt cx="391680" cy="107640"/>
            </a:xfrm>
          </p:grpSpPr>
          <p:sp>
            <p:nvSpPr>
              <p:cNvPr id="295" name="AutoShape 111"/>
              <p:cNvSpPr/>
              <p:nvPr/>
            </p:nvSpPr>
            <p:spPr>
              <a:xfrm>
                <a:off x="7214760" y="3946320"/>
                <a:ext cx="391680" cy="10764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6689" y="21600"/>
                    </a:lnTo>
                    <a:lnTo>
                      <a:pt x="13378" y="0"/>
                    </a:lnTo>
                    <a:lnTo>
                      <a:pt x="2159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AutoShape 112"/>
              <p:cNvSpPr/>
              <p:nvPr/>
            </p:nvSpPr>
            <p:spPr>
              <a:xfrm>
                <a:off x="7232400" y="3946320"/>
                <a:ext cx="356400" cy="10764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7353" y="0"/>
                    </a:lnTo>
                    <a:lnTo>
                      <a:pt x="14706" y="21600"/>
                    </a:lnTo>
                    <a:lnTo>
                      <a:pt x="216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Line 113"/>
            <p:cNvSpPr/>
            <p:nvPr/>
          </p:nvSpPr>
          <p:spPr>
            <a:xfrm>
              <a:off x="7078320" y="3995280"/>
              <a:ext cx="0" cy="15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114"/>
            <p:cNvSpPr/>
            <p:nvPr/>
          </p:nvSpPr>
          <p:spPr>
            <a:xfrm>
              <a:off x="7768800" y="4002480"/>
              <a:ext cx="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Group 115"/>
          <p:cNvGrpSpPr/>
          <p:nvPr/>
        </p:nvGrpSpPr>
        <p:grpSpPr>
          <a:xfrm>
            <a:off x="6172200" y="4954680"/>
            <a:ext cx="698400" cy="355680"/>
            <a:chOff x="6172200" y="4954680"/>
            <a:chExt cx="698400" cy="355680"/>
          </a:xfrm>
        </p:grpSpPr>
        <p:sp>
          <p:nvSpPr>
            <p:cNvPr id="300" name="AutoShape 116"/>
            <p:cNvSpPr/>
            <p:nvPr/>
          </p:nvSpPr>
          <p:spPr>
            <a:xfrm>
              <a:off x="6175080" y="5112360"/>
              <a:ext cx="692280" cy="198000"/>
            </a:xfrm>
            <a:custGeom>
              <a:avLst/>
              <a:gdLst>
                <a:gd name="textAreaLeft" fmla="*/ 0 w 692280"/>
                <a:gd name="textAreaRight" fmla="*/ 692640 w 69228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AutoShape 117"/>
            <p:cNvSpPr/>
            <p:nvPr/>
          </p:nvSpPr>
          <p:spPr>
            <a:xfrm>
              <a:off x="6175080" y="5089320"/>
              <a:ext cx="695520" cy="123120"/>
            </a:xfrm>
            <a:custGeom>
              <a:avLst/>
              <a:gdLst>
                <a:gd name="textAreaLeft" fmla="*/ 0 w 695520"/>
                <a:gd name="textAreaRight" fmla="*/ 695880 w 69552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AutoShape 118"/>
            <p:cNvSpPr/>
            <p:nvPr/>
          </p:nvSpPr>
          <p:spPr>
            <a:xfrm>
              <a:off x="6172200" y="4954680"/>
              <a:ext cx="693360" cy="23256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Group 119"/>
            <p:cNvGrpSpPr/>
            <p:nvPr/>
          </p:nvGrpSpPr>
          <p:grpSpPr>
            <a:xfrm>
              <a:off x="6311520" y="5014800"/>
              <a:ext cx="391680" cy="107640"/>
              <a:chOff x="6311520" y="5014800"/>
              <a:chExt cx="391680" cy="107640"/>
            </a:xfrm>
          </p:grpSpPr>
          <p:sp>
            <p:nvSpPr>
              <p:cNvPr id="304" name="AutoShape 120"/>
              <p:cNvSpPr/>
              <p:nvPr/>
            </p:nvSpPr>
            <p:spPr>
              <a:xfrm>
                <a:off x="6311520" y="5014800"/>
                <a:ext cx="391680" cy="10764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6689" y="21600"/>
                    </a:lnTo>
                    <a:lnTo>
                      <a:pt x="13378" y="0"/>
                    </a:lnTo>
                    <a:lnTo>
                      <a:pt x="2159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AutoShape 121"/>
              <p:cNvSpPr/>
              <p:nvPr/>
            </p:nvSpPr>
            <p:spPr>
              <a:xfrm>
                <a:off x="6329160" y="5014800"/>
                <a:ext cx="356400" cy="10764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7353" y="0"/>
                    </a:lnTo>
                    <a:lnTo>
                      <a:pt x="14706" y="21600"/>
                    </a:lnTo>
                    <a:lnTo>
                      <a:pt x="216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" name="Line 122"/>
            <p:cNvSpPr/>
            <p:nvPr/>
          </p:nvSpPr>
          <p:spPr>
            <a:xfrm>
              <a:off x="6175080" y="5063760"/>
              <a:ext cx="0" cy="15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123"/>
            <p:cNvSpPr/>
            <p:nvPr/>
          </p:nvSpPr>
          <p:spPr>
            <a:xfrm>
              <a:off x="6865560" y="5070960"/>
              <a:ext cx="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Group 124"/>
          <p:cNvGrpSpPr/>
          <p:nvPr/>
        </p:nvGrpSpPr>
        <p:grpSpPr>
          <a:xfrm>
            <a:off x="5133960" y="4400640"/>
            <a:ext cx="738360" cy="1384200"/>
            <a:chOff x="5133960" y="4400640"/>
            <a:chExt cx="738360" cy="1384200"/>
          </a:xfrm>
        </p:grpSpPr>
        <p:sp>
          <p:nvSpPr>
            <p:cNvPr id="309" name="Line 125"/>
            <p:cNvSpPr/>
            <p:nvPr/>
          </p:nvSpPr>
          <p:spPr>
            <a:xfrm flipV="1">
              <a:off x="5785920" y="4807440"/>
              <a:ext cx="8640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126"/>
            <p:cNvSpPr/>
            <p:nvPr/>
          </p:nvSpPr>
          <p:spPr>
            <a:xfrm flipV="1">
              <a:off x="5785920" y="5456520"/>
              <a:ext cx="8640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127"/>
            <p:cNvSpPr/>
            <p:nvPr/>
          </p:nvSpPr>
          <p:spPr>
            <a:xfrm>
              <a:off x="5865480" y="4802760"/>
              <a:ext cx="0" cy="65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Group 128"/>
            <p:cNvGrpSpPr/>
            <p:nvPr/>
          </p:nvGrpSpPr>
          <p:grpSpPr>
            <a:xfrm>
              <a:off x="5133960" y="4400640"/>
              <a:ext cx="703440" cy="567000"/>
              <a:chOff x="5133960" y="4400640"/>
              <a:chExt cx="703440" cy="567000"/>
            </a:xfrm>
          </p:grpSpPr>
          <p:pic>
            <p:nvPicPr>
              <p:cNvPr id="313" name="Picture 129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5133960" y="4400640"/>
                <a:ext cx="703440" cy="56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AutoShape 130"/>
              <p:cNvSpPr/>
              <p:nvPr/>
            </p:nvSpPr>
            <p:spPr>
              <a:xfrm flipH="1">
                <a:off x="5433840" y="4455000"/>
                <a:ext cx="342000" cy="259560"/>
              </a:xfrm>
              <a:custGeom>
                <a:avLst/>
                <a:gdLst>
                  <a:gd name="textAreaLeft" fmla="*/ 360 w 342000"/>
                  <a:gd name="textAreaRight" fmla="*/ 342720 w 34200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202" y="821"/>
                    </a:lnTo>
                    <a:lnTo>
                      <a:pt x="21600" y="17256"/>
                    </a:lnTo>
                    <a:lnTo>
                      <a:pt x="4732" y="2160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AutoShape 131"/>
            <p:cNvSpPr/>
            <p:nvPr/>
          </p:nvSpPr>
          <p:spPr>
            <a:xfrm rot="5400000">
              <a:off x="5373720" y="4845960"/>
              <a:ext cx="459000" cy="497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Group 132"/>
            <p:cNvGrpSpPr/>
            <p:nvPr/>
          </p:nvGrpSpPr>
          <p:grpSpPr>
            <a:xfrm>
              <a:off x="5150520" y="5217840"/>
              <a:ext cx="703440" cy="567000"/>
              <a:chOff x="5150520" y="5217840"/>
              <a:chExt cx="703440" cy="567000"/>
            </a:xfrm>
          </p:grpSpPr>
          <p:pic>
            <p:nvPicPr>
              <p:cNvPr id="317" name="Picture 133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5150520" y="5217840"/>
                <a:ext cx="703440" cy="56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8" name="AutoShape 134"/>
              <p:cNvSpPr/>
              <p:nvPr/>
            </p:nvSpPr>
            <p:spPr>
              <a:xfrm flipH="1">
                <a:off x="5450400" y="5272200"/>
                <a:ext cx="342000" cy="259560"/>
              </a:xfrm>
              <a:custGeom>
                <a:avLst/>
                <a:gdLst>
                  <a:gd name="textAreaLeft" fmla="*/ 360 w 342000"/>
                  <a:gd name="textAreaRight" fmla="*/ 342720 w 34200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202" y="821"/>
                    </a:lnTo>
                    <a:lnTo>
                      <a:pt x="21600" y="17256"/>
                    </a:lnTo>
                    <a:lnTo>
                      <a:pt x="4732" y="2160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9" name="Slide Number Placeholder 136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6574-5AA5-47B9-8D86-D28059D684A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62125184" presetSubtype="7875396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62125184" presetSubtype="7875396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62125184" presetSubtype="7875396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AutoShape 2"/>
          <p:cNvSpPr/>
          <p:nvPr/>
        </p:nvSpPr>
        <p:spPr>
          <a:xfrm>
            <a:off x="5913360" y="6467400"/>
            <a:ext cx="28940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AutoShape 3"/>
          <p:cNvSpPr/>
          <p:nvPr/>
        </p:nvSpPr>
        <p:spPr>
          <a:xfrm>
            <a:off x="8705880" y="6462720"/>
            <a:ext cx="6746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Group 4"/>
          <p:cNvGrpSpPr/>
          <p:nvPr/>
        </p:nvGrpSpPr>
        <p:grpSpPr>
          <a:xfrm>
            <a:off x="3976560" y="1525680"/>
            <a:ext cx="4248360" cy="644400"/>
            <a:chOff x="3976560" y="1525680"/>
            <a:chExt cx="4248360" cy="644400"/>
          </a:xfrm>
        </p:grpSpPr>
        <p:sp>
          <p:nvSpPr>
            <p:cNvPr id="324" name="AutoShape 5"/>
            <p:cNvSpPr/>
            <p:nvPr/>
          </p:nvSpPr>
          <p:spPr>
            <a:xfrm>
              <a:off x="4043160" y="1536480"/>
              <a:ext cx="4181760" cy="543600"/>
            </a:xfrm>
            <a:custGeom>
              <a:avLst/>
              <a:gdLst>
                <a:gd name="textAreaLeft" fmla="*/ 0 w 4181760"/>
                <a:gd name="textAreaRight" fmla="*/ 4182120 w 4181760"/>
                <a:gd name="textAreaTop" fmla="*/ 0 h 543600"/>
                <a:gd name="textAreaBottom" fmla="*/ 543960 h 54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AutoShape 6"/>
            <p:cNvSpPr/>
            <p:nvPr/>
          </p:nvSpPr>
          <p:spPr>
            <a:xfrm>
              <a:off x="3976560" y="1584360"/>
              <a:ext cx="4181760" cy="543600"/>
            </a:xfrm>
            <a:custGeom>
              <a:avLst/>
              <a:gdLst>
                <a:gd name="textAreaLeft" fmla="*/ 0 w 4181760"/>
                <a:gd name="textAreaRight" fmla="*/ 4182120 w 4181760"/>
                <a:gd name="textAreaTop" fmla="*/ 0 h 543600"/>
                <a:gd name="textAreaBottom" fmla="*/ 543960 h 54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AutoShape 7"/>
            <p:cNvSpPr/>
            <p:nvPr/>
          </p:nvSpPr>
          <p:spPr>
            <a:xfrm>
              <a:off x="5132160" y="1525680"/>
              <a:ext cx="396000" cy="625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=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AutoShape 8"/>
            <p:cNvSpPr/>
            <p:nvPr/>
          </p:nvSpPr>
          <p:spPr>
            <a:xfrm>
              <a:off x="6613920" y="1544400"/>
              <a:ext cx="681480" cy="625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off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AutoShape 9"/>
            <p:cNvSpPr/>
            <p:nvPr/>
          </p:nvSpPr>
          <p:spPr>
            <a:xfrm>
              <a:off x="5648400" y="1544400"/>
              <a:ext cx="812880" cy="625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fragfl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AutoShape 10"/>
            <p:cNvSpPr/>
            <p:nvPr/>
          </p:nvSpPr>
          <p:spPr>
            <a:xfrm>
              <a:off x="4331880" y="1525680"/>
              <a:ext cx="729360" cy="625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=4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1"/>
            <p:cNvSpPr/>
            <p:nvPr/>
          </p:nvSpPr>
          <p:spPr>
            <a:xfrm>
              <a:off x="4357440" y="1584360"/>
              <a:ext cx="0" cy="54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12"/>
            <p:cNvSpPr/>
            <p:nvPr/>
          </p:nvSpPr>
          <p:spPr>
            <a:xfrm>
              <a:off x="5157720" y="1584360"/>
              <a:ext cx="0" cy="54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3"/>
            <p:cNvSpPr/>
            <p:nvPr/>
          </p:nvSpPr>
          <p:spPr>
            <a:xfrm>
              <a:off x="5586480" y="1603440"/>
              <a:ext cx="0" cy="54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4"/>
            <p:cNvSpPr/>
            <p:nvPr/>
          </p:nvSpPr>
          <p:spPr>
            <a:xfrm>
              <a:off x="6567480" y="1584360"/>
              <a:ext cx="0" cy="54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15"/>
            <p:cNvSpPr/>
            <p:nvPr/>
          </p:nvSpPr>
          <p:spPr>
            <a:xfrm>
              <a:off x="7320240" y="1584360"/>
              <a:ext cx="0" cy="54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AutoShape 16"/>
            <p:cNvSpPr/>
            <p:nvPr/>
          </p:nvSpPr>
          <p:spPr>
            <a:xfrm>
              <a:off x="7510680" y="1536480"/>
              <a:ext cx="218880" cy="6008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600840"/>
                <a:gd name="textAreaBottom" fmla="*/ 600840 h 60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17"/>
          <p:cNvGrpSpPr/>
          <p:nvPr/>
        </p:nvGrpSpPr>
        <p:grpSpPr>
          <a:xfrm>
            <a:off x="4065480" y="2290680"/>
            <a:ext cx="4711680" cy="3260880"/>
            <a:chOff x="4065480" y="2290680"/>
            <a:chExt cx="4711680" cy="3260880"/>
          </a:xfrm>
        </p:grpSpPr>
        <p:grpSp>
          <p:nvGrpSpPr>
            <p:cNvPr id="337" name="Group 18"/>
            <p:cNvGrpSpPr/>
            <p:nvPr/>
          </p:nvGrpSpPr>
          <p:grpSpPr>
            <a:xfrm>
              <a:off x="4528800" y="3279240"/>
              <a:ext cx="4248360" cy="643680"/>
              <a:chOff x="4528800" y="3279240"/>
              <a:chExt cx="4248360" cy="643680"/>
            </a:xfrm>
          </p:grpSpPr>
          <p:sp>
            <p:nvSpPr>
              <p:cNvPr id="338" name="AutoShape 19"/>
              <p:cNvSpPr/>
              <p:nvPr/>
            </p:nvSpPr>
            <p:spPr>
              <a:xfrm>
                <a:off x="4595400" y="3290040"/>
                <a:ext cx="4181760" cy="542880"/>
              </a:xfrm>
              <a:custGeom>
                <a:avLst/>
                <a:gdLst>
                  <a:gd name="textAreaLeft" fmla="*/ 0 w 4181760"/>
                  <a:gd name="textAreaRight" fmla="*/ 4182120 w 4181760"/>
                  <a:gd name="textAreaTop" fmla="*/ 0 h 542880"/>
                  <a:gd name="textAreaBottom" fmla="*/ 543240 h 54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599"/>
                    </a:lnTo>
                    <a:lnTo>
                      <a:pt x="0" y="215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AutoShape 20"/>
              <p:cNvSpPr/>
              <p:nvPr/>
            </p:nvSpPr>
            <p:spPr>
              <a:xfrm>
                <a:off x="4528800" y="3337920"/>
                <a:ext cx="4181760" cy="542880"/>
              </a:xfrm>
              <a:custGeom>
                <a:avLst/>
                <a:gdLst>
                  <a:gd name="textAreaLeft" fmla="*/ 0 w 4181760"/>
                  <a:gd name="textAreaRight" fmla="*/ 4182120 w 4181760"/>
                  <a:gd name="textAreaTop" fmla="*/ 0 h 542880"/>
                  <a:gd name="textAreaBottom" fmla="*/ 543240 h 54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599"/>
                    </a:lnTo>
                    <a:lnTo>
                      <a:pt x="0" y="215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AutoShape 21"/>
              <p:cNvSpPr/>
              <p:nvPr/>
            </p:nvSpPr>
            <p:spPr>
              <a:xfrm>
                <a:off x="5684400" y="3279240"/>
                <a:ext cx="396000" cy="624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I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=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AutoShape 22"/>
              <p:cNvSpPr/>
              <p:nvPr/>
            </p:nvSpPr>
            <p:spPr>
              <a:xfrm>
                <a:off x="7166160" y="3297960"/>
                <a:ext cx="681480" cy="624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offs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=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AutoShape 23"/>
              <p:cNvSpPr/>
              <p:nvPr/>
            </p:nvSpPr>
            <p:spPr>
              <a:xfrm>
                <a:off x="6200640" y="3297960"/>
                <a:ext cx="812880" cy="624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fragfla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=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AutoShape 24"/>
              <p:cNvSpPr/>
              <p:nvPr/>
            </p:nvSpPr>
            <p:spPr>
              <a:xfrm>
                <a:off x="4884120" y="3279240"/>
                <a:ext cx="729360" cy="624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lengt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=15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Line 25"/>
              <p:cNvSpPr/>
              <p:nvPr/>
            </p:nvSpPr>
            <p:spPr>
              <a:xfrm>
                <a:off x="4909680" y="333792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Line 26"/>
              <p:cNvSpPr/>
              <p:nvPr/>
            </p:nvSpPr>
            <p:spPr>
              <a:xfrm>
                <a:off x="5709960" y="333792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Line 27"/>
              <p:cNvSpPr/>
              <p:nvPr/>
            </p:nvSpPr>
            <p:spPr>
              <a:xfrm>
                <a:off x="6138720" y="335700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Line 28"/>
              <p:cNvSpPr/>
              <p:nvPr/>
            </p:nvSpPr>
            <p:spPr>
              <a:xfrm>
                <a:off x="7119720" y="333792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Line 29"/>
              <p:cNvSpPr/>
              <p:nvPr/>
            </p:nvSpPr>
            <p:spPr>
              <a:xfrm>
                <a:off x="7872480" y="333792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AutoShape 30"/>
              <p:cNvSpPr/>
              <p:nvPr/>
            </p:nvSpPr>
            <p:spPr>
              <a:xfrm>
                <a:off x="8062920" y="3290040"/>
                <a:ext cx="218880" cy="600120"/>
              </a:xfrm>
              <a:custGeom>
                <a:avLst/>
                <a:gdLst>
                  <a:gd name="textAreaLeft" fmla="*/ 0 w 218880"/>
                  <a:gd name="textAreaRight" fmla="*/ 219240 w 218880"/>
                  <a:gd name="textAreaTop" fmla="*/ 0 h 600120"/>
                  <a:gd name="textAreaBottom" fmla="*/ 600480 h 600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599"/>
                    </a:lnTo>
                    <a:lnTo>
                      <a:pt x="0" y="215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Group 31"/>
            <p:cNvGrpSpPr/>
            <p:nvPr/>
          </p:nvGrpSpPr>
          <p:grpSpPr>
            <a:xfrm>
              <a:off x="4528800" y="4079520"/>
              <a:ext cx="4248360" cy="643680"/>
              <a:chOff x="4528800" y="4079520"/>
              <a:chExt cx="4248360" cy="643680"/>
            </a:xfrm>
          </p:grpSpPr>
          <p:sp>
            <p:nvSpPr>
              <p:cNvPr id="351" name="AutoShape 32"/>
              <p:cNvSpPr/>
              <p:nvPr/>
            </p:nvSpPr>
            <p:spPr>
              <a:xfrm>
                <a:off x="4595400" y="4090320"/>
                <a:ext cx="4181760" cy="542880"/>
              </a:xfrm>
              <a:custGeom>
                <a:avLst/>
                <a:gdLst>
                  <a:gd name="textAreaLeft" fmla="*/ 0 w 4181760"/>
                  <a:gd name="textAreaRight" fmla="*/ 4182120 w 4181760"/>
                  <a:gd name="textAreaTop" fmla="*/ 0 h 542880"/>
                  <a:gd name="textAreaBottom" fmla="*/ 543240 h 54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599"/>
                    </a:lnTo>
                    <a:lnTo>
                      <a:pt x="0" y="215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AutoShape 33"/>
              <p:cNvSpPr/>
              <p:nvPr/>
            </p:nvSpPr>
            <p:spPr>
              <a:xfrm>
                <a:off x="4528800" y="4138200"/>
                <a:ext cx="4181760" cy="542880"/>
              </a:xfrm>
              <a:custGeom>
                <a:avLst/>
                <a:gdLst>
                  <a:gd name="textAreaLeft" fmla="*/ 0 w 4181760"/>
                  <a:gd name="textAreaRight" fmla="*/ 4182120 w 4181760"/>
                  <a:gd name="textAreaTop" fmla="*/ 0 h 542880"/>
                  <a:gd name="textAreaBottom" fmla="*/ 543240 h 54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599"/>
                    </a:lnTo>
                    <a:lnTo>
                      <a:pt x="0" y="215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AutoShape 34"/>
              <p:cNvSpPr/>
              <p:nvPr/>
            </p:nvSpPr>
            <p:spPr>
              <a:xfrm>
                <a:off x="5684400" y="4079520"/>
                <a:ext cx="396000" cy="624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I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=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AutoShape 35"/>
              <p:cNvSpPr/>
              <p:nvPr/>
            </p:nvSpPr>
            <p:spPr>
              <a:xfrm>
                <a:off x="7166160" y="4098240"/>
                <a:ext cx="681480" cy="624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offs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=18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AutoShape 36"/>
              <p:cNvSpPr/>
              <p:nvPr/>
            </p:nvSpPr>
            <p:spPr>
              <a:xfrm>
                <a:off x="6200640" y="4098240"/>
                <a:ext cx="812880" cy="624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fragfla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=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AutoShape 37"/>
              <p:cNvSpPr/>
              <p:nvPr/>
            </p:nvSpPr>
            <p:spPr>
              <a:xfrm>
                <a:off x="4884120" y="4079520"/>
                <a:ext cx="729360" cy="624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lengt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=15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Line 38"/>
              <p:cNvSpPr/>
              <p:nvPr/>
            </p:nvSpPr>
            <p:spPr>
              <a:xfrm>
                <a:off x="4909680" y="413820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Line 39"/>
              <p:cNvSpPr/>
              <p:nvPr/>
            </p:nvSpPr>
            <p:spPr>
              <a:xfrm>
                <a:off x="5709960" y="413820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Line 40"/>
              <p:cNvSpPr/>
              <p:nvPr/>
            </p:nvSpPr>
            <p:spPr>
              <a:xfrm>
                <a:off x="6138720" y="415728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Line 41"/>
              <p:cNvSpPr/>
              <p:nvPr/>
            </p:nvSpPr>
            <p:spPr>
              <a:xfrm>
                <a:off x="7119720" y="413820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Line 42"/>
              <p:cNvSpPr/>
              <p:nvPr/>
            </p:nvSpPr>
            <p:spPr>
              <a:xfrm>
                <a:off x="7872480" y="413820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AutoShape 43"/>
              <p:cNvSpPr/>
              <p:nvPr/>
            </p:nvSpPr>
            <p:spPr>
              <a:xfrm>
                <a:off x="8062920" y="4090320"/>
                <a:ext cx="218880" cy="600120"/>
              </a:xfrm>
              <a:custGeom>
                <a:avLst/>
                <a:gdLst>
                  <a:gd name="textAreaLeft" fmla="*/ 0 w 218880"/>
                  <a:gd name="textAreaRight" fmla="*/ 219240 w 218880"/>
                  <a:gd name="textAreaTop" fmla="*/ 0 h 600120"/>
                  <a:gd name="textAreaBottom" fmla="*/ 600480 h 600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599"/>
                    </a:lnTo>
                    <a:lnTo>
                      <a:pt x="0" y="215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Group 44"/>
            <p:cNvGrpSpPr/>
            <p:nvPr/>
          </p:nvGrpSpPr>
          <p:grpSpPr>
            <a:xfrm>
              <a:off x="4519440" y="4907880"/>
              <a:ext cx="4248360" cy="643680"/>
              <a:chOff x="4519440" y="4907880"/>
              <a:chExt cx="4248360" cy="643680"/>
            </a:xfrm>
          </p:grpSpPr>
          <p:sp>
            <p:nvSpPr>
              <p:cNvPr id="364" name="AutoShape 45"/>
              <p:cNvSpPr/>
              <p:nvPr/>
            </p:nvSpPr>
            <p:spPr>
              <a:xfrm>
                <a:off x="4586040" y="4918680"/>
                <a:ext cx="4181760" cy="542880"/>
              </a:xfrm>
              <a:custGeom>
                <a:avLst/>
                <a:gdLst>
                  <a:gd name="textAreaLeft" fmla="*/ 0 w 4181760"/>
                  <a:gd name="textAreaRight" fmla="*/ 4182120 w 4181760"/>
                  <a:gd name="textAreaTop" fmla="*/ 0 h 542880"/>
                  <a:gd name="textAreaBottom" fmla="*/ 543240 h 54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599"/>
                    </a:lnTo>
                    <a:lnTo>
                      <a:pt x="0" y="215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AutoShape 46"/>
              <p:cNvSpPr/>
              <p:nvPr/>
            </p:nvSpPr>
            <p:spPr>
              <a:xfrm>
                <a:off x="4519440" y="4966560"/>
                <a:ext cx="4181760" cy="542880"/>
              </a:xfrm>
              <a:custGeom>
                <a:avLst/>
                <a:gdLst>
                  <a:gd name="textAreaLeft" fmla="*/ 0 w 4181760"/>
                  <a:gd name="textAreaRight" fmla="*/ 4182120 w 4181760"/>
                  <a:gd name="textAreaTop" fmla="*/ 0 h 542880"/>
                  <a:gd name="textAreaBottom" fmla="*/ 543240 h 54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599"/>
                    </a:lnTo>
                    <a:lnTo>
                      <a:pt x="0" y="215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AutoShape 47"/>
              <p:cNvSpPr/>
              <p:nvPr/>
            </p:nvSpPr>
            <p:spPr>
              <a:xfrm>
                <a:off x="5675040" y="4907880"/>
                <a:ext cx="396000" cy="624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I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=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AutoShape 48"/>
              <p:cNvSpPr/>
              <p:nvPr/>
            </p:nvSpPr>
            <p:spPr>
              <a:xfrm>
                <a:off x="7156800" y="4926600"/>
                <a:ext cx="681480" cy="624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offs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=37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AutoShape 49"/>
              <p:cNvSpPr/>
              <p:nvPr/>
            </p:nvSpPr>
            <p:spPr>
              <a:xfrm>
                <a:off x="6191280" y="4926600"/>
                <a:ext cx="812880" cy="624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fragfla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=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AutoShape 50"/>
              <p:cNvSpPr/>
              <p:nvPr/>
            </p:nvSpPr>
            <p:spPr>
              <a:xfrm>
                <a:off x="4874760" y="4907880"/>
                <a:ext cx="729360" cy="624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lengt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=104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Line 51"/>
              <p:cNvSpPr/>
              <p:nvPr/>
            </p:nvSpPr>
            <p:spPr>
              <a:xfrm>
                <a:off x="4900320" y="496656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Line 52"/>
              <p:cNvSpPr/>
              <p:nvPr/>
            </p:nvSpPr>
            <p:spPr>
              <a:xfrm>
                <a:off x="5700600" y="496656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Line 53"/>
              <p:cNvSpPr/>
              <p:nvPr/>
            </p:nvSpPr>
            <p:spPr>
              <a:xfrm>
                <a:off x="6129360" y="498564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Line 54"/>
              <p:cNvSpPr/>
              <p:nvPr/>
            </p:nvSpPr>
            <p:spPr>
              <a:xfrm>
                <a:off x="7110360" y="496656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Line 55"/>
              <p:cNvSpPr/>
              <p:nvPr/>
            </p:nvSpPr>
            <p:spPr>
              <a:xfrm>
                <a:off x="7863120" y="496656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AutoShape 56"/>
              <p:cNvSpPr/>
              <p:nvPr/>
            </p:nvSpPr>
            <p:spPr>
              <a:xfrm>
                <a:off x="8053560" y="4918680"/>
                <a:ext cx="218880" cy="600120"/>
              </a:xfrm>
              <a:custGeom>
                <a:avLst/>
                <a:gdLst>
                  <a:gd name="textAreaLeft" fmla="*/ 0 w 218880"/>
                  <a:gd name="textAreaRight" fmla="*/ 219240 w 218880"/>
                  <a:gd name="textAreaTop" fmla="*/ 0 h 600120"/>
                  <a:gd name="textAreaBottom" fmla="*/ 600480 h 600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599"/>
                    </a:lnTo>
                    <a:lnTo>
                      <a:pt x="0" y="215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" name="AutoShape 57"/>
            <p:cNvSpPr/>
            <p:nvPr/>
          </p:nvSpPr>
          <p:spPr>
            <a:xfrm>
              <a:off x="4090680" y="2290680"/>
              <a:ext cx="333360" cy="216180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161800"/>
                <a:gd name="textAreaBottom" fmla="*/ 2162160 h 216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599"/>
                  </a:lnTo>
                  <a:lnTo>
                    <a:pt x="21599" y="13607"/>
                  </a:lnTo>
                </a:path>
              </a:pathLst>
            </a:custGeom>
            <a:noFill/>
            <a:ln w="1260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58"/>
            <p:cNvSpPr/>
            <p:nvPr/>
          </p:nvSpPr>
          <p:spPr>
            <a:xfrm>
              <a:off x="4090680" y="4423680"/>
              <a:ext cx="361800" cy="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59"/>
            <p:cNvSpPr/>
            <p:nvPr/>
          </p:nvSpPr>
          <p:spPr>
            <a:xfrm>
              <a:off x="4100400" y="4433400"/>
              <a:ext cx="333360" cy="7902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AutoShape 60"/>
            <p:cNvSpPr/>
            <p:nvPr/>
          </p:nvSpPr>
          <p:spPr>
            <a:xfrm>
              <a:off x="4065480" y="2365200"/>
              <a:ext cx="2659320" cy="624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cc0000"/>
                  </a:solidFill>
                  <a:latin typeface="Gill Sans MT"/>
                </a:rPr>
                <a:t>one large datagram beco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cc0000"/>
                  </a:solidFill>
                  <a:latin typeface="Gill Sans MT"/>
                </a:rPr>
                <a:t>several smaller datagra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AutoShape 61"/>
          <p:cNvSpPr/>
          <p:nvPr/>
        </p:nvSpPr>
        <p:spPr>
          <a:xfrm>
            <a:off x="712800" y="1801800"/>
            <a:ext cx="2830680" cy="14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54160" indent="-25416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5000"/>
              </a:lnSpc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4000 byte dat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5000"/>
              </a:lnSpc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TU = 1500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AutoShape 62"/>
          <p:cNvSpPr/>
          <p:nvPr/>
        </p:nvSpPr>
        <p:spPr>
          <a:xfrm>
            <a:off x="1424160" y="3238560"/>
            <a:ext cx="1401480" cy="623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1480 bytes i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ata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63"/>
          <p:cNvSpPr/>
          <p:nvPr/>
        </p:nvSpPr>
        <p:spPr>
          <a:xfrm>
            <a:off x="1886040" y="4071960"/>
            <a:ext cx="877680" cy="623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ffset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1480/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18576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fragmentation, reassemb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65" descr="underline_base"/>
          <p:cNvPicPr/>
          <p:nvPr/>
        </p:nvPicPr>
        <p:blipFill>
          <a:blip r:embed="rId1"/>
          <a:stretch/>
        </p:blipFill>
        <p:spPr>
          <a:xfrm>
            <a:off x="961920" y="88092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385" name="Line 66"/>
          <p:cNvSpPr/>
          <p:nvPr/>
        </p:nvSpPr>
        <p:spPr>
          <a:xfrm>
            <a:off x="2367000" y="3591000"/>
            <a:ext cx="2619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67"/>
          <p:cNvSpPr/>
          <p:nvPr/>
        </p:nvSpPr>
        <p:spPr>
          <a:xfrm flipH="1" flipV="1">
            <a:off x="2698560" y="4392720"/>
            <a:ext cx="46717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AutoShape 68"/>
          <p:cNvSpPr/>
          <p:nvPr/>
        </p:nvSpPr>
        <p:spPr>
          <a:xfrm>
            <a:off x="852480" y="5381640"/>
            <a:ext cx="8683560" cy="1690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ffset 0: meaning the data should be inserted at the beginning go byte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ffset 185: meaning the data should be inserted at the beginning go byte 1480 (185*8=148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ffset 370: meaning the data should be inserted at the beginning go byte 2960 (370*8=296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Slide Number Placeholder 70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364E-65FD-44A5-A090-5ECABBD5DA7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8890112" presetSubtype="790597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78890112" presetSubtype="790596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8890112" presetSubtype="790593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78890112" presetSubtype="790598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8890112" presetSubtype="790599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AutoShape 2"/>
          <p:cNvSpPr/>
          <p:nvPr/>
        </p:nvSpPr>
        <p:spPr>
          <a:xfrm>
            <a:off x="3664080" y="3297240"/>
            <a:ext cx="3709800" cy="3978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19240" indent="-219240" algn="ctr">
              <a:lnSpc>
                <a:spcPct val="100000"/>
              </a:lnSpc>
              <a:buClr>
                <a:srgbClr val="0433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33ff"/>
                </a:solidFill>
                <a:latin typeface="Gill Sans MT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439920" algn="ctr"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33ff"/>
                </a:solidFill>
                <a:latin typeface="Gill Sans MT"/>
                <a:ea typeface="Arial"/>
              </a:rPr>
              <a:t>Class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439920" algn="ctr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33ff"/>
                </a:solidFill>
                <a:latin typeface="Gill Sans MT"/>
                <a:ea typeface="Arial"/>
              </a:rPr>
              <a:t>Subne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439920" algn="ctr"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Slide Number Placeholder 4"/>
          <p:cNvSpPr/>
          <p:nvPr/>
        </p:nvSpPr>
        <p:spPr>
          <a:xfrm>
            <a:off x="709920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BF8C-30A1-4FD0-8EB3-FEF59D21BFE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AutoShape 1"/>
          <p:cNvSpPr/>
          <p:nvPr/>
        </p:nvSpPr>
        <p:spPr>
          <a:xfrm>
            <a:off x="743040" y="6494400"/>
            <a:ext cx="206352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66400" y="371160"/>
            <a:ext cx="8420040" cy="9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33ff"/>
                </a:solidFill>
                <a:latin typeface="Times New Roman"/>
                <a:ea typeface="Times New Roman"/>
              </a:rPr>
              <a:t>IP Addres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720" y="1377720"/>
            <a:ext cx="40035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P addres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-bit identifier fo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oute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erfac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 between host/router and physical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r’s typically have multiple interfaces (==&gt;multiple IP addres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 typically has one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addresses associated with each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5" descr="image.pdf"/>
          <p:cNvPicPr/>
          <p:nvPr/>
        </p:nvPicPr>
        <p:blipFill>
          <a:blip r:embed="rId6"/>
          <a:stretch/>
        </p:blipFill>
        <p:spPr>
          <a:xfrm>
            <a:off x="4827600" y="1635120"/>
            <a:ext cx="633240" cy="463680"/>
          </a:xfrm>
          <a:prstGeom prst="rect">
            <a:avLst/>
          </a:prstGeom>
          <a:ln w="0">
            <a:noFill/>
          </a:ln>
        </p:spPr>
      </p:pic>
      <p:sp>
        <p:nvSpPr>
          <p:cNvPr id="395" name="Line 6"/>
          <p:cNvSpPr/>
          <p:nvPr/>
        </p:nvSpPr>
        <p:spPr>
          <a:xfrm>
            <a:off x="5433840" y="2008080"/>
            <a:ext cx="301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7"/>
          <p:cNvSpPr/>
          <p:nvPr/>
        </p:nvSpPr>
        <p:spPr>
          <a:xfrm>
            <a:off x="5749920" y="1994040"/>
            <a:ext cx="0" cy="129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8"/>
          <p:cNvSpPr/>
          <p:nvPr/>
        </p:nvSpPr>
        <p:spPr>
          <a:xfrm flipV="1">
            <a:off x="5432400" y="2652840"/>
            <a:ext cx="3016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9"/>
          <p:cNvSpPr/>
          <p:nvPr/>
        </p:nvSpPr>
        <p:spPr>
          <a:xfrm>
            <a:off x="5443560" y="3278160"/>
            <a:ext cx="29520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Picture 10" descr="image.pdf"/>
          <p:cNvPicPr/>
          <p:nvPr/>
        </p:nvPicPr>
        <p:blipFill>
          <a:blip r:embed="rId7"/>
          <a:stretch/>
        </p:blipFill>
        <p:spPr>
          <a:xfrm>
            <a:off x="4827600" y="2301840"/>
            <a:ext cx="633240" cy="4636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1" descr="image.pdf"/>
          <p:cNvPicPr/>
          <p:nvPr/>
        </p:nvPicPr>
        <p:blipFill>
          <a:blip r:embed="rId8"/>
          <a:stretch/>
        </p:blipFill>
        <p:spPr>
          <a:xfrm>
            <a:off x="4827600" y="2911320"/>
            <a:ext cx="633240" cy="463680"/>
          </a:xfrm>
          <a:prstGeom prst="rect">
            <a:avLst/>
          </a:prstGeom>
          <a:ln w="0">
            <a:noFill/>
          </a:ln>
        </p:spPr>
      </p:pic>
      <p:sp>
        <p:nvSpPr>
          <p:cNvPr id="401" name="Line 12"/>
          <p:cNvSpPr/>
          <p:nvPr/>
        </p:nvSpPr>
        <p:spPr>
          <a:xfrm>
            <a:off x="5749920" y="2851200"/>
            <a:ext cx="112068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Group 13"/>
          <p:cNvGrpSpPr/>
          <p:nvPr/>
        </p:nvGrpSpPr>
        <p:grpSpPr>
          <a:xfrm>
            <a:off x="6770520" y="2814480"/>
            <a:ext cx="770040" cy="382680"/>
            <a:chOff x="6770520" y="2814480"/>
            <a:chExt cx="770040" cy="382680"/>
          </a:xfrm>
        </p:grpSpPr>
        <p:sp>
          <p:nvSpPr>
            <p:cNvPr id="403" name="AutoShape 14"/>
            <p:cNvSpPr/>
            <p:nvPr/>
          </p:nvSpPr>
          <p:spPr>
            <a:xfrm>
              <a:off x="6776640" y="2985120"/>
              <a:ext cx="763920" cy="212040"/>
            </a:xfrm>
            <a:custGeom>
              <a:avLst/>
              <a:gdLst>
                <a:gd name="textAreaLeft" fmla="*/ 0 w 763920"/>
                <a:gd name="textAreaRight" fmla="*/ 764280 w 76392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e5d09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15"/>
            <p:cNvSpPr/>
            <p:nvPr/>
          </p:nvSpPr>
          <p:spPr>
            <a:xfrm>
              <a:off x="6776640" y="2967480"/>
              <a:ext cx="0" cy="13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16"/>
            <p:cNvSpPr/>
            <p:nvPr/>
          </p:nvSpPr>
          <p:spPr>
            <a:xfrm>
              <a:off x="7540560" y="2967480"/>
              <a:ext cx="0" cy="13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AutoShape 17"/>
            <p:cNvSpPr/>
            <p:nvPr/>
          </p:nvSpPr>
          <p:spPr>
            <a:xfrm>
              <a:off x="6776640" y="2967480"/>
              <a:ext cx="757440" cy="128880"/>
            </a:xfrm>
            <a:custGeom>
              <a:avLst/>
              <a:gdLst>
                <a:gd name="textAreaLeft" fmla="*/ 0 w 757440"/>
                <a:gd name="textAreaRight" fmla="*/ 757800 w 757440"/>
                <a:gd name="textAreaTop" fmla="*/ 0 h 128880"/>
                <a:gd name="textAreaBottom" fmla="*/ 128880 h 12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d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AutoShape 18"/>
            <p:cNvSpPr/>
            <p:nvPr/>
          </p:nvSpPr>
          <p:spPr>
            <a:xfrm>
              <a:off x="6770520" y="2814480"/>
              <a:ext cx="763920" cy="247320"/>
            </a:xfrm>
            <a:custGeom>
              <a:avLst/>
              <a:gdLst>
                <a:gd name="textAreaLeft" fmla="*/ 0 w 763920"/>
                <a:gd name="textAreaRight" fmla="*/ 764280 w 76392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e5d09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8" name="Group 19"/>
            <p:cNvGrpSpPr/>
            <p:nvPr/>
          </p:nvGrpSpPr>
          <p:grpSpPr>
            <a:xfrm>
              <a:off x="6954480" y="2868840"/>
              <a:ext cx="378720" cy="144360"/>
              <a:chOff x="6954480" y="2868840"/>
              <a:chExt cx="378720" cy="144360"/>
            </a:xfrm>
          </p:grpSpPr>
          <p:sp>
            <p:nvSpPr>
              <p:cNvPr id="409" name="Line 20"/>
              <p:cNvSpPr/>
              <p:nvPr/>
            </p:nvSpPr>
            <p:spPr>
              <a:xfrm flipV="1">
                <a:off x="6954480" y="2868840"/>
                <a:ext cx="13536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Line 21"/>
              <p:cNvSpPr/>
              <p:nvPr/>
            </p:nvSpPr>
            <p:spPr>
              <a:xfrm>
                <a:off x="7214400" y="3013200"/>
                <a:ext cx="118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Line 22"/>
              <p:cNvSpPr/>
              <p:nvPr/>
            </p:nvSpPr>
            <p:spPr>
              <a:xfrm>
                <a:off x="7078680" y="2871720"/>
                <a:ext cx="140760" cy="141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Group 23"/>
            <p:cNvGrpSpPr/>
            <p:nvPr/>
          </p:nvGrpSpPr>
          <p:grpSpPr>
            <a:xfrm>
              <a:off x="6954480" y="2866320"/>
              <a:ext cx="378720" cy="144720"/>
              <a:chOff x="6954480" y="2866320"/>
              <a:chExt cx="378720" cy="144720"/>
            </a:xfrm>
          </p:grpSpPr>
          <p:sp>
            <p:nvSpPr>
              <p:cNvPr id="413" name="Line 24"/>
              <p:cNvSpPr/>
              <p:nvPr/>
            </p:nvSpPr>
            <p:spPr>
              <a:xfrm>
                <a:off x="6954480" y="3008160"/>
                <a:ext cx="13536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Line 25"/>
              <p:cNvSpPr/>
              <p:nvPr/>
            </p:nvSpPr>
            <p:spPr>
              <a:xfrm>
                <a:off x="7214400" y="2867760"/>
                <a:ext cx="118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Line 26"/>
              <p:cNvSpPr/>
              <p:nvPr/>
            </p:nvSpPr>
            <p:spPr>
              <a:xfrm flipV="1">
                <a:off x="7078680" y="2866320"/>
                <a:ext cx="140760" cy="141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6" name="AutoShape 27"/>
          <p:cNvSpPr/>
          <p:nvPr/>
        </p:nvSpPr>
        <p:spPr>
          <a:xfrm>
            <a:off x="5389560" y="1682640"/>
            <a:ext cx="1057320" cy="349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23.1.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Group 28"/>
          <p:cNvGrpSpPr/>
          <p:nvPr/>
        </p:nvGrpSpPr>
        <p:grpSpPr>
          <a:xfrm>
            <a:off x="5389560" y="2324160"/>
            <a:ext cx="1057320" cy="350640"/>
            <a:chOff x="5389560" y="2324160"/>
            <a:chExt cx="1057320" cy="350640"/>
          </a:xfrm>
        </p:grpSpPr>
        <p:sp>
          <p:nvSpPr>
            <p:cNvPr id="418" name="AutoShape 29"/>
            <p:cNvSpPr/>
            <p:nvPr/>
          </p:nvSpPr>
          <p:spPr>
            <a:xfrm>
              <a:off x="5483880" y="2401920"/>
              <a:ext cx="902520" cy="181080"/>
            </a:xfrm>
            <a:custGeom>
              <a:avLst/>
              <a:gdLst>
                <a:gd name="textAreaLeft" fmla="*/ 0 w 902520"/>
                <a:gd name="textAreaRight" fmla="*/ 902880 w 9025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AutoShape 30"/>
            <p:cNvSpPr/>
            <p:nvPr/>
          </p:nvSpPr>
          <p:spPr>
            <a:xfrm>
              <a:off x="5389560" y="2324160"/>
              <a:ext cx="1057320" cy="350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3.1.1.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AutoShape 31"/>
          <p:cNvSpPr/>
          <p:nvPr/>
        </p:nvSpPr>
        <p:spPr>
          <a:xfrm>
            <a:off x="5265720" y="3263760"/>
            <a:ext cx="1057320" cy="349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23.1.1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AutoShape 32"/>
          <p:cNvSpPr/>
          <p:nvPr/>
        </p:nvSpPr>
        <p:spPr>
          <a:xfrm>
            <a:off x="6122880" y="2592360"/>
            <a:ext cx="1057320" cy="349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23.1.1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33"/>
          <p:cNvSpPr/>
          <p:nvPr/>
        </p:nvSpPr>
        <p:spPr>
          <a:xfrm>
            <a:off x="7424640" y="2860560"/>
            <a:ext cx="1100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AutoShape 34"/>
          <p:cNvSpPr/>
          <p:nvPr/>
        </p:nvSpPr>
        <p:spPr>
          <a:xfrm>
            <a:off x="7288200" y="2583000"/>
            <a:ext cx="1057320" cy="349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23.1.2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35"/>
          <p:cNvSpPr/>
          <p:nvPr/>
        </p:nvSpPr>
        <p:spPr>
          <a:xfrm>
            <a:off x="8535960" y="2165400"/>
            <a:ext cx="0" cy="129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Picture 36" descr="image.pdf"/>
          <p:cNvPicPr/>
          <p:nvPr/>
        </p:nvPicPr>
        <p:blipFill>
          <a:blip r:embed="rId9"/>
          <a:stretch/>
        </p:blipFill>
        <p:spPr>
          <a:xfrm>
            <a:off x="8728200" y="1873080"/>
            <a:ext cx="633240" cy="463680"/>
          </a:xfrm>
          <a:prstGeom prst="rect">
            <a:avLst/>
          </a:prstGeom>
          <a:ln w="0">
            <a:noFill/>
          </a:ln>
        </p:spPr>
      </p:pic>
      <p:sp>
        <p:nvSpPr>
          <p:cNvPr id="426" name="Line 37"/>
          <p:cNvSpPr/>
          <p:nvPr/>
        </p:nvSpPr>
        <p:spPr>
          <a:xfrm>
            <a:off x="8535960" y="2168640"/>
            <a:ext cx="25416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Picture 38" descr="image.pdf"/>
          <p:cNvPicPr/>
          <p:nvPr/>
        </p:nvPicPr>
        <p:blipFill>
          <a:blip r:embed="rId10"/>
          <a:stretch/>
        </p:blipFill>
        <p:spPr>
          <a:xfrm>
            <a:off x="8732880" y="3254400"/>
            <a:ext cx="633240" cy="463680"/>
          </a:xfrm>
          <a:prstGeom prst="rect">
            <a:avLst/>
          </a:prstGeom>
          <a:ln w="0">
            <a:noFill/>
          </a:ln>
        </p:spPr>
      </p:pic>
      <p:sp>
        <p:nvSpPr>
          <p:cNvPr id="428" name="Line 39"/>
          <p:cNvSpPr/>
          <p:nvPr/>
        </p:nvSpPr>
        <p:spPr>
          <a:xfrm>
            <a:off x="8535960" y="3440160"/>
            <a:ext cx="25416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Group 40"/>
          <p:cNvGrpSpPr/>
          <p:nvPr/>
        </p:nvGrpSpPr>
        <p:grpSpPr>
          <a:xfrm>
            <a:off x="7788240" y="3100320"/>
            <a:ext cx="1057320" cy="351000"/>
            <a:chOff x="7788240" y="3100320"/>
            <a:chExt cx="1057320" cy="351000"/>
          </a:xfrm>
        </p:grpSpPr>
        <p:sp>
          <p:nvSpPr>
            <p:cNvPr id="430" name="AutoShape 41"/>
            <p:cNvSpPr/>
            <p:nvPr/>
          </p:nvSpPr>
          <p:spPr>
            <a:xfrm>
              <a:off x="7882920" y="3187800"/>
              <a:ext cx="919440" cy="181080"/>
            </a:xfrm>
            <a:custGeom>
              <a:avLst/>
              <a:gdLst>
                <a:gd name="textAreaLeft" fmla="*/ 0 w 919440"/>
                <a:gd name="textAreaRight" fmla="*/ 919800 w 91944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AutoShape 42"/>
            <p:cNvSpPr/>
            <p:nvPr/>
          </p:nvSpPr>
          <p:spPr>
            <a:xfrm>
              <a:off x="7788240" y="3100320"/>
              <a:ext cx="1057320" cy="351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3.1.2.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Group 43"/>
          <p:cNvGrpSpPr/>
          <p:nvPr/>
        </p:nvGrpSpPr>
        <p:grpSpPr>
          <a:xfrm>
            <a:off x="7746840" y="2128680"/>
            <a:ext cx="1057320" cy="351000"/>
            <a:chOff x="7746840" y="2128680"/>
            <a:chExt cx="1057320" cy="351000"/>
          </a:xfrm>
        </p:grpSpPr>
        <p:sp>
          <p:nvSpPr>
            <p:cNvPr id="433" name="AutoShape 44"/>
            <p:cNvSpPr/>
            <p:nvPr/>
          </p:nvSpPr>
          <p:spPr>
            <a:xfrm>
              <a:off x="7841520" y="2216160"/>
              <a:ext cx="919440" cy="181080"/>
            </a:xfrm>
            <a:custGeom>
              <a:avLst/>
              <a:gdLst>
                <a:gd name="textAreaLeft" fmla="*/ 0 w 919440"/>
                <a:gd name="textAreaRight" fmla="*/ 919800 w 91944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AutoShape 45"/>
            <p:cNvSpPr/>
            <p:nvPr/>
          </p:nvSpPr>
          <p:spPr>
            <a:xfrm>
              <a:off x="7746840" y="2128680"/>
              <a:ext cx="1057320" cy="351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3.1.2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Line 46"/>
          <p:cNvSpPr/>
          <p:nvPr/>
        </p:nvSpPr>
        <p:spPr>
          <a:xfrm>
            <a:off x="7167600" y="3198960"/>
            <a:ext cx="0" cy="129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47"/>
          <p:cNvSpPr/>
          <p:nvPr/>
        </p:nvSpPr>
        <p:spPr>
          <a:xfrm flipH="1">
            <a:off x="6507000" y="4479840"/>
            <a:ext cx="128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48"/>
          <p:cNvSpPr/>
          <p:nvPr/>
        </p:nvSpPr>
        <p:spPr>
          <a:xfrm flipH="1" flipV="1">
            <a:off x="6501960" y="4471920"/>
            <a:ext cx="3240" cy="239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49"/>
          <p:cNvSpPr/>
          <p:nvPr/>
        </p:nvSpPr>
        <p:spPr>
          <a:xfrm flipH="1" flipV="1">
            <a:off x="7778880" y="4476600"/>
            <a:ext cx="2880" cy="239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Picture 50" descr="image.pdf"/>
          <p:cNvPicPr/>
          <p:nvPr/>
        </p:nvPicPr>
        <p:blipFill>
          <a:blip r:embed="rId11"/>
          <a:stretch/>
        </p:blipFill>
        <p:spPr>
          <a:xfrm>
            <a:off x="7547040" y="4635360"/>
            <a:ext cx="631800" cy="4636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51" descr="image.pdf"/>
          <p:cNvPicPr/>
          <p:nvPr/>
        </p:nvPicPr>
        <p:blipFill>
          <a:blip r:embed="rId12"/>
          <a:stretch/>
        </p:blipFill>
        <p:spPr>
          <a:xfrm>
            <a:off x="6184800" y="4649760"/>
            <a:ext cx="631800" cy="463680"/>
          </a:xfrm>
          <a:prstGeom prst="rect">
            <a:avLst/>
          </a:prstGeom>
          <a:ln w="0">
            <a:noFill/>
          </a:ln>
        </p:spPr>
      </p:pic>
      <p:grpSp>
        <p:nvGrpSpPr>
          <p:cNvPr id="441" name="Group 52"/>
          <p:cNvGrpSpPr/>
          <p:nvPr/>
        </p:nvGrpSpPr>
        <p:grpSpPr>
          <a:xfrm>
            <a:off x="7746840" y="4352760"/>
            <a:ext cx="1057320" cy="351000"/>
            <a:chOff x="7746840" y="4352760"/>
            <a:chExt cx="1057320" cy="351000"/>
          </a:xfrm>
        </p:grpSpPr>
        <p:sp>
          <p:nvSpPr>
            <p:cNvPr id="442" name="AutoShape 53"/>
            <p:cNvSpPr/>
            <p:nvPr/>
          </p:nvSpPr>
          <p:spPr>
            <a:xfrm>
              <a:off x="7841520" y="4440240"/>
              <a:ext cx="919440" cy="181080"/>
            </a:xfrm>
            <a:custGeom>
              <a:avLst/>
              <a:gdLst>
                <a:gd name="textAreaLeft" fmla="*/ 0 w 919440"/>
                <a:gd name="textAreaRight" fmla="*/ 919800 w 91944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AutoShape 54"/>
            <p:cNvSpPr/>
            <p:nvPr/>
          </p:nvSpPr>
          <p:spPr>
            <a:xfrm>
              <a:off x="7746840" y="4352760"/>
              <a:ext cx="1057320" cy="351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3.1.3.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Group 55"/>
          <p:cNvGrpSpPr/>
          <p:nvPr/>
        </p:nvGrpSpPr>
        <p:grpSpPr>
          <a:xfrm>
            <a:off x="5421240" y="4381560"/>
            <a:ext cx="1057320" cy="350640"/>
            <a:chOff x="5421240" y="4381560"/>
            <a:chExt cx="1057320" cy="350640"/>
          </a:xfrm>
        </p:grpSpPr>
        <p:sp>
          <p:nvSpPr>
            <p:cNvPr id="445" name="AutoShape 56"/>
            <p:cNvSpPr/>
            <p:nvPr/>
          </p:nvSpPr>
          <p:spPr>
            <a:xfrm>
              <a:off x="5515560" y="4468680"/>
              <a:ext cx="918000" cy="181080"/>
            </a:xfrm>
            <a:custGeom>
              <a:avLst/>
              <a:gdLst>
                <a:gd name="textAreaLeft" fmla="*/ 0 w 918000"/>
                <a:gd name="textAreaRight" fmla="*/ 918360 w 91800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AutoShape 57"/>
            <p:cNvSpPr/>
            <p:nvPr/>
          </p:nvSpPr>
          <p:spPr>
            <a:xfrm>
              <a:off x="5421240" y="4381560"/>
              <a:ext cx="1057320" cy="350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3.1.3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Group 58"/>
          <p:cNvGrpSpPr/>
          <p:nvPr/>
        </p:nvGrpSpPr>
        <p:grpSpPr>
          <a:xfrm>
            <a:off x="6504120" y="3243240"/>
            <a:ext cx="1184040" cy="351000"/>
            <a:chOff x="6504120" y="3243240"/>
            <a:chExt cx="1184040" cy="351000"/>
          </a:xfrm>
        </p:grpSpPr>
        <p:sp>
          <p:nvSpPr>
            <p:cNvPr id="448" name="AutoShape 59"/>
            <p:cNvSpPr/>
            <p:nvPr/>
          </p:nvSpPr>
          <p:spPr>
            <a:xfrm>
              <a:off x="6598440" y="3330720"/>
              <a:ext cx="918000" cy="181080"/>
            </a:xfrm>
            <a:custGeom>
              <a:avLst/>
              <a:gdLst>
                <a:gd name="textAreaLeft" fmla="*/ 0 w 918000"/>
                <a:gd name="textAreaRight" fmla="*/ 918360 w 91800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AutoShape 60"/>
            <p:cNvSpPr/>
            <p:nvPr/>
          </p:nvSpPr>
          <p:spPr>
            <a:xfrm>
              <a:off x="6504120" y="3243240"/>
              <a:ext cx="1184040" cy="351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3.1.3.2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AutoShape 61"/>
          <p:cNvSpPr/>
          <p:nvPr/>
        </p:nvSpPr>
        <p:spPr>
          <a:xfrm>
            <a:off x="4433760" y="5702400"/>
            <a:ext cx="5335560" cy="312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23.1.1.1 =  11011111  00000001  00000001  00000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AutoShape 62"/>
          <p:cNvSpPr/>
          <p:nvPr/>
        </p:nvSpPr>
        <p:spPr>
          <a:xfrm>
            <a:off x="5592600" y="5967360"/>
            <a:ext cx="966960" cy="92160"/>
          </a:xfrm>
          <a:custGeom>
            <a:avLst/>
            <a:gdLst>
              <a:gd name="textAreaLeft" fmla="*/ 0 w 966960"/>
              <a:gd name="textAreaRight" fmla="*/ 967320 w 9669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599"/>
                </a:lnTo>
                <a:lnTo>
                  <a:pt x="21599" y="21599"/>
                </a:lnTo>
                <a:lnTo>
                  <a:pt x="21599" y="59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AutoShape 63"/>
          <p:cNvSpPr/>
          <p:nvPr/>
        </p:nvSpPr>
        <p:spPr>
          <a:xfrm>
            <a:off x="6635880" y="5986440"/>
            <a:ext cx="965160" cy="79560"/>
          </a:xfrm>
          <a:custGeom>
            <a:avLst/>
            <a:gdLst>
              <a:gd name="textAreaLeft" fmla="*/ 0 w 965160"/>
              <a:gd name="textAreaRight" fmla="*/ 965520 w 96516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345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AutoShape 64"/>
          <p:cNvSpPr/>
          <p:nvPr/>
        </p:nvSpPr>
        <p:spPr>
          <a:xfrm>
            <a:off x="7680240" y="5989680"/>
            <a:ext cx="943200" cy="79200"/>
          </a:xfrm>
          <a:custGeom>
            <a:avLst/>
            <a:gdLst>
              <a:gd name="textAreaLeft" fmla="*/ 0 w 943200"/>
              <a:gd name="textAreaRight" fmla="*/ 943560 w 94320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599" y="21600"/>
                </a:lnTo>
                <a:lnTo>
                  <a:pt x="21599" y="345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AutoShape 65"/>
          <p:cNvSpPr/>
          <p:nvPr/>
        </p:nvSpPr>
        <p:spPr>
          <a:xfrm>
            <a:off x="8726400" y="5992920"/>
            <a:ext cx="943200" cy="79200"/>
          </a:xfrm>
          <a:custGeom>
            <a:avLst/>
            <a:gdLst>
              <a:gd name="textAreaLeft" fmla="*/ 0 w 943200"/>
              <a:gd name="textAreaRight" fmla="*/ 943560 w 94320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599" y="21600"/>
                </a:lnTo>
                <a:lnTo>
                  <a:pt x="21599" y="345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AutoShape 66"/>
          <p:cNvSpPr/>
          <p:nvPr/>
        </p:nvSpPr>
        <p:spPr>
          <a:xfrm>
            <a:off x="5807160" y="6188040"/>
            <a:ext cx="484200" cy="349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AutoShape 67"/>
          <p:cNvSpPr/>
          <p:nvPr/>
        </p:nvSpPr>
        <p:spPr>
          <a:xfrm>
            <a:off x="6937200" y="5827680"/>
            <a:ext cx="230400" cy="349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AutoShape 68"/>
          <p:cNvSpPr/>
          <p:nvPr/>
        </p:nvSpPr>
        <p:spPr>
          <a:xfrm>
            <a:off x="9058320" y="5827680"/>
            <a:ext cx="230040" cy="349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AutoShape 69"/>
          <p:cNvSpPr/>
          <p:nvPr/>
        </p:nvSpPr>
        <p:spPr>
          <a:xfrm>
            <a:off x="7953480" y="5827680"/>
            <a:ext cx="230040" cy="349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lide Number Placeholder 71"/>
          <p:cNvSpPr/>
          <p:nvPr/>
        </p:nvSpPr>
        <p:spPr>
          <a:xfrm>
            <a:off x="709920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903D-AF77-4F99-BE91-6022B8D8ED9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jla</dc:creator>
  <dc:description/>
  <dc:language>en-US</dc:language>
  <cp:lastModifiedBy>as aas</cp:lastModifiedBy>
  <dcterms:modified xsi:type="dcterms:W3CDTF">2016-02-11T17:25:48Z</dcterms:modified>
  <cp:revision>13</cp:revision>
  <dc:subject/>
  <dc:title>Wide Area Networks and Internet CT1403</dc:title>
</cp:coreProperties>
</file>