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D3EA-97FE-493C-91A7-F6BE5D7D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F9A4-569F-450A-A24C-38DB1A4893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24D5-E869-47AA-A3F8-9FF4C9D3E6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822D-7789-41D6-B87F-7751EA2201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B642-CABF-48BC-8940-C04155D7D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AC6-E835-46FB-9607-D27B010DAC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7A14-7AAC-42C6-A8CE-6B6692057E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3DEA-78E1-4230-A11B-0708A08E6B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60D9-F6BA-404B-A9AE-14BC2168AD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7F27-2733-44EA-BF55-348E3BB826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890-F543-4519-9134-E4971BE32D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76FB-E172-4815-81C7-265AD8FAF2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2304-F248-4C10-AE76-3C8D7D0EE0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7CBF-3737-4981-8EBF-A67439E78D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26C5-A85A-4F6F-8F65-E1871D66CE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DD0E-677E-4322-A50B-F0F77A6F62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DFE3-EF60-4A7E-82E8-9232780C3A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3D58-E696-41E6-809F-F78761A95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C05D-6F03-4649-AC28-834DA20782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BEF4F-749E-4FA0-A51B-9AD353AC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6D3AA-39BA-4C49-80A1-5D200EFE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E73F-72E4-4ED9-92AB-F2F05A1F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0F64-C64D-49C2-AF1C-94212D4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F87D-9373-41C0-BA3E-A489F469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DB01-E502-42B2-B55F-793FCB2E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55FE-529A-42F6-856E-A66A2C9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B6692-7577-4C8A-AA3B-F9206F1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D8E0-B367-41A5-8E53-F4F704ED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BDF5-11CB-45D9-84E9-AF6CF94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7618-DCFE-4A0E-868C-CD1B235A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4C1E-3CE5-470F-AAA0-DAD076AA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099C-334E-4143-988C-D3BF38F4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7A2D-C3B5-4324-B877-220E7114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D752D-A41F-458C-B053-14570DEE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D56FD-2790-46B9-B253-82AFC13A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D8D2-D151-4AF1-9D51-B287AB29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9D89C-50AB-4957-952D-41C7C1BB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74E02-F928-4B5F-9E09-C08E3BC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00E3A-0CCC-4AAC-B27F-61137988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4D66F-AE6C-476E-BC7B-BCE4A50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93E-4543-45A6-8ABE-1CE716C1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98E2B-0685-4D03-A173-E9909FB5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9F9BA-6D25-4FAD-B097-1DAA320D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C4C58-DE54-4D88-A489-44AF33D4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00B3A-F9A3-4A4F-888D-11859CCC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AAC5C-8293-45FE-A328-74A142C8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12E81-4C52-48BA-A364-D2DF1F12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45195-7E35-44A4-983D-07B3CCA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6CBE-4D91-4F16-AEBE-5E36489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61BC5-1DB9-49B5-83BC-1F74DF25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C5B0-55B9-4170-8A49-7E044695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D05-08D5-40B6-ABBE-1CE31397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87827-A63A-4A18-9120-ECD03AE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59D43-9CA9-4269-911C-BF65666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377E6-9387-406A-B274-9424D2BB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B96A-E533-4201-B235-E889220F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4AAF0-E57F-4C28-B1B9-F9E4B401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41B31-4440-42DD-9559-9C00C883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5480-B022-498C-AF2B-38BE12F4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903BF-9A5E-4AAF-9762-37EB05B3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8DDDE-0432-4BF2-8E66-0D3E1494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48454-991A-4405-B1D0-699FFFB1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26D-C5ED-48DD-90F5-994E2700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8AF49-BB02-4158-871D-00BA1551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FF9D3-C536-41A6-B1D6-0991E17B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25610-C662-4DE5-9FDE-21F96D0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3E2B3-C53D-4D00-B926-932F166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EFB6F-7273-4178-A5FD-B69A015E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71A03-6099-4BF2-B181-61AEB4D8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22AA9-2E52-4668-B4DC-A105AD0E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75157-8FE8-4EEB-B0CA-F14C4497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1842-D35B-4612-9803-CE37C671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0A3A5-D461-4180-A467-5BD7D5C2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37F-B78B-464A-89EC-0D5834E6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C2624-5CB8-4811-A462-409C6928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258D3-FCD5-406C-9E03-9AFFF958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93D78-1ACC-40FC-A7DF-B4F4EA80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9BB12-2C6C-47F0-9D57-1FD1127C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C2667-CEA3-429C-8CB6-B0766226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55AEB-F7AE-4EDD-8F7D-B4EC0A8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C2318-FDC3-418F-9C8E-D3E4034F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4876-76D9-453E-B16E-66767349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23ACD-294C-4D7E-A78D-90477349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5A18D-EAAF-41B9-9E91-630F042B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0F8-D12C-4E87-868C-856040A3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DD9E0-7934-47BA-AAF8-027A1445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68DC0-19C5-4E53-83F0-4FF75C9C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524FF-E298-4695-9205-FB0216AA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B089D-7F2D-4790-85F4-8B0441F9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9A307-45BC-4E9A-A4FE-CA5FB9C3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8C6FC-0C46-428E-AFB0-9F8AAED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38CEA-0BDB-4037-8DAF-0AC420A4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9C260-035F-4DE8-B819-D95F9AEC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CCD3B-CCCF-4DB8-B8CC-EAA7130A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6B590-1FEB-4F01-A19F-E4E97979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113-636B-4881-A6A8-B918C87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A39FF-A8A5-4FC5-9899-9602FA25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98ED1-FF45-433C-BD3E-95D66847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722D8-F637-4291-98AF-C19F3D99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CEAA1-8D2E-4718-8A2A-BF2DDC15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8CF39-2F0F-4A91-80E8-35A7B0A9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F015E-E723-4722-A07F-4D1E8C0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8B33B-E443-461E-A02B-BB380A92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76909-7CA0-4291-84B1-5E1F748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1D53E-CDA0-4764-AC79-85B94B02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85B28-29FE-4286-B408-15A8219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5E6-C7D1-4997-AEAF-361C93E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CF3D0-59F6-4FC7-863A-9E6478DE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E0B37-F4B0-44F6-BEB9-70F28ED7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9C35E-8C86-4AF3-845D-858C5BC4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ECBEB-F59F-437F-A2C3-BAE0762F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E73F7-E0E2-43F3-8343-8ACBF89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75E03-2B4B-420F-A5A4-5B0A03D1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4FF73-6E09-4151-AC96-66A92855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129C4-8060-4BCA-ACA4-410526E8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41D12-3239-448A-8A81-8B997391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C9708-1013-4D98-AE3D-93BF5C0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CDC-7DA7-4FCA-9E09-931E707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389AA-BC80-43D0-9A8C-B234D86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8D326-DD9E-4FBA-87AA-1828850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304B7-92E1-4860-8A33-72A726C7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9D2C9-16E3-424A-9D8D-019CBE82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FC67E-15DE-4FB6-A1E0-6B82AED9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98ACA-48A3-438F-A3B8-E6A77C78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9E6F6-34A4-42C6-8095-EF73BF75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082AD-B1E1-4F03-9B48-D8ACD909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E05F5-4A88-49B7-B5FA-9144DC01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5493A-16E2-4F47-8E8C-E6AC519A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87B-9418-4389-9C9B-B3CEE4D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A8C26-5ADF-4381-AF92-0BDCB552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32901-C0C5-4C83-B63F-836A658B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C5D48-9014-41F6-9CA5-BFEF605A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54E41-8C4C-418E-AF29-CFBCF1B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F09E7-CBCF-480F-A788-19D616A3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4151F-DACC-4EDE-A928-A6D0369B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5275A-346E-422A-A717-3539637A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144C3-09C9-4564-B0D5-49CEF009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B0277-082E-4275-8830-4EC6B69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B5CED-0641-48E3-847E-0391D968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2A0-4F4A-4A9A-B371-6EA1F849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A9A7E-F701-4480-BF69-B6FC78BB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3D30A-F75F-47CB-B51F-00672327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2C383-DA2C-4D78-9BA4-71FCC56E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68CA6-2888-4ADD-8C3B-070F67C7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9DCDC-A12F-4D61-ABCD-30CFBBCD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EFBCA-7063-43BE-A93E-E0F6E49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DB8C0-DD22-4471-9314-A122898A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45076-C4F2-4900-B6A5-CB837E34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F95A6-75B0-4D17-91A7-E052186F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EC25E-A326-47E1-A7D3-CC4787F5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EB5-AED4-4875-8CC6-36CD8AF7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30DDB-0A42-42F6-8BB2-F5582704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3B4BD-7C8E-4071-BB27-0ECB3F7C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3378C-6FD3-4FA8-B6FD-76085FC8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BD3EC-F9E6-437D-932E-997CF048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9DBF0-970D-4DEF-A655-770F50C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E703C-4B3A-42FF-ADD2-BBC0C2D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981E6-EC8F-4B25-9C39-85708E4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666DF-3E9E-4E28-996D-8B86205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B9CD5-578B-4F05-ACAC-ABA7570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4806E-5E15-4BED-97C9-85F13A2D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BE2-EE20-4824-824C-3AA7731D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F9277-286C-4C7F-8A91-D651204D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97CCD-A70B-4BE9-9CB2-B26E53DA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AC6D9-3B11-4283-86EF-362247A0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F2EC9-9072-499D-8901-1314EC35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BA075-3255-4CBC-A30F-3AD963D2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5BEBA-D6B7-4F6A-97AD-C83847FF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696870-B88A-4D6D-B263-3DDBD9B9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98051-6A9C-4839-890A-BAB4E2E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50213-86AB-4140-8390-1CC3C75E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5F284-4CB3-4EB4-8591-2A9818A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B92A-5FD1-46C3-93D8-D21EB757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F9457-F57E-4019-BF7B-6DB3549D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A384F-1AA7-4DC4-AB28-85A36C77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095C6-9F53-4366-9085-AEBFF856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57A7C-D032-4BD3-8F3C-6A0A8617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1B5AE-6DCE-4297-8831-7AB34C8F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DCC13-D693-419B-9195-EC349DA9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220A0-AD0C-40B5-84A0-078CEF05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B024A-46FB-45D5-9BE0-E7BC5617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82A96-17F3-481B-A044-5CA1BF00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98DB07-569F-4025-B8F2-02A792CC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9557-3EF9-4C3A-B5EA-56E08944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57DED-B20F-4679-AFAF-B7C48213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355E0-2D67-4AE3-848D-87CF634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3B06C-AC96-41A2-B3A6-34A1BC4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1B793-3929-404A-9AE4-AC1151C8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74AC0-6039-413F-80C7-A3C4C9D7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0E8FC-4A55-4E54-B4ED-5F471F43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A08BE-68A5-45FE-89C2-76862180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BB6B6-68B9-4CCF-B2AD-F5164CE2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DFAD6-54CA-429B-B5C1-872A2F94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BBE60-3CA5-4536-B0CF-E39AE081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5F51-938D-4B47-BE3B-979F3E67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CF02B-642E-442B-B73A-10397FDE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620D2-F3DB-4858-99ED-BD7464A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888F2-BC63-4B08-805A-793B2B3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E2FE3-5336-4A0F-916F-2ED57FD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98505-B9BC-4EB6-BAA3-F6A7E9C9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C88B4-F147-4B6C-B318-76484347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DCF52-2136-4773-A318-D50311FC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41F155-910E-4149-BEBA-6219BDE6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ACD50-452E-4838-89C5-F1819844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D753C-8F48-41E2-9CD0-7D31F386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580D-2492-41FA-B945-983BAA5B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523F6-B0BF-4D8E-8EFA-6CB005F0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7CBAF-8BD9-4D80-867C-9ABCA3C8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798D8-F555-4851-ACD8-8177D197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8D47F-7897-4455-BE5E-E380E99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03F47-8A21-40E6-8098-7E83525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0F6E2-E5DF-462A-AD6C-54410B6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06B91-352F-49CE-97D6-FB07FFDE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F826C-E00C-4A57-8ECB-266D37CD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EB457-BCD7-47D0-817A-5F7D7B56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984B-9C1F-468A-8388-19ADBAB2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3AC8-E42B-49FA-9C43-1139FAB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C09A-C70C-40AE-BE40-A4DBBAD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B087-EC9F-4810-AFB6-307D4E6B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4C1F-FCDF-4C4B-8527-4151C5D1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035F-D83A-4D3F-BFA1-E93EEFAB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E3CF-CC72-4FD8-90F1-8A3A77A4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5E8-B0C2-42FB-9339-1D8B8D52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02B2-1155-4995-9BC7-3D36E555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F6B0-5108-47BB-82A1-E1C6280B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827D-8868-479F-A8CF-85805E47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CF32-E3B7-47B8-81EE-AEFB0779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F727-B57A-41CB-8D0D-13753B7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7DFE-6B6E-435D-85D7-C25641EB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97673-51E8-4948-9A4C-06CFBAEB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7B8B-BF1D-44B9-B282-FCBE656B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6EEA-AD43-436E-8DB2-925BD771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2FC48-3768-435A-80EC-CA63B601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DB3F-A7C8-4B20-8996-2C945418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5C5D-AA51-45C1-9E63-6816457A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61EC-904B-47EF-A1B8-44E48F7D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1F16-0A49-4A0B-A0C4-2793BD61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E34FF-5BF3-4C5D-9DD7-06C38F03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4FC6-29A8-44A9-A401-05FB4C5A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7FBD-F159-49C2-947B-0D6A17E2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213BF-2857-469F-890E-2864B145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ED3E-84E0-4EE0-9027-D2913849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1DAB-7FC8-4AD1-8D51-3444BE9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4C73-1C51-43E8-ADC7-97EFCB8B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E7B6-4072-4C05-8713-C8B658EE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074C-1556-4DF8-87C3-519023BA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AFC0-6F9E-4792-B791-C8E05935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E41-D891-4DFF-A167-8AEA5E78CB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4C3B-C9E3-4FC6-9E71-EB494DDF0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A4C6-068C-4606-99D1-AF5AF9C19F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41F-BB0C-484D-B311-9D720F123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0558-60E5-4215-8AE6-8B42F52459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E087-3EDD-4401-84E7-7207EF62C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C13D-6C13-4C8C-B37F-25D2F370C6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A7C-E239-48D2-B46C-DD13ED74A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3DD7-C971-417E-89EE-7CD572502F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C66D-4E15-4ECF-AFED-D4828B488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0806-C216-40FB-A1D0-6B953548A6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7121-A4AA-457B-A540-8C7C35DDB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9EB9-29B9-4349-A23F-918FD72EBF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56F-4EA1-44E0-8908-40FC20744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C062-E486-4C2A-869B-7CF1B74807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A1A9-861E-4E98-B142-CCABAC886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75C9-DFCC-4F21-851E-B70AFD1D23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74C1-8EDD-4269-97C5-469499BD6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14ED-7B77-46A3-A242-2ABC34E165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E1E3-4C77-4E0B-A7E7-BA271A14A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DE12-0B33-40EB-8E31-A4A75CCB5E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7A88-5231-4F4B-99BB-7BBA28F6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1BA4-01C1-4259-A321-45E092F49B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449-82F8-4EE8-8335-D930128CA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6C9E-9568-4415-A51F-7D49A133E3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4E87-E753-4A21-BCE7-84813CD55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69A-65AA-454D-986F-91FD01B4A3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2466-4958-4ECA-B906-5F1BC5036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D58C-24E2-41B3-B27A-DD58B78587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C477-E946-433B-97AF-85D4ADB9A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3846-4DC4-43EB-9F71-5CB04EE6AB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5272-EC3A-49B2-8D3D-C76659277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977-0B82-4BF9-B37F-738430949C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4FAB-C34B-4E39-9E17-6BD9D7DB8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7EB3-1274-4492-9D29-0BD3E814C8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C6B1-DC30-4A86-B3A1-074C4897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2453-7166-439A-BB02-559E200EB3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BB7-5ACA-41A6-9CD2-A3AF66669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74D6-CC20-4566-8960-324D8FA2AD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070F-E1F1-4C96-8A83-86AE1763AE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F867-66EA-49F2-9069-8054315F20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31D2-426C-4CDC-8D04-2E5D639A2B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2880"/>
                <a:gridCol w="366840"/>
                <a:gridCol w="274680"/>
                <a:gridCol w="365040"/>
                <a:gridCol w="274680"/>
                <a:gridCol w="36504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2BC5-35C2-441D-B74D-4F43D2D82B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8365-DD5E-43AF-9B22-BC5077F9D6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E5E-CFEB-45B6-A224-DD57E4C890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38248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27480" y="1371600"/>
                <a:ext cx="212652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329640" y="1592280"/>
                <a:ext cx="2513520" cy="9136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327120" y="4408560"/>
              <a:ext cx="2512800" cy="91332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6016320" y="4191120"/>
              <a:ext cx="238932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12724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9B45-B4CE-4D4D-8B75-B24FB14D10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349-0450-4C35-8798-D8AE52D00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86CB-1377-4000-9391-32D779D09A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902E-F7BC-4461-BE21-DA3CE8B2F1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D609-30B4-4D6D-9BA5-C4C04721B3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3407-B3E0-495E-ABD2-28C9EE11FA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5AAA-F9CB-4B2F-BDAC-C13FCF0561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3B88-4C99-473C-A15B-A527247843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8B1-605A-4BDF-8575-5C8CF10B19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6F2-23B6-4092-A7F9-5B5B6D2C94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Abdulrahman Abdullah O Alomair</cp:lastModifiedBy>
  <dcterms:modified xsi:type="dcterms:W3CDTF">2017-10-10T14:39:18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