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1BB9-70B3-4398-BADE-105D1CEB0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DDCA-010E-4BF6-860A-C828EC7026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8D8-3611-4A91-9E8E-9634CCB677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B3F3-5609-4DE7-95F8-AE2D756981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3448-EFF1-4C06-B8D3-635304237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B06-7D04-48A3-837C-34DD3D3CAA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BDEF-AEA0-48D6-BF07-8ED6523E62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8621-D08A-4349-9FAA-A145A52DC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A49B-B600-4ACE-8F76-4869DBB882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4DD-8F0E-44DB-B07A-0AB82950CB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27A-89C4-46E3-AB51-27AAE0B8F2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370B-F066-4CA5-8133-F524AE9B87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383F-84CB-4658-9FDA-7E6BCA39FA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BA50-6D0F-4FC0-AA71-017917747D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6008-EA7E-409B-AB70-D741D862F7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64F7-DA78-4FF0-B8A5-DC47B185D2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3B9-0BB4-4993-BB84-06BFBF24A8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959-2956-4E20-9E9B-E36BB0A665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32C3-ECEF-43BF-BB27-AC487EA492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2E27C-360D-439C-BE2C-5D4EB7F4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4614-5FB6-4A80-982A-81385359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B1BD8-F8BF-4DD3-B65F-ABCF9075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BBFAE-9B9D-486D-9DCD-B278EE3A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C6196-0079-45C7-A6DD-5707FBE0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A0534-F7DC-4BEF-8D70-B0CFBFBE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4F40E-EC57-4672-AAFF-63DB108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186BE-B56D-4522-9A63-B07E30F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23631-403A-44CA-8922-9158435C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BC865-009E-4626-833F-2E53DE7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BC7B-1C83-48D2-8F23-1E0E24C2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E255D-8CCB-4BEF-84D7-BD77E691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05F61-A8F7-416E-9135-F5042466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CF85-9797-4763-81CF-0C6ED881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22066-197E-4D10-B34A-F7BC659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2E2E9-13F2-4BDD-8B57-6EA50229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1B245-1B68-4BEE-96AB-A26B4681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674E8-F4DE-4EC2-9C1C-08066E86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A3A2B-BCB3-4D2D-A1E2-47D301D6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A593B-1367-4949-AE76-52BFF57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46863-F39A-4E08-913A-A3603E2E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24E-D0CA-4911-9C68-086E3120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29BD7-16C4-4E16-8D29-3F84C64B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ECCD-0A4B-4FDE-8667-68C2E652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9C955-EEF6-47BB-84BC-13A9C4AF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909E-4D04-4194-96F0-8116D7AD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E1BE-9794-4780-B3F8-B600E05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2040E-2891-4A2D-9CED-75EE0D39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13AF0-D39F-4154-A4A9-EF9EB65C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288E1-C958-43CF-A8C0-3BF3D63C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B300-12E7-47B6-82EB-F86F1C7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1A1BC-DAF0-401D-AA55-69140920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81B-EDCC-439F-8AF9-FC3C429D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D3DE2-927F-46DD-A709-783EB02A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2BF63-1E7D-4321-B4C2-F693E5A8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F087-75D4-4876-A4CF-23BF0B8D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317E1-47E2-48BC-BCB6-E1C0EB4F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7D88D-F89F-4A1B-9566-017C78CC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7D255-97A5-4D74-B30B-8CC87171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C7A26-6792-4919-9F95-ED1DDBB5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40D93-54CD-485D-B330-9B3E8CEA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6C922-2E81-41A0-A7FC-B44F8912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A6F97-300F-448A-AFED-38A57B32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556-2D42-4770-B896-FF977ED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949D9-82A8-46AF-AF50-9107F05E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E67FE-81FD-4CE8-9DD8-BE422FC5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97A8B-C00B-4EB9-B7AF-27FE3732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8639F-91A1-458A-B257-99E64867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E6A9-4EB0-446E-8462-E5C9079E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C318D-0A64-458E-8240-1F13564A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C4B4-1F34-4C26-BC19-19BA0CDD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A8401-F621-4680-BBD3-E2707B23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83E63-7496-44B2-A035-832D1E5B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61F2A-7CD9-4C1B-9CBC-C96F0E70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41A-3673-4DF6-9720-C4253896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C8DE8-C6D3-4AC8-87F2-168BC4D4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7944F-0B47-4BBC-9FBE-262827DB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AD85C-2A93-44E5-A384-98C911C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72FD2-9209-4359-A5F5-B0F9E5D2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897B1-E760-4A90-8663-F64EB551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C5347-9E60-4B20-926E-4A3D678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3C415-E1C3-49A5-AC50-7CD1DFAD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D2B64-792B-4191-AE56-8EE1D796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ECD7D-AFFE-4BF3-844A-6D030062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3605C-D80D-47FE-A389-87BCCC6C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44C-E78E-42A1-8720-568C230B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85C9F-4289-4F5F-A77C-2AA088F1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2D0B8-1437-4531-BEA8-46F8942B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B24D0-6B53-4C7E-BD51-2EF5DE8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11B4A-7E55-4937-BE3B-59359CB1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ED230-0E6E-47F5-A266-72B55513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D118B-F405-437B-A509-5FEBB83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F64BD-5396-431F-A458-67DA3E4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E088A-B3DA-4F76-8D9C-49546128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EDA47-8202-4E08-B4A8-2B018795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6B994-E128-4AB7-8562-936A4F1E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4C4-57B2-4865-A8ED-5A2E390F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CFA8F-E1B0-4F4A-B3D4-BC60415A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27F25-C386-4ADB-9C16-346B1135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1A375-01A8-42E1-B885-80713FE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D7B3F-BB51-48B9-AA5E-BDB10D49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6AB07-28F8-45F4-A1F5-72F94D4A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84028-0F64-46E9-9968-8AC98AB7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703AE-5207-4CBC-8E17-8D53FAAB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8065-8268-4FB7-996C-E9C9C5B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8B739-B6D1-469D-9D65-A95A5238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63C53-ECDF-47C4-B65E-F089DFF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B7C-B111-4F39-8C34-FF257293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6DE00-EB35-43FA-8881-292C8C4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BEFE3-4829-4C08-B8C8-78C1B475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C4DEB-2AB8-4036-B4DD-4FF9C8C8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223B3-F794-467D-8610-C650A5E0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FFEBF-6DE4-45BF-B1F8-350F68C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8A184-D894-46D4-B635-FE441C8A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8D718-51B1-4BF4-B288-1CE2147A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69669-55C1-46BF-BDBA-52DAC6EC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1C89E-67FB-4879-93BE-E54E1BA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5EDEA-AEAC-4C98-B6F5-66C03A9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F97-C96E-42AC-8335-D60D89E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4AA28-C6F6-4FB9-BEBC-8354DA2A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67283-A008-4CE4-BD31-3BD86C1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98123-8A0A-49AB-945F-FD555BED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48474-20C1-4BE7-A526-8E0D5FC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F37EF-FD26-4035-9FB6-6F69387A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FF87F-CB13-4701-830E-59CB868C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178F5-4F08-4877-8E07-D216306C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8F4AD-5D61-47C5-87D1-9D6EE7A6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EB732-BDC0-4A1B-86F3-06EED1C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49177-1EB1-4EE3-B1EE-EF2B66EA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47A-0F74-417D-8C24-5B962CB0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CC47C-246E-4963-B35C-31C460A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61E36-D273-4E8D-BBCD-5A498FC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1DE96-D0BC-4851-BBA1-E438723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34928-55B0-4DBA-A782-8BC0A91C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62D93-37CB-4660-BE32-AD6D3C37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E03F3-1737-4A6C-B721-69A30392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2D76A-CBB2-4390-AFA9-372C5A59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93A9A-80D3-4BF2-B6EA-7CE0639D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6E1D5-9215-40CA-BC95-8A85C6D7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68CE1-54E2-451B-9556-19513F78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871-DBCD-4588-9415-9932AB2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B45A5-A7FA-439D-BA42-687CD23E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02A1C-DCEB-4521-AF4B-7B43C6FD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0C2EF-30B9-42A6-A5DC-691DAC9E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3F0DA-FC1F-4AB7-B5AB-F6925716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3F737-1B09-4F67-ABA5-6633CA67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2A3AF-F52D-4161-8BA6-30FA8E9E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1CD25-98D1-41B5-AD61-E612DA5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DF06F-ED42-4C12-A849-5F1B3EAA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C9B30-28C4-4051-9ED5-6D04889C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25CF1-FE07-4F8C-99C2-7CB48C08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B86-BE63-4021-97EB-0685CCA0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E81BF-721E-4FF2-92EE-C7C3F8EB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030BD-3923-420B-AF49-D1E5396D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004D2-5D61-444D-B22F-884F5F8B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9A575-12BF-4061-B31D-C7737A57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3E0E7F-0078-452A-87DC-79E80BD5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C495D-3514-456D-81F6-1C37A016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32FBD-04E7-4483-9C5D-1D6EE965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0998F-5247-406B-B1FB-D138615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95B42-07DE-43DF-A832-887FA76F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6C56AA-87AA-4808-A00B-068CE2DD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608-62F8-4AE5-B9B6-5C910D55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E965B9-2B15-4A8B-B9EA-D18ED97B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7318C-401A-4381-B3FB-0A18F586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55717A-6D4F-47F1-919A-ACC3BB4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707162-4394-4B2E-BC61-4E84BD55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EA138-B2A5-4E77-9E8E-B34037E9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31FE4-1953-49BC-BCF9-F587C70B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54F2B-20A6-4BB9-9657-FCCC4DD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3F24E-4019-47D7-860F-4AF6A39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D3413-BAF3-4E6F-AA8A-90BF419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FFB4B-4DD4-4542-BDEE-F26AEAC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1670-F14A-4A6B-9C1C-50CF403B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08EFD-0731-4894-BA07-E7EF7B4A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C7E14-6D81-4BCF-B0C6-4A7EEBB6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96218-0E19-431E-AC01-91A2E8A6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A8E23-0484-4A6A-A9C8-292BF117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58685-B68E-4186-ACBC-57F24FAF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1DD2F-D50A-4302-837F-7371F28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3E2FD-3590-4BC2-9660-F5660C30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87AD46-F0AD-4E0F-95E2-03E3FE53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C4BE3-67B9-42DB-B9A1-3D931AAB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69EA7-F176-494C-833D-CBA8FD2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125F-9FD9-4D60-BB84-C9C1D3D9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9CBFB-0C8B-4CFE-B488-C81B23C5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58232-6CB4-4DF6-AD9D-DAF206B6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D3EEC1-5554-4555-B2F1-D962919C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0D223-FD70-4824-A413-372EA2EE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F4C4C-66FD-429C-AF9E-311D94D7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F296E-643B-43ED-A48F-9261197F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5AC73-2874-4495-905B-E2CD8C6A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5820A-F6E2-4725-87CB-C31F74A8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9272F-126B-4805-AD89-827DE7C6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BC01D-03F8-413D-B777-E05EFCCD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91FE-F8A5-46A2-96CF-BBC62723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3696B-38CE-4BDF-AF42-8D36D074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F803C4-1C5B-4176-8703-A4611385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56B3F-CF8A-4D17-9853-0B8DD47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14D26-395E-4DDA-8FC9-F3353470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A4FD0-585E-4282-BDCC-32E59B1D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343BD-B15D-42C2-9E0F-5B545C1C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1610F-8B77-4EA2-9386-5039301F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CB99C-05A9-433E-B767-67B9B330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8B1FE-69DC-4EC3-AE9B-21D70BB5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2E60DC-01E6-4D07-9439-140A1919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1561-590D-4D18-8F7C-79131860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9EA73-9FF3-4A91-B831-B2FB1ECA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98326D-2AD7-4731-A970-6004D04C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A210A-0D79-479B-87FA-3E20D589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4EE8F-5684-430E-8D24-C3E5986D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D66970-BD59-40AC-B1DA-A8974DC1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4405DD-68D7-46F9-927D-AD08C6F5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40664-35BB-4425-B9ED-E6BA9276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704EC-05CC-48A9-A8E7-858FEFBF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A8401-7028-4313-BE3A-4DE64E2C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EAC0-103F-4E1E-B6C3-065F423D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C4E7-B2FF-442C-89DE-B0061020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A818-5361-4C67-A561-28B8BF8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E8A2-42EE-47AF-8CB6-8C85C98B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BF12-CA24-4E9B-A954-9E9153BB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5FB7-166B-43B1-8BD4-BDB67191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8769-726B-4018-81A4-07A2AA37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7755-F90F-44FB-BE71-16C731D2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4B50-FEC0-48EF-B2CC-AE9563B3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44C3-87C2-4B64-AA01-9EDD014D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8906-170F-41E2-97BA-A4B41E0E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7FB0-3CA0-4013-B5CC-5C87B288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88D1-D39B-4A85-BD5E-9033A29D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010C-CE19-4102-8AB9-BAF79A19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B224-DFBA-41C8-8924-662D36CB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C6DA-BC93-46B3-89E8-8F135865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332E-D7E0-48C1-8B01-668D791A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B6DA5-4A84-47C7-B578-C795CF87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4009-5F64-43AF-B0D1-7529613A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9675-6396-4C84-9CD4-FFB76F71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39CE-7AC2-4EC3-BF77-992D4836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80C0-1584-44B2-8FFE-C539AEED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89F92-EED4-480A-BF46-077F76CD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ACBD7-1ABF-4197-9508-683BA48D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5854-37C6-450D-B31A-47590785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E71DD-484F-4ED9-BC54-29E970B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1C9AB-C82F-4777-90BF-947DA58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7DDB-094B-4B76-B63B-50A814CC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BC67-8682-439D-ACA2-C04C7D7E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836A-681D-4A5D-B335-AA1AB1C0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B5B3-83E6-4006-961A-451765C9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94D3-504C-4868-8315-7D6FE58F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1C8-CDA4-495B-8C36-74718DF66B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8E47-945A-4007-A6C6-1F1E1727C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0F25-E599-4FAA-B5B3-9E20ED3547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2CE2-3234-4E8B-9C73-177DF5101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5F5C-4CD4-4B38-A744-BED3396FE8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643B-9D92-4BEB-ACA7-78636C2F7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ACC9-9455-46AB-ABE4-289D4809C1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C0D6-EE17-4B83-A9FA-1CDE2EED4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3FA3-89CA-4859-9E34-0ED38C2D3E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F3E4-694A-40E9-BB01-D6F159445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DD6C-B906-4469-9367-BF7794DCA5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44B1-FC37-421C-8B08-1F8F3449C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A6E-3416-4AD2-B187-3858F6682B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9914-C3BE-49E1-B35A-A0A995D7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C68A-CCC6-4D56-83E4-3BAF8A4877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C655-9392-44B1-A455-1771E8E70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B16-32DC-44CB-8677-EFA2B36BB9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D2ED-E1B1-4520-BAEB-5D0CEB5BC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A8EF-9F9B-46B8-B0AA-FEE8D946BA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C2A5-10D4-4FF5-9AF3-67CD07EF8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E604-8CDF-4A34-A775-0DB5DFB49D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C84-BDD4-4B93-8C64-5CFF8E1B9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9FE4-31E9-4D30-9345-CCC01B3140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795A-F8B4-4521-A3A7-5E8EA5DDE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F4F2-7D34-477E-94C3-C6FFA2178F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2839-823B-4FCE-B5D8-B2E78ECC5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9430-C61D-4CA6-8658-9BA1227FE58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545D-A0A9-4252-8F10-75E2C122F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D75F-05D5-4ACA-BDED-6B78C11DB7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4377-EB1A-4BB8-B75F-86C3BD73D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0D28-A51B-4CC1-8FF1-C111524404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C2ED-A3CE-47B2-8F9B-5EB027947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ED92-400D-4207-A7FB-A5B5952D6B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A3D7-4E48-429D-B5AA-E5F684964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9803-7B66-4DA0-BD46-D86AF91FD5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40DE-D09A-451C-985E-D0DD8C18C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6124-09CF-4EC1-B17D-1A6376E979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9BAD-10A8-486D-8506-B2612703D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44D8-A344-448A-B160-C81AD9BCDB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38F2-AC53-48FC-8E68-2132BAB27C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E6E-D72A-42F7-A807-FBDB5F6C32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00E0-6BC4-46E2-ADF9-322EA94858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2880"/>
                <a:gridCol w="366840"/>
                <a:gridCol w="274680"/>
                <a:gridCol w="365040"/>
                <a:gridCol w="274680"/>
                <a:gridCol w="365040"/>
                <a:gridCol w="274680"/>
                <a:gridCol w="365040"/>
                <a:gridCol w="274680"/>
                <a:gridCol w="914400"/>
              </a:tblGrid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AF97-3959-478A-9E36-C325ED039A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38B0-96EC-4C08-92DA-82AE1E167A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022F-D6D9-406D-A79F-DD53318C41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38248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27480" y="1371600"/>
                <a:ext cx="212652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329640" y="1592280"/>
                <a:ext cx="2513520" cy="9136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327120" y="4408560"/>
              <a:ext cx="2512800" cy="91332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6016320" y="4191120"/>
              <a:ext cx="238932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12724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6F0E-A590-46D8-9356-29E32A0279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AE31-9371-4B38-999A-7C1D5F44E2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/>
            <a:ahLst/>
            <a:rect l="l" t="t" r="r" b="b"/>
            <a:pathLst>
              <a:path w="4648200" h="3505200">
                <a:moveTo>
                  <a:pt x="2333690" y="356460"/>
                </a:moveTo>
                <a:cubicBezTo>
                  <a:pt x="3127480" y="359205"/>
                  <a:pt x="3841204" y="700118"/>
                  <a:pt x="4143495" y="1220921"/>
                </a:cubicBezTo>
                <a:lnTo>
                  <a:pt x="4461293" y="1222708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5" y="1218015"/>
                </a:lnTo>
                <a:cubicBezTo>
                  <a:pt x="3341221" y="940644"/>
                  <a:pt x="2854208" y="772694"/>
                  <a:pt x="2330841" y="771258"/>
                </a:cubicBezTo>
                <a:cubicBezTo>
                  <a:pt x="2331791" y="632992"/>
                  <a:pt x="2332740" y="494726"/>
                  <a:pt x="2333690" y="35646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FB71-B998-4020-9647-FA4E80A2FD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7C5-5941-49C0-AE3C-B481DD3AA7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1E4E-A7E2-47E1-BB7D-78218D7327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0A2D-CAD8-46DD-B8A2-C4135B0937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A157-EE77-4B07-8FCA-0C171377DB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6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038C-12C8-4DB5-A6F5-6915D965EA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7466-97B5-4537-BF2E-0F631E8494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21CB-AC98-45BC-98A4-4CC167E3F3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Abdulrahman Abdullah O Alomair</cp:lastModifiedBy>
  <dcterms:modified xsi:type="dcterms:W3CDTF">2017-10-10T14:39:18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