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97E8-7B45-4DD0-80EA-FA1215C48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5840" y="744480"/>
            <a:ext cx="4965840" cy="3724200"/>
          </a:xfrm>
          <a:prstGeom prst="rect">
            <a:avLst/>
          </a:prstGeom>
          <a:ln w="0">
            <a:noFill/>
          </a:ln>
        </p:spPr>
      </p:sp>
      <p:sp>
        <p:nvSpPr>
          <p:cNvPr id="451"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for </a:t>
            </a:r>
            <a:r>
              <a:rPr b="1" i="1" lang="en-US" sz="1200" spc="-1" strike="noStrike">
                <a:solidFill>
                  <a:srgbClr val="000000"/>
                </a:solidFill>
                <a:latin typeface="Arial"/>
              </a:rPr>
              <a:t>l</a:t>
            </a:r>
            <a:r>
              <a:rPr b="0" i="1" lang="en-US" sz="1200" spc="-1" strike="noStrike">
                <a:solidFill>
                  <a:srgbClr val="000000"/>
                </a:solidFill>
                <a:latin typeface="Arial"/>
              </a:rPr>
              <a:t>ine </a:t>
            </a:r>
            <a:r>
              <a:rPr b="1" i="1" lang="en-US" sz="1200" spc="-1" strike="noStrike">
                <a:solidFill>
                  <a:srgbClr val="000000"/>
                </a:solidFill>
                <a:latin typeface="Arial"/>
              </a:rPr>
              <a:t>p</a:t>
            </a:r>
            <a:r>
              <a:rPr b="0" i="1" lang="en-US" sz="1200" spc="-1" strike="noStrike">
                <a:solidFill>
                  <a:srgbClr val="000000"/>
                </a:solidFill>
                <a:latin typeface="Arial"/>
              </a:rPr>
              <a:t>rinter </a:t>
            </a:r>
            <a:r>
              <a:rPr b="1" i="1" lang="en-US" sz="1200" spc="-1" strike="noStrike">
                <a:solidFill>
                  <a:srgbClr val="000000"/>
                </a:solidFill>
                <a:latin typeface="Arial"/>
              </a:rPr>
              <a:t>d</a:t>
            </a:r>
            <a:r>
              <a:rPr b="0" i="1" lang="en-US" sz="1200" spc="-1" strike="noStrike">
                <a:solidFill>
                  <a:srgbClr val="000000"/>
                </a:solidFill>
                <a:latin typeface="Arial"/>
              </a:rPr>
              <a:t>aemon/</a:t>
            </a:r>
            <a:r>
              <a:rPr b="1" i="1" lang="en-US" sz="1200" spc="-1" strike="noStrike">
                <a:solidFill>
                  <a:srgbClr val="000000"/>
                </a:solidFill>
                <a:latin typeface="Arial"/>
              </a:rPr>
              <a:t>l</a:t>
            </a:r>
            <a:r>
              <a:rPr b="0" i="1" lang="en-US" sz="1200" spc="-1" strike="noStrike">
                <a:solidFill>
                  <a:srgbClr val="000000"/>
                </a:solidFill>
                <a:latin typeface="Arial"/>
              </a:rPr>
              <a:t>ine </a:t>
            </a:r>
            <a:r>
              <a:rPr b="1" i="1" lang="en-US" sz="1200" spc="-1" strike="noStrike">
                <a:solidFill>
                  <a:srgbClr val="000000"/>
                </a:solidFill>
                <a:latin typeface="Arial"/>
              </a:rPr>
              <a:t>p</a:t>
            </a:r>
            <a:r>
              <a:rPr b="0" i="1" lang="en-US" sz="1200" spc="-1" strike="noStrike">
                <a:solidFill>
                  <a:srgbClr val="000000"/>
                </a:solidFill>
                <a:latin typeface="Arial"/>
              </a:rPr>
              <a:t>rinter </a:t>
            </a:r>
            <a:r>
              <a:rPr b="1" i="1" lang="en-US" sz="1200" spc="-1" strike="noStrike">
                <a:solidFill>
                  <a:srgbClr val="000000"/>
                </a:solidFill>
                <a:latin typeface="Arial"/>
              </a:rPr>
              <a:t>r</a:t>
            </a:r>
            <a:r>
              <a:rPr b="0" i="1" lang="en-US" sz="1200" spc="-1" strike="noStrike">
                <a:solidFill>
                  <a:srgbClr val="000000"/>
                </a:solidFill>
                <a:latin typeface="Arial"/>
              </a:rPr>
              <a:t>emote</a:t>
            </a:r>
            <a:r>
              <a:rPr b="0" lang="en-US" sz="1200" spc="-1" strike="noStrike">
                <a:solidFill>
                  <a:srgbClr val="000000"/>
                </a:solidFill>
                <a:latin typeface="Arial"/>
              </a:rPr>
              <a:t>, a printer protocolthat uses TCP/IP to establish connections between printers andworkstations on a network. The technology was developed originally for BSD UNIX and has since become the de facto cross-platformprinting protocol.</a:t>
            </a:r>
            <a:endParaRPr b="0" lang="en-US" sz="1200" spc="-1" strike="noStrike">
              <a:solidFill>
                <a:srgbClr val="000000"/>
              </a:solidFill>
              <a:latin typeface="Arial"/>
            </a:endParaRPr>
          </a:p>
        </p:txBody>
      </p:sp>
      <p:sp>
        <p:nvSpPr>
          <p:cNvPr id="452"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CD59-9EBF-4EB3-978E-5260037A5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5840" y="744480"/>
            <a:ext cx="4965840" cy="3724200"/>
          </a:xfrm>
          <a:prstGeom prst="rect">
            <a:avLst/>
          </a:prstGeom>
          <a:ln w="0">
            <a:noFill/>
          </a:ln>
        </p:spPr>
      </p:sp>
      <p:sp>
        <p:nvSpPr>
          <p:cNvPr id="454"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X (Internetwork Packet Exchange) is a networking protocol from Novell that interconnects networks that use Novell's NetWare clients and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EA2D-634C-4BD4-8970-63A90E7C8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D346-D9D9-44CC-AED5-AE3DF0170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917640" y="743040"/>
            <a:ext cx="4965480" cy="3724200"/>
          </a:xfrm>
          <a:prstGeom prst="rect">
            <a:avLst/>
          </a:prstGeom>
          <a:ln w="0">
            <a:noFill/>
          </a:ln>
        </p:spPr>
      </p:sp>
      <p:sp>
        <p:nvSpPr>
          <p:cNvPr id="458"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F56C7-5716-4243-A73E-5CEECA2E7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AFE95-D040-446A-98E2-15AEE1639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1B5BE-34A7-4F15-AD5B-FEE13D3FB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A8258-818B-429E-9790-9F8CD2D64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96634-4312-42D9-BFC1-699BB2664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EF797-657E-4C7E-A24D-F73A2F53F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07ED2-21DB-40CF-A481-510875A17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6E211-0AE8-4C1C-9DAC-961234C13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93ED8-4BB5-4424-ABAA-5CA62DCB2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5987A-25E2-4A7A-936B-94F511F95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7CC03-D8E9-46EC-AFAC-AED367F3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18E0C-2C08-44D0-9353-D413DA306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E8B6F-1372-4FFA-AAC5-E5BF95A8C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16ADC-4267-432B-92C0-8CFDE0B5E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51B37-E368-41A1-BF1F-C68103C33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FFC50-A88B-4D08-A12A-85CDD84DB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E9F96-2096-4200-A631-ADE9C967B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4678F-B27E-4D6A-B3CD-9462B5576E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C2ADB-533F-4115-A134-4A731BA73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2297B-2A61-45EC-B616-9EEA7A897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45929F-0976-483B-9C0D-7CAF978B9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58309-9055-4D1D-A3E0-D5FD1B916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8E0D4-F66B-4E31-9AED-79AA38C6D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4CA94-1955-44CD-BA49-5B38C7A37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DA501-D21E-431D-BC94-D16905A4C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40E8E-8793-4B43-8B47-959349457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22FC5-44F0-47E8-ACA3-968AFC50B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5F679-FB2D-42AC-8080-CDB6CC76C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AAB6D-638A-4219-A477-B65991A27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E0B34-87FD-4A51-A47D-E0EB9E1F35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546250-FD33-4A01-8AFF-E5CB73E48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ED8707-E867-45D9-8BDE-AF1AD90D5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6DFD2-44F3-4598-A3B3-5474B0A18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19ACE-779A-4294-8BD5-61ADFB24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16307-10BC-4033-BEDA-1DA00F067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526E6-87C9-4E33-9FC3-BC4D94E8D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6F97E-C45D-499A-AEE3-FEC06E1DA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A35BE-5CE0-4E23-8D83-B6EE24A2A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8FA84-D200-4E00-B9D5-793C67485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B25F2-535A-4ABC-A1AA-C8650FCD7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F382A-4917-4B54-8464-425918C94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CBD7AE-C83E-4564-96C6-026C7A51A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023A18-494A-4D52-B0D2-A1DE49073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F7E9A-58B1-4D0C-85B6-62AB7ED37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7C9CC-BAFD-4993-B1C0-81A80CAFC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F3F6F-3C0F-4E60-ACA1-135A726EC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3B99C-6D06-45DB-BA83-923AD73DB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054DD-55B5-4C37-B7E4-14BF39437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E8D86-37D1-43F1-9CBD-F11F9D334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0A2FB-FE01-4EBC-B805-4F64A4F6EA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0E667-ECA3-4B71-AFBD-90FDA03FD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C9045-BF5D-4CB5-A6CF-1FF70A245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8CF6C-4474-4D72-B883-B83C26B34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5A089-89CA-46BD-9C23-FC1B09EC5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0ED0BB-F622-4170-A309-92C5299506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71F4-DC01-479F-8235-422EC5D4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F93487-0061-4BED-92B6-092B8E1B33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0D80AD-F9F3-4946-B141-B62A98FB76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E523FB-9F0D-4054-8AB8-0386C7CFD7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A0C7D-0005-4B16-9B03-FC834C4E1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8AAF7-897A-46CE-90D7-3C16E5C7A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85EDC-7998-4E5B-81EA-6F8F29BDE3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C7D51-9212-4089-8F3D-3AD4270E5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CD3A4-8BF3-43CA-8244-E531E4F56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C6217-4D1B-4901-87EF-AAB0EA45A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BB510-C726-4139-B95D-5A4DDB29C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2B9F-4FC6-4774-A808-F840740A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D12AB3-F440-489D-916B-C017F320C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59EB98-F933-4695-A36D-7E0B9D8EB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1B7D3B-86F7-4CD6-BE27-5797A93203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A3DB7F-EBBF-4EEE-AD82-0D658A1676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BFAC57-7E30-45D2-BDEE-1C96C960CE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93CA8-462A-417D-BF57-F999DC5836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25D841-0143-464A-9E4D-3542A4983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FD619-84E2-467F-8A1E-0011FB58D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46CA12-7201-47A2-B671-CD3E205B3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8EA54-5C6F-4358-9B7B-E96AF9110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C4B58-11EE-4572-A5B7-41E9672AC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2354F-C2FB-4EF7-B180-997F999D9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556F8-2359-4C9D-B191-04E6B4D91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73AE9-9F8C-42C4-ADFB-EA388E1831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6D272B-A996-43D8-A415-BEF6C4845A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D9C0C5-A0AB-4332-9AF9-05AE46820A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E4DD62-B124-42EF-AE5C-4EE999D5BF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EC74A4-1356-4854-9E94-FE0996A5BC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F17539-A943-4694-AE3E-AD50591C6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ECBB0-AFDC-4880-B26B-D207276BEA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B690B-F25E-4DA4-BE15-3AB663FA2E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C3B3-5F08-44A3-AAD3-6AC4C0A3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4C000-C078-46F9-9862-E37270AAC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B76F2-AD02-4ECE-9260-8682B0A8E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C0E22-B9EC-4775-A301-7EF5BE8CF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A0738-C66F-4B4C-B03A-A267119E2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D467B1-1AF9-40DD-8688-231F532C0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AE9CF7-6B76-4160-AD99-48E562E085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B0C476-DAB0-408A-9BAD-B9A59BF5577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9FB8-05A1-4B71-8AC0-F35EA7C8D1A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70FA-F915-47B7-BF15-F3B27628F41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A36A-CFF9-4C26-805B-C01A8B647D2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D15A-A391-474E-B614-3D3AF68131B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415F-7EF2-4A81-A47C-E3C8D6D1056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CA4F-9F7B-4BF6-9898-CBF10ADE86A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7315-6BB1-4668-BB35-89F4B1D94F57}"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F35A-BEDA-4647-BA0C-C36476A76BE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Network Operating Systems :</a:t>
            </a:r>
            <a:br>
              <a:rPr sz="2900"/>
            </a:br>
            <a:r>
              <a:rPr b="1" lang="en-US" sz="2900" spc="-1" strike="noStrike">
                <a:solidFill>
                  <a:srgbClr val="464653"/>
                </a:solidFill>
                <a:latin typeface="Bookman Old Style"/>
              </a:rPr>
              <a:t> Tools and Feature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284A-D784-496D-8C03-89587B2B3D0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Bookman Old Style"/>
              </a:rPr>
              <a:t>UNIX / Linux Features</a:t>
            </a:r>
            <a:endParaRPr b="0" lang="en-US" sz="2400" spc="-1" strike="noStrike">
              <a:solidFill>
                <a:srgbClr val="464653"/>
              </a:solidFill>
              <a:latin typeface="Bookman Old Style"/>
            </a:endParaRPr>
          </a:p>
        </p:txBody>
      </p:sp>
      <p:sp>
        <p:nvSpPr>
          <p:cNvPr id="388" name=""/>
          <p:cNvSpPr txBox="1"/>
          <p:nvPr/>
        </p:nvSpPr>
        <p:spPr>
          <a:xfrm>
            <a:off x="228240" y="1219320"/>
            <a:ext cx="89154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A shell interface:</a:t>
            </a:r>
            <a:r>
              <a:rPr b="0" lang="en-US" sz="2000" spc="-1" strike="noStrike">
                <a:solidFill>
                  <a:srgbClr val="000000"/>
                </a:solidFill>
                <a:latin typeface="Gill Sans MT"/>
              </a:rPr>
              <a:t> All versions of UNIX include a shell interface of some sort. If you have ever seen your computer use a completely black screen with white words written on it, that’s a shell interface. You simply type in commands at the prompt and hit Enter to execute those commands. The hard part in using these interfaces is simply the effort it takes to learn all of those rather cryptic commands. Making life even more difficult, UNIX is ultimately customizable and can use different shells. The bash shell (likely the most popular shell in use today) and the tcsh shell, for example, have different commands for the same action.</a:t>
            </a:r>
            <a:endParaRPr b="0" lang="en-US" sz="20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A graphical user interface:</a:t>
            </a:r>
            <a:r>
              <a:rPr b="0" lang="en-US" sz="2000" spc="-1" strike="noStrike">
                <a:solidFill>
                  <a:srgbClr val="000000"/>
                </a:solidFill>
                <a:latin typeface="Gill Sans MT"/>
              </a:rPr>
              <a:t> Although most versions of UNIX (such as Red Hat Linux) include a graphical user interface (GUI) these days, this has not always been the case. Historically, UNIX has been derided for its cryptic interface, and the advent of the GUI into popular UNIX systems was a direct result of this. Popular UNIX GUIs include KDE and GNOME. KDE is mostly used with Linux, but GNOME has versions for the Sun Solaris operating system, and therefore crosses the border from Linux into UNIX proper.</a:t>
            </a:r>
            <a:endParaRPr b="0" lang="en-US" sz="2000" spc="-1" strike="noStrike">
              <a:solidFill>
                <a:srgbClr val="000000"/>
              </a:solidFill>
              <a:latin typeface="Gill Sans MT"/>
            </a:endParaRPr>
          </a:p>
        </p:txBody>
      </p:sp>
      <p:sp>
        <p:nvSpPr>
          <p:cNvPr id="38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8B53-BF97-4442-B73B-DD9836C4971E}" type="slidenum">
              <a:rPr b="0" lang="en-US" sz="1100" spc="-1" strike="noStrike">
                <a:solidFill>
                  <a:srgbClr val="464653"/>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91" name=""/>
          <p:cNvSpPr txBox="1"/>
          <p:nvPr/>
        </p:nvSpPr>
        <p:spPr>
          <a:xfrm>
            <a:off x="228240" y="1219320"/>
            <a:ext cx="89154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Support for dumb terminal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ditionally, UNIX was used for dumb terminals, and just about all versions of UNIX still include this capability. The traditional dumb terminal model involves one central UNIX server that is used by remote terminals to execute applications. Basically, a user logs in to a UNIX system via Telnet or some other remote connectivity application and uses UNIX commands to tell the remote system what functions to perform. In this way, users can download and check e-mail via a text-based e-mail client such as Pine. The dumb terminal in this form isn’t used much anymore; Web browsers are definitely more than just dumb terminals— and Web browsers are now the clients most often seen by UNIX servers (at least those that make up the Internet). However, wireless devices such as cell phones and mobile Internet e-mail clients such as AOL’s Mobile Communicator device are good examples of modern dumb terminals. The devices have nearly </a:t>
            </a:r>
            <a:r>
              <a:rPr b="1" lang="en-US" sz="2000" spc="-1" strike="noStrike">
                <a:solidFill>
                  <a:srgbClr val="000000"/>
                </a:solidFill>
                <a:latin typeface="Gill Sans MT"/>
              </a:rPr>
              <a:t>no storage </a:t>
            </a:r>
            <a:r>
              <a:rPr b="0" lang="en-US" sz="2000" spc="-1" strike="noStrike">
                <a:solidFill>
                  <a:srgbClr val="000000"/>
                </a:solidFill>
                <a:latin typeface="Gill Sans MT"/>
              </a:rPr>
              <a:t>at all, and don’t carry large e-mail clients on the device; the message is simply transferred as text from one end to the other.</a:t>
            </a:r>
            <a:endParaRPr b="0" lang="en-US" sz="2000" spc="-1" strike="noStrike">
              <a:solidFill>
                <a:srgbClr val="000000"/>
              </a:solidFill>
              <a:latin typeface="Gill Sans MT"/>
            </a:endParaRPr>
          </a:p>
        </p:txBody>
      </p:sp>
      <p:sp>
        <p:nvSpPr>
          <p:cNvPr id="392"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D95B-D0A0-4711-A2C9-37B17613652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94" name=""/>
          <p:cNvSpPr txBox="1"/>
          <p:nvPr/>
        </p:nvSpPr>
        <p:spPr>
          <a:xfrm>
            <a:off x="228240" y="1219320"/>
            <a:ext cx="89154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teroperability</a:t>
            </a:r>
            <a:br>
              <a:rPr sz="2000"/>
            </a:br>
            <a:r>
              <a:rPr b="0" lang="en-US" sz="2000" spc="-1" strike="noStrike">
                <a:solidFill>
                  <a:srgbClr val="000000"/>
                </a:solidFill>
                <a:latin typeface="Gill Sans MT"/>
              </a:rPr>
              <a:t>Open source software such as SAMBA is used to provide Windows users with Server Message Block (SMB) file sharing.</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thentication</a:t>
            </a:r>
            <a:r>
              <a:rPr b="0" lang="en-US" sz="2000" spc="-1" strike="noStrike">
                <a:solidFill>
                  <a:srgbClr val="000000"/>
                </a:solidFill>
                <a:latin typeface="Gill Sans MT"/>
              </a:rPr>
              <a:t>:-Centralized login authentication</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ile and Print Services</a:t>
            </a:r>
            <a:br>
              <a:rPr sz="2000"/>
            </a:br>
            <a:r>
              <a:rPr b="0" lang="en-US" sz="2000" spc="-1" strike="noStrike">
                <a:solidFill>
                  <a:srgbClr val="000000"/>
                </a:solidFill>
                <a:latin typeface="Gill Sans MT"/>
              </a:rPr>
              <a:t>Network File System (NFS) is a distributed file system that allows users to access files and directories located on remote computers and treat those files and directories as if they were local.</a:t>
            </a:r>
            <a:br>
              <a:rPr sz="2000"/>
            </a:br>
            <a:r>
              <a:rPr b="0" lang="en-US" sz="2000" spc="-1" strike="noStrike">
                <a:solidFill>
                  <a:srgbClr val="000000"/>
                </a:solidFill>
                <a:latin typeface="Gill Sans MT"/>
              </a:rPr>
              <a:t>LPR/LPD is the primary UNIX printing protocol used to submit jobs to the printer. The LPR component initiates commands such as "print waiting jobs," "receive job," and "send queue state," and the LPD component in the print server responds to them.</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curity</a:t>
            </a:r>
            <a:br>
              <a:rPr sz="2000"/>
            </a:br>
            <a:r>
              <a:rPr b="0" lang="en-US" sz="2000" spc="-1" strike="noStrike">
                <a:solidFill>
                  <a:srgbClr val="000000"/>
                </a:solidFill>
                <a:latin typeface="Gill Sans MT"/>
              </a:rPr>
              <a:t>With most Unix operating systems, the network services can be individually controlled to increase security.</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39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984B-DA3E-4E7A-A7AE-1CD6A817B40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X Server</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S X Server, formerly Mac OS X Server, was a separately sold Unix server operating system from Apple Inc.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rchitecturally identical to its desktop counterpart OS X—with additional server programs and management and administration tools.</a:t>
            </a:r>
            <a:endParaRPr b="0" lang="en-US" sz="2800" spc="-1" strike="noStrike">
              <a:solidFill>
                <a:srgbClr val="000000"/>
              </a:solidFill>
              <a:latin typeface="Gill Sans MT"/>
            </a:endParaRPr>
          </a:p>
        </p:txBody>
      </p:sp>
      <p:sp>
        <p:nvSpPr>
          <p:cNvPr id="39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2D85-3046-4009-A858-D3C9A6D0894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X Server</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lient Support</a:t>
            </a:r>
            <a:br>
              <a:rPr sz="2800"/>
            </a:br>
            <a:r>
              <a:rPr b="0" lang="en-US" sz="2800" spc="-1" strike="noStrike">
                <a:solidFill>
                  <a:srgbClr val="000000"/>
                </a:solidFill>
                <a:latin typeface="Gill Sans MT"/>
              </a:rPr>
              <a:t>TCP/IP file sharing with Macintosh clients using Network File System (NFS), and File Transfer Apple File Protocol 3.0</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operability</a:t>
            </a:r>
            <a:br>
              <a:rPr sz="2800"/>
            </a:br>
            <a:r>
              <a:rPr b="0" lang="en-US" sz="2800" spc="-1" strike="noStrike">
                <a:solidFill>
                  <a:srgbClr val="000000"/>
                </a:solidFill>
                <a:latin typeface="Gill Sans MT"/>
              </a:rPr>
              <a:t>Mac OS X Server uses the Open Source SAMBA to provide Windows users with Server Message Block (SMB) file sharing. Network File System (NFS) lets you make folders available to UNIX and Linux user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9F12-3CEC-4292-B2D8-49402C1B0FC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 OS X Server </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53"/>
                </a:solidFill>
                <a:latin typeface="Gill Sans MT"/>
              </a:rPr>
              <a:t>File and Print Services</a:t>
            </a:r>
            <a:br>
              <a:rPr sz="1700"/>
            </a:br>
            <a:r>
              <a:rPr b="0" lang="en-US" sz="1700" spc="-1" strike="noStrike">
                <a:solidFill>
                  <a:srgbClr val="464653"/>
                </a:solidFill>
                <a:latin typeface="Gill Sans MT"/>
              </a:rPr>
              <a:t>Mac OS X Server provides support for native Macintosh, Windows, UNIX, and Linux file sharing. Protocols supported include:</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pple file services (AFP 3.0) from any AppleShare client over TCP/IP</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Windows (SMB/CIFS) file sharing using Samba</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Network File System (NFS) for UNIX and Linux file access</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Internet (FTP)</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Built-in print services can spool files to any PostScript-capable printer over TCP/IP, AppleTalk, or USB. Macintosh customers can use the LPR support in Print Center or the Desktop Printer utility to connect to a shared printer. Windows users can use their native SMB/CIFS protocol to connect to a shared printer.</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Print services for OS X Server</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Macintosh and UNIX (LPR/LPD)</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Windows (SMB/CIFS)</a:t>
            </a:r>
            <a:endParaRPr b="0" lang="en-US" sz="17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4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EA99-3F09-4EBF-A018-AC477A2347B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 OS X Server </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curity</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ultiple-user architecture and user-level access privileges.</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ure Sockets Layer (SSL) support provides encrypted and authenticated client/server communications.</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ure Shell (SSH) provides encryption and authentication for secure remote administration.</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rberos support for centralized login authentication.</a:t>
            </a:r>
            <a:endParaRPr b="0" lang="en-US" sz="28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B56D-99D0-40B1-9B9E-851391F8E70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are is a computer network operating system developed by Novell, Inc. It initially used cooperative multitasking to run various services on a personal computer, using the IPX network protoc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are has been a great LAN operating system for years, but only recently (with NetWare 5.x has NetWare moved beyond the LAN to where it can easily be a part of larger networks. Until quite recently, Novell NetWare used to be the single most-used network operating system (NOS). </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6FB0-B717-47F7-A9AE-92B11F99242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a:t>
            </a:r>
            <a:endParaRPr b="0" lang="en-US" sz="3200" spc="-1" strike="noStrike">
              <a:solidFill>
                <a:srgbClr val="464653"/>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ever, first Windows NT, and Windows 2000 and Linux, have steadily eaten into the NetWare market share for network operating system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rrently, all three operating systems have a roughly equal share of the network operating system market, which means that NetWare is still used in at least one-third of all server systems.</a:t>
            </a:r>
            <a:endParaRPr b="0" lang="en-US" sz="2600" spc="-1" strike="noStrike">
              <a:solidFill>
                <a:srgbClr val="000000"/>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6307-57B6-4779-842E-87F6294C198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Feature </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are offers the following features :</a:t>
            </a:r>
            <a:endParaRPr b="0" lang="en-US" sz="28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Multiprocessor kernel: This feature enables one NetWare operating system to utilize multiple processors. This process is called symmetric multiprocessing (SMP). </a:t>
            </a:r>
            <a:endParaRPr b="0" lang="en-US" sz="2400" spc="-1" strike="noStrike">
              <a:solidFill>
                <a:srgbClr val="464653"/>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MP enables processors to share memory and bus paths, even coordinating the processing of a single application in parallel.</a:t>
            </a:r>
            <a:endParaRPr b="0" lang="en-US" sz="2400" spc="-1" strike="noStrike">
              <a:solidFill>
                <a:srgbClr val="464653"/>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LMs: Where UNIX uses daemons and Windows uses services, NetWare uses NetWare Loadable Modules (or NLMs) to provide services from the server. NLMs are programs that run in the background on the server to provide consistent services to the network.</a:t>
            </a:r>
            <a:endParaRPr b="0" lang="en-US" sz="2400" spc="-1" strike="noStrike">
              <a:solidFill>
                <a:srgbClr val="464653"/>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BDFD-26DE-4862-A3B9-24BE1E2B25C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Overview</a:t>
            </a:r>
            <a:endParaRPr b="0" lang="en-US" sz="3200" spc="-1" strike="noStrike">
              <a:solidFill>
                <a:srgbClr val="464653"/>
              </a:solidFill>
              <a:latin typeface="Bookman Old Style"/>
            </a:endParaRPr>
          </a:p>
        </p:txBody>
      </p:sp>
      <p:sp>
        <p:nvSpPr>
          <p:cNvPr id="36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A network operating system (NOS)</a:t>
            </a:r>
            <a:r>
              <a:rPr b="0" lang="en-US" sz="2800" spc="-1" strike="noStrike">
                <a:solidFill>
                  <a:srgbClr val="000000"/>
                </a:solidFill>
                <a:latin typeface="Gill Sans MT"/>
              </a:rPr>
              <a:t> provides services to clients over a network.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th the client/server and peer-to-peer networking models use network operating system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Ss must be able to handle typical network dutie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4"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CEA9-F298-4B70-8245-994DD47D998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Feature </a:t>
            </a:r>
            <a:endParaRPr b="0" lang="en-US" sz="32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fontScale="97000"/>
          </a:bodyPr>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CI Hot Plug: This feature enables administrators to dynamically configure PCI network components while the system is running. You can replace, upgrade, or add new cards with the Hot replace, Hot upgrade, and Hot expansion features, respectively.</a:t>
            </a:r>
            <a:endParaRPr b="0" lang="en-US" sz="24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lient Support</a:t>
            </a:r>
            <a:br>
              <a:rPr sz="2400"/>
            </a:br>
            <a:r>
              <a:rPr b="0" lang="en-US" sz="2400" spc="-1" strike="noStrike">
                <a:solidFill>
                  <a:srgbClr val="000000"/>
                </a:solidFill>
                <a:latin typeface="Gill Sans MT"/>
              </a:rPr>
              <a:t>NetWare 5 comes with Novell Client software for three client platforms: DOS and Windows 3.1x, Windows 95/98, and Windows NT.</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teroperability</a:t>
            </a:r>
            <a:br>
              <a:rPr sz="2400"/>
            </a:br>
            <a:r>
              <a:rPr b="0" lang="en-US" sz="2400" spc="-1" strike="noStrike">
                <a:solidFill>
                  <a:srgbClr val="000000"/>
                </a:solidFill>
                <a:latin typeface="Gill Sans MT"/>
              </a:rPr>
              <a:t>You can set the Novell Clients for Windows 95/98 and Windows NT to work with one of three network protocol options: IP only, IP and IPX, or IPX only.</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
        <p:nvSpPr>
          <p:cNvPr id="41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AE28-50D2-4CE9-A1BA-C15F4FB313F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are Feature </a:t>
            </a:r>
            <a:endParaRPr b="0" lang="en-US" sz="3200" spc="-1" strike="noStrike">
              <a:solidFill>
                <a:srgbClr val="464653"/>
              </a:solidFill>
              <a:latin typeface="Bookman Old Style"/>
            </a:endParaRPr>
          </a:p>
        </p:txBody>
      </p:sp>
      <p:sp>
        <p:nvSpPr>
          <p:cNvPr id="421"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uthentication</a:t>
            </a:r>
            <a:br>
              <a:rPr sz="2000"/>
            </a:br>
            <a:r>
              <a:rPr b="0" lang="en-US" sz="2000" spc="-1" strike="noStrike">
                <a:solidFill>
                  <a:srgbClr val="000000"/>
                </a:solidFill>
                <a:latin typeface="Gill Sans MT"/>
              </a:rPr>
              <a:t>Centralized login authenticatio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ile and Print Services</a:t>
            </a:r>
            <a:br>
              <a:rPr sz="2000"/>
            </a:br>
            <a:r>
              <a:rPr b="0" lang="en-US" sz="2000" spc="-1" strike="noStrike">
                <a:solidFill>
                  <a:srgbClr val="000000"/>
                </a:solidFill>
                <a:latin typeface="Gill Sans MT"/>
              </a:rPr>
              <a:t>File Services NetWare offers two choices of mutually compatible file services: Novell Storage Services (NSS) and the traditional NetWare File System. Both kinds of file services let you store, organize, manage, access, and retrieve data on the network. NSS gathers all unpartitioned free space that exists on all the hard drives connected to your server, together with any unused space in NetWare volumes, and places it into a storage pool. You create NSS volumes from this storage pool during server installation or later through NWCONFIG. Novell Distributed Print Services (NDPS) is the default and preferred print system in NetWare. NDPS supports IP-based as well as IPX-based printing.</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curity</a:t>
            </a:r>
            <a:br>
              <a:rPr sz="2000"/>
            </a:br>
            <a:r>
              <a:rPr b="0" lang="en-US" sz="2000" spc="-1" strike="noStrike">
                <a:solidFill>
                  <a:srgbClr val="000000"/>
                </a:solidFill>
                <a:latin typeface="Gill Sans MT"/>
              </a:rPr>
              <a:t>Novell has support for a public key infrastructure built into NetWare 5 using a public certificate, developed by RSA Security.</a:t>
            </a:r>
            <a:endParaRPr b="0" lang="en-US" sz="2000" spc="-1" strike="noStrike">
              <a:solidFill>
                <a:srgbClr val="000000"/>
              </a:solidFill>
              <a:latin typeface="Gill Sans MT"/>
            </a:endParaRPr>
          </a:p>
        </p:txBody>
      </p:sp>
      <p:sp>
        <p:nvSpPr>
          <p:cNvPr id="4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CFD4-A819-46B3-B165-619F696BFF8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 </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irectory Services</a:t>
            </a:r>
            <a:br>
              <a:rPr sz="2600"/>
            </a:br>
            <a:r>
              <a:rPr b="0" lang="en-US" sz="2600" spc="-1" strike="noStrike">
                <a:solidFill>
                  <a:srgbClr val="000000"/>
                </a:solidFill>
                <a:latin typeface="Gill Sans MT"/>
              </a:rPr>
              <a:t>A directory service is a database of user accounts and other information that network administrators use to control access to shared network resources. When users connect to a network, they have to be authenticated before they can access network resources. Authentication is the process of checking the user's credentials (usually a user name and a password) against the directory. Users that supply the proper credentials are permitted access according to the permissions specified by the network administrator.</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2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1AF1-7AE0-4178-BA59-75F5292B020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2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Client Support</a:t>
            </a:r>
            <a:br>
              <a:rPr sz="2600"/>
            </a:br>
            <a:r>
              <a:rPr b="0" lang="en-US" sz="2600" spc="-1" strike="noStrike">
                <a:solidFill>
                  <a:srgbClr val="000000"/>
                </a:solidFill>
                <a:latin typeface="Gill Sans MT"/>
              </a:rPr>
              <a:t>Windows 3.x, Windows 95, Windows 98, and Windows NT Workstation 4.0 Windows 2000 Professional, Xp Pro. Vista Ultimate, Vista Busine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Interoperability</a:t>
            </a:r>
            <a:br>
              <a:rPr sz="2600"/>
            </a:br>
            <a:r>
              <a:rPr b="0" lang="en-US" sz="2600" spc="-1" strike="noStrike">
                <a:solidFill>
                  <a:srgbClr val="000000"/>
                </a:solidFill>
                <a:latin typeface="Gill Sans MT"/>
              </a:rPr>
              <a:t>Windows 2000,2003,2008 Server supports UNIX, Novell NetWare, Windows NT Server 4.0, and Macintosh.</a:t>
            </a:r>
            <a:endParaRPr b="0" lang="en-US" sz="2600" spc="-1" strike="noStrike">
              <a:solidFill>
                <a:srgbClr val="000000"/>
              </a:solidFill>
              <a:latin typeface="Gill Sans MT"/>
            </a:endParaRPr>
          </a:p>
        </p:txBody>
      </p:sp>
      <p:sp>
        <p:nvSpPr>
          <p:cNvPr id="4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A116-E716-4D3C-9C33-B55C97E963D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30" name=""/>
          <p:cNvSpPr txBox="1"/>
          <p:nvPr/>
        </p:nvSpPr>
        <p:spPr>
          <a:xfrm>
            <a:off x="457200" y="1219320"/>
            <a:ext cx="8229600" cy="4937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uthentication</a:t>
            </a:r>
            <a:br>
              <a:rPr sz="2400"/>
            </a:br>
            <a:r>
              <a:rPr b="0" lang="en-US" sz="2400" spc="-1" strike="noStrike">
                <a:solidFill>
                  <a:srgbClr val="000000"/>
                </a:solidFill>
                <a:latin typeface="Gill Sans MT"/>
              </a:rPr>
              <a:t>Successful user authentication in a Windows 2000,2003,2008 computing environment consists of separate processes: interactive logon, which confirms the user's identification to either a domain account or a local computer, and network authentication, which confirms the user's identification to any network service that the user attempts to access.</a:t>
            </a:r>
            <a:endParaRPr b="0" lang="en-US" sz="24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ypes of authentication</a:t>
            </a:r>
            <a:br>
              <a:rPr sz="2400"/>
            </a:br>
            <a:r>
              <a:rPr b="0" lang="en-US" sz="2400" spc="-1" strike="noStrike">
                <a:solidFill>
                  <a:srgbClr val="000000"/>
                </a:solidFill>
                <a:latin typeface="Gill Sans MT"/>
              </a:rPr>
              <a:t>Kerberos V5 is used with either a password or a smart card for interactive logon. It is also the default method of network authentication for services.The Kerberos V5 protocol verifies both the identity of the user and network services Secure Socket Layer/Transport Layer Security (SSL/TLS) authentication, is used when a user attempts to access a secure Web server.</a:t>
            </a:r>
            <a:endParaRPr b="0" lang="en-US" sz="24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CD6E-0592-43C5-B079-B02680884EE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ile and Print Services</a:t>
            </a:r>
            <a:br>
              <a:rPr sz="2400"/>
            </a:br>
            <a:r>
              <a:rPr b="0" lang="en-US" sz="2400" spc="-1" strike="noStrike">
                <a:solidFill>
                  <a:srgbClr val="000000"/>
                </a:solidFill>
                <a:latin typeface="Gill Sans MT"/>
              </a:rPr>
              <a:t>You can add and maintain printers in Windows server using the print administration wizard, and you can add file shares using Active Directory management tools. Windows server also offers Distributed File Services, which let you combine files on more than one server into a single share.</a:t>
            </a:r>
            <a:endParaRPr b="0" lang="en-US" sz="2400" spc="-1" strike="noStrike">
              <a:solidFill>
                <a:srgbClr val="000000"/>
              </a:solidFill>
              <a:latin typeface="Gill Sans MT"/>
            </a:endParaRPr>
          </a:p>
        </p:txBody>
      </p:sp>
      <p:sp>
        <p:nvSpPr>
          <p:cNvPr id="43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2A38-3ABE-4227-805F-67C049F87E7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a:t>
            </a:r>
            <a:endParaRPr b="0" lang="en-US" sz="3200" spc="-1" strike="noStrike">
              <a:solidFill>
                <a:srgbClr val="464653"/>
              </a:solidFill>
              <a:latin typeface="Bookman Old Style"/>
            </a:endParaRPr>
          </a:p>
        </p:txBody>
      </p:sp>
      <p:sp>
        <p:nvSpPr>
          <p:cNvPr id="436"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ve Directory </a:t>
            </a:r>
            <a:br>
              <a:rPr sz="2400"/>
            </a:br>
            <a:r>
              <a:rPr b="0" lang="en-US" sz="2400" spc="-1" strike="noStrike">
                <a:solidFill>
                  <a:srgbClr val="000000"/>
                </a:solidFill>
                <a:latin typeface="Gill Sans MT"/>
              </a:rPr>
              <a:t>After many years of anticipation, Microsoft introduced an enterprise directory service in the Windows 2000 Server product line, called Active Directory. It uses a hierarchical tree design comprised of container and leaf objects. The fundamental unit of organization in Active Directory directory service is the domain, but; you can group domains together into a tree, and even group multiple trees together into a </a:t>
            </a:r>
            <a:r>
              <a:rPr b="0" i="1" lang="en-US" sz="2400" spc="-1" strike="noStrike">
                <a:solidFill>
                  <a:srgbClr val="000000"/>
                </a:solidFill>
                <a:latin typeface="Gill Sans MT"/>
              </a:rPr>
              <a:t>forest</a:t>
            </a:r>
            <a:r>
              <a:rPr b="0" lang="en-US" sz="2400" spc="-1" strike="noStrike">
                <a:solidFill>
                  <a:srgbClr val="000000"/>
                </a:solidFill>
                <a:latin typeface="Gill Sans MT"/>
              </a:rPr>
              <a:t>. Domains that are in the same tree automatically have bidirectional trust relationships established between them, which eliminates the need for administrators to create them manually. The trust relationships are also </a:t>
            </a:r>
            <a:r>
              <a:rPr b="0" i="1" lang="en-US" sz="2400" spc="-1" strike="noStrike">
                <a:solidFill>
                  <a:srgbClr val="000000"/>
                </a:solidFill>
                <a:latin typeface="Gill Sans MT"/>
              </a:rPr>
              <a:t>transitive</a:t>
            </a:r>
            <a:r>
              <a:rPr b="0" lang="en-US" sz="2400" spc="-1" strike="noStrike">
                <a:solidFill>
                  <a:srgbClr val="000000"/>
                </a:solidFill>
                <a:latin typeface="Gill Sans MT"/>
              </a:rPr>
              <a:t> , meaning that if Domain A trusts Domain B and Domain B trusts Domain C, then Domain A trusts Domain C.</a:t>
            </a:r>
            <a:endParaRPr b="0" lang="en-US" sz="2400" spc="-1" strike="noStrike">
              <a:solidFill>
                <a:srgbClr val="000000"/>
              </a:solidFill>
              <a:latin typeface="Gill Sans MT"/>
            </a:endParaRPr>
          </a:p>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8BFC-5166-4541-983D-CF29AA28F4A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indows </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curity</a:t>
            </a:r>
            <a:br>
              <a:rPr sz="2000"/>
            </a:br>
            <a:r>
              <a:rPr b="0" lang="en-US" sz="2000" spc="-1" strike="noStrike">
                <a:solidFill>
                  <a:srgbClr val="000000"/>
                </a:solidFill>
                <a:latin typeface="Gill Sans MT"/>
              </a:rPr>
              <a:t>User-level security protects shared network resources by requiring that a security provider authenticate a user’s request to access resources. The domain controller , grants access to the shared resource by verifying that the user name and password are the same as those on the user account list stored on the network security provider. Because the security provider maintains a network-wide list of user accounts and passwords, each client computer does not have to store a list of accounts. Share-level security protects shared network resources on the computer with individually assigned passwords. For example, you can assign a password to a folder or a locally attached printer. If other users want to access it, they need to type in the appropriate password. If you do not assign a password to a shared resource, every user with access to the network can access that resource.</a:t>
            </a:r>
            <a:endParaRPr b="0" lang="en-US" sz="2000" spc="-1" strike="noStrike">
              <a:solidFill>
                <a:srgbClr val="000000"/>
              </a:solidFill>
              <a:latin typeface="Gill Sans MT"/>
            </a:endParaRPr>
          </a:p>
        </p:txBody>
      </p:sp>
      <p:sp>
        <p:nvSpPr>
          <p:cNvPr id="44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4D08-6546-44FF-BE28-B8163B2DD67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leshare IP (Internet Protocol)</a:t>
            </a:r>
            <a:endParaRPr b="0" lang="en-US" sz="32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fontScale="84000"/>
          </a:bodyPr>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Client Support</a:t>
            </a:r>
            <a:r>
              <a:rPr b="0" lang="en-US" sz="2300" spc="-1" strike="noStrike">
                <a:solidFill>
                  <a:srgbClr val="000000"/>
                </a:solidFill>
                <a:latin typeface="Gill Sans MT"/>
              </a:rPr>
              <a:t>: TCP/IP file sharing with Macintosh clients using Network File System (NFS), and File Transfer Apple File Protocol 3.0.</a:t>
            </a:r>
            <a:endParaRPr b="0" lang="en-US" sz="23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Interoperability</a:t>
            </a:r>
            <a:r>
              <a:rPr b="0" lang="en-US" sz="2300" spc="-1" strike="noStrike">
                <a:solidFill>
                  <a:srgbClr val="000000"/>
                </a:solidFill>
                <a:latin typeface="Gill Sans MT"/>
              </a:rPr>
              <a:t>: Windows Server Message Block (SMB) file sharing.</a:t>
            </a:r>
            <a:endParaRPr b="0" lang="en-US" sz="23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MT"/>
              </a:rPr>
              <a:t>File and Print Services</a:t>
            </a:r>
            <a:br>
              <a:rPr sz="2600"/>
            </a:br>
            <a:r>
              <a:rPr b="0" lang="en-US" sz="2600" spc="-1" strike="noStrike">
                <a:solidFill>
                  <a:srgbClr val="000000"/>
                </a:solidFill>
                <a:latin typeface="Gill Sans MT"/>
              </a:rPr>
              <a:t>File Services:</a:t>
            </a:r>
            <a:endParaRPr b="0" lang="en-US" sz="26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e Filing Protocol (AFP) over TCP/IP and AppleTalk</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rver Message Block (SMB) over TCP/IP</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ile Transfer Protocol (FTP) over TCP/IP</a:t>
            </a:r>
            <a:endParaRPr b="0" lang="en-US" sz="2300" spc="-1" strike="noStrike">
              <a:solidFill>
                <a:srgbClr val="464653"/>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int Services: </a:t>
            </a:r>
            <a:endParaRPr b="0" lang="en-US" sz="26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AP (AppleTalk)</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PR/LPD</a:t>
            </a:r>
            <a:endParaRPr b="0" lang="en-US" sz="2300" spc="-1" strike="noStrike">
              <a:solidFill>
                <a:srgbClr val="464653"/>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082F-4838-4AC5-B304-A5FC3453977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leShare IP</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pplication Suppor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il (SMTP, POP, IMAP and Authenticated Post Office Protocol AP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c CGI</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E57A-EEA8-4344-B003-41598ACB5E8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jor Tools of NOS </a:t>
            </a:r>
            <a:endParaRPr b="0" lang="en-US" sz="3200" spc="-1" strike="noStrike">
              <a:solidFill>
                <a:srgbClr val="464653"/>
              </a:solidFill>
              <a:latin typeface="Bookman Old Style"/>
            </a:endParaRPr>
          </a:p>
        </p:txBody>
      </p:sp>
      <p:sp>
        <p:nvSpPr>
          <p:cNvPr id="367" name=""/>
          <p:cNvSpPr txBox="1"/>
          <p:nvPr/>
        </p:nvSpPr>
        <p:spPr>
          <a:xfrm>
            <a:off x="228240" y="1219320"/>
            <a:ext cx="8915400" cy="4937040"/>
          </a:xfrm>
          <a:prstGeom prst="rect">
            <a:avLst/>
          </a:prstGeom>
          <a:noFill/>
          <a:ln w="0">
            <a:noFill/>
          </a:ln>
        </p:spPr>
        <p:txBody>
          <a:bodyPr anchor="t">
            <a:normAutofit fontScale="85000"/>
          </a:bodyPr>
          <a:p>
            <a:pPr marL="437040" indent="-4370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ing access to remote printers, managing which users are using which printers when, managing how print jobs are queued, and recognizing when devices aren't available to the network</a:t>
            </a:r>
            <a:endParaRPr b="0" lang="en-US" sz="2800" spc="-1" strike="noStrike">
              <a:solidFill>
                <a:srgbClr val="000000"/>
              </a:solidFill>
              <a:latin typeface="Gill Sans MT"/>
            </a:endParaRPr>
          </a:p>
          <a:p>
            <a:pPr marL="437040" indent="-4370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abling and managing access to files on remote systems, and determining who can access what—and who can't</a:t>
            </a:r>
            <a:endParaRPr b="0" lang="en-US" sz="2800" spc="-1" strike="noStrike">
              <a:solidFill>
                <a:srgbClr val="000000"/>
              </a:solidFill>
              <a:latin typeface="Gill Sans MT"/>
            </a:endParaRPr>
          </a:p>
          <a:p>
            <a:pPr marL="437040" indent="-4370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nting access to remote applications and resources, such as the Internet, and making those resources seem like local resources to the user (the network is ideally transparent to the user)</a:t>
            </a:r>
            <a:endParaRPr b="0" lang="en-US" sz="2800" spc="-1" strike="noStrike">
              <a:solidFill>
                <a:srgbClr val="000000"/>
              </a:solidFill>
              <a:latin typeface="Gill Sans MT"/>
            </a:endParaRPr>
          </a:p>
          <a:p>
            <a:pPr marL="437040" indent="-43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368"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8BF8-3309-48E2-B71E-960878B48C0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Midterm</a:t>
            </a:r>
            <a:endParaRPr b="0" lang="en-US" sz="3800" spc="-1" strike="noStrike">
              <a:solidFill>
                <a:srgbClr val="464653"/>
              </a:solidFill>
              <a:latin typeface="Bookman Old Style"/>
            </a:endParaRPr>
          </a:p>
        </p:txBody>
      </p:sp>
      <p:sp>
        <p:nvSpPr>
          <p:cNvPr id="44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Sunday</a:t>
            </a:r>
            <a:endParaRPr b="0" lang="en-US" sz="2600" spc="-1" strike="noStrike">
              <a:solidFill>
                <a:srgbClr val="000000"/>
              </a:solidFill>
              <a:latin typeface="Gill Sans MT"/>
            </a:endParaRPr>
          </a:p>
        </p:txBody>
      </p:sp>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84A0-0E9A-4FA4-B263-39B3AB515D8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jor Tools of NOS </a:t>
            </a:r>
            <a:endParaRPr b="0" lang="en-US" sz="3200" spc="-1" strike="noStrike">
              <a:solidFill>
                <a:srgbClr val="464653"/>
              </a:solidFill>
              <a:latin typeface="Bookman Old Style"/>
            </a:endParaRPr>
          </a:p>
        </p:txBody>
      </p:sp>
      <p:sp>
        <p:nvSpPr>
          <p:cNvPr id="370" name=""/>
          <p:cNvSpPr txBox="1"/>
          <p:nvPr/>
        </p:nvSpPr>
        <p:spPr>
          <a:xfrm>
            <a:off x="228240" y="1219320"/>
            <a:ext cx="8915400" cy="4937040"/>
          </a:xfrm>
          <a:prstGeom prst="rect">
            <a:avLst/>
          </a:prstGeom>
          <a:noFill/>
          <a:ln w="0">
            <a:noFill/>
          </a:ln>
        </p:spPr>
        <p:txBody>
          <a:bodyPr anchor="t">
            <a:normAutofit fontScale="89000"/>
          </a:bodyPr>
          <a:p>
            <a:pPr marL="457560" indent="-4575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ing routing services, including support for major networking protocols, so that the operating system knows what data to send where</a:t>
            </a:r>
            <a:endParaRPr b="0" lang="en-US" sz="2800" spc="-1" strike="noStrike">
              <a:solidFill>
                <a:srgbClr val="000000"/>
              </a:solidFill>
              <a:latin typeface="Gill Sans MT"/>
            </a:endParaRPr>
          </a:p>
          <a:p>
            <a:pPr marL="457560" indent="-4575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onitoring the system and security, so as to provide proper security against viruses, hackers, and data corruption.</a:t>
            </a:r>
            <a:endParaRPr b="0" lang="en-US" sz="2800" spc="-1" strike="noStrike">
              <a:solidFill>
                <a:srgbClr val="000000"/>
              </a:solidFill>
              <a:latin typeface="Gill Sans MT"/>
            </a:endParaRPr>
          </a:p>
          <a:p>
            <a:pPr marL="457560" indent="-4575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ing basic network administration utilities (such as SNMP, or Simple Network Management Protocol), enabling an administrator to perform tasks involving managing network resources and users.</a:t>
            </a:r>
            <a:endParaRPr b="0" lang="en-US" sz="2800" spc="-1" strike="noStrike">
              <a:solidFill>
                <a:srgbClr val="000000"/>
              </a:solidFill>
              <a:latin typeface="Gill Sans MT"/>
            </a:endParaRPr>
          </a:p>
          <a:p>
            <a:pPr marL="457560" indent="-457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37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1096-D978-4952-BBC9-6A5E3528653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a:t>
            </a:r>
            <a:endParaRPr b="0" lang="en-US" sz="3200" spc="-1" strike="noStrike">
              <a:solidFill>
                <a:srgbClr val="464653"/>
              </a:solidFill>
              <a:latin typeface="Bookman Old Style"/>
            </a:endParaRPr>
          </a:p>
        </p:txBody>
      </p:sp>
      <p:sp>
        <p:nvSpPr>
          <p:cNvPr id="373"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IX, created originally by Bell Labs (under AT and T), is a powerful server operating system that can be used in peer-to-peer or client/server networks.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IX was the first operating system written in the C programming language.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nux was first developed in the late 1980s by a young student at the University of Helsinki in Finland named </a:t>
            </a:r>
            <a:r>
              <a:rPr b="1" lang="en-US" sz="2800" spc="-1" strike="noStrike">
                <a:solidFill>
                  <a:srgbClr val="000000"/>
                </a:solidFill>
                <a:latin typeface="Gill Sans MT"/>
              </a:rPr>
              <a:t>Linus Torvalds.</a:t>
            </a:r>
            <a:endParaRPr b="0" lang="en-US" sz="2800" spc="-1" strike="noStrike">
              <a:solidFill>
                <a:srgbClr val="000000"/>
              </a:solidFill>
              <a:latin typeface="Gill Sans MT"/>
            </a:endParaRPr>
          </a:p>
        </p:txBody>
      </p:sp>
      <p:sp>
        <p:nvSpPr>
          <p:cNvPr id="37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94D4-B505-4251-9778-DB3138F425B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76" name=""/>
          <p:cNvSpPr txBox="1"/>
          <p:nvPr/>
        </p:nvSpPr>
        <p:spPr>
          <a:xfrm>
            <a:off x="228240" y="1219320"/>
            <a:ext cx="89154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UNIX (and Linux by extension) systems offer the following features:</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Fully protected multitasking:</a:t>
            </a:r>
            <a:r>
              <a:rPr b="0" lang="en-US" sz="2800" spc="-1" strike="noStrike">
                <a:solidFill>
                  <a:srgbClr val="000000"/>
                </a:solidFill>
                <a:latin typeface="Gill Sans MT"/>
              </a:rPr>
              <a:t> This means that UNIX can easily switch between tasks without the operating system crashing, because all UNIX processes are separate from those of the operating system. Even if an application crashes, unless it somehow manages to take down the X Windows system with it (which does happen), the operating system just keeps right on humming.</a:t>
            </a:r>
            <a:endParaRPr b="0" lang="en-US" sz="28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37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D741-0304-44C9-B5C6-182B8A75C07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79" name=""/>
          <p:cNvSpPr txBox="1"/>
          <p:nvPr/>
        </p:nvSpPr>
        <p:spPr>
          <a:xfrm>
            <a:off x="228240" y="1219320"/>
            <a:ext cx="8915400" cy="4937040"/>
          </a:xfrm>
          <a:prstGeom prst="rect">
            <a:avLst/>
          </a:prstGeom>
          <a:noFill/>
          <a:ln w="0">
            <a:noFill/>
          </a:ln>
        </p:spPr>
        <p:txBody>
          <a:bodyPr anchor="t">
            <a:normAutofit fontScale="84000"/>
          </a:bodyPr>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High performance and stability :</a:t>
            </a:r>
            <a:r>
              <a:rPr b="0" lang="en-US" sz="2400" spc="-1" strike="noStrike">
                <a:solidFill>
                  <a:srgbClr val="000000"/>
                </a:solidFill>
                <a:latin typeface="Gill Sans MT"/>
              </a:rPr>
              <a:t> Many servers running UNIX or Linux have run for years without crashing once. The multitasking capabilities of UNIX, along with the rapid rate at which the operating system matures (especially with Linux, which is free and can be changed by anyone), make UNIX or Linux a powerful solution, especially for server systems.</a:t>
            </a:r>
            <a:endParaRPr b="0" lang="en-US" sz="24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Multiuser capabilities :</a:t>
            </a:r>
            <a:r>
              <a:rPr b="0" lang="en-US" sz="2400" spc="-1" strike="noStrike">
                <a:solidFill>
                  <a:srgbClr val="000000"/>
                </a:solidFill>
                <a:latin typeface="Gill Sans MT"/>
              </a:rPr>
              <a:t> True multiuser systems enable different users to be logged in to the same system simultaneously. In UNIX and Linux, not only can a user log in to the same system at the same time as other users, that user can log in multiple times on the same system as the same user without the operating system batting an eyelash (such things are often necessary when administrating a network, particularly when managing users).</a:t>
            </a:r>
            <a:endParaRPr b="0" lang="en-US" sz="2400" spc="-1" strike="noStrike">
              <a:solidFill>
                <a:srgbClr val="000000"/>
              </a:solidFill>
              <a:latin typeface="Gill Sans MT"/>
            </a:endParaRPr>
          </a:p>
          <a:p>
            <a:pPr marL="228960" indent="-228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380"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DAB5-A5C5-41C0-87FB-E68CF0A82CC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82" name=""/>
          <p:cNvSpPr txBox="1"/>
          <p:nvPr/>
        </p:nvSpPr>
        <p:spPr>
          <a:xfrm>
            <a:off x="228240" y="1219320"/>
            <a:ext cx="89154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0000"/>
                </a:solidFill>
                <a:latin typeface="Gill Sans MT"/>
              </a:rPr>
              <a:t>Tons of high-quality software :</a:t>
            </a:r>
            <a:r>
              <a:rPr b="0" lang="en-US" sz="3200" spc="-1" strike="noStrike" baseline="-25000">
                <a:solidFill>
                  <a:srgbClr val="000000"/>
                </a:solidFill>
                <a:latin typeface="Gill Sans MT"/>
              </a:rPr>
              <a:t> From Apache Server (a Web server that’s used on a whopping 6 in 10 major Web servers on the Internet) to the long-awaited Mozilla.org Mozilla 1.0 open source Web browser/e-mail software (Mozilla is an open source version of the venerated Netscape Communicator) to the powerful free Gimp graphics manipulation software, Linux is packed with tons of free, high-quality software. The trick is that, with UNIX/Linux, you give up compatibility with commercial software that’s available only for Windows and/or Macintosh, currently.</a:t>
            </a:r>
            <a:endParaRPr b="0" lang="en-US" sz="32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0000"/>
                </a:solidFill>
                <a:latin typeface="Gill Sans MT"/>
              </a:rPr>
              <a:t>Easy customization :</a:t>
            </a:r>
            <a:r>
              <a:rPr b="0" lang="en-US" sz="3200" spc="-1" strike="noStrike" baseline="-25000">
                <a:solidFill>
                  <a:srgbClr val="000000"/>
                </a:solidFill>
                <a:latin typeface="Gill Sans MT"/>
              </a:rPr>
              <a:t> While other operating systems seem to offer less and less choice to the user about which applications to install with the operating system (Windows XP is this way), UNIX and especially Linux are the exact counterpoint to that model. With UNIX or Linux, you can actually customize your operating system kernel, stripping it down to just drivers and networking or installing everything possible.</a:t>
            </a:r>
            <a:endParaRPr b="0" lang="en-US" sz="3200" spc="-1" strike="noStrike">
              <a:solidFill>
                <a:srgbClr val="000000"/>
              </a:solidFill>
              <a:latin typeface="Gill Sans MT"/>
            </a:endParaRPr>
          </a:p>
        </p:txBody>
      </p:sp>
      <p:sp>
        <p:nvSpPr>
          <p:cNvPr id="38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03E8-1E4C-45F9-8EA8-50584C1FC55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 / Linux Features</a:t>
            </a:r>
            <a:endParaRPr b="0" lang="en-US" sz="3200" spc="-1" strike="noStrike">
              <a:solidFill>
                <a:srgbClr val="464653"/>
              </a:solidFill>
              <a:latin typeface="Bookman Old Style"/>
            </a:endParaRPr>
          </a:p>
        </p:txBody>
      </p:sp>
      <p:sp>
        <p:nvSpPr>
          <p:cNvPr id="385" name=""/>
          <p:cNvSpPr txBox="1"/>
          <p:nvPr/>
        </p:nvSpPr>
        <p:spPr>
          <a:xfrm>
            <a:off x="228240" y="1219320"/>
            <a:ext cx="89154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Modular architecture :</a:t>
            </a:r>
            <a:r>
              <a:rPr b="0" lang="en-US" sz="2000" spc="-1" strike="noStrike">
                <a:solidFill>
                  <a:srgbClr val="000000"/>
                </a:solidFill>
                <a:latin typeface="Gill Sans MT"/>
              </a:rPr>
              <a:t> The modular architecture of UNIX (and especially Linux) is directly responsible for how customizable UNIX is. Modular really means just what it sounds like: The operating system is built with a kernel that attaches modules to itself based on what the user needs.</a:t>
            </a:r>
            <a:endParaRPr b="0" lang="en-US" sz="20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POSIX compliance:</a:t>
            </a:r>
            <a:r>
              <a:rPr b="0" lang="en-US" sz="2000" spc="-1" strike="noStrike">
                <a:solidFill>
                  <a:srgbClr val="000000"/>
                </a:solidFill>
                <a:latin typeface="Gill Sans MT"/>
              </a:rPr>
              <a:t> With a free operating system like UNIX, the different distributions (or flavors) of UNIX quickly became difficult to manage. Currently, hundreds of different implementations of UNIX are available. To enable programmers to have some idea of how to code their software such that it would run on any version of UNIX, the Institute of Electrical and Electronics Engineers, Inc. (IEEE) defined the Portable Operating System Interface (POSIX).</a:t>
            </a:r>
            <a:endParaRPr b="0" lang="en-US" sz="20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Use of TCP/IP as the standard protocol stack:</a:t>
            </a:r>
            <a:r>
              <a:rPr b="0" lang="en-US" sz="2000" spc="-1" strike="noStrike">
                <a:solidFill>
                  <a:srgbClr val="000000"/>
                </a:solidFill>
                <a:latin typeface="Gill Sans MT"/>
              </a:rPr>
              <a:t> UNIX overwhelmingly uses TCP/IP as the protocol stack of choice. If you consider that the vast majority of the servers that help make up the Internet are UNIX computers of one form or another, you start to get the idea why TCP/IP is so popular.</a:t>
            </a:r>
            <a:endParaRPr b="0" lang="en-US" sz="20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38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38C1-FF57-4954-810A-DF654AD1D82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1-11T04:46:54Z</dcterms:modified>
  <cp:revision>73</cp:revision>
  <dc:subject/>
  <dc:title>Computer Networks</dc:title>
</cp:coreProperties>
</file>