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D8F0-1079-475E-B0B0-6F15C8FD3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CF28-BA7A-4B2C-B429-3DEE47A928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5399-A4EE-48E2-ABFD-D0F76565DB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3718-00F7-47F3-853E-D6CCD0D014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0C1E-D663-40FF-9619-B6EBC5F735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EA58-DB17-4784-9F99-917D8866CF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2469-0C71-4555-AC7B-F797ABCD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31DA-C298-4B17-AC3C-AF58961D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93E-5FEF-481A-A2A7-A33B3978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EEAD-928B-45B3-98BC-0C9A2735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F487-3012-418C-BC9C-DF4998E9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8556-E1AA-400C-BD40-D9C5AD2C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584F-0A3A-4513-BE23-BC6E7178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B81A-D60D-4817-B55C-CE7F75BE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8388-59E3-4ED4-AEB6-4BCDCAE3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F50E-5AE7-4795-8DC2-0F82EFC2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6CC8-CDAA-4710-87C1-1E448228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59B-3569-4463-A162-D7F03516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E1C0-98D2-4C02-9EEF-3C32A5F2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E375-14E5-4A3B-A928-07E8276F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20D8-D585-4D3B-8EB6-8658DE14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7398-ECAC-4ABF-9005-E3C23C87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69F8-E474-49A0-895F-90FEC4AF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2D7FB-EE7D-42FA-9CB9-BC1CEC9B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81697-A1F2-4C1B-A6E7-E288461F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200CA-7B6A-47F4-80D2-16B8B8D3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C1975-2494-4A91-BA90-564A8825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8EDBE-C18B-4E6E-AA5C-5CC23764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4A4-1A6C-4FF8-8CF8-1ECF5D49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9329F-17BE-40DE-B1AC-165048FF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BA700-4457-47E4-AA9A-8D56A3D8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EB960-68B7-48A6-8870-20B5DDD4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E7D59-5DCB-4E1D-8AD0-AB881B04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F6C11-85A7-4277-9E0E-92CAD305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F9CB3-76FE-47A1-9FDE-73885D17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5AB13-956C-475B-84DC-62336CDB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27609-134B-41DC-9764-E5BE7FBD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A84FA-C8D6-45B9-8466-5B99B676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6EFF6-9354-4ABE-93F7-F81B6D68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1FC-266E-4486-B129-DA83CCEB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EAF8B-9151-4023-B670-B1FF04FD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D7EEC-20A2-48EC-A8AD-E52141A6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0C8F3-F9DF-410A-84CE-F448B201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77A41-3F11-4386-A1C0-E2F1C442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C6FC2-E75E-4D73-A4D1-B0106BA3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40184-89C1-4DF0-8515-FD7AAD0F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83B1B-2170-4E87-A8E0-51BE4D28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836B7-3504-47DD-A9EC-AD066F88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31BA7-5012-449A-9437-C28B0B8B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F9D12-21E1-43ED-88CD-856732F5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4EAA-F8C7-462B-B872-6AFD0482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5A236-B8FE-4627-BBA1-1D465047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3404B-3F86-4F0A-864F-308F2B5A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2EC5F-3796-40C2-980F-E418D191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9E8DA-0BDF-4792-812F-9C00B019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A3124-8B42-4F90-B0B8-809BA1C8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6F2ED-2AA7-41F8-95C2-461E0200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82E13-DC18-4188-8C87-F5A81EFF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47482-FA95-406D-AF54-9876CBBD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E0C02-3CD8-44DA-8064-57FF106A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1ABEC-02F9-4DD1-9100-4D3FF66E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7490-7D55-40B9-A537-FB86E49B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AEC16-5A4E-4AE7-9496-68BF9C4F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9B346-78DD-4FE7-A1A0-4B34D080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E8242-2119-479C-A1BC-4DBA357D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1B1FB-F6AB-4F7E-9D55-AACCAC23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16C24-FCC0-49F9-9688-88F959BD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5166B-2B10-49BA-BAC2-0D591903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14582-C48F-471B-9B3B-A052A982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8CA65-BD47-4284-AFFE-DB3F7C78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6C29F-A0F2-4AE4-B9B4-EA3F16C6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F7797-2F9F-49AE-AF33-7CD06D46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7236-BA3A-492D-A8FC-68BE249B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34F7E-9073-4D2A-9870-FE56BC7A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6CD28-6C8A-46D2-9CE0-A31E0EFB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C8EBB-0AE9-488F-9802-670B2BFF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1BE9B-D359-44B4-9F06-E4132E6F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401F6-A662-4794-AC2C-F05B9A53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AC409-5E8E-4C33-BEA0-427B6B97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094D5-2A2C-4D71-A0D7-4619540F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BDDEF-3A31-4835-8009-0BC748B0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F9226-853C-444E-B943-DA2DB9A7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0B668-AC53-4475-82A5-4BA114A7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D91C-3760-4978-BA6D-D6D7DD98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18D3C-5024-4AA1-A78B-F12A0487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81554-75D1-4145-B207-76E4A763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06728-2C36-4C11-8DA0-F775FE0F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66835-FFCE-412C-8A9D-D1244017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0F7B1-2C10-48D8-B6D3-1A8F58A6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1931C-2C22-45C8-8186-0474845C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3FBBE-7A16-477C-BD1B-BBC6543F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6D139-F9BE-4E29-82DF-16F26448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B6B7A-E610-4324-8433-D4EEC46A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8FBC2-E4CD-46C4-8E34-223E5257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7056-2912-4AD5-BE55-B5556DCA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5AF64-FD2C-4A90-A38B-D5C2C11B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26ABE-310B-4A9D-9287-04BFD1BA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3F866-D348-4C84-AFDF-C366D91C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F3B95-03E5-44A0-9CED-F26B4980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FBA79-5927-4F75-AEE0-9EA73EBB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9B894-D7AD-4D60-AFD9-510A3102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6347F-A1C3-474F-8305-798B0B05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D24DF03D-F94C-4228-9898-655D81CC5D9A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8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>
              <a:gd name="textAreaLeft" fmla="*/ 57600 w 8686800"/>
              <a:gd name="textAreaRight" fmla="*/ 8629200 w 8686800"/>
              <a:gd name="textAreaTop" fmla="*/ 57960 h 1828800"/>
              <a:gd name="textAreaBottom" fmla="*/ 1829520 h 1828800"/>
            </a:gdLst>
            <a:ahLst/>
            <a:rect l="textAreaLeft" t="textAreaTop" r="textAreaRight" b="textAreaBottom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lnTo>
                  <a:pt x="8489582" y="0"/>
                </a:lnTo>
                <a:arcTo wR="197218" hR="197218" stAng="-5400000" swAng="5400000"/>
                <a:lnTo>
                  <a:pt x="8686800" y="1828800"/>
                </a:lnTo>
                <a:lnTo>
                  <a:pt x="0" y="1828800"/>
                </a:lnTo>
                <a:lnTo>
                  <a:pt x="0" y="197218"/>
                </a:lnTo>
                <a:lnTo>
                  <a:pt x="0" y="197218"/>
                </a:lnTo>
                <a:arcTo wR="197218" hR="197218" stAng="10800000" swAng="5400000"/>
                <a:close/>
              </a:path>
            </a:pathLst>
          </a:cu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28600" y="228600"/>
            <a:ext cx="8686800" cy="4419720"/>
          </a:xfrm>
          <a:custGeom>
            <a:avLst/>
            <a:gdLst>
              <a:gd name="textAreaLeft" fmla="*/ 36360 w 8686800"/>
              <a:gd name="textAreaRight" fmla="*/ 8650440 w 8686800"/>
              <a:gd name="textAreaTop" fmla="*/ 36360 h 4419720"/>
              <a:gd name="textAreaBottom" fmla="*/ 4420080 h 4419720"/>
            </a:gdLst>
            <a:ahLst/>
            <a:rect l="textAreaLeft" t="textAreaTop" r="textAreaRight" b="textAreaBottom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lnTo>
                  <a:pt x="8562123" y="0"/>
                </a:lnTo>
                <a:arcTo wR="124677" hR="124677" stAng="-5400000" swAng="5400000"/>
                <a:lnTo>
                  <a:pt x="8686800" y="4419600"/>
                </a:lnTo>
                <a:lnTo>
                  <a:pt x="0" y="4419600"/>
                </a:lnTo>
                <a:lnTo>
                  <a:pt x="0" y="124677"/>
                </a:lnTo>
                <a:lnTo>
                  <a:pt x="0" y="124677"/>
                </a:lnTo>
                <a:arcTo wR="124677" hR="124677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2D0B-9B74-4CF4-B439-360239547372}" type="datetime">
              <a:rPr b="0" lang="en-US" sz="1200" spc="-1" strike="noStrike">
                <a:solidFill>
                  <a:srgbClr val="775f55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CBB1C8AF-3B74-439E-B8E6-3D0DD14D0710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8"/>
          <p:cNvSpPr/>
          <p:nvPr/>
        </p:nvSpPr>
        <p:spPr>
          <a:xfrm>
            <a:off x="228600" y="228600"/>
            <a:ext cx="8686800" cy="4952880"/>
          </a:xfrm>
          <a:custGeom>
            <a:avLst/>
            <a:gdLst>
              <a:gd name="textAreaLeft" fmla="*/ 40680 w 8686800"/>
              <a:gd name="textAreaRight" fmla="*/ 8646120 w 8686800"/>
              <a:gd name="textAreaTop" fmla="*/ 40680 h 4952880"/>
              <a:gd name="textAreaBottom" fmla="*/ 4953240 h 4952880"/>
            </a:gdLst>
            <a:ahLst/>
            <a:rect l="textAreaLeft" t="textAreaTop" r="textAreaRight" b="textAreaBottom"/>
            <a:pathLst>
              <a:path w="8686800" h="4953000">
                <a:moveTo>
                  <a:pt x="139724" y="0"/>
                </a:moveTo>
                <a:lnTo>
                  <a:pt x="8547076" y="0"/>
                </a:lnTo>
                <a:lnTo>
                  <a:pt x="8547076" y="0"/>
                </a:lnTo>
                <a:arcTo wR="139724" hR="139724" stAng="-5400000" swAng="5400000"/>
                <a:lnTo>
                  <a:pt x="8686800" y="4953000"/>
                </a:lnTo>
                <a:lnTo>
                  <a:pt x="0" y="4953000"/>
                </a:lnTo>
                <a:lnTo>
                  <a:pt x="0" y="139724"/>
                </a:lnTo>
                <a:lnTo>
                  <a:pt x="0" y="139724"/>
                </a:lnTo>
                <a:arcTo wR="139724" hR="139724" stAng="10800000" swAng="5400000"/>
                <a:close/>
              </a:path>
            </a:pathLst>
          </a:cu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ound Same Side Corner Rectangle 9"/>
          <p:cNvSpPr/>
          <p:nvPr/>
        </p:nvSpPr>
        <p:spPr>
          <a:xfrm flipV="1">
            <a:off x="228600" y="5257440"/>
            <a:ext cx="8686800" cy="1295280"/>
          </a:xfrm>
          <a:custGeom>
            <a:avLst/>
            <a:gdLst>
              <a:gd name="textAreaLeft" fmla="*/ 40680 w 8686800"/>
              <a:gd name="textAreaRight" fmla="*/ 8646120 w 8686800"/>
              <a:gd name="textAreaTop" fmla="*/ 40680 h 1295280"/>
              <a:gd name="textAreaBottom" fmla="*/ 1295640 h 1295280"/>
            </a:gdLst>
            <a:ahLst/>
            <a:rect l="textAreaLeft" t="textAreaTop" r="textAreaRight" b="textAreaBottom"/>
            <a:pathLst>
              <a:path w="8686800" h="1295400">
                <a:moveTo>
                  <a:pt x="139696" y="0"/>
                </a:moveTo>
                <a:lnTo>
                  <a:pt x="8547104" y="0"/>
                </a:lnTo>
                <a:lnTo>
                  <a:pt x="8547104" y="0"/>
                </a:lnTo>
                <a:arcTo wR="139696" hR="139696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139696"/>
                </a:lnTo>
                <a:lnTo>
                  <a:pt x="0" y="139696"/>
                </a:lnTo>
                <a:arcTo wR="139696" hR="139696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33466682-558A-4F75-B21F-B7407A3D1346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26112AFC-C440-4C65-93FB-E5CEC99DF193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FC30AA15-6535-4893-82DE-761E6D2612A1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1B7E1F3F-2509-4236-A6F9-D38BF52E4462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8"/>
          <p:cNvSpPr/>
          <p:nvPr/>
        </p:nvSpPr>
        <p:spPr>
          <a:xfrm rot="5400000">
            <a:off x="4862520" y="2300040"/>
            <a:ext cx="6095880" cy="1952640"/>
          </a:xfrm>
          <a:custGeom>
            <a:avLst/>
            <a:gdLst>
              <a:gd name="textAreaLeft" fmla="*/ 27720 w 6095880"/>
              <a:gd name="textAreaRight" fmla="*/ 6068160 w 6095880"/>
              <a:gd name="textAreaTop" fmla="*/ 27720 h 1952640"/>
              <a:gd name="textAreaBottom" fmla="*/ 1953000 h 1952640"/>
            </a:gdLst>
            <a:ahLst/>
            <a:rect l="textAreaLeft" t="textAreaTop" r="textAreaRight" b="textAreaBottom"/>
            <a:pathLst>
              <a:path w="6096000" h="1952625">
                <a:moveTo>
                  <a:pt x="95718" y="0"/>
                </a:moveTo>
                <a:lnTo>
                  <a:pt x="6000282" y="0"/>
                </a:lnTo>
                <a:lnTo>
                  <a:pt x="6000282" y="0"/>
                </a:lnTo>
                <a:arcTo wR="95718" hR="95718" stAng="-5400000" swAng="5400000"/>
                <a:lnTo>
                  <a:pt x="6096000" y="1952625"/>
                </a:lnTo>
                <a:lnTo>
                  <a:pt x="0" y="1952625"/>
                </a:lnTo>
                <a:lnTo>
                  <a:pt x="0" y="95718"/>
                </a:lnTo>
                <a:lnTo>
                  <a:pt x="0" y="95718"/>
                </a:lnTo>
                <a:arcTo wR="95718" hR="95718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520911AD-DC8B-4764-A4B4-36A6054B48FD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A0E0A297-1211-43AC-A473-DCA449CD9FEE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1295280" y="2438280"/>
            <a:ext cx="6248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omic Sans MS"/>
                <a:ea typeface="MS PGothic"/>
              </a:rPr>
              <a:t>Java Fundamentals 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5257800" y="464832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Input and Outpu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  <a:ea typeface="MS PGothic"/>
              </a:rPr>
              <a:t>Standard Output Window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762120" y="1447920"/>
            <a:ext cx="81532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Using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System.out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we can output multiple lines of text to the standard output wind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Date Placeholder 3"/>
          <p:cNvSpPr/>
          <p:nvPr/>
        </p:nvSpPr>
        <p:spPr>
          <a:xfrm>
            <a:off x="22860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63F7EDF3-4D63-44B4-A547-C41C3ECC2423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Picture 4" descr="wu18847_0306"/>
          <p:cNvPicPr/>
          <p:nvPr/>
        </p:nvPicPr>
        <p:blipFill>
          <a:blip r:embed="rId1"/>
          <a:stretch/>
        </p:blipFill>
        <p:spPr>
          <a:xfrm>
            <a:off x="2362320" y="2522520"/>
            <a:ext cx="4572000" cy="22780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5"/>
          <p:cNvSpPr/>
          <p:nvPr/>
        </p:nvSpPr>
        <p:spPr>
          <a:xfrm>
            <a:off x="1371600" y="5181480"/>
            <a:ext cx="73152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exact style of standard output window depends on the Java tool you u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  <a:ea typeface="MS PGothic"/>
              </a:rPr>
              <a:t>The println Method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09120" y="1371240"/>
            <a:ext cx="85345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We use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println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instead of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print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 to skip a l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Date Placeholder 3"/>
          <p:cNvSpPr/>
          <p:nvPr/>
        </p:nvSpPr>
        <p:spPr>
          <a:xfrm>
            <a:off x="22860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7F0A6680-8FDF-4811-B36E-B4B4B10C0BE2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7" name="Group 4"/>
          <p:cNvGrpSpPr/>
          <p:nvPr/>
        </p:nvGrpSpPr>
        <p:grpSpPr>
          <a:xfrm>
            <a:off x="1511280" y="1905120"/>
            <a:ext cx="6489360" cy="2042640"/>
            <a:chOff x="1511280" y="1905120"/>
            <a:chExt cx="6489360" cy="2042640"/>
          </a:xfrm>
        </p:grpSpPr>
        <p:sp>
          <p:nvSpPr>
            <p:cNvPr id="368" name="Rectangle 5"/>
            <p:cNvSpPr/>
            <p:nvPr/>
          </p:nvSpPr>
          <p:spPr>
            <a:xfrm>
              <a:off x="1511280" y="1905120"/>
              <a:ext cx="6489360" cy="20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bddc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Text Box 6"/>
            <p:cNvSpPr/>
            <p:nvPr/>
          </p:nvSpPr>
          <p:spPr>
            <a:xfrm>
              <a:off x="1672920" y="2115720"/>
              <a:ext cx="61635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228600">
                <a:lnSpc>
                  <a:spcPct val="100000"/>
                </a:lnSpc>
                <a:spcBef>
                  <a:spcPts val="2200"/>
                </a:spcBef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dd8047"/>
                  </a:solidFill>
                  <a:latin typeface="Courier New"/>
                  <a:ea typeface="MS PGothic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x = 123, y = x + x;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( </a:t>
              </a:r>
              <a:r>
                <a:rPr b="0" lang="en-US" sz="16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x = 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x );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( </a:t>
              </a:r>
              <a:r>
                <a:rPr b="0" lang="en-US" sz="16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x + x = 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y );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228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System.out.println( </a:t>
              </a:r>
              <a:r>
                <a:rPr b="0" lang="en-US" sz="1600" spc="-1" strike="noStrike">
                  <a:solidFill>
                    <a:srgbClr val="66ccff"/>
                  </a:solidFill>
                  <a:latin typeface="Courier New"/>
                  <a:ea typeface="MS PGothic"/>
                </a:rPr>
                <a:t>" THE END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MS PGothic"/>
                </a:rPr>
                <a:t> );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0" name="TextBox 10"/>
          <p:cNvSpPr/>
          <p:nvPr/>
        </p:nvSpPr>
        <p:spPr>
          <a:xfrm>
            <a:off x="2362320" y="4648320"/>
            <a:ext cx="350496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1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+ x = 24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  <a:ea typeface="MS PGothic"/>
              </a:rPr>
              <a:t>Standard Input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62120" y="14475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To input primitive data values, we use the Scanne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4 steps are needed to be able to use input primi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ep 1: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 import the Scanner cl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ourier New"/>
                <a:ea typeface="MS PGothic"/>
              </a:rPr>
              <a:t>import Java.util.Scann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MS PGothic"/>
              </a:rPr>
              <a:t>Step 2 :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MS PGothic"/>
              </a:rPr>
              <a:t> declaring a reference variable of a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MS PGothic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ourier New"/>
                <a:ea typeface="MS PGothic"/>
              </a:rPr>
              <a:t>Scanner read ;   //we named the object 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ep 3: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creating an instance of the Sc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ourier New"/>
                <a:ea typeface="MS PGothic"/>
              </a:rPr>
              <a:t>read = new Scanner (System.i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ep 4: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use specific methods to ent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ourier New"/>
                <a:ea typeface="MS PGothic"/>
              </a:rPr>
              <a:t>int x = read.next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lnSpc>
                <a:spcPct val="100000"/>
              </a:lnSpc>
              <a:spcBef>
                <a:spcPts val="400"/>
              </a:spcBef>
              <a:buClr>
                <a:srgbClr val="dd80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Date Placeholder 3"/>
          <p:cNvSpPr/>
          <p:nvPr/>
        </p:nvSpPr>
        <p:spPr>
          <a:xfrm>
            <a:off x="22860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41C1C3D9-DBEB-4F32-9C4F-B68A14CFA0D9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  <a:ea typeface="MS PGothic"/>
              </a:rPr>
              <a:t>Example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Date Placeholder 3"/>
          <p:cNvSpPr/>
          <p:nvPr/>
        </p:nvSpPr>
        <p:spPr>
          <a:xfrm>
            <a:off x="22860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350EA03E-6BD8-42D7-A694-E25E796864DA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Box 8"/>
          <p:cNvSpPr/>
          <p:nvPr/>
        </p:nvSpPr>
        <p:spPr>
          <a:xfrm>
            <a:off x="304920" y="671400"/>
            <a:ext cx="845820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impor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java.util.Scanner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estInpu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anner input 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rea ,length,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= </a:t>
            </a:r>
            <a:r>
              <a:rPr b="0" lang="en-US" sz="1800" spc="-1" strike="noStrike">
                <a:solidFill>
                  <a:srgbClr val="0070c0"/>
                </a:solidFill>
                <a:latin typeface="Tahoma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canner (System.in);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</a:rPr>
              <a:t>// creating an inst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.out.println("enter the length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gth = input.nextInt();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</a:rPr>
              <a:t>//reading the length from the keybo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.out.println("Enter the Width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dth = input.nextInt(); </a:t>
            </a:r>
            <a:r>
              <a:rPr b="0" lang="en-US" sz="1800" spc="-1" strike="noStrike">
                <a:solidFill>
                  <a:srgbClr val="00b050"/>
                </a:solidFill>
                <a:latin typeface="Tahoma"/>
              </a:rPr>
              <a:t>//reading the width from the keybo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ea = length * width 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.out.println("the length is "+ leng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.out.println("the width is "+ 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.out.println("the area is "+ are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Output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enter the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Enter the Widt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3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e length is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e width is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the area is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ate Placeholder 3"/>
          <p:cNvSpPr/>
          <p:nvPr/>
        </p:nvSpPr>
        <p:spPr>
          <a:xfrm>
            <a:off x="22860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Footer Placeholder 4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F1BE79A6-75C4-4B83-A257-80DF52E1A21D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  <a:ea typeface="MS PGothic"/>
              </a:rPr>
              <a:t>Common Scanner Methods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85440" y="15235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Arial"/>
              </a:rPr>
              <a:t>Method</a:t>
            </a:r>
            <a:r>
              <a:rPr b="0" lang="en-US" sz="3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404040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canner input = new Scanner (System.i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nextByte( )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byte b = input.nextByte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nextDouble( )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double d = input.nextDouble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nextFloat( )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float f = input.nextFloat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nextInt( )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int i = input.nextInt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nextLong( )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long l = input.nextLong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nextShort( )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short s = input.nextShort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next()                String str = input.next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Date Placeholder 3"/>
          <p:cNvSpPr/>
          <p:nvPr/>
        </p:nvSpPr>
        <p:spPr>
          <a:xfrm>
            <a:off x="22860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Introduction to OO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Footer Placeholder 4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Dr. S. GANNOUNI &amp; Dr.  A. TOUI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Arial"/>
              </a:rPr>
              <a:t>Page </a:t>
            </a:r>
            <a:fld id="{9FE0B80B-B79A-48AD-969F-B4BC3DE2B213}" type="slidenum">
              <a:rPr b="0" lang="en-US" sz="12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08:45:47Z</dcterms:created>
  <dc:creator>Staff Member</dc:creator>
  <dc:description/>
  <dc:language>en-US</dc:language>
  <cp:lastModifiedBy>NOUF</cp:lastModifiedBy>
  <dcterms:modified xsi:type="dcterms:W3CDTF">2013-09-16T17:03:22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871033</vt:lpwstr>
  </property>
</Properties>
</file>