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C1DA-266E-4220-8ED5-A3D87ABEC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CFFB-8383-46EF-93F8-CC2936612A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2886-A630-4250-8DEA-7CCAEC2822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88B2-4CCD-458C-8AA5-4F54C1C12C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FF00-75BE-4A5D-8C0A-6FCCC919F2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7E71-26A8-4509-9C23-DC51E46BFA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5CB-31E7-4AAF-A19D-1E2CB2F2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F0D-1877-449E-9E87-8BDFA786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586-263D-4D08-A0DA-FE767D00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430-0485-42DE-B69F-E0BA9158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F5D4-42EE-40CB-AA4E-54255390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828A-311D-4E3E-A9D4-377D35AB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904C-A81B-4737-8C79-45934424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3FEC-ED7B-41DF-9C83-91E1C5F1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57C6-A6C3-47F8-BFFB-61F56BBA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A348-9E0B-4C1F-8792-753D97F6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973C-10A4-43D1-ABBE-0ADF05E9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802-A6B7-4552-B710-6800B5DC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E312-9F50-431E-93E6-51034F2E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F8C3-C6F3-431A-9E86-C8A99387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FC75-A0EB-45F9-B23F-C359640A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E707-EC10-429B-A28D-21A9AB9E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29B9-F9BE-451E-B9A1-F7D83195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F177E-EE69-4C11-8CDD-5AF495A5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E7473-5943-47C0-8911-60D3CBB7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3B5CC-0F05-4A80-9DB8-512A3F54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E0A8B-E19D-4BCA-8665-E4C0274A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2F72D-AD79-43AB-B203-9119A06B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E22-9A70-48E6-B397-19AAFC9D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8988F-DC2F-41F1-A477-BB07D434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91CF0-D8F5-4038-9345-3106606E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70A23-8095-4BCE-9E6B-3433746B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40DA7-5E8C-4118-80D7-4AF8C213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8015-3E76-443C-9E14-801812B0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8E6D3-31F4-48EA-8963-791C9FA2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C8628-C557-494C-840C-A730C4E8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70178-70A1-4B2D-8889-8059A3F9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466A8-95F1-43C6-AE1C-3AC3142E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71596-69A3-440E-AAA6-DDB47D84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C43-703B-4B87-B8CB-322EC9BE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0AA1C-60B0-41E7-AFB2-2A9E45E3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06E88-DA0D-4F3F-8788-D9E7AEAB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57FBF-542D-4CBE-B502-8FF7FC3D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24A86-1B58-41F1-A72A-BFBBCE8E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F125B-2E26-43E0-AA8C-9455FF12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3F8C5-6AC1-4775-85E1-ED300A91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FFEC4-897B-42BC-89A3-77D0AD33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8ADAF-A386-4AB3-8A24-8B0AF6E3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A0E31-8621-42D0-A519-CBDC5BEF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7BD77-507C-423A-ADC6-154A21A5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6C1-5886-4943-8867-9DF7C54E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F3AA4-EB73-47AC-8A99-DA4DEE35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EF3C0-AC19-454E-803F-05E17045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AC6FC-6010-45E5-82DC-CF464B7C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358A0-591B-4FD6-B6AA-C9948618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FA445-F004-4C73-83E4-72132C91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96037-F9A4-47CF-80B4-384D732A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4D32F-3F79-4FB4-8745-41982CF5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A794A-C9B8-48B7-B1F1-842F796E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59AE0-01A3-4BA0-AED7-1A5662AA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E18F2-80DB-4BCF-8433-750EB90D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64E2-B81B-4260-A172-B4744DA9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9DF7D-6E6B-49F0-AC66-74923AFF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09AF2-7F65-41CA-BC4D-68C4A775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B2AE0-D398-46FE-A7BE-587A0B68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73170-683C-4FC5-B434-96EB69C4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BBB3A-EDDD-4D64-B55A-7610E4C6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41EE0-DD2F-4BD4-9DE3-B9A124B6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3DC59-00AD-45D4-8AD1-2F34018A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39EF2-91C6-47C2-A0B8-E0166A68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26C1D-3AC5-4DD2-88FF-377154E3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799FE-026D-480E-BF1B-C50AB125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998-72C6-4BF3-B887-D10FEEA2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5F2C2-BC33-4F0C-BE29-D68A3258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26E9D-9A3D-4487-BD22-29B491DF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E96D6-D21E-4C62-8563-62857381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55EBB-CD00-4D9D-8B3B-A8D62C75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BD9FD-46BD-4FF0-9570-12950580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53AB9-43A1-47FC-923F-D1990B77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97687-09B6-4EB5-A00F-5BBCAD06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6A19F-5404-41AF-9D30-3877B994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4483B-BC8C-43F5-B6EF-9F8DACE0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25740-27E8-4252-9A82-9B5DC4DA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9D0-2204-492A-B5D3-80763618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7231B-202E-42BD-BC68-8636C2EC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CE71F-25CC-448F-92DC-BDAA4DE4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3142D-EF8B-4F09-8E04-EBA7B660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2748E-1BDC-4B25-9712-AE345B2E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8DECE-08DF-4609-A6C0-0DD7D0FD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84107-2B8A-4259-BD02-C6F28C95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6E8FF-E0B7-455D-8BA8-A1E26C4D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429F5-F7AA-4D86-83FE-A3B0D420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F6B56-4B37-48C2-B71E-67891225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F20A7-D9E5-48AD-9294-C1D92522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8B7-3DC3-405F-ADF8-301BD0F5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97C39-FA4C-480E-AB88-89CF4279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7254A-2739-46E3-8B4D-C2586178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1828E-6359-4255-86D7-08679283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03995-DAF6-4054-A5CD-F402976C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13857-4C3A-42E6-AD89-13E31CE5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62839-82E3-458B-B040-1BEEE4F9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F923E-946C-4412-8A29-B5165C25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72BBE807-3801-4FF9-951F-6AF652CE9C33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>
              <a:gd name="textAreaLeft" fmla="*/ 57600 w 8686800"/>
              <a:gd name="textAreaRight" fmla="*/ 8629200 w 8686800"/>
              <a:gd name="textAreaTop" fmla="*/ 57960 h 1828800"/>
              <a:gd name="textAreaBottom" fmla="*/ 1829520 h 1828800"/>
            </a:gdLst>
            <a:ahLst/>
            <a:rect l="textAreaLeft" t="textAreaTop" r="textAreaRight" b="textAreaBottom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lnTo>
                  <a:pt x="8489582" y="0"/>
                </a:lnTo>
                <a:arcTo wR="197218" hR="197218" stAng="-5400000" swAng="5400000"/>
                <a:lnTo>
                  <a:pt x="8686800" y="1828800"/>
                </a:lnTo>
                <a:lnTo>
                  <a:pt x="0" y="1828800"/>
                </a:lnTo>
                <a:lnTo>
                  <a:pt x="0" y="197218"/>
                </a:lnTo>
                <a:lnTo>
                  <a:pt x="0" y="197218"/>
                </a:lnTo>
                <a:arcTo wR="197218" hR="197218" stAng="10800000" swAng="5400000"/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>
              <a:gd name="textAreaLeft" fmla="*/ 36360 w 8686800"/>
              <a:gd name="textAreaRight" fmla="*/ 8650440 w 8686800"/>
              <a:gd name="textAreaTop" fmla="*/ 36360 h 4419720"/>
              <a:gd name="textAreaBottom" fmla="*/ 4420080 h 4419720"/>
            </a:gdLst>
            <a:ahLst/>
            <a:rect l="textAreaLeft" t="textAreaTop" r="textAreaRight" b="textAreaBottom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lnTo>
                  <a:pt x="8562123" y="0"/>
                </a:lnTo>
                <a:arcTo wR="124677" hR="124677" stAng="-5400000" swAng="5400000"/>
                <a:lnTo>
                  <a:pt x="8686800" y="4419600"/>
                </a:lnTo>
                <a:lnTo>
                  <a:pt x="0" y="4419600"/>
                </a:lnTo>
                <a:lnTo>
                  <a:pt x="0" y="124677"/>
                </a:lnTo>
                <a:lnTo>
                  <a:pt x="0" y="124677"/>
                </a:lnTo>
                <a:arcTo wR="124677" hR="124677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57B5-B627-478C-9945-EE64F50D88B2}" type="datetime">
              <a:rPr b="0" lang="en-US" sz="12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CBE5C72F-F1FE-4C43-BFEA-5A8990229C7C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4952880"/>
              <a:gd name="textAreaBottom" fmla="*/ 4953240 h 4952880"/>
            </a:gdLst>
            <a:ahLst/>
            <a:rect l="textAreaLeft" t="textAreaTop" r="textAreaRight" b="textAreaBottom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lnTo>
                  <a:pt x="8547076" y="0"/>
                </a:lnTo>
                <a:arcTo wR="139724" hR="139724" stAng="-5400000" swAng="5400000"/>
                <a:lnTo>
                  <a:pt x="8686800" y="4953000"/>
                </a:lnTo>
                <a:lnTo>
                  <a:pt x="0" y="4953000"/>
                </a:lnTo>
                <a:lnTo>
                  <a:pt x="0" y="139724"/>
                </a:lnTo>
                <a:lnTo>
                  <a:pt x="0" y="139724"/>
                </a:lnTo>
                <a:arcTo wR="139724" hR="139724" stAng="10800000" swAng="5400000"/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1295280"/>
              <a:gd name="textAreaBottom" fmla="*/ 1295640 h 1295280"/>
            </a:gdLst>
            <a:ahLst/>
            <a:rect l="textAreaLeft" t="textAreaTop" r="textAreaRight" b="textAreaBottom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lnTo>
                  <a:pt x="8547104" y="0"/>
                </a:lnTo>
                <a:arcTo wR="139696" hR="139696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139696"/>
                </a:lnTo>
                <a:lnTo>
                  <a:pt x="0" y="139696"/>
                </a:lnTo>
                <a:arcTo wR="139696" hR="139696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6F7CE7BC-3ABA-46CC-9FBE-9DD6A926A468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49596FCD-CDE8-47C3-89FC-F96020F028B3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3237856D-7380-4978-81FA-5171314C0509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79974C8C-8DA4-48CC-ADA8-A117CF82A087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>
              <a:gd name="textAreaLeft" fmla="*/ 27720 w 6095880"/>
              <a:gd name="textAreaRight" fmla="*/ 6068160 w 6095880"/>
              <a:gd name="textAreaTop" fmla="*/ 27720 h 1952640"/>
              <a:gd name="textAreaBottom" fmla="*/ 1953000 h 1952640"/>
            </a:gdLst>
            <a:ahLst/>
            <a:rect l="textAreaLeft" t="textAreaTop" r="textAreaRight" b="textAreaBottom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lnTo>
                  <a:pt x="6000282" y="0"/>
                </a:lnTo>
                <a:arcTo wR="95718" hR="95718" stAng="-5400000" swAng="5400000"/>
                <a:lnTo>
                  <a:pt x="6096000" y="1952625"/>
                </a:lnTo>
                <a:lnTo>
                  <a:pt x="0" y="1952625"/>
                </a:lnTo>
                <a:lnTo>
                  <a:pt x="0" y="95718"/>
                </a:lnTo>
                <a:lnTo>
                  <a:pt x="0" y="95718"/>
                </a:lnTo>
                <a:arcTo wR="95718" hR="95718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0E632663-ADA2-4A5F-BA67-03B5458191B8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EC14927D-2A0A-408E-8AB7-279AAFD77A7C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1295280" y="2438280"/>
            <a:ext cx="6248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omic Sans MS"/>
                <a:ea typeface="MS PGothic"/>
              </a:rPr>
              <a:t>Java Fundamentals 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5257800" y="46483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Input and Outpu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  <a:ea typeface="MS PGothic"/>
              </a:rPr>
              <a:t>Standard Output Window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762120" y="144792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Using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System.out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we can output multiple lines of text to the standard output wind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Date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7D3A11D5-087B-4043-922E-A4A3CC669EA2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4" descr="wu18847_0306"/>
          <p:cNvPicPr/>
          <p:nvPr/>
        </p:nvPicPr>
        <p:blipFill>
          <a:blip r:embed="rId1"/>
          <a:stretch/>
        </p:blipFill>
        <p:spPr>
          <a:xfrm>
            <a:off x="2362320" y="2522520"/>
            <a:ext cx="4572000" cy="22780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5"/>
          <p:cNvSpPr/>
          <p:nvPr/>
        </p:nvSpPr>
        <p:spPr>
          <a:xfrm>
            <a:off x="1371600" y="5181480"/>
            <a:ext cx="73152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exact style of standard output window depends on the Java tool you 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  <a:ea typeface="MS PGothic"/>
              </a:rPr>
              <a:t>The println Method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09120" y="1371240"/>
            <a:ext cx="85345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We use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println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instead of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print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to skip a l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Date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73F504DB-C3AA-472E-9D12-CE24363DA1B9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7" name="Group 4"/>
          <p:cNvGrpSpPr/>
          <p:nvPr/>
        </p:nvGrpSpPr>
        <p:grpSpPr>
          <a:xfrm>
            <a:off x="1511280" y="1905120"/>
            <a:ext cx="6489360" cy="2042640"/>
            <a:chOff x="1511280" y="1905120"/>
            <a:chExt cx="6489360" cy="2042640"/>
          </a:xfrm>
        </p:grpSpPr>
        <p:sp>
          <p:nvSpPr>
            <p:cNvPr id="368" name="Rectangle 5"/>
            <p:cNvSpPr/>
            <p:nvPr/>
          </p:nvSpPr>
          <p:spPr>
            <a:xfrm>
              <a:off x="1511280" y="1905120"/>
              <a:ext cx="6489360" cy="20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bddc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Text Box 6"/>
            <p:cNvSpPr/>
            <p:nvPr/>
          </p:nvSpPr>
          <p:spPr>
            <a:xfrm>
              <a:off x="1672920" y="2115720"/>
              <a:ext cx="61635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228600"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d8047"/>
                  </a:solidFill>
                  <a:latin typeface="Courier New"/>
                  <a:ea typeface="MS PGothic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x = 123, y = x + x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= 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x )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+ x = 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y )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THE END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" name="TextBox 10"/>
          <p:cNvSpPr/>
          <p:nvPr/>
        </p:nvSpPr>
        <p:spPr>
          <a:xfrm>
            <a:off x="2362320" y="4648320"/>
            <a:ext cx="350496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+ x = 24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  <a:ea typeface="MS PGothic"/>
              </a:rPr>
              <a:t>Standard Input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62120" y="14475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To input primitive data values, we use the Scann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4 steps are needed to be able to use input primi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ep 1: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 import the Scanner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ourier New"/>
                <a:ea typeface="MS PGothic"/>
              </a:rPr>
              <a:t>import Java.util.Scann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MS PGothic"/>
              </a:rPr>
              <a:t>Step 2 :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MS PGothic"/>
              </a:rPr>
              <a:t> declaring a reference variable of a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MS PGothic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ourier New"/>
                <a:ea typeface="MS PGothic"/>
              </a:rPr>
              <a:t>Scanner read ;   //we named the object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ep 3: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creating an instance of the Sc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ourier New"/>
                <a:ea typeface="MS PGothic"/>
              </a:rPr>
              <a:t>read = new Scanner 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ep 4: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use specific methods to ent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ourier New"/>
                <a:ea typeface="MS PGothic"/>
              </a:rPr>
              <a:t>int x = read.next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Date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8BCB3EFC-7C4B-445D-BCB4-EDE450C9ACD2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  <a:ea typeface="MS PGothic"/>
              </a:rPr>
              <a:t>Example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Date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F27A33C0-2D56-4257-BC55-AB2F758D7055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Box 8"/>
          <p:cNvSpPr/>
          <p:nvPr/>
        </p:nvSpPr>
        <p:spPr>
          <a:xfrm>
            <a:off x="304920" y="671400"/>
            <a:ext cx="845820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impo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java.util.Scanner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estInpu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anner input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rea ,length,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=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canner (System.in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// creating an inst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.out.println("enter the length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 = input.nextInt(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//reading the length from the keybo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.out.println("Enter the Width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dth = input.nextInt(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//reading the width from the keybo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ea = length * width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.out.println("the length is "+ leng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.out.println("the width is "+ 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.out.println("the area is "+ are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Output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enter the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Enter the Widt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3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e length is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e width is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e area is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ate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Footer Placeholder 4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85BE8F88-E894-41F6-ADF2-535D21E14E70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  <a:ea typeface="MS PGothic"/>
              </a:rPr>
              <a:t>Common Scanner Method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5440" y="15235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</a:rPr>
              <a:t>Method</a:t>
            </a:r>
            <a:r>
              <a:rPr b="0" lang="en-US" sz="3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canner input = new Scanner (System.i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nextByte( )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byte b = input.nextByte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nextDouble( )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double d = input.nextDouble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nextFloat( )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float f = input.nextFloat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nextInt( )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int i = input.nextInt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nextLong( )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long l = input.nextLong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nextShort( )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short s = input.nextShort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next()                String str = input.nex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Date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DC6F6377-A38E-498F-B30C-64221D5E60CF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8:45:47Z</dcterms:created>
  <dc:creator>Staff Member</dc:creator>
  <dc:description/>
  <dc:language>en-US</dc:language>
  <cp:lastModifiedBy>NOUF</cp:lastModifiedBy>
  <dcterms:modified xsi:type="dcterms:W3CDTF">2013-09-16T17:03:22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871033</vt:lpwstr>
  </property>
</Properties>
</file>