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dt" idx="2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 type="sldNum" idx="2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98C0-231B-446C-8C97-BA5B04C3E1A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1379-B8C2-4CEF-927B-9D50E08117C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986A-E255-4C2D-AA3C-711AE9AF41E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52BE-2002-4931-8DC8-4B408CA0F83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E272-361C-41A2-924D-88D107E9849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1F38-193B-47D3-8503-D8FAFF9EB6A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1945-1B23-4AC0-920E-9F64658461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1471-5191-4837-9BDF-BD6C33A5C56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452E-A0B7-4061-A179-120784E9523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ED9D-BB53-4E1A-8A55-BD208307DB3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54D8-A8EF-46B1-ABDE-524EB7BFFA3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D982-7413-4B7A-A523-0FDF302EAB4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064F-3117-4DEC-9B31-A600112D9EE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583F-8933-499D-BCE3-09925BC9016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7D65-44D1-404D-BDA2-CA7092B362A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7C4A-8859-4DD2-9EC1-F4A72D117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6E30-90DE-4C9E-AE3D-690688D4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CCE8B8-C3ED-4B85-A59F-AF1EF130D57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63E5D3-2662-4A06-AD0A-D3583A54BE0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4D0EC5-8357-44BB-82B5-F3858B27C54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C7BDAF-4AD6-4AF9-BA1C-CBFB67FFCC8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DFD899-0029-47DA-8B5E-D884104A95D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C3ECA4-3BDC-4C20-B50C-D0A7F32D28B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7F7BFE-336A-4B5D-A017-318961032BB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22863B-E955-49FA-9F85-42E748654DF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32E7E2-BE71-40B7-B600-D2DE93430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F39B-9258-47B3-8D24-E736F9AF5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F07F-A9E2-4087-A96E-41DD0117A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6F2E-603A-4027-9589-9297735AB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ED55-BDA6-4289-ADE1-850B8642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CA3B-388A-4EFE-A0B5-6AC29D6E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D298-C665-48C1-AF40-204EC97F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8525-25ED-44C9-8774-3B05EEAC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926A-F82B-4D48-9E9E-3C721FEF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AA90-ED12-4758-BEEA-68A69382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3FA0-8BE5-45B3-ACDC-776A4D9A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9027-7C49-4138-96DD-8E0300CA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797B-BAFB-4B34-8B6E-963B3D1B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BC6B-C9C5-431F-8726-B59C908C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1411-19DD-4470-B9F1-36525337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FEE4-278D-4ACC-A85C-62CEE900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88B56-3121-48B0-9BD1-3DA8A0D0A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DE6E5-B357-4A1B-97E3-8D3CA738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050A8-656F-4F72-85B6-10E969AB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56642-D17C-4E10-AC18-B9438A89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7DFBD-01CA-4C36-ADBC-4C18DDC4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100E-845E-485A-B148-2AB460A3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3F0E9-5500-4B8A-B949-8AC5C55C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E81BD-527E-418F-9EAB-05739C9C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4E484-0F30-4FBA-BD51-F7AE752B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3BE60-823C-4DB8-BAC5-C4233DBD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ADF7A-972E-4BA8-9AE0-648534F7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E583A-32A0-47C5-A869-D23198C09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A6FCE-3858-4978-8F41-928CC1B8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75AB2-4FE5-4B24-BC5F-6E5671E0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182F3-D163-4BAE-A09E-B58A58B7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53BAF-564C-4061-8AA8-9FD0E655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352B-EA37-473B-B422-DF498371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75444-DEEA-4818-84AF-68B2947E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3B2F2-7426-4459-8A43-7EC57A8B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AE33D-2816-4CFA-9135-D30B5C48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9269A-7089-42EA-870A-0D6A2C57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D171E-1486-481E-8202-EC3E17DE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4DA4B-7EA6-4387-BFD0-34A4B6A8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B5CEA-83A5-479E-89AF-18C7B899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03E86-3E4E-42C2-A572-BD904F4AE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29DA8-01C5-4ECB-8D09-2D3AB6634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01499-5B12-4768-8378-58BC3D1C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CDB9-CB79-4905-8D32-741BE5D2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0BC4B-0542-47DC-BD75-93804B43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94060-E59A-4EB5-840E-B5C4F6D6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E2407-2A37-48F3-8AFA-6326EC89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963AC-EE34-4860-AD67-8EE895BD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35E34-2F3E-4969-BD21-08CDE857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83D35-7F84-4788-A2C3-BE600EA3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179F2-367C-484F-9A58-4C1D6DDB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52EA7-B30C-4D31-BE93-281DBFF5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A6B57-9CB8-49FE-9A6F-CEF86237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402CF-5D00-4BE7-81C9-04B5377DC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B56F-EF1B-42F6-AF2D-02AB7E5E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96BAD-47D2-4C21-BDBD-CD0F0D8F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87E9A-634C-48F2-AC3C-4900ACDA9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09CA3-D2BE-4C92-844E-8EA59AF4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3F51F-2A5C-451B-82EF-7D26CA15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4F717-5AD8-4604-AF8F-8E61E8C2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13ADB-2F0C-4E42-B04A-AA8FD046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7CAD5-FAE6-403F-9A51-1A0F6598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569F1-9F6E-458C-B7F9-A3AD381D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8AD97-E31B-40BC-B837-AFC7C1F7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BF5A7-D497-4839-A1E9-6B1DB865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3418-66BE-48C0-BE1A-7DD66CC0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65AC3-E1C1-4D55-BFD1-305F39BE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A8B31-D9BE-4A90-B260-54A8B382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5E679-FBA5-4130-8B84-50993576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E1271-8F45-411C-B9AB-2DCA1EB8A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23BE4-699D-4828-8A9E-7E80426B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4AE5A-D0A3-4B84-83AA-7DE4A376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27D8A-6C2F-4A3D-91D7-BBE4E8A3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A8771-F5C3-4C43-85FE-CC3980BE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C333B-A2EE-436D-B8E6-2EC81320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AF937-8036-48EC-A653-11575DD7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6179-BDAF-41D0-91AE-EE9BD823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CDF7A-16D5-4F71-9BB6-4BD4457B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DC3D9-FDFC-4177-AFFA-F929FF99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93808-B6B9-47AF-A5EA-6BAA6AD7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E7084-4D89-4E0C-ABF7-3B35B771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E5F7C-6F23-4537-B5D7-2AEAE7847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FB25E-3966-49F6-8004-F1DB2C6D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28100-38D7-4942-A931-53077981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75301-E679-4C6F-8AE8-B14B7192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6CBE4-4FC0-4B47-801E-AE2DE20D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8849D-D635-4C85-8C91-C7E463F0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BCFC-D97E-4860-B966-44D8A967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09CEE-2DA6-4B92-9214-4D656C2E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8F883-39EB-4E31-B593-CAB70333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38F80-3131-4958-A6B0-218FA9D0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184B4-25F4-4FAE-93A7-60F3841F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784C9-167E-4FD0-9DB3-68A4887C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F3AB1-D4AD-46C8-AF5E-B00C26B27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D6D8B-9B38-41E2-A8CF-A9B2C3FB1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993807-8C88-4218-B1FF-EBB193BFD60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E550AF-5A5B-45F9-97F0-B2516007044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FD891D-236A-4F2C-AB5D-64FA030B01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>
              <a:gd name="textAreaLeft" fmla="*/ 18360 w 8686800"/>
              <a:gd name="textAreaRight" fmla="*/ 8668440 w 8686800"/>
              <a:gd name="textAreaTop" fmla="*/ 18360 h 1295640"/>
              <a:gd name="textAreaBottom" fmla="*/ 1296000 h 1295640"/>
            </a:gdLst>
            <a:ahLst/>
            <a:rect l="textAreaLeft" t="textAreaTop" r="textAreaRight" b="textAreaBottom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lnTo>
                  <a:pt x="8623299" y="0"/>
                </a:lnTo>
                <a:arcTo wR="63501" hR="63501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DE55-43C1-4E90-9011-F8FD321EE84F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 Same Side Corner Rectangle 8"/>
          <p:cNvSpPr/>
          <p:nvPr/>
        </p:nvSpPr>
        <p:spPr>
          <a:xfrm flipV="1">
            <a:off x="228600" y="4723920"/>
            <a:ext cx="8686800" cy="1828800"/>
          </a:xfrm>
          <a:custGeom>
            <a:avLst/>
            <a:gdLst>
              <a:gd name="textAreaLeft" fmla="*/ 57600 w 8686800"/>
              <a:gd name="textAreaRight" fmla="*/ 8629200 w 8686800"/>
              <a:gd name="textAreaTop" fmla="*/ 57960 h 1828800"/>
              <a:gd name="textAreaBottom" fmla="*/ 1829520 h 1828800"/>
            </a:gdLst>
            <a:ahLst/>
            <a:rect l="textAreaLeft" t="textAreaTop" r="textAreaRight" b="textAreaBottom"/>
            <a:pathLst>
              <a:path w="8686800" h="1828800">
                <a:moveTo>
                  <a:pt x="197218" y="0"/>
                </a:moveTo>
                <a:lnTo>
                  <a:pt x="8489582" y="0"/>
                </a:lnTo>
                <a:lnTo>
                  <a:pt x="8489582" y="0"/>
                </a:lnTo>
                <a:arcTo wR="197218" hR="197218" stAng="-5400000" swAng="5400000"/>
                <a:lnTo>
                  <a:pt x="8686800" y="1828800"/>
                </a:lnTo>
                <a:lnTo>
                  <a:pt x="0" y="1828800"/>
                </a:lnTo>
                <a:lnTo>
                  <a:pt x="0" y="197218"/>
                </a:lnTo>
                <a:lnTo>
                  <a:pt x="0" y="197218"/>
                </a:lnTo>
                <a:arcTo wR="197218" hR="197218" stAng="10800000" swAng="5400000"/>
                <a:close/>
              </a:path>
            </a:pathLst>
          </a:cu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 Same Side Corner Rectangle 9"/>
          <p:cNvSpPr/>
          <p:nvPr/>
        </p:nvSpPr>
        <p:spPr>
          <a:xfrm>
            <a:off x="228600" y="228600"/>
            <a:ext cx="8686800" cy="4419720"/>
          </a:xfrm>
          <a:custGeom>
            <a:avLst/>
            <a:gdLst>
              <a:gd name="textAreaLeft" fmla="*/ 36360 w 8686800"/>
              <a:gd name="textAreaRight" fmla="*/ 8650440 w 8686800"/>
              <a:gd name="textAreaTop" fmla="*/ 36360 h 4419720"/>
              <a:gd name="textAreaBottom" fmla="*/ 4420080 h 4419720"/>
            </a:gdLst>
            <a:ahLst/>
            <a:rect l="textAreaLeft" t="textAreaTop" r="textAreaRight" b="textAreaBottom"/>
            <a:pathLst>
              <a:path w="8686800" h="4419600">
                <a:moveTo>
                  <a:pt x="124677" y="0"/>
                </a:moveTo>
                <a:lnTo>
                  <a:pt x="8562123" y="0"/>
                </a:lnTo>
                <a:lnTo>
                  <a:pt x="8562123" y="0"/>
                </a:lnTo>
                <a:arcTo wR="124677" hR="124677" stAng="-5400000" swAng="5400000"/>
                <a:lnTo>
                  <a:pt x="8686800" y="4419600"/>
                </a:lnTo>
                <a:lnTo>
                  <a:pt x="0" y="4419600"/>
                </a:lnTo>
                <a:lnTo>
                  <a:pt x="0" y="124677"/>
                </a:lnTo>
                <a:lnTo>
                  <a:pt x="0" y="124677"/>
                </a:lnTo>
                <a:arcTo wR="124677" hR="124677" stAng="10800000" swAng="5400000"/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28240" y="65530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895120" y="6553080"/>
            <a:ext cx="3429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57640" y="6553080"/>
            <a:ext cx="2057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4C85-C91C-4E3D-A305-ADE75C40E53C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ound Same Side Corner Rectangle 8"/>
          <p:cNvSpPr/>
          <p:nvPr/>
        </p:nvSpPr>
        <p:spPr>
          <a:xfrm>
            <a:off x="228600" y="228600"/>
            <a:ext cx="8686800" cy="4952880"/>
          </a:xfrm>
          <a:custGeom>
            <a:avLst/>
            <a:gdLst>
              <a:gd name="textAreaLeft" fmla="*/ 40680 w 8686800"/>
              <a:gd name="textAreaRight" fmla="*/ 8646120 w 8686800"/>
              <a:gd name="textAreaTop" fmla="*/ 40680 h 4952880"/>
              <a:gd name="textAreaBottom" fmla="*/ 4953240 h 4952880"/>
            </a:gdLst>
            <a:ahLst/>
            <a:rect l="textAreaLeft" t="textAreaTop" r="textAreaRight" b="textAreaBottom"/>
            <a:pathLst>
              <a:path w="8686800" h="4953000">
                <a:moveTo>
                  <a:pt x="139724" y="0"/>
                </a:moveTo>
                <a:lnTo>
                  <a:pt x="8547076" y="0"/>
                </a:lnTo>
                <a:lnTo>
                  <a:pt x="8547076" y="0"/>
                </a:lnTo>
                <a:arcTo wR="139724" hR="139724" stAng="-5400000" swAng="5400000"/>
                <a:lnTo>
                  <a:pt x="8686800" y="4953000"/>
                </a:lnTo>
                <a:lnTo>
                  <a:pt x="0" y="4953000"/>
                </a:lnTo>
                <a:lnTo>
                  <a:pt x="0" y="139724"/>
                </a:lnTo>
                <a:lnTo>
                  <a:pt x="0" y="139724"/>
                </a:lnTo>
                <a:arcTo wR="139724" hR="139724" stAng="10800000" swAng="5400000"/>
                <a:close/>
              </a:path>
            </a:pathLst>
          </a:cu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 Same Side Corner Rectangle 9"/>
          <p:cNvSpPr/>
          <p:nvPr/>
        </p:nvSpPr>
        <p:spPr>
          <a:xfrm flipV="1">
            <a:off x="228600" y="5257440"/>
            <a:ext cx="8686800" cy="1295280"/>
          </a:xfrm>
          <a:custGeom>
            <a:avLst/>
            <a:gdLst>
              <a:gd name="textAreaLeft" fmla="*/ 40680 w 8686800"/>
              <a:gd name="textAreaRight" fmla="*/ 8646120 w 8686800"/>
              <a:gd name="textAreaTop" fmla="*/ 40680 h 1295280"/>
              <a:gd name="textAreaBottom" fmla="*/ 1295640 h 1295280"/>
            </a:gdLst>
            <a:ahLst/>
            <a:rect l="textAreaLeft" t="textAreaTop" r="textAreaRight" b="textAreaBottom"/>
            <a:pathLst>
              <a:path w="8686800" h="1295400">
                <a:moveTo>
                  <a:pt x="139696" y="0"/>
                </a:moveTo>
                <a:lnTo>
                  <a:pt x="8547104" y="0"/>
                </a:lnTo>
                <a:lnTo>
                  <a:pt x="8547104" y="0"/>
                </a:lnTo>
                <a:arcTo wR="139696" hR="139696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139696"/>
                </a:lnTo>
                <a:lnTo>
                  <a:pt x="0" y="139696"/>
                </a:lnTo>
                <a:arcTo wR="139696" hR="139696" stAng="10800000" swAng="5400000"/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708B-FD05-41E3-93EA-DF63AB779DE8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D336-5AE9-49F3-A380-C4312A87C036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>
              <a:gd name="textAreaLeft" fmla="*/ 18360 w 8686800"/>
              <a:gd name="textAreaRight" fmla="*/ 8668440 w 8686800"/>
              <a:gd name="textAreaTop" fmla="*/ 18360 h 1295640"/>
              <a:gd name="textAreaBottom" fmla="*/ 1296000 h 1295640"/>
            </a:gdLst>
            <a:ahLst/>
            <a:rect l="textAreaLeft" t="textAreaTop" r="textAreaRight" b="textAreaBottom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lnTo>
                  <a:pt x="8623299" y="0"/>
                </a:lnTo>
                <a:arcTo wR="63501" hR="63501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9397-33FF-4F5F-B814-7B968F45EEB9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>
              <a:gd name="textAreaLeft" fmla="*/ 18360 w 8686800"/>
              <a:gd name="textAreaRight" fmla="*/ 8668440 w 8686800"/>
              <a:gd name="textAreaTop" fmla="*/ 18360 h 1295640"/>
              <a:gd name="textAreaBottom" fmla="*/ 1296000 h 1295640"/>
            </a:gdLst>
            <a:ahLst/>
            <a:rect l="textAreaLeft" t="textAreaTop" r="textAreaRight" b="textAreaBottom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lnTo>
                  <a:pt x="8623299" y="0"/>
                </a:lnTo>
                <a:arcTo wR="63501" hR="63501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4E7C-18A9-4440-A061-F71E7C88964E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ound Same Side Corner Rectangle 8"/>
          <p:cNvSpPr/>
          <p:nvPr/>
        </p:nvSpPr>
        <p:spPr>
          <a:xfrm rot="5400000">
            <a:off x="4862520" y="2300040"/>
            <a:ext cx="6095880" cy="1952640"/>
          </a:xfrm>
          <a:custGeom>
            <a:avLst/>
            <a:gdLst>
              <a:gd name="textAreaLeft" fmla="*/ 27720 w 6095880"/>
              <a:gd name="textAreaRight" fmla="*/ 6068160 w 6095880"/>
              <a:gd name="textAreaTop" fmla="*/ 27720 h 1952640"/>
              <a:gd name="textAreaBottom" fmla="*/ 1953000 h 1952640"/>
            </a:gdLst>
            <a:ahLst/>
            <a:rect l="textAreaLeft" t="textAreaTop" r="textAreaRight" b="textAreaBottom"/>
            <a:pathLst>
              <a:path w="6096000" h="1952625">
                <a:moveTo>
                  <a:pt x="95718" y="0"/>
                </a:moveTo>
                <a:lnTo>
                  <a:pt x="6000282" y="0"/>
                </a:lnTo>
                <a:lnTo>
                  <a:pt x="6000282" y="0"/>
                </a:lnTo>
                <a:arcTo wR="95718" hR="95718" stAng="-5400000" swAng="5400000"/>
                <a:lnTo>
                  <a:pt x="6096000" y="1952625"/>
                </a:lnTo>
                <a:lnTo>
                  <a:pt x="0" y="1952625"/>
                </a:lnTo>
                <a:lnTo>
                  <a:pt x="0" y="95718"/>
                </a:lnTo>
                <a:lnTo>
                  <a:pt x="0" y="95718"/>
                </a:lnTo>
                <a:arcTo wR="95718" hR="95718" stAng="10800000" swAng="5400000"/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7081-0DDC-4EA2-93B5-D500FAD9F3BA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>
              <a:gd name="textAreaLeft" fmla="*/ 18360 w 8686800"/>
              <a:gd name="textAreaRight" fmla="*/ 8668440 w 8686800"/>
              <a:gd name="textAreaTop" fmla="*/ 18360 h 1295640"/>
              <a:gd name="textAreaBottom" fmla="*/ 1296000 h 1295640"/>
            </a:gdLst>
            <a:ahLst/>
            <a:rect l="textAreaLeft" t="textAreaTop" r="textAreaRight" b="textAreaBottom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lnTo>
                  <a:pt x="8623299" y="0"/>
                </a:lnTo>
                <a:arcTo wR="63501" hR="63501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313F-C233-4DBE-9159-E542DB90BB33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>
              <a:gd name="textAreaLeft" fmla="*/ 18360 w 8686800"/>
              <a:gd name="textAreaRight" fmla="*/ 8668440 w 8686800"/>
              <a:gd name="textAreaTop" fmla="*/ 18360 h 1295640"/>
              <a:gd name="textAreaBottom" fmla="*/ 1296000 h 1295640"/>
            </a:gdLst>
            <a:ahLst/>
            <a:rect l="textAreaLeft" t="textAreaTop" r="textAreaRight" b="textAreaBottom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lnTo>
                  <a:pt x="8623299" y="0"/>
                </a:lnTo>
                <a:arcTo wR="63501" hR="63501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Num" idx="25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361A-425E-4E57-8D15-A96A0160A93E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160" y="16002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Comic Sans MS"/>
                <a:ea typeface="MS PGothic"/>
              </a:rPr>
              <a:t>Java Fundamentals 4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304920" y="4800240"/>
            <a:ext cx="85341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800" spc="-1" strike="noStrike">
              <a:solidFill>
                <a:srgbClr val="ebddc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oter Placeholder 4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501A-80D5-4917-B3D6-DCF83BE3EF6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Example2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public class Example3_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public static void main (String[] ar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int num = 763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double x = 658.75;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tring str = "Java Program.";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ystem.out.println("123456789012345678901234567890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ystem.out.printf("%-5d%-7.2f%-15s ***%n",    num, x, str);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ystem.out.printf("%-15s%-6d%-    9.2f ***%n", str, num, 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}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5"/>
          <p:cNvSpPr/>
          <p:nvPr/>
        </p:nvSpPr>
        <p:spPr>
          <a:xfrm>
            <a:off x="6934320" y="838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9A77-06A9-48D8-943F-407C2940195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Example2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Sample Run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123456789012345678901234567890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763  658.75 Java Program.   ***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Java Program.  763   658.75    ***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5"/>
          <p:cNvSpPr/>
          <p:nvPr/>
        </p:nvSpPr>
        <p:spPr>
          <a:xfrm>
            <a:off x="6934320" y="838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Footer Placeholder 4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5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6731-329B-4A97-B156-0121074B1F9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rmatting Output with 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printf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46" name="Picture 4" descr="Tbl03-02"/>
          <p:cNvPicPr/>
          <p:nvPr/>
        </p:nvPicPr>
        <p:blipFill>
          <a:blip r:embed="rId1"/>
          <a:stretch/>
        </p:blipFill>
        <p:spPr>
          <a:xfrm>
            <a:off x="2097000" y="3122640"/>
            <a:ext cx="4950000" cy="1755720"/>
          </a:xfrm>
          <a:prstGeom prst="rect">
            <a:avLst/>
          </a:prstGeom>
          <a:ln w="0">
            <a:noFill/>
          </a:ln>
        </p:spPr>
      </p:pic>
      <p:sp>
        <p:nvSpPr>
          <p:cNvPr id="447" name="TextBox 5"/>
          <p:cNvSpPr/>
          <p:nvPr/>
        </p:nvSpPr>
        <p:spPr>
          <a:xfrm>
            <a:off x="6934320" y="838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ooter Placeholder 4"/>
          <p:cNvSpPr/>
          <p:nvPr/>
        </p:nvSpPr>
        <p:spPr>
          <a:xfrm>
            <a:off x="685800" y="647712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5"/>
          <p:cNvSpPr/>
          <p:nvPr/>
        </p:nvSpPr>
        <p:spPr>
          <a:xfrm>
            <a:off x="7620120" y="6400800"/>
            <a:ext cx="1295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5706-ECF9-45CC-BFA2-999D3FAF470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Commonly U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Escape Sequences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51" name="Picture 6" descr="Tbl02-04"/>
          <p:cNvPicPr/>
          <p:nvPr/>
        </p:nvPicPr>
        <p:blipFill>
          <a:blip r:embed="rId1"/>
          <a:stretch/>
        </p:blipFill>
        <p:spPr>
          <a:xfrm>
            <a:off x="2097000" y="3089160"/>
            <a:ext cx="4950000" cy="1822680"/>
          </a:xfrm>
          <a:prstGeom prst="rect">
            <a:avLst/>
          </a:prstGeom>
          <a:ln w="0">
            <a:noFill/>
          </a:ln>
        </p:spPr>
      </p:pic>
      <p:sp>
        <p:nvSpPr>
          <p:cNvPr id="452" name="TextBox 5"/>
          <p:cNvSpPr/>
          <p:nvPr/>
        </p:nvSpPr>
        <p:spPr>
          <a:xfrm>
            <a:off x="6934320" y="838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692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trol Structures 1</a:t>
            </a:r>
            <a:endParaRPr b="0" lang="en-US" sz="53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tructur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Espace réservé du pied de page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Java Programming: From Problem Analysis to Program Design, D.S. Mal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Espace réservé du numéro de diapositive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7677-9B4E-4A4B-8F9B-AF09CB7974B3}" type="slidenum">
              <a:rPr b="0" lang="fr-FR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2" descr="Fig04-01"/>
          <p:cNvPicPr/>
          <p:nvPr/>
        </p:nvPicPr>
        <p:blipFill>
          <a:blip r:embed="rId1"/>
          <a:stretch/>
        </p:blipFill>
        <p:spPr>
          <a:xfrm>
            <a:off x="380880" y="1828800"/>
            <a:ext cx="769644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-Way Select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Espace réservé du pied de page 4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Java Programming: From Problem Analysis to Program Design, D.S. Mal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Espace réservé du numéro de diapositive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D6D0-BC6D-457B-870D-E9E8D4624DB1}" type="slidenum">
              <a:rPr b="0" lang="fr-FR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609480" y="1523880"/>
            <a:ext cx="63248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ntax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ex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ression referred to as decision mak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ement referred to as action sta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4" descr="Fig04-04 "/>
          <p:cNvPicPr/>
          <p:nvPr/>
        </p:nvPicPr>
        <p:blipFill>
          <a:blip r:embed="rId1"/>
          <a:stretch/>
        </p:blipFill>
        <p:spPr>
          <a:xfrm>
            <a:off x="380880" y="3505320"/>
            <a:ext cx="701064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ort-Circuit Evaluat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4" name="Espace réservé du pied de page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Java Programming: From Problem Analysis to Program Design, D.S. Mal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Espace réservé du numéro de diapositive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116C-F41C-42D2-8552-C61C476684BA}" type="slidenum">
              <a:rPr b="0" lang="fr-FR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216000" y="1628640"/>
            <a:ext cx="89280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process in which the computer evaluates a logical expression from left to right and stops as soon as the value of the expression is kn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alibri"/>
                <a:ea typeface="Times New Roman"/>
              </a:rPr>
              <a:t>(x&gt;y) || (x==5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704404"/>
                </a:solidFill>
                <a:latin typeface="Calibri"/>
                <a:ea typeface="Times New Roman"/>
              </a:rPr>
              <a:t>// if (x&gt;y) is true, (x==5) is not eval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alibri"/>
                <a:ea typeface="Times New Roman"/>
              </a:rPr>
              <a:t>(a==b) &amp;&amp; (x&gt;=7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704404"/>
                </a:solidFill>
                <a:latin typeface="Calibri"/>
                <a:ea typeface="Times New Roman"/>
              </a:rPr>
              <a:t>// if (a==b) is false, (x&gt;=7) is not eval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alibri"/>
                <a:ea typeface="Times New Roman"/>
              </a:rPr>
              <a:t>(x&gt;0) &amp;&amp; ( (y = z*2) &gt; 5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704404"/>
                </a:solidFill>
                <a:latin typeface="Calibri"/>
                <a:ea typeface="Times New Roman"/>
              </a:rPr>
              <a:t>// if (x&gt;0) is false, ((y = z*2) &gt; 5) is not evaluated and the value of y will no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44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-Way Select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Espace réservé du pied de page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Java Programming: From Problem Analysis to Program Design, D.S. Mal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Espace réservé du numéro de diapositive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C7C7-1FBE-4A68-A5E8-AAEDB43DE71B}" type="slidenum">
              <a:rPr b="0" lang="fr-FR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468360" y="1628640"/>
            <a:ext cx="8064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(expres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atement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ourier New"/>
              </a:rPr>
              <a:t>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atement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urier New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tatement must be paired with an </a:t>
            </a:r>
            <a:r>
              <a:rPr b="0" lang="en-US" sz="32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-Way Select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2" name="Espace réservé du pied de page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Java Programming: From Problem Analysis to Program Design, D.S. Mal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Espace réservé du numéro de diapositive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C8DF-2A6D-4741-8A32-769DE046E5AA}" type="slidenum">
              <a:rPr b="0" lang="fr-FR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"/>
          <p:cNvSpPr/>
          <p:nvPr/>
        </p:nvSpPr>
        <p:spPr>
          <a:xfrm>
            <a:off x="838080" y="182880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4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hours &gt; 40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ges = 40.0 + rate * hou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ges = hours * rate;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Footer Placeholder 4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5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1185-41F7-4708-9A40-1CC81124F40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Parsing Numeric Strings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685800" y="1447920"/>
            <a:ext cx="815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66669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classes designed to convert a numeric string into a numb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66669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classes are 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ap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66669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rse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method of the 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converts a numeric integer string into a value of the type 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66669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rseFlo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method of the 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is used to convert a numeric decimal string into an equivalent value of the type 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</a:rPr>
              <a:t>flo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66669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rseDo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method of the 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is used to convert a numeric decimal string into an equivalent value of the type 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und (Block of) Statemen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" name="Espace réservé du pied de page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Java Programming: From Problem Analysis to Program Design, D.S. Mal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Espace réservé du numéro de diapositive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DB74-C094-4066-BEB1-EB11E5A0A9F2}" type="slidenum">
              <a:rPr b="0" lang="fr-FR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468360" y="1628640"/>
            <a:ext cx="8064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men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men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ment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und (Block of) Statemen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0" name="Espace réservé du pied de page 1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Espace réservé du numéro de diapositive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47E9-9522-4C6F-B710-969020A3C309}" type="slidenum">
              <a:rPr b="0" lang="fr-FR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Espace réservé du pied de page 3"/>
          <p:cNvSpPr/>
          <p:nvPr/>
        </p:nvSpPr>
        <p:spPr>
          <a:xfrm>
            <a:off x="1042920" y="6308640"/>
            <a:ext cx="7274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Java Programming: From Problem Analysis to Program Design, D.S. Mal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468360" y="1628640"/>
            <a:ext cx="8064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age &gt; 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ligible to vote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No longer a minor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Not eligible to vote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Still a minor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Selection: Nested if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Espace réservé du pied de page 1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Espace réservé du numéro de diapositive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77B8-99B9-4B7D-A246-FD7C559FF5A1}" type="slidenum">
              <a:rPr b="0" lang="fr-FR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Espace réservé du pied de page 4"/>
          <p:cNvSpPr/>
          <p:nvPr/>
        </p:nvSpPr>
        <p:spPr>
          <a:xfrm>
            <a:off x="1042920" y="6308640"/>
            <a:ext cx="7274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Java Programming: From Problem Analysis to Program Design, D.S. Mal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"/>
          <p:cNvSpPr/>
          <p:nvPr/>
        </p:nvSpPr>
        <p:spPr>
          <a:xfrm>
            <a:off x="539640" y="1700280"/>
            <a:ext cx="395784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expression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men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expression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men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men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"/>
          <p:cNvSpPr/>
          <p:nvPr/>
        </p:nvSpPr>
        <p:spPr>
          <a:xfrm>
            <a:off x="4572000" y="1628640"/>
            <a:ext cx="39528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tatements can be used if there is more than two altern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ssociated with the most recen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does not have an e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Selection: Nested if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Espace réservé du pied de page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Java Programming: From Problem Analysis to Program Design, D.S. Mal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Espace réservé du numéro de diapositive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988A-DE78-426A-B1EC-11A2FDDB3492}" type="slidenum">
              <a:rPr b="0" lang="fr-FR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380880" y="1752480"/>
            <a:ext cx="80647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xample 4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ourier New"/>
                <a:ea typeface="Courier New"/>
              </a:rPr>
              <a:t>// Assume that score is of type int. Based on the value of score, the following code determines the 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score &gt;= 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rade is A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score &gt;=8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rade is B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score &gt;=7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rade is C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score &gt;=6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rade is D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rade is F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Selection: Nested if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Espace réservé du pied de page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Java Programming: From Problem Analysis to Program Design, D.S. Mal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Espace réservé du numéro de diapositive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2844-77E2-4877-BA68-234BF9B65164}" type="slidenum">
              <a:rPr b="0" lang="fr-FR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468360" y="1628640"/>
            <a:ext cx="8675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4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tempreture &gt;= 5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tempreture &gt;= 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ood swimming day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ood golfing day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ood tennis day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Structur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Espace réservé du pied de page 4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Java Programming: From Problem Analysis to Program Design, D.S. Mal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Espace réservé du numéro de diapositive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35FE-889D-40D2-825F-00A8EA0CA009}" type="slidenum">
              <a:rPr b="0" lang="fr-FR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3"/>
          <p:cNvSpPr/>
          <p:nvPr/>
        </p:nvSpPr>
        <p:spPr>
          <a:xfrm>
            <a:off x="5257800" y="22096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ression is also known as sele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ression can be an identif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lue can only be integ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609480" y="1981080"/>
            <a:ext cx="4562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switch</a:t>
            </a:r>
            <a:r>
              <a:rPr b="0" lang="en-US" sz="2000" spc="-1" strike="noStrike">
                <a:solidFill>
                  <a:srgbClr val="dd8047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ex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a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ue1: statement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a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ue2: statement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value n: statements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With break Statement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Espace réservé du pied de page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Java Programming: From Problem Analysis to Program Design, D.S. Mal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Espace réservé du numéro de diapositive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7BFD-0EB9-4ACA-BFB4-537DC72A2FAC}" type="slidenum">
              <a:rPr b="0" lang="fr-FR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4"/>
          <p:cNvSpPr/>
          <p:nvPr/>
        </p:nvSpPr>
        <p:spPr>
          <a:xfrm>
            <a:off x="4343400" y="914400"/>
            <a:ext cx="4495680" cy="51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bddc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6"/>
          <p:cNvGrpSpPr/>
          <p:nvPr/>
        </p:nvGrpSpPr>
        <p:grpSpPr>
          <a:xfrm>
            <a:off x="423720" y="1719360"/>
            <a:ext cx="3503880" cy="3528720"/>
            <a:chOff x="423720" y="1719360"/>
            <a:chExt cx="3503880" cy="3528720"/>
          </a:xfrm>
        </p:grpSpPr>
        <p:sp>
          <p:nvSpPr>
            <p:cNvPr id="509" name="Rectangle 7"/>
            <p:cNvSpPr/>
            <p:nvPr/>
          </p:nvSpPr>
          <p:spPr>
            <a:xfrm>
              <a:off x="423720" y="1719360"/>
              <a:ext cx="3503880" cy="352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bddc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8"/>
            <p:cNvSpPr/>
            <p:nvPr/>
          </p:nvSpPr>
          <p:spPr>
            <a:xfrm>
              <a:off x="471240" y="1893960"/>
              <a:ext cx="3371760" cy="31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switch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Courier New"/>
                  <a:ea typeface="MS PGothic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N</a:t>
              </a:r>
              <a:r>
                <a:rPr b="0" lang="en-US" sz="2000" spc="-1" strike="noStrike">
                  <a:solidFill>
                    <a:srgbClr val="ff0000"/>
                  </a:solidFill>
                  <a:latin typeface="Courier New"/>
                  <a:ea typeface="MS PGothic"/>
                </a:rPr>
                <a:t>)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case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1: x = 10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break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case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2: x = 20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break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case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3: x = 30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break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Group 9"/>
          <p:cNvGrpSpPr/>
          <p:nvPr/>
        </p:nvGrpSpPr>
        <p:grpSpPr>
          <a:xfrm>
            <a:off x="4448160" y="1000080"/>
            <a:ext cx="4162320" cy="5021280"/>
            <a:chOff x="4448160" y="1000080"/>
            <a:chExt cx="4162320" cy="5021280"/>
          </a:xfrm>
        </p:grpSpPr>
        <p:sp>
          <p:nvSpPr>
            <p:cNvPr id="512" name="AutoShape 10"/>
            <p:cNvSpPr/>
            <p:nvPr/>
          </p:nvSpPr>
          <p:spPr>
            <a:xfrm>
              <a:off x="6810480" y="1806480"/>
              <a:ext cx="1079280" cy="40968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x = 1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11"/>
            <p:cNvSpPr/>
            <p:nvPr/>
          </p:nvSpPr>
          <p:spPr>
            <a:xfrm>
              <a:off x="4448160" y="238140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5f55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12"/>
            <p:cNvSpPr/>
            <p:nvPr/>
          </p:nvSpPr>
          <p:spPr>
            <a:xfrm>
              <a:off x="5964480" y="149220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5f55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13"/>
            <p:cNvSpPr/>
            <p:nvPr/>
          </p:nvSpPr>
          <p:spPr>
            <a:xfrm>
              <a:off x="4646520" y="1690560"/>
              <a:ext cx="1254240" cy="5828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N  == 1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14"/>
            <p:cNvSpPr/>
            <p:nvPr/>
          </p:nvSpPr>
          <p:spPr>
            <a:xfrm>
              <a:off x="5273640" y="1000080"/>
              <a:ext cx="0" cy="58896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15"/>
            <p:cNvSpPr/>
            <p:nvPr/>
          </p:nvSpPr>
          <p:spPr>
            <a:xfrm>
              <a:off x="6810480" y="3038400"/>
              <a:ext cx="1079280" cy="40968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x = 2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AutoShape 16"/>
            <p:cNvSpPr/>
            <p:nvPr/>
          </p:nvSpPr>
          <p:spPr>
            <a:xfrm>
              <a:off x="6810480" y="4257720"/>
              <a:ext cx="1079280" cy="40968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x = 3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7"/>
            <p:cNvSpPr/>
            <p:nvPr/>
          </p:nvSpPr>
          <p:spPr>
            <a:xfrm>
              <a:off x="4646520" y="2909880"/>
              <a:ext cx="1254240" cy="58248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N  == 2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18"/>
            <p:cNvSpPr/>
            <p:nvPr/>
          </p:nvSpPr>
          <p:spPr>
            <a:xfrm>
              <a:off x="4646520" y="4129200"/>
              <a:ext cx="1254240" cy="58248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N  == 3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19"/>
            <p:cNvSpPr/>
            <p:nvPr/>
          </p:nvSpPr>
          <p:spPr>
            <a:xfrm>
              <a:off x="5877000" y="1990800"/>
              <a:ext cx="799920" cy="46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20"/>
            <p:cNvSpPr/>
            <p:nvPr/>
          </p:nvSpPr>
          <p:spPr>
            <a:xfrm>
              <a:off x="5273640" y="2270160"/>
              <a:ext cx="0" cy="58896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21"/>
            <p:cNvSpPr/>
            <p:nvPr/>
          </p:nvSpPr>
          <p:spPr>
            <a:xfrm>
              <a:off x="5273640" y="3489480"/>
              <a:ext cx="0" cy="58896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2"/>
            <p:cNvSpPr/>
            <p:nvPr/>
          </p:nvSpPr>
          <p:spPr>
            <a:xfrm>
              <a:off x="5273640" y="4721400"/>
              <a:ext cx="0" cy="129996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3"/>
            <p:cNvSpPr/>
            <p:nvPr/>
          </p:nvSpPr>
          <p:spPr>
            <a:xfrm>
              <a:off x="5902200" y="3197160"/>
              <a:ext cx="800280" cy="46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24"/>
            <p:cNvSpPr/>
            <p:nvPr/>
          </p:nvSpPr>
          <p:spPr>
            <a:xfrm>
              <a:off x="5940360" y="4416480"/>
              <a:ext cx="800280" cy="46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25"/>
            <p:cNvSpPr/>
            <p:nvPr/>
          </p:nvSpPr>
          <p:spPr>
            <a:xfrm>
              <a:off x="7350120" y="2219400"/>
              <a:ext cx="0" cy="2206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26"/>
            <p:cNvSpPr/>
            <p:nvPr/>
          </p:nvSpPr>
          <p:spPr>
            <a:xfrm>
              <a:off x="4448160" y="481968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5f55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27"/>
            <p:cNvSpPr/>
            <p:nvPr/>
          </p:nvSpPr>
          <p:spPr>
            <a:xfrm>
              <a:off x="4448160" y="358776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5f55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28"/>
            <p:cNvSpPr/>
            <p:nvPr/>
          </p:nvSpPr>
          <p:spPr>
            <a:xfrm>
              <a:off x="5964480" y="268596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5f55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29"/>
            <p:cNvSpPr/>
            <p:nvPr/>
          </p:nvSpPr>
          <p:spPr>
            <a:xfrm>
              <a:off x="5964480" y="393048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5f55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30"/>
            <p:cNvSpPr/>
            <p:nvPr/>
          </p:nvSpPr>
          <p:spPr>
            <a:xfrm>
              <a:off x="6810480" y="2441520"/>
              <a:ext cx="1079280" cy="2826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reak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31"/>
            <p:cNvSpPr/>
            <p:nvPr/>
          </p:nvSpPr>
          <p:spPr>
            <a:xfrm>
              <a:off x="7350120" y="3451320"/>
              <a:ext cx="0" cy="2206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32"/>
            <p:cNvSpPr/>
            <p:nvPr/>
          </p:nvSpPr>
          <p:spPr>
            <a:xfrm>
              <a:off x="6810480" y="3673440"/>
              <a:ext cx="1079280" cy="2826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reak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33"/>
            <p:cNvSpPr/>
            <p:nvPr/>
          </p:nvSpPr>
          <p:spPr>
            <a:xfrm>
              <a:off x="7350120" y="4657680"/>
              <a:ext cx="0" cy="2206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34"/>
            <p:cNvSpPr/>
            <p:nvPr/>
          </p:nvSpPr>
          <p:spPr>
            <a:xfrm>
              <a:off x="6810480" y="4879800"/>
              <a:ext cx="1079280" cy="2826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reak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35"/>
            <p:cNvSpPr/>
            <p:nvPr/>
          </p:nvSpPr>
          <p:spPr>
            <a:xfrm flipV="1">
              <a:off x="7896240" y="5018040"/>
              <a:ext cx="622440" cy="792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36"/>
            <p:cNvSpPr/>
            <p:nvPr/>
          </p:nvSpPr>
          <p:spPr>
            <a:xfrm>
              <a:off x="7896240" y="3832200"/>
              <a:ext cx="584280" cy="46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7"/>
            <p:cNvSpPr/>
            <p:nvPr/>
          </p:nvSpPr>
          <p:spPr>
            <a:xfrm>
              <a:off x="5410080" y="2603520"/>
              <a:ext cx="3200400" cy="2997360"/>
            </a:xfrm>
            <a:custGeom>
              <a:avLst/>
              <a:gdLst>
                <a:gd name="textAreaLeft" fmla="*/ 0 w 3200400"/>
                <a:gd name="textAreaRight" fmla="*/ 3200760 w 3200400"/>
                <a:gd name="textAreaTop" fmla="*/ 0 h 2997360"/>
                <a:gd name="textAreaBottom" fmla="*/ 2997720 h 2997360"/>
              </a:gdLst>
              <a:ahLst/>
              <a:rect l="textAreaLeft" t="textAreaTop" r="textAreaRight" b="textAreaBottom"/>
              <a:pathLst>
                <a:path w="1960" h="1888">
                  <a:moveTo>
                    <a:pt x="1512" y="0"/>
                  </a:moveTo>
                  <a:lnTo>
                    <a:pt x="1960" y="0"/>
                  </a:lnTo>
                  <a:lnTo>
                    <a:pt x="1960" y="1888"/>
                  </a:lnTo>
                  <a:lnTo>
                    <a:pt x="0" y="1888"/>
                  </a:lnTo>
                </a:path>
              </a:pathLst>
            </a:custGeom>
            <a:noFill/>
            <a:ln w="57240">
              <a:solidFill>
                <a:srgbClr val="ccecff"/>
              </a:solidFill>
              <a:miter/>
              <a:tailEnd len="med" type="triangle" w="med"/>
            </a:ln>
            <a:effectLst>
              <a:outerShdw dist="45929" dir="3371122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witch With No break Statemen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Espace réservé du pied de page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Java Programming: From Problem Analysis to Program Design, D.S. Mal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Espace réservé du numéro de diapositive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513D-FB49-45BE-8267-659B536D858C}" type="slidenum">
              <a:rPr b="0" lang="fr-FR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4419720" y="1600200"/>
            <a:ext cx="41148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bddc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oup 6"/>
          <p:cNvGrpSpPr/>
          <p:nvPr/>
        </p:nvGrpSpPr>
        <p:grpSpPr>
          <a:xfrm>
            <a:off x="685800" y="2286000"/>
            <a:ext cx="3503520" cy="2047680"/>
            <a:chOff x="685800" y="2286000"/>
            <a:chExt cx="3503520" cy="2047680"/>
          </a:xfrm>
        </p:grpSpPr>
        <p:sp>
          <p:nvSpPr>
            <p:cNvPr id="546" name="Rectangle 7"/>
            <p:cNvSpPr/>
            <p:nvPr/>
          </p:nvSpPr>
          <p:spPr>
            <a:xfrm>
              <a:off x="685800" y="2286000"/>
              <a:ext cx="3503520" cy="20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bddc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8"/>
            <p:cNvSpPr/>
            <p:nvPr/>
          </p:nvSpPr>
          <p:spPr>
            <a:xfrm>
              <a:off x="733320" y="2386080"/>
              <a:ext cx="3371400" cy="19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switch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Courier New"/>
                  <a:ea typeface="MS PGothic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N</a:t>
              </a:r>
              <a:r>
                <a:rPr b="0" lang="en-US" sz="2000" spc="-1" strike="noStrike">
                  <a:solidFill>
                    <a:srgbClr val="ff0000"/>
                  </a:solidFill>
                  <a:latin typeface="Courier New"/>
                  <a:ea typeface="MS PGothic"/>
                </a:rPr>
                <a:t>)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case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1: x = 10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case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2: x = 20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case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3: x = 30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urier New"/>
                  <a:ea typeface="MS PGothic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9"/>
          <p:cNvGrpSpPr/>
          <p:nvPr/>
        </p:nvGrpSpPr>
        <p:grpSpPr>
          <a:xfrm>
            <a:off x="5045040" y="1295280"/>
            <a:ext cx="3422520" cy="4690800"/>
            <a:chOff x="5045040" y="1295280"/>
            <a:chExt cx="3422520" cy="4690800"/>
          </a:xfrm>
        </p:grpSpPr>
        <p:sp>
          <p:nvSpPr>
            <p:cNvPr id="549" name="AutoShape 10"/>
            <p:cNvSpPr/>
            <p:nvPr/>
          </p:nvSpPr>
          <p:spPr>
            <a:xfrm>
              <a:off x="7388280" y="2101680"/>
              <a:ext cx="1079280" cy="40968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x = 1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11"/>
            <p:cNvSpPr/>
            <p:nvPr/>
          </p:nvSpPr>
          <p:spPr>
            <a:xfrm>
              <a:off x="5045040" y="267624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5f55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12"/>
            <p:cNvSpPr/>
            <p:nvPr/>
          </p:nvSpPr>
          <p:spPr>
            <a:xfrm>
              <a:off x="6561360" y="178740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5f55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3"/>
            <p:cNvSpPr/>
            <p:nvPr/>
          </p:nvSpPr>
          <p:spPr>
            <a:xfrm>
              <a:off x="5243400" y="1985760"/>
              <a:ext cx="1254240" cy="58248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N  == 1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14"/>
            <p:cNvSpPr/>
            <p:nvPr/>
          </p:nvSpPr>
          <p:spPr>
            <a:xfrm>
              <a:off x="5870520" y="1295280"/>
              <a:ext cx="0" cy="58896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AutoShape 15"/>
            <p:cNvSpPr/>
            <p:nvPr/>
          </p:nvSpPr>
          <p:spPr>
            <a:xfrm>
              <a:off x="7388280" y="3333600"/>
              <a:ext cx="1079280" cy="40968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x = 2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utoShape 16"/>
            <p:cNvSpPr/>
            <p:nvPr/>
          </p:nvSpPr>
          <p:spPr>
            <a:xfrm>
              <a:off x="7388280" y="4501800"/>
              <a:ext cx="1079280" cy="40968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x = 3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17"/>
            <p:cNvSpPr/>
            <p:nvPr/>
          </p:nvSpPr>
          <p:spPr>
            <a:xfrm>
              <a:off x="5243400" y="3205080"/>
              <a:ext cx="1254240" cy="58248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N  == 2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18"/>
            <p:cNvSpPr/>
            <p:nvPr/>
          </p:nvSpPr>
          <p:spPr>
            <a:xfrm>
              <a:off x="5243400" y="4424040"/>
              <a:ext cx="1254240" cy="5828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N  == 3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19"/>
            <p:cNvSpPr/>
            <p:nvPr/>
          </p:nvSpPr>
          <p:spPr>
            <a:xfrm>
              <a:off x="6473880" y="2285640"/>
              <a:ext cx="799920" cy="50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20"/>
            <p:cNvSpPr/>
            <p:nvPr/>
          </p:nvSpPr>
          <p:spPr>
            <a:xfrm>
              <a:off x="5870520" y="2565360"/>
              <a:ext cx="0" cy="58896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21"/>
            <p:cNvSpPr/>
            <p:nvPr/>
          </p:nvSpPr>
          <p:spPr>
            <a:xfrm>
              <a:off x="5870520" y="3784320"/>
              <a:ext cx="0" cy="58896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22"/>
            <p:cNvSpPr/>
            <p:nvPr/>
          </p:nvSpPr>
          <p:spPr>
            <a:xfrm>
              <a:off x="5870520" y="5016240"/>
              <a:ext cx="0" cy="9698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3"/>
            <p:cNvSpPr/>
            <p:nvPr/>
          </p:nvSpPr>
          <p:spPr>
            <a:xfrm flipH="1" rot="5400000">
              <a:off x="6679440" y="4228200"/>
              <a:ext cx="558720" cy="1931760"/>
            </a:xfrm>
            <a:custGeom>
              <a:avLst/>
              <a:gdLst>
                <a:gd name="textAreaLeft" fmla="*/ 360 w 558720"/>
                <a:gd name="textAreaRight" fmla="*/ 559440 w 558720"/>
                <a:gd name="textAreaTop" fmla="*/ 0 h 1931760"/>
                <a:gd name="textAreaBottom" fmla="*/ 1932120 h 1931760"/>
              </a:gdLst>
              <a:ahLst/>
              <a:rect l="textAreaLeft" t="textAreaTop" r="textAreaRight" b="textAreaBottom"/>
              <a:pathLst>
                <a:path w="961" h="472">
                  <a:moveTo>
                    <a:pt x="961" y="0"/>
                  </a:moveTo>
                  <a:lnTo>
                    <a:pt x="0" y="0"/>
                  </a:lnTo>
                  <a:lnTo>
                    <a:pt x="0" y="472"/>
                  </a:lnTo>
                </a:path>
              </a:pathLst>
            </a:custGeom>
            <a:noFill/>
            <a:ln w="57240">
              <a:solidFill>
                <a:srgbClr val="ccecff"/>
              </a:solidFill>
              <a:miter/>
              <a:tailEnd len="med" type="triangle" w="med"/>
            </a:ln>
            <a:effectLst>
              <a:outerShdw dist="45929" dir="3371122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24"/>
            <p:cNvSpPr/>
            <p:nvPr/>
          </p:nvSpPr>
          <p:spPr>
            <a:xfrm>
              <a:off x="6499080" y="3492360"/>
              <a:ext cx="800280" cy="46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25"/>
            <p:cNvSpPr/>
            <p:nvPr/>
          </p:nvSpPr>
          <p:spPr>
            <a:xfrm>
              <a:off x="6537240" y="4711320"/>
              <a:ext cx="800280" cy="50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26"/>
            <p:cNvSpPr/>
            <p:nvPr/>
          </p:nvSpPr>
          <p:spPr>
            <a:xfrm>
              <a:off x="7927920" y="2514240"/>
              <a:ext cx="0" cy="7160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27"/>
            <p:cNvSpPr/>
            <p:nvPr/>
          </p:nvSpPr>
          <p:spPr>
            <a:xfrm>
              <a:off x="7927920" y="3720960"/>
              <a:ext cx="0" cy="7160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28"/>
            <p:cNvSpPr/>
            <p:nvPr/>
          </p:nvSpPr>
          <p:spPr>
            <a:xfrm>
              <a:off x="5045040" y="511488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5f55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29"/>
            <p:cNvSpPr/>
            <p:nvPr/>
          </p:nvSpPr>
          <p:spPr>
            <a:xfrm>
              <a:off x="5045040" y="388296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5f55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30"/>
            <p:cNvSpPr/>
            <p:nvPr/>
          </p:nvSpPr>
          <p:spPr>
            <a:xfrm>
              <a:off x="6561360" y="298116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5f55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 Box 31"/>
            <p:cNvSpPr/>
            <p:nvPr/>
          </p:nvSpPr>
          <p:spPr>
            <a:xfrm>
              <a:off x="6561360" y="422568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5f55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With Break And Default Statemen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2" name="Espace réservé du pied de page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Java Programming: From Problem Analysis to Program Design, D.S. Mal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Espace réservé du numéro de diapositive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0469-C017-4DA6-B286-BEF15194A44E}" type="slidenum">
              <a:rPr b="0" lang="fr-FR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181080" y="1676520"/>
            <a:ext cx="89629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xample 4-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gra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8047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'A': System.out.println("The grade is A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8047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'B': System.out.println("The grade is B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8047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'C': System.out.println("The grade is C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8047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'D': System.out.println("The grade is D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8047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'F': System.out.println("The grade is F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8047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  System.out.println("The grade is invalid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4-23 With Nested If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6" name="Espace réservé du pied de page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Java Programming: From Problem Analysis to Program Design, D.S. Mal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Espace réservé du numéro de diapositive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E3B1-C634-4DFF-BE61-82D1961E8FDA}" type="slidenum">
              <a:rPr b="0" lang="fr-FR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ZoneTexte 5"/>
          <p:cNvSpPr/>
          <p:nvPr/>
        </p:nvSpPr>
        <p:spPr>
          <a:xfrm>
            <a:off x="533520" y="1447920"/>
            <a:ext cx="7929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grade == 'A'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"The grade is A.");</a:t>
            </a:r>
            <a:br>
              <a:rPr sz="2000"/>
            </a:br>
            <a:r>
              <a:rPr b="0" lang="fr-FR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r-FR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grade == 'B'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he grade is B.");</a:t>
            </a:r>
            <a:br>
              <a:rPr sz="2000"/>
            </a:br>
            <a:r>
              <a:rPr b="0" lang="fr-FR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r-FR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grade == 'C'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he grade is C.");</a:t>
            </a:r>
            <a:br>
              <a:rPr sz="2000"/>
            </a:br>
            <a:r>
              <a:rPr b="0" lang="fr-FR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r-FR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grade == 'D'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he grade is D.");</a:t>
            </a:r>
            <a:br>
              <a:rPr sz="2000"/>
            </a:br>
            <a:r>
              <a:rPr b="0" lang="fr-FR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r-FR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grade == 'F'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he grade is F.");</a:t>
            </a:r>
            <a:br>
              <a:rPr sz="2000"/>
            </a:br>
            <a:r>
              <a:rPr b="0" lang="fr-FR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"The grade is invalid.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ooter Placeholder 4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5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9FF0-858E-4EAB-9EAC-2338D524C2E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Parsing Numeric Strings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457200" y="1981080"/>
            <a:ext cx="80010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66669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tring consisting of only integers or decimal numbers is called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eric 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66669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nvert a string consisting of an integer to a value of the type 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e use the following expr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ger.parseInt(strEx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ger.parseInt("6723") = 67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ger.parseInt("-823") = -8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Why is Repetition Needed?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There are many situations in which the same statements need to be executed several tim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Formulas used to find average grades for students in a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4F81-8E1C-4830-BD38-A221D0AD66ED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Repetition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Java has three repetition, or looping, structures that let you repeat statements over and over again until certain conditions are me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h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o…wh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5322-D02D-4627-88EF-F0BA5852A6D0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while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Looping (Repetition) Structu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x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s must change value of expression to fal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op that continues to execute endlessly is called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inite loo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pression is always tr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4" descr="Fig05-01"/>
          <p:cNvPicPr/>
          <p:nvPr/>
        </p:nvPicPr>
        <p:blipFill>
          <a:blip r:embed="rId1"/>
          <a:stretch/>
        </p:blipFill>
        <p:spPr>
          <a:xfrm>
            <a:off x="611280" y="3860640"/>
            <a:ext cx="8229600" cy="2719440"/>
          </a:xfrm>
          <a:prstGeom prst="rect">
            <a:avLst/>
          </a:prstGeom>
          <a:ln w="0">
            <a:noFill/>
          </a:ln>
        </p:spPr>
      </p:pic>
      <p:sp>
        <p:nvSpPr>
          <p:cNvPr id="5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17DA-3F32-46B8-AB7A-14F92773DE83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</a:t>
            </a:r>
            <a:r>
              <a:rPr b="0" lang="en-US" sz="3200" spc="-1" strike="noStrike">
                <a:solidFill>
                  <a:srgbClr val="dd8047"/>
                </a:solidFill>
                <a:latin typeface="Courier New"/>
              </a:rPr>
              <a:t>while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Looping (Repetition) Structu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 = 0;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d8047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i &lt;= 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i + " ");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 = i + 5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 5 10 15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CC7E-D9BE-4E86-9247-81D6F69FDBBC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4"/>
          <p:cNvSpPr/>
          <p:nvPr/>
        </p:nvSpPr>
        <p:spPr>
          <a:xfrm>
            <a:off x="1042920" y="4653000"/>
            <a:ext cx="223380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5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Sentinel-Controlled while Loop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25092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Arial"/>
              </a:rPr>
              <a:t>Used when exact number of entry pieces is unknown, but last entry (special/sentinel value) is know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Arial"/>
              </a:rPr>
              <a:t>General for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Input the first data item into variab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while</a:t>
            </a:r>
            <a:r>
              <a:rPr b="0" lang="en-US" sz="18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(variable != senti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input a data item into variab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7FB0-286D-472C-A756-D9711453028B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entinel-Controlled while Loop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xample 5-4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178920" y="1557360"/>
            <a:ext cx="954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6400"/>
                </a:solidFill>
                <a:latin typeface="Courier New"/>
              </a:rPr>
              <a:t>//Sentinel-controlled while loop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941edf"/>
                </a:solidFill>
                <a:latin typeface="Courier New"/>
              </a:rPr>
              <a:t>impo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java.util.*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941edf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entinelControlledWhileLoo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canner console =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canner(System.in)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ENTINEL = -999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ain (String[] arg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umber;       </a:t>
            </a:r>
            <a:r>
              <a:rPr b="0" lang="en-US" sz="1800" spc="-1" strike="noStrike">
                <a:solidFill>
                  <a:srgbClr val="fa6400"/>
                </a:solidFill>
                <a:latin typeface="Courier New"/>
              </a:rPr>
              <a:t>//variable to store the numb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um = 0;      </a:t>
            </a:r>
            <a:r>
              <a:rPr b="0" lang="en-US" sz="1800" spc="-1" strike="noStrike">
                <a:solidFill>
                  <a:srgbClr val="fa6400"/>
                </a:solidFill>
                <a:latin typeface="Courier New"/>
              </a:rPr>
              <a:t>//variable to store the su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ount = 0;    </a:t>
            </a:r>
            <a:r>
              <a:rPr b="0" lang="en-US" sz="1800" spc="-1" strike="noStrike">
                <a:solidFill>
                  <a:srgbClr val="fa6400"/>
                </a:solidFill>
                <a:latin typeface="Courier New"/>
              </a:rPr>
              <a:t>//variable to store the tot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800" spc="-1" strike="noStrike">
                <a:solidFill>
                  <a:srgbClr val="fa6400"/>
                </a:solidFill>
                <a:latin typeface="Courier New"/>
              </a:rPr>
              <a:t>//numbers rea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System.out.println(</a:t>
            </a:r>
            <a:r>
              <a:rPr b="0" lang="en-US" sz="1800" spc="-1" strike="noStrike">
                <a:solidFill>
                  <a:srgbClr val="00cb00"/>
                </a:solidFill>
                <a:latin typeface="Courier New"/>
              </a:rPr>
              <a:t>"Enter positive integers "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+ </a:t>
            </a:r>
            <a:r>
              <a:rPr b="0" lang="en-US" sz="1800" spc="-1" strike="noStrike">
                <a:solidFill>
                  <a:srgbClr val="00cb00"/>
                </a:solidFill>
                <a:latin typeface="Courier New"/>
              </a:rPr>
              <a:t>"ending with 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SENTINEL)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7CF7-DD22-495D-A9B3-C6051E3B6C6E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entinel-Controlled while Loop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xample 5-4 (continued)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50920" y="170028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umber = console.nextInt();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941edf"/>
                </a:solidFill>
                <a:latin typeface="Courier New"/>
              </a:rPr>
              <a:t>whi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number != SENTINEL)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sum = sum + number;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count++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umber = console.nextInt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600" spc="-1" strike="noStrike">
                <a:solidFill>
                  <a:srgbClr val="00cb00"/>
                </a:solidFill>
                <a:latin typeface="Courier New"/>
              </a:rPr>
              <a:t>"The sum of the “+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 </a:t>
            </a:r>
            <a:r>
              <a:rPr b="0" lang="en-US" sz="1600" spc="-1" strike="noStrike">
                <a:solidFill>
                  <a:srgbClr val="00cb00"/>
                </a:solidFill>
                <a:latin typeface="Courier New"/>
              </a:rPr>
              <a:t>+”numbers = “ +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)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941edf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count != 0)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600" spc="-1" strike="noStrike">
                <a:solidFill>
                  <a:srgbClr val="00cb00"/>
                </a:solidFill>
                <a:latin typeface="Courier New"/>
              </a:rPr>
              <a:t>"The average = “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(sum / count));      </a:t>
            </a:r>
            <a:br>
              <a:rPr sz="1600"/>
            </a:br>
            <a:r>
              <a:rPr b="0" lang="en-US" sz="1600" spc="-1" strike="noStrike">
                <a:solidFill>
                  <a:srgbClr val="941edf"/>
                </a:solidFill>
                <a:latin typeface="Courier New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System.out.println(</a:t>
            </a:r>
            <a:r>
              <a:rPr b="0" lang="en-US" sz="1600" spc="-1" strike="noStrike">
                <a:solidFill>
                  <a:srgbClr val="00cb00"/>
                </a:solidFill>
                <a:latin typeface="Courier New"/>
              </a:rPr>
              <a:t>"No input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36EE-EEEE-4C07-B32A-50ED97E0B74A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Flag-Controlled while Loop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395280" y="1628280"/>
            <a:ext cx="76564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Arial"/>
              </a:rPr>
              <a:t>Boolean value used to control loo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Arial"/>
              </a:rPr>
              <a:t>General for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217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boolean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found = </a:t>
            </a:r>
            <a:r>
              <a:rPr b="0" lang="en-US" sz="20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false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217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while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(!fo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217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217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217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217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217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(ex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217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found = </a:t>
            </a:r>
            <a:r>
              <a:rPr b="0" lang="en-US" sz="20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true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217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217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217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217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0FC2-C74D-4FFA-9558-253505443D86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e </a:t>
            </a:r>
            <a:r>
              <a:rPr b="0" lang="en-US" sz="3600" spc="-1" strike="noStrike">
                <a:solidFill>
                  <a:srgbClr val="dd8047"/>
                </a:solidFill>
                <a:latin typeface="Courier New"/>
              </a:rPr>
              <a:t>for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Looping (Repetition) Structur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324000" y="170028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pecialized form of </a:t>
            </a:r>
            <a:r>
              <a:rPr b="0" lang="en-US" sz="2200" spc="-1" strike="noStrike">
                <a:solidFill>
                  <a:srgbClr val="dd8047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 loo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Its primary purpose is to simplify the writing of counter-controlled loops. For this reason, the for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loop is typically called a 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counted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or 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indexed for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loop.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(initial statement; loop condition; update stat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7628-E8E3-4F30-BD81-241FC3976DF3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e </a:t>
            </a:r>
            <a:r>
              <a:rPr b="0" lang="en-US" sz="3600" spc="-1" strike="noStrike">
                <a:solidFill>
                  <a:srgbClr val="dd8047"/>
                </a:solidFill>
                <a:latin typeface="Courier New"/>
              </a:rPr>
              <a:t>for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Looping (Repetition) Structur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806148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for loop outputs the wor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l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 star (on separate lines) five ti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dd8047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i = 1; i &lt;= 5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Hello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for loop outputs the wor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l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ve times and the star only onc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dd8047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i = 1; i &lt;= 5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Hello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BA52-C24A-418E-8B39-A53EF9DF4BF0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4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5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6566-5065-4BD0-B156-ECE52C0678A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Parsing Numeric Strings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457200" y="1676520"/>
            <a:ext cx="8153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66669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onvert a string consisting of a decimal number to a value of the type </a:t>
            </a:r>
            <a:r>
              <a:rPr b="0" lang="en-US" sz="2000" spc="-1" strike="noStrike">
                <a:solidFill>
                  <a:srgbClr val="dd8047"/>
                </a:solidFill>
                <a:latin typeface="Courier New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e use the following expres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Float.parseFloat(strEx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Float.parseFloat("34.56") = 34.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Float.parseFloat("-542.97") = -542.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66669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onvert a string consisting of a decimal number to a value of the type </a:t>
            </a:r>
            <a:r>
              <a:rPr b="0" lang="en-US" sz="2000" spc="-1" strike="noStrike">
                <a:solidFill>
                  <a:srgbClr val="dd8047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e use the following expres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Double.parseDouble(strEx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Double.parseDouble("345.78") = 345.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Double.parseDouble("-782.873") = -782.8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e for Looping (Repetition) Structur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178920" y="177336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Arial"/>
              </a:rPr>
              <a:t>Does not execute if loop condition is initially 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false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Arial"/>
                <a:ea typeface="Times New Roman"/>
              </a:rPr>
              <a:t>Update expression changes value of loop control variable, eventually making it 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false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Arial"/>
                <a:ea typeface="Times New Roman"/>
              </a:rPr>
              <a:t>If loop condition is always 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true</a:t>
            </a:r>
            <a:r>
              <a:rPr b="0" lang="en-US" sz="2600" spc="-1" strike="noStrike">
                <a:solidFill>
                  <a:srgbClr val="404040"/>
                </a:solidFill>
                <a:latin typeface="Arial"/>
                <a:ea typeface="Times New Roman"/>
              </a:rPr>
              <a:t>, result is an infinite loop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.</a:t>
            </a:r>
            <a:r>
              <a:rPr b="0" lang="en-US" sz="26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Arial"/>
                <a:ea typeface="Times New Roman"/>
              </a:rPr>
              <a:t>Infinite loop can be specified by omitting all three control statements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.</a:t>
            </a:r>
            <a:r>
              <a:rPr b="0" lang="en-US" sz="26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16F5-745F-4DE4-A9FC-1C7E03F54141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For Loop Programming Example: Classify Number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250920" y="1981080"/>
            <a:ext cx="858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Input: </a:t>
            </a:r>
            <a:r>
              <a:rPr b="0" lang="en-US" sz="2800" spc="-1" strike="noStrike">
                <a:solidFill>
                  <a:srgbClr val="404040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integers (positive, negative, and zero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N = 20;  </a:t>
            </a:r>
            <a:r>
              <a:rPr b="0" lang="en-US" sz="2000" spc="-1" strike="noStrike">
                <a:solidFill>
                  <a:srgbClr val="339933"/>
                </a:solidFill>
                <a:latin typeface="Courier New"/>
                <a:ea typeface="Times New Roman"/>
              </a:rPr>
              <a:t>//N easily mod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Output: Number of 0s, number of even integers, number of odd inte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428F-5E61-4C50-ADB8-759065321319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r Loop Programming Example: Classify Numbers (solution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23640" y="1484280"/>
            <a:ext cx="851508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8047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 (counter = 1; counter &lt;= N; counter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number = console.nextIn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System.out.print(number + " 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dd8047"/>
                </a:solidFill>
                <a:latin typeface="Courier New"/>
              </a:rPr>
              <a:t>switch</a:t>
            </a: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 (number %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dd8047"/>
                </a:solidFill>
                <a:latin typeface="Courier New"/>
              </a:rPr>
              <a:t>case</a:t>
            </a: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 0: evens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dd8047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 (number ==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                 </a:t>
            </a: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zeros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dd8047"/>
                </a:solidFill>
                <a:latin typeface="Courier New"/>
              </a:rPr>
              <a:t>break</a:t>
            </a: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dd8047"/>
                </a:solidFill>
                <a:latin typeface="Courier New"/>
              </a:rPr>
              <a:t>case</a:t>
            </a: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dd8047"/>
                </a:solidFill>
                <a:latin typeface="Courier New"/>
              </a:rPr>
              <a:t>case</a:t>
            </a: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 -1: odds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} </a:t>
            </a:r>
            <a:r>
              <a:rPr b="0" lang="en-US" sz="1800" spc="-1" strike="noStrike">
                <a:solidFill>
                  <a:srgbClr val="339933"/>
                </a:solidFill>
                <a:latin typeface="Courier New"/>
              </a:rPr>
              <a:t>//end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ourier New"/>
              </a:rPr>
              <a:t>} </a:t>
            </a:r>
            <a:r>
              <a:rPr b="0" lang="en-US" sz="1800" spc="-1" strike="noStrike">
                <a:solidFill>
                  <a:srgbClr val="339933"/>
                </a:solidFill>
                <a:latin typeface="Courier New"/>
              </a:rPr>
              <a:t>//end for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4335-4A9B-411D-96C9-5B99258BF6F4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e do…while Loop (Repetition) Structur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xpression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s are executed first and then expression is evalu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s are executed at least once and then continued if expression is tr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Slide Number Placeholder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6BA6-6F2F-4590-B3EB-61D291D368E6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do…while Loop (Post-Test Loop)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24" name="Picture 3" descr="Fig05-05"/>
          <p:cNvPicPr/>
          <p:nvPr/>
        </p:nvPicPr>
        <p:blipFill>
          <a:blip r:embed="rId1"/>
          <a:stretch/>
        </p:blipFill>
        <p:spPr>
          <a:xfrm>
            <a:off x="468360" y="1773360"/>
            <a:ext cx="8153280" cy="4155840"/>
          </a:xfrm>
          <a:prstGeom prst="rect">
            <a:avLst/>
          </a:prstGeom>
          <a:ln w="0">
            <a:noFill/>
          </a:ln>
        </p:spPr>
      </p:pic>
      <p:sp>
        <p:nvSpPr>
          <p:cNvPr id="625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12CE-B291-41DD-9282-F057DF0CD3F3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do…while Loop (Post-Test Loop)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Example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i = 0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8047"/>
                </a:solidFill>
                <a:latin typeface="Arial"/>
              </a:rPr>
              <a:t>do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ystem.out.print(i + “ “ )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i = i + 5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dd8047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dd8047"/>
                </a:solidFill>
                <a:latin typeface="Arial"/>
              </a:rPr>
              <a:t>}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dd8047"/>
                </a:solidFill>
                <a:latin typeface="Arial"/>
              </a:rPr>
              <a:t>while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 ( i &lt;= 30 )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output : 0  5  10  15  20  25  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183F-FFE2-431A-9DD6-CCB9779887C2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4"/>
          <p:cNvSpPr/>
          <p:nvPr/>
        </p:nvSpPr>
        <p:spPr>
          <a:xfrm>
            <a:off x="468360" y="5229360"/>
            <a:ext cx="597384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break</a:t>
            </a: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 Statements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Used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exit early from a loop.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while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for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, and 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do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...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wh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skip remainder of 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switch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n be placed within if statement of a lo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If condition is met, loop is exited immediately.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fter the break statement executes, the program continues to execute with the first statement after the structure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9FC4-FB1C-4812-B991-5906780615A9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break</a:t>
            </a: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 Statements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Examp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int count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r ( count = 1 ; count &lt;= 10 ; count ++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{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if ( count == 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break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    </a:t>
            </a:r>
            <a:r>
              <a:rPr b="0" lang="ar-SA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System.out.print(count + “ ”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5179-2BA6-4F8F-B431-73A5B02F5F82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5"/>
          <p:cNvSpPr/>
          <p:nvPr/>
        </p:nvSpPr>
        <p:spPr>
          <a:xfrm>
            <a:off x="611280" y="4508640"/>
            <a:ext cx="439236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2 3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continue</a:t>
            </a: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 Statements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23640" y="1483920"/>
            <a:ext cx="8459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Used in </a:t>
            </a:r>
            <a:r>
              <a:rPr b="0" lang="en-US" sz="28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while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for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, and </a:t>
            </a:r>
            <a:r>
              <a:rPr b="0" lang="en-US" sz="28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do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...</a:t>
            </a:r>
            <a:r>
              <a:rPr b="0" lang="en-US" sz="28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while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 stru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When executed in a loop, the remaining statements in the loop are skipped; proceeds with the next iteration of the loo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When executed in a </a:t>
            </a:r>
            <a:r>
              <a:rPr b="0" lang="en-US" sz="28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while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/</a:t>
            </a:r>
            <a:r>
              <a:rPr b="0" lang="en-US" sz="28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do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…</a:t>
            </a:r>
            <a:r>
              <a:rPr b="0" lang="en-US" sz="28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while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 structure, expression is evaluated immediately after continue state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In a </a:t>
            </a:r>
            <a:r>
              <a:rPr b="0" lang="en-US" sz="28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for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 structure, the update statement is executed after the </a:t>
            </a:r>
            <a:r>
              <a:rPr b="0" lang="en-US" sz="28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continue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 statement; the loop condition then execu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980C-1D0D-441C-9748-835F0F7F3DF7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continue</a:t>
            </a: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 Statements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Examp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int count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r ( count = 1; count &lt;= 10 ; count ++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{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if ( count == 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ontinu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    </a:t>
            </a:r>
            <a:r>
              <a:rPr b="0" lang="ar-SA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System.out.print(count + “ ”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F247-4F19-4AC4-A7F9-4F04B353A91F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4"/>
          <p:cNvSpPr/>
          <p:nvPr/>
        </p:nvSpPr>
        <p:spPr>
          <a:xfrm>
            <a:off x="684360" y="4941720"/>
            <a:ext cx="511164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2 3 4 6 7 8 9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E0B0-FEE3-4602-B21A-8B7CEE7B505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rmatting Output with 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printf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e syntax to use the method </a:t>
            </a:r>
            <a:r>
              <a:rPr b="0" lang="en-US" sz="2400" spc="-1" strike="noStrike">
                <a:solidFill>
                  <a:srgbClr val="404040"/>
                </a:solidFill>
                <a:latin typeface="Courier New"/>
              </a:rPr>
              <a:t>printf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to produce output on the standard output device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Courier New"/>
              </a:rPr>
              <a:t>System.out.printf(format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Courier New"/>
              </a:rPr>
              <a:t>System.out.printf(formatString,argumentLis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ourier New"/>
              </a:rPr>
              <a:t>formatString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is a string specifying the format of the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ourier New"/>
              </a:rPr>
              <a:t>argumentList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is a list of arguments that consists of constant values, variables, or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If there is more than one argument in </a:t>
            </a:r>
            <a:r>
              <a:rPr b="0" lang="en-US" sz="2400" spc="-1" strike="noStrike">
                <a:solidFill>
                  <a:srgbClr val="404040"/>
                </a:solidFill>
                <a:latin typeface="Courier New"/>
              </a:rPr>
              <a:t>argumentList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, the arguments are separated with com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5"/>
          <p:cNvSpPr/>
          <p:nvPr/>
        </p:nvSpPr>
        <p:spPr>
          <a:xfrm>
            <a:off x="6934320" y="838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Nested Control Structures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Provides new power, subtlety, and complex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if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if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…</a:t>
            </a:r>
            <a:r>
              <a:rPr b="0" lang="en-US" sz="28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else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, and </a:t>
            </a:r>
            <a:r>
              <a:rPr b="0" lang="en-US" sz="28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switch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 structures can be placed within </a:t>
            </a:r>
            <a:r>
              <a:rPr b="0" lang="en-US" sz="28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while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 loo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for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 loops can be found within other </a:t>
            </a:r>
            <a:r>
              <a:rPr b="0" lang="en-US" sz="28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for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 loops.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63BD-763F-49C9-8D07-354A11B62E22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Nested Control Structures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(Example 5-18)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826920" y="162828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i = 1; i &lt;= 5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dd8047"/>
                </a:solidFill>
                <a:latin typeface="Courier New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j = 1; j &lt;= i; j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System.out.print(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</a:rPr>
              <a:t>"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</a:rPr>
              <a:t>"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  <a:ea typeface="Times New Roman"/>
              </a:rPr>
              <a:t>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AE46-B18D-4589-843B-89B1F4210A62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4"/>
          <p:cNvSpPr/>
          <p:nvPr/>
        </p:nvSpPr>
        <p:spPr>
          <a:xfrm>
            <a:off x="900000" y="3645000"/>
            <a:ext cx="1440000" cy="23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9B61-22DB-4D12-A8C7-4312536CE36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rmatting Output with 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printf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</a:rPr>
              <a:t>System.out.printf("Hello there!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onsists of only the format string and the stat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</a:rPr>
              <a:t>System.out.printf("There are %.2f inches in %d centimeters.%n"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</a:rPr>
              <a:t>                 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</a:rPr>
              <a:t>centimeters / 2.54, centimeters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onsists of both the format string and 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</a:rPr>
              <a:t>argumentList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ourier New"/>
              </a:rPr>
              <a:t>%.2f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are called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format specifiers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By default, there is a one-to-one correspondence between format specifiers and the arguments in 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</a:rPr>
              <a:t>argumentList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he first format specifier, 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</a:rPr>
              <a:t>%.2f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, is matched with the first argument, which is the expression </a:t>
            </a:r>
            <a:r>
              <a:rPr b="0" lang="en-US" sz="2000" spc="-1" strike="noStrike">
                <a:solidFill>
                  <a:srgbClr val="404040"/>
                </a:solidFill>
                <a:latin typeface="Courier New"/>
              </a:rPr>
              <a:t>centimeters / 2.54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5"/>
          <p:cNvSpPr/>
          <p:nvPr/>
        </p:nvSpPr>
        <p:spPr>
          <a:xfrm>
            <a:off x="6934320" y="87804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F464-1710-4D0D-B5CC-71FF5DF1AF8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Formatting Output with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</a:rPr>
              <a:t>printf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e second format specifier, </a:t>
            </a:r>
            <a:r>
              <a:rPr b="0" lang="en-US" sz="2400" spc="-1" strike="noStrike">
                <a:solidFill>
                  <a:srgbClr val="404040"/>
                </a:solidFill>
                <a:latin typeface="Courier New"/>
              </a:rPr>
              <a:t>%d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, is matched with the second argument, which is </a:t>
            </a:r>
            <a:r>
              <a:rPr b="0" lang="en-US" sz="2400" spc="-1" strike="noStrike">
                <a:solidFill>
                  <a:srgbClr val="404040"/>
                </a:solidFill>
                <a:latin typeface="Courier New"/>
              </a:rPr>
              <a:t>centimeters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e format specifier </a:t>
            </a:r>
            <a:r>
              <a:rPr b="0" lang="en-US" sz="2400" spc="-1" strike="noStrike">
                <a:solidFill>
                  <a:srgbClr val="404040"/>
                </a:solidFill>
                <a:latin typeface="Courier New"/>
              </a:rPr>
              <a:t>%n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positions the insertion point at the beginning of the next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If centimeters = 150 </a:t>
            </a: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150/2.54 =59.055118110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e o/p would b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ere are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59.06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inches in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150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centime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e output of a printf statement is right-justified by default.  To force the output to be left-justified, negative column widths may be u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5"/>
          <p:cNvSpPr/>
          <p:nvPr/>
        </p:nvSpPr>
        <p:spPr>
          <a:xfrm>
            <a:off x="7543800" y="9144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ooter Placeholder 4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7BA8-FB2B-4D9B-8699-3FF1B915FD0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Example1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public class Example3_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public static void main (String[] ar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int num = 763;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double x = 658.75;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tring str = "Java Program.";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ystem.out.println("123456789012345678901234567890");    System.out.printf ( "%5d%7.2f%15s%n",   num, x, str);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ystem.out.printf ("%15s%6d%9.2f %n",    str, num, x);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}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5"/>
          <p:cNvSpPr/>
          <p:nvPr/>
        </p:nvSpPr>
        <p:spPr>
          <a:xfrm>
            <a:off x="6934320" y="838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4B41-12B5-4BB9-A71C-BF9A0EF5921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Example1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Sample run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123456789012345678901234567890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  763 658.75  Java Program.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  Java Program.   763   658.75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5"/>
          <p:cNvSpPr/>
          <p:nvPr/>
        </p:nvSpPr>
        <p:spPr>
          <a:xfrm>
            <a:off x="6934320" y="838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07:59:11Z</dcterms:created>
  <dc:creator>Manasi Bhattacharyya</dc:creator>
  <dc:description/>
  <dc:language>en-US</dc:language>
  <cp:lastModifiedBy>Nouf</cp:lastModifiedBy>
  <dcterms:modified xsi:type="dcterms:W3CDTF">2014-02-16T17:10:51Z</dcterms:modified>
  <cp:revision>139</cp:revision>
  <dc:subject/>
  <dc:title>Chapter 1</dc:title>
</cp:coreProperties>
</file>