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54D-83DE-4A04-821D-9C9ADDFDA7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AEE-154B-4AE9-A9BA-333C694D81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8D37-8415-461E-B3A8-DC30A12A35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350-53C9-4CA1-B582-48FD5DDB50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4B7C-1743-4625-9261-B46B9E41CD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1912-5DF8-4AF2-ADF3-C591CF5C434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2ABE-A4EF-4459-B441-71F3FF3D9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BB2-72FD-42AD-8CF3-79F3672636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223-4F41-416D-873B-43F76B2507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AB8-39AC-407B-AB28-76177D621D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591-7829-479C-B7AB-3CA8D51AD7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A857-A5A5-46B2-90A5-32367CEA2A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6A2-C229-49FC-B4D4-3E1FFCEB8EF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EF6-5B25-431B-90DA-8FE3640BA9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762-0378-4A5F-87B2-9D7102E2320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E4D-6C7E-427F-B90B-EEA42720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259-4A76-4965-8E50-D50C99A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C4143-98CA-4DDE-BE6E-8ADE4C3C15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34A60-0CA2-473F-B705-FC43C978B3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5F039-1EE2-4532-806A-C2A551312C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638FA-42C7-4253-BF5E-E598C1211A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11085-7193-4C24-AB38-E327F1E63C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6E9C7-979B-4361-B0DB-701F4F24E4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0C29C-BBA3-4E02-B66F-A7E8C2B8AA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D2F66-2C16-4E92-BFE6-AADBC85464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20388-0012-4117-80EE-0798AF200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2F4-DEFA-4560-80C0-8948ECDF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5FB-9369-4CF6-8DE3-C16B9627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4151-4E11-4C54-88CC-61D482F6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004F-E92D-4B85-AC39-68D1D78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26B-8748-4910-A56B-AAACF57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5C3F-239F-48F9-B3B5-FFB0C6F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51CC-4E01-469F-98CC-F1A3129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162-5C8D-4F24-A4C9-23B83D6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775-23E0-49C4-BC5C-98901B1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4E1-F5FB-481E-B34E-C420E59B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B3FD-C63E-4EB1-96D0-5C7A580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40F-E40A-4548-BABF-A1A75D7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417-A8E5-4AAF-921E-D6978FB0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ADFD-98F3-45C0-9AD1-1EE70DB1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01B-4210-463B-94F4-5EAB64C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1594-C266-495C-B241-380CF86D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8655-5541-4B97-BEE8-1365A069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ABA0-0090-4146-A031-E641B41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6A62-1BB9-472D-A14A-F7F150E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9FE0-2A55-407F-8578-FB53204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BF5-CE44-41B9-8102-898020F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3CE4-56E9-44C4-847F-A3648E6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CCC4-DA3F-44E9-8B32-604182DD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2B09-C138-42A5-8DCF-AD4ECD7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E9D2-3469-40C7-8D18-D250C0D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58B5-3FC3-49F8-9670-527D650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5328-7F0E-4EBB-BC73-CEA4ADDD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316A-AD85-46F6-8C29-97FBA5C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E534-ADE5-429F-A3E7-77C5B482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EB53-75FF-4977-A174-7C9F2D3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57CE-8532-4A26-B6EC-38BCEB4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4B1-8047-4358-A463-A0468515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66B0-ED0F-4D42-8729-4C7AAF8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E0D4-B694-4BEE-B06E-718BD44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F24DA-7BC6-4D1E-B7B9-905EE8F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A3C3-3230-4404-9074-4199080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538A-3D00-49CA-9A6E-8E62D01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75E3-9ED5-4C6F-B398-4B73C35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6A22-5A22-4A45-BDB4-8DC276A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F813-3733-4256-B701-FC27D758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42FA-CF1C-4113-89D7-6A5ABCC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522E-FEA9-4E7D-A82D-F0BBC314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9E-C624-482F-8A25-7F686AB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7A65-356E-4052-AF57-DE15B108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5CD7-5275-4FA9-B395-B764585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B9D4-DBE2-43D0-87E2-F6A5849E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2AD0-5CA3-4BC4-9D8C-AADBDF6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6D8C-711F-4C83-A730-B5C296D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CF44-991C-4A95-8124-28AF305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247F-4F91-47DC-93D8-9EE90D0F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CE785-24C5-4EA6-87C5-DC0A2D4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04F4-8465-406B-83C2-3567A1AC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4C34-1155-43EE-B7DB-17DCE5F2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38C-9417-4DE4-B799-51EAFDAC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EF7B8-649B-46ED-B600-E7979324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1177-7450-4B8A-A8F1-53A01947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27CD-6CFB-4B39-8D89-CC65225C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B2293-CB7F-4BA1-99E6-DD36DB5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F8E43-6916-4CE1-89D3-019C21D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7132-0B00-46E4-AC95-493E802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208A-056A-42DC-A485-420A30D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3A1E-47C6-47F9-9E5F-7CC75A8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34D0-10CF-4A54-A9BF-1DE822A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18F6-3AFE-4B0C-83BB-88DBBC1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6A3-8CC6-4A1A-85D9-4C4B77D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A845-95FF-4D87-9455-FBAEB2B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11BA-6832-45FD-AEC7-65332162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6BB9-B6D6-4496-B153-583EFB60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9360-611B-4596-9928-5972367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ACE2-995A-46E0-84B2-E0C79417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EF61-0AC0-419D-B056-4208396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BBB0-4287-406D-9CCC-A55C943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16D9-5C4A-4807-A56F-5690E778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49F6-ECE9-497C-B2A6-6E1C098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A89C-0D07-45AC-9C6D-05C099F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664-7007-4917-9EA9-4B31CF9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2F1AC-5BD6-49C5-8342-4DDB314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610C-6D86-4F30-928C-97D0F96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EBF3-E982-413F-921D-50D2DEC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72ED-28DD-4B21-9B18-2B071076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D1DCA-9A66-4013-A930-BB2A2B9B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3288-83CC-45BE-8169-A49DE8AB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F7B0-FF9B-4B54-A76E-C8F17F2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E6B4-B77F-40AB-8C75-F5701BC6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6FA39-16EA-4B4F-8E09-D646ABAA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91A0-3BCE-4A53-A171-6BBF981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CE0-1EB8-4BF9-B2FE-66E6AEF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12BC-F7E1-4399-8372-E36D3B08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130D1-A216-4404-B9D9-F866D8E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40949-E224-4FB9-B482-F9D3109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5008-BFE8-40AE-93A1-D187352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AC2E-3E31-41A8-979F-F8A1E77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D492-D1A2-41E9-80E1-F74F37B9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27E5-0C2E-4C63-807C-6E6039BC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00D6E-743E-4724-9302-C4E782D27F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FF43-FE2F-4EB3-879B-8EF3EC58203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C3D72-E866-4462-BB2C-A7E9B22BD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407-9505-4791-8051-F80CDECBBD04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97D-5F21-49B5-9C9F-27D4C145A6B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ED11-5142-447C-BD5C-F268F9A0F32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CAE-5F1A-48B6-9A05-03BCB7C9D7A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D89-937A-4ED1-8D8D-57AA3655E5C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47B0-CAF9-4189-831E-091C142848C4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B328-195B-4C29-8531-439F616B01B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2E6-E5AC-46D8-BE82-AF361281EC2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B3A4-1446-4EEC-9FC6-1E6349E58B1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4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D91D-EFDD-4229-8C6B-4810522747C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xample2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class Example3_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 num = 76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ouble x = 658.75;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ring str = "Java Program.";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ln("123456789012345678901234567890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("%-5d%-7.2f%-15s ***%n",    num, x, str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("%-15s%-6d%-    9.2f ***%n", str, num, 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395-4E7F-4D38-B29B-57C35526F10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2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ample Ru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123456789012345678901234567890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763  658.75 Java Program.   ***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Program.  763   658.75    ***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C6A-171A-4B0F-9C9F-C7F25F1105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6" name="Picture 4" descr="Tbl03-02"/>
          <p:cNvPicPr/>
          <p:nvPr/>
        </p:nvPicPr>
        <p:blipFill>
          <a:blip r:embed="rId1"/>
          <a:stretch/>
        </p:blipFill>
        <p:spPr>
          <a:xfrm>
            <a:off x="2097000" y="3122640"/>
            <a:ext cx="4950000" cy="1755720"/>
          </a:xfrm>
          <a:prstGeom prst="rect">
            <a:avLst/>
          </a:prstGeom>
          <a:ln w="0">
            <a:noFill/>
          </a:ln>
        </p:spPr>
      </p:pic>
      <p:sp>
        <p:nvSpPr>
          <p:cNvPr id="44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4"/>
          <p:cNvSpPr/>
          <p:nvPr/>
        </p:nvSpPr>
        <p:spPr>
          <a:xfrm>
            <a:off x="68580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7620120" y="6400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BC7-A31E-492C-B623-A6320288BB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ly U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Escape Sequence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1" name="Picture 6" descr="Tbl02-04"/>
          <p:cNvPicPr/>
          <p:nvPr/>
        </p:nvPicPr>
        <p:blipFill>
          <a:blip r:embed="rId1"/>
          <a:stretch/>
        </p:blipFill>
        <p:spPr>
          <a:xfrm>
            <a:off x="2097000" y="3089160"/>
            <a:ext cx="4950000" cy="18226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ol Structures 1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E8D-217F-4928-BB13-921FA7AD3BD4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Fig04-01"/>
          <p:cNvPicPr/>
          <p:nvPr/>
        </p:nvPicPr>
        <p:blipFill>
          <a:blip r:embed="rId1"/>
          <a:stretch/>
        </p:blipFill>
        <p:spPr>
          <a:xfrm>
            <a:off x="380880" y="182880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Espace réservé du pied de page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B399-D544-4F0F-8A1C-5737236A83CE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609480" y="1523880"/>
            <a:ext cx="6324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on referred to as decision m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referred to as actio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Fig04-04 "/>
          <p:cNvPicPr/>
          <p:nvPr/>
        </p:nvPicPr>
        <p:blipFill>
          <a:blip r:embed="rId1"/>
          <a:stretch/>
        </p:blipFill>
        <p:spPr>
          <a:xfrm>
            <a:off x="380880" y="3505320"/>
            <a:ext cx="7010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EE32-9899-4508-A573-B4A0097AD8BC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16000" y="1628640"/>
            <a:ext cx="8928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x&gt;y) || (x==5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a==b) &amp;&amp; (x&gt;=7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4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F90-2A1D-4192-B79B-031B8A173010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CC31-10BE-438C-8F6D-311F8BB583CF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838080" y="18288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01F-0AA5-48E3-987C-AEDBC67E22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85800" y="144792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lasses designed to convert a numeric string into a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lass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nverts a numeric integer string into a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s used to convert a numeric decimal string into an equivalent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s used to convert a numeric decimal string into an equivalent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und (Block of)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B15-AFDC-4AB4-9C8E-BAAEF80F13D2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und (Block of)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Espace réservé du pied de page 1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CF4F-16DB-49F4-B448-F081EB3BAEAB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Espace réservé du pied de page 1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A3A-A7AA-4794-9AA6-CF0495C2DDAF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539640" y="170028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572000" y="1628640"/>
            <a:ext cx="3952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52D-2616-42E0-91D8-58EC1C381DB6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80880" y="17524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4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4F0-40E9-443D-8B47-F170BA07A347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68360" y="162864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Espace réservé du pied de page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0AF-4A67-455F-8ECF-64C11A017C4B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5257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609480" y="198108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With break Statem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D62-1990-43DB-9C01-4DF1AF7584B9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343400" y="914400"/>
            <a:ext cx="44956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423720" y="1719360"/>
            <a:ext cx="3503880" cy="3528720"/>
            <a:chOff x="423720" y="1719360"/>
            <a:chExt cx="3503880" cy="3528720"/>
          </a:xfrm>
        </p:grpSpPr>
        <p:sp>
          <p:nvSpPr>
            <p:cNvPr id="509" name="Rectangle 7"/>
            <p:cNvSpPr/>
            <p:nvPr/>
          </p:nvSpPr>
          <p:spPr>
            <a:xfrm>
              <a:off x="423720" y="1719360"/>
              <a:ext cx="35038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471240" y="1893960"/>
              <a:ext cx="3371760" cy="31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9"/>
          <p:cNvGrpSpPr/>
          <p:nvPr/>
        </p:nvGrpSpPr>
        <p:grpSpPr>
          <a:xfrm>
            <a:off x="4448160" y="1000080"/>
            <a:ext cx="4162320" cy="5021280"/>
            <a:chOff x="4448160" y="1000080"/>
            <a:chExt cx="4162320" cy="5021280"/>
          </a:xfrm>
        </p:grpSpPr>
        <p:sp>
          <p:nvSpPr>
            <p:cNvPr id="512" name="AutoShape 10"/>
            <p:cNvSpPr/>
            <p:nvPr/>
          </p:nvSpPr>
          <p:spPr>
            <a:xfrm>
              <a:off x="6810480" y="180648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1"/>
            <p:cNvSpPr/>
            <p:nvPr/>
          </p:nvSpPr>
          <p:spPr>
            <a:xfrm>
              <a:off x="4448160" y="238140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2"/>
            <p:cNvSpPr/>
            <p:nvPr/>
          </p:nvSpPr>
          <p:spPr>
            <a:xfrm>
              <a:off x="5964480" y="149220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3"/>
            <p:cNvSpPr/>
            <p:nvPr/>
          </p:nvSpPr>
          <p:spPr>
            <a:xfrm>
              <a:off x="4646520" y="1690560"/>
              <a:ext cx="1254240" cy="58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4"/>
            <p:cNvSpPr/>
            <p:nvPr/>
          </p:nvSpPr>
          <p:spPr>
            <a:xfrm>
              <a:off x="5273640" y="10000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5"/>
            <p:cNvSpPr/>
            <p:nvPr/>
          </p:nvSpPr>
          <p:spPr>
            <a:xfrm>
              <a:off x="6810480" y="30384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6"/>
            <p:cNvSpPr/>
            <p:nvPr/>
          </p:nvSpPr>
          <p:spPr>
            <a:xfrm>
              <a:off x="6810480" y="425772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7"/>
            <p:cNvSpPr/>
            <p:nvPr/>
          </p:nvSpPr>
          <p:spPr>
            <a:xfrm>
              <a:off x="4646520" y="290988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"/>
            <p:cNvSpPr/>
            <p:nvPr/>
          </p:nvSpPr>
          <p:spPr>
            <a:xfrm>
              <a:off x="4646520" y="412920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"/>
            <p:cNvSpPr/>
            <p:nvPr/>
          </p:nvSpPr>
          <p:spPr>
            <a:xfrm>
              <a:off x="5877000" y="1990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0"/>
            <p:cNvSpPr/>
            <p:nvPr/>
          </p:nvSpPr>
          <p:spPr>
            <a:xfrm>
              <a:off x="5273640" y="227016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1"/>
            <p:cNvSpPr/>
            <p:nvPr/>
          </p:nvSpPr>
          <p:spPr>
            <a:xfrm>
              <a:off x="5273640" y="34894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5273640" y="4721400"/>
              <a:ext cx="0" cy="1299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3"/>
            <p:cNvSpPr/>
            <p:nvPr/>
          </p:nvSpPr>
          <p:spPr>
            <a:xfrm>
              <a:off x="5902200" y="319716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4"/>
            <p:cNvSpPr/>
            <p:nvPr/>
          </p:nvSpPr>
          <p:spPr>
            <a:xfrm>
              <a:off x="5940360" y="441648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5"/>
            <p:cNvSpPr/>
            <p:nvPr/>
          </p:nvSpPr>
          <p:spPr>
            <a:xfrm>
              <a:off x="7350120" y="221940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4448160" y="481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4448160" y="358776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5964480" y="2685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9"/>
            <p:cNvSpPr/>
            <p:nvPr/>
          </p:nvSpPr>
          <p:spPr>
            <a:xfrm>
              <a:off x="5964480" y="39304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30"/>
            <p:cNvSpPr/>
            <p:nvPr/>
          </p:nvSpPr>
          <p:spPr>
            <a:xfrm>
              <a:off x="6810480" y="244152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7350120" y="345132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32"/>
            <p:cNvSpPr/>
            <p:nvPr/>
          </p:nvSpPr>
          <p:spPr>
            <a:xfrm>
              <a:off x="6810480" y="367344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7350120" y="465768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34"/>
            <p:cNvSpPr/>
            <p:nvPr/>
          </p:nvSpPr>
          <p:spPr>
            <a:xfrm>
              <a:off x="6810480" y="487980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5"/>
            <p:cNvSpPr/>
            <p:nvPr/>
          </p:nvSpPr>
          <p:spPr>
            <a:xfrm flipV="1">
              <a:off x="7896240" y="5018040"/>
              <a:ext cx="622440" cy="79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6"/>
            <p:cNvSpPr/>
            <p:nvPr/>
          </p:nvSpPr>
          <p:spPr>
            <a:xfrm>
              <a:off x="7896240" y="3832200"/>
              <a:ext cx="584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>
              <a:off x="5410080" y="2603520"/>
              <a:ext cx="3200400" cy="299736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2997360"/>
                <a:gd name="textAreaBottom" fmla="*/ 2997720 h 2997360"/>
              </a:gdLst>
              <a:ahLst/>
              <a:rect l="textAreaLeft" t="textAreaTop" r="textAreaRight" b="textAreaBottom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0B86-FD36-4729-B811-C0C00CC4D067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4419720" y="16002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685800" y="2286000"/>
            <a:ext cx="3503520" cy="2047680"/>
            <a:chOff x="685800" y="2286000"/>
            <a:chExt cx="3503520" cy="2047680"/>
          </a:xfrm>
        </p:grpSpPr>
        <p:sp>
          <p:nvSpPr>
            <p:cNvPr id="546" name="Rectangle 7"/>
            <p:cNvSpPr/>
            <p:nvPr/>
          </p:nvSpPr>
          <p:spPr>
            <a:xfrm>
              <a:off x="685800" y="2286000"/>
              <a:ext cx="350352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733320" y="2386080"/>
              <a:ext cx="337140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9"/>
          <p:cNvGrpSpPr/>
          <p:nvPr/>
        </p:nvGrpSpPr>
        <p:grpSpPr>
          <a:xfrm>
            <a:off x="5045040" y="1295280"/>
            <a:ext cx="3422520" cy="4690800"/>
            <a:chOff x="5045040" y="1295280"/>
            <a:chExt cx="3422520" cy="4690800"/>
          </a:xfrm>
        </p:grpSpPr>
        <p:sp>
          <p:nvSpPr>
            <p:cNvPr id="549" name="AutoShape 10"/>
            <p:cNvSpPr/>
            <p:nvPr/>
          </p:nvSpPr>
          <p:spPr>
            <a:xfrm>
              <a:off x="7388280" y="210168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5045040" y="26762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2"/>
            <p:cNvSpPr/>
            <p:nvPr/>
          </p:nvSpPr>
          <p:spPr>
            <a:xfrm>
              <a:off x="6561360" y="178740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>
              <a:off x="5243400" y="198576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5870520" y="12952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5"/>
            <p:cNvSpPr/>
            <p:nvPr/>
          </p:nvSpPr>
          <p:spPr>
            <a:xfrm>
              <a:off x="7388280" y="33336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"/>
            <p:cNvSpPr/>
            <p:nvPr/>
          </p:nvSpPr>
          <p:spPr>
            <a:xfrm>
              <a:off x="7388280" y="45018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7"/>
            <p:cNvSpPr/>
            <p:nvPr/>
          </p:nvSpPr>
          <p:spPr>
            <a:xfrm>
              <a:off x="5243400" y="320508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5243400" y="4424040"/>
              <a:ext cx="1254240" cy="58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6473880" y="2285640"/>
              <a:ext cx="799920" cy="5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"/>
            <p:cNvSpPr/>
            <p:nvPr/>
          </p:nvSpPr>
          <p:spPr>
            <a:xfrm>
              <a:off x="5870520" y="256536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1"/>
            <p:cNvSpPr/>
            <p:nvPr/>
          </p:nvSpPr>
          <p:spPr>
            <a:xfrm>
              <a:off x="5870520" y="378432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2"/>
            <p:cNvSpPr/>
            <p:nvPr/>
          </p:nvSpPr>
          <p:spPr>
            <a:xfrm>
              <a:off x="5870520" y="5016240"/>
              <a:ext cx="0" cy="969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 flipH="1" rot="5400000">
              <a:off x="6679440" y="4228200"/>
              <a:ext cx="558720" cy="193176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6499080" y="349236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6537240" y="4711320"/>
              <a:ext cx="800280" cy="5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7927920" y="2514240"/>
              <a:ext cx="0" cy="716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7"/>
            <p:cNvSpPr/>
            <p:nvPr/>
          </p:nvSpPr>
          <p:spPr>
            <a:xfrm>
              <a:off x="7927920" y="3720960"/>
              <a:ext cx="0" cy="716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8"/>
            <p:cNvSpPr/>
            <p:nvPr/>
          </p:nvSpPr>
          <p:spPr>
            <a:xfrm>
              <a:off x="5045040" y="51148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045040" y="388296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0"/>
            <p:cNvSpPr/>
            <p:nvPr/>
          </p:nvSpPr>
          <p:spPr>
            <a:xfrm>
              <a:off x="6561360" y="2981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1"/>
            <p:cNvSpPr/>
            <p:nvPr/>
          </p:nvSpPr>
          <p:spPr>
            <a:xfrm>
              <a:off x="6561360" y="42256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With Break And Default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B30-0013-4369-B03C-5AC08A275E37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181080" y="1676520"/>
            <a:ext cx="89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4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4-23 With Nested If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2A2-7448-44C7-9834-764D5887A70F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5"/>
          <p:cNvSpPr/>
          <p:nvPr/>
        </p:nvSpPr>
        <p:spPr>
          <a:xfrm>
            <a:off x="533520" y="1447920"/>
            <a:ext cx="7929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FC8E-D6CC-4EDD-862F-6345037B37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457200" y="1981080"/>
            <a:ext cx="8001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ing consisting of only integers or decimal numbers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ert a string consisting of an integer to a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str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"6723") = 67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"-823") = -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Why is Repetition Needed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re are many situations in which the same statements need to be executed sever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mulas used to find average grades for students in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314-6B43-4F0D-B927-957B7AECE5F1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petition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has three repetition, or looping, structures that let you repeat statements over and over again until certain conditions are m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…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7C3-CE55-48AB-AECF-4B2419AC195B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must change value of expression to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inite lo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ression is always tr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Fig05-01"/>
          <p:cNvPicPr/>
          <p:nvPr/>
        </p:nvPicPr>
        <p:blipFill>
          <a:blip r:embed="rId1"/>
          <a:stretch/>
        </p:blipFill>
        <p:spPr>
          <a:xfrm>
            <a:off x="611280" y="3860640"/>
            <a:ext cx="8229600" cy="2719440"/>
          </a:xfrm>
          <a:prstGeom prst="rect">
            <a:avLst/>
          </a:prstGeom>
          <a:ln w="0">
            <a:noFill/>
          </a:ln>
        </p:spPr>
      </p:pic>
      <p:sp>
        <p:nvSpPr>
          <p:cNvPr id="5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7D3-22D3-4790-A1DF-96A58112E0DB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2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0;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&lt;=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 ")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5 10 15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D758-FD40-438F-AD0C-0F8471D8E7E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1042920" y="4653000"/>
            <a:ext cx="22338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50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Used when exact number of entry pieces is unknown, but last entry (special/sentinel value) is kn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General fo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758-5C48-4528-8E2F-851D1F1706D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xample 5-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78920" y="155736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B99-9F5A-4C06-83BC-D9BA7259BA2F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xample 5-4 (continued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50920" y="170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ount++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075C-893C-4E0B-82F6-9C53964AC64F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162828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Boolean value used to control lo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General fo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found =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!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found =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D18C-3D56-4BB8-8E14-12F8F3A4749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6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24000" y="1700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pecialized form of </a:t>
            </a:r>
            <a:r>
              <a:rPr b="0" lang="en-US" sz="22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ts primary purpose is to simplify the writing of counter-controlled loops. For this reason, the for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loop is typically called a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ounted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dexed for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loop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AA8-6879-49DE-A3FA-FD640C97FAB0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6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061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for loop outputs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star (on separate lines) five ti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for loop outputs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ve times and the star only o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DD68-9803-47CF-A00E-392B0C49B70B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764-479F-4650-8412-48463EB87A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57200" y="1676520"/>
            <a:ext cx="815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str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"34.56") = 34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"-542.97") = -542.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str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"345.78") = 345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"-782.873") = -782.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or Looping (Repetition)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78920" y="1773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568-223F-445B-866D-0787ADDFE2D8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or Loop Programming Example: Classify Numb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put: </a:t>
            </a:r>
            <a:r>
              <a:rPr b="0" lang="en-US" sz="2800" spc="-1" strike="noStrike">
                <a:solidFill>
                  <a:srgbClr val="40404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integers (positive, negative, and zer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N = 20;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Output: Number of 0s, number of even integers, number of odd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A8BC-455A-4E1D-8EE3-E59056149D1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23640" y="1484280"/>
            <a:ext cx="8515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counter = 1; counter &lt;= N; counter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number = console.nextI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System.out.print(number + " 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switch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number %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0: even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number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zer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-1: odd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}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}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6E1B-82E5-44EB-A285-AD8530C69C7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do…while Loop (Repetition)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re executed first and then expression is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re executed at least once and then continued if expression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60F-A8E7-4A7E-AE17-068663B2BB7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o…while Loop (Post-Test Loop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4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  <p:sp>
        <p:nvSpPr>
          <p:cNvPr id="62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B0D5-EE6F-4479-B358-113312D3E5C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o…while Loop (Post-Test Loop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 = 0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stem.out.print(i + “ “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 = i + 5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}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( i &lt;= 30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output : 0  5  10  15  20  25 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1BE-8F8B-4691-9D20-96D279240AB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8360" y="5229360"/>
            <a:ext cx="59738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reak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Us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exit early from a loop.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..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kip remainder of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switch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placed within if statement of a l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condition is met, loop is exited immediately.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9A94-1C86-49FD-AFA3-40400F117EA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reak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r ( count = 1 ; count &lt;= 10 ; count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( count ==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reak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ystem.out.print(count + “ 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B583-292C-4B8A-AC37-7D193F24383B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611280" y="4508640"/>
            <a:ext cx="439236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23640" y="148392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Used in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When executed in a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, expression is evaluated immediately after continue stat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In a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, the update statement is executed after the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atement; the loop condition then exec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A6B-2DA4-4D32-AEE2-E5F139F4857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r ( count = 1; count &lt;= 10 ; count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( count ==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ystem.out.print(count + “ 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B73-C11A-4950-B58D-3579203ABE58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1DF-DA19-4937-945A-195B2449FEE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syntax to use the method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to produce output on the standard output devi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System.out.printf(format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System.out.printf(formatString,argument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formatString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s a string specifying the format of the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s a list of arguments that consists of constant values, variables, or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there is more than one argument in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the arguments are separated with com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Nested Control Structure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.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5E0D-6DEE-4F5E-9DA5-BE1EAD50AF2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ested Control Structur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Example 5-18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826920" y="162828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j = 1; j &lt;= i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F19-1A67-400A-834E-9837B073968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900000" y="364500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99B-74A4-4385-8B47-EAFBCA8E048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f("Hello there!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sists of only the format string and the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f("There are %.2f inches in %d centimeters.%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centimeters / 2.54, centimeter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sists of both the format string and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.2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re called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format specifier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y default, there is a one-to-one correspondence between format specifiers and the arguments in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first format specifier,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.2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, is matched with the first argument, which is the expression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centimeters / 2.5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6934320" y="8780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161-62DE-4C4A-A784-8C1547C477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second format specifier,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%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is matched with the second argument, which is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centimeter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format specifier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%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positions the insertion point at the beginning of the nex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centimeters = 150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150/2.54 =59.0551181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o/p would b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re are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59.06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nches in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enti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output of a printf statement is right-justified by default.  To force the output to be left-justified, negative column widths may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54380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E39-DC6B-41DD-81F2-5D24B25EA5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1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class Example3_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 num = 763;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ouble x = 658.75;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ring str = "Java Program.";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ln("123456789012345678901234567890");    System.out.printf ( "%5d%7.2f%15s%n",   num, x, str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 ("%15s%6d%9.2f %n",    str, num, x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26A-B101-41FA-B4C9-F772909E0B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Example1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ample ru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123456789012345678901234567890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763 658.75  Java Program.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Java Program.   763   658.75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6T17:10:51Z</dcterms:modified>
  <cp:revision>139</cp:revision>
  <dc:subject/>
  <dc:title>Chapter 1</dc:title>
</cp:coreProperties>
</file>