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33E-15BE-4BB8-A312-BA4B43F1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B33C-8C3F-4920-B85B-2CDCA4947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7EE-E79D-4106-B63A-1147BF3330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9EF2-6A12-410D-9CD4-38897859B9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7140-9E9F-4C19-99C7-E13D0F7C4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135-1106-4ECB-A7EB-41D602188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D53-14C5-4D9D-B6D5-8495C251E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78B-4614-4E26-9D59-F398CD484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8E9-598B-40E4-9865-A1FAEBFD5B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98B7-3FCB-41F0-943A-CEBD2C7F32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F31-B787-44CC-BF3B-D88557704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FC6-0678-48D8-AE34-9E78D82222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5809-22F6-4EDC-AD44-38148D5EE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00E-9AFA-4E0A-9DD8-FC96D5D07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A3D-F103-4BBF-B8BE-A603799CD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B457-A949-496B-8294-8D72FC7C94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F09-7518-422B-A947-3D6C739D2B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CAE-409B-46C7-A082-DC5893465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2977-468F-4438-A56E-3C8603D31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2F17-8FEB-4017-BF07-8EA75EEE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A045-9467-40BF-8612-F0384B7B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2E61-ACDA-41FF-BE7A-D284EF8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9FAE-FDC5-457F-B5C3-90B2C1F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E9465-AF6B-4B9E-AF42-61FAB238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C7DC-C34C-4C96-AAB7-B5D6047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41E9-C1A9-4715-B01E-6B18990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6328-E8E4-485A-80B9-3965B6F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5818-963E-4849-BA77-9B56C53B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EC7D-B58C-42BF-8FFF-D589A230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97705-77D7-438C-98EC-1DCA7C9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06B8-4552-495A-B5B0-A92F8ECF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FE65-8513-4013-9187-2F581C59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C475-E6D0-4B88-8C80-FA42E59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9D1A-596C-4AEB-AE1D-B939A17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28D0-963D-4ACD-8F76-F735291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C896-E3D8-46C6-9999-363D200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3FBA-B14D-43D6-89B0-9337B31A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BBA3-FBA3-4AEA-A2B4-EE902BB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8F27-A0E1-4BE7-9895-6B592F4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4F0F9-9FF9-425B-A744-7821A5B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2C7-232F-4118-AFD8-F746250D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10CD-4605-4400-980B-D0F1742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902C-6C69-4593-A711-7551CFA1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7C33-2FD9-4330-9004-4B4DBA8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921B-3DD5-4EBD-8918-A08EAF3A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6EB1-A8AF-4D30-825D-B239091C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23E0-0315-4D43-9B89-AC7F9B7D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D2E6B-2894-4220-9767-1B707BF4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29813-831B-4114-98B4-8A1F36F9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07AE-89F1-4203-B7BF-6A81861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FC0F-4F41-4A48-B5AD-77D7787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0F3-B43C-4070-A163-54CE64C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82BD7-9E7A-45FB-B8F1-46DE42D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7DFFC-53BF-444E-BDEA-54CBF92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12E6-3DC5-4E91-884C-A8BE4EA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C713-B984-4D42-8ECE-4289FBC3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D07B-6A09-4020-B10E-E5C2DE70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AC57-9F8D-405C-9F81-C96018B3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9EAD-DA3E-4815-9B32-8DE36DE7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8A30-6D3C-4B20-92B0-620E2F4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46DBC-2341-49CD-ACB7-E4118062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C64F4-05EE-4532-A758-665034D4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64B-6CFA-4873-B035-2A239D7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6E9B-57EA-479A-9F02-C8F0271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C09B-D30E-4A18-BE63-D884304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705F9-EAB0-46C2-AF39-DCEE1F9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BC6E1-10BC-4AA3-A7D5-3F20CD2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08A4-3CA0-45F4-879E-68956B1D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5607-194F-4395-835E-0A1FA5D8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FB55-BB9B-47E0-BF0E-24EF9193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BC64F-4A85-495D-AD2F-F12A84F5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8868E-F82A-4A22-9CCF-B794B13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6858-A0FD-4DB2-99C4-CEC012EF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AD4-88D1-43B6-88F9-9FDC04A8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7346B-FE0B-43F9-A97D-75464D3D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9F6BD-451C-4B56-AC0D-93A54F5B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946EF-AE24-453B-A47B-FA3C12EF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2585-63E7-40AF-BCAB-4F1E292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66C5-EFCD-4461-9D66-E494B170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ACB0D-FD88-4A65-8D1B-4AB002C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4E426-4AB2-4F3C-ADD6-73DCC1FF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3EEED-46DB-4DD6-BB90-6AA40A59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CA596-E995-4D85-9D76-0C7DFF73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8F409-2AD1-428B-B20C-C495CC2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BCC-1C73-4BC0-92B5-890C416D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399E-6F04-40B7-AB55-3896F77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FAA6-8FDA-4BCB-A249-17648D4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948A-F323-43EA-BB64-9BB2FF0D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E9754-0A4A-4E46-82ED-4720F206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02D51-1F41-46E8-A232-34E8B8B7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F792B-9C1B-4780-A374-6E6C107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392CF-CDE2-4BF2-B241-56DF8C0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1D3D-5F16-4BC8-A6E1-18A295A7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C0FDB-497F-4487-A24B-ED34F63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EA911-734C-4C6E-B34C-C19AE874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12E-62E6-4EAF-81C8-D99EDEA6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6DC7C-260E-4497-85B6-A6527DFF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41BD7-CB35-4620-A83E-42A8E0B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56A48-90E3-4705-8706-A12132A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FE915-AC74-43E3-B9F5-3BA8B26E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6E160-B1EE-42E9-ABE0-41CDB0E6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BF614-0F09-498A-95B4-8E284B6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A2269-B6F8-4582-99A0-880CD27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772F2-F5D7-4FC5-B914-07148CD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BF0CE-84D4-4033-8624-6840491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7121-5444-4849-9C22-6208822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868-9A77-427F-8B62-3C3D7CAB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BB71-EE2B-4D3C-8F85-CB3D80E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D8B16-1B8E-4B66-ADE2-BA3761E4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762B1-A1FC-4460-990B-DC73955E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291F8-F4FF-489F-AF99-59A29B12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86525-742D-4ED6-A08A-81634368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D631-AD7F-46D2-82D4-C2F4963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7BD29-10CB-45C7-8C7B-490FE48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C953-7DF5-4063-86D1-78DD5662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7500F-018C-4E23-9DE4-5B5B916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91233-4C8E-4B09-B599-1E6EB4A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690-E44F-4950-9740-3F0D267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93754-8D0B-476A-8C27-27D974F3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E6BC9-774C-4CAE-97EF-E4C6F35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5BF71-E1AE-48B8-8138-A319437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4C8F0-BEA0-47D6-8F63-7FF71E3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74E35-6A18-424E-B80E-39F567F3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99618-281B-4E1B-BD01-A92D868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C2315-1F0A-4692-8CB9-60A25C9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C3151-3961-4736-A30C-557308B9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D635A-9CA0-4E86-B76E-65A36B8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8969B-E9A3-4381-9038-7ED86D22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E1F-2435-47CE-A097-799ABB0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8C11B-F2CD-4D7C-93A7-48AD707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F7C5F-D0CE-4F14-BB41-5AB26B5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F3600-AE92-4C20-89F9-F57286D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DD684-A2E5-4938-81B4-6BFEF59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AAC3C-23EB-4FC1-8BDD-8ED4258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04BEB-FD67-4D03-9AB3-7E543D5E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AE26D-D0D6-49B3-8550-60CD5418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F78E3-44BF-424C-8C72-BEF75D1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46B63-691F-4938-95A5-EFACF7F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67A23-3D19-4FAF-9BBC-08AE08E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825-4FCA-4B21-B2E0-0F7DA1D4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6BEA5-E810-4216-8926-9BB3855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67A51-13CD-4D2E-8CCE-B49C2C5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E8D3E-2D24-4AB9-B76C-CDF1D59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FEBF6-DF29-4DC4-A8E6-DC209A14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D4631-1E33-4F3D-ABC8-5B4DEC0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F24F4-83AD-40AF-BB8C-BF07A02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AB3D4-3E20-4B1A-BAFF-4D97054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67CB4-F2DD-412A-B5B2-6A655E25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F6AFE-A8BB-4959-9FC6-BD359365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ADF70-A3EE-43B4-B77A-7217B152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390-9435-4326-9B15-17367B13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30405-5BBD-449F-9C6A-2BFDADDB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62019-8F19-45D8-AA4F-3CB4EC81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139A7-CC5E-4F9E-9516-12CB14D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5F83D-14AF-4656-9C40-4BF4C5B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BFDBA-EB4E-4B27-90F9-DF138A78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2B6AE-2537-4F41-A28A-882FB94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89FE8D-59BD-4A56-9266-CEEE78D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4A1FC-B9C7-4C1C-8B25-A196EF3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A50E8-3681-4BF6-AF0E-2228E71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59ACA-BF91-4DEA-895A-D8B53A3E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646-1DEB-478E-9836-6D9EA72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64951-9E73-45F8-B0EB-CB2570FB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B0C1B-0B14-4626-ADDA-F443F51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72928-DDD6-409E-AEB4-44AE3D0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5DB3F-F77B-4940-BEB0-7C6A11CC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27FD7-A74A-402F-BE13-C47A8B20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1A4A3-4B99-4B65-AEA7-AD40961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5F5DD-2C91-4866-8DC1-571EECC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D89E2-6AA3-4957-85E2-5A1BC37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28A51-AFDF-474B-8F7B-8A5EF3B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D3438-7294-48DD-B916-9498A58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372-1739-47CF-87A1-1D9E9A7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2436-8EB2-4A82-8BC4-25DEEE8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93E8A-EA7D-46EA-8983-6CD08B6D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96BD5-AE82-4663-BAC0-62C970DB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51438-AE36-43D9-9D56-36F0B90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4BC1E-E292-4366-98B7-29E043F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A6067-3403-4F7E-8FE1-BB60944A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F97E3-52AC-49C3-8252-D1C96BB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2E8E4-5BE7-42CF-9801-4433865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4F44E-E65E-4D9B-AA4A-28E5CD1C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90D10-F7CB-4128-BB09-EA0E558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6962-F077-40FF-BF21-49EF2BE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84BC8-8A2E-4F99-BBFC-DCF2CC2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3F1C5-4852-4126-90A4-26CE04D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9DE77-1427-4CD6-BA94-5106406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ABF19-8238-48EC-BD55-C8E40D76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89A49-6FAD-4234-ABF6-F4B22D31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B4268-2DC1-43DB-94CF-AB66286C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5660E-AB6D-42BC-97E6-734AF3BD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22899-D39C-43FB-89AF-F59FA06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E3970-39F8-40B3-AEA6-21EA4A8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522B9-2DE4-4E6E-984E-88BC373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FFEF-6436-44A4-B791-F593AC8F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974A1-A6D3-4257-A468-0AC4CD6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C37BE-3AAF-4E4A-B4BA-1C94C4F4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1064B-AB05-41BA-9B21-B720DAE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726B2-ACA3-4797-8612-533CB584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33648-F2EF-4083-8127-D28E5F7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D96D5-6D09-4F65-AC2B-C743CF40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B28FB-E535-4411-B250-F0EA277B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1B97E-1A52-43B1-BCD0-DDFC12A0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BE0FBA-8321-4B70-8743-4C396E1F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6EBE77-2193-4F50-8C0A-BB1E47E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FEC-057D-407F-8856-67671A8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9E650-E061-494C-BAF4-FE86A401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0FF8A-158B-48A0-9580-E9E1A88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F07C3-BD72-4015-88A1-68A7FD3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E997C-1DC0-4FC0-9C7B-3912263A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674FF-A45F-452B-AF4B-DF03E4E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544C6-381D-4F7F-A8B2-0D51D70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40D24-75A7-4BB6-8CBF-97BB2611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45171-3115-4581-AE87-7F278F8B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EE83F-B1E4-48D0-BE3A-2260C7FF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8D50-7586-4AFA-B036-9F64965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CEBF-C65E-4285-B25D-C89E87D9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EEF-B66B-402F-B3B3-1F661B4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BB36-C24D-47D6-9B77-8E9ED4A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F275-278E-45D0-8B63-0A3C59C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E953-5372-43E9-8ECD-5F783239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1D1-6FBC-4CAD-BFF8-10B8180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60F3-8120-461D-A507-6CDA662F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0791-E81F-470D-8951-B499226A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1105-62DA-407F-9D56-D095D872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C8A3-4F48-4560-84C7-FF3CEF74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4145-8719-4C23-8172-B9F45B1B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61C4-0AFF-4035-958C-2DBB6C8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91C4-B841-42DB-9E3D-EC8AD33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D5B0-137C-4C3F-A617-959E1A4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7918-C917-472E-BA9B-5E2001C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B38B-5DC9-41A0-A56D-F2DE6996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2025-4616-4D74-8B1B-0FEC680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8E12-CD8D-491F-BEDD-43DC4CEF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186B-2E3F-4BEF-AD52-0EA74467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4BF2-F818-4317-9FD6-E73C1728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8645-D8AB-4C6F-ACC1-D66BA79D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6830-3BDE-4C10-8808-C594F3D6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3147-0653-411C-B5E4-C26D45FB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D776E-851F-4405-A0B2-56FFE08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60284-1210-4EA1-AAA5-1DE8C6B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B823-A2DD-4691-8EB2-03AAAB6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3B3C-0B29-4A33-914B-8F188D2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612D-1412-4C9A-82B6-A723667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2E53-0CAA-4433-AEF2-1743CE11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AA7C-7FA7-479F-A165-6BEDA18F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0B32-CE63-42DC-BF6F-58C83524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EF6A-6B82-4909-B321-98A33959D6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9FA-0C06-46A1-952E-C0329CA61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591-FB5B-4397-ADAA-644B528A16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CF7-EB6E-42C6-9381-99311EA7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4AD8-2F9E-49EF-B801-110E1B7C3A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205E-FD1A-4A2D-850F-7216711BD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47E-4AE2-4164-A0AD-EA86129170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428-A3B7-4351-8844-BE55059EA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84E-1EA8-4599-BB96-40FEEC4E9B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C696-5D41-49B1-8BCC-EF665F9F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27A1-1528-4537-9872-DB2362FDD1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595-D030-4AE1-8101-A9BCC8A09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16A1-D875-438C-B7A8-061B742F96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DEF-91F5-467F-A720-66244D986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63D2-7A73-4214-A22D-46FE02FA35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CB7-94A0-4B3F-8630-B88A1672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38FE-6BD8-41CF-B7B2-9D7FF6CB87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E647-DDA7-4086-82F1-E4FC2F46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37FD-8D3D-4F82-9C99-78CA8FCE78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0A01-9750-4722-A990-19FBACDA5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D6E-3D97-41AB-AAB7-2F8E8E858F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CFD-A23D-43ED-B775-9D4B98AAC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D2D9-0149-4BB8-BDE4-6E1757B2A4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D9E-596C-406D-B8AA-B16319DC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920-2C13-4F79-8498-3DE3394DB9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ADD-1491-40EF-B9ED-873EC842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F986-7870-4C80-AD7D-D2810497A2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4C6-6D43-4111-8CB3-2F7B3E6BA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7202-ED79-4B6A-A67D-50B1C7777C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303-CBCE-48E6-AB2D-37117A53C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E32-4CCB-4D22-AB76-33137A5422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28F-62C6-48CB-AD08-F4C41A4D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8467-380B-4AD9-9E68-1A546A4EDB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5FAC-42FB-4156-91E3-1B6005C7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AA6-B6F8-4636-B51E-C9483508AB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B8E9-4D84-4FC8-A2B1-FF3AAF68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4AC-B923-4559-992D-9E2A7CB4E2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40A-CE45-472C-9E88-A0DD09FE3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92A1-71A2-4332-906B-5A0B8112DA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CCD9-0B37-4534-A3B0-642F59F8D2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D88A-1392-4A91-A269-159E700BE1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46C-F348-46B8-8158-6FB5762A7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E05D-EBCB-49DC-9776-4A25038DB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3E6A-4DD3-48CA-88DB-7B70692AD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FDA-A757-4E4B-85B8-A38C495E45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38248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27480" y="1371600"/>
                <a:ext cx="212652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329640" y="1592280"/>
                <a:ext cx="2513520" cy="9136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327120" y="4408560"/>
              <a:ext cx="2512800" cy="91332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6016320" y="4191120"/>
              <a:ext cx="238932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1272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63E3-13D0-431F-8ABA-168539DA4B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8EA-AC0A-4ED9-B7F7-0F05C8F57A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3C8-F65C-4266-B6D3-AF8B30EBB0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499-115D-4269-987C-3D021DAB6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E688-79D5-4275-881B-9871367AD4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AC8-4DD9-4566-BD08-E273B0ECB7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8CC-69AA-40EB-A844-67B7A362B5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ABF-A1E8-4C6D-ACDD-90E5BACE6B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90B4-F362-4FF9-BC74-B41E1EFBD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3DF4-9D8D-40E5-B946-BA0DC52EB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Toshiba</cp:lastModifiedBy>
  <dcterms:modified xsi:type="dcterms:W3CDTF">2016-10-15T17:54:18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