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70FC-4FDF-4C3A-B023-E58D720B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2C8E-D7C9-4CA4-84C9-762C7CD0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419E-19FE-4112-AF12-D2CEE1CF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36E-E157-4C5B-8D4E-C7625A9C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7E3F-2DD3-4727-99AB-7A4F74F0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E116-8986-43C3-B8C1-E6F49E19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4969-7DFD-482D-8790-EAFCAC39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7D65-B101-4961-B26C-15381EEE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B6AF-C090-4160-AC23-FB3634DC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80EA-A4D8-4D1C-81C7-13CB3110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8689-6D64-43F5-ACE1-5740E829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34DC-8C83-46F1-8763-F816D4F1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12F3-47BB-4F2F-947D-B25E7FEF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D179-6879-4747-8F58-5D536E7F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E8DA-6251-46DA-98CA-63680411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D746-D85B-4038-A45A-57E1CFE1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E8BB-4254-4902-B5CB-1B993329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CC68E-D3EB-45F5-8D4F-68DD3876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1A41F-7141-4BC7-9005-83DC6B90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72E11-F16C-4AEC-8FF9-260896FE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2BCEF-A5EF-4449-B5AB-6B551FF4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1131F-D397-4638-B500-9B1E40C0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C1D0-D113-42BD-9E1B-F02C9007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E047D-8625-48A9-B4CF-DAE1A5AC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7A232-CBE5-4CF6-924C-7AE1F359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84EC3-D9DD-4AD2-A650-A9B07819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80881-B953-4BCE-B75F-0C0768D4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D06B0-E51E-4619-AB4A-2584F10F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F1A01-4CA1-4693-A631-62A66E2F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83699-E634-4E37-9FD7-A3BA4735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BB210-A913-4E26-8ADB-159051F4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4C4E4-F72C-4B25-ACA0-EF988B05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9CD48-2808-4282-9174-EC42A9A8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5977-C786-448F-8D41-615C6220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6061-1CC2-44F2-B00A-BA6CF20D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7D2D5-0F92-4D40-968F-35C8A133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244B3-B4DC-4C0F-9830-FB2DD5D0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98460-4ADB-41DC-BB24-64FEA34B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B32D0-0230-4D0A-9AE6-070EAD35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DF8BE-6E81-4E35-AF7B-E93AA6CB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44905-1884-48F4-8DE9-3BAA7281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BD077-60D8-476C-A062-55D0CEC0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1266D-9417-490D-A257-E59C2CC0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81869-868D-48E4-BE86-69624AC4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2AD-208F-46E5-BDF2-5C673994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BDA77-81DE-4355-B845-634B9EAB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D9590-8291-4211-AB3A-3EAC7089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C418F-14BC-4B61-A748-32F2E970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80F7C-8D1F-4320-94B3-19798B6B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4D446-46EE-460F-878B-1D6579AD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7FEAF-E4B1-4EBF-9517-42B0BE05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A56C4-29EE-4D02-BA49-6BE40482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B456D-7559-4990-BDCB-F87D3343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ECEDF-1FFE-4A73-B552-E35CA38E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80160-2FD3-4B24-80E7-C37F328B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BC19-5B69-42BA-A3B9-6F91CABD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462E3-1B03-45A3-A447-DEAAECC3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F297A-29B7-4E79-9DCB-A690A823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D39B4-06A9-49B0-94B2-CD0E30AC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5F0D3-905E-45B3-8E64-98D21E3E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A6327-5066-45BE-AB6D-42229AD6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6103B-4C11-476A-9069-266B6D77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2C6BE-20D0-4C88-863E-3D8740A7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63D0A-89F7-4D16-9E07-6A55B7B6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7EBE3-51B6-42D5-A798-C61DF16D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D3BF2-2FF9-48C3-96B8-65E1A79C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DD6-1529-4FF3-9CFA-85DF08D4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B5252-A030-49BE-A39D-239331B3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1818F-06AF-4AAD-A266-14E21619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FD93D-F74B-4F0C-8956-496B20BB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5226B-B69D-4D25-8233-20585DDE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890D0-4F10-481B-B2D3-321B280F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8152D-CB30-4E8A-9D90-00F72DBD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FD1A9-CCFC-4A95-B5F3-34D64031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6270F-21D3-46BC-9EDB-5997F41C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9ED6D-FC64-45B4-BF9F-84FB25E0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8D1B2-BEA5-4C63-B258-F868908E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38F3-C762-4722-8CF1-5F852F5B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4DDAF-9DA3-4D8F-BB29-CB53FAD3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1C8B9-6892-4D86-8FED-3EEE11C7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4D1B2-ABE7-455D-AA37-8CA66441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FFF29-4B67-44DB-973B-9DB80320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6ED99-1B8A-4D23-BB0C-A78F9C2F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AB73-70A6-4C9B-877E-7242C0FA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21880" y="75960"/>
            <a:ext cx="75438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63720"/>
            <a:ext cx="7543800" cy="71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5DC4-0E7A-491B-B874-877A03E791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EDAF-D975-4E1B-A9EC-60408F984B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66DA-51A2-4656-B956-E87B17E62A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CFCB-B656-4961-AC22-FBC99CE2A7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a3b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3b400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EB38-8FD5-4FD5-9C1F-DD4C24D95212}" type="slidenum">
              <a:rPr b="0" lang="en-US" sz="1000" spc="-1" strike="noStrike">
                <a:solidFill>
                  <a:srgbClr val="a3b4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AB63-2985-49B9-B8B9-DE9B9B2A17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REATED BY DR.NAJLA ALNABHAN EDITED BY MAYSOON ALDUWA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992C-7023-402C-88DB-165A18532D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a3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1880" y="75960"/>
            <a:ext cx="754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a3b4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CCF9-8545-4E08-BCCE-4CD56EBDFC5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مستطيل 3"/>
          <p:cNvSpPr/>
          <p:nvPr/>
        </p:nvSpPr>
        <p:spPr>
          <a:xfrm>
            <a:off x="0" y="255096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Bold Italic Art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&amp; LINUX Opera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مربع نص 1"/>
          <p:cNvSpPr/>
          <p:nvPr/>
        </p:nvSpPr>
        <p:spPr>
          <a:xfrm>
            <a:off x="380880" y="54864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b400"/>
                </a:solidFill>
                <a:latin typeface="Arial"/>
              </a:rPr>
              <a:t>By:  Adal ALash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مستطيل 2"/>
          <p:cNvSpPr/>
          <p:nvPr/>
        </p:nvSpPr>
        <p:spPr>
          <a:xfrm>
            <a:off x="3071160" y="4038480"/>
            <a:ext cx="30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ndara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  <a:ea typeface="Arial"/>
              </a:rPr>
              <a:t> semester 1437-14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5DD6-9BF1-47B0-B8C7-EAAE5D9F2F0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IX Operating Syste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مستطيل 1"/>
          <p:cNvSpPr/>
          <p:nvPr/>
        </p:nvSpPr>
        <p:spPr>
          <a:xfrm>
            <a:off x="533520" y="1476360"/>
            <a:ext cx="815328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few popular na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 Sol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 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E2A1-0EB7-4C75-B881-24032D717A6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nux Distribution (Operating System)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مستطيل 1"/>
          <p:cNvSpPr/>
          <p:nvPr/>
        </p:nvSpPr>
        <p:spPr>
          <a:xfrm>
            <a:off x="533520" y="1476360"/>
            <a:ext cx="815328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few popular na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hat Enterprise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ora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an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e Enterprise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buntu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357E-2B54-4633-BF82-DCA5403037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Things between Linux &amp;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مستطيل 1"/>
          <p:cNvSpPr/>
          <p:nvPr/>
        </p:nvSpPr>
        <p:spPr>
          <a:xfrm>
            <a:off x="533520" y="1476360"/>
            <a:ext cx="815328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oth share many common applications such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, file, and windows managers (KDE, Gnom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lls (ksh, csh, bas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office applications such as OpenOffice.o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tools (perl, php, python, GNU c/c++ compile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x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A798-7598-4EDA-A291-28C0C0AC378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مستطيل 3"/>
          <p:cNvSpPr/>
          <p:nvPr/>
        </p:nvSpPr>
        <p:spPr>
          <a:xfrm>
            <a:off x="-324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ample UNIX Desktop Screens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UNIX Desktop - IRIX 6.5 Desktop"/>
          <p:cNvPicPr/>
          <p:nvPr/>
        </p:nvPicPr>
        <p:blipFill>
          <a:blip r:embed="rId1"/>
          <a:stretch/>
        </p:blipFill>
        <p:spPr>
          <a:xfrm>
            <a:off x="914400" y="1295280"/>
            <a:ext cx="74199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5341-54D8-4305-A18C-2ABC6766129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مستطيل 3"/>
          <p:cNvSpPr/>
          <p:nvPr/>
        </p:nvSpPr>
        <p:spPr>
          <a:xfrm>
            <a:off x="-324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ample Linux Desktop Screens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Linux KDE desktop environment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F504-0EC6-483C-94DF-211D39CC18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مستطيل 1"/>
          <p:cNvSpPr/>
          <p:nvPr/>
        </p:nvSpPr>
        <p:spPr>
          <a:xfrm>
            <a:off x="533520" y="147636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terms of quality, performance and feature set, there's little to separate Linux from the other UNIX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ux has yet to provide genuine real-time schedu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which some other UNIX versions do w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C3B1-4984-47D3-B6C6-73B795E7C57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مستطيل 3"/>
          <p:cNvSpPr/>
          <p:nvPr/>
        </p:nvSpPr>
        <p:spPr>
          <a:xfrm>
            <a:off x="0" y="2550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Bold Italic Art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3F73-D323-45CC-ABE7-56DD3520CB8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 is a UNIX C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مستطيل 1"/>
          <p:cNvSpPr/>
          <p:nvPr/>
        </p:nvSpPr>
        <p:spPr>
          <a:xfrm>
            <a:off x="674640" y="14479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inux is a Unix clone written from scratch by Linus Torvalds with assistance from a loosely-knit team of hackers across the Ne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 aims towards POSIX compl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wever, “Open Group” do not approve of the construction “Unix-lik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consider it misuse of their UNIX tradema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6611-A1F1-40F0-AD69-BB5A9185B67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 is Just a Ker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مستطيل 1"/>
          <p:cNvSpPr/>
          <p:nvPr/>
        </p:nvSpPr>
        <p:spPr>
          <a:xfrm>
            <a:off x="609480" y="1522440"/>
            <a:ext cx="81536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ux is just a kern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All Linux distributio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ludes GUI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NU util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such as cp, mv, ls,date, bash etc) +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tallation &amp; management t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NU c/c++ Compil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ditors (v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rious applica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uch as OpenOffice, Firefox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However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st UNIX operating systems are considered as a complete operating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everything come from a single source or ven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89D6-EA6A-4AF7-BDCF-829D60BFDA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مستطيل 3"/>
          <p:cNvSpPr/>
          <p:nvPr/>
        </p:nvSpPr>
        <p:spPr>
          <a:xfrm>
            <a:off x="-3240" y="406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se and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مستطيل 1"/>
          <p:cNvSpPr/>
          <p:nvPr/>
        </p:nvSpPr>
        <p:spPr>
          <a:xfrm>
            <a:off x="457200" y="1371600"/>
            <a:ext cx="81532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ux is 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You can download it from the Internet or redistribute it under GNU licen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st UNIX like operating systems are not 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but this is changing fast, for example OpenSolaris UNIX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However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e Linux distributions such as Redhat / Novell provides additional Linux support, consultancy, bug fixing, and training for additional f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423F-0067-44CA-A848-AC3F33F0BF1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-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مستطيل 1"/>
          <p:cNvSpPr/>
          <p:nvPr/>
        </p:nvSpPr>
        <p:spPr>
          <a:xfrm>
            <a:off x="674640" y="137160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Linux is considered as most user friendly UNIX like operating systems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 It makes it </a:t>
            </a:r>
            <a:r>
              <a:rPr b="0" lang="en-US" sz="20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easy to install sound card, flash players, and other desktop goodies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 However, </a:t>
            </a:r>
            <a:r>
              <a:rPr b="0" lang="en-US" sz="20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Apple OS X is most popular UNIX operating system for desktop u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2CBE-B60C-4CB1-A246-49B31C1829C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Firewall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مستطيل 1"/>
          <p:cNvSpPr/>
          <p:nvPr/>
        </p:nvSpPr>
        <p:spPr>
          <a:xfrm>
            <a:off x="380880" y="13716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ux comes with open sou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a3b400"/>
                </a:solidFill>
                <a:latin typeface="Arial"/>
                <a:ea typeface="Arial"/>
              </a:rPr>
              <a:t>netfilter/iptables based firewall t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 protect your server and desk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crackers and hack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IX operating systems comes wi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a3b400"/>
                </a:solidFill>
                <a:latin typeface="Arial"/>
                <a:ea typeface="Arial"/>
              </a:rPr>
              <a:t>its own firewall pro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2B37-0A98-43DD-B836-A3CBFF182C6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up and Recovery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مستطيل 1"/>
          <p:cNvSpPr/>
          <p:nvPr/>
        </p:nvSpPr>
        <p:spPr>
          <a:xfrm>
            <a:off x="533520" y="1476360"/>
            <a:ext cx="81532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X and Linux comes wit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fferent set of tools for backing up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tape and other backup med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ever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oth of them share some common tools such as tar, dump/restore, and cpio et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0524-9794-43BD-BAB8-E1579150A3F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l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مستطيل 1"/>
          <p:cNvSpPr/>
          <p:nvPr/>
        </p:nvSpPr>
        <p:spPr>
          <a:xfrm>
            <a:off x="533520" y="147636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ux by default sup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use ext3 or ext4 file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IX comes with various file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jfs, gpfs (AIX), jfs, gpfs (HP-UX), jfs, gpfs (Solar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عنصر نائب لرقم الشريحة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0BEB-7559-403A-89AF-77815D73FE8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مستطيل 3"/>
          <p:cNvSpPr/>
          <p:nvPr/>
        </p:nvSpPr>
        <p:spPr>
          <a:xfrm>
            <a:off x="-324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stem Administr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مستطيل 1"/>
          <p:cNvSpPr/>
          <p:nvPr/>
        </p:nvSpPr>
        <p:spPr>
          <a:xfrm>
            <a:off x="533520" y="147636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IX comes with its own t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SAM on HP-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se Linux comes with Y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dhat Linux comes with its own gui t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alled </a:t>
            </a:r>
            <a:r>
              <a:rPr b="1" lang="en-US" sz="1800" spc="-1" strike="noStrike">
                <a:solidFill>
                  <a:srgbClr val="a3b400"/>
                </a:solidFill>
                <a:latin typeface="Arial"/>
                <a:ea typeface="Arial"/>
              </a:rPr>
              <a:t>redhat-config-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818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ever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diting text config file and typing commands are most popular options for sys admin work under UNIX and Linu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8:36:04Z</dcterms:created>
  <dc:creator>Bruhadeshwar Bezawada</dc:creator>
  <dc:description/>
  <dc:language>en-US</dc:language>
  <cp:lastModifiedBy>maram</cp:lastModifiedBy>
  <dcterms:modified xsi:type="dcterms:W3CDTF">2017-04-15T18:55:10Z</dcterms:modified>
  <cp:revision>171</cp:revision>
  <dc:subject/>
  <dc:title>Computer Networks</dc:title>
</cp:coreProperties>
</file>