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8118-E622-44B8-A68D-16891632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6242-AE22-4313-9242-438D341F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3B18-922F-4D6C-B716-95161FD9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DCAF-E94D-48A1-ACC2-4D855704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4500-93C5-432B-B598-CEFA3DC6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112C-AB6C-48E8-A85E-98C85ECB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E602-A269-41B0-B3C5-FBFA0407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50BA-84AD-4E14-AEE9-F23D23A8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C8CD-B18B-4357-83BE-9E29B3DE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D14B-356E-4BDE-BC36-B89E0335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3030-DB7D-4444-B87D-39D4EFB8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3557-9E0C-491F-A592-368AD89C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7A95-5152-4267-AD71-0439CF52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4E5F-C9E6-4E46-8687-92521BBD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2697-6A8A-45B9-B3D4-B2F6E5D8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5AEC-BDFD-4EA7-85A1-21B2F09E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1555-DB0E-4179-AFE5-0A334C8C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4D132-E1E7-4127-ADD5-855F6A1C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1F9EE-7992-4F8A-B29D-1976A6B9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7358E-0AC3-4D38-97CF-379DDF54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F9003-81CD-4B29-A3BC-EF3E5604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0AAA5-DE05-4D89-88B9-DEE4A3D6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493C-25CE-4D13-916F-61A1BE81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F5886-5DEE-4D0C-B661-144DDE2B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B4669-2E2B-4954-B3B3-30EBCBC3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B5768-15DD-437E-9384-3BBCE6AD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781D7-8630-4DF4-BD81-FD2AA758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4625F-F668-49E2-BBC0-4E0E04BF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AE297-C106-4A9A-A663-D00A1E97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24347-305B-4229-B6B6-53E11A71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2F031-5782-4283-9B4B-B42A843D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A3C5D-5B59-4638-ACF4-B3DDA896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7C194-0F9C-4342-8AD7-27DEBA45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6F38-1A48-4C68-8651-817FE746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0190A-4440-407F-8004-CEB69CFB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5EE0F-742B-499F-A164-2F18A80F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C01D0-0145-435D-89EA-A2160278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3D408-CF16-4AB5-9BBA-025C4B1A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8878B-46C9-44A0-BB09-60E19D4A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C9DEA-8BEF-4C63-BF25-8C29A1D9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A781E-3A02-42EC-8A93-073265D0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4268A-0F9F-469F-B5A5-C7B865D7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43D54-5880-4DB1-95DD-CAC8000F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91892-97F8-4710-ABEE-7507E747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CCF6-C271-49F8-A1DA-1D3ACD66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7CF02-8FF8-41FF-A226-B47B07C0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08C53-074D-4459-9994-4CE36DE0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62162-FF5C-4CD2-84DA-B706A185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18DD2-1085-46B1-A7E2-6FB731E1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D2070-FB30-4591-B8B4-6FD011B4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752B2-E7EA-46FE-8D2F-DD140AB7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F9A98-E7D3-4964-B549-1A31E0BD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7736F-0E16-4B24-B27A-1F957B27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3B584-5335-4AB7-B4DA-A25AEFA9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A9348-BC38-49A7-8DD4-CF0E66BE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0F3B-4C3D-4034-8CD9-E28786DF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CECFD-F18C-4C6B-BA50-F849DF83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B45E8-885F-44D5-B2D6-22A7D860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51A07-1400-4EB0-8355-51A3C2C8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64B18-76BD-48D8-8BA1-C525BD41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07B72-23CD-4C1B-8728-823DBC40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3EDB7-8064-4654-939E-57B9BD1E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33F65-F78C-48EA-89E0-67FC8D73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5AEAF-E3BA-4408-8294-560D10FA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9C3CB-8585-4ACD-AA6A-B3F0153D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94914-75E6-4562-9788-7F36C75B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C46D-6359-4789-883E-25871FD9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3E974-D2E2-40AB-AC92-B13EE9B1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B0950-B70D-4318-9292-E1FA447F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AB774-E7F4-45FB-83F0-0022A125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1FBB0-9DEC-4B97-941C-E564F9AC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41FCE-9EBC-46CD-871F-C51A353B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63B5E-7700-4CBF-8A8F-A5081BAB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3514E-57E0-4A2D-8B27-DFC75C9E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CB5A4-CA1A-48A7-B059-6B165471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2EF81-C166-44F9-8F7C-F8528A0E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FE5EA-EFD6-4835-926B-2162637C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C6F1-BDE2-4313-AB82-5E9A107A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5B548-0E5A-4F64-921C-504290AF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E4587-D47A-41D5-97CC-AB58639D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C78F3-EECD-4311-B8F0-0730857B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2B769-35A7-494F-8CDD-24A0553A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BECDB-28B2-48B4-A3B3-57FE2C09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21A2-E360-4606-AC3D-B4A5FCB5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8248-7CCE-403B-9E15-937B84DDE7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CF4C-F300-4E13-B5CF-A6899D54B0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65AE-A77A-463D-BD5B-11C415EF16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EE54-57E4-4D30-9B3C-D2CE603545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a3b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a3b400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D97C-F036-4D61-9EDB-EFD39A866355}" type="slidenum">
              <a:rPr b="0" lang="en-US" sz="1000" spc="-1" strike="noStrike">
                <a:solidFill>
                  <a:srgbClr val="a3b4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CE61-4FD5-49D9-AA7F-526608E6C3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7543-935B-46EF-8647-E21983F166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43B6-9281-457F-80F7-E38C796C8DE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مستطيل 3"/>
          <p:cNvSpPr/>
          <p:nvPr/>
        </p:nvSpPr>
        <p:spPr>
          <a:xfrm>
            <a:off x="0" y="2550960"/>
            <a:ext cx="9144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Bold Italic Art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&amp; LINUX Opera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مربع نص 1"/>
          <p:cNvSpPr/>
          <p:nvPr/>
        </p:nvSpPr>
        <p:spPr>
          <a:xfrm>
            <a:off x="380880" y="54864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b400"/>
                </a:solidFill>
                <a:latin typeface="Arial"/>
              </a:rPr>
              <a:t>By:  Adal ALash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مستطيل 2"/>
          <p:cNvSpPr/>
          <p:nvPr/>
        </p:nvSpPr>
        <p:spPr>
          <a:xfrm>
            <a:off x="3071160" y="4038480"/>
            <a:ext cx="30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ndara"/>
                <a:ea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Arial"/>
              </a:rPr>
              <a:t> semester 1437-14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441D-4CA4-4A66-AA76-86B9BD5BDE0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IX Operating System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مستطيل 1"/>
          <p:cNvSpPr/>
          <p:nvPr/>
        </p:nvSpPr>
        <p:spPr>
          <a:xfrm>
            <a:off x="533520" y="1476360"/>
            <a:ext cx="815328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few popular na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 Sol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 OS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2B58-6548-4117-AFFF-364C6D13FFD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nux Distribution (Operating System)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مستطيل 1"/>
          <p:cNvSpPr/>
          <p:nvPr/>
        </p:nvSpPr>
        <p:spPr>
          <a:xfrm>
            <a:off x="533520" y="1476360"/>
            <a:ext cx="815328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few popular na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hat Enterprise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ora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an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e Enterprise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buntu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FA64-0288-4377-886F-C13975C8313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Things between Linux &amp;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مستطيل 1"/>
          <p:cNvSpPr/>
          <p:nvPr/>
        </p:nvSpPr>
        <p:spPr>
          <a:xfrm>
            <a:off x="533520" y="1476360"/>
            <a:ext cx="815328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oth share many common applications such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, file, and windows managers (KDE, Gnom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lls (ksh, csh, bas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office applications such as OpenOffice.or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tools (perl, php, python, GNU c/c++ compiler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x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AC8F-418A-4638-A055-2194033EE5A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مستطيل 3"/>
          <p:cNvSpPr/>
          <p:nvPr/>
        </p:nvSpPr>
        <p:spPr>
          <a:xfrm>
            <a:off x="-324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ample UNIX Desktop Screens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UNIX Desktop - IRIX 6.5 Desktop"/>
          <p:cNvPicPr/>
          <p:nvPr/>
        </p:nvPicPr>
        <p:blipFill>
          <a:blip r:embed="rId1"/>
          <a:stretch/>
        </p:blipFill>
        <p:spPr>
          <a:xfrm>
            <a:off x="914400" y="1295280"/>
            <a:ext cx="74199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3226-1AEF-449A-9D09-8D07ECF6E07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مستطيل 3"/>
          <p:cNvSpPr/>
          <p:nvPr/>
        </p:nvSpPr>
        <p:spPr>
          <a:xfrm>
            <a:off x="-324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ample Linux Desktop Screens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Linux KDE desktop environment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1479-9789-43CD-BD88-B7FF4D71014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مستطيل 1"/>
          <p:cNvSpPr/>
          <p:nvPr/>
        </p:nvSpPr>
        <p:spPr>
          <a:xfrm>
            <a:off x="533520" y="147636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 terms of quality, performance and feature set, there's little to separate Linux from the other UNIX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ux has yet to provide genuine real-time schedu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which some other UNIX versions do w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19DD-2274-4CC9-878F-BA0283704E2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مستطيل 3"/>
          <p:cNvSpPr/>
          <p:nvPr/>
        </p:nvSpPr>
        <p:spPr>
          <a:xfrm>
            <a:off x="0" y="25509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Bold Italic Art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A90D-DA03-4658-A9FB-63FD7B8E22B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ux is a UNIX C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مستطيل 1"/>
          <p:cNvSpPr/>
          <p:nvPr/>
        </p:nvSpPr>
        <p:spPr>
          <a:xfrm>
            <a:off x="674640" y="144792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inux is a Unix clone written from scratch by Linus Torvalds with assistance from a loosely-knit team of hackers across the Ne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t aims towards POSIX compli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owever, “Open Group” do not approve of the construction “Unix-like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consider it misuse of their UNIX tradema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7E6F-A36A-46A9-B6F6-64FDB091CC9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ux is Just a Ker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مستطيل 1"/>
          <p:cNvSpPr/>
          <p:nvPr/>
        </p:nvSpPr>
        <p:spPr>
          <a:xfrm>
            <a:off x="609480" y="1522440"/>
            <a:ext cx="81536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ux is just a kern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All Linux distribution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ludes GUI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NU util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such as cp, mv, ls,date, bash etc) +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stallation &amp; management to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NU c/c++ Compil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ditors (v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rious applica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uch as OpenOffice, Firefox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However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st UNIX operating systems are considered as a complete operating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s everything come from a single source or ven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63C7-B91F-493A-905B-7929951788D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مستطيل 3"/>
          <p:cNvSpPr/>
          <p:nvPr/>
        </p:nvSpPr>
        <p:spPr>
          <a:xfrm>
            <a:off x="-3240" y="4064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ense and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مستطيل 1"/>
          <p:cNvSpPr/>
          <p:nvPr/>
        </p:nvSpPr>
        <p:spPr>
          <a:xfrm>
            <a:off x="457200" y="1371600"/>
            <a:ext cx="81532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ux is 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You can download it from the Internet or redistribute it under GNU licen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st UNIX like operating systems are not 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but this is changing fast, for example OpenSolaris UNIX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However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me Linux distributions such as Redhat / Novell provides additional Linux support, consultancy, bug fixing, and training for additional f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2149-5098-4E6A-B13D-F4A8F759A4A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-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مستطيل 1"/>
          <p:cNvSpPr/>
          <p:nvPr/>
        </p:nvSpPr>
        <p:spPr>
          <a:xfrm>
            <a:off x="674640" y="137160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Linux is considered as most user friendly UNIX like operating systems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 It makes it </a:t>
            </a:r>
            <a:r>
              <a:rPr b="0" lang="en-US" sz="20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easy to install sound card, flash players, and other desktop goodies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 However, </a:t>
            </a:r>
            <a:r>
              <a:rPr b="0" lang="en-US" sz="20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Apple OS X is most popular UNIX operating system for desktop u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CECE-DD98-4F14-AE41-B89EA40FD27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Firewall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مستطيل 1"/>
          <p:cNvSpPr/>
          <p:nvPr/>
        </p:nvSpPr>
        <p:spPr>
          <a:xfrm>
            <a:off x="380880" y="13716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ux comes with open sou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a3b400"/>
                </a:solidFill>
                <a:latin typeface="Arial"/>
                <a:ea typeface="Arial"/>
              </a:rPr>
              <a:t>netfilter/iptables based firewall t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o protect your server and desk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the crackers and hack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IX operating systems comes 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a3b400"/>
                </a:solidFill>
                <a:latin typeface="Arial"/>
                <a:ea typeface="Arial"/>
              </a:rPr>
              <a:t>its own firewall prod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3527-65BF-4185-8F7F-B469F59229B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up and Recovery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مستطيل 1"/>
          <p:cNvSpPr/>
          <p:nvPr/>
        </p:nvSpPr>
        <p:spPr>
          <a:xfrm>
            <a:off x="533520" y="1476360"/>
            <a:ext cx="81532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X and Linux comes wit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fferent set of tools for backing up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tape and other backup med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wever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oth of them share some common tools such as tar, dump/restore, and cpio et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F142-71F7-483B-B382-05E6B63C70F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l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مستطيل 1"/>
          <p:cNvSpPr/>
          <p:nvPr/>
        </p:nvSpPr>
        <p:spPr>
          <a:xfrm>
            <a:off x="533520" y="147636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ux by default suppo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use ext3 or ext4 file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IX comes with various file syst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uch as jfs, gpfs (AIX), jfs, gpfs (HP-UX), jfs, gpfs (Solar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FDAC-9517-432A-9196-AC96E4E0EB6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ystem Administr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مستطيل 1"/>
          <p:cNvSpPr/>
          <p:nvPr/>
        </p:nvSpPr>
        <p:spPr>
          <a:xfrm>
            <a:off x="533520" y="1476360"/>
            <a:ext cx="815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IX comes with its own to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uch as SAM on HP-U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se Linux comes with Ya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dhat Linux comes with its own gui to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alled </a:t>
            </a:r>
            <a:r>
              <a:rPr b="1" lang="en-US" sz="1800" spc="-1" strike="noStrike">
                <a:solidFill>
                  <a:srgbClr val="a3b400"/>
                </a:solidFill>
                <a:latin typeface="Arial"/>
                <a:ea typeface="Arial"/>
              </a:rPr>
              <a:t>redhat-config-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wever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diting text config file and typing commands are most popular options for sys admin work under UNIX and Linu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8:36:04Z</dcterms:created>
  <dc:creator>Bruhadeshwar Bezawada</dc:creator>
  <dc:description/>
  <dc:language>en-US</dc:language>
  <cp:lastModifiedBy>maram</cp:lastModifiedBy>
  <dcterms:modified xsi:type="dcterms:W3CDTF">2017-04-15T18:55:10Z</dcterms:modified>
  <cp:revision>171</cp:revision>
  <dc:subject/>
  <dc:title>Computer Networks</dc:title>
</cp:coreProperties>
</file>