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3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4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E58B-5ED7-400D-8413-D64D9FD259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2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86FD-0718-4021-B57A-D6F44CBC5A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F7B-EB18-43C4-9B95-1409C634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C028-D514-426F-8044-1A9F49DF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5735-B7CB-4177-8E44-D3A28B89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261A-EBB3-478B-91EB-938FE00B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1BF9-D400-4784-A962-943D81BE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36AB-57B4-4560-A400-878DBE69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C2C5-0A55-4FF9-AF23-22338F0C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8AA2-B3C7-4C93-B550-65D79EA2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C062-914C-482E-AC21-9543E5BF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7C71-C8F1-4AD1-8E0F-D46926B9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C4EC-01E7-4115-91AE-9168C88A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FF6-3E55-4321-ACD2-B1360CA4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B8D5-2E7A-44CC-A9BC-39BF34B9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1074-7B83-4BC8-9E2A-57C77EA0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EF38-4664-49C1-B16E-D5D73D4E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EE59-75A8-4419-9BAA-4644B4AA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7400-9EA5-47FF-9D83-79E3C289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54C0F-9E82-4EB2-8CF4-38BD1C1B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01DA8-5A58-4CEA-ABD2-BB24740E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9D57A-6E1A-4790-A659-6C18B527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95FE7-A19C-428E-8E6B-749BFCF3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CCB33-2E2C-43AF-846D-F925091C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09F-D695-4B7B-8DDF-1D4B6DB7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BF915-CF35-486D-978C-3B39129A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38EFF-073B-43B3-92DE-587ACC10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09B52-62E0-4950-989F-23480B71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DFDC0-5091-45F2-BF28-67D2CC5C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7ED62-F214-4C37-8DC4-DC9C3895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EB6D3-0491-4735-93B4-6FC00B7D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7F612-1577-4CDF-849A-E37F691F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372F9-6608-4FEB-9F71-6F4510BB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93DDA-947C-4777-A31F-11C29970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80AC7-0512-41C7-A1AA-53CBCF6D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138-67FA-4177-A2D8-E01FB1DE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AC062-AF07-401F-B327-2C1F113F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DB153-6F52-41B7-9F4F-D842BDF2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46424-0084-44E5-9D56-5BC92C11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76C33-0787-4741-BF6A-D03B50AE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06B75-A406-4A3B-B019-5E84A3D3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6DFF8-4257-4337-BFCD-D7D82550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11C79-B687-4317-925B-EBF73877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BE94B-0CB4-405B-BE15-51838FE8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8FECE-1632-4EF6-A944-F47FE5EF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B963D-EB38-4BC6-9BCC-2A1D345F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9D5-A33A-4835-9D6B-0A672357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9C376-84B5-4349-A626-F54546EA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14F7E-E2AA-45AE-ADF2-5F13510F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1EC02-44BE-4EC0-86C0-F9D5916A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F6FBA-13E7-4316-A40D-015752AA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94B22-658D-403F-91C8-38F575EF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1FADB-D175-443D-8C6B-05D6FBE7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A798B-0119-4BC9-ABFC-E7471ECA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FD915-A10F-4C72-922B-3EA7176A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A2726-8CDD-4DD7-B4C9-3F4D123F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7CAE1-2B17-443A-9053-1BE3734A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9D38-F394-446C-B81C-803B61C3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D3811-FF0C-419B-B552-232CD851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81ED2-FEBE-4716-9985-3E1A469E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65271-F167-402E-BA0F-7D913512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70179-CE6D-45F8-9D31-4653E515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47F18-334D-4E48-8163-D86F1642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30233-823B-401B-983A-C24D82F9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442F5-9A97-4B86-9D47-151F73A8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617B2-7897-43C9-8F46-F4E4765B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5B073-27CF-466E-A63C-9D287B1E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85A8A-A9D1-41D4-9A2D-382ACD64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9CC5-C77D-4041-881B-B3997626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E8F7A-9753-48E9-964F-AA40AAEB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4327D-DCF0-4DCF-A4DF-43048545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A4946-42A7-46CD-9192-F56DC85F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3EE2D-A7A7-4A4E-9B42-16BF57D2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EC8B8-F43D-40FE-922B-16E28745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2BBC0-E267-40FB-B15C-A2BD98A0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84EB7-DF55-4C1B-9CBA-E6167DD6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92699-6C62-498A-A198-C250D89F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8D9C8-CC24-47BE-A21E-F304C038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9DA1A-67F9-4589-A835-3A8A138B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1F1-A19B-435D-93D5-24473BB8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76EA4-270A-4043-B7E4-51338091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375F1-7970-48A1-8CED-6B4FF407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53103-7007-4222-8906-7D0D03FA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E60F8-E61F-46A4-8961-7A98F391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56EC7-21FE-4DD9-85C6-010B3029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D38-261B-49A7-9AB1-918356F3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314F-E063-49C7-93B4-6A5219259B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9A18-6D67-4FE5-88E5-3A2377EB66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78CF-EF60-4048-928D-E7D1FD9DDC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44F7-BBED-4845-89A9-2C6A4DC7C6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23a0a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3a0ad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3a0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1ACC-3BAB-4E61-AC56-1B33E2991B31}" type="slidenum">
              <a:rPr b="0" lang="en-US" sz="1000" spc="-1" strike="noStrike">
                <a:solidFill>
                  <a:srgbClr val="23a0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30B4-11DD-4587-A4F0-B308459439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577A-0E20-4F9F-88D2-ACAE80B61B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AA39-EC6C-46DE-B3A6-6549752370F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مستطيل 3"/>
          <p:cNvSpPr/>
          <p:nvPr/>
        </p:nvSpPr>
        <p:spPr>
          <a:xfrm>
            <a:off x="0" y="255096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Bold Italic Art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/IP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مربع نص 1"/>
          <p:cNvSpPr/>
          <p:nvPr/>
        </p:nvSpPr>
        <p:spPr>
          <a:xfrm>
            <a:off x="380880" y="54864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a0ad"/>
                </a:solidFill>
                <a:latin typeface="Arial"/>
              </a:rPr>
              <a:t>By:  Adal ALash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مستطيل 2"/>
          <p:cNvSpPr/>
          <p:nvPr/>
        </p:nvSpPr>
        <p:spPr>
          <a:xfrm>
            <a:off x="3071160" y="4038480"/>
            <a:ext cx="30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ndara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 semester 1437-14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05C4-DC6E-4AA5-BE7A-8080727AEE2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Transport Layer (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مستطيل 1"/>
          <p:cNvSpPr/>
          <p:nvPr/>
        </p:nvSpPr>
        <p:spPr>
          <a:xfrm>
            <a:off x="380880" y="13716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iable delivery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dering of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BA0A-0F73-4A3B-BDA9-C0B5A0AC048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 Application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مستطيل 1"/>
          <p:cNvSpPr/>
          <p:nvPr/>
        </p:nvSpPr>
        <p:spPr>
          <a:xfrm>
            <a:off x="380880" y="13716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user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.g. http, S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9A40-D6D9-4D28-B85F-66693F19BF8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I v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rcRect l="0" t="0" r="0" b="11552"/>
          <a:stretch/>
        </p:blipFill>
        <p:spPr>
          <a:xfrm>
            <a:off x="990720" y="1219320"/>
            <a:ext cx="7250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6D4C-A76D-4B89-A7DE-F586DB12469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ressing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مستطيل 1"/>
          <p:cNvSpPr/>
          <p:nvPr/>
        </p:nvSpPr>
        <p:spPr>
          <a:xfrm>
            <a:off x="533520" y="147636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in architecture at which entity is na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address for each end system (computer) and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 Network level 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or internet address (TCP/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ervice access point or NSAP (O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with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number (TCP/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access point or SAP (O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BF66-CBD7-4719-B7FE-35447FB3237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Protocols in TCP/IP Su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30556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4111-594A-456C-82A9-8D209C50E44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stnames and DNS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مستطيل 1"/>
          <p:cNvSpPr/>
          <p:nvPr/>
        </p:nvSpPr>
        <p:spPr>
          <a:xfrm>
            <a:off x="533520" y="1476360"/>
            <a:ext cx="81532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The “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” name of a computer on the internet is its four-byte IP add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, however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’t like to remember numbers, so we 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3a0ad"/>
                </a:solidFill>
                <a:latin typeface="Arial"/>
              </a:rPr>
              <a:t>hostnam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st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the hostna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cis.upenn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23a0ad"/>
                </a:solidFill>
                <a:latin typeface="Arial"/>
              </a:rPr>
              <a:t>158.130.12.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23a0ad"/>
                </a:solidFill>
                <a:latin typeface="Arial"/>
              </a:rPr>
              <a:t>DNS (Domain Name Serv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computer that translates hostnames into IP addr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of it 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ike a phone book--names to useful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urse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ou have to know the IP address of the DNS in order to use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usually ge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wo DNS numbers from your Internet Service Provider (IS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9D12-AAED-487B-82C7-2B770DF2F97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H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مستطيل 1"/>
          <p:cNvSpPr/>
          <p:nvPr/>
        </p:nvSpPr>
        <p:spPr>
          <a:xfrm>
            <a:off x="533520" y="1476360"/>
            <a:ext cx="815328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If you have a web sit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it must be hosted on a computer that is “permanently” on the We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mputer must have a permanent IP add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n’t enough IP addresses for the number of computers there are these d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f you have no permanent web site, you can be given a temporary (dynamically allocated) IP address each time you connect to the We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a0ad"/>
                </a:solidFill>
                <a:latin typeface="Arial"/>
              </a:rPr>
              <a:t>DHCP (Dynamic Host Configuration Protoco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y of assigning temporary IP addresse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EB18-F147-48A8-973D-9A47C35B77F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مستطيل 1"/>
          <p:cNvSpPr/>
          <p:nvPr/>
        </p:nvSpPr>
        <p:spPr>
          <a:xfrm>
            <a:off x="533520" y="105732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23a0ad"/>
                </a:solidFill>
                <a:latin typeface="Arial"/>
              </a:rPr>
              <a:t>URL, Uniform Resource Loca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fines a location on the We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URL has up to five par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s://ct1503.wordpress.com:80/about/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5" descr=""/>
          <p:cNvPicPr/>
          <p:nvPr/>
        </p:nvPicPr>
        <p:blipFill>
          <a:blip r:embed="rId1"/>
          <a:srcRect l="28111" t="48135" r="23936" b="15344"/>
          <a:stretch/>
        </p:blipFill>
        <p:spPr>
          <a:xfrm>
            <a:off x="762120" y="3200400"/>
            <a:ext cx="739116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D68A-5FE4-4049-ABBA-3093F25393B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مستطيل 1"/>
          <p:cNvSpPr/>
          <p:nvPr/>
        </p:nvSpPr>
        <p:spPr>
          <a:xfrm>
            <a:off x="533520" y="1057320"/>
            <a:ext cx="81532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a0ad"/>
                </a:solidFill>
                <a:latin typeface="Arial"/>
              </a:rPr>
              <a:t>T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core operating on a relativel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gh level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3a0ad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es a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lower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a0ad"/>
                </a:solidFill>
                <a:latin typeface="Arial"/>
              </a:rPr>
              <a:t>T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vides communication services at an intermediate level between an application program and the IP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3a0ad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capsulates all data, and is connectionl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8296-3215-47BD-A12A-DDDF9104E37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مستطيل 3"/>
          <p:cNvSpPr/>
          <p:nvPr/>
        </p:nvSpPr>
        <p:spPr>
          <a:xfrm>
            <a:off x="0" y="2550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Bold Italic Art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4ED5-0666-4B7F-BD1D-1F89789AEB6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مستطيل 1"/>
          <p:cNvSpPr/>
          <p:nvPr/>
        </p:nvSpPr>
        <p:spPr>
          <a:xfrm>
            <a:off x="674640" y="137160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1" lang="en-US" sz="2000" spc="-1" strike="noStrike">
                <a:solidFill>
                  <a:srgbClr val="23a0ad"/>
                </a:solidFill>
                <a:latin typeface="Arial"/>
              </a:rPr>
              <a:t>Socket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23a0ad"/>
                </a:solidFill>
                <a:latin typeface="Arial"/>
              </a:rPr>
              <a:t>por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ry low level software construct that allows computers to talk to one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hen you send information from one computer to another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send it to a port on the receiving comp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23a0ad"/>
                </a:solidFill>
                <a:latin typeface="Arial"/>
              </a:rPr>
              <a:t>Common port numb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80 (for web pages), 23 (for telnet) and 25 and 110 (for mai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numbers abov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024 are available for other kinds of communication between our pr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2773-1638-4230-82D7-0AADA48B8C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مستطيل 1"/>
          <p:cNvSpPr/>
          <p:nvPr/>
        </p:nvSpPr>
        <p:spPr>
          <a:xfrm>
            <a:off x="609480" y="1522440"/>
            <a:ext cx="815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 In or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r computers to communicate with one another, they must agree on a set of rules for who says what, when they s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and what format they say it in this set of rules is </a:t>
            </a:r>
            <a:r>
              <a:rPr b="1" lang="en-US" sz="1800" spc="-1" strike="noStrike">
                <a:solidFill>
                  <a:srgbClr val="23a0ad"/>
                </a:solidFill>
                <a:latin typeface="Arial"/>
                <a:ea typeface="Arial"/>
              </a:rPr>
              <a:t>a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fferent programs can use different protoc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rotocols may b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ASCII (characters) or in bin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e common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 (for web pages), FTP (for file transfer), and SMTP (Simple Mail Transfer Protoco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F8E8-B3FF-40A8-AA98-B8849E67796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مستطيل 3"/>
          <p:cNvSpPr/>
          <p:nvPr/>
        </p:nvSpPr>
        <p:spPr>
          <a:xfrm>
            <a:off x="-3240" y="406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مستطيل 1"/>
          <p:cNvSpPr/>
          <p:nvPr/>
        </p:nvSpPr>
        <p:spPr>
          <a:xfrm>
            <a:off x="431640" y="1219320"/>
            <a:ext cx="8153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he Internet (and most other computer networks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e connected through </a:t>
            </a:r>
            <a:r>
              <a:rPr b="1" lang="en-US" sz="1800" spc="-1" strike="noStrike">
                <a:solidFill>
                  <a:srgbClr val="23a0ad"/>
                </a:solidFill>
                <a:latin typeface="Arial"/>
                <a:ea typeface="Arial"/>
              </a:rPr>
              <a:t>TCP/IP netwo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CP/IP is actually a </a:t>
            </a:r>
            <a:r>
              <a:rPr b="1" lang="en-US" sz="1800" spc="-1" strike="noStrike">
                <a:solidFill>
                  <a:srgbClr val="23a0ad"/>
                </a:solidFill>
                <a:latin typeface="Arial"/>
                <a:ea typeface="Arial"/>
              </a:rPr>
              <a:t>combination of two protoc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P, Internet Protocol, is used to move packets (chunks) of data from one place to ano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ces are specified by IP addresses: four single-byte (0..255)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arated by periods, Example: 192.168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CP, Transmission Control Protocol, ensures that all necessary pack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e present, and puts them together in the correct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9A94-11A4-419A-B939-1D9123DFDD4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/IP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"/>
          <p:cNvPicPr/>
          <p:nvPr/>
        </p:nvPicPr>
        <p:blipFill>
          <a:blip r:embed="rId1"/>
          <a:srcRect l="0" t="0" r="0" b="7606"/>
          <a:stretch/>
        </p:blipFill>
        <p:spPr>
          <a:xfrm>
            <a:off x="914400" y="1295280"/>
            <a:ext cx="746748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67A8-7DCC-4013-8BC6-151470F6FA8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/IP Protocol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مستطيل 1"/>
          <p:cNvSpPr/>
          <p:nvPr/>
        </p:nvSpPr>
        <p:spPr>
          <a:xfrm>
            <a:off x="674640" y="1405080"/>
            <a:ext cx="7848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 No official model but a working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hysical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Network access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terne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ost to host or transpor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pplication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38F3-E3BC-47A0-B8A4-4FA94968B34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hysical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مستطيل 1"/>
          <p:cNvSpPr/>
          <p:nvPr/>
        </p:nvSpPr>
        <p:spPr>
          <a:xfrm>
            <a:off x="380880" y="137160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sical interface between data transmission device (e.g. computer) and transmission medium or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racteristics of transmission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F8CC-1B53-4289-A0F9-9E6795D339E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Network Access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مستطيل 1"/>
          <p:cNvSpPr/>
          <p:nvPr/>
        </p:nvSpPr>
        <p:spPr>
          <a:xfrm>
            <a:off x="380880" y="1371600"/>
            <a:ext cx="84582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hange of data between end system and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ination address pro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king services like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DECC-A7EC-4A8B-B618-C91AC3C4328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Internet Layer (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مستطيل 1"/>
          <p:cNvSpPr/>
          <p:nvPr/>
        </p:nvSpPr>
        <p:spPr>
          <a:xfrm>
            <a:off x="380880" y="13716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s may be attached to different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ing functions across multiple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ed in end systems and ro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8:36:04Z</dcterms:created>
  <dc:creator>Bruhadeshwar Bezawada</dc:creator>
  <dc:description/>
  <dc:language>en-US</dc:language>
  <cp:lastModifiedBy>maram</cp:lastModifiedBy>
  <dcterms:modified xsi:type="dcterms:W3CDTF">2017-04-15T18:54:29Z</dcterms:modified>
  <cp:revision>180</cp:revision>
  <dc:subject/>
  <dc:title>Computer Networks</dc:title>
</cp:coreProperties>
</file>