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A583-EAA7-445B-96FE-E933A5559C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2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E9E6-92D4-4DF9-8CE4-41C84B704F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667-5EE8-4E83-8C47-FBE8AD2E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694-856D-4647-9A45-394DFD3F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FA2-459A-444E-B97D-52380410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869-AD05-4F97-A0DA-48B83DF8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E000-2808-4DA5-852C-ABF4FD6D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176C-81CD-48F1-B452-DFDC66CA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BBD5-AD53-4B45-BC8D-ECE57F4F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8C2F-A66C-4DE8-8450-78F60BFC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3B48-A4C3-4521-B3F5-EF08D603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1E67-74E7-4DDA-87FA-6AB50619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C84C-3B11-4A43-AB6B-5AC9687B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44F8-E84E-443D-BF3F-5ADA9092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C29A-6292-4923-B0A9-D98BA19D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3864-3ADF-486D-ABF1-0388C6F5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20F8-D361-4E75-970F-ABB940C2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461F-8E86-46B0-A79F-CFE27942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54B7-0F92-44CD-B0C8-62AED356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3E3A-FA95-49D1-9F0B-D52D2ADF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B8C8F-9842-4B58-8E45-550B07E6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2A360-68F4-4D0B-99A6-5FE9C0DE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79DA4-D048-4379-AB32-1E7C4B25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2CB8-B986-460A-8116-83950B4D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3E2-C081-49E4-849B-8CFFD0F7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0A54-7769-4EC6-B013-3C5DB18E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3CD0-D830-4B50-A93D-E09B80A1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0C4EE-A102-4764-9BDE-C534FA04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46B88-A37A-4B2C-841E-582A75B7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5D46-94CB-4B7F-91F8-0077A108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41D69-0FC8-4F96-AEB6-E4396F19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D1DE8-EA93-47A5-9792-7DF4C43F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30509-9409-4B45-BC24-DEE19A8D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82693-B04D-4BEB-A1B3-6E49CD55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FFE09-59E1-46B9-B786-8639ABFC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F15-4A59-448E-A55B-1A951826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D0AC0-37D7-419E-BD65-64910E5B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6B554-D9AF-4427-81BE-3E7A0303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46F93-88C6-4E05-AF20-B4A14EE7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C1FAD-1942-4D5E-9F34-7F7CB554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38926-96F5-45FF-9E3D-CFE15705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E5DCC-0235-41CD-B04C-237A107D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81283-2B76-4C18-9218-80E69DFB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F47F4-4A2B-48F2-B066-F6698D02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1BA38-DB0C-42C4-8F48-B7FFE1D6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F6A73-3D96-4F6F-92EF-02204A67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1744-F321-4BE1-A29F-39B189C5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1481E-486D-491E-944C-47667B1D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342D3-63B2-49B3-9013-5AA50BD6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716BA-37FB-4623-B4E8-72FD2BF9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BCC21-EFC2-4342-8941-890C401A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54D9B-853D-4A85-BFF4-9D7DDCDA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220EE-1C6A-4D06-8B92-85E9F912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0393B-E442-4137-AA6C-05EDDC91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7B929-DCFF-419A-9492-12C9C832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6B645-5F59-43EE-BD8F-62560170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008B0-4C91-4088-AF72-08EF3DEB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A13-8385-4AC9-A7BD-F1AB46AD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82F85-3A5F-4239-9664-71B21FD2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58AA5-EA5A-4B34-B276-90F266E9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A5D4C-F62B-41D4-A74A-2C87C578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0AC4C-E014-4F36-8ABD-2170055E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0B6CB-FCC5-45BE-B538-E6AD5368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B9FDE-73D4-463F-B6BE-801A38DB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75D89-EE18-4A31-A0BB-70D8B8FB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2E2E3-C220-40A3-B93A-91A36177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24FC8-940C-4E1F-BE59-5E083C24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F168E-09A0-4474-A2DD-DC704974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80E-2755-449A-9E43-0BA26ECA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5CCAC-9466-47FB-82C2-95DEB69E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0B7EA-3D46-40C6-911E-75D8923D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7A475-EABF-4782-A9C2-0E09272F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73EE5-85D4-45F6-A001-07432872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3F456-4F85-4A3C-AA71-F77D87BA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66931-6E79-4BB3-85E1-6C926612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FF54D-4C12-4ECC-90D8-7440A2C9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445AA-5811-4A6A-B4D8-4D9E365C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AADC1-C138-4996-B558-E114646C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12E32-7D03-496F-98C0-3419E970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171-4399-491E-992F-808D53B5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09F4A-1B60-4912-BB62-F618F755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0B324-6EC1-4773-A904-8F52EA5C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BB84F-B246-41A9-8D88-1C329E3D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BE130-7E89-449B-A577-4F3A2EA2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098FA-8C7F-4D60-A389-E18ACD19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0DB-21A8-425D-BAEE-747C4CFF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3842-9567-4806-B77A-398276C496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AEDF-F99D-4687-8AD8-AD5562C537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EE35-AA6D-4604-A8CD-2B4E5B3377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1DDC-624B-4AD3-8114-C286FF667F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23a0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3a0ad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3a0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7D9F-EC07-4B4D-98C1-AF616A5C64B3}" type="slidenum">
              <a:rPr b="0" lang="en-US" sz="1000" spc="-1" strike="noStrike">
                <a:solidFill>
                  <a:srgbClr val="23a0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BC9E-90CC-47D7-8F95-47DAB01190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8A74-842F-4C39-929F-52695904D8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23a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3a0ad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FDE9-5FA3-45D6-93B2-D8648C0D57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مستطيل 3"/>
          <p:cNvSpPr/>
          <p:nvPr/>
        </p:nvSpPr>
        <p:spPr>
          <a:xfrm>
            <a:off x="0" y="255096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Bold Italic Art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/IP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مربع نص 1"/>
          <p:cNvSpPr/>
          <p:nvPr/>
        </p:nvSpPr>
        <p:spPr>
          <a:xfrm>
            <a:off x="380880" y="5486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a0ad"/>
                </a:solidFill>
                <a:latin typeface="Arial"/>
              </a:rPr>
              <a:t>By:  Adal ALash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مستطيل 2"/>
          <p:cNvSpPr/>
          <p:nvPr/>
        </p:nvSpPr>
        <p:spPr>
          <a:xfrm>
            <a:off x="3071160" y="4038480"/>
            <a:ext cx="30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ndara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 semester 1437-14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5195-03A7-4637-B36D-85972AA3BD8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Transport Layer (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مستطيل 1"/>
          <p:cNvSpPr/>
          <p:nvPr/>
        </p:nvSpPr>
        <p:spPr>
          <a:xfrm>
            <a:off x="380880" y="13716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iable delivery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dering of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6731-73B1-4E92-856B-B16E61861A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 Application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مستطيل 1"/>
          <p:cNvSpPr/>
          <p:nvPr/>
        </p:nvSpPr>
        <p:spPr>
          <a:xfrm>
            <a:off x="380880" y="13716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user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.g. http, S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B622-A525-4A36-A2D1-538405342C0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I v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rcRect l="0" t="0" r="0" b="11552"/>
          <a:stretch/>
        </p:blipFill>
        <p:spPr>
          <a:xfrm>
            <a:off x="990720" y="1219320"/>
            <a:ext cx="7250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9EFD-FF9A-4757-975A-E099B128502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مستطيل 1"/>
          <p:cNvSpPr/>
          <p:nvPr/>
        </p:nvSpPr>
        <p:spPr>
          <a:xfrm>
            <a:off x="533520" y="147636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in architecture at which entity is na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address for each end system (computer) and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 Network level 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or internet address (TCP/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ervice access point or NSAP (O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with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number (TCP/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access point or SAP (O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D7D7-1FAE-41EA-9D8B-715AFC8BB0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Protocols in TCP/IP Su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30556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4B57-A60D-4E69-88E1-377D22F450F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stnames and DNS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مستطيل 1"/>
          <p:cNvSpPr/>
          <p:nvPr/>
        </p:nvSpPr>
        <p:spPr>
          <a:xfrm>
            <a:off x="533520" y="1476360"/>
            <a:ext cx="81532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The 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” name of a computer on the internet is its four-byte IP add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, however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’t like to remember numbers, so we 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hostnam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st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the hostna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cis.upenn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158.130.12.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DNS (Domain Name Serv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omputer that translates hostnames into IP addr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of it 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ke a phone book--names to useful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rse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 have to know the IP address of the DNS in order to use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usually ge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wo DNS numbers from your Internet Service Provider (I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CBD6-F033-47AC-BD1D-F34B990AE6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H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مستطيل 1"/>
          <p:cNvSpPr/>
          <p:nvPr/>
        </p:nvSpPr>
        <p:spPr>
          <a:xfrm>
            <a:off x="533520" y="1476360"/>
            <a:ext cx="815328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If you have a web sit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it must be hosted on a computer that is “permanently” on the W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mputer must have a permanent IP add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n’t enough IP addresses for the number of computers there are these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f you have no permanent web site, you can be given a temporary (dynamically allocated) IP address each time you connect to the We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DHCP (Dynamic Host Configuration Protoco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y of assigning temporary IP addresse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8391-353E-4853-805C-9CCD2A35682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مستطيل 1"/>
          <p:cNvSpPr/>
          <p:nvPr/>
        </p:nvSpPr>
        <p:spPr>
          <a:xfrm>
            <a:off x="533520" y="105732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URL, Uniform Resource Loc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fines a location on the W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URL has up to five pa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s://ct1503.wordpress.com:80/about/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"/>
          <p:cNvPicPr/>
          <p:nvPr/>
        </p:nvPicPr>
        <p:blipFill>
          <a:blip r:embed="rId1"/>
          <a:srcRect l="28111" t="48135" r="23936" b="15344"/>
          <a:stretch/>
        </p:blipFill>
        <p:spPr>
          <a:xfrm>
            <a:off x="762120" y="3200400"/>
            <a:ext cx="739116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C36B-F11D-4058-BF20-BEFB6EECD26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مستطيل 1"/>
          <p:cNvSpPr/>
          <p:nvPr/>
        </p:nvSpPr>
        <p:spPr>
          <a:xfrm>
            <a:off x="533520" y="1057320"/>
            <a:ext cx="81532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T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core operating on a relativel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gh level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es a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lower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T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ides communication services at an intermediate level between an application program and the I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capsulates all data, and is connectionl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B82F-75F6-435C-A9E3-241172A875A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مستطيل 3"/>
          <p:cNvSpPr/>
          <p:nvPr/>
        </p:nvSpPr>
        <p:spPr>
          <a:xfrm>
            <a:off x="0" y="2550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Bold Italic Art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A33C-BD18-4554-8EC1-D5555BD8FA9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مستطيل 1"/>
          <p:cNvSpPr/>
          <p:nvPr/>
        </p:nvSpPr>
        <p:spPr>
          <a:xfrm>
            <a:off x="674640" y="137160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1" lang="en-US" sz="2000" spc="-1" strike="noStrike">
                <a:solidFill>
                  <a:srgbClr val="23a0ad"/>
                </a:solidFill>
                <a:latin typeface="Arial"/>
              </a:rPr>
              <a:t>Socket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23a0ad"/>
                </a:solidFill>
                <a:latin typeface="Arial"/>
              </a:rPr>
              <a:t>por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ry low level software construct that allows computers to talk to one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hen you send information from one computer to anoth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send it to a port on the receiving 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23a0ad"/>
                </a:solidFill>
                <a:latin typeface="Arial"/>
              </a:rPr>
              <a:t>Common port numb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80 (for web pages), 23 (for telnet) and 25 and 110 (for mai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numbers abo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024 are available for other kinds of communication between our pr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94A6-522D-4FB1-B14B-C883AE6300E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مستطيل 1"/>
          <p:cNvSpPr/>
          <p:nvPr/>
        </p:nvSpPr>
        <p:spPr>
          <a:xfrm>
            <a:off x="609480" y="1522440"/>
            <a:ext cx="815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 In or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 computers to communicate with one another, they must agree on a set of rules for who says what, when they s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and what format they say it in this set of rules is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  <a:ea typeface="Arial"/>
              </a:rPr>
              <a:t>a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fferent programs can use different protoc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rotocols may b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ASCII (characters) or in bin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 common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 (for web pages), FTP (for file transfer), and SMTP (Simple Mail Transfer Protoco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4430-00F1-418B-8752-77CF6419804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مستطيل 3"/>
          <p:cNvSpPr/>
          <p:nvPr/>
        </p:nvSpPr>
        <p:spPr>
          <a:xfrm>
            <a:off x="-3240" y="40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مستطيل 1"/>
          <p:cNvSpPr/>
          <p:nvPr/>
        </p:nvSpPr>
        <p:spPr>
          <a:xfrm>
            <a:off x="431640" y="1219320"/>
            <a:ext cx="8153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Internet (and most other computer networks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e connected through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  <a:ea typeface="Arial"/>
              </a:rPr>
              <a:t>TCP/IP netwo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CP/IP is actually a </a:t>
            </a:r>
            <a:r>
              <a:rPr b="1" lang="en-US" sz="1800" spc="-1" strike="noStrike">
                <a:solidFill>
                  <a:srgbClr val="23a0ad"/>
                </a:solidFill>
                <a:latin typeface="Arial"/>
                <a:ea typeface="Arial"/>
              </a:rPr>
              <a:t>combination of two protoc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P, Internet Protocol, is used to move packets (chunks) of data from one place to ano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ces are specified by IP addresses: four single-byte (0..255)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arated by periods, Example: 192.168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CP, Transmission Control Protocol, ensures that all necessary pack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e present, and puts them together in the correct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207A-9107-4857-AD56-3F3347191F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/IP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rcRect l="0" t="0" r="0" b="7606"/>
          <a:stretch/>
        </p:blipFill>
        <p:spPr>
          <a:xfrm>
            <a:off x="914400" y="1295280"/>
            <a:ext cx="74674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9BCC-C59C-41BC-9E3A-BC1284B883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/IP Protocol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مستطيل 1"/>
          <p:cNvSpPr/>
          <p:nvPr/>
        </p:nvSpPr>
        <p:spPr>
          <a:xfrm>
            <a:off x="674640" y="1405080"/>
            <a:ext cx="7848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No official model but a working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hysical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Network access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terne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ost to host or transpor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pplication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A01E-E416-406F-AF0F-01319C03F3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hysical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مستطيل 1"/>
          <p:cNvSpPr/>
          <p:nvPr/>
        </p:nvSpPr>
        <p:spPr>
          <a:xfrm>
            <a:off x="380880" y="137160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sical interface between data transmission device (e.g. computer) and transmission medium or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acteristics of transmission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5FFE-A5FF-476A-8E9E-49F38F7C199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Network Access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مستطيل 1"/>
          <p:cNvSpPr/>
          <p:nvPr/>
        </p:nvSpPr>
        <p:spPr>
          <a:xfrm>
            <a:off x="380880" y="1371600"/>
            <a:ext cx="8458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hange of data between end system and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ination address pro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king services lik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B9AC-EDBF-49B0-BC55-613768F97F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Internet Layer (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مستطيل 1"/>
          <p:cNvSpPr/>
          <p:nvPr/>
        </p:nvSpPr>
        <p:spPr>
          <a:xfrm>
            <a:off x="380880" y="13716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s may be attached to different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ing functions across multipl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ed in end systems and ro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8:36:04Z</dcterms:created>
  <dc:creator>Bruhadeshwar Bezawada</dc:creator>
  <dc:description/>
  <dc:language>en-US</dc:language>
  <cp:lastModifiedBy>maram</cp:lastModifiedBy>
  <dcterms:modified xsi:type="dcterms:W3CDTF">2017-04-15T18:54:29Z</dcterms:modified>
  <cp:revision>180</cp:revision>
  <dc:subject/>
  <dc:title>Computer Networks</dc:title>
</cp:coreProperties>
</file>