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997700" cy="9283700"/>
  <p:custShowLst>
    <p:custShow name="Custom Show 1" id="0">
      <p:sldLst>
        <p:sld r:id="rId5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8C82AF-8FA7-48F1-BBF0-CB4EB13D2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30CD9F-ECA0-40B7-881E-5E6C9DEA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C821B8-654E-4CCE-BB69-5E58E20B9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EB26D4-4EB1-4261-BED3-DF73C2392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3E44CF-0187-4234-B70B-C466F2E7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5CFA25-C9FC-47D5-B792-4EEC25F02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DD37BF-C497-4A46-BD08-E6809406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71716B-BC67-4260-A1A7-5A8CD69C9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FA0BB9-E81B-4820-BBD3-5A17CF76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D83C8A-7375-4E02-966E-3D5BA2C5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EC8784-5883-4F2A-82B3-382D8001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010D32-DB17-419D-913D-90B0F17A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F3ABEE-0473-40C6-88F5-E8A8F927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27F514-C32D-48DF-8049-23A024D2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841D74-BB83-416E-B792-D006A6CD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C5E949-9A67-45FD-9A69-3F15948A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067B20-8F7A-4907-8CBC-CA0EF3A8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264A2A-FD12-40B4-B6B8-66A9EB64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FFF601-CEC0-4A73-BF2E-F1F03959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2DCE5C-A7CE-44A4-97FD-458E1CB5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FB4FF1-6A9B-43A7-8CBE-3EACB61D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8D56F7-0650-4A0B-ABD3-27E7F3199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9CEDD4-904A-4643-993A-3CA3FD1B4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7707EF-AEB2-4A3C-8E2B-48FA33D1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D20121-A548-4B44-85F9-CE256DE49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9714F0-A319-4922-9D2D-83B8E5EF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A2B080-1F60-4ED7-99C7-881B076E8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09EEA1-3A57-49C6-9E68-22AC3E63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4E833B-9C50-4DB3-8B50-8513A202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B0479C-8757-4D30-A3BA-1F2BBEF8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07A84F-DE3A-4B9D-A5EB-B40DE6EB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C33B41-7EFF-47F1-B705-F2F34302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FEAF50-29B5-45BE-AAB4-E24EBA81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41FB19-5C7D-443A-8DD9-D8EE4975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C933B7-B6D5-4935-9ADB-DCC347B1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7058A3-F143-4E03-A390-504BF92F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1705CB-D8F1-46CD-BD33-F74D2AF2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D9DF7C-D541-4797-97C8-46504469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737B59-F361-459E-B719-EED475D78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F9682E-DB3A-462F-8D08-7121ECA1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142A1F-642D-4443-B828-CC7E4DF3B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A104DD-0321-4CAB-8934-D3238CC8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1B4E8E-E282-4232-9084-311D7DEB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C3C898-6F81-4D9D-8B1C-9F348019F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B4C33F-EABC-48F1-A619-9C1152CCC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C3018A-26BC-4C52-8A78-0E5ACE29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F12924-7CFC-417E-904A-1A32FC32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E8E09A-006F-4DB1-BBFA-BEF4B7B7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E89068-D3A8-47B5-BAA4-4D1582ED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8BE2-FA8F-41F8-9DD1-854C33B6E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9341-3E65-4C91-9BDF-2813104C1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6E33-46FB-43F6-8E7E-BFFB02B1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4C24-92C3-47E3-BE44-D157F7714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DEB-A1BE-45BB-A721-7158C20CD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F43-6837-4BC8-9A87-01F6942A1D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8FA-7218-4F81-9C02-2A4C13FB3C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CEA-AF3D-4E09-83B7-E63A5759E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062-CC9E-45C0-AE73-6D6EBC971D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DDD-5837-4DC9-A338-AC2BA142E0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F59-3008-4FF5-9AF2-20C133106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1F16-F996-4A9C-B1FD-8B5CDC1A7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112-E829-408D-BD8E-FD3C5BE8D1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F1A-2F3A-4711-AB61-E9708EF74E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747-D104-4B97-8963-F7BE56F545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44F-B5B8-434F-AFD4-0FED922023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1B7-325C-4982-A78B-6F72F747F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9D5E-9F8F-4F76-B65A-4D41A8262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2713-F61E-40C9-B55A-4781DFE3E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3DF5-42AB-4ABC-ABEB-0369589A1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DA69-C35F-4DD9-86C3-5BC945EFF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3093-B237-4F2E-8F4B-41F10DB4A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2722-B2C1-45F9-AB44-0C19DC040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D92E-50CB-4E7A-B139-EB1D6CF91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12F-EAC6-4FBF-BBF8-16532AB09D1D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1.</a:t>
            </a:r>
            <a:fld id="{EB413C32-A57E-4925-97EB-165BFB988B13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B5F-DEB7-4458-B083-118677F0BB9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6993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 mechanisms used to speed up access to desir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uthor catalog in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arch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tribute to set of attributes used to look up records in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records (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 en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the for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files are typically much smaller than the original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asic kinds of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ed indice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keys are stored in sorte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indic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arch keys are distributed uniformly across “buckets” using a “hash functio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4880" y="3025800"/>
            <a:ext cx="15066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19440" y="3024360"/>
            <a:ext cx="1184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level Inde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9760" y="892080"/>
            <a:ext cx="766116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imary index does not fit in memory, access becomes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treat primary index kept on disk as a sequential file and construct a sparse index o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index – a sparse index of primary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index – the primary index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n outer index is too large to fit in main memory, yet another level of index can be created, and so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at all levels must be updated on insertion or deletion from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807732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ultilevel Index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255760" y="511200"/>
            <a:ext cx="48992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Update: 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8720" y="3360600"/>
            <a:ext cx="799308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level index entry dele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letion of search-key is similar to file record de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r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entry for the search key exists in the index, it is deleted by replacing the entry in the index with the next search-key value in the file (in search-key order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ext search-key value already has an index entry, the entry is deleted instead of being repla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817720" y="890640"/>
            <a:ext cx="6064200" cy="27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60280" y="1739880"/>
            <a:ext cx="37404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eleted record was the only record in the file with its particular search-key value, the search-key is deleted from the index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Update: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level index inser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 lookup using the search-key value appearing in the record to be inse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the search-key value does not appear in the index, inser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r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index stores an entry for each block of the file, no change needs to be made to the index unless a new block is creat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ew block is created, the first search-key value appearing in the new block is inserted into the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level insertion and dele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gorithms are simple extensions of the single-level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ary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464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ly, one wants to find all the records whose values in a certain field (which is not the search-key of the primary index) satisfy some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1: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stored sequentially by ID, we may want to find all instructors in a particular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as above, but where we want to find all instructors with a specified salary or with salary in a specified range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have a secondary index with an index record for each search-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Index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3960" y="1663560"/>
            <a:ext cx="75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 of indexed-sequentia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egrades as file grows, since many overflow blocks get creat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reorganization of entire file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of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fi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reorganizes itself with small, local, changes, in the face of insertions and dele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ganization of entire file is not required to maintain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or) disadvantage of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insertion and deletion overhead, space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of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 outweigh 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 are used extens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60160" y="1119960"/>
            <a:ext cx="69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indices are an alternative to indexed-sequential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36600" y="1168560"/>
            <a:ext cx="8443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Index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3960" y="1757160"/>
            <a:ext cx="7247160" cy="42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hs from root to leaf are of the sam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ode that is not a root or a leaf has betwe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eaf node has betwe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oot is not a leaf, it has at least 2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oot is a leaf (that is, there are no other nodes in the tree), it can have between 0 an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63040" y="1135800"/>
            <a:ext cx="68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is a rooted tree satisfying the following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Node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nod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search-key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inters to children (for non-leaf nodes) or pointers to records or buckets of records (for leaf no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arch-keys in a node are or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itially assume no duplicate keys, address duplicates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530360" y="1611360"/>
            <a:ext cx="6840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f Nodes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28440" y="158868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2, . . 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poin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file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leaf node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,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search-key values are less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search-ke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next leaf node in search-ke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76640" y="108936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 leaf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1206360" y="3371760"/>
            <a:ext cx="7505640" cy="3295440"/>
            <a:chOff x="1206360" y="3371760"/>
            <a:chExt cx="7505640" cy="3295440"/>
          </a:xfrm>
        </p:grpSpPr>
        <p:pic>
          <p:nvPicPr>
            <p:cNvPr id="149" name="Picture 8" descr=""/>
            <p:cNvPicPr/>
            <p:nvPr/>
          </p:nvPicPr>
          <p:blipFill>
            <a:blip r:embed="rId1"/>
            <a:srcRect l="0" t="28859" r="0" b="9171"/>
            <a:stretch/>
          </p:blipFill>
          <p:spPr>
            <a:xfrm>
              <a:off x="1206360" y="3872520"/>
              <a:ext cx="7495560" cy="27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" descr=""/>
            <p:cNvPicPr/>
            <p:nvPr/>
          </p:nvPicPr>
          <p:blipFill>
            <a:blip r:embed="rId2"/>
            <a:srcRect l="0" t="0" r="0" b="88760"/>
            <a:stretch/>
          </p:blipFill>
          <p:spPr>
            <a:xfrm>
              <a:off x="1216080" y="3371760"/>
              <a:ext cx="7495920" cy="50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Evaluation Metric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ypes supported efficiently.  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ith a specified value in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records with an attribute value falling in a specified range of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Leaf Nodes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leaf nodes form a multi-level sparse index on the leaf nodes.  For a non-leaf nod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are less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1, 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have values greater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less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have values greater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224000" y="5253120"/>
            <a:ext cx="6840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3960720"/>
            <a:ext cx="67248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 nodes must have between 3 and 5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leaf nodes other than root must have between 3 and 6 childre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must have at least 2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714040" y="3378960"/>
            <a:ext cx="33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82600" y="1606680"/>
            <a:ext cx="854064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servations about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ter-node connections are done by pointers, “logically” close blocks need not be “physically”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-leaf levels of 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form a hierarchy of sparse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contains a relatively small number of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below root has at least 2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level has at least 2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-key values in the file, the tree height is no more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searches can be conducted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s and deletions to the main file can be handled efficiently, as the index can be restructured in logarithmic time (as we shall se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4440" y="819000"/>
            <a:ext cx="8455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=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C is not a leaf nod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31896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least value s.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31896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uch exists,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st non-null pointer in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31896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if (V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Set C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+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least value s.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such a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 poin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desired re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no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74600" y="4479840"/>
            <a:ext cx="8799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8138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uplicate search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leaf and internal nod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not guarante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guarante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not necessarily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why, suppose same search 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esent in two leaf node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n in parent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equal to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odify find procedure as foll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we reach a leaf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only search key value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ight siblin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checking whe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rin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dified find procedure to find first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through consecutive leaves to find all occurrenc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13320" y="6091200"/>
            <a:ext cx="65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** Errata note: modified find procedure missing in first printing of 6</a:t>
            </a:r>
            <a:r>
              <a:rPr b="1" lang="en-US" sz="14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-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5661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arch-key values in the file, the height of the tree is no more th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is generally the same size as a disk block, typically 4 kilo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ypically around 100 (40 bytes per index en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1 million search key valu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00,000) = 4 nodes are accessed in a loo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st this with a balanced binary tree with 1 million search key values — around 20 nodes are accessed in 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difference is significant since every node access may need a disk I/O, costing around 20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leaf node in which the search-key value would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earch-key value is already present in the leaf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record to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 add a pointer to the bu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earch-key value is not present,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record to the main file (and create a bucket if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room in the leaf node, insert (key-value, pointer) pair in the leaf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split the node (along with the new (key-value, pointer) entry) as discussed in the next s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 Inser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a leaf 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arch-key value, pointer) pairs (including the one being inserted) in sorted order.  Place the fir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original node, and the rest in a new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new node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least key valu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the parent of the node being spl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arent is full, split it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plit further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of nodes proceeds upwards till a node that is not full is 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worst case the root node may be split increasing the height of the tree by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60560" y="5675400"/>
            <a:ext cx="776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of splitting node containing Brandt, Califieri and Crick on inserting Ad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: insert entry with (Califieri,pointer-to-new-node) into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179360" y="4765680"/>
            <a:ext cx="74599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226960" y="592056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before and after insertion of “Adam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7080" y="3627360"/>
            <a:ext cx="879948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rcRect l="0" t="0" r="0" b="62534"/>
          <a:stretch/>
        </p:blipFill>
        <p:spPr>
          <a:xfrm>
            <a:off x="249120" y="936720"/>
            <a:ext cx="86486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ed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9320" y="14886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dered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entries are stored sorted on the search key value.  E.g., author catalog in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equentially ordered file, the index whose search key specifies the sequential order of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ustering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key of a primary index is usually but not necessarily the primary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ary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dex whose search key specifies an order different from the sequential order of the file.  Also called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n-clustering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dex-sequential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ed sequential file with a primary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306360" y="3691080"/>
            <a:ext cx="8512200" cy="1947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64960" y="1089000"/>
            <a:ext cx="8799840" cy="2057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163600" y="5920560"/>
            <a:ext cx="48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before and after insertion of “Lam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a non-leaf node: when inserting (k,p) into an already full internal node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 to an in-memory area M with space for n+1 pointers and 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(k,p) into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K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 back into node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 into newly allocated node 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N’) into paren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d pseudocode in boo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692760" y="5397480"/>
            <a:ext cx="1295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ion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939960" y="5359320"/>
            <a:ext cx="290808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s  Brandt  Califieri  C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 flipH="1">
            <a:off x="850680" y="5587920"/>
            <a:ext cx="15228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720800" y="560556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425320" y="5573880"/>
            <a:ext cx="1260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759120" y="5575320"/>
            <a:ext cx="88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956120" y="5397480"/>
            <a:ext cx="143352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s Bran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 flipH="1">
            <a:off x="4851000" y="5651640"/>
            <a:ext cx="15228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5648400" y="562284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6870600" y="5651640"/>
            <a:ext cx="1296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7823160" y="5638680"/>
            <a:ext cx="88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5499000" y="4622760"/>
            <a:ext cx="2006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384880" y="4838760"/>
            <a:ext cx="62208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6921360" y="4940280"/>
            <a:ext cx="406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1384200" y="4622760"/>
            <a:ext cx="1828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1041120" y="4800600"/>
            <a:ext cx="1003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3213000" y="5600880"/>
            <a:ext cx="88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340320" y="5632560"/>
            <a:ext cx="1296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66720" y="6138720"/>
            <a:ext cx="67248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“Srinivasan” causes merging of under-full le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59200" y="32029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d after deleting “Srinivas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44520" y="993600"/>
            <a:ext cx="879948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70000" y="3614760"/>
            <a:ext cx="84801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Dele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03480" y="39297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of “Singh” and “Wu” from result of previou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8256600" cy="2295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595440" y="4586400"/>
            <a:ext cx="78483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containing Singh and Wu became underfull, and borrowed a value Kim from its left si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-key value in the parent changes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Dele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34880" y="4751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d after deletion of “Gold” from earl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58640" y="5240160"/>
            <a:ext cx="8375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with Gold and Katz became underfull, and was merged with its sib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node becomes underfull, and is merged with its si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eparating two nodes (at the parent) is pulled down when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node then has only one child, and is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576360" y="3092400"/>
            <a:ext cx="8346960" cy="1525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561960" y="654120"/>
            <a:ext cx="82566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135080"/>
            <a:ext cx="77263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record to be deleted, and remove it from the main file and from the bucket (if pres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(search-key value, pointer) from the leaf node if there is no bucket or if the bucket has become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node has too few entries due to the removal, and the entries in the node and a sibling fit into a single node, then </a:t>
            </a:r>
            <a:r>
              <a:rPr b="1" i="1" lang="en-US" sz="1800" spc="-1" strike="noStrike">
                <a:solidFill>
                  <a:srgbClr val="3366cc"/>
                </a:solidFill>
                <a:latin typeface="Arial"/>
              </a:rPr>
              <a:t>merge sibling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ll the search-key values in the two nodes into a single node (the one on the left), and delete the other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pai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ointer to the deleted node, from its parent, recursively using the abov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if the node has too few entries due to the removal, but the entries in the node and a sibling do not fit into a single node, then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redistribute poin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tribute the pointers between the node and a sibling such that both have more than the minimum number of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corresponding search-key value in the parent of the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de deletions may cascade upwards till a node which has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more pointers is fou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oot node has only one pointer after deletion, it is deleted and the sole child becomes the ro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Unique Search 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9520" y="1093680"/>
            <a:ext cx="7905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to scheme describ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kets on separate block (b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tuple pointers with each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code to handle lo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on of a tuple can be expensive if there are many duplicates on search key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space overhead, no extra cost for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earch key unique by adding a record-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storage overhead for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r code for insertion/de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ile Organ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135080"/>
            <a:ext cx="7739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file degradation problem is solved by us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le degradation problem is solved by us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f nodes in a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 store records, instead of po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s are still required to be half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records are larger than pointers, the maximum number of records that can be stored in a leaf node is less than the number of pointers in a non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and deletion are handled in the same way as insertion and deletion of entries in a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ile Organ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4920" y="4417920"/>
            <a:ext cx="784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space utilization important since records use more space than point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rove space utilization, involve more sibling nodes in redistribution during splits and 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ing 2 siblings in redistribution (to avoid split / merge where possible) results in each node having at least             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428560" y="397044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6216480" y="6046920"/>
                <a:ext cx="6606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1" name="Picture 8" descr=""/>
          <p:cNvPicPr/>
          <p:nvPr/>
        </p:nvPicPr>
        <p:blipFill>
          <a:blip r:embed="rId1"/>
          <a:stretch/>
        </p:blipFill>
        <p:spPr>
          <a:xfrm>
            <a:off x="811080" y="625320"/>
            <a:ext cx="833292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se Index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nse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Index record appears for every search-key value in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1087560" y="2446200"/>
            <a:ext cx="80564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Issues in Index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9640" y="1135080"/>
            <a:ext cx="7691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relocation and secondary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cord moves, all secondary indices that store record pointers have to be upd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splits in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s become very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use primary-index search key instead of record pointer in 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raversal of primary index to loca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cost for queries, but node splits are 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cord-id if primary-index search key is non-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-Key Acces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8360" y="110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ple indices for certain types of 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“Finance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 for processing query using indices on single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instructors with department name Finance; te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= 8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instructors with a salary of $80000; te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t_nam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Financ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to find pointers to all records pertaining to the “Finance” department.  Similarly u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ake intersection of both sets of pointers ob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es on Multiple 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mposite search k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arch keys containing more than one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cographic ordering: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lt; 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f ei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es on Multiple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000160"/>
            <a:ext cx="7336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dex 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used to fetch only records that satisfy both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separate indices in less efficient — we may fetch many records (or pointers) that satisfy only one of the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efficiently hand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8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not efficiently hand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fetch many records that satisfy the first but not the secon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07200" y="11646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have an index on combined 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tic Hash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1600" y="1182600"/>
            <a:ext cx="74372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bu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unit of storage containing one or more records (a bucket is typically a disk b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 file orga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obtain the bucket of a record directly from its search-key value using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rom the set of all search-key valu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et of all bucket addr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is used to locate records for access, insertion as well as de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ith different search-key values may be mapped to the same bucket; thus entire bucket has to be searched sequentially to locate a reco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9400" y="181080"/>
            <a:ext cx="8358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Hash File Organ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99640" y="232884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0 bucke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nary representation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 character is assumed to be the integ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sh function returns the sum of the binary representations of the characters modul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h(Music) = 1        h(History) = 2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h(Physics) =  3   h(Elec. Eng.)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906480" y="1134720"/>
            <a:ext cx="65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ile organiz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,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ke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ee figure in next slid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Hash File Organiza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85800" y="585612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file organiza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,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key (see previous slide for detai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9000" y="784080"/>
            <a:ext cx="61974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7821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t hash function maps all search-key values to the same bucket; this makes access time proportional to the number of search-key values in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deal hash function is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unifor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.e., each bucket is assigned the same number of search-key values from the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hash function is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 each bucket will have the same number of records assigned to it irrespective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u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arch-key values in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hash functions perform computation on the internal binary representation of the search-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for a string search-key, the binary representations of all the characters in the string could be added and the sum modulo the number of buckets could be returned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Bucket Overflo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134720"/>
            <a:ext cx="7639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 overflow can occur becaus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bu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in distribution of records.  This can occur due to two reas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cords have same search-key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n hash function produces non-uniform distribution of ke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the probability of bucket overflow can be reduced, it cannot be eliminated; it is handled by using </a:t>
            </a:r>
            <a:r>
              <a:rPr b="1" i="1" lang="en-US" sz="1800" spc="-1" strike="noStrike">
                <a:solidFill>
                  <a:srgbClr val="3366cc"/>
                </a:solidFill>
                <a:latin typeface="Arial"/>
              </a:rPr>
              <a:t>overflow bucke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996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Bucket Overflow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verflow ch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overflow buckets of a given bucket are chained together in a linked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scheme is called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closed has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ternative, called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pen ha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does not use overflow buckets,  is not suitable for databas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1855800" y="2806560"/>
            <a:ext cx="53038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se Index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ort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431640" y="2279520"/>
            <a:ext cx="85075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ing can be used not only for file organization, but also for index-structure cre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es the search keys, with their associated record pointers, into a hash fil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ly speaking, hash indices are always secondary ind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itself is organized using hashing, a separate primary hash index on it using the same search-key is unnecessa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we use the term hash index to refer to both secondary index structures and hash organized f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Hash Inde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952560" y="787320"/>
            <a:ext cx="5929200" cy="57247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3759120" y="549756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ciencies of Static Hash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844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tatic hashing,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ps search-key values to a fixed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ucket addresses. Databases grow or shrink with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itial number of buckets is too small, and file grows, performance will degrade due to too much overf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pace is allocated for anticipated growth, a significant amount of space will be wasted initially (and buckets will be underfu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atabase shrinks, again space will be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periodic re-organization of the file with a new hash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, disrupts norm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solution: allow the number of buckets to be modified dynam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7920" y="22860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rison of Ordered Indexing and Hash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7640" y="1093680"/>
            <a:ext cx="80884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periodic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frequency of insertions and de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desirable to optimize average access time at the expense of worst-case access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type of qu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ing is generally better at retrieving records having a specified value of th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ange queries are common, ordered indices are to be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supports hash indices, but discourages use due to po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supports static hash organization, but not hash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Server supports only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arse Index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4329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ars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contains index records for only some search-ke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when records are sequentially ordered on 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cate a record with search-key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index record with largest search-key valu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ile sequentially starting at the record to which the index record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50800" y="3532320"/>
            <a:ext cx="68551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arse Index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dense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space and less maintenance overhead for insertions and 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slower than dense index for locating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trade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arse index with an index entry for every block in file, corresponding to least search-key value in th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3009960" y="3348000"/>
            <a:ext cx="3023640" cy="2862360"/>
            <a:chOff x="3009960" y="3348000"/>
            <a:chExt cx="3023640" cy="2862360"/>
          </a:xfrm>
        </p:grpSpPr>
        <p:pic>
          <p:nvPicPr>
            <p:cNvPr id="113" name="Picture 5" descr=""/>
            <p:cNvPicPr/>
            <p:nvPr/>
          </p:nvPicPr>
          <p:blipFill>
            <a:blip r:embed="rId1"/>
            <a:srcRect l="39278" t="0" r="0" b="53155"/>
            <a:stretch/>
          </p:blipFill>
          <p:spPr>
            <a:xfrm>
              <a:off x="3058920" y="3348000"/>
              <a:ext cx="2974680" cy="27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6"/>
            <p:cNvSpPr/>
            <p:nvPr/>
          </p:nvSpPr>
          <p:spPr>
            <a:xfrm>
              <a:off x="3009960" y="4838760"/>
              <a:ext cx="12603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3130200" y="5411880"/>
              <a:ext cx="166032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96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ary Indices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5140080"/>
            <a:ext cx="76615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record points to a bucket that contains pointers to all the actual records with that particular search-key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indices have to be d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218320" y="4602240"/>
            <a:ext cx="446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index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914400" y="774720"/>
            <a:ext cx="7924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and Secondary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offer substantial benefits when searching for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 Updating indices imposes overhead on database modification --when a file is modified, every index on the file must be updat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can using primary index is efficient, but a sequential scan using a secondary index is expens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cord access may fetch a new block from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fetch requires about 5 to 10 milliseconds, versus about 100 nanoseconds for memory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0:01:06Z</dcterms:created>
  <dc:creator>Silberschatz, Korth and Sudarshan</dc:creator>
  <dc:description/>
  <dc:language>en-US</dc:language>
  <cp:lastModifiedBy>hassan</cp:lastModifiedBy>
  <cp:lastPrinted>2005-01-10T21:51:57Z</cp:lastPrinted>
  <dcterms:modified xsi:type="dcterms:W3CDTF">2017-10-25T10:50:45Z</dcterms:modified>
  <cp:revision>217</cp:revision>
  <dc:subject/>
  <dc:title>Chapter 11: Indexing and Hashing</dc:title>
</cp:coreProperties>
</file>