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997700" cy="9283700"/>
  <p:custShowLst>
    <p:custShow name="Custom Show 1" id="0">
      <p:sldLst>
        <p:sld r:id="rId5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BF6D6F-5314-4938-917D-E2627A7C2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1DDB74-56D0-41C3-A565-02BF72B9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6E2BE5-0D42-4C84-9B64-2206B712F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2D0C71-B5D0-404B-B879-22BE0C203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4E779D-9C79-47D7-93AC-9C2CC2A88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4838E6-831D-486F-AC89-D64E0293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E7D2B4-9D1D-4252-A02D-DC3AF3F7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029707-1433-4D3D-AC0A-90A3143F9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450313-47DA-4DE4-B2BA-B35EF6FA1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A8F59C-5BA4-492B-8EF9-4E6DAF537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A1E6BD-FB15-4260-BD5A-B0BBB2E00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2FB719-8A0B-4588-ABE1-6A376389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6629E5-AAF4-479E-B764-1B20C18FE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62FD61-C25B-4176-A752-66EA1F534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8993F3-9143-4294-BF59-93AD72306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D2D4D8-BD06-49EE-A36B-942B5B087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37CDF0-BA90-40DA-8493-74F1EF26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17588F-8F7F-4466-BDF0-FFF9661C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9EB52C-2AB4-4947-B9BD-FBF55C73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1DDF20-F339-49BF-9F2B-D4377495A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125B03-BF7B-4A54-825F-28BAB52CB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82094D-028D-4F48-A0FD-335914E1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F47A15-9E5D-4176-9FA2-3702C5980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3C6320-7314-4780-9499-969DFC264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9F5862-A401-4E63-AE61-E74274BE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634055-4689-40DD-9D43-E027ECFED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81C62D-2655-4F35-A231-E1A98F565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A85D1A-EF71-4EA1-BD58-B10B8F582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497AA6-396A-4EB8-B466-10657D1E1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602624-1AB5-4C13-96ED-2F988BAA4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29BA2D-EC6B-4297-BFE4-5B2DA44A2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D95710-5519-4DF7-AA78-D95DB72D2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1FD01A-5FE8-4EA3-88F5-07077184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C68B6E-727F-4EE1-B9EF-37BF91507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01EF5D-8D0C-486A-9AC1-23A1A955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4480EB-F362-4D0D-B5E3-79D580D00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975C361-421D-4A75-90BA-286FA2CC7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0F7833-5A76-4F81-9ED0-62E42CF6F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5A4F3D-9BEC-4C36-BBA8-2A62DAA72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C73D4A-182F-43AD-82DD-82A1DE0B9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43A70A-1259-4C6B-A3F2-698C7B3B7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21CE8B-1EDE-42F6-873E-C915A5515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48F641-D46C-4E3D-B02A-AAE00FE2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E31313-261F-48AE-A354-43187E30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6DE923-6F70-4F43-B21C-BBA61C39F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4A7A6B-C154-4E37-85A3-91FF94DB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85D2F6-8B5C-4008-82E0-5E75C272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A821AD-3B50-4DF0-8AAB-3F6665192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884937-1D5E-4FF8-A2FA-E8FE5D968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5350-51BF-4D5E-B18B-133E100E0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50B9-4254-4EA0-B6BB-2327AB17B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3F99-0012-41B9-89F7-9DD5D3671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C5F9-B5D3-461C-BCF8-E43DC1BBD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3AA-70D4-4A2C-B32B-C7208EAAB5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B2A-A6DC-499F-8978-A638E78C4D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229-1287-4F1C-98CA-490B4816AF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887-714B-4AFE-B906-71AF4D3F3D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642-21F2-4DC4-A296-53D779590A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684-ADE1-4648-B6F0-49004F7F5F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898-C102-4D2F-8B94-BF0F4E9DD8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F11F-901A-4F7D-89AC-AC0AE1150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53B-B782-4B0A-A9B0-8FD7EBC19A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3AB-58B6-485E-B7A7-A5C340CAD7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AF3-B71D-4850-9297-18657DC36B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F4B-CBD3-4F6D-AAA9-3D5337F073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F2C-D8AB-4E9B-AFDD-9557EA9F08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49D6-09E1-4E12-AE14-CD365BD22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ECD9-5DB7-44D7-8C55-EE8562C52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38F0-D2A4-4DAC-8BF0-96966A29D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431F-467F-4A74-A089-559D23E31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C530-AF47-4541-83E2-F76F13554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053E-6312-45D2-A84F-519727989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260F-9C43-453F-BB3F-53E7DD6D1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9780-FCFF-49EF-9338-069EBB6E7B36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1.</a:t>
            </a:r>
            <a:fld id="{3D0B3A42-A51E-4EDC-AF16-1D9EB51859ED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379-A685-4D31-B384-61C8885D49C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134720"/>
            <a:ext cx="76993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ing mechanisms used to speed up access to desire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uthor catalog in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arch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ttribute to set of attributes used to look up records in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ex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records (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ex ent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the form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files are typically much smaller than the original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basic kinds of ind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ed indice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keys are stored in sorte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 indic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arch keys are distributed uniformly across “buckets” using a “hash function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044880" y="3025800"/>
            <a:ext cx="15066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19440" y="3024360"/>
            <a:ext cx="11844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level Index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69760" y="892080"/>
            <a:ext cx="766116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rimary index does not fit in memory, access becomes 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treat primary index kept on disk as a sequential file and construct a sparse index on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er index – a sparse index of primary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 index – the primary index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n outer index is too large to fit in main memory, yet another level of index can be created, and so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 at all levels must be updated on insertion or deletion from th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807732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ultilevel Index (Cont.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255760" y="511200"/>
            <a:ext cx="489924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Update: 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8720" y="3360600"/>
            <a:ext cx="7993080" cy="32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-level index entry dele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 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eletion of search-key is similar to file record de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rse 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entry for the search key exists in the index, it is deleted by replacing the entry in the index with the next search-key value in the file (in search-key order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ext search-key value already has an index entry, the entry is deleted instead of being repla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2817720" y="890640"/>
            <a:ext cx="6064200" cy="27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260280" y="1739880"/>
            <a:ext cx="37404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eleted record was the only record in the file with its particular search-key value, the search-key is deleted from the index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Update: 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-level index inser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a lookup using the search-key value appearing in the record to be inse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 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f the search-key value does not appear in the index, inser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rse 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f index stores an entry for each block of the file, no change needs to be made to the index unless a new block is creat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ew block is created, the first search-key value appearing in the new block is inserted into the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level insertion and dele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lgorithms are simple extensions of the single-level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ary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464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ly, one wants to find all the records whose values in a certain field (which is not the search-key of the primary index) satisfy some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1: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 stored sequentially by ID, we may want to find all instructors in a particular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: as above, but where we want to find all instructors with a specified salary or with salary in a specified range of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have a secondary index with an index record for each search-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Index Fi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3960" y="1663560"/>
            <a:ext cx="758196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 of indexed-sequential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degrades as file grows, since many overflow blocks get creat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reorganization of entire file is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of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fil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reorganizes itself with small, local, changes, in the face of insertions and dele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rganization of entire file is not required to maintain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nor) disadvantage of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insertion and deletion overhead, space over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 of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s outweigh 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s are used extens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60160" y="1119960"/>
            <a:ext cx="69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indices are an alternative to indexed-sequential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36600" y="1168560"/>
            <a:ext cx="8443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Index Fi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3960" y="1757160"/>
            <a:ext cx="7247160" cy="42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hs from root to leaf are of the sam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ode that is not a root or a leaf has betwe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eaf node has betwe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as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root is not a leaf, it has at least 2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root is a leaf (that is, there are no other nodes in the tree), it can have between 0 an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)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63040" y="1135800"/>
            <a:ext cx="68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is a rooted tree satisfying the following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Node Structur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nod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search-key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ointers to children (for non-leaf nodes) or pointers to records or buckets of records (for leaf no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arch-keys in a node are ord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itially assume no duplicate keys, address duplicates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530360" y="1611360"/>
            <a:ext cx="6840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eaf Nodes i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28440" y="158868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 2, . . 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 poin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file record with search-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leaf node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, 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search-key values are less than or equa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search-ke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next leaf node in search-ke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76640" y="108936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 leaf n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1206360" y="3371760"/>
            <a:ext cx="7505640" cy="3295440"/>
            <a:chOff x="1206360" y="3371760"/>
            <a:chExt cx="7505640" cy="3295440"/>
          </a:xfrm>
        </p:grpSpPr>
        <p:pic>
          <p:nvPicPr>
            <p:cNvPr id="149" name="Picture 8" descr=""/>
            <p:cNvPicPr/>
            <p:nvPr/>
          </p:nvPicPr>
          <p:blipFill>
            <a:blip r:embed="rId1"/>
            <a:srcRect l="0" t="28859" r="0" b="9171"/>
            <a:stretch/>
          </p:blipFill>
          <p:spPr>
            <a:xfrm>
              <a:off x="1206360" y="3872520"/>
              <a:ext cx="7495560" cy="27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8" descr=""/>
            <p:cNvPicPr/>
            <p:nvPr/>
          </p:nvPicPr>
          <p:blipFill>
            <a:blip r:embed="rId2"/>
            <a:srcRect l="0" t="0" r="0" b="88760"/>
            <a:stretch/>
          </p:blipFill>
          <p:spPr>
            <a:xfrm>
              <a:off x="1216080" y="3371760"/>
              <a:ext cx="7495920" cy="50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ex Evaluation Metric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ypes supported efficiently.  E.g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with a specified value in th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records with an attribute value falling in a specified range of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n-Leaf Nodes i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leaf nodes form a multi-level sparse index on the leaf nodes.  For a non-leaf node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search-keys in the subtree to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are less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1, all the search-keys in the subtree to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have values greater than or equa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less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search-keys in the subtree to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have values greater than or equa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224000" y="5253120"/>
            <a:ext cx="68403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4320" y="3960720"/>
            <a:ext cx="672480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 nodes must have between 3 and 5 valu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1,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leaf nodes other than root must have between 3 and 6 childre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must have at least 2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714040" y="3378960"/>
            <a:ext cx="33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82600" y="1606680"/>
            <a:ext cx="854064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bservations about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inter-node connections are done by pointers, “logically” close blocks need not be “physically” cl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n-leaf levels of the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form a hierarchy of sparse i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 contains a relatively small number of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below root has at least 2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level has at least 2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rch-key values in the file, the tree height is no more th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searches can be conducted effici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ons and deletions to the main file can be handled efficiently, as the index can be restructured in logarithmic time (as we shall se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i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4440" y="819000"/>
            <a:ext cx="845532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record with search-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=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C is not a leaf nod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6000" indent="-318960">
              <a:lnSpc>
                <a:spcPct val="8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least value s.t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6000" indent="-318960">
              <a:lnSpc>
                <a:spcPct val="8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uch exists,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st non-null pointer in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6000" indent="-318960">
              <a:lnSpc>
                <a:spcPct val="8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{ if (V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Set C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+1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60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least value s.t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is such a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low poin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desired rec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120" indent="-318960">
              <a:lnSpc>
                <a:spcPct val="8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no record with search-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74600" y="4479840"/>
            <a:ext cx="8799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Duplic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8138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uplicate search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leaf and internal nod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not guarantee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guarante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-keys in the subtree to 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not necessarily 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why, suppose same search key 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resent in two leaf node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en in parent no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equal to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Duplica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odify find procedure as follow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r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oon as we reach a leaf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only search key values less th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1049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ight siblin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checking wheth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prin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dified find procedure to find first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rse through consecutive leaves to find all occurrenc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13320" y="6091200"/>
            <a:ext cx="65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** Errata note: modified find procedure missing in first printing of 6</a:t>
            </a:r>
            <a:r>
              <a:rPr b="1" lang="en-US" sz="14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Queri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-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e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134720"/>
            <a:ext cx="75661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arch-key values in the file, the height of the tree is no more th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is generally the same size as a disk block, typically 4 kilo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ypically around 100 (40 bytes per index en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1 million search key value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mo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000,000) = 4 nodes are accessed in a look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st this with a balanced binary tree with 1 million search key values — around 20 nodes are accessed in a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difference is significant since every node access may need a disk I/O, costing around 20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: 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leaf node in which the search-key value would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earch-key value is already present in the leaf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record to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 add a pointer to the buc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earch-key value is not present,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record to the main file (and create a bucket if necess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is room in the leaf node, insert (key-value, pointer) pair in the leaf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split the node (along with the new (key-value, pointer) entry) as discussed in the next s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:  Inser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a leaf n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arch-key value, pointer) pairs (including the one being inserted) in sorted order.  Place the firs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original node, and the rest in a new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new node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the least key valu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,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 the parent of the node being spl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arent is full, split it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split further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of nodes proceeds upwards till a node that is not full is 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worst case the root node may be split increasing the height of the tree by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060560" y="5675400"/>
            <a:ext cx="776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of splitting node containing Brandt, Califieri and Crick on inserting Ad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: insert entry with (Califieri,pointer-to-new-node) into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179360" y="4765680"/>
            <a:ext cx="74599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1864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226960" y="5920560"/>
            <a:ext cx="47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before and after insertion of “Adam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27080" y="3627360"/>
            <a:ext cx="8799480" cy="2057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rcRect l="0" t="0" r="0" b="62534"/>
          <a:stretch/>
        </p:blipFill>
        <p:spPr>
          <a:xfrm>
            <a:off x="249120" y="936720"/>
            <a:ext cx="86486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rdered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9320" y="14886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dered 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entries are stored sorted on the search key value.  E.g., author catalog in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mary 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equentially ordered file, the index whose search key specifies the sequential order of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ustering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rch key of a primary index is usually but not necessarily the primary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ary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dex whose search key specifies an order different from the sequential order of the file.  Also called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n-clustering 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dex-sequential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ed sequential file with a primary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 Inser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306360" y="3691080"/>
            <a:ext cx="8512200" cy="1947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64960" y="1089000"/>
            <a:ext cx="8799840" cy="2057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163600" y="5920560"/>
            <a:ext cx="48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before and after insertion of “Lampo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a non-leaf node: when inserting (k,p) into an already full internal node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 to an in-memory area M with space for n+1 pointers and 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(k,p) into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K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M back into node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…,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M into newly allocated node 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N’) into parent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ead pseudocode in boo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692760" y="5397480"/>
            <a:ext cx="1295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sertion i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939960" y="5359320"/>
            <a:ext cx="290808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s  Brandt  Califieri  C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"/>
          <p:cNvSpPr/>
          <p:nvPr/>
        </p:nvSpPr>
        <p:spPr>
          <a:xfrm flipH="1">
            <a:off x="850680" y="5587920"/>
            <a:ext cx="15228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1720800" y="5605560"/>
            <a:ext cx="126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425320" y="5573880"/>
            <a:ext cx="12600" cy="58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3759120" y="5575320"/>
            <a:ext cx="88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4956120" y="5397480"/>
            <a:ext cx="143352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s Bran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 flipH="1">
            <a:off x="4851000" y="5651640"/>
            <a:ext cx="152280" cy="58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5648400" y="5622840"/>
            <a:ext cx="126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H="1">
            <a:off x="6870600" y="5651640"/>
            <a:ext cx="12960" cy="58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7823160" y="5638680"/>
            <a:ext cx="88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5499000" y="4622760"/>
            <a:ext cx="2006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5384880" y="4838760"/>
            <a:ext cx="62208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6921360" y="4940280"/>
            <a:ext cx="406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1384200" y="4622760"/>
            <a:ext cx="182880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 flipH="1">
            <a:off x="1041120" y="4800600"/>
            <a:ext cx="1003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3213000" y="5600880"/>
            <a:ext cx="88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340320" y="5632560"/>
            <a:ext cx="1296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s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66720" y="6138720"/>
            <a:ext cx="672480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ing “Srinivasan” causes merging of under-full le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59200" y="32029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nd after deleting “Srinivas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44520" y="993600"/>
            <a:ext cx="879948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70000" y="3614760"/>
            <a:ext cx="84801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s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Dele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203480" y="39297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ion of “Singh” and “Wu” from result of previous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50720" y="1047600"/>
            <a:ext cx="8256600" cy="22957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595440" y="4586400"/>
            <a:ext cx="78483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containing Singh and Wu became underfull, and borrowed a value Kim from its left si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-key value in the parent changes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Dele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34880" y="4751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nd after deletion of “Gold” from earli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58640" y="5240160"/>
            <a:ext cx="8375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with Gold and Katz became underfull, and was merged with its sib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node becomes underfull, and is merged with its si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separating two nodes (at the parent) is pulled down when me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node then has only one child, and is de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576360" y="3092400"/>
            <a:ext cx="8346960" cy="1525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561960" y="654120"/>
            <a:ext cx="82566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: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135080"/>
            <a:ext cx="77263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record to be deleted, and remove it from the main file and from the bucket (if pres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(search-key value, pointer) from the leaf node if there is no bucket or if the bucket has become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node has too few entries due to the removal, and the entries in the node and a sibling fit into a single node, then </a:t>
            </a:r>
            <a:r>
              <a:rPr b="1" i="1" lang="en-US" sz="1800" spc="-1" strike="noStrike">
                <a:solidFill>
                  <a:srgbClr val="3366cc"/>
                </a:solidFill>
                <a:latin typeface="Arial"/>
              </a:rPr>
              <a:t>merge sibling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ll the search-key values in the two nodes into a single node (the one on the left), and delete the other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pai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pointer to the deleted node, from its parent, recursively using the abov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pdates on 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s:  Dele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if the node has too few entries due to the removal, but the entries in the node and a sibling do not fit into a single node, then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redistribute poin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stribute the pointers between the node and a sibling such that both have more than the minimum number of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corresponding search-key value in the parent of the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de deletions may cascade upwards till a node which has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more pointers is fou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oot node has only one pointer after deletion, it is deleted and the sole child becomes the ro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on-Unique Search Key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9520" y="1093680"/>
            <a:ext cx="79059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s to scheme describ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ckets on separate block (bad i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tuple pointers with each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code to handle long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ion of a tuple can be expensive if there are many duplicates on search key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space overhead, no extra cost for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earch key unique by adding a record-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storage overhead for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r code for insertion/de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File Organ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135080"/>
            <a:ext cx="77392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file degradation problem is solved by using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ind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le degradation problem is solved by using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ile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f nodes in a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ile organization store records, instead of poi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nodes are still required to be half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records are larger than pointers, the maximum number of records that can be stored in a leaf node is less than the number of pointers in a nonleaf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and deletion are handled in the same way as insertion and deletion of entries in a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-Tree File Organiza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64920" y="4417920"/>
            <a:ext cx="784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space utilization important since records use more space than pointe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rove space utilization, involve more sibling nodes in redistribution during splits and me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ing 2 siblings in redistribution (to avoid split / merge where possible) results in each node having at least             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428560" y="397044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il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6216480" y="6046920"/>
                <a:ext cx="6606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1" name="Picture 8" descr=""/>
          <p:cNvPicPr/>
          <p:nvPr/>
        </p:nvPicPr>
        <p:blipFill>
          <a:blip r:embed="rId1"/>
          <a:stretch/>
        </p:blipFill>
        <p:spPr>
          <a:xfrm>
            <a:off x="811080" y="625320"/>
            <a:ext cx="833292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nse Index Fi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nse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Index record appears for every search-key value in the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1087560" y="2446200"/>
            <a:ext cx="80564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ther Issues in Index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99640" y="1135080"/>
            <a:ext cx="76914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relocation and secondary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record moves, all secondary indices that store record pointers have to be upd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splits in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ree file organizations become very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use primary-index search key instead of record pointer in secondar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traversal of primary index to locate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cost for queries, but node splits are c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ecord-id if primary-index search key is non-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-Key Acces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8360" y="110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ultiple indices for certain types of qu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“Finance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 for processing query using indices on single attrib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nd instructors with department name Finance; te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 = 80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de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al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nd instructors with a salary of $80000; te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pt_nam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Financ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to find pointers to all records pertaining to the “Finance” department.  Similarly use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ake intersection of both sets of pointers ob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ices on Multiple Key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Composite search key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arch keys containing more than one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, sa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cographic ordering: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lt; 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f ei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ices on Multiple Attribut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000160"/>
            <a:ext cx="7336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u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Finance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dex 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used to fetch only records that satisfy both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separate indices in less efficient — we may fetch many records (or pointers) that satisfy only one of the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efficiently hand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“Finance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8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annot efficiently hand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“Finance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nce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fetch many records that satisfy the first but not the second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907200" y="116460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we have an index on combined search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, sa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tatic Hash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1600" y="1182600"/>
            <a:ext cx="743724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bu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unit of storage containing one or more records (a bucket is typically a disk b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hash file orga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 obtain the bucket of a record directly from its search-key value using 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hash</a:t>
            </a: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function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function from the set of all search-key valu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set of all bucket addr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function is used to locate records for access, insertion as well as dele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with different search-key values may be mapped to the same bucket; thus entire bucket has to be searched sequentially to locate a reco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9400" y="181080"/>
            <a:ext cx="8358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Hash File Organiz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99640" y="232884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0 bucke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nary representation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 character is assumed to be the integ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sh function returns the sum of the binary representations of the characters modulo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h(Music) = 1        h(History) = 2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h(Physics) =  3   h(Elec. Eng.)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906480" y="1134720"/>
            <a:ext cx="65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file organiza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le, u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ke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ee figure in next slid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Hash File Organization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685800" y="585612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 file organiza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le, u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key (see previous slide for detai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9000" y="784080"/>
            <a:ext cx="61974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 Func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99640" y="1134720"/>
            <a:ext cx="77821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t hash function maps all search-key values to the same bucket; this makes access time proportional to the number of search-key values in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deal hash function is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unifor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.e., each bucket is assigned the same number of search-key values from the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ibl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hash function is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 each bucket will have the same number of records assigned to it irrespective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tual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earch-key values in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hash functions perform computation on the internal binary representation of the search-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for a string search-key, the binary representations of all the characters in the string could be added and the sum modulo the number of buckets could be returned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of Bucket Overflow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1134720"/>
            <a:ext cx="76392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cket overflow can occur becaus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fficient bu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w in distribution of records.  This can occur due to two reas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ecords have same search-key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sen hash function produces non-uniform distribution of ke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the probability of bucket overflow can be reduced, it cannot be eliminated; it is handled by using </a:t>
            </a:r>
            <a:r>
              <a:rPr b="1" i="1" lang="en-US" sz="1800" spc="-1" strike="noStrike">
                <a:solidFill>
                  <a:srgbClr val="3366cc"/>
                </a:solidFill>
                <a:latin typeface="Arial"/>
              </a:rPr>
              <a:t>overflow bucke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996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ndling of Bucket Overflow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134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verflow ch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e overflow buckets of a given bucket are chained together in a linked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scheme is called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closed hash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ternative, called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pen has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does not use overflow buckets,  is not suitable for databas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1855800" y="2806560"/>
            <a:ext cx="53038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nse Index Fi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orte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p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431640" y="2279520"/>
            <a:ext cx="85075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ash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ing can be used not only for file organization, but also for index-structure cre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hash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ganizes the search keys, with their associated record pointers, into a hash file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ly speaking, hash indices are always secondary ind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le itself is organized using hashing, a separate primary hash index on it using the same search-key is unnecessar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we use the term hash index to refer to both secondary index structures and hash organized fi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Hash Index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952560" y="787320"/>
            <a:ext cx="5929200" cy="57247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3759120" y="549756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 index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c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tribu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ficiencies of Static Hash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99640" y="1134720"/>
            <a:ext cx="7844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tatic hashing,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ps search-key values to a fixed se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ucket addresses. Databases grow or shrink with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itial number of buckets is too small, and file grows, performance will degrade due to too much overf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pace is allocated for anticipated growth, a significant amount of space will be wasted initially (and buckets will be underfu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atabase shrinks, again space will be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olution: periodic re-organization of the file with a new hash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, disrupts normal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solution: allow the number of buckets to be modified dynamic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7920" y="22860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arison of Ordered Indexing and Hash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7640" y="1093680"/>
            <a:ext cx="80884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periodic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frequency of insertions and del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desirable to optimize average access time at the expense of worst-case access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type of qu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ing is generally better at retrieving records having a specified value of the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ange queries are common, ordered indices are to be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greSQL supports hash indices, but discourages use due to po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supports static hash organization, but not hash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Server supports only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parse Index Fil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3960" y="1093680"/>
            <a:ext cx="74329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arse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contains index records for only some search-key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when records are sequentially ordered on search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cate a record with search-key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index record with largest search-key value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ile sequentially starting at the record to which the index record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50800" y="3532320"/>
            <a:ext cx="68551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parse Index File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d to dense ind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space and less maintenance overhead for insertions and dele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slower than dense index for locating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tradeo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parse index with an index entry for every block in file, corresponding to least search-key value in the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3009960" y="3348000"/>
            <a:ext cx="3023640" cy="2862360"/>
            <a:chOff x="3009960" y="3348000"/>
            <a:chExt cx="3023640" cy="2862360"/>
          </a:xfrm>
        </p:grpSpPr>
        <p:pic>
          <p:nvPicPr>
            <p:cNvPr id="113" name="Picture 5" descr=""/>
            <p:cNvPicPr/>
            <p:nvPr/>
          </p:nvPicPr>
          <p:blipFill>
            <a:blip r:embed="rId1"/>
            <a:srcRect l="39278" t="0" r="0" b="53155"/>
            <a:stretch/>
          </p:blipFill>
          <p:spPr>
            <a:xfrm>
              <a:off x="3058920" y="3348000"/>
              <a:ext cx="2974680" cy="27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6"/>
            <p:cNvSpPr/>
            <p:nvPr/>
          </p:nvSpPr>
          <p:spPr>
            <a:xfrm>
              <a:off x="3009960" y="4838760"/>
              <a:ext cx="126036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3130200" y="5411880"/>
              <a:ext cx="1660320" cy="7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7880" y="964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ary Indices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5140080"/>
            <a:ext cx="76615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record points to a bucket that contains pointers to all the actual records with that particular search-key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indices have to be d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218320" y="4602240"/>
            <a:ext cx="446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index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l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eld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914400" y="774720"/>
            <a:ext cx="79246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rimary and Secondary Indi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 offer substantial benefits when searching for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 Updating indices imposes overhead on database modification --when a file is modified, every index on the file must be updat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can using primary index is efficient, but a sequential scan using a secondary index is expens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cord access may fetch a new block from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fetch requires about 5 to 10 milliseconds, versus about 100 nanoseconds for memory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00:01:06Z</dcterms:created>
  <dc:creator>Silberschatz, Korth and Sudarshan</dc:creator>
  <dc:description/>
  <dc:language>en-US</dc:language>
  <cp:lastModifiedBy>hassan</cp:lastModifiedBy>
  <cp:lastPrinted>2005-01-10T21:51:57Z</cp:lastPrinted>
  <dcterms:modified xsi:type="dcterms:W3CDTF">2017-10-25T10:50:45Z</dcterms:modified>
  <cp:revision>217</cp:revision>
  <dc:subject/>
  <dc:title>Chapter 11: Indexing and Hashing</dc:title>
</cp:coreProperties>
</file>