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02A899-6DE9-4670-8325-EFA14F6C0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05580A-733C-46A8-8960-A71362317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58B022-38B9-478D-949A-844C9E017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407F4A-C30F-4A30-8923-1A81ABB3F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1A567E-C002-48FB-B022-F4A47F2E1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F08755-989B-4685-9550-482E34FBA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ABAF34-C22F-425F-949F-2C00F1706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297C14-39FD-4DF0-B8D7-9FF3B30C5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5EE9C8-9D4C-4BC4-BD61-D0BB77B50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0D73F2-D350-4C18-9AFC-FB7FA46C9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AE25DC-911C-4AA0-95B0-2B1C3E4F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470E72-70B4-43A1-A1F5-255C33BC1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D8633D-C184-401F-88D3-73A74D52A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F9D6DC-BBB0-4288-8AB3-917E2B892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3B255B-6862-40BE-973A-A16F4D5EA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C828E4-C657-4FFC-8092-AD159F240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E53C5D-4153-4AE2-A522-E7628B78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DF7FD1-5103-4DCC-983C-72A43250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5FF312-64FB-44C4-895C-169E07A5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B70EBD-1196-435C-8CE0-32B023334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DA62BC-2EAE-4C0A-B327-FF6554F7B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B7E928-7E79-44E0-B7EF-DA9B41072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E2A369-2134-43FD-BEDC-AA22E32C1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AC76B7-DAD7-4C87-A130-19A775E9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BF9B42-7E89-49B3-A7A7-C62572CE6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39B07B-E716-4CA5-A284-AA925895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7424C0-B335-43FE-8FB7-D25B9363C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AD42D9-8CD7-4116-B818-59889A16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C8D34E-75D6-447A-BF63-CE3264896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E4A7F5-3E9B-4E6F-9412-2556AD5FE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F2E084-737C-4C1A-A1DD-2F6729EF7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810B30-071F-4AC1-AC28-661C63088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ADC844-2753-4DD4-91C3-42A76759C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76FF40-12D6-407A-9B01-56726A9C6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D01A-7D19-4888-BE00-1A80B0716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1315-6420-426C-8F9B-09EE62180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80E0-C56E-4CED-BDD1-510455363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E53A-2AA9-4C16-B9B3-D2FD05B32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191-AFDA-4949-8F4F-E458BAA7B8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682-BD21-426C-A8EA-B023CB015E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970-717D-4C22-8637-86D794086E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4CB-59E7-4771-B02C-57543148EE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71E-DC2E-43B6-A15B-AEC53BE673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5D3-0C83-490D-969B-0AB83D32A0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558-12CC-4ED2-BF8D-2AE45FE2E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95D8-5564-4247-ACA6-2EFE5638F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A44-CC0E-4ADF-8086-1F59B7C615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C90-A574-421B-ADB1-5759D1078A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8B2-0451-48B5-96FF-A0D2B7A649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19D-7594-4A00-AD19-1F5054CDB3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81F-7899-4C2A-AC5B-0CE4EC7D0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209E-55DD-4C17-83DC-962C46691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A2F9-C37B-49AB-8F57-8275D6A6A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2A08-F385-443F-AB5B-76AE6F80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44D5-B23C-4C53-B640-D3C077B7C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3800-5746-44C3-91E4-491ADDF20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E2B1-2931-4990-984E-28B8F6101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1A70-2B51-4F3B-8AC2-E52BB5A2E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23C-57DF-450F-8AD0-0FAF8D66D7D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2.</a:t>
            </a:r>
            <a:fld id="{AB9BE9A8-1FD5-4450-8869-60F0272D27B2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D47-9CFB-4FD0-A78A-BA3F352389D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656424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957240" y="2230560"/>
            <a:ext cx="72327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Using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35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condary index, equality on non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a single record if the search-key is a candid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 = (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) *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ultiple records if search-key is not a candid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ching records may be on a different bloc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)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very expens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Involving Comparis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5960" y="980640"/>
            <a:ext cx="8553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lement selections of the for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y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ar file sc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by using indices in the following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lation is sorted on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 index to find first tup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scan relation sequentially  from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just scan relation sequentially till first tuple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econdary index, 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se index to find first index ent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can index sequentially  from there, to find pointers to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just scan leaf pages of index finding pointers to records, till first entry &g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ther case, retrieve records that are poin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n I/O for each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lnSpc>
                <a:spcPct val="90000"/>
              </a:lnSpc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ile scan may be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different algorithms to implement j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ed nested-loop 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based on cost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use the follow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cord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5,000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of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100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2760" y="1165320"/>
            <a:ext cx="7931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ute the theta join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i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if they satisfy the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calle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uter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ner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indices and can be used with any kind of joi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618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ive since it examines every pair of tuples in the two rel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28"/>
          <p:cNvSpPr/>
          <p:nvPr/>
        </p:nvSpPr>
        <p:spPr>
          <a:xfrm rot="5400000">
            <a:off x="4957560" y="13129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ested-Loop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4520" y="1164960"/>
            <a:ext cx="81151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worst case, if there is enough memory only to hold one block of each relation, the estimated cost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, pl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maller relation fits entirely in memory, use that as the inner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co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ransfers and 2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worst case memory availability cost estim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uter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0 + 100 = 2,000,100 block transf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+ 100 = 5100 see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k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the outer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0 + 400 = 1,000,400 block transfers and 10,400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aller rela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ts entirely in memory, the cost estimate will be 500 block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ested-loops algorithm (next slide) is pref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185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404640"/>
                <a:tab algn="l" pos="793800"/>
                <a:tab algn="l" pos="119844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t of nested-loop join in which every block of inner relation is paired with every block of outer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04640"/>
                <a:tab algn="l" pos="793800"/>
                <a:tab algn="l" pos="1198440"/>
                <a:tab algn="l" pos="154476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p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beg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 the join condi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o, ad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ul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lock Nested-Loop Joi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8320" y="1165320"/>
            <a:ext cx="78883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 estimate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 transfers + 2 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lock in the inner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ad once for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outer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cas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2 see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to nested loop and block nested loop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lock nested-loop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isk blocks as blocking unit for outer relations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emory size in blocks; use remaining two blocks to buffer inner relation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(M-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 (M-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i-join attribute forms a key or inner relation, stop inner loop on firs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inner loop forward and backward alternately, to make use of the blocks remaining in buffer (with LRU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on inner relation if available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96680" y="101736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ways of evaluating a given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lgorithms for eac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13"/>
          <p:cNvPicPr/>
          <p:nvPr/>
        </p:nvPicPr>
        <p:blipFill>
          <a:blip r:embed="rId1"/>
          <a:stretch/>
        </p:blipFill>
        <p:spPr>
          <a:xfrm>
            <a:off x="882720" y="2538360"/>
            <a:ext cx="7350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120320"/>
            <a:ext cx="825516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valuation 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exactly what algorithm is used for each operation, and how the execution of the operations is coord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13"/>
          <p:cNvPicPr/>
          <p:nvPr/>
        </p:nvPicPr>
        <p:blipFill>
          <a:blip r:embed="rId1"/>
          <a:stretch/>
        </p:blipFill>
        <p:spPr>
          <a:xfrm>
            <a:off x="1406520" y="1979640"/>
            <a:ext cx="6105600" cy="3701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54040" y="6022800"/>
            <a:ext cx="84121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out how to view query execution plans on your favorit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09520"/>
            <a:ext cx="8248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" y="1120680"/>
            <a:ext cx="813096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difference between evaluation plans for a query can be enor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conds vs. days in som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st-based query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logically equivalent expressions using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quival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resultant expressions to get alternative que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cheapest plan based o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stimate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of plan cost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formation about relations.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uples, number of distinct values for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s estimation for intermedi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ute cost of complex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ormulae for algorithms, computed using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7080" y="495360"/>
            <a:ext cx="7291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3120" y="1165320"/>
            <a:ext cx="7921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ing and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he query into its internal form.  This is then translated into relational algeb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 checks syntax, verifies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ry-execution engine takes a query-evaluation plan, executes that plan, and returns the answers to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0960" y="15480"/>
            <a:ext cx="9121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formation of Relational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7677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relational algebra expressions are said to b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quival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two expressions generate the same set of tuples on eve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rder of tuple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are if they generate different results on databases that violate integ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QL, inputs and outputs are multisets of tu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expressions in the multiset version of the relational algebra are said to be equivalent if the two expressions generate the same multiset of tuples on every legal database inst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quivalence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s that expressions of two forms ar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ace expression of first form by second, or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120680"/>
            <a:ext cx="7566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ctive selection operations can be deconstructed into a sequence of individual selection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perations are commutativ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e last in a sequence of projection operations is needed, the others can be omitte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s can be combined with Cartesian products and theta jo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Symbol" charset="2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Symbol" charset="2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744640" y="2608200"/>
                <a:ext cx="2940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2873520" y="1797120"/>
                <a:ext cx="2792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2792520" y="3913200"/>
                <a:ext cx="4093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…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…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AutoShape 9"/>
          <p:cNvSpPr/>
          <p:nvPr/>
        </p:nvSpPr>
        <p:spPr>
          <a:xfrm rot="5400000">
            <a:off x="3779640" y="53006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 rot="5400000">
            <a:off x="2566800" y="57546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 rot="5400000">
            <a:off x="4233600" y="56912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ta-join operations (and natural joins) are commutativ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Natural join operations are associ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Theta joins are associative in the following manne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whe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attributes from on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 rot="5400000">
            <a:off x="1953720" y="35798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 rot="5400000">
            <a:off x="2909520" y="35686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 rot="5400000">
            <a:off x="4790880" y="35766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 rot="5400000">
            <a:off x="6159240" y="35719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 rot="5400000">
            <a:off x="5378040" y="231300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4748040" y="2338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3667320" y="232740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 rot="5400000">
            <a:off x="3034800" y="23302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 rot="5400000">
            <a:off x="4764240" y="149076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rot="5400000">
            <a:off x="3412800" y="1496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6960" y="5544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ictorial Depiction of Equivalence R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rcRect l="642" t="2284" r="642" b="1998"/>
          <a:stretch/>
        </p:blipFill>
        <p:spPr>
          <a:xfrm>
            <a:off x="1273320" y="1093680"/>
            <a:ext cx="67435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9200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ion operation distributes over the theta join operation under the following two condi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 When all the attribute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olve only the attributes of 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of the expression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ing joine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only th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olve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only th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 rot="5400000">
            <a:off x="3095280" y="273996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5400000">
            <a:off x="3583080" y="417528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 rot="5400000">
            <a:off x="5105520" y="273852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5400000">
            <a:off x="5673240" y="4186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56800" y="1054080"/>
            <a:ext cx="7899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ion operation distributes over the theta join operation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volves only attribute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Consider a jo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ets of attribute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re involved in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re no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ctr" pos="3087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ttribute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re involved in join condi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are not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 rot="5400000">
            <a:off x="3758760" y="28940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4"/>
          <p:cNvGrpSpPr/>
          <p:nvPr/>
        </p:nvGrpSpPr>
        <p:grpSpPr>
          <a:xfrm>
            <a:off x="2427480" y="2179800"/>
            <a:ext cx="4610520" cy="399960"/>
            <a:chOff x="2427480" y="2179800"/>
            <a:chExt cx="4610520" cy="399960"/>
          </a:xfrm>
        </p:grpSpPr>
        <p:sp>
          <p:nvSpPr>
            <p:cNvPr id="170" name="Rectangle 14"/>
            <p:cNvSpPr/>
            <p:nvPr/>
          </p:nvSpPr>
          <p:spPr>
            <a:xfrm>
              <a:off x="6851520" y="22078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646668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593676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5387760" y="22078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503172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452412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416340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3149280" y="2207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2"/>
            <p:cNvSpPr/>
            <p:nvPr/>
          </p:nvSpPr>
          <p:spPr>
            <a:xfrm>
              <a:off x="674244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4"/>
            <p:cNvSpPr/>
            <p:nvPr/>
          </p:nvSpPr>
          <p:spPr>
            <a:xfrm>
              <a:off x="528984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>
              <a:off x="405396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7"/>
            <p:cNvSpPr/>
            <p:nvPr/>
          </p:nvSpPr>
          <p:spPr>
            <a:xfrm>
              <a:off x="3407400" y="23670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8"/>
            <p:cNvSpPr/>
            <p:nvPr/>
          </p:nvSpPr>
          <p:spPr>
            <a:xfrm>
              <a:off x="635976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9"/>
            <p:cNvSpPr/>
            <p:nvPr/>
          </p:nvSpPr>
          <p:spPr>
            <a:xfrm>
              <a:off x="493308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0"/>
            <p:cNvSpPr/>
            <p:nvPr/>
          </p:nvSpPr>
          <p:spPr>
            <a:xfrm>
              <a:off x="304272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1"/>
            <p:cNvSpPr/>
            <p:nvPr/>
          </p:nvSpPr>
          <p:spPr>
            <a:xfrm>
              <a:off x="2753280" y="2442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657144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513900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388404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5"/>
            <p:cNvSpPr/>
            <p:nvPr/>
          </p:nvSpPr>
          <p:spPr>
            <a:xfrm>
              <a:off x="3256560" y="220788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627444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486180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295740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9"/>
            <p:cNvSpPr/>
            <p:nvPr/>
          </p:nvSpPr>
          <p:spPr>
            <a:xfrm>
              <a:off x="2679120" y="23670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0"/>
            <p:cNvSpPr/>
            <p:nvPr/>
          </p:nvSpPr>
          <p:spPr>
            <a:xfrm>
              <a:off x="6022080" y="2179800"/>
              <a:ext cx="2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1"/>
            <p:cNvSpPr/>
            <p:nvPr/>
          </p:nvSpPr>
          <p:spPr>
            <a:xfrm>
              <a:off x="4609440" y="2179800"/>
              <a:ext cx="2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2"/>
            <p:cNvSpPr/>
            <p:nvPr/>
          </p:nvSpPr>
          <p:spPr>
            <a:xfrm>
              <a:off x="4282920" y="217980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3"/>
            <p:cNvSpPr/>
            <p:nvPr/>
          </p:nvSpPr>
          <p:spPr>
            <a:xfrm>
              <a:off x="2427480" y="2179800"/>
              <a:ext cx="2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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4"/>
            <p:cNvSpPr/>
            <p:nvPr/>
          </p:nvSpPr>
          <p:spPr>
            <a:xfrm>
              <a:off x="2821680" y="235080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45"/>
            <p:cNvSpPr/>
            <p:nvPr/>
          </p:nvSpPr>
          <p:spPr>
            <a:xfrm>
              <a:off x="5799960" y="2364120"/>
              <a:ext cx="8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6"/>
            <p:cNvSpPr/>
            <p:nvPr/>
          </p:nvSpPr>
          <p:spPr>
            <a:xfrm>
              <a:off x="3754440" y="2364120"/>
              <a:ext cx="8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47"/>
            <p:cNvGrpSpPr/>
            <p:nvPr/>
          </p:nvGrpSpPr>
          <p:grpSpPr>
            <a:xfrm>
              <a:off x="3544560" y="2290320"/>
              <a:ext cx="2241720" cy="177840"/>
              <a:chOff x="3544560" y="2290320"/>
              <a:chExt cx="2241720" cy="177840"/>
            </a:xfrm>
          </p:grpSpPr>
          <p:sp>
            <p:nvSpPr>
              <p:cNvPr id="202" name="AutoShape 7"/>
              <p:cNvSpPr/>
              <p:nvPr/>
            </p:nvSpPr>
            <p:spPr>
              <a:xfrm rot="5400000">
                <a:off x="3542760" y="2291760"/>
                <a:ext cx="174960" cy="17172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"/>
              <p:cNvSpPr/>
              <p:nvPr/>
            </p:nvSpPr>
            <p:spPr>
              <a:xfrm rot="5400000">
                <a:off x="5612760" y="2294640"/>
                <a:ext cx="175320" cy="171720"/>
              </a:xfrm>
              <a:prstGeom prst="flowChartCollat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48"/>
          <p:cNvSpPr/>
          <p:nvPr/>
        </p:nvSpPr>
        <p:spPr>
          <a:xfrm>
            <a:off x="7692480" y="5456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732852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654300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6023160" y="5456160"/>
            <a:ext cx="1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568548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4842000" y="5456160"/>
            <a:ext cx="1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382356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2788560" y="5456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759096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9"/>
          <p:cNvSpPr/>
          <p:nvPr/>
        </p:nvSpPr>
        <p:spPr>
          <a:xfrm>
            <a:off x="593064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0"/>
          <p:cNvSpPr/>
          <p:nvPr/>
        </p:nvSpPr>
        <p:spPr>
          <a:xfrm>
            <a:off x="372060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1"/>
          <p:cNvSpPr/>
          <p:nvPr/>
        </p:nvSpPr>
        <p:spPr>
          <a:xfrm>
            <a:off x="3034800" y="5613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2"/>
          <p:cNvSpPr/>
          <p:nvPr/>
        </p:nvSpPr>
        <p:spPr>
          <a:xfrm>
            <a:off x="722880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3"/>
          <p:cNvSpPr/>
          <p:nvPr/>
        </p:nvSpPr>
        <p:spPr>
          <a:xfrm>
            <a:off x="694476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4"/>
          <p:cNvSpPr/>
          <p:nvPr/>
        </p:nvSpPr>
        <p:spPr>
          <a:xfrm>
            <a:off x="558900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5"/>
          <p:cNvSpPr/>
          <p:nvPr/>
        </p:nvSpPr>
        <p:spPr>
          <a:xfrm>
            <a:off x="531756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6"/>
          <p:cNvSpPr/>
          <p:nvPr/>
        </p:nvSpPr>
        <p:spPr>
          <a:xfrm>
            <a:off x="474264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7"/>
          <p:cNvSpPr/>
          <p:nvPr/>
        </p:nvSpPr>
        <p:spPr>
          <a:xfrm>
            <a:off x="446652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8"/>
          <p:cNvSpPr/>
          <p:nvPr/>
        </p:nvSpPr>
        <p:spPr>
          <a:xfrm>
            <a:off x="268848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9"/>
          <p:cNvSpPr/>
          <p:nvPr/>
        </p:nvSpPr>
        <p:spPr>
          <a:xfrm>
            <a:off x="2413800" y="56894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742932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1"/>
          <p:cNvSpPr/>
          <p:nvPr/>
        </p:nvSpPr>
        <p:spPr>
          <a:xfrm>
            <a:off x="578772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2"/>
          <p:cNvSpPr/>
          <p:nvPr/>
        </p:nvSpPr>
        <p:spPr>
          <a:xfrm>
            <a:off x="356040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3"/>
          <p:cNvSpPr/>
          <p:nvPr/>
        </p:nvSpPr>
        <p:spPr>
          <a:xfrm>
            <a:off x="2890440" y="54561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4"/>
          <p:cNvSpPr/>
          <p:nvPr/>
        </p:nvSpPr>
        <p:spPr>
          <a:xfrm>
            <a:off x="714600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5"/>
          <p:cNvSpPr/>
          <p:nvPr/>
        </p:nvSpPr>
        <p:spPr>
          <a:xfrm>
            <a:off x="686340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6"/>
          <p:cNvSpPr/>
          <p:nvPr/>
        </p:nvSpPr>
        <p:spPr>
          <a:xfrm>
            <a:off x="551088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7"/>
          <p:cNvSpPr/>
          <p:nvPr/>
        </p:nvSpPr>
        <p:spPr>
          <a:xfrm>
            <a:off x="524736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8"/>
          <p:cNvSpPr/>
          <p:nvPr/>
        </p:nvSpPr>
        <p:spPr>
          <a:xfrm>
            <a:off x="466020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9"/>
          <p:cNvSpPr/>
          <p:nvPr/>
        </p:nvSpPr>
        <p:spPr>
          <a:xfrm>
            <a:off x="439668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0"/>
          <p:cNvSpPr/>
          <p:nvPr/>
        </p:nvSpPr>
        <p:spPr>
          <a:xfrm>
            <a:off x="260748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2343960" y="5613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2"/>
          <p:cNvSpPr/>
          <p:nvPr/>
        </p:nvSpPr>
        <p:spPr>
          <a:xfrm>
            <a:off x="702000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3"/>
          <p:cNvSpPr/>
          <p:nvPr/>
        </p:nvSpPr>
        <p:spPr>
          <a:xfrm>
            <a:off x="538308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4"/>
          <p:cNvSpPr/>
          <p:nvPr/>
        </p:nvSpPr>
        <p:spPr>
          <a:xfrm>
            <a:off x="453384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2479680" y="5597640"/>
            <a:ext cx="12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6"/>
          <p:cNvSpPr/>
          <p:nvPr/>
        </p:nvSpPr>
        <p:spPr>
          <a:xfrm>
            <a:off x="662508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7"/>
          <p:cNvSpPr/>
          <p:nvPr/>
        </p:nvSpPr>
        <p:spPr>
          <a:xfrm>
            <a:off x="500904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8"/>
          <p:cNvSpPr/>
          <p:nvPr/>
        </p:nvSpPr>
        <p:spPr>
          <a:xfrm>
            <a:off x="415980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9"/>
          <p:cNvSpPr/>
          <p:nvPr/>
        </p:nvSpPr>
        <p:spPr>
          <a:xfrm>
            <a:off x="3936960" y="54259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0"/>
          <p:cNvSpPr/>
          <p:nvPr/>
        </p:nvSpPr>
        <p:spPr>
          <a:xfrm>
            <a:off x="2105280" y="5425920"/>
            <a:ext cx="22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1"/>
          <p:cNvSpPr/>
          <p:nvPr/>
        </p:nvSpPr>
        <p:spPr>
          <a:xfrm>
            <a:off x="6413400" y="5611680"/>
            <a:ext cx="7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2"/>
          <p:cNvSpPr/>
          <p:nvPr/>
        </p:nvSpPr>
        <p:spPr>
          <a:xfrm>
            <a:off x="3417840" y="5597640"/>
            <a:ext cx="7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93"/>
          <p:cNvGrpSpPr/>
          <p:nvPr/>
        </p:nvGrpSpPr>
        <p:grpSpPr>
          <a:xfrm>
            <a:off x="3211200" y="5526000"/>
            <a:ext cx="3208320" cy="192240"/>
            <a:chOff x="3211200" y="5526000"/>
            <a:chExt cx="3208320" cy="192240"/>
          </a:xfrm>
        </p:grpSpPr>
        <p:sp>
          <p:nvSpPr>
            <p:cNvPr id="248" name="AutoShape 9"/>
            <p:cNvSpPr/>
            <p:nvPr/>
          </p:nvSpPr>
          <p:spPr>
            <a:xfrm rot="5400000">
              <a:off x="6238440" y="5533920"/>
              <a:ext cx="189000" cy="1731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0"/>
            <p:cNvSpPr/>
            <p:nvPr/>
          </p:nvSpPr>
          <p:spPr>
            <a:xfrm rot="5400000">
              <a:off x="3203280" y="5537160"/>
              <a:ext cx="189000" cy="173160"/>
            </a:xfrm>
            <a:prstGeom prst="flowChartCollat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quivalence Ru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120680"/>
            <a:ext cx="80154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0160" indent="-38016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9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 operations union and intersection are commuta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1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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 difference is not commut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10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nion and intersection are associ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 startAt="11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lection operation distributes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–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imilarl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lace of 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:        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and similarly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lace of  –, but not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ion operation distributes over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0">
              <a:spcBef>
                <a:spcPts val="876"/>
              </a:spcBef>
              <a:buNone/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equivalence rules in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oup by/aggregatio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outer joi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formation Example: Pushing Sele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:  Find the names of all instructors in the Music department, along with the titles of the courses that they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br>
              <a:rPr sz="24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(teaches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using rule 7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(teaches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the selection as early as possible reduces the size of the relation to be jo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 rot="5400000">
            <a:off x="3009600" y="223200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5400000">
            <a:off x="6391080" y="334008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5400000">
            <a:off x="4549320" y="2251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 rot="5400000">
            <a:off x="3849480" y="370512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with Multiple Transform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names of all instructors in the Music department who have taught a course in 2009, along with the titles of the courses that they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yea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200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(teaches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using join associatively (Rule 6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gea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= 200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    teaches)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form provides an opportunity to apply 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selections earl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, resulting in the sub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 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year = 20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 rot="5400000">
            <a:off x="5025600" y="49402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 rot="5400000">
            <a:off x="4530240" y="3890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 rot="5400000">
            <a:off x="3128760" y="38448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0"/>
          <p:cNvSpPr/>
          <p:nvPr/>
        </p:nvSpPr>
        <p:spPr>
          <a:xfrm rot="5400000">
            <a:off x="4411440" y="2608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"/>
          <p:cNvSpPr/>
          <p:nvPr/>
        </p:nvSpPr>
        <p:spPr>
          <a:xfrm rot="5400000">
            <a:off x="3045960" y="260496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5960" y="301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 in Query Processing : Optim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0240" y="1149120"/>
            <a:ext cx="802512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onal algebra expression may have many equivalent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5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5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lational algebra operation can be evaluated using one of several differ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ingly, a relational-algebra expression can be evaluated in many w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 expression specifying detailed evaluation strategy is called an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evaluation-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 use an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nd instructors with salary &lt; 75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can perform complete relation scan and discard instructors with salar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Transformation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68" name="Picture 6" descr="13"/>
          <p:cNvPicPr/>
          <p:nvPr/>
        </p:nvPicPr>
        <p:blipFill>
          <a:blip r:embed="rId1"/>
          <a:stretch/>
        </p:blipFill>
        <p:spPr>
          <a:xfrm>
            <a:off x="514440" y="1725480"/>
            <a:ext cx="8018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ansformation Example: Pushing Projection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= 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a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btain a relation whose schema 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, name, dept_name, salary, course_id, sec_id, semester,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projections using equivalence rules 8a and 8b; eliminate unneeded attributes from intermediate results to get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course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the projection as early as possible reduces the size of the relation to be jo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 rot="5400000">
            <a:off x="6972120" y="11984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 rot="5400000">
            <a:off x="4709880" y="22208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 rot="5400000">
            <a:off x="2636640" y="48402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 rot="5400000">
            <a:off x="4806720" y="153360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 rot="5400000">
            <a:off x="6644880" y="45640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rdering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rel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oin Associa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quite large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mall, we ch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we compute and store a smaller temporary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 rot="5400000">
            <a:off x="3211200" y="16462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 rot="5400000">
            <a:off x="4608000" y="163332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 rot="5400000">
            <a:off x="3690720" y="162864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 rot="5400000">
            <a:off x="5211360" y="16174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 rot="5400000">
            <a:off x="3227040" y="301464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 rot="5400000">
            <a:off x="3749400" y="2995560"/>
            <a:ext cx="18900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 rot="5400000">
            <a:off x="1682280" y="247464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 rot="5400000">
            <a:off x="4462560" y="2424240"/>
            <a:ext cx="188640" cy="1728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 Ordering Exampl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5582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ame, 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compute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s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ourse_id, tit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and join result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 the result of the first jo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ikely to be a large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mall fraction of the universit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nstructors are likely to be from the Music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better to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ept_name= </a:t>
            </a:r>
            <a:r>
              <a:rPr b="0" i="1" lang="ja-JP" sz="24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usic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)     te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rot="5400000">
            <a:off x="6725880" y="162216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 rot="5400000">
            <a:off x="4192200" y="232704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 rot="5400000">
            <a:off x="5547960" y="4752720"/>
            <a:ext cx="18864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 rot="5400000">
            <a:off x="4704840" y="1928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6696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numeration of Equivalent Expres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120680"/>
            <a:ext cx="803736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optimizers use equivalence rul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 expressions equivalent to the give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generate all equivalent expressions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all applicable equivalence  rules on every subexpression of every equivalent expression foun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ly generated expressions to the set of equivalent expr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no new equivalent expressions are generated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approach is very expensive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 plan generation based on transformation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ase approach for queries with only selections, projections and j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st Estim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each operator computed as described in Chapter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tatistics of input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umber of tuples, sizes of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 can be results of sub-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estimate statistics of express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so, we require addition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umber of distinct values for an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cost estimation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oice of Evaluation Pla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1120320"/>
            <a:ext cx="79009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sider the interaction of evaluation techniques when choosing evalua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the cheapest algorithm for each operation independently may not yield best overall algorithm. 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-join may be costlier than hash-join, but may provide a sorted output which reduces the cost for an outer level aggr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-loop join may provide opportunity for pipe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query optimizers incorporate elements of the following two broad appro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all the plans and choose the best plan in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based fash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Uses heuristics to choose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7840" y="262080"/>
            <a:ext cx="8721720" cy="39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tistical Information for Cost Estim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12068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uples in a 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umber of blocks containing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ze of a tupl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facto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the number of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it into on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(A, r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 of distinct values that appear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ttribu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the siz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u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tored together physically in a file, then: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465360" y="3878280"/>
                <a:ext cx="889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Steps: Optim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Query Optimizatio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ongst all equivalent evaluation plans choose the one with lowest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estimated using statistical information from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number of tuples in each relation, size of tup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hapter w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measure quer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evaluating relational algebra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mbine algorithms for individual operations in order to evaluate a complet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apter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udy how to optimize queries, that is, how to find an evaluation plan with lowest estimated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8980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is generally measured as total elapsed time for answering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ctors contribute to tim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k accesses, C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even networ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isk access is the predominant cost, and is also relatively easy to estimate.   Measured by taking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eeks             * average-seek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read     * average-block-read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blocks written * average-block-write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write a block is greater than cost to read a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876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read back after being written to ensure that the write was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2760" y="1164960"/>
            <a:ext cx="8073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implicity we just use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block transfe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rom disk and the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number of see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 cost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ime to transfer on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cc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ime for one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or b block transfers plus S see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*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S *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gnore CPU costs for simpl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systems do take CPU cost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o not include cost to writing output to disk in our cost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asures of Query Cost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91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algorithms can reduce disk IO by using extra buffer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real memory available to buffer depends on other concurrent queries and OS processes, known only during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ften use worst case estimates, assuming only the minimum amount of memory needed for the operation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data may be buffer resident already, avoiding disk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ard to take into account for cost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 Oper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7360" y="1047600"/>
            <a:ext cx="8363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File s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inear 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Scan each file block and test all records to see whether they satisfy the selection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ransfers + 1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number of blocks containing records from rel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lection is on a key attribute, can stop on finding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 block transfers + 1 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search can be applied regardles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condition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records in the file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binary search generally does not make sense since data is not stored consecu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when there is an index avail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inary search requires more seeks than index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lections Using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3120" y="1164960"/>
            <a:ext cx="783576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ndex sc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earch algorithms that use an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condition must be on search-key of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equality on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trieve a single record that satisfies the corresponding equality condi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) *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primary index, equality on non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multiple rec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will be on consecutive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b = number of blocks containing matching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8:58:38Z</dcterms:created>
  <dc:creator>Silberschatz, Korth and Sudarshan</dc:creator>
  <dc:description/>
  <dc:language>en-US</dc:language>
  <cp:lastModifiedBy>hassan</cp:lastModifiedBy>
  <cp:lastPrinted>1999-06-28T19:27:31Z</cp:lastPrinted>
  <dcterms:modified xsi:type="dcterms:W3CDTF">2017-10-25T10:55:19Z</dcterms:modified>
  <cp:revision>488</cp:revision>
  <dc:subject/>
  <dc:title>Chapter 12: Query Processing</dc:title>
</cp:coreProperties>
</file>