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96B13F-AE53-4096-9CDA-2ACFB16B6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93020B-AF84-4AF3-B5F9-DBA343238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7CCA34-084A-45C1-86CD-9AA076A3B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7BDE67-A854-45D0-953E-1E4CCB971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AE25FA-FE2B-4789-AEB7-7B5EE8C37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A73C43-ED85-492C-93B6-BD2137FC1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84E1C1-14C1-4B77-B4B9-69E647452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133DE1-C9FC-4C52-811D-458B2F51C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E4FDA9-B492-4D98-A3C0-D6945A187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1C3DD7-5A51-477E-972D-F9652B8F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F51916-5545-45F6-8F13-D468992D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17716B-0CC6-4860-AA11-6C58A6CE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E75037-EEA5-4462-8B6F-CFF891180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7BA9A1-01BD-4063-A961-45025C8C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863815-FD74-410B-A445-E8C705EC1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22A915-0C4F-466C-A9B5-3A740C5D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DB9734-8ADC-488D-810A-72A621C5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C58B09-940F-491C-8108-B3A45CC20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E27AF5-F172-4774-841E-41216EF1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A03407-99C6-4C51-9CAB-56EB851F0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EA9012-0615-4BCC-96B3-49683CDCD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8F6578-24C1-4110-8861-9CFDEDDE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847C25-BF6B-44DE-B9F1-55F13AC33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F4308F-3D58-4B27-919B-10DFE1C76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F78FCD-27D2-4BD3-BB68-381E440C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DB56D8-82FD-4E34-8F9C-DD882D4A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099B35-199F-4288-A0A9-9BEFBB25E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2531FC-9A1E-42F2-B4B7-1D52D9F5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85C97E-AB31-4B58-86BF-25A843EB0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5E87B8-34A3-44E9-8B9E-142DEF2F2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AABF74-4544-4AA8-A34F-CBF7EA6D4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9D89AB-0555-44E8-805F-E53BC6664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28C547-4B40-43F7-BAF5-B46DB8828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621966-0C93-4049-A5CA-C55E1B11A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D5A5-B66B-4E70-A797-056C3D24D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4623-747C-4A8C-B895-7728A5228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E3D6-B07E-45C0-89F2-A2C0A752A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E0B7-2934-443D-AF3D-81453AC4B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F14-8886-4183-9217-55A4B26D51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219-2D0D-4010-BDB4-1AB5164CD0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A77-11EC-4F44-BBA0-9A1B122707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420-389A-4922-A59C-32A6A4341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AE8-EF31-4F70-AB82-E1C083D46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AAA-1A33-48F0-99A8-BA2380866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F14-B366-49AE-B421-15C7CAA59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0F89-819A-45EF-A867-5245E6BC3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8F8-8181-4A4E-BD27-74C2D705B7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893-9710-40E8-95B9-BDDECD5344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542-7F8F-418C-9A9B-6D68D4F155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5FF-E49B-47F8-9D5A-E30C0F7E0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65F-3B2A-441A-8B89-46BE9F88A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AC2F-FA15-4E0C-9195-5A112DA25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C87D-37EA-441A-A804-15540AD15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778D-5E32-4C40-BBE0-382DF64F1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569E-2BE8-4F55-B790-3392E17DD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CD91-91E3-46A2-B263-E413AD0BD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AB6B-8765-4B2D-B2B6-89FB54EE3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E99D-2F15-4159-A65D-6702A52C0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A903-9541-4696-837A-44A263135B25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2.</a:t>
            </a:r>
            <a:fld id="{EF91CDFB-693D-4DF9-A784-CBD764E782BF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238-FCE8-412C-BDEA-83692D52ED7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656424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957240" y="2230560"/>
            <a:ext cx="72327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Using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357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econdary index, equality on non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a single record if the search-key is a candid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 = (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) *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multiple records if search-key is not a candid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ching records may be on a different bloc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)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very expens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Involving Comparis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5960" y="980640"/>
            <a:ext cx="8553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lement selections of the for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y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ar file sc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by using indices in the following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lation is sorted o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 index to find first tup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scan relation sequentially  from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just scan relation sequentially till first tuple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us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econdary index, 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 index to find first index ent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can index sequentially  from there, to find pointers to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just scan leaf pages of index finding pointers to records, till first entry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ther case, retrieve records that are poin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n I/O for each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ile scan may be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different algorithms to implement j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ed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based on cost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use the follow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cord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5,000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o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100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2760" y="1165320"/>
            <a:ext cx="793116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ute the theta join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i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if they satisfy the 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uter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ner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indices and can be used with any kind of joi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ive since it examines every pair of tuples in the two rel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28"/>
          <p:cNvSpPr/>
          <p:nvPr/>
        </p:nvSpPr>
        <p:spPr>
          <a:xfrm rot="5400000">
            <a:off x="4957560" y="131292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4520" y="1164960"/>
            <a:ext cx="81151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worst case, if there is enough memory only to hold one block of each relation, the estimated cost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, pl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maller relation fits entirely in memory, use that as the inn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cos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 and 2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worst case memory availability cost estim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uter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0 + 100 = 2,000,100 block transf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+ 100 = 5100 see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outer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 + 400 = 1,000,400 block transfers and 10,400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maller rela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ts entirely in memory, the cost estimate will be 500 block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ested-loops algorithm (next slide) is pref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185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04640"/>
                <a:tab algn="l" pos="793800"/>
                <a:tab algn="l" pos="119844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 of nested-loop join in which every block of inner relation is paired with every block of out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04640"/>
                <a:tab algn="l" pos="793800"/>
                <a:tab algn="l" pos="119844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y the join condi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8320" y="1165320"/>
            <a:ext cx="78883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 estimate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 transfers + 2 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lock in the inner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ad once 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outer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cas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 2 see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to nested loop and block nested loop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lock nested-loop,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isk blocks as blocking unit for outer relations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emory size in blocks; use remaining two blocks to buffer inner relation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(M-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(M-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i-join attribute forms a key or inner relation, stop inner loop on firs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inner loop forward and backward alternately, to make use of the blocks remaining in buffer (with LRU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 on inner relation if available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optim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96680" y="10173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ways of evaluating a given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lgorithms for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13"/>
          <p:cNvPicPr/>
          <p:nvPr/>
        </p:nvPicPr>
        <p:blipFill>
          <a:blip r:embed="rId1"/>
          <a:stretch/>
        </p:blipFill>
        <p:spPr>
          <a:xfrm>
            <a:off x="882720" y="2538360"/>
            <a:ext cx="7350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120320"/>
            <a:ext cx="825516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valuation 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exactly what algorithm is used for each operation, and how the execution of the operations is coord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13"/>
          <p:cNvPicPr/>
          <p:nvPr/>
        </p:nvPicPr>
        <p:blipFill>
          <a:blip r:embed="rId1"/>
          <a:stretch/>
        </p:blipFill>
        <p:spPr>
          <a:xfrm>
            <a:off x="1406520" y="1979640"/>
            <a:ext cx="6105600" cy="3701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554040" y="6022800"/>
            <a:ext cx="8412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out how to view query execution plans on your favorit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20952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" y="1120680"/>
            <a:ext cx="813096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difference between evaluation plans for a query can be enor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conds vs. days in som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i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st-based query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logically equivalent expressions using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quival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resultant expressions to get alternative que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cheapest plan based o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stimate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of plan cost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formation about relations.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uples, number of distinct values for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s estimation for intermedi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ute cost of complex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ormulae for algorithms, computed using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7080" y="495360"/>
            <a:ext cx="7291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7921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he query into its internal form.  This is then translated into relational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 checks syntax, verifies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ry-execution engine takes a query-evaluation plan, executes that plan, and returns the answers to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0960" y="15480"/>
            <a:ext cx="9121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formation of Relational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767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relational algebra expressions are said to b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quival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 two expressions generate the same set of tuples on eve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rder of tuple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are if they generate different results on databases that violate 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QL, inputs and outputs are multisets of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expressions in the multiset version of the relational algebra are said to be equivalent if the two expressions generate the same multiset of tuples on every legal database inst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quivalence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s that expressions of two forms ar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ace expression of first form by second, or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120680"/>
            <a:ext cx="75661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ctive selection operations can be deconstructed into a sequence of individual sele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perations are commutativ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e last in a sequence of projection operations is needed, the others can be omitte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s can be combined with Cartesian products and theta jo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Symbol" charset="2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Symbol" charset="2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744640" y="2608200"/>
                <a:ext cx="2940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2873520" y="1797120"/>
                <a:ext cx="2792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2792520" y="3913200"/>
                <a:ext cx="4093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…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…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AutoShape 9"/>
          <p:cNvSpPr/>
          <p:nvPr/>
        </p:nvSpPr>
        <p:spPr>
          <a:xfrm rot="5400000">
            <a:off x="3779640" y="53006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 rot="5400000">
            <a:off x="2566800" y="57546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 rot="5400000">
            <a:off x="4233600" y="56912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ta-join operations (and natural joins) are commutativ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Natural join operations are associ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Theta joins are associative in the following manne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attributes from on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 rot="5400000">
            <a:off x="1953720" y="35798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 rot="5400000">
            <a:off x="2909520" y="35686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 rot="5400000">
            <a:off x="4790880" y="35766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 rot="5400000">
            <a:off x="6159240" y="357192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 rot="5400000">
            <a:off x="5378040" y="231300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4748040" y="23382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3667320" y="232740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 rot="5400000">
            <a:off x="3034800" y="23302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 rot="5400000">
            <a:off x="4764240" y="149076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rot="5400000">
            <a:off x="3412800" y="1496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6960" y="5544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ctorial Depiction of Equivalence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rcRect l="642" t="2284" r="642" b="1998"/>
          <a:stretch/>
        </p:blipFill>
        <p:spPr>
          <a:xfrm>
            <a:off x="1273320" y="1093680"/>
            <a:ext cx="67435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200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ion operation distributes over the theta join operation under the following two condi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 When all the attribute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olve only the attributes of 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of the expression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ing joine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only th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olves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only th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 rot="5400000">
            <a:off x="3095280" y="273996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5400000">
            <a:off x="3583080" y="417528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 rot="5400000">
            <a:off x="5105520" y="273852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5400000">
            <a:off x="5673240" y="41860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56800" y="1054080"/>
            <a:ext cx="7899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ion operation distributes over the theta join operation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olves only attribute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Consider a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ets of attribute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spectiv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involved in 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re no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re involved in 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are no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 rot="5400000">
            <a:off x="3758760" y="28940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4"/>
          <p:cNvGrpSpPr/>
          <p:nvPr/>
        </p:nvGrpSpPr>
        <p:grpSpPr>
          <a:xfrm>
            <a:off x="2427480" y="2179800"/>
            <a:ext cx="4610520" cy="399960"/>
            <a:chOff x="2427480" y="2179800"/>
            <a:chExt cx="4610520" cy="399960"/>
          </a:xfrm>
        </p:grpSpPr>
        <p:sp>
          <p:nvSpPr>
            <p:cNvPr id="170" name="Rectangle 14"/>
            <p:cNvSpPr/>
            <p:nvPr/>
          </p:nvSpPr>
          <p:spPr>
            <a:xfrm>
              <a:off x="6851520" y="22078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646668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593676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5387760" y="22078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503172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452412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416340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314928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2"/>
            <p:cNvSpPr/>
            <p:nvPr/>
          </p:nvSpPr>
          <p:spPr>
            <a:xfrm>
              <a:off x="674244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4"/>
            <p:cNvSpPr/>
            <p:nvPr/>
          </p:nvSpPr>
          <p:spPr>
            <a:xfrm>
              <a:off x="528984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>
              <a:off x="405396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7"/>
            <p:cNvSpPr/>
            <p:nvPr/>
          </p:nvSpPr>
          <p:spPr>
            <a:xfrm>
              <a:off x="340740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8"/>
            <p:cNvSpPr/>
            <p:nvPr/>
          </p:nvSpPr>
          <p:spPr>
            <a:xfrm>
              <a:off x="635976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9"/>
            <p:cNvSpPr/>
            <p:nvPr/>
          </p:nvSpPr>
          <p:spPr>
            <a:xfrm>
              <a:off x="493308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0"/>
            <p:cNvSpPr/>
            <p:nvPr/>
          </p:nvSpPr>
          <p:spPr>
            <a:xfrm>
              <a:off x="304272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1"/>
            <p:cNvSpPr/>
            <p:nvPr/>
          </p:nvSpPr>
          <p:spPr>
            <a:xfrm>
              <a:off x="275328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657144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513900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388404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5"/>
            <p:cNvSpPr/>
            <p:nvPr/>
          </p:nvSpPr>
          <p:spPr>
            <a:xfrm>
              <a:off x="325656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627444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486180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295740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9"/>
            <p:cNvSpPr/>
            <p:nvPr/>
          </p:nvSpPr>
          <p:spPr>
            <a:xfrm>
              <a:off x="267912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0"/>
            <p:cNvSpPr/>
            <p:nvPr/>
          </p:nvSpPr>
          <p:spPr>
            <a:xfrm>
              <a:off x="6022080" y="2179800"/>
              <a:ext cx="24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1"/>
            <p:cNvSpPr/>
            <p:nvPr/>
          </p:nvSpPr>
          <p:spPr>
            <a:xfrm>
              <a:off x="4609440" y="2179800"/>
              <a:ext cx="24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2"/>
            <p:cNvSpPr/>
            <p:nvPr/>
          </p:nvSpPr>
          <p:spPr>
            <a:xfrm>
              <a:off x="4282920" y="217980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3"/>
            <p:cNvSpPr/>
            <p:nvPr/>
          </p:nvSpPr>
          <p:spPr>
            <a:xfrm>
              <a:off x="2427480" y="2179800"/>
              <a:ext cx="24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44"/>
            <p:cNvSpPr/>
            <p:nvPr/>
          </p:nvSpPr>
          <p:spPr>
            <a:xfrm>
              <a:off x="2821680" y="235080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45"/>
            <p:cNvSpPr/>
            <p:nvPr/>
          </p:nvSpPr>
          <p:spPr>
            <a:xfrm>
              <a:off x="5799960" y="2364120"/>
              <a:ext cx="8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6"/>
            <p:cNvSpPr/>
            <p:nvPr/>
          </p:nvSpPr>
          <p:spPr>
            <a:xfrm>
              <a:off x="3754440" y="2364120"/>
              <a:ext cx="8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47"/>
            <p:cNvGrpSpPr/>
            <p:nvPr/>
          </p:nvGrpSpPr>
          <p:grpSpPr>
            <a:xfrm>
              <a:off x="3544560" y="2290320"/>
              <a:ext cx="2241720" cy="177840"/>
              <a:chOff x="3544560" y="2290320"/>
              <a:chExt cx="2241720" cy="177840"/>
            </a:xfrm>
          </p:grpSpPr>
          <p:sp>
            <p:nvSpPr>
              <p:cNvPr id="202" name="AutoShape 7"/>
              <p:cNvSpPr/>
              <p:nvPr/>
            </p:nvSpPr>
            <p:spPr>
              <a:xfrm rot="5400000">
                <a:off x="3542760" y="2291760"/>
                <a:ext cx="174960" cy="17172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"/>
              <p:cNvSpPr/>
              <p:nvPr/>
            </p:nvSpPr>
            <p:spPr>
              <a:xfrm rot="5400000">
                <a:off x="5612760" y="2294640"/>
                <a:ext cx="175320" cy="17172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48"/>
          <p:cNvSpPr/>
          <p:nvPr/>
        </p:nvSpPr>
        <p:spPr>
          <a:xfrm>
            <a:off x="7692480" y="5456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732852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654300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6023160" y="5456160"/>
            <a:ext cx="1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568548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4842000" y="5456160"/>
            <a:ext cx="1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382356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278856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759096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9"/>
          <p:cNvSpPr/>
          <p:nvPr/>
        </p:nvSpPr>
        <p:spPr>
          <a:xfrm>
            <a:off x="593064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0"/>
          <p:cNvSpPr/>
          <p:nvPr/>
        </p:nvSpPr>
        <p:spPr>
          <a:xfrm>
            <a:off x="372060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1"/>
          <p:cNvSpPr/>
          <p:nvPr/>
        </p:nvSpPr>
        <p:spPr>
          <a:xfrm>
            <a:off x="303480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2"/>
          <p:cNvSpPr/>
          <p:nvPr/>
        </p:nvSpPr>
        <p:spPr>
          <a:xfrm>
            <a:off x="722880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3"/>
          <p:cNvSpPr/>
          <p:nvPr/>
        </p:nvSpPr>
        <p:spPr>
          <a:xfrm>
            <a:off x="694476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4"/>
          <p:cNvSpPr/>
          <p:nvPr/>
        </p:nvSpPr>
        <p:spPr>
          <a:xfrm>
            <a:off x="558900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5"/>
          <p:cNvSpPr/>
          <p:nvPr/>
        </p:nvSpPr>
        <p:spPr>
          <a:xfrm>
            <a:off x="531756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6"/>
          <p:cNvSpPr/>
          <p:nvPr/>
        </p:nvSpPr>
        <p:spPr>
          <a:xfrm>
            <a:off x="474264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7"/>
          <p:cNvSpPr/>
          <p:nvPr/>
        </p:nvSpPr>
        <p:spPr>
          <a:xfrm>
            <a:off x="446652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8"/>
          <p:cNvSpPr/>
          <p:nvPr/>
        </p:nvSpPr>
        <p:spPr>
          <a:xfrm>
            <a:off x="268848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9"/>
          <p:cNvSpPr/>
          <p:nvPr/>
        </p:nvSpPr>
        <p:spPr>
          <a:xfrm>
            <a:off x="241380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742932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1"/>
          <p:cNvSpPr/>
          <p:nvPr/>
        </p:nvSpPr>
        <p:spPr>
          <a:xfrm>
            <a:off x="578772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2"/>
          <p:cNvSpPr/>
          <p:nvPr/>
        </p:nvSpPr>
        <p:spPr>
          <a:xfrm>
            <a:off x="356040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3"/>
          <p:cNvSpPr/>
          <p:nvPr/>
        </p:nvSpPr>
        <p:spPr>
          <a:xfrm>
            <a:off x="289044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4"/>
          <p:cNvSpPr/>
          <p:nvPr/>
        </p:nvSpPr>
        <p:spPr>
          <a:xfrm>
            <a:off x="714600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5"/>
          <p:cNvSpPr/>
          <p:nvPr/>
        </p:nvSpPr>
        <p:spPr>
          <a:xfrm>
            <a:off x="686340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6"/>
          <p:cNvSpPr/>
          <p:nvPr/>
        </p:nvSpPr>
        <p:spPr>
          <a:xfrm>
            <a:off x="551088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7"/>
          <p:cNvSpPr/>
          <p:nvPr/>
        </p:nvSpPr>
        <p:spPr>
          <a:xfrm>
            <a:off x="524736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8"/>
          <p:cNvSpPr/>
          <p:nvPr/>
        </p:nvSpPr>
        <p:spPr>
          <a:xfrm>
            <a:off x="466020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9"/>
          <p:cNvSpPr/>
          <p:nvPr/>
        </p:nvSpPr>
        <p:spPr>
          <a:xfrm>
            <a:off x="439668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0"/>
          <p:cNvSpPr/>
          <p:nvPr/>
        </p:nvSpPr>
        <p:spPr>
          <a:xfrm>
            <a:off x="260748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234396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2"/>
          <p:cNvSpPr/>
          <p:nvPr/>
        </p:nvSpPr>
        <p:spPr>
          <a:xfrm>
            <a:off x="702000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3"/>
          <p:cNvSpPr/>
          <p:nvPr/>
        </p:nvSpPr>
        <p:spPr>
          <a:xfrm>
            <a:off x="538308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4"/>
          <p:cNvSpPr/>
          <p:nvPr/>
        </p:nvSpPr>
        <p:spPr>
          <a:xfrm>
            <a:off x="453384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247968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6"/>
          <p:cNvSpPr/>
          <p:nvPr/>
        </p:nvSpPr>
        <p:spPr>
          <a:xfrm>
            <a:off x="662508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7"/>
          <p:cNvSpPr/>
          <p:nvPr/>
        </p:nvSpPr>
        <p:spPr>
          <a:xfrm>
            <a:off x="500904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8"/>
          <p:cNvSpPr/>
          <p:nvPr/>
        </p:nvSpPr>
        <p:spPr>
          <a:xfrm>
            <a:off x="415980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9"/>
          <p:cNvSpPr/>
          <p:nvPr/>
        </p:nvSpPr>
        <p:spPr>
          <a:xfrm>
            <a:off x="3936960" y="5425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0"/>
          <p:cNvSpPr/>
          <p:nvPr/>
        </p:nvSpPr>
        <p:spPr>
          <a:xfrm>
            <a:off x="210528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1"/>
          <p:cNvSpPr/>
          <p:nvPr/>
        </p:nvSpPr>
        <p:spPr>
          <a:xfrm>
            <a:off x="6413400" y="5611680"/>
            <a:ext cx="7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2"/>
          <p:cNvSpPr/>
          <p:nvPr/>
        </p:nvSpPr>
        <p:spPr>
          <a:xfrm>
            <a:off x="3417840" y="5597640"/>
            <a:ext cx="7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93"/>
          <p:cNvGrpSpPr/>
          <p:nvPr/>
        </p:nvGrpSpPr>
        <p:grpSpPr>
          <a:xfrm>
            <a:off x="3211200" y="5526000"/>
            <a:ext cx="3208320" cy="192240"/>
            <a:chOff x="3211200" y="5526000"/>
            <a:chExt cx="3208320" cy="192240"/>
          </a:xfrm>
        </p:grpSpPr>
        <p:sp>
          <p:nvSpPr>
            <p:cNvPr id="248" name="AutoShape 9"/>
            <p:cNvSpPr/>
            <p:nvPr/>
          </p:nvSpPr>
          <p:spPr>
            <a:xfrm rot="5400000">
              <a:off x="6238440" y="5533920"/>
              <a:ext cx="189000" cy="1731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0"/>
            <p:cNvSpPr/>
            <p:nvPr/>
          </p:nvSpPr>
          <p:spPr>
            <a:xfrm rot="5400000">
              <a:off x="3203280" y="5537160"/>
              <a:ext cx="189000" cy="1731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120680"/>
            <a:ext cx="80154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0160" indent="-38016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9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perations union and intersection are commuta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1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 difference is not commut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10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nion and intersection are assoc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11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ion operation distributes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–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imilarl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lace of 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: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and similarly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lace of  –, but not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ion operation distributes over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equivalence rules in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p by/aggregatio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outer joi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formation Example: Pushing Sele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:  Find the names of all instructors in the Music department, along with the titles of the courses that they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(teaches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using rule 7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(teaches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the selection as early as possible reduces the size of the relation to be jo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 rot="5400000">
            <a:off x="3009600" y="223200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5400000">
            <a:off x="6391080" y="334008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5400000">
            <a:off x="4549320" y="22510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 rot="5400000">
            <a:off x="3849480" y="370512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with Multiple Transform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ames of all instructors in the Music department who have taught a course in 2009, along with the titles of the courses that they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200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(teaches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using join associatively (Rule 6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ea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200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teaches)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form provides an opportunity to apply 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selections earl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ule, resulting in the sub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 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year = 20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 rot="5400000">
            <a:off x="5025600" y="49402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 rot="5400000">
            <a:off x="4530240" y="3890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 rot="5400000">
            <a:off x="3128760" y="38448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"/>
          <p:cNvSpPr/>
          <p:nvPr/>
        </p:nvSpPr>
        <p:spPr>
          <a:xfrm rot="5400000">
            <a:off x="4411440" y="26082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"/>
          <p:cNvSpPr/>
          <p:nvPr/>
        </p:nvSpPr>
        <p:spPr>
          <a:xfrm rot="5400000">
            <a:off x="3045960" y="260496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5960" y="301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 : Optim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0240" y="1149120"/>
            <a:ext cx="802512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onal algebra expression may have many 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5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5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lational algebra operation can be evaluated using one of several different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ly, a relational-algebra expression can be evaluated in many w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d expression specifying detailed evaluation strategy is called a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valuation-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n use an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nd instructors with salary &lt; 75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an perform complete relation scan and discard instructors with sala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Transform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8" name="Picture 6" descr="13"/>
          <p:cNvPicPr/>
          <p:nvPr/>
        </p:nvPicPr>
        <p:blipFill>
          <a:blip r:embed="rId1"/>
          <a:stretch/>
        </p:blipFill>
        <p:spPr>
          <a:xfrm>
            <a:off x="514440" y="1725480"/>
            <a:ext cx="80182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formation Example: Pushing Proje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=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btain a relation whose schema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, name, dept_name, salary, course_id, sec_id, semester,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projections using equivalence rules 8a and 8b; eliminate unneeded attributes from intermediate results to get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the projection as early as possible reduces the size of the relation to be jo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 rot="5400000">
            <a:off x="6972120" y="11984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 rot="5400000">
            <a:off x="4709880" y="22208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 rot="5400000">
            <a:off x="2636640" y="48402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 rot="5400000">
            <a:off x="4806720" y="15336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 rot="5400000">
            <a:off x="6644880" y="45640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rdering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rel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oin Associa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quite large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mall, we ch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we compute and store a smaller temporary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 rot="5400000">
            <a:off x="3211200" y="16462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 rot="5400000">
            <a:off x="4608000" y="163332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 rot="5400000">
            <a:off x="3690720" y="16286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 rot="5400000">
            <a:off x="5211360" y="16174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 rot="5400000">
            <a:off x="3227040" y="30146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 rot="5400000">
            <a:off x="3749400" y="299556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 rot="5400000">
            <a:off x="1682280" y="247464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 rot="5400000">
            <a:off x="4462560" y="242424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rdering Examp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5582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compute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and join result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the result of the first jo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ikely to be a large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mall fraction of the universit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nstructors are likely to be from the Music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better to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rot="5400000">
            <a:off x="6725880" y="162216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 rot="5400000">
            <a:off x="4192200" y="232704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/>
          <p:cNvSpPr/>
          <p:nvPr/>
        </p:nvSpPr>
        <p:spPr>
          <a:xfrm rot="5400000">
            <a:off x="5547960" y="475272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 rot="5400000">
            <a:off x="4704840" y="1928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6696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umeration of Equivalent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120680"/>
            <a:ext cx="803736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optimizers use equivalence rul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e expressions equivalent to the give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generate all equivalent expressions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all applicable equivalence  rules on every subexpression of every equivalent expression foun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ly generated expressions to the set of equivalent expr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no new equivalent expressions are generate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approach is very expensive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 plan generation based on transform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 approach for queries with only selections, projections and j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st Estim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each operator computed as described in Chapter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tatistics of input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umber of tuples, sizes of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 can be results of sub-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estimate statistics of express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so, we require additiona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umber of distinct values for a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cost estimation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oice of Evaluation Pla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1120320"/>
            <a:ext cx="79009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sider the interaction of evaluation techniques when choosing evalua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ing the cheapest algorithm for each operation independently may not yield best overall algorithm. 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-join may be costlier than hash-join, but may provide a sorted output which reduces the cost for an outer level aggre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-loop join may provide opportunity for pipe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query optimizers incorporate elements of the following two broad appro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all the plans and choose the best plan in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based fash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Uses heuristics to choose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7840" y="262080"/>
            <a:ext cx="8721720" cy="39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tistical Information for Cost Estim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12068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uples in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umber of blocks containing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ze of a tupl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facto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.e., the number of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it into on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(A, r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 of distinct values that appear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the siz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tored together physically in a file, then: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465360" y="3878280"/>
                <a:ext cx="889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: Optim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Query Optimizatio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ongst all equivalent evaluation plans choose the one with lowest c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s estimated using statistical information from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number of tuples in each relation, size of tup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hapter w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measure qu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for evaluating relational algebr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mbine algorithms for individual operations in order to evaluate a complet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hapter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udy how to optimize queries, that is, how to find an evaluation plan with lowest estimate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8980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s generally measured as total elapsed time for answering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ctors contribute to tim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k accesses, CP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even networ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isk access is the predominant cost, and is also relatively easy to estimate.   Measured by taking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eeks             * average-seek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read     * average-block-read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written * average-block-write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to write a block is greater than cost to read a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read back after being written to ensure that the write was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2760" y="1164960"/>
            <a:ext cx="8073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implicity we just use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block transfe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disk an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see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cost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ime to transfer on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ime for one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or b block transfers plus S see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*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S *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ignore CPU costs for sim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systems do take CPU cost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 not include cost to writing output to disk in our cost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91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algorithms can reduce disk IO by using extra buffer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real memory available to buffer depends on other concurrent queries and OS processes, known only during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ften use worst case estimates, assuming only the minimum amount of memory needed for the operation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data may be buffer resident already, avoiding disk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ard to take into account for cost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7360" y="1047600"/>
            <a:ext cx="8363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File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inear 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Scan each file block and test all records to see whether they satisfy the selectio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stimate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 1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s number of blocks containing records from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lection is on a key attribute, can stop on finding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 block transfers + 1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earch can be applied regardles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condition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records in the file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binary search generally does not make sense since data is not stored consecu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when there is an index avail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inary search requires more seeks than index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Using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357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dex sc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earch algorithms that use a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condition must be on search-key of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equality on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trieve a single record that satisfies the corresponding equality condi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) *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equality on non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multiple rec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will be on consecutive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b = number of blocks containing matching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8:58:38Z</dcterms:created>
  <dc:creator>Silberschatz, Korth and Sudarshan</dc:creator>
  <dc:description/>
  <dc:language>en-US</dc:language>
  <cp:lastModifiedBy>hassan</cp:lastModifiedBy>
  <cp:lastPrinted>1999-06-28T19:27:31Z</cp:lastPrinted>
  <dcterms:modified xsi:type="dcterms:W3CDTF">2017-10-25T10:55:19Z</dcterms:modified>
  <cp:revision>488</cp:revision>
  <dc:subject/>
  <dc:title>Chapter 12: Query Processing</dc:title>
</cp:coreProperties>
</file>