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59D8FB-D212-4907-B28E-6859B20C6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83DA3F-0DC6-496E-95AB-DDB2C48B2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CDF7C3-C9FE-4950-AE22-1218A498E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91A636-188C-4023-B1A7-44B4CB167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15E5B3-0651-42D8-A3DA-21D05D680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CC3F3E-7F1D-499A-8987-FD479D6CF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04DD87-7AFC-496D-AB41-E14DF515A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73A771-6BA3-4AB6-A916-4451739D3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C60D8A-142E-467B-8D30-1973B5EE5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4C361D-4242-4544-B04B-93937A47A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45E840-0921-45D1-9D69-6F0458CBE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7ACFC5-CFB7-4FA8-8119-E758D0ACD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3F0497-7842-4CDD-9F1C-CA009F7E6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D90F94-E1FC-481D-B252-124DC2575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DA415A-D9EF-4BD4-821D-846E7A54F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055E86-5A41-4449-A676-30CFF337C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A6F929-5EE6-476F-A151-F94C58B65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65A8DB-005D-45CA-9528-DF1456956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5E2D3B-6000-4750-A75C-4670FD9D3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092C10-9D28-4184-9B27-E83681648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453EF9-E317-4E90-83FA-1683A1DF4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9F1A72-ED70-46CE-9D89-FF001023F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2E47EB-535E-456B-8481-263D88CB9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5D557A-6348-4AA6-AB99-ED3CA314E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C64B40-3307-4CBE-8462-D54BD6906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F3F6AD-28B9-44CB-9E65-AE3E167FB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F6C2CC-474B-4A19-B264-911495CC5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6B0A43-0DAB-4353-B2DE-0F528D645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E02456-CF59-485E-8124-E8AF3610C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87FE8E-91F3-4F78-A99E-0405332A6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D8BC6C-C825-4FA9-8950-21BFA83A3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14.</a:t>
            </a:r>
            <a:fld id="{0DCDEBB3-5CCD-485E-BB9E-948C1A897D9B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Transa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t Execu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001880"/>
            <a:ext cx="6910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ransactions are allowed to run concurrently in the system.  Advantag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processor and disk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ding to bett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ne transaction can be using the CPU while another is reading from or writing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average 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ransactions: short transactions need not wait behind long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cy control schem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echanisms  to achieve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to control the interaction among the concurrent transactions in order to prevent them from destroying the consistency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tudy in Chapter 15, after studying notion of correctness of concurrent exec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8960" y="1106280"/>
            <a:ext cx="72756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sequences of instructions that specify the chronological order in which instructions of concurrent transactions ar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for a set of transactions must consist of all instructions of thos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serve the order in which the instructions appear in each individual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uccessfully completes its execution will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 transaction assumed to execute commit instruction as its la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fails to successfully complete its execution will hav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$50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10% of the balance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of a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1"/>
          <a:stretch/>
        </p:blipFill>
        <p:spPr>
          <a:xfrm>
            <a:off x="3027240" y="2063880"/>
            <a:ext cx="2932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2916360" y="1763640"/>
            <a:ext cx="2678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7658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transactions defined previousl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he following schedule is not a serial schedule, but it i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quival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chedu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170000" y="5472000"/>
            <a:ext cx="6724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-- In schedules 1, 2 and 3, the sum “A + B” is preser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3138480" y="1803240"/>
            <a:ext cx="2716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213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concurrent schedule does not preserve the sum  of 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2913120" y="1974960"/>
            <a:ext cx="29019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02840" y="1157040"/>
            <a:ext cx="69152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As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transaction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serial execution of a set of transactions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possibly concurrent) schedule is serializable if it is equivalent to a serial schedule.  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plified view of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5040" y="844200"/>
            <a:ext cx="67611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gnore operations oth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ransactions may perform arbitrary computations on data in local buffers in between reads and wr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implified schedules consist of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ing Instru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14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 two Instructions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 Instructi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there exists some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d by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t least one of these instructions wro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They confl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ly, a conflict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 (logical) temporal order between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secutive in a schedule and they do not conflict, their results would remain the same even if they had been interchanged in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1179360"/>
            <a:ext cx="63658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ansformed into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series of swaps of non-conflicting instructions, 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conflict equivalent to a ser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564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89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11360"/>
                <a:tab algn="l" pos="326232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3 can be transformed into Schedule 6 -- a serial schedule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y a series of swaps of non-conflicting instructions.  Therefore, Schedule 3 is conflict serializ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083320" y="5059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986800" y="50785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1368360" y="2181240"/>
            <a:ext cx="3092400" cy="2505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"/>
          <p:cNvPicPr/>
          <p:nvPr/>
        </p:nvPicPr>
        <p:blipFill>
          <a:blip r:embed="rId2"/>
          <a:stretch/>
        </p:blipFill>
        <p:spPr>
          <a:xfrm>
            <a:off x="4911840" y="2182680"/>
            <a:ext cx="3319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727200"/>
            <a:ext cx="69976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schedule that is not conflict serializabl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unable to swap instructions in the above schedule to obtain eithe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o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2327400" y="1604880"/>
            <a:ext cx="3916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cedence Grap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1840" y="1093320"/>
            <a:ext cx="67960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me schedule of a set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edence grap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a direct graph where the vertices are the transactions (n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raw an arc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wo transaction conflic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d the data item on which the conflict aros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label the arc by the item that was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3317760" y="4000680"/>
            <a:ext cx="25894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3120" y="117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3840" y="1106640"/>
            <a:ext cx="50972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chedule is conflict serializable if and only if its precedence graph is acyc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-detection algorithms exist which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ime,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number of vertices in the grap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tter algorithms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number of edg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recedence graph is acyclic, the serializability order can be obtained by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topological sor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gra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a linear order consistent with the partial order of the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 serializability order for the schedule (a)  would be one of either (b) or (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6113520" y="1209600"/>
            <a:ext cx="26305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le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158480"/>
            <a:ext cx="70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coverable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ds a data item previously written by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ear before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schedule is not recoverable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immediately after the read(A) ope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abor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uld have read (and possibly shown to the user) an inconsistent database state.  Hence, database must ensure that schedules are recover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1"/>
          <a:stretch/>
        </p:blipFill>
        <p:spPr>
          <a:xfrm>
            <a:off x="3052800" y="2705040"/>
            <a:ext cx="303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ing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69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ing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single transaction failure leads to a series of transaction rollbacks.  Consider the following schedule where none of the transactions has yet committed (so the schedule is recoverabl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ls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the undoing of a significant amoun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2212920" y="242568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eless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6960" y="1222200"/>
            <a:ext cx="7080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eless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for each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ds a data item previously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read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scadeless schedule is also 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rable to restrict the schedules to those that are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 a schedule that is NOT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1"/>
          <a:stretch/>
        </p:blipFill>
        <p:spPr>
          <a:xfrm>
            <a:off x="2274840" y="369720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38160" y="1106640"/>
            <a:ext cx="750888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must provide a mechanism that will ensure that all possible schedules are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serializ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le and preferably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cy in which only one transaction can execute at a time generates serial schedules, but provides a poor degree of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schemes tradeoff between the amount of concurrency they allow and the amount of overhead that they in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schedule for serializ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has executed is a little too l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for serializability help us understand why a concurrency control protocol is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 develop concurrency control protocols that will assure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57160" y="1150920"/>
            <a:ext cx="7182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are willing to live with weak levels of consistency, allowing schedules that are not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 read-only transaction that wants to get an approximate total balance of all ac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atabase statistics computed for query optimization can be approximate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ransactions need not be serializable with respect to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off accurac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Consistency in SQL-9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25796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to be read, repeated reads of same record must return same value.  However, a transaction may not be serializable – it may find some records inserted by a transaction but not find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can be read, but successive reads of record may return different (but committed)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uncommitted records may be re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839880" y="3506760"/>
            <a:ext cx="74833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degrees of consistency useful for gathering approxim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some database systems do not ensure serializable schedules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Oracle and PostgreSQL by default support a level of consistency called snapshot isolation (not part of the SQL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cep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0740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gram execution that accesses and  possibly updates various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action to transfer $50 from account A to account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issues to deal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of various kinds, such as hardware failures and system c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multi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Defini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95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 language must include a construct for specifying the set of actions that comprise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, a transaction begins im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n SQL ends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s current transaction and begins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current transaction to ab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all database systems, by default, every SQL statement also commits implicitly if it executes success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ommit can be turned off by a database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 JDBC, connection.setAutoCommit(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quired  Properties of a Trans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38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omic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ransaction fails after step 3 and before step 6, money will be “lost” leading to an inconsistent databas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be due to software or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should ensure that updates of a partially executed transaction are not reflected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rabil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once the user has been notified that the transaction has completed (i.e., the transfer of the $50 has taken place), the updates to the database by the transaction must persist even if there are software or hardware fai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8240" y="117360"/>
            <a:ext cx="837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960" y="1149480"/>
            <a:ext cx="724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 requi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bove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m of A and B is unchanged by the execution of the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consistency requirements incl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specified integrity constraints such as primary keys and foreign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um of balances of all accounts, minus sum of loan amounts must equal value of cash-in-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, when starting to execute,  must see a consistent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ransaction execution the database may be temporarily inconsi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transaction completes successfully the database must be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neous transaction logic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37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solation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between steps 3 and 6 (of the fund transfer transaction) , another transac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llowed to access the partially updated database, it will see an inconsistent database (the sum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less than it should b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                                       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read(A), read(B), print(A+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 can be ensured trivially by running transaction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one after the other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executing multiple transactions concurrently has significant benefits, as we will see l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080800"/>
            <a:ext cx="78724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1800" y="1106280"/>
            <a:ext cx="82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unit of program execution that accesses and possibly updates various data items. To preserve the integrity of data the database system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493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; the transaction stays in this state while it i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ly 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inal statement has been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discovery that normal execution can no longer pro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the transaction has been rolled back and the database restored to its state prior to the start of the transaction.  Two options after it has been abo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only if no internal logica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successful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1677960" y="1593720"/>
            <a:ext cx="54529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3Z</dcterms:created>
  <dc:creator>Marilyn Turnamian</dc:creator>
  <dc:description/>
  <dc:language>en-US</dc:language>
  <cp:lastModifiedBy>hassan</cp:lastModifiedBy>
  <cp:lastPrinted>1999-06-28T19:27:31Z</cp:lastPrinted>
  <dcterms:modified xsi:type="dcterms:W3CDTF">2017-10-24T19:54:22Z</dcterms:modified>
  <cp:revision>592</cp:revision>
  <dc:subject/>
  <dc:title>Chapter 7:  Relational Database Design</dc:title>
</cp:coreProperties>
</file>