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8C147F-950D-453D-8B96-2799D690B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A22EFA-21E4-4E44-B892-128AECE35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A5F41F-0C7C-4623-A951-E0840FAA5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A4A224-EF83-4BE9-9FAF-A3E53E416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410A2F-D148-4EC1-AE71-C61221D0F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0513FD-A40E-4FE8-A668-A781EAC34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45F2D3-2939-4589-9B3F-3E469D13F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84ECFA-3032-46D1-8283-7F3B260C0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CB8E26-803A-43DE-8FC2-84EE3A276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8EA5E6-402E-46BD-8398-11ACDCAFA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0BBC58-00A6-4FB1-8B48-5F6D9E372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09B766-1612-4F02-B79B-1FC859943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1E17F3-90D9-49EE-A936-EF475A51B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D6A0DD-9E5E-4F70-9931-6D73EA58F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DF15A8-BE54-4D43-B21D-5DAE75325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97786F-1364-4BFB-BB98-C133336A0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EBDEF0-FEE9-451A-99FC-CA71F12DE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F6C62A-C399-4482-9472-17B35C141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C1BC2E-FC08-47CC-BEA5-0E736EB75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770F4D-04E0-4944-BC2D-C0E8C059B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F84C09-0A9B-4975-8DEB-DD395EB1D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7C4172-F380-40B0-A3C9-85B2C6611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1EA936-85EF-4953-AD5B-BA8949911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CCE830-5E6C-45E5-8898-38A3E5ACE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DE5ADE-80CB-484E-8CBD-A60FA5D4C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7CF26D-2EA0-41C9-BCDB-734DDE469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A2D90D-8349-4F1C-AFD3-D6B896985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703CE7-CFB3-4FA1-B540-7E9384C21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CBD5BD-967A-4DE3-AE84-C78C77637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0ADC57-9433-4B46-9030-E4C947678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6B1004-9408-4D7C-9608-84060B639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14.</a:t>
            </a:r>
            <a:fld id="{ACCA6119-B757-48EB-9D01-B9850E6A9255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900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4: Transa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t Execu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001880"/>
            <a:ext cx="6910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ransactions are allowed to run concurrently in the system.  Advantag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processor and disk ut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ading to bett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one transaction can be using the CPU while another is reading from or writing to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average respons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ransactions: short transactions need not wait behind long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cy control schem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echanisms  to achieve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to control the interaction among the concurrent transactions in order to prevent them from destroying the consistency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tudy in Chapter 15, after studying notion of correctness of concurrent exec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8960" y="1106280"/>
            <a:ext cx="72756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sequences of instructions that specify the chronological order in which instructions of concurrent transactions ar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edule for a set of transactions must consist of all instructions of thos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eserve the order in which the instructions appear in each individual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successfully completes its execution will hav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 transaction assumed to execute commit instruction as its la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that fails to successfully complete its execution will have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 as the last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1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4556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fer $50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fer 10% of the balance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ample of a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"/>
          <p:cNvPicPr/>
          <p:nvPr/>
        </p:nvPicPr>
        <p:blipFill>
          <a:blip r:embed="rId1"/>
          <a:stretch/>
        </p:blipFill>
        <p:spPr>
          <a:xfrm>
            <a:off x="3027240" y="2063880"/>
            <a:ext cx="2932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94556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in whi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followe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2916360" y="1763640"/>
            <a:ext cx="2678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3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76584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he transactions defined previously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he following schedule is not a serial schedule, but it i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quivalen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chedule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170000" y="5472000"/>
            <a:ext cx="6724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-- In schedules 1, 2 and 3, the sum “A + B” is preser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1"/>
          <a:stretch/>
        </p:blipFill>
        <p:spPr>
          <a:xfrm>
            <a:off x="3138480" y="1803240"/>
            <a:ext cx="27162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hedule 4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213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947960"/>
                <a:tab algn="l" pos="2684520"/>
                <a:tab algn="l" pos="359424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concurrent schedule does not preserve the sum  of  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2913120" y="1974960"/>
            <a:ext cx="29019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02840" y="1157040"/>
            <a:ext cx="691524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Assum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transaction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serial execution of a set of transactions preserves database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possibly concurrent) schedule is serializable if it is equivalent to a serial schedule.  Different forms of schedule equivalence give rise to the notion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plified view of transa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5040" y="844200"/>
            <a:ext cx="67611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gnore operations other th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ssume that transactions may perform arbitrary computations on data in local buffers in between reads and writ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simplified schedules consist of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ing Instruction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147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 two Instructions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 Instruction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nd only if there exists some i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ed by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t least one of these instructions wro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3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 They confli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4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), 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They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itively, a conflict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 (logical) temporal order between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onsecutive in a schedule and they do not conflict, their results would remain the same even if they had been interchanged in th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1179360"/>
            <a:ext cx="636588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ansformed into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series of swaps of non-conflicting instructions, we say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equival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y that a schedu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flict serializ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it is conflict equivalent to a ser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5642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Definition in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for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189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11360"/>
                <a:tab algn="l" pos="326232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 3 can be transformed into Schedule 6 -- a serial schedule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low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y a series of swaps of non-conflicting instructions.  Therefore, Schedule 3 is conflict serializ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083320" y="505944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986800" y="50785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1368360" y="2181240"/>
            <a:ext cx="3092400" cy="2505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"/>
          <p:cNvPicPr/>
          <p:nvPr/>
        </p:nvPicPr>
        <p:blipFill>
          <a:blip r:embed="rId2"/>
          <a:stretch/>
        </p:blipFill>
        <p:spPr>
          <a:xfrm>
            <a:off x="4911840" y="2182680"/>
            <a:ext cx="3319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flict Serializability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727200"/>
            <a:ext cx="69976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schedule that is not conflict serializabl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222640"/>
                <a:tab algn="l" pos="2568600"/>
                <a:tab algn="l" pos="331956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unable to swap instructions in the above schedule to obtain eithe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, or the serial schedul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2327400" y="1604880"/>
            <a:ext cx="3916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ecedence Graph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1840" y="1093320"/>
            <a:ext cx="67960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me schedule of a set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ecedence graph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a direct graph where the vertices are the transactions (na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raw an arc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two transaction conflic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d the data item on which the conflict arose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ay label the arc by the item that was ac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1"/>
          <a:stretch/>
        </p:blipFill>
        <p:spPr>
          <a:xfrm>
            <a:off x="3317760" y="4000680"/>
            <a:ext cx="25894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43120" y="1173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esting for Conflict Serializabil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3840" y="1106640"/>
            <a:ext cx="50972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chedule is conflict serializable if and only if its precedence graph is acyc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-detection algorithms exist which take ord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ime,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number of vertices in the graph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etter algorithms take ord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number of edge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recedence graph is acyclic, the serializability order can be obtained by a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topological sor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gra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a linear order consistent with the partial order of the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a serializability order for the schedule (a)  would be one of either (b) or (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6113520" y="1209600"/>
            <a:ext cx="26305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coverable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158480"/>
            <a:ext cx="70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coverable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ched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if a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ads a data item previously written by a trans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the commit operation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ear before the commit operation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schedule is not recoverable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s immediately after the read(A) opera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2395440"/>
                <a:tab algn="l" pos="2857680"/>
                <a:tab algn="l" pos="3549600"/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hould abort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uld have read (and possibly shown to the user) an inconsistent database state.  Hence, database must ensure that schedules are recover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1"/>
          <a:stretch/>
        </p:blipFill>
        <p:spPr>
          <a:xfrm>
            <a:off x="3052800" y="2705040"/>
            <a:ext cx="303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ing Rollba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16904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ing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single transaction failure leads to a series of transaction rollbacks.  Consider the following schedule where none of the transactions has yet committed (so the schedule is recoverable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il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also be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8880"/>
                <a:tab algn="l" pos="2120760"/>
                <a:tab algn="l" pos="2684520"/>
                <a:tab algn="l" pos="3030480"/>
                <a:tab algn="l" pos="37670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d to the undoing of a significant amount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2212920" y="2425680"/>
            <a:ext cx="38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scadeless Schedu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56960" y="1222200"/>
            <a:ext cx="70801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cadeless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ched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for each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ds a data item previously written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commit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s before the read oper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ascadeless schedule is also 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esirable to restrict the schedules to those that are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 a schedule that is NOT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"/>
          <p:cNvPicPr/>
          <p:nvPr/>
        </p:nvPicPr>
        <p:blipFill>
          <a:blip r:embed="rId1"/>
          <a:stretch/>
        </p:blipFill>
        <p:spPr>
          <a:xfrm>
            <a:off x="2274840" y="3697200"/>
            <a:ext cx="38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38160" y="1106640"/>
            <a:ext cx="750888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atabase must provide a mechanism that will ensure that all possible schedules are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serializ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able and preferably cascad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licy in which only one transaction can execute at a time generates serial schedules, but provides a poor degree of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-control schemes tradeoff between the amount of concurrency they allow and the amount of overhead that they in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schedule for serializabil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has executed is a little too la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 for serializability help us understand why a concurrency control protocol is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 develop concurrency control protocols that will assure serializ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eak Levels of Consistenc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57160" y="1150920"/>
            <a:ext cx="71820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pplications are willing to live with weak levels of consistency, allowing schedules that are not seri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 read-only transaction that wants to get an approximate total balance of all ac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atabase statistics computed for query optimization can be approximate (wh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ransactions need not be serializable with respect to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off accuracy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vels of Consistency in SQL-92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3960" y="1093320"/>
            <a:ext cx="725796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iza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eatable r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committed records to be read, repeated reads of same record must return same value.  However, a transaction may not be serializable – it may find some records inserted by a transaction but not find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 commit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committed records can be read, but successive reads of record may return different (but committed)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 uncommit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uncommitted records may be re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839880" y="3506760"/>
            <a:ext cx="74833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degrees of consistency useful for gathering approxim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about the data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: some database systems do not ensure serializable schedules by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Oracle and PostgreSQL by default support a level of consistency called snapshot isolation (not part of the SQL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Concep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0740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gram execution that accesses and  possibly updates various data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action to transfer $50 from account A to account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in issues to deal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s of various kinds, such as hardware failures and system cr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 of multipl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Definition in SQ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695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anipulation language must include a construct for specifying the set of actions that comprise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, a transaction begins im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n SQL ends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its current transaction and begins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lback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current transaction to ab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all database systems, by default, every SQL statement also commits implicitly if it executes success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commit can be turned off by a database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n JDBC, connection.setAutoCommit(fa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quired  Properties of a Transa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106640"/>
            <a:ext cx="7389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to transfer $50 from account A to account 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tomic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transaction fails after step 3 and before step 6, money will be “lost” leading to an inconsistent databas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could be due to software or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should ensure that updates of a partially executed transaction are not reflected in the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urability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once the user has been notified that the transaction has completed (i.e., the transfer of the $50 has taken place), the updates to the database by the transaction must persist even if there are software or hardware fail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8240" y="117360"/>
            <a:ext cx="83757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Properties of a Transac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960" y="1149480"/>
            <a:ext cx="72468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 requir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bove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m of A and B is unchanged by the execution of the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consistency requirements inclu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ly specified integrity constraints such as primary keys and foreign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cit 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sum of balances of all accounts, minus sum of loan amounts must equal value of cash-in-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ransaction, when starting to execute,  must see a consistent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transaction execution the database may be temporarily inconsis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transaction completes successfully the database must be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neous transaction logic can lead to in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Properties of a Transaction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137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solation requir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if between steps 3 and 6 (of the fund transfer transaction) , another transact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llowed to access the partially updated database, it will see an inconsistent database (the sum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 less than it should b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1                                        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read(A), read(B), print(A+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 can be ensured trivially by running transaction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r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one after the other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executing multiple transactions concurrently has significant benefits, as we will see l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CID Propert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080800"/>
            <a:ext cx="78724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omi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all operations of the transaction are properly reflected in the database or non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is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ecution of a transaction in isolation preserves the consistency of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so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lthough multiple transactions may execute concurrently, each transaction must be unaware of other concurrently executing transactions.  Intermediate transaction results must be hidden from other concurrently executed transac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very pair of transac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execution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execution 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ur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transaction completes successfully, the changes it has made to the database persist, even if there are system fail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01800" y="1106280"/>
            <a:ext cx="824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unit of program execution that accesses and possibly updates various data items. To preserve the integrity of data the database system must en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106280"/>
            <a:ext cx="7493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state; the transaction stays in this state while it is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ially 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final statement has been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discovery that normal execution can no longer pro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the transaction has been rolled back and the database restored to its state prior to the start of the transaction.  Two options after it has been abo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only if no internal logical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itted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fter successful comp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nsaction State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1677960" y="1593720"/>
            <a:ext cx="54529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3Z</dcterms:created>
  <dc:creator>Marilyn Turnamian</dc:creator>
  <dc:description/>
  <dc:language>en-US</dc:language>
  <cp:lastModifiedBy>hassan</cp:lastModifiedBy>
  <cp:lastPrinted>1999-06-28T19:27:31Z</cp:lastPrinted>
  <dcterms:modified xsi:type="dcterms:W3CDTF">2017-10-24T19:54:22Z</dcterms:modified>
  <cp:revision>592</cp:revision>
  <dc:subject/>
  <dc:title>Chapter 7:  Relational Database Design</dc:title>
</cp:coreProperties>
</file>