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7F34-FA27-40B3-9211-612ADCC6D3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1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62E3-57CB-4661-B85F-2E75110283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4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9A98-5F68-433F-8245-1AE30E50BB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919-0296-4659-80C2-FA25F90C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724-8F73-4E85-A133-BE2E3ABA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FAD4-2958-429D-AC2C-9AFC5ACE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F19-F9E4-42FE-B232-3DC273C6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8E72-E4F9-40B1-B37D-F8BCE8D9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24FC-C925-41EE-BE55-EBABDC60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90C3-BABC-4B2B-AD06-64D9D7C8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D433-451B-4E10-B3C3-2D337536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314E-E7C7-4D4A-8871-AFA9DF06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5DBF-4FC9-4945-9F22-D0813572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184F-B2B7-46DC-A0D3-2E5703A9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F1D-3A61-401A-8E1B-20365FE7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C6F6-60B0-40F5-977F-A0B83B8D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3A53-815A-48C6-B593-BE893EE8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247F-7B88-4C44-83DC-C1DBE0F9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8634-7077-4CD5-89CE-8F502FD6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9719-28E7-4591-AE8F-8DDA755D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E012F-B4AC-4008-821A-D6D534E9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66E2B-B94C-4B53-816E-BF6B487D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E36EE-0D28-483C-9AC9-6939B26E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8E3E4-7543-4857-BFDB-3B433DBB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CAB77-7881-4D9D-AEC0-C44CBF77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F78-234E-4C57-9C8F-82641D0C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073AC-517F-4803-8EA9-057515CC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39097-30BA-44F1-82DE-934042AF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00404-3ECD-47D2-A93D-7B20F26D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094CE-5B40-461D-8204-FB3D309F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5E44B-9DB0-4373-A46A-D1F8EA12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6CE39-BD46-449A-BF2D-013F4C16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F1803-B3F3-46C2-99F0-2F67DC5B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2DA31-1EFA-4A2E-A75B-10D1F275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26C0E-3D91-4DBA-B634-4FB1998B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6CB15-1211-4934-A26D-6A8A293F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7637-4D20-4F5C-A4A4-ECA91532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F0AB4-7C99-4362-9022-FCA7A28D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3F88B-F17A-43E9-BFCD-8E803414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27938-98F6-4520-820E-4DD5ED4A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84D05-C8C5-4A6F-80E9-04A17D32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0B2D4-8EAA-4647-9AB9-CBBD42EB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E211F-A3E3-4F22-84D9-0B63C453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A4013-C8DD-45B7-A575-AF2DA2B1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B07B2-1E51-49B9-959B-D3140A67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A12DA-7531-4FC1-BE3C-8792B9D7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DAF30-4677-47AB-9557-6D294EE3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FEA-66A5-441C-83F9-1B638829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4A260-6ACF-4924-9F9F-60FF92E7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96C5F-AEA0-4586-A6B8-4A240A1C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8CC51-B8FB-4879-BE7F-02480435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B8A59-3FA6-4BF9-AC16-A98253F9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1764F-7E58-464E-A2E2-8C5C7B2C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54EF7-02B1-4C9B-9AE1-9DC9DA37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FDC87-FE93-4176-BC87-71D1C290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CB17D-64DD-4984-9CF4-BCBEB66B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23B4D-6783-426E-9390-AFB87A85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2BEBA-24A4-40EB-AAD9-FCB96D8D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97F-C06F-424E-AF50-72D9393F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97A83-898A-4954-9115-ACC417D4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0F651-F3A0-44B6-93F9-14D312ED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6FEE5-6D2B-42D8-B5C4-68C736B5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45F22-9368-4620-A789-AEE82451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364E6-F854-43E3-9D6C-6EA402DE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AA6A2-6DC9-40E8-967B-74B7F980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94527-0E73-4F47-AEC5-979CE5D9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88D30-717F-43CC-BD12-75D82092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15427-5BB5-44B1-B250-82223F0D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70E5F-EE5C-4ED5-9B01-C473DDCF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95C-68BE-4231-8C41-230A9AA3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45B10-EF65-4D76-9177-4AD45D8F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69444-40E0-4F7A-B26A-2498DA6F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31588-54B9-4C28-9DB0-4D0D2B19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1517A-8A5D-4D93-B28B-3819A8FA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EE9F1-B409-43EE-A0DF-597CB35D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D5199-564C-45D4-AC99-26A70AE0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D1659-6434-45BE-A609-F4E0DD38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ED4AB-769A-478E-88D0-C1DF1B67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CAD89-1255-4583-A7B1-6E1944AC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C7AEA-5EF4-42BF-989C-369B8FDB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70D-1B65-46E6-A937-DC770EF5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2B78B-5E5F-4A3C-B61C-70E3AFA3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13BEF-0878-4560-A894-35EAD471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34C32-B08D-486F-AD54-937CE6D0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FBB1D-5A61-40D8-899A-924E325D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DA73D-FBF7-47E4-9B09-5B886BA0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3CF-091A-469A-9607-C08E9E43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CE6A-748C-4243-AD8E-9AE5FF627D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9B66-D1D8-4E27-B013-103D7C33D4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810E-65E4-4DB7-9C72-34D6F1F397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32F7-71C9-4FE7-8622-51C7A7EF12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b050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7930-237B-431B-A3DF-30FA061FB6F5}" type="slidenum">
              <a:rPr b="0" lang="en-US" sz="10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26C4-D2C9-4906-B470-2A75850547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CF45-9921-4EC2-B4D1-46F41864D6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b05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BBF4-B53F-46DC-826D-405DECE8655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مستطيل 3"/>
          <p:cNvSpPr/>
          <p:nvPr/>
        </p:nvSpPr>
        <p:spPr>
          <a:xfrm>
            <a:off x="0" y="255096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Bold Italic Art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Private Network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P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مربع نص 1"/>
          <p:cNvSpPr/>
          <p:nvPr/>
        </p:nvSpPr>
        <p:spPr>
          <a:xfrm>
            <a:off x="380880" y="5486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By:  Adal ALash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مستطيل 2"/>
          <p:cNvSpPr/>
          <p:nvPr/>
        </p:nvSpPr>
        <p:spPr>
          <a:xfrm>
            <a:off x="3071160" y="4038480"/>
            <a:ext cx="30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ndara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 semester 1437-14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7A2D-49CA-4ED2-85F0-32022B383D3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PN Encapsulation of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08"/>
          <p:cNvPicPr/>
          <p:nvPr/>
        </p:nvPicPr>
        <p:blipFill>
          <a:blip r:embed="rId1"/>
          <a:stretch/>
        </p:blipFill>
        <p:spPr>
          <a:xfrm>
            <a:off x="453960" y="11430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F448-4F25-4847-9461-917B1C76A65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مستطيل 1"/>
          <p:cNvSpPr/>
          <p:nvPr/>
        </p:nvSpPr>
        <p:spPr>
          <a:xfrm>
            <a:off x="380880" y="1676520"/>
            <a:ext cx="845820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hat does “implementation” mean in VPNs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3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ra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Within an orga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tra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Outside an orga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mote Ac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Employee to 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38EA-10F0-422E-B10A-F298876EC5B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مستطيل 3"/>
          <p:cNvSpPr/>
          <p:nvPr/>
        </p:nvSpPr>
        <p:spPr>
          <a:xfrm>
            <a:off x="-3240" y="457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Private Networks (VPN)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Architecture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08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64832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31F9-8066-4D1F-93FF-CD029835AE5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مستطيل 1"/>
          <p:cNvSpPr/>
          <p:nvPr/>
        </p:nvSpPr>
        <p:spPr>
          <a:xfrm>
            <a:off x="380880" y="167652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hat it mea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3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6525-C794-44B4-BC5B-D4EA45E0D95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Types: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مستطيل 1"/>
          <p:cNvSpPr/>
          <p:nvPr/>
        </p:nvSpPr>
        <p:spPr>
          <a:xfrm>
            <a:off x="533520" y="1371600"/>
            <a:ext cx="84582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ually a VPN type of rou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st network through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g and Pl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-purp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flex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33E6-956B-4439-AE66-D74931DD3D9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Types: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مستطيل 1"/>
          <p:cNvSpPr/>
          <p:nvPr/>
        </p:nvSpPr>
        <p:spPr>
          <a:xfrm>
            <a:off x="533520" y="1371600"/>
            <a:ext cx="8458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re secu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n” Operating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purp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-eff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relatively co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D284-D410-45DF-B577-CC52D37F169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Types: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مستطيل 1"/>
          <p:cNvSpPr/>
          <p:nvPr/>
        </p:nvSpPr>
        <p:spPr>
          <a:xfrm>
            <a:off x="533520" y="114300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deal for 2 end points not in same o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Great when different firewalls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elativ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ef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labor training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productivity; higher  labor co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F4CD-C067-495B-948F-0DE7FBF1E8F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مستطيل 1"/>
          <p:cNvSpPr/>
          <p:nvPr/>
        </p:nvSpPr>
        <p:spPr>
          <a:xfrm>
            <a:off x="533520" y="1600200"/>
            <a:ext cx="8458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Sav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VPN Savings Calcu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E4C3-3748-4B8F-81DC-23184E3179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مستطيل 1"/>
          <p:cNvSpPr/>
          <p:nvPr/>
        </p:nvSpPr>
        <p:spPr>
          <a:xfrm>
            <a:off x="533520" y="1371600"/>
            <a:ext cx="84582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s require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-depth understanding of public network security issues and proper deployment of preca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ility and performanc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pends on factors largely outside of their contr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ature stand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s need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commodate protocols other than IP and existing internal network techn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ECE6-DA1B-4261-A9C1-C67DD1A8968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: Site-to-Site VP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مستطيل 1"/>
          <p:cNvSpPr/>
          <p:nvPr/>
        </p:nvSpPr>
        <p:spPr>
          <a:xfrm>
            <a:off x="533520" y="1371600"/>
            <a:ext cx="8458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-scale encryption between multiple fixed si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s remote offices and central off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traffic is sent over the branch office Internet conn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is saves the company hardware and management expe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F0D7-12BC-42D1-9B24-35BCE05B1D4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Conne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8001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74BB-6206-48A2-906A-B0BBFBBE8DE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-to-Site VP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VPN RAS Architecture"/>
          <p:cNvPicPr/>
          <p:nvPr/>
        </p:nvPicPr>
        <p:blipFill>
          <a:blip r:embed="rId1"/>
          <a:stretch/>
        </p:blipFill>
        <p:spPr>
          <a:xfrm>
            <a:off x="1905120" y="1143000"/>
            <a:ext cx="5333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0B05-21C3-4D69-81F7-75350D24CB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: Remot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مستطيل 1"/>
          <p:cNvSpPr/>
          <p:nvPr/>
        </p:nvSpPr>
        <p:spPr>
          <a:xfrm>
            <a:off x="533520" y="137160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crypted connections between mobile or remote users and their corporate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ote user can make a local call to an ISP, as opposed to a long distance call to the corporate remote access serv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eal for a telecommuter or mobile sales peo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P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lows mobile workers &amp; telecommuters to take advantage of broadband conne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i.e. DSL,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8A5C-5088-4B56-BDAD-1BA92C7FB6E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es That May Use a VP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مستطيل 1"/>
          <p:cNvSpPr/>
          <p:nvPr/>
        </p:nvSpPr>
        <p:spPr>
          <a:xfrm>
            <a:off x="304920" y="1143000"/>
            <a:ext cx="86868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Healthcar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ferring of confidential patient information within the medical facilities &amp; health care provi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Manufactur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low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liers to view inventory &amp; allow clients to purchase online saf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Retai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le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curely transfer sales data or customer info between stores &amp; the headquar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Banking/Financia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count information to be transferred safely within departments &amp; bran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l Business: communication between remote employees can be securely ex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4668-90AC-4386-8C2E-AD71B333CBE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مستطيل 3"/>
          <p:cNvSpPr/>
          <p:nvPr/>
        </p:nvSpPr>
        <p:spPr>
          <a:xfrm>
            <a:off x="0" y="2550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Bold Italic Art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4B14-8C6A-4391-9AF6-1DC865E3C9C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VP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مستطيل 1"/>
          <p:cNvSpPr/>
          <p:nvPr/>
        </p:nvSpPr>
        <p:spPr>
          <a:xfrm>
            <a:off x="674640" y="137160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Virtual Private Networ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type of private network that uses public telecommun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uch as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ecame popular as more employees work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 remote lo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rminologies to understand how VPN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70C1-9170-4B96-9392-3FD9DF2186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Networks vs. Virtual Private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مستطيل 1"/>
          <p:cNvSpPr/>
          <p:nvPr/>
        </p:nvSpPr>
        <p:spPr>
          <a:xfrm>
            <a:off x="674640" y="1676520"/>
            <a:ext cx="7848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s can access the network (Intranet) from remote lo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d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net is used as the backbone for VP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s cost tremendously from reduction of equipment and maintenance co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9285-EDB8-4691-B148-2A94BAD473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مستطيل 3"/>
          <p:cNvSpPr/>
          <p:nvPr/>
        </p:nvSpPr>
        <p:spPr>
          <a:xfrm>
            <a:off x="-3240" y="406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te Access Virtual Private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228600" y="1077840"/>
            <a:ext cx="868680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17BB-594F-40A9-981D-32BC8039AB8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 Overview of How i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مستطيل 1"/>
          <p:cNvSpPr/>
          <p:nvPr/>
        </p:nvSpPr>
        <p:spPr>
          <a:xfrm>
            <a:off x="380880" y="16765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wo conne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one is made to the Internet and the second is made to the VP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agra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contains data, destination and source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rewa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VPNs allow authorized users to pass through the fire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c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protocols create the VPN tunn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A91F-350E-4A48-902F-7046277F45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مستطيل 1"/>
          <p:cNvSpPr/>
          <p:nvPr/>
        </p:nvSpPr>
        <p:spPr>
          <a:xfrm>
            <a:off x="380880" y="1523880"/>
            <a:ext cx="845820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Encryp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thod of “scrambling” data before transmitting it onto the Internet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Public Key Encryption Techniqu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Digital signature for authent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5367-ED37-4F97-8474-28A0A092958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n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مستطيل 1"/>
          <p:cNvSpPr/>
          <p:nvPr/>
        </p:nvSpPr>
        <p:spPr>
          <a:xfrm>
            <a:off x="355680" y="1295280"/>
            <a:ext cx="8458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rtual point-to-point connection made through a publi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It transport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capsul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ata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مستطيل 1"/>
          <p:cNvSpPr/>
          <p:nvPr/>
        </p:nvSpPr>
        <p:spPr>
          <a:xfrm>
            <a:off x="380880" y="5035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end points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mot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te-to-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4076640" y="3505320"/>
            <a:ext cx="2590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crypted Inner Da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2476440" y="4114800"/>
            <a:ext cx="4191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gram Header        Outer Datagram Data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22928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"/>
          <p:cNvSpPr/>
          <p:nvPr/>
        </p:nvSpPr>
        <p:spPr>
          <a:xfrm>
            <a:off x="4229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4076640" y="2895480"/>
            <a:ext cx="2590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iginal Da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1"/>
          <p:cNvSpPr/>
          <p:nvPr/>
        </p:nvSpPr>
        <p:spPr>
          <a:xfrm>
            <a:off x="407664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3014280" y="457092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876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Encaps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F567-CDFB-4FA2-B8E1-788389B791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Protocols used in VP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مستطيل 1"/>
          <p:cNvSpPr/>
          <p:nvPr/>
        </p:nvSpPr>
        <p:spPr>
          <a:xfrm>
            <a:off x="380880" y="1676520"/>
            <a:ext cx="8458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PT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 Point-to-Point Tunneling Protoco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2T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Layer 2 Tunneling Protoco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P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Internet Protocol Securit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5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C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is not used as much as the ones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8:36:04Z</dcterms:created>
  <dc:creator>Bruhadeshwar Bezawada</dc:creator>
  <dc:description/>
  <dc:language>en-US</dc:language>
  <cp:lastModifiedBy>maram</cp:lastModifiedBy>
  <dcterms:modified xsi:type="dcterms:W3CDTF">2017-04-15T18:51:56Z</dcterms:modified>
  <cp:revision>198</cp:revision>
  <dc:subject/>
  <dc:title>Computer Networks</dc:title>
</cp:coreProperties>
</file>