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E19-4566-4BA8-9922-953E7ED31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51F-760C-4673-9125-612B1698A4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77FF-A5A0-4401-95BC-5DDB18C59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CE7-0EC1-4656-851E-C16D2601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760-0736-4961-8E4D-4774E48A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F3B-8FA2-4307-8BA5-80244486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B3A-72E4-4EF3-8C2F-B510F8DD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81B3-C434-4975-91F2-FC72324F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737E-7EAA-482C-9182-8590B6C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9043-3AAE-48ED-89F8-B8D3665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BD32-A3B3-4797-A723-E00B623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8748-5E6E-4027-85EB-64BB2A0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48FA-A1B9-4C80-BBCF-B731C22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167B-CE7B-4771-BEAB-3E66046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B51-B37A-4874-BC27-B01DDE1D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F69-868F-448A-8C81-61FD53A7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217-6AFD-4B0D-B35E-9A9DB5D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3B8-0F42-4AEE-8212-ED22184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7D4-28A4-42EB-A464-9FEE0C1A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1977-E8D0-4B3A-A6D3-1C54FBBC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9B08-5CE0-4445-A47C-E1353E6F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1F93-3B5D-4229-900A-CA1110BA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3138-1448-4FFD-A585-EAB7D440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C087-E625-4B1E-BD17-29678072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EBA3-2A9E-432B-A6E5-22F5AD5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315-A1AE-4254-9A7D-5124627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6CA5-4E39-4C2D-886B-93E43BF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8CF2-C01F-44D5-88E0-BFA93D1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BD2D-F54D-4162-A20F-C940859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5DC6-E586-46EB-AFC3-01AE411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99CD-02A8-46A5-8473-640592A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CE31-4D4D-4330-ADDA-FFB78089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3CF4-BB1B-4DC1-AD25-B49DEFFC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DC5D-3862-4471-9EC9-48016C82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6129-903E-40AA-8792-6F4D345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BE3F-14D4-43CC-8E32-46F3ACE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721-FA04-4AF9-9FE1-514D83A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58B9-6B98-4AF2-A9C7-131C124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3907-329A-4F85-820A-30B4AFC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B0D8-E113-4F6A-B79F-B7069C5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92D6-F55D-4869-9E01-45339AE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CE70-7698-4480-B6D5-E97BD87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981B-820B-462D-A3DD-34336B0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7B2C-2412-4074-92C1-22E645D9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4BB4-1E21-432F-B23C-8134F26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25A3-99EF-48B3-A6EF-0D73CA90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C260-A94C-43E5-A3ED-24893A5D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387-82A5-4971-B2B3-428825AB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842E-5787-476A-9043-E3920566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BC61-67B7-4F11-99B4-6825035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1CEB-CE14-4881-934B-09C7A08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91BD-EFFB-4ABF-A462-DE866AF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AB6A-013A-4199-A3BD-6ACF660D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7A217-47A3-4266-982E-3A800EE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28C9-FF9E-4297-8D42-DD50D55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F7D0-CF88-4ABA-8A2E-E542260C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3518-B7D1-4B2F-A05B-1397F32F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1BDB9-28EA-4F0E-85D7-BC1668AB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041-D18C-4B4A-817B-96EFB20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1119-07C3-4843-9BD8-2C76D126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8F2E-B63C-42A9-8A8E-040C3F3C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9780-5AB7-4066-8AE2-40F2536E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B3AD-AEF0-4BAB-948C-9D2D171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8C12-4C3C-4D6C-B0ED-B963B19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CFED-6CD7-41BC-A009-FB32327C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C91C-2C37-4EC0-BAFF-415B4F4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BD16-9B5D-4271-8C69-51265DA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B654-C370-482E-A8F6-7C9AE35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7E71-FED9-4201-8F9C-54957E4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9DB-1DFF-440C-AEB1-90E8187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56EA-9B97-4AD5-80D3-7DEED26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4149-5A92-4F72-9B8F-763FF85C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012B-7782-4A40-9D7E-F0C72237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89C3-2734-4FDA-9DBC-131F86EB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1568-CEB0-41CE-86E8-1E438B16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E429-D2F5-4BC8-A27D-E6689600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A11A-4624-4D4B-8E84-9B61BEB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3116-FEB5-4E20-ABB5-46BA4E9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1AB7C-3CA7-4831-BC53-DD3F8AB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0E04-86CC-421F-A2B3-40C83A3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198-C08B-4A11-B603-758D1AA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F01E-23B2-4AD0-BD6F-AA1ED71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995B-04FE-43AE-AB59-A40FB39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0B9A-B9B7-462E-B372-7B7BD2F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6BEE6-99AC-4C4F-9A50-0B9B6147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B20D7-372F-4753-89E2-3E4B146B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6BD-D63C-4067-B842-9D1F0FC0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EA68-1225-44D8-B6C8-1B6A2B3C8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D4A-6033-4963-829E-9DCB3708D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3F73-F370-4C55-A9DC-A2A3D04C5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E00F-7F73-4CC0-80FC-AF49E78BD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b050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FDD2-3A8F-41AC-B8B5-97540568E1B5}" type="slidenum"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C02-746E-40F8-B00C-FF28D3E99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1C9-DBFA-482E-ABDA-178E36559C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5C4F-8890-472A-A625-0200F304C6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Private Networ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P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C86-6641-449C-B886-0189E0F6EC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N Encapsulation of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08"/>
          <p:cNvPicPr/>
          <p:nvPr/>
        </p:nvPicPr>
        <p:blipFill>
          <a:blip r:embed="rId1"/>
          <a:stretch/>
        </p:blipFill>
        <p:spPr>
          <a:xfrm>
            <a:off x="453960" y="11430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EBD-7F78-437D-926C-1E11A0105D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ستطيل 1"/>
          <p:cNvSpPr/>
          <p:nvPr/>
        </p:nvSpPr>
        <p:spPr>
          <a:xfrm>
            <a:off x="380880" y="167652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at does “implementation” mean in VPN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Within an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tra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Outside an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mote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Employee to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A85-2025-408C-85D2-E23625189E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مستطيل 3"/>
          <p:cNvSpPr/>
          <p:nvPr/>
        </p:nvSpPr>
        <p:spPr>
          <a:xfrm>
            <a:off x="-324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rivate Networks (VPN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rchitecture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08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6483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4B6B-5CB2-4BC0-9EF0-57C201CE59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مستطيل 1"/>
          <p:cNvSpPr/>
          <p:nvPr/>
        </p:nvSpPr>
        <p:spPr>
          <a:xfrm>
            <a:off x="380880" y="16765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at it me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DF6-C10C-480C-8909-32DE010AB5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1"/>
          <p:cNvSpPr/>
          <p:nvPr/>
        </p:nvSpPr>
        <p:spPr>
          <a:xfrm>
            <a:off x="533520" y="1371600"/>
            <a:ext cx="8458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ually a VPN type of ro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network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 and Pl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flex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CD8-6547-42E4-B9D4-AFB571CE11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مستطيل 1"/>
          <p:cNvSpPr/>
          <p:nvPr/>
        </p:nvSpPr>
        <p:spPr>
          <a:xfrm>
            <a:off x="533520" y="137160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re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n”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relatively co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3D29-4B77-4904-BA01-E939525FF0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مستطيل 1"/>
          <p:cNvSpPr/>
          <p:nvPr/>
        </p:nvSpPr>
        <p:spPr>
          <a:xfrm>
            <a:off x="533520" y="11430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al for 2 end points not in same 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reat when different firewall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elativ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abor training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productivity; higher  labor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A0C-4F0B-464D-9604-0FFA734F7C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مستطيل 1"/>
          <p:cNvSpPr/>
          <p:nvPr/>
        </p:nvSpPr>
        <p:spPr>
          <a:xfrm>
            <a:off x="533520" y="160020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VPN Savings Calc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42C-46B0-4070-BAD8-ED66993206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مستطيل 1"/>
          <p:cNvSpPr/>
          <p:nvPr/>
        </p:nvSpPr>
        <p:spPr>
          <a:xfrm>
            <a:off x="533520" y="1371600"/>
            <a:ext cx="8458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s require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depth understanding of public network security issues and proper deployment of preca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and perform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pends on factors largely outside of their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ature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s need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ommodate protocols other than IP and existing internal network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36C-9ED3-4500-BB1E-2731619B62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: Site-to-Site VP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مستطيل 1"/>
          <p:cNvSpPr/>
          <p:nvPr/>
        </p:nvSpPr>
        <p:spPr>
          <a:xfrm>
            <a:off x="533520" y="1371600"/>
            <a:ext cx="8458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-scale encryption between multiple fixed si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remote offices and central off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affic is sent over the branch office Internet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is saves the company hardware and management expe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BC5-D02C-41CE-ACE3-2A64C1E0F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onn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CEA-4C9D-4A51-9382-0A43094601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-to-Site VP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VPN RAS Architecture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D31-FF9C-4767-A98A-75383B0D71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: Remot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مستطيل 1"/>
          <p:cNvSpPr/>
          <p:nvPr/>
        </p:nvSpPr>
        <p:spPr>
          <a:xfrm>
            <a:off x="533520" y="13716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crypted connections between mobile or remote users and their corporate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user can make a local call to an ISP, as opposed to a long distance call to the corporate remote access ser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al for a telecommuter or mobile sales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P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ows mobile workers &amp; telecommuters to take advantage of broadband conne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i.e. DSL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B2C9-F0D4-4723-A9F9-4F64B12B18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That May Use a 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مستطيل 1"/>
          <p:cNvSpPr/>
          <p:nvPr/>
        </p:nvSpPr>
        <p:spPr>
          <a:xfrm>
            <a:off x="304920" y="114300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Healthcar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ring of confidential patient information within the medical facilities &amp; health care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Manufactur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low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liers to view inventory &amp; allow clients to purchase online saf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Retai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l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curely transfer sales data or customer info between stores &amp; the headquar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Banking/Financi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ount information to be transferred safely within departments &amp; bran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Business: communication between remote employees can be securely ex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D0C-E69D-46C7-A9F1-D43C3A23FA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719F-6E93-41B0-909D-C265374CFE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VP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ستطيل 1"/>
          <p:cNvSpPr/>
          <p:nvPr/>
        </p:nvSpPr>
        <p:spPr>
          <a:xfrm>
            <a:off x="674640" y="13716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Virtual Private 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type of private network that uses public tele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ch a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came popular as more employees work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remote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rminologies to understand how VPN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5FC-CCDC-4D32-8912-BC3A309EC1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Networks vs. Virtual Privat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674640" y="167652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access the network (Intranet) from remote lo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d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is used as the backbone for VP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cost tremendously from reduction of equipment and maintenance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E996-0B01-453F-BB99-6010D6B231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Virtual Privat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228600" y="1077840"/>
            <a:ext cx="8686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639-2376-4B77-8CC8-CC83DAA51F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Overview of 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1"/>
          <p:cNvSpPr/>
          <p:nvPr/>
        </p:nvSpPr>
        <p:spPr>
          <a:xfrm>
            <a:off x="380880" y="16765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one is made to the Internet and the second is made to the VP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gr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contains data, destination and sourc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ew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VPNs allow authorized users to pass through the fire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protocols create the VPN tu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261-336D-473A-A29B-FB042C71D1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"/>
          <p:cNvSpPr/>
          <p:nvPr/>
        </p:nvSpPr>
        <p:spPr>
          <a:xfrm>
            <a:off x="380880" y="152388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Encryp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hod of “scrambling” data before transmitting it onto the Interne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ublic Key Encryption Techniqu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Digital signature for authent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A1D9-90EE-43AF-9BA1-2B1B766BB2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"/>
          <p:cNvSpPr/>
          <p:nvPr/>
        </p:nvSpPr>
        <p:spPr>
          <a:xfrm>
            <a:off x="355680" y="129528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rtual point-to-point connection made through a publi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t transpor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caps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ta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1"/>
          <p:cNvSpPr/>
          <p:nvPr/>
        </p:nvSpPr>
        <p:spPr>
          <a:xfrm>
            <a:off x="380880" y="5035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end point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e-to-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076640" y="3505320"/>
            <a:ext cx="2590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crypted Inner Da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476440" y="4114800"/>
            <a:ext cx="4191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gram Header        Outer Datagram Data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2292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4229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4076640" y="2895480"/>
            <a:ext cx="2590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Da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407664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3014280" y="457092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876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Encaps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C188-9B90-4341-B403-B222DE4998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rotocols used in 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1"/>
          <p:cNvSpPr/>
          <p:nvPr/>
        </p:nvSpPr>
        <p:spPr>
          <a:xfrm>
            <a:off x="380880" y="1676520"/>
            <a:ext cx="845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 Point-to-Point Tunneling Protoco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2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Layer 2 Tunneling Protoco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P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Internet Protocol Secur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is not used as much as the ones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1:56Z</dcterms:modified>
  <cp:revision>198</cp:revision>
  <dc:subject/>
  <dc:title>Computer Networks</dc:title>
</cp:coreProperties>
</file>