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media/image11.jpeg" ContentType="image/jpeg"/>
  <Override PartName="/ppt/media/image8.wmf" ContentType="image/x-wmf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6960" cy="46368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971880" y="0"/>
            <a:ext cx="3036960" cy="46368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0" y="8831160"/>
            <a:ext cx="3036960" cy="46368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971880" y="8831160"/>
            <a:ext cx="3036960" cy="46368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394E9585-E61F-495C-87EF-8C497BB3CD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971880" y="8831160"/>
            <a:ext cx="3036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7A39ADD0-06D5-45BA-8824-D84CBE8A9D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971880" y="8831160"/>
            <a:ext cx="3036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EFFE32B4-9839-4F50-A1B0-E5860C6A7D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971880" y="8831160"/>
            <a:ext cx="3036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0629AD5C-4828-4144-9E30-933BFE0427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971880" y="8831160"/>
            <a:ext cx="3036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91D6A113-85E5-4CC6-B8C0-6B5EF49A56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971880" y="8831160"/>
            <a:ext cx="3036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05F0D26F-4428-41E3-A42D-090088FCD9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971880" y="8831160"/>
            <a:ext cx="3036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09C9958C-DF75-4B9B-BF30-94E4940E35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971880" y="8831160"/>
            <a:ext cx="3036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91A1B6D3-F1A9-480A-81BF-A9134D5419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971880" y="8831160"/>
            <a:ext cx="3036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8F8E55C3-EB35-4EB3-9C81-36CBB4F867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971880" y="8831160"/>
            <a:ext cx="3036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1E17F0A9-060C-48DA-9CA7-C55118950A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971880" y="8831160"/>
            <a:ext cx="3036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D57F5A13-A551-4535-A03D-5A332F591C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971880" y="8831160"/>
            <a:ext cx="3036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AA093BDA-AD4A-47D1-8195-071C35E8D5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971880" y="8831160"/>
            <a:ext cx="3036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2B576461-5757-411B-883C-4DD4FEEDDB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971880" y="8831160"/>
            <a:ext cx="3036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15CF29C2-E303-4715-B13B-93FC6248B1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971880" y="8831160"/>
            <a:ext cx="3036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42E7A55F-A453-4B49-ABB2-A63BE3AB23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971880" y="8831160"/>
            <a:ext cx="3036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92CDFE23-CB48-4979-A65A-DF4A79F256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971880" y="8831160"/>
            <a:ext cx="3036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9E9C77BE-CB17-4458-A954-42FDB54D3A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971880" y="8831160"/>
            <a:ext cx="3036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24A842E1-A929-4FF8-B3CC-641C8B1DFB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971880" y="8831160"/>
            <a:ext cx="3036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EBB2CD6F-36E3-4019-A85D-229C7229B0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971880" y="8831160"/>
            <a:ext cx="3036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B0674E83-0838-4F91-9A7A-2940254E00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971880" y="8831160"/>
            <a:ext cx="3036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76842D2E-FD2F-4912-ADDE-FC5C2449E1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971880" y="8831160"/>
            <a:ext cx="3036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AF9D2FE9-B09F-4C84-BA75-6BE3F129EB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971880" y="8831160"/>
            <a:ext cx="3036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CAC9E166-9D15-49B9-837A-B4FC4774D7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971880" y="8831160"/>
            <a:ext cx="3036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65EA003B-8036-4070-A2E7-AE44242A2D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971880" y="8831160"/>
            <a:ext cx="3036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0050EB87-F7A4-41E2-A7CA-504F278F2A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971880" y="8831160"/>
            <a:ext cx="3036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F85DAA34-2453-4CAE-A984-6FA71A4613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971880" y="8831160"/>
            <a:ext cx="3036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61A0FCBD-8FE1-4333-AD07-51F8FC305E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971880" y="8831160"/>
            <a:ext cx="3036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B4532F67-8704-420C-AABD-24CCD9B397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971880" y="8831160"/>
            <a:ext cx="3036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119209E3-9AA1-4B3C-86FF-AB37FA6996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971880" y="8831160"/>
            <a:ext cx="3036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29CB54A6-0CBC-4F4C-B331-F60ADBCF1E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971880" y="8831160"/>
            <a:ext cx="3036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541559B9-42FD-4AA2-8D51-4771509472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971880" y="8831160"/>
            <a:ext cx="3036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3284A3C9-AF8E-4138-A37D-61210BBBE7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971880" y="8831160"/>
            <a:ext cx="3036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E5175880-F206-4651-A00A-1EECE0A989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14320" y="3655080"/>
            <a:ext cx="766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143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01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04880" y="10936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5080" y="10936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14320" y="36550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04880" y="36550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5080" y="36550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CBAE58-358C-4985-9207-F86A0394FAA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68D1A1-7690-4008-BE95-46F5BE3D302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0387F1-4EB2-4827-91B3-061DCFC1866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D5A512-6D70-4F7C-AC69-84588A8F951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09977A-AF78-423F-A775-DDFAA69FEE1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767880" y="117360"/>
            <a:ext cx="80773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C9C3D9-0C2B-446F-A257-47372E9C35B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143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845047-03A4-4DD4-99CC-9A64F853B69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401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D5331B-067B-46FD-A5EC-15EB18E9353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14320" y="3655080"/>
            <a:ext cx="766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62A40F-9933-4742-8CC2-16121A73654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14320" y="3655080"/>
            <a:ext cx="766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838C1C-5FF4-4EA9-85D2-0F243856DC8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143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401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61E8CE-9E07-4260-AD96-6520C32B0BB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404880" y="10936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95080" y="10936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14320" y="36550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404880" y="36550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95080" y="36550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6D37C0-3996-472E-8197-0E1F9F2E505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67880" y="117360"/>
            <a:ext cx="80773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143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01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14320" y="3655080"/>
            <a:ext cx="766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www.db-book.com/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88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88"/>
              </a:spcBef>
              <a:buClr>
                <a:srgbClr val="cc33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Text Box 4"/>
          <p:cNvSpPr/>
          <p:nvPr/>
        </p:nvSpPr>
        <p:spPr>
          <a:xfrm>
            <a:off x="6764760" y="661356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3300"/>
                </a:solidFill>
                <a:latin typeface="Arial"/>
              </a:rPr>
              <a:t>©Silberschatz, Korth and Sudarsh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5"/>
          <p:cNvSpPr/>
          <p:nvPr/>
        </p:nvSpPr>
        <p:spPr>
          <a:xfrm>
            <a:off x="4220280" y="6613560"/>
            <a:ext cx="967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3300"/>
                </a:solidFill>
                <a:latin typeface="Arial"/>
              </a:rPr>
              <a:t>15.</a:t>
            </a:r>
            <a:fld id="{5B6ADA69-A2A7-491E-9691-3EB6299B30B0}" type="slidenum">
              <a:rPr b="1" lang="en-US" sz="1000" spc="-1" strike="noStrike">
                <a:solidFill>
                  <a:srgbClr val="cc33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Text Box 7"/>
          <p:cNvSpPr/>
          <p:nvPr/>
        </p:nvSpPr>
        <p:spPr>
          <a:xfrm>
            <a:off x="7560" y="6613560"/>
            <a:ext cx="255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3300"/>
                </a:solidFill>
                <a:latin typeface="Arial"/>
              </a:rPr>
              <a:t>Database System Concepts - 6</a:t>
            </a:r>
            <a:r>
              <a:rPr b="1" lang="en-US" sz="1000" spc="-1" strike="noStrike" baseline="30000">
                <a:solidFill>
                  <a:srgbClr val="cc3300"/>
                </a:solidFill>
                <a:latin typeface="Arial"/>
              </a:rPr>
              <a:t>th</a:t>
            </a:r>
            <a:r>
              <a:rPr b="1" lang="en-US" sz="1000" spc="-1" strike="noStrike">
                <a:solidFill>
                  <a:srgbClr val="cc3300"/>
                </a:solidFill>
                <a:latin typeface="Arial"/>
              </a:rPr>
              <a:t> Edi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8"/>
          <p:cNvSpPr/>
          <p:nvPr/>
        </p:nvSpPr>
        <p:spPr>
          <a:xfrm>
            <a:off x="8916840" y="5445000"/>
            <a:ext cx="227160" cy="47880"/>
          </a:xfrm>
          <a:custGeom>
            <a:avLst/>
            <a:gdLst/>
            <a:ahLst/>
            <a:rect l="l" t="t" r="r" b="b"/>
            <a:pathLst>
              <a:path w="285" h="61">
                <a:moveTo>
                  <a:pt x="2" y="61"/>
                </a:moveTo>
                <a:lnTo>
                  <a:pt x="0" y="59"/>
                </a:lnTo>
                <a:lnTo>
                  <a:pt x="0" y="55"/>
                </a:lnTo>
                <a:lnTo>
                  <a:pt x="2" y="48"/>
                </a:lnTo>
                <a:lnTo>
                  <a:pt x="5" y="40"/>
                </a:lnTo>
                <a:lnTo>
                  <a:pt x="9" y="34"/>
                </a:lnTo>
                <a:lnTo>
                  <a:pt x="13" y="31"/>
                </a:lnTo>
                <a:lnTo>
                  <a:pt x="17" y="25"/>
                </a:lnTo>
                <a:lnTo>
                  <a:pt x="24" y="21"/>
                </a:lnTo>
                <a:lnTo>
                  <a:pt x="30" y="17"/>
                </a:lnTo>
                <a:lnTo>
                  <a:pt x="40" y="13"/>
                </a:lnTo>
                <a:lnTo>
                  <a:pt x="45" y="10"/>
                </a:lnTo>
                <a:lnTo>
                  <a:pt x="51" y="8"/>
                </a:lnTo>
                <a:lnTo>
                  <a:pt x="57" y="6"/>
                </a:lnTo>
                <a:lnTo>
                  <a:pt x="64" y="6"/>
                </a:lnTo>
                <a:lnTo>
                  <a:pt x="70" y="2"/>
                </a:lnTo>
                <a:lnTo>
                  <a:pt x="78" y="2"/>
                </a:lnTo>
                <a:lnTo>
                  <a:pt x="85" y="0"/>
                </a:lnTo>
                <a:lnTo>
                  <a:pt x="93" y="0"/>
                </a:lnTo>
                <a:lnTo>
                  <a:pt x="100" y="0"/>
                </a:lnTo>
                <a:lnTo>
                  <a:pt x="110" y="0"/>
                </a:lnTo>
                <a:lnTo>
                  <a:pt x="118" y="0"/>
                </a:lnTo>
                <a:lnTo>
                  <a:pt x="129" y="0"/>
                </a:lnTo>
                <a:lnTo>
                  <a:pt x="137" y="0"/>
                </a:lnTo>
                <a:lnTo>
                  <a:pt x="146" y="2"/>
                </a:lnTo>
                <a:lnTo>
                  <a:pt x="154" y="2"/>
                </a:lnTo>
                <a:lnTo>
                  <a:pt x="163" y="4"/>
                </a:lnTo>
                <a:lnTo>
                  <a:pt x="173" y="6"/>
                </a:lnTo>
                <a:lnTo>
                  <a:pt x="182" y="8"/>
                </a:lnTo>
                <a:lnTo>
                  <a:pt x="192" y="8"/>
                </a:lnTo>
                <a:lnTo>
                  <a:pt x="201" y="12"/>
                </a:lnTo>
                <a:lnTo>
                  <a:pt x="209" y="12"/>
                </a:lnTo>
                <a:lnTo>
                  <a:pt x="216" y="13"/>
                </a:lnTo>
                <a:lnTo>
                  <a:pt x="224" y="15"/>
                </a:lnTo>
                <a:lnTo>
                  <a:pt x="234" y="17"/>
                </a:lnTo>
                <a:lnTo>
                  <a:pt x="239" y="19"/>
                </a:lnTo>
                <a:lnTo>
                  <a:pt x="247" y="21"/>
                </a:lnTo>
                <a:lnTo>
                  <a:pt x="254" y="23"/>
                </a:lnTo>
                <a:lnTo>
                  <a:pt x="260" y="25"/>
                </a:lnTo>
                <a:lnTo>
                  <a:pt x="266" y="25"/>
                </a:lnTo>
                <a:lnTo>
                  <a:pt x="270" y="27"/>
                </a:lnTo>
                <a:lnTo>
                  <a:pt x="273" y="27"/>
                </a:lnTo>
                <a:lnTo>
                  <a:pt x="279" y="29"/>
                </a:lnTo>
                <a:lnTo>
                  <a:pt x="283" y="31"/>
                </a:lnTo>
                <a:lnTo>
                  <a:pt x="285" y="32"/>
                </a:lnTo>
                <a:lnTo>
                  <a:pt x="279" y="44"/>
                </a:lnTo>
                <a:lnTo>
                  <a:pt x="277" y="44"/>
                </a:lnTo>
                <a:lnTo>
                  <a:pt x="273" y="42"/>
                </a:lnTo>
                <a:lnTo>
                  <a:pt x="268" y="42"/>
                </a:lnTo>
                <a:lnTo>
                  <a:pt x="260" y="40"/>
                </a:lnTo>
                <a:lnTo>
                  <a:pt x="251" y="38"/>
                </a:lnTo>
                <a:lnTo>
                  <a:pt x="241" y="36"/>
                </a:lnTo>
                <a:lnTo>
                  <a:pt x="235" y="34"/>
                </a:lnTo>
                <a:lnTo>
                  <a:pt x="230" y="34"/>
                </a:lnTo>
                <a:lnTo>
                  <a:pt x="224" y="32"/>
                </a:lnTo>
                <a:lnTo>
                  <a:pt x="218" y="32"/>
                </a:lnTo>
                <a:lnTo>
                  <a:pt x="213" y="31"/>
                </a:lnTo>
                <a:lnTo>
                  <a:pt x="207" y="31"/>
                </a:lnTo>
                <a:lnTo>
                  <a:pt x="201" y="29"/>
                </a:lnTo>
                <a:lnTo>
                  <a:pt x="196" y="29"/>
                </a:lnTo>
                <a:lnTo>
                  <a:pt x="190" y="27"/>
                </a:lnTo>
                <a:lnTo>
                  <a:pt x="182" y="27"/>
                </a:lnTo>
                <a:lnTo>
                  <a:pt x="178" y="25"/>
                </a:lnTo>
                <a:lnTo>
                  <a:pt x="173" y="25"/>
                </a:lnTo>
                <a:lnTo>
                  <a:pt x="167" y="23"/>
                </a:lnTo>
                <a:lnTo>
                  <a:pt x="163" y="23"/>
                </a:lnTo>
                <a:lnTo>
                  <a:pt x="158" y="21"/>
                </a:lnTo>
                <a:lnTo>
                  <a:pt x="154" y="21"/>
                </a:lnTo>
                <a:lnTo>
                  <a:pt x="148" y="19"/>
                </a:lnTo>
                <a:lnTo>
                  <a:pt x="142" y="19"/>
                </a:lnTo>
                <a:lnTo>
                  <a:pt x="144" y="48"/>
                </a:lnTo>
                <a:lnTo>
                  <a:pt x="110" y="15"/>
                </a:lnTo>
                <a:lnTo>
                  <a:pt x="118" y="48"/>
                </a:lnTo>
                <a:lnTo>
                  <a:pt x="83" y="21"/>
                </a:lnTo>
                <a:lnTo>
                  <a:pt x="91" y="48"/>
                </a:lnTo>
                <a:lnTo>
                  <a:pt x="59" y="29"/>
                </a:lnTo>
                <a:lnTo>
                  <a:pt x="57" y="29"/>
                </a:lnTo>
                <a:lnTo>
                  <a:pt x="53" y="31"/>
                </a:lnTo>
                <a:lnTo>
                  <a:pt x="49" y="31"/>
                </a:lnTo>
                <a:lnTo>
                  <a:pt x="43" y="34"/>
                </a:lnTo>
                <a:lnTo>
                  <a:pt x="38" y="36"/>
                </a:lnTo>
                <a:lnTo>
                  <a:pt x="32" y="38"/>
                </a:lnTo>
                <a:lnTo>
                  <a:pt x="26" y="42"/>
                </a:lnTo>
                <a:lnTo>
                  <a:pt x="23" y="44"/>
                </a:lnTo>
                <a:lnTo>
                  <a:pt x="15" y="50"/>
                </a:lnTo>
                <a:lnTo>
                  <a:pt x="7" y="55"/>
                </a:lnTo>
                <a:lnTo>
                  <a:pt x="4" y="59"/>
                </a:lnTo>
                <a:lnTo>
                  <a:pt x="2" y="6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9" descr="Cover-6Ed"/>
          <p:cNvPicPr/>
          <p:nvPr/>
        </p:nvPicPr>
        <p:blipFill>
          <a:blip r:embed="rId2"/>
          <a:stretch/>
        </p:blipFill>
        <p:spPr>
          <a:xfrm>
            <a:off x="-3240" y="0"/>
            <a:ext cx="668520" cy="816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7"/>
          <p:cNvSpPr/>
          <p:nvPr/>
        </p:nvSpPr>
        <p:spPr>
          <a:xfrm>
            <a:off x="2730240" y="5726160"/>
            <a:ext cx="3583440" cy="79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Database System Concepts, 6</a:t>
            </a:r>
            <a:r>
              <a:rPr b="1" lang="en-US" sz="1600" spc="-1" strike="noStrike" baseline="30000">
                <a:solidFill>
                  <a:srgbClr val="cc3300"/>
                </a:solidFill>
                <a:latin typeface="Arial"/>
              </a:rPr>
              <a:t>th</a:t>
            </a: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 Ed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©Silberschatz, Korth and Sudarshan</a:t>
            </a:r>
            <a:br>
              <a:rPr sz="1200"/>
            </a:b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See </a:t>
            </a:r>
            <a:r>
              <a:rPr b="0" lang="en-US" sz="1200" spc="-1" strike="noStrike" u="sng">
                <a:solidFill>
                  <a:srgbClr val="ff9900"/>
                </a:solidFill>
                <a:uFillTx/>
                <a:latin typeface="Arial"/>
                <a:hlinkClick r:id="rId2"/>
              </a:rPr>
              <a:t>www.db-book.com</a:t>
            </a: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 for conditions on re-u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8" descr="Cover-6Ed"/>
          <p:cNvPicPr/>
          <p:nvPr/>
        </p:nvPicPr>
        <p:blipFill>
          <a:blip r:embed="rId3"/>
          <a:stretch/>
        </p:blipFill>
        <p:spPr>
          <a:xfrm>
            <a:off x="0" y="0"/>
            <a:ext cx="1392120" cy="17002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body"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88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88"/>
              </a:spcBef>
              <a:buClr>
                <a:srgbClr val="cc33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1"/>
          </p:nvPr>
        </p:nvSpPr>
        <p:spPr>
          <a:xfrm>
            <a:off x="2862360" y="5780160"/>
            <a:ext cx="3448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2"/>
          </p:nvPr>
        </p:nvSpPr>
        <p:spPr>
          <a:xfrm>
            <a:off x="6595920" y="6218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A2F3F-E664-4DD1-BCDC-B5E2A7862BCC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hapter 15 : Concurrency Control 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Automatic Acquisition of Locks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38240" y="107964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it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D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processed 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as a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k-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se be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necessary wait until no other transaction has any lock 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as 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k-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pgrad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ock 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t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k-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n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k-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locks are released after commit or ab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Deadlock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25120" y="1079280"/>
            <a:ext cx="746604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ider the partial sche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ithe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o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an make progress — executing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k-S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ause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wait fo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release its lock 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while executing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k-X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ause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wait fo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release its lock 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ch a situation is called a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deadloc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handle a deadlock one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ust be rolled back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its locks relea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4" descr="15"/>
          <p:cNvPicPr/>
          <p:nvPr/>
        </p:nvPicPr>
        <p:blipFill>
          <a:blip r:embed="rId1"/>
          <a:stretch/>
        </p:blipFill>
        <p:spPr>
          <a:xfrm>
            <a:off x="2765520" y="1585800"/>
            <a:ext cx="2960640" cy="24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88480" y="5544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Deadlocks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25200" y="779400"/>
            <a:ext cx="691524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-phase locking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es no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nsure freedom from dead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addition to deadlocks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is a possibility of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tarv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tarv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ccurs if the concurrency control manager is badly designed. For exa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transaction may be waiting for an X-lock on an item, while a sequence of other transactions request and are granted an S-lock on the same item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ame transaction is repeatedly rolled back due to dead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currency control manager can be designed to prevent starv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040" y="16812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Deadlocks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75960" y="1166760"/>
            <a:ext cx="6902280" cy="39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otential for deadlock exists in most locking protocols. Deadlocks are a necessary evi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a deadlock occurs there is a possibility of cascading roll-back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scading roll-back is possible under two-phase locking. To avoid this, follow a modified protocol called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trict two-phase lock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- a transaction must hold all its exclusive locks till it commits/abor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igorous two-phase lock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even stricter. Here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ks are held till commit/abort. In this protocol transactions can be serialized in the order in which they comm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Implementation of Locking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9920" y="1095120"/>
            <a:ext cx="6996240" cy="49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lock manager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be implemented as a separate process to which transactions send lock and unlock reque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ock manager replies to a lock request by sending a lock grant messages (or a message asking the transaction to roll back, in case of  a deadloc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equesting transaction waits until its request is answ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ock manager maintains a data-structure called a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lock table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record granted locks and pending reque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ock table is usually implemented as an in-memory hash table indexed on the name of the data item being loc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Lock Tabl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10160" y="1079640"/>
            <a:ext cx="4317840" cy="51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rk blue rectangles indicate granted locks; light blue indicate waiting reque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ck table also records the type of lock granted or reques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request is added to the end of the queue of requests for the data item, and granted if it is compatible with all earlier loc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lock requests result in the request being deleted, and later requests are checked to see if they can now be gran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transaction aborts, all waiting or granted requests of the transaction are delet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ck manager may keep a list of locks held by each transaction, to implement this efficient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3" descr="C:\Users\as668\Desktop\15_10.jpg"/>
          <p:cNvPicPr/>
          <p:nvPr/>
        </p:nvPicPr>
        <p:blipFill>
          <a:blip r:embed="rId1"/>
          <a:stretch/>
        </p:blipFill>
        <p:spPr>
          <a:xfrm>
            <a:off x="814320" y="1252440"/>
            <a:ext cx="3354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Deadlock Handling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151760" cy="34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is deadlocked if there is a set of transactions such that every transaction in the set is waiting for another transaction in the s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Deadlock preven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rotocols ensure that the system will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ev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nter into a deadlock state. Some prevention strategies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ire that each transaction locks all its data items before it begins execution (predeclaration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ose partial ordering of all data items and require that a transaction can lock data items only in the order specified by the partial ord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More Deadlock Prevention Strategi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25480" y="1079640"/>
            <a:ext cx="76485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llowing schemes use transaction timestamps for the sake of deadlock prevention alo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wait-d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cheme — non-preemp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der transaction may wait for younger one to release data item. (older means smaller timestamp) Younger transactions never Younger transactions never wait for older ones; they are rolled back inste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transaction may die several times before acquiring needed data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wound-wai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cheme — preemp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der transac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ound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forces rollback) of younger transaction instead of waiting for it. Younger transactions may wait for older 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 be fewer rollbacks tha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ait-d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che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Deadlock prevention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th i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ait-d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i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ound-wai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chemes, a rolled back transactions is restarted with its original timestamp. Older transactions thus have precedence over newer ones, and starvation is hence avoid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Timeout-Based Schem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transaction waits for a lock only for a specified amount of time. If the lock has not been granted within that time, the transaction is rolled back and restarte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us, deadlocks are not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e to implement; but starvation is possible. Also difficult to determine good value of the timeout interv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Deadlock Detection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dlocks can be described as a </a:t>
            </a: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wait-for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grap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which consists of a pai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 set of vertices (all the transactions in the syste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 set of edges; each element is an ordered pai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i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en there is a directed edge from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implying tha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waiting fo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release a data i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quests a data item currently being held b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en the edg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inserted in the wait-for graph. This edge is removed only whe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no longer holding a data item needed b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ystem is in a deadlock state if and only if the wait-for graph has a cycle.  Must invoke a deadlock-detection algorithm periodically to look for cyc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Outlin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47320" y="1169640"/>
            <a:ext cx="6411960" cy="34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k-Based Protoc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stamp-Based Protoc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idation-Based Protoc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 Granula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version Sche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 and Delete Op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currency in Index Stru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52600" y="15048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Deadlock Detection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902880" y="4210200"/>
            <a:ext cx="353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it-for graph without a cy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5278680" y="4246560"/>
            <a:ext cx="318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it-for graph with a cy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9" descr=""/>
          <p:cNvPicPr/>
          <p:nvPr/>
        </p:nvPicPr>
        <p:blipFill>
          <a:blip r:embed="rId1"/>
          <a:stretch/>
        </p:blipFill>
        <p:spPr>
          <a:xfrm>
            <a:off x="1211400" y="1574640"/>
            <a:ext cx="2882880" cy="21272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0" descr=""/>
          <p:cNvPicPr/>
          <p:nvPr/>
        </p:nvPicPr>
        <p:blipFill>
          <a:blip r:embed="rId2"/>
          <a:stretch/>
        </p:blipFill>
        <p:spPr>
          <a:xfrm>
            <a:off x="5599080" y="1747800"/>
            <a:ext cx="25621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Deadlock Recovery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41528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deadlock is  detected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transaction will have to rolled back (made a victim) to break deadlock.  Select that transaction as victim that will incur minimum co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llback -- determine how far to roll back trans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Total rollbac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Abort the transaction and then restart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effective to roll back transaction only as far as necessary to break deadloc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vation happens if same transaction is always chosen as victim. Include the number of rollbacks in the cost factor to avoid star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Multiple Granularity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  data items to be of various sizes and define a hierarchy of data granularities, where the small granularities are nested within larger 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be represented graphically as a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a transaction locks a node in the tre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xplicitl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i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mplicitl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ocks all the node's descendents in the same mo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Granularity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f locking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level in tree where locking is done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fine granularit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lower in tree): high concurrency, high locking overh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coarse granularity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higher in tree): low locking overhead, low concurr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Example of Granularity Hierarchy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01720" y="144252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evels, starting from the coarsest (top) level 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re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co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10" descr=""/>
          <p:cNvPicPr/>
          <p:nvPr/>
        </p:nvPicPr>
        <p:blipFill>
          <a:blip r:embed="rId1"/>
          <a:stretch/>
        </p:blipFill>
        <p:spPr>
          <a:xfrm>
            <a:off x="1603440" y="993600"/>
            <a:ext cx="6008760" cy="27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Intention Lock Mod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addition to S and X lock modes, there are three additional lock modes with multiple granularit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ntention-shar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IS): indicates explicit locking at a lower level of the tree but only with shared 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nten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xclusi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IX): indicates explicit locking at a lower level with exclusive or shared lo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hared and inten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xclusi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SIX): the subtree rooted by that node is locked explicitly in shared mode and explicit locking is being done at a lower level with exclusive-mode 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ntion locks allow a higher level node to be locked in S or X mode without having to check all descendent nod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8240" y="114120"/>
            <a:ext cx="840744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Compatibility Matrix with Intention Lock Modes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25480" y="124416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ompatibility matrix for all lock modes i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102" descr=""/>
          <p:cNvPicPr/>
          <p:nvPr/>
        </p:nvPicPr>
        <p:blipFill>
          <a:blip r:embed="rId1"/>
          <a:stretch/>
        </p:blipFill>
        <p:spPr>
          <a:xfrm>
            <a:off x="1490760" y="2031840"/>
            <a:ext cx="6589440" cy="29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Multiple Granularity Locking Schem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5480" y="1079280"/>
            <a:ext cx="8013600" cy="50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ac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an lock a nod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using the following ru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ock compatibility matrix must be observ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9960" indent="-325800">
              <a:spcBef>
                <a:spcPts val="788"/>
              </a:spcBef>
              <a:buClr>
                <a:srgbClr val="ff9933"/>
              </a:buClr>
              <a:buSzPct val="8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oot of the tree must be locked first, and may be locked in any mo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9960" indent="-325800">
              <a:spcBef>
                <a:spcPts val="788"/>
              </a:spcBef>
              <a:buClr>
                <a:srgbClr val="ff9933"/>
              </a:buClr>
              <a:buSzPct val="8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od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an be locked b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S or IS mode only if the parent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currently locked b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either IX or IS mo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od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an be locked b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X, SIX, or IX mode only if the parent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currently locked b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either IX or SIX mo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an lock a node only if it has not previously unlocked any node (that is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two-phas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9960" indent="-325800">
              <a:spcBef>
                <a:spcPts val="788"/>
              </a:spcBef>
              <a:buClr>
                <a:srgbClr val="ff9933"/>
              </a:buClr>
              <a:buSzPct val="8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unlock a nod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nly if none of the children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re currently locked b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serve that locks are acquired in root-to-leaf order, whereas they are released in leaf-to-root ord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0"/>
                </a:solidFill>
                <a:latin typeface="Arial"/>
              </a:rPr>
              <a:t>Lock granularity escal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 case there are too many locks at a particular level, switch to higher granularity S or X 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imestamp-Based Protocol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25120" y="1079640"/>
            <a:ext cx="768204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transaction is issued a timestamp when it enters the system. If an old transac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as time-stamp TS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a new transac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ssigned time-stamp TS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such that TS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&lt;TS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rotocol manages concurrent execution such that the time-stamps determine the serializability ord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order to assure such behavior, the protocol maintains for each dat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 timestamp valu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-timestam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is the largest time-stamp of any transaction that execute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i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successful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-timestam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is the largest time-stamp of any transaction that execute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successful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52600" y="13464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imestamp-Based Protocols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5120" y="1079640"/>
            <a:ext cx="744228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imestamp ordering protocol ensures that any conflicting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i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perations are executed in timestamp ord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se a transaction 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sues 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788"/>
              </a:spcBef>
              <a:buClr>
                <a:srgbClr val="ff9933"/>
              </a:buClr>
              <a:buSzPct val="8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S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timestamp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the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eeds to read a value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that was already overwritt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343080">
              <a:spcBef>
                <a:spcPts val="788"/>
              </a:spcBef>
              <a:buClr>
                <a:srgbClr val="33cc33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ce,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peration is rejected,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rolled bac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788"/>
              </a:spcBef>
              <a:buClr>
                <a:srgbClr val="ff9933"/>
              </a:buClr>
              <a:buSzPct val="8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S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timestamp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then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peration is executed, and R-timestamp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is set t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R-timestamp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TS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imestamp-Based Protocols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14320" y="1093320"/>
            <a:ext cx="7661520" cy="37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se that transac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sue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i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788"/>
              </a:spcBef>
              <a:buClr>
                <a:srgbClr val="ff9933"/>
              </a:buClr>
              <a:buSzPct val="8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S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&lt; R-timestamp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then the value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a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producing was needed previously, and the system assumed that that value would never be produc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343080">
              <a:spcBef>
                <a:spcPts val="788"/>
              </a:spcBef>
              <a:buClr>
                <a:srgbClr val="33cc33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ce,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i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peration is rejected,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rolled bac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788"/>
              </a:spcBef>
              <a:buClr>
                <a:srgbClr val="ff9933"/>
              </a:buClr>
              <a:buSzPct val="8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S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&lt; W-timestamp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the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ttempting to write an obsolete value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343080">
              <a:spcBef>
                <a:spcPts val="788"/>
              </a:spcBef>
              <a:buClr>
                <a:srgbClr val="33cc33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ce, thi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i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peration is rejected,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rolled bac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788"/>
              </a:spcBef>
              <a:buClr>
                <a:srgbClr val="ff9933"/>
              </a:buClr>
              <a:buSzPct val="8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wise,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wri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peration is executed, and W-timestamp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is set to TS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Lock-Based Protocol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5480" y="1079640"/>
            <a:ext cx="68277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lock is a mechanism to control concurrent access to a data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items can be locked in two modes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exclusiv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(X) mod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Data item can be both read as well as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ten. X-lock is requested using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lock-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stru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shared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(S) mod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Data item can only be read. S-lock is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ed using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lock-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stru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k requests are made to the concurrency-control manager by the programmer. Transaction can proceed only after request is gran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52600" y="13932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Example Use of the Protoco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927000" y="108576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partial schedule for several data items for transactions w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stamps 1, 2, 3, 4,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6" descr=""/>
          <p:cNvPicPr/>
          <p:nvPr/>
        </p:nvPicPr>
        <p:blipFill>
          <a:blip r:embed="rId1"/>
          <a:stretch/>
        </p:blipFill>
        <p:spPr>
          <a:xfrm>
            <a:off x="1776240" y="2041560"/>
            <a:ext cx="4983480" cy="37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3520" y="8064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Correctness of Timestamp-Ordering Protocol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5480" y="1079640"/>
            <a:ext cx="741672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imestamp-ordering protocol guarantees serializability since all the arcs in the precedence graph are of the for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us, there will be no cycles in the precedenc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stamp protocol ensures freedom from deadlock as no transaction ever wait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the schedule may not be cascade-free, and may  not even be recover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9" descr=""/>
          <p:cNvPicPr/>
          <p:nvPr/>
        </p:nvPicPr>
        <p:blipFill>
          <a:blip r:embed="rId1"/>
          <a:stretch/>
        </p:blipFill>
        <p:spPr>
          <a:xfrm>
            <a:off x="2131920" y="1979640"/>
            <a:ext cx="4945320" cy="13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Deadlock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75960" y="1079280"/>
            <a:ext cx="7661160" cy="49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ider the following two transa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    write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        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   write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                        write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edule with dead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13" descr=""/>
          <p:cNvPicPr/>
          <p:nvPr/>
        </p:nvPicPr>
        <p:blipFill>
          <a:blip r:embed="rId1"/>
          <a:stretch/>
        </p:blipFill>
        <p:spPr>
          <a:xfrm>
            <a:off x="1832040" y="3117960"/>
            <a:ext cx="4197240" cy="20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Lock-Based Protocols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5120" y="1079640"/>
            <a:ext cx="72039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Lock-compatibility matr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transaction may be granted a lock on an item if the requested lock is compatible with locks already held on the item by other trans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 number of transactions can hold shared locks on an item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if any transaction holds an exclusive on the item no other transaction may hold any lock on the i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a lock cannot be granted, the requesting transaction is made to wait till all incompatible locks held by other transactions have been released.  The lock is then gran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3" descr=""/>
          <p:cNvPicPr/>
          <p:nvPr/>
        </p:nvPicPr>
        <p:blipFill>
          <a:blip r:embed="rId1"/>
          <a:stretch/>
        </p:blipFill>
        <p:spPr>
          <a:xfrm>
            <a:off x="2954160" y="1569960"/>
            <a:ext cx="2113200" cy="12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Lock-Based Protocols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60640" y="1079640"/>
            <a:ext cx="6696000" cy="480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 of a transaction performing lock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lock-S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lock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k-S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lock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play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A+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king as above is not sufficient to guarantee serializability — i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et updated in-between the read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e displayed sum would be wro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locking protoco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 set of rules followed by all transactions while requesting and releasing locks. Locking protocols restrict the set of possible schedu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he Two-Phase Locking Protoco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14560" y="1197000"/>
            <a:ext cx="711504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protocol ensures conflict-serializable schedu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ase 1: Growing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action may obtain lock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action may not release lo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ase 2: Shrinking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action may release lo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action may not obtain lo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rotocol assures serializability. It can be proved that the transactions can be serialized in the order of their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lock points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i.e., the point where a transaction acquired its final lock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7720" y="7128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he Two-Phase Locking Protocol (Cont.)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11320" y="1247760"/>
            <a:ext cx="7014960" cy="435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can be conflict serializable schedules that cannot be obtained if two-phase locking is used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ever, in the absence of extra information (e.g., ordering of  access to data), two-phase locking is needed for conflict serializability in the following sen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ven a transac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at does not follow two-phase locking, we can find a transac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at uses two-phase locking, and a schedule fo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at is not conflict serializ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Lock Conversion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5120" y="1079640"/>
            <a:ext cx="66279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-phase locking with lock convers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–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Phase: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acquire a lock-S on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acquire a lock-X on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convert a lock-S to a lock-X (upgrad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–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Pha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release a lock-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release a lock-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convert a lock-X to a lock-S  (downgrad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protocol assures serializability. But still relies on the programmer to insert the various  locking instruc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Automatic Acquisition of Lock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12680" y="1117080"/>
            <a:ext cx="6878880" cy="521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transac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sues the standard read/write instruction, without explicit locking cal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operatio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is processed 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as a lock 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se beg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necessary wait until no other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action has 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k-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n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lock-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1T15:40:24Z</dcterms:created>
  <dc:creator>Silberschatz, Korth and Sudarshan</dc:creator>
  <dc:description/>
  <dc:language>en-US</dc:language>
  <cp:lastModifiedBy>hassan</cp:lastModifiedBy>
  <dcterms:modified xsi:type="dcterms:W3CDTF">2017-10-24T20:01:47Z</dcterms:modified>
  <cp:revision>287</cp:revision>
  <dc:subject/>
  <dc:title>Chapter 15: Concurrency Control</dc:title>
</cp:coreProperties>
</file>