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4FE6E67-77D0-4562-809F-2A8539326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C1B9657-8F72-44A8-B88A-F89C50BDA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2E72A66-FF75-4C2F-A62D-B21BFE6DE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4E86896-C113-44CA-B88A-A15259591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AF9CD03-E834-45B5-BAA8-F54283F32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23A055C-28DF-4194-8DC6-9437AC29E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01B76A7-094D-4053-9F50-496DEA5E6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A8CF121-9426-425B-8475-39362ADF3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B6A61E7-84B2-4A86-A31B-1AA0372CD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E60D6DB-6A6B-43D1-A79E-649127C11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1F1DF6D-0C3F-4817-826F-275CF02F1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B73F174-F00E-47AF-A4E7-894F7A22A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1408F0A-4324-4ED3-8058-832CF8B10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9AF4CE1-967F-4EDE-A01D-EADFBF956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034044F-ADCD-444A-9548-A05109B9D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DB3AE7A-DB50-4E35-B439-A6B2E3D3E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055FE36-4853-4278-AD92-5AB4BCA46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D995C6A-056D-4C38-83D9-62A0C3E7C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2662F16-D6C8-404D-B93C-60A5DB25C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8236E0D-232A-413C-BCD7-48DAB9B09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3714AFA-24D8-42D0-A188-469B79044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7837637-55D8-48B8-A6CB-DE0888743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6022040-3318-4334-9B83-CB80D45D6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82958A2-C587-4146-84B9-C35642168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0B3C149-048F-477E-83A8-3FACB0BC0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9318D5E-18E6-419C-940A-F2674B48C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810590B-B1FF-474F-9F13-285267C2B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9C23010-0262-4F67-B9C8-E8DF6D25B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17B119E-4BA6-497C-BED2-B2B854615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A839EAF-5499-4D6D-B9DE-B9F2DD3A1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9184EDF-F124-477F-BD5D-FDDA9C755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1B119A9-D3D7-44BE-991F-CBF747A5D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154D0C0-5083-4EDD-8843-2C495B06F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71F1-33BA-402F-A648-A37ADEFDE1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6F6A-699E-4BC7-8A49-9401CF625A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6BFF-F262-4007-B659-94BF478F18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B86A-B30A-4FBF-BAE4-9295DC9F5E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75B9-4471-406A-8816-398B2A9CA3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B28D-94D6-481F-932D-4511F55989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27837-2495-4776-833D-6AF92F8779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2982-EA8F-4E12-8561-6DB8914B6C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3F64B-F652-4E37-8187-5EA636A3EF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EE52-728E-460F-B5F2-BE9A11619B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C5AC-DB6B-46A3-B698-209A0DA098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D5931-AAF9-4A0B-9543-6E96C9A301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5.</a:t>
            </a:r>
            <a:fld id="{1DEF04A8-C294-4719-BF6A-C5C4C9FD13FE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1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2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305C-8259-4247-916E-E152AF89125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5 : Concurrency Control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omatic Acquisition of Lock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824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rocess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 wait until no other transaction has any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gr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ocks are released after commit or 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5120" y="1079280"/>
            <a:ext cx="7466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partial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make progress — executing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wait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lease its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le executing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wait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lease its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a situation is called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ad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andle a deadlock on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rolled bac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s locks rele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15"/>
          <p:cNvPicPr/>
          <p:nvPr/>
        </p:nvPicPr>
        <p:blipFill>
          <a:blip r:embed="rId1"/>
          <a:stretch/>
        </p:blipFill>
        <p:spPr>
          <a:xfrm>
            <a:off x="2765520" y="1585800"/>
            <a:ext cx="29606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88480" y="5544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25200" y="779400"/>
            <a:ext cx="69152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phase lock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es 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sure freedom from dead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deadlock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possibility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r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rv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curs if the concurrency control manager is badly designed.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ay be waiting for an X-lock on an item, while a sequence of other transactions request and are granted an S-lock on the same it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transaction is repeatedly rolled back due to dead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control manager can be designed to prevent star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16812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5960" y="1166760"/>
            <a:ext cx="690228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tential for deadlock exists in most locking protocols. Deadlocks are a necessary ev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deadlock occurs there is a possibility of cascading roll-ba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ing roll-back is possible under two-phase locking. To avoid this, follow a modified protocol 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ict two-phase 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a transaction must hold all its exclusive locks till it commits/ab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igorous two-phase 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ven stricter. Her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s are held till commit/abort. In this protocol transactions can be serialized in the order in which they com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mplementation of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9920" y="1095120"/>
            <a:ext cx="699624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 manager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implemented as a separate process to which transactions send lock and unlock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manager replies to a lock request by sending a lock grant messages (or a message asking the transaction to roll back, in case of  a dead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questing transaction waits until its request is answ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manager maintains a data-structure called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 tabl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cord granted locks and pending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table is usually implemented as an in-memory hash table indexed on the name of the data item being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 Tab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10160" y="1079640"/>
            <a:ext cx="43178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k blue rectangles indicate granted locks; light blue indicate waiting 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 table also records the type of lock granted or requ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request is added to the end of the queue of requests for the data item, and granted if it is compatible with all earlier 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ock requests result in the request being deleted, and later requests are checked to see if they can now be gra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nsaction aborts, all waiting or granted requests of the transaction are dele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 manager may keep a list of locks held by each transaction, to implement this effici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as668\Desktop\15_10.jpg"/>
          <p:cNvPicPr/>
          <p:nvPr/>
        </p:nvPicPr>
        <p:blipFill>
          <a:blip r:embed="rId1"/>
          <a:stretch/>
        </p:blipFill>
        <p:spPr>
          <a:xfrm>
            <a:off x="814320" y="1252440"/>
            <a:ext cx="3354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Handl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15176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s deadlocked if there is a set of transactions such that every transaction in the set is waiting for another transaction in the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Deadlock 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tocols ensure that the system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er into a deadlock state. Some prevention strategi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that each transaction locks all its data items before it begins execution (predeclar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e partial ordering of all data items and require that a transaction can lock data items only in the order specified by the partial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re Deadlock Prevention Strateg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648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schemes use transaction timestamps for the sake of deadlock prevention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it-d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 — non-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transaction may wait for younger one to release data item. (older means smaller timestamp) Younger transactions never Younger transactions never wait for older ones; they are rolled back inst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ay die several times before acquiring needed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und-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 — 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u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orces rollback) of younger transaction instead of waiting for it. Younger transactions may wait for older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fewer rollbacks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it-d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preven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it-d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und-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s, a rolled back transactions is restarted with its original timestamp. Older transactions thus have precedence over newer ones, and starvation is hence avoi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imeout-Based Sche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waits for a lock only for a specified amount of time. If the lock has not been granted within that time, the transaction is rolled back and restart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deadlocks are no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implement; but starvation is possible. Also difficult to determine good value of the timeout inter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Dete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s can be described as a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wait-f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consists of a pai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vertices (all the transactions in the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edges; each element is an ordered pai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re is a directed edg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mplying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aiting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lease a data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data item currently being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serted in the wait-for graph. This edge is removed only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 longer holding a data item need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is in a deadlock state if and only if the wait-for graph has a cycle.  Must invoke a deadlock-detection algorithm periodically to look for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7320" y="1169640"/>
            <a:ext cx="641196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Gran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nd Dele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in Index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52600" y="1504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Detec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02880" y="4210200"/>
            <a:ext cx="35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-for graph without a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278680" y="4246560"/>
            <a:ext cx="31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-for graph with a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211400" y="1574640"/>
            <a:ext cx="2882880" cy="2127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5599080" y="1747800"/>
            <a:ext cx="2562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Recov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4152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eadlock is  detecte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transaction will have to rolled back (made a victim) to break deadlock.  Select that transaction as victim that will incur minimum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back -- determine how far to roll back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otal roll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bort the transaction and then restar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to roll back transaction only as far as necessary to break dead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vation happens if same transaction is always chosen as victim. Include the number of rollbacks in the cost factor to avoid sta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ple Granular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 data items to be of various sizes and define a hierarchy of data granularities, where the small granularities are nested within larger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represented graphically as a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ransaction locks a node in the tre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lici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ici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cks all the node's descendents in the same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anularity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f lock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evel in tree where locking is don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ne granular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ower in tree): high concurrency, high locking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arse granularity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er in tree): low locking overhead, low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Granularity Hierarch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1720" y="1442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vels, starting from the coarsest (top) level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1603440" y="993600"/>
            <a:ext cx="60087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ention Lock Mod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S and X lock modes, there are three additional lock modes with multiple granular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ntion-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S): indicates explicit locking at a lower level of the tree but only with shared 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n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X): indicates explicit locking at a lower level with exclusive or shared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d and inten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IX): the subtree rooted by that node is locked explicitly in shared mode and explicit locking is being done at a lower level with exclusive-mode 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ion locks allow a higher level node to be locked in S or X mode without having to check all descendent n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114120"/>
            <a:ext cx="84074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mpatibility Matrix with Intention Lock Mod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5480" y="124416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atibility matrix for all lock modes 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2" descr=""/>
          <p:cNvPicPr/>
          <p:nvPr/>
        </p:nvPicPr>
        <p:blipFill>
          <a:blip r:embed="rId1"/>
          <a:stretch/>
        </p:blipFill>
        <p:spPr>
          <a:xfrm>
            <a:off x="1490760" y="2031840"/>
            <a:ext cx="658944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ple Granularity Locking Schem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5480" y="1079280"/>
            <a:ext cx="80136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ock 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ing the following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compatibility matrix must be ob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ot of the tree must be locked first, and may be locked in any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 or IS mode only if the par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either IX or IS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X, SIX, or IX mode only if the par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either IX or SIX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ock a node only if it has not previously unlocked any node (that i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wo-pha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nlock 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none of the childre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locks are acquired in root-to-leaf order, whereas they are released in leaf-to-root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Lock granularity esca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 case there are too many locks at a particular level, switch to higher granularity S or X 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768204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ransaction is issued a timestamp when it enters the system. If an old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ime-stamp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 new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signed time-stamp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h that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ocol manages concurrent execution such that the time-stamps determine the serializability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rder to assure such behavior, the protocol maintains for each da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imestamp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he largest time-stamp of any transaction tha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cessfu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he largest time-stamp of any transaction tha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cessfu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2600" y="134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74422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stamp ordering protocol ensures that any conflic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s are executed in timestamp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a transactio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s to read a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that was already over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executed, and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se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roducing was needed previously, and the system assumed that that value would never be produc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ttempting to write an obsolet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executed, and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set to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68277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ck is a mechanism to control concurrent access to a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tems can be locked in two mod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exclusiv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X)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ta item can be both read as well 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. X-lock is requested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shar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S)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ta item can only be read. S-lock is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requests are made to the concurrency-control manager by the programmer. Transaction can proceed only after request is gr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2600" y="1393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Use of the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927000" y="108576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tial schedule for several data items for transaction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s 1, 2, 3, 4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776240" y="2041560"/>
            <a:ext cx="49834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806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rrectness of Timestamp-Ordering Protoco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4167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stamp-ordering protocol guarantees serializability since all the arcs in the precedence graph are of the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re will be no cycles in the precedenc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 protocol ensures freedom from deadlock as no transaction ever wai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 schedule may not be cascade-free, and may  not even be recov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2131920" y="1979640"/>
            <a:ext cx="494532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75960" y="1079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following two trans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 writ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                   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with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3" descr=""/>
          <p:cNvPicPr/>
          <p:nvPr/>
        </p:nvPicPr>
        <p:blipFill>
          <a:blip r:embed="rId1"/>
          <a:stretch/>
        </p:blipFill>
        <p:spPr>
          <a:xfrm>
            <a:off x="1832040" y="3117960"/>
            <a:ext cx="419724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7203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-compatibility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ay be granted a lock on an item if the requested lock is compatible with locks already held on the item by other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number of transactions can hold shared locks on an ite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f any transaction holds an exclusive on the item no other transaction may hold any lock on the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ck cannot be granted, the requesting transaction is made to wait till all incompatible locks held by other transactions have been released.  The lock is then gr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" descr=""/>
          <p:cNvPicPr/>
          <p:nvPr/>
        </p:nvPicPr>
        <p:blipFill>
          <a:blip r:embed="rId1"/>
          <a:stretch/>
        </p:blipFill>
        <p:spPr>
          <a:xfrm>
            <a:off x="2954160" y="1569960"/>
            <a:ext cx="21132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60640" y="1079640"/>
            <a:ext cx="669600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transaction performing lo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oc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oc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+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ing as above is not sufficient to guarantee serializability —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t updated in-between the read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displayed sum would be w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ing protoc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rules followed by all transactions while requesting and releasing locks. Locking protocols restrict the set of possible sche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Two-Phase Locking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1197000"/>
            <a:ext cx="71150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tocol ensures conflict-serializable sche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1: Grow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obtain l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not release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2: Shrink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release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not obtain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ocol assures serializability. It can be proved that the transactions can be serialized in the order of their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 point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, the point where a transaction acquired its final lock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71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Two-Phase Locking Protoco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1320" y="1247760"/>
            <a:ext cx="701496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an be conflict serializable schedules that cannot be obtained if two-phase locking is us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n the absence of extra information (e.g., ordering of  access to data), two-phase locking is needed for conflict serializability in the following se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does not follow two-phase locking, we can find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uses two-phase locking, and a schedul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 not conflict serializ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 Conver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6627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phase locking with lock conver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–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Phase: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cquire a lock-S 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cquire a lock-X 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nvert a lock-S to a lock-X (upgr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–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lease a lock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lease a lock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nvert a lock-X to a lock-S  (downgr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tocol assures serializability. But still relies on the programmer to insert the various  locking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omatic Acquisition of Lo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12680" y="1117080"/>
            <a:ext cx="687888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the standard read/write instruction, without explicit locking c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process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be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 wait until no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5:40:24Z</dcterms:created>
  <dc:creator>Silberschatz, Korth and Sudarshan</dc:creator>
  <dc:description/>
  <dc:language>en-US</dc:language>
  <cp:lastModifiedBy>hassan</cp:lastModifiedBy>
  <dcterms:modified xsi:type="dcterms:W3CDTF">2017-10-24T20:01:47Z</dcterms:modified>
  <cp:revision>287</cp:revision>
  <dc:subject/>
  <dc:title>Chapter 15: Concurrency Control</dc:title>
</cp:coreProperties>
</file>