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3.png" ContentType="image/png"/>
  <Override PartName="/ppt/media/image7.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04313" cy="68326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9" name="PlaceHolder 1"/>
          <p:cNvSpPr>
            <a:spLocks noGrp="1"/>
          </p:cNvSpPr>
          <p:nvPr>
            <p:ph type="body"/>
          </p:nvPr>
        </p:nvSpPr>
        <p:spPr>
          <a:xfrm>
            <a:off x="914400" y="4641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2"/>
          <p:cNvSpPr>
            <a:spLocks noGrp="1"/>
          </p:cNvSpPr>
          <p:nvPr>
            <p:ph type="sldImg"/>
          </p:nvPr>
        </p:nvSpPr>
        <p:spPr>
          <a:xfrm>
            <a:off x="1152360" y="853920"/>
            <a:ext cx="455328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88920" y="731880"/>
            <a:ext cx="4880160" cy="3662280"/>
          </a:xfrm>
          <a:prstGeom prst="rect">
            <a:avLst/>
          </a:prstGeom>
          <a:ln w="0">
            <a:noFill/>
          </a:ln>
        </p:spPr>
      </p:sp>
      <p:sp>
        <p:nvSpPr>
          <p:cNvPr id="316"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boundary:</a:t>
            </a:r>
            <a:r>
              <a:rPr b="0" lang="en-US" sz="1200" spc="-1" strike="noStrike">
                <a:solidFill>
                  <a:srgbClr val="000000"/>
                </a:solidFill>
                <a:latin typeface="Times New Roman"/>
              </a:rPr>
              <a:t> A system boundary defines the scope of what a system will be. A system cannot have infinite functionality. So, it follows that use cases also need to have definitive limits defined. A system boundary of a use case diagram defines the limits of the system. The system boundary is shown as a rectangle spanning all the use cases in th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use cases in this lecture also show the system boundary of the clinic application. The use cases of this system are enclosed in a rectangle. Note that the actors in the system are outside the system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boundary is potentially the entire system as defined in the problem statement. But this is not always the case. For large and complex systems, each of the modules may be the system boundary. For example, for an ERP system for an organization, each of the modules such as personnel, payroll, accounting, and so forth, can form the system boundary for use cases specific to each of these business functions. The entire system can span all of these modules depicting the overall system bou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88920" y="731880"/>
            <a:ext cx="4880160" cy="3662280"/>
          </a:xfrm>
          <a:prstGeom prst="rect">
            <a:avLst/>
          </a:prstGeom>
          <a:ln w="0">
            <a:noFill/>
          </a:ln>
        </p:spPr>
      </p:sp>
      <p:sp>
        <p:nvSpPr>
          <p:cNvPr id="318" name="PlaceHolder 2"/>
          <p:cNvSpPr>
            <a:spLocks noGrp="1"/>
          </p:cNvSpPr>
          <p:nvPr>
            <p:ph type="body"/>
          </p:nvPr>
        </p:nvSpPr>
        <p:spPr>
          <a:xfrm>
            <a:off x="914400" y="4640400"/>
            <a:ext cx="5029200" cy="4394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Use Case</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ORS</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ed by a stick figure</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d</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CASE</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ed by an oval</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d (</a:t>
            </a:r>
            <a:r>
              <a:rPr b="1" lang="en-US" sz="1400" spc="-1" strike="noStrike">
                <a:solidFill>
                  <a:srgbClr val="000000"/>
                </a:solidFill>
                <a:latin typeface="Times New Roman"/>
              </a:rPr>
              <a:t>POORLY NAMED</a:t>
            </a:r>
            <a:r>
              <a:rPr b="0" lang="en-US" sz="1400" spc="-1" strike="noStrike">
                <a:solidFill>
                  <a:srgbClr val="000000"/>
                </a:solidFill>
                <a:latin typeface="Times New Roman"/>
              </a:rPr>
              <a:t>; should be verb phrase)</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way associ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88920" y="731880"/>
            <a:ext cx="4880160" cy="3662280"/>
          </a:xfrm>
          <a:prstGeom prst="rect">
            <a:avLst/>
          </a:prstGeom>
          <a:ln w="0">
            <a:noFill/>
          </a:ln>
        </p:spPr>
      </p:sp>
      <p:sp>
        <p:nvSpPr>
          <p:cNvPr id="320"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heritance</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88920" y="731880"/>
            <a:ext cx="4880160" cy="3662280"/>
          </a:xfrm>
          <a:prstGeom prst="rect">
            <a:avLst/>
          </a:prstGeom>
          <a:ln w="0">
            <a:noFill/>
          </a:ln>
        </p:spPr>
      </p:sp>
      <p:sp>
        <p:nvSpPr>
          <p:cNvPr id="322"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heritan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 case </a:t>
            </a:r>
            <a:r>
              <a:rPr b="1" lang="en-US" sz="1200" spc="-1" strike="noStrike">
                <a:solidFill>
                  <a:srgbClr val="000000"/>
                </a:solidFill>
                <a:latin typeface="Times New Roman"/>
              </a:rPr>
              <a:t>generalization</a:t>
            </a:r>
            <a:r>
              <a:rPr b="0" lang="en-US" sz="1200" spc="-1" strike="noStrike">
                <a:solidFill>
                  <a:srgbClr val="000000"/>
                </a:solidFill>
                <a:latin typeface="Times New Roman"/>
              </a:rPr>
              <a:t> shows that one use case is simply a special kind of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inic may have a use case such as </a:t>
            </a:r>
            <a:r>
              <a:rPr b="1" lang="en-US" sz="1200" spc="-1" strike="noStrike">
                <a:solidFill>
                  <a:srgbClr val="000000"/>
                </a:solidFill>
                <a:latin typeface="Times New Roman"/>
              </a:rPr>
              <a:t>Pay Bill</a:t>
            </a:r>
            <a:r>
              <a:rPr b="0" lang="en-US" sz="1200" spc="-1" strike="noStrike">
                <a:solidFill>
                  <a:srgbClr val="000000"/>
                </a:solidFill>
                <a:latin typeface="Times New Roman"/>
              </a:rPr>
              <a:t>  which would be a parent use case and </a:t>
            </a:r>
            <a:r>
              <a:rPr b="1" lang="en-US" sz="1200" spc="-1" strike="noStrike">
                <a:solidFill>
                  <a:srgbClr val="000000"/>
                </a:solidFill>
                <a:latin typeface="Times New Roman"/>
              </a:rPr>
              <a:t>Bill Insurance</a:t>
            </a:r>
            <a:r>
              <a:rPr b="0" lang="en-US" sz="1200" spc="-1" strike="noStrike">
                <a:solidFill>
                  <a:srgbClr val="000000"/>
                </a:solidFill>
                <a:latin typeface="Times New Roman"/>
              </a:rPr>
              <a:t> which is the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ild can be substituted for its parent whenever necess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appears as a line with a triangular arrow head toward the parent us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88920" y="731880"/>
            <a:ext cx="4880160" cy="3662280"/>
          </a:xfrm>
          <a:prstGeom prst="rect">
            <a:avLst/>
          </a:prstGeom>
          <a:ln w="0">
            <a:noFill/>
          </a:ln>
        </p:spPr>
      </p:sp>
      <p:sp>
        <p:nvSpPr>
          <p:cNvPr id="324"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relationship</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 that ONLY between use cases (not between actors)</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ANDATORY</a:t>
            </a:r>
            <a:r>
              <a:rPr b="0" lang="en-US" sz="1400" spc="-1" strike="noStrike">
                <a:solidFill>
                  <a:srgbClr val="000000"/>
                </a:solidFill>
                <a:latin typeface="Times New Roman"/>
              </a:rPr>
              <a:t> functional</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use cases may share pieces of the same functionalit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her than have duplicate functionality in several use cases</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t shared functionality in one use case and show relationship between it and other use cases that “uses” its functionalit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icted by arrowhead with word “&lt;&lt;include&gt;&gt;” above it</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lude</a:t>
            </a:r>
            <a:r>
              <a:rPr b="0" lang="en-US" sz="1200" spc="-1" strike="noStrike">
                <a:solidFill>
                  <a:srgbClr val="000000"/>
                </a:solidFill>
                <a:latin typeface="Times New Roman"/>
              </a:rPr>
              <a:t> relationships factor use cases into additional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re especially helpful when the same use case can be factored out of two different use 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linic had a cases of </a:t>
            </a:r>
            <a:r>
              <a:rPr b="1" lang="en-US" sz="1200" spc="-1" strike="noStrike">
                <a:solidFill>
                  <a:srgbClr val="000000"/>
                </a:solidFill>
                <a:latin typeface="Times New Roman"/>
              </a:rPr>
              <a:t>Make Appointment</a:t>
            </a:r>
            <a:r>
              <a:rPr b="0" lang="en-US" sz="1200" spc="-1" strike="noStrike">
                <a:solidFill>
                  <a:srgbClr val="000000"/>
                </a:solidFill>
                <a:latin typeface="Times New Roman"/>
              </a:rPr>
              <a:t> and </a:t>
            </a:r>
            <a:r>
              <a:rPr b="1" lang="en-US" sz="1200" spc="-1" strike="noStrike">
                <a:solidFill>
                  <a:srgbClr val="000000"/>
                </a:solidFill>
                <a:latin typeface="Times New Roman"/>
              </a:rPr>
              <a:t>Request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ight include </a:t>
            </a:r>
            <a:r>
              <a:rPr b="1" lang="en-US" sz="1200" spc="-1" strike="noStrike">
                <a:solidFill>
                  <a:srgbClr val="000000"/>
                </a:solidFill>
                <a:latin typeface="Times New Roman"/>
              </a:rPr>
              <a:t>Check Patient Record</a:t>
            </a:r>
            <a:r>
              <a:rPr b="0" lang="en-US" sz="1200" spc="-1" strike="noStrike">
                <a:solidFill>
                  <a:srgbClr val="000000"/>
                </a:solidFill>
                <a:latin typeface="Times New Roman"/>
              </a:rPr>
              <a:t> as a sub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would include a call to the use case </a:t>
            </a:r>
            <a:r>
              <a:rPr b="1" lang="en-US" sz="1200" spc="-1" strike="noStrike">
                <a:solidFill>
                  <a:srgbClr val="000000"/>
                </a:solidFill>
                <a:latin typeface="Times New Roman"/>
              </a:rPr>
              <a:t>Check Patien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ant to write it twice we simply want to include in as a call from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e notation is a dotted line beginning at base use case ending with an arrows pointing to the include us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tted line is labeled &lt;&lt;include&gt;&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88920" y="731880"/>
            <a:ext cx="4880160" cy="3662280"/>
          </a:xfrm>
          <a:prstGeom prst="rect">
            <a:avLst/>
          </a:prstGeom>
          <a:ln w="0">
            <a:noFill/>
          </a:ln>
        </p:spPr>
      </p:sp>
      <p:sp>
        <p:nvSpPr>
          <p:cNvPr id="326"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Case Relationship</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 relationship</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d to show </a:t>
            </a:r>
            <a:r>
              <a:rPr b="1" lang="en-US" sz="1400" spc="-1" strike="noStrike" u="sng">
                <a:solidFill>
                  <a:srgbClr val="000000"/>
                </a:solidFill>
                <a:uFillTx/>
                <a:latin typeface="Times New Roman"/>
              </a:rPr>
              <a:t>optional</a:t>
            </a:r>
            <a:r>
              <a:rPr b="0" lang="en-US" sz="1400" spc="-1" strike="noStrike">
                <a:solidFill>
                  <a:srgbClr val="000000"/>
                </a:solidFill>
                <a:latin typeface="Times New Roman"/>
              </a:rPr>
              <a:t> behavior (behavior that is run only under certain circumstances)</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icted by arrowhead with word “&lt;&lt;extend&gt;&gt;” above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extend</a:t>
            </a:r>
            <a:r>
              <a:rPr b="0" lang="en-US" sz="1200" spc="-1" strike="noStrike">
                <a:solidFill>
                  <a:srgbClr val="000000"/>
                </a:solidFill>
                <a:latin typeface="Times New Roman"/>
              </a:rPr>
              <a:t> relationship indicates that one use case is a variation of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used when much of the same code may be in both only one extends the functionality some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is a add record to the database and modify tha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n add student is similar to a modify student so I may reuse some of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notation is a dotted line, labeled &lt;&lt;extend&gt;&gt;, and with an arrow toward the bas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extension point</a:t>
            </a:r>
            <a:r>
              <a:rPr b="0" lang="en-US" sz="1200" spc="-1" strike="noStrike">
                <a:solidFill>
                  <a:srgbClr val="000000"/>
                </a:solidFill>
                <a:latin typeface="Times New Roman"/>
              </a:rPr>
              <a:t>, which determines when the extended case is appropriate, is written inside the bas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88920" y="731880"/>
            <a:ext cx="4880160" cy="3662280"/>
          </a:xfrm>
          <a:prstGeom prst="rect">
            <a:avLst/>
          </a:prstGeom>
          <a:ln w="0">
            <a:noFill/>
          </a:ln>
        </p:spPr>
      </p:sp>
      <p:sp>
        <p:nvSpPr>
          <p:cNvPr id="328" name="PlaceHolder 2"/>
          <p:cNvSpPr>
            <a:spLocks noGrp="1"/>
          </p:cNvSpPr>
          <p:nvPr>
            <p:ph type="body"/>
          </p:nvPr>
        </p:nvSpPr>
        <p:spPr>
          <a:xfrm>
            <a:off x="685800" y="4640400"/>
            <a:ext cx="5486400" cy="4394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Boundar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cases are enclosed within a system boundar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ox that represents the system and clearly delineates what parts of the diagram are external or internal to it</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of the system can appear inside or on top of the box</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0673D-76C8-4859-9701-4020B8B2F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5234-E8D2-4654-B10C-E2C0EE00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30AEA-6253-435C-B582-D92B23C57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2A6E1-6473-4AD8-A68F-4CCD9E46C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B5625-7009-4B68-BAAD-F07AC2FA2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D44AA-B222-4D7C-922E-D649F468D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8B37E-8549-4131-8A91-5C1A43B5C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30388-E900-49E9-84EC-4C856BEF5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AEC9F-75E9-4A33-B9D8-1173568C9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EEAA1-0DE5-4E1A-B738-E9EA9A09A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1DA2C-B00B-49E0-A737-F46D94452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1F5B-9F85-4499-B197-A9013C53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F8F62-6AB8-47D0-B92A-81321F3FE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517A0-B216-4366-8440-6DDCA11E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9717A-F3BD-4901-8D29-274B48D26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CC319-3413-4975-9190-627575805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63D22-B143-43E6-96B4-60C33A78E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2D443B-BABF-4906-BC61-59F3F2A85B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9944A-8173-466F-BB14-38BD09F2D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BEF5B-3E36-471B-ACB8-4ECC97F0E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9A29AD-F21D-492E-983F-8AF2824AD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6C87A-487C-4BB5-8689-09FB8A767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A5A56-967B-4CCF-A683-30F2F27FD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7CEB5-BDFB-42D8-9CBB-E0BA35FF1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F83E8-8FEB-405D-AF10-7E43D9B17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7E667-E7B5-40B9-AC45-44EAB83B5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1EC8B-B1F0-4D4F-9F5F-F7970C86F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E973A-77E7-47EE-86A0-BE3F67AED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DB5861-5BAC-443B-BB0A-1F8D878864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F3DAD2-A496-460C-A369-7DB13E213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033BFF-731A-4115-866F-0C1C062E7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8D829-3392-4166-B956-28E354B2B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2FA38-B181-4330-AB23-CE3BD8E23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D062D-077D-4D85-9DF9-4DD578B8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DDA23-19E0-4EBB-97B5-7675D1F57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5DA4B-03FF-4F08-9E89-E5F9C0182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68115-9C35-4581-BE6E-ED58D0136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C5383-18DD-4700-B81F-86C6FA67E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97A7D-A67B-43C8-A99C-F22A3AA6C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AF6D2-4419-45C8-84A6-04FCE5D2F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31ACC2-FBE4-4A6A-B502-B788ABB86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CAA12A-C79C-4622-8CE2-8AA0BDB88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A1D758-ED1D-47BA-A39F-36CF4BCB85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1F5FF-8E5B-4307-AD1F-3B57D64B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B797A-5D18-411E-8853-00E062A1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C58F-7B15-48D3-BADE-66117516A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A8E7-791F-4CD9-A8AD-EDA14EFA4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3220-F466-472A-AC0B-7A6F1C297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6480"/>
            <a:ext cx="9124920" cy="1036800"/>
          </a:xfrm>
          <a:custGeom>
            <a:avLst/>
            <a:gdLst>
              <a:gd name="textAreaLeft" fmla="*/ 0 w 9124920"/>
              <a:gd name="textAreaRight" fmla="*/ 9125280 w 9124920"/>
              <a:gd name="textAreaTop" fmla="*/ 0 h 1036800"/>
              <a:gd name="textAreaBottom" fmla="*/ 1037160 h 103680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 name="Freeform 7"/>
          <p:cNvSpPr/>
          <p:nvPr/>
        </p:nvSpPr>
        <p:spPr>
          <a:xfrm>
            <a:off x="4363920" y="-6480"/>
            <a:ext cx="4741920" cy="635040"/>
          </a:xfrm>
          <a:custGeom>
            <a:avLst/>
            <a:gdLst>
              <a:gd name="textAreaLeft" fmla="*/ 0 w 4741920"/>
              <a:gd name="textAreaRight" fmla="*/ 4742280 w 4741920"/>
              <a:gd name="textAreaTop" fmla="*/ 0 h 635040"/>
              <a:gd name="textAreaBottom" fmla="*/ 635400 h 6350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891560" y="6332400"/>
            <a:ext cx="7588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0F8A-16CD-432B-A8CE-F2A0F9CA5ED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1600"/>
            <a:ext cx="9142920" cy="646200"/>
            <a:chOff x="-19080" y="201600"/>
            <a:chExt cx="9142920" cy="646200"/>
          </a:xfrm>
        </p:grpSpPr>
        <p:grpSp>
          <p:nvGrpSpPr>
            <p:cNvPr id="8" name="Freeform 11"/>
            <p:cNvGrpSpPr/>
            <p:nvPr/>
          </p:nvGrpSpPr>
          <p:grpSpPr>
            <a:xfrm>
              <a:off x="-19080" y="201600"/>
              <a:ext cx="9124560" cy="646200"/>
              <a:chOff x="-19080" y="201600"/>
              <a:chExt cx="9124560" cy="646200"/>
            </a:xfrm>
          </p:grpSpPr>
          <p:pic>
            <p:nvPicPr>
              <p:cNvPr id="9" name="Freeform 11" descr=""/>
              <p:cNvPicPr/>
              <p:nvPr/>
            </p:nvPicPr>
            <p:blipFill>
              <a:blip r:embed="rId3"/>
              <a:stretch/>
            </p:blipFill>
            <p:spPr>
              <a:xfrm>
                <a:off x="3960" y="201600"/>
                <a:ext cx="9101520" cy="646200"/>
              </a:xfrm>
              <a:prstGeom prst="rect">
                <a:avLst/>
              </a:prstGeom>
              <a:ln w="0">
                <a:noFill/>
              </a:ln>
            </p:spPr>
          </p:pic>
          <p:sp>
            <p:nvSpPr>
              <p:cNvPr id="10" name=""/>
              <p:cNvSpPr/>
              <p:nvPr/>
            </p:nvSpPr>
            <p:spPr>
              <a:xfrm rot="21435600">
                <a:off x="-18720" y="4766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6960"/>
              <a:ext cx="9142920" cy="559440"/>
              <a:chOff x="-19080" y="246960"/>
              <a:chExt cx="9142920" cy="559440"/>
            </a:xfrm>
          </p:grpSpPr>
          <p:pic>
            <p:nvPicPr>
              <p:cNvPr id="12" name="Freeform 12" descr=""/>
              <p:cNvPicPr/>
              <p:nvPr/>
            </p:nvPicPr>
            <p:blipFill>
              <a:blip r:embed="rId4"/>
              <a:stretch/>
            </p:blipFill>
            <p:spPr>
              <a:xfrm>
                <a:off x="-3240" y="246960"/>
                <a:ext cx="9127080" cy="559440"/>
              </a:xfrm>
              <a:prstGeom prst="rect">
                <a:avLst/>
              </a:prstGeom>
              <a:ln w="0">
                <a:noFill/>
              </a:ln>
            </p:spPr>
          </p:pic>
          <p:sp>
            <p:nvSpPr>
              <p:cNvPr id="13" name=""/>
              <p:cNvSpPr/>
              <p:nvPr/>
            </p:nvSpPr>
            <p:spPr>
              <a:xfrm rot="21435600">
                <a:off x="-18720" y="5223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4" name="Rectangle 8"/>
          <p:cNvSpPr/>
          <p:nvPr/>
        </p:nvSpPr>
        <p:spPr>
          <a:xfrm>
            <a:off x="457200" y="6477120"/>
            <a:ext cx="812016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	</a:t>
            </a:r>
            <a:r>
              <a:rPr b="0" lang="en-GB" sz="1200" spc="-1" strike="noStrike">
                <a:solidFill>
                  <a:srgbClr val="ffffff"/>
                </a:solidFill>
                <a:latin typeface="Times New Roman"/>
              </a:rPr>
              <a:t>                        </a:t>
            </a:r>
            <a:r>
              <a:rPr b="0" lang="en-GB" sz="1200" spc="-1" strike="noStrike">
                <a:solidFill>
                  <a:srgbClr val="ffffff"/>
                </a:solidFill>
                <a:latin typeface="Times New Roman"/>
              </a:rPr>
              <a:t>Slide  </a:t>
            </a:r>
            <a:fld id="{B81818F0-00C9-472A-8299-A331926092C3}"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6480"/>
            <a:ext cx="9124920" cy="1036800"/>
          </a:xfrm>
          <a:custGeom>
            <a:avLst/>
            <a:gdLst>
              <a:gd name="textAreaLeft" fmla="*/ 0 w 9124920"/>
              <a:gd name="textAreaRight" fmla="*/ 9125280 w 9124920"/>
              <a:gd name="textAreaTop" fmla="*/ 0 h 1036800"/>
              <a:gd name="textAreaBottom" fmla="*/ 1037160 h 103680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52" name="Freeform 7"/>
          <p:cNvSpPr/>
          <p:nvPr/>
        </p:nvSpPr>
        <p:spPr>
          <a:xfrm>
            <a:off x="4363920" y="-6480"/>
            <a:ext cx="4741920" cy="635040"/>
          </a:xfrm>
          <a:custGeom>
            <a:avLst/>
            <a:gdLst>
              <a:gd name="textAreaLeft" fmla="*/ 0 w 4741920"/>
              <a:gd name="textAreaRight" fmla="*/ 4742280 w 4741920"/>
              <a:gd name="textAreaTop" fmla="*/ 0 h 635040"/>
              <a:gd name="textAreaBottom" fmla="*/ 635400 h 6350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grpSp>
        <p:nvGrpSpPr>
          <p:cNvPr id="53" name="Group 1"/>
          <p:cNvGrpSpPr/>
          <p:nvPr/>
        </p:nvGrpSpPr>
        <p:grpSpPr>
          <a:xfrm>
            <a:off x="-19080" y="201600"/>
            <a:ext cx="9142920" cy="646200"/>
            <a:chOff x="-19080" y="201600"/>
            <a:chExt cx="9142920" cy="646200"/>
          </a:xfrm>
        </p:grpSpPr>
        <p:grpSp>
          <p:nvGrpSpPr>
            <p:cNvPr id="54" name="Freeform 11"/>
            <p:cNvGrpSpPr/>
            <p:nvPr/>
          </p:nvGrpSpPr>
          <p:grpSpPr>
            <a:xfrm>
              <a:off x="-19080" y="201600"/>
              <a:ext cx="9124560" cy="646200"/>
              <a:chOff x="-19080" y="201600"/>
              <a:chExt cx="9124560" cy="646200"/>
            </a:xfrm>
          </p:grpSpPr>
          <p:pic>
            <p:nvPicPr>
              <p:cNvPr id="55" name="Freeform 11" descr=""/>
              <p:cNvPicPr/>
              <p:nvPr/>
            </p:nvPicPr>
            <p:blipFill>
              <a:blip r:embed="rId3"/>
              <a:stretch/>
            </p:blipFill>
            <p:spPr>
              <a:xfrm>
                <a:off x="3960" y="201600"/>
                <a:ext cx="9101520" cy="646200"/>
              </a:xfrm>
              <a:prstGeom prst="rect">
                <a:avLst/>
              </a:prstGeom>
              <a:ln w="0">
                <a:noFill/>
              </a:ln>
            </p:spPr>
          </p:pic>
          <p:sp>
            <p:nvSpPr>
              <p:cNvPr id="56" name=""/>
              <p:cNvSpPr/>
              <p:nvPr/>
            </p:nvSpPr>
            <p:spPr>
              <a:xfrm rot="21435600">
                <a:off x="-18720" y="4766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7" name="Freeform 12"/>
            <p:cNvGrpSpPr/>
            <p:nvPr/>
          </p:nvGrpSpPr>
          <p:grpSpPr>
            <a:xfrm>
              <a:off x="-19080" y="246960"/>
              <a:ext cx="9142920" cy="559440"/>
              <a:chOff x="-19080" y="246960"/>
              <a:chExt cx="9142920" cy="559440"/>
            </a:xfrm>
          </p:grpSpPr>
          <p:pic>
            <p:nvPicPr>
              <p:cNvPr id="58" name="Freeform 12" descr=""/>
              <p:cNvPicPr/>
              <p:nvPr/>
            </p:nvPicPr>
            <p:blipFill>
              <a:blip r:embed="rId4"/>
              <a:stretch/>
            </p:blipFill>
            <p:spPr>
              <a:xfrm>
                <a:off x="-3240" y="246960"/>
                <a:ext cx="9127080" cy="559440"/>
              </a:xfrm>
              <a:prstGeom prst="rect">
                <a:avLst/>
              </a:prstGeom>
              <a:ln w="0">
                <a:noFill/>
              </a:ln>
            </p:spPr>
          </p:pic>
          <p:sp>
            <p:nvSpPr>
              <p:cNvPr id="59" name=""/>
              <p:cNvSpPr/>
              <p:nvPr/>
            </p:nvSpPr>
            <p:spPr>
              <a:xfrm rot="21435600">
                <a:off x="-18720" y="5223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 name="Rectangle 8"/>
          <p:cNvSpPr/>
          <p:nvPr/>
        </p:nvSpPr>
        <p:spPr>
          <a:xfrm>
            <a:off x="457200" y="6477120"/>
            <a:ext cx="812016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B4E3950E-601A-4304-A371-90C93A58C6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7891560" y="6332400"/>
            <a:ext cx="7588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DA1A-CCFB-407A-966D-4368DD18AAE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6480"/>
            <a:ext cx="9124920" cy="1036800"/>
          </a:xfrm>
          <a:custGeom>
            <a:avLst/>
            <a:gdLst>
              <a:gd name="textAreaLeft" fmla="*/ 0 w 9124920"/>
              <a:gd name="textAreaRight" fmla="*/ 9125280 w 9124920"/>
              <a:gd name="textAreaTop" fmla="*/ 0 h 1036800"/>
              <a:gd name="textAreaBottom" fmla="*/ 1037160 h 103680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03" name="Freeform 7"/>
          <p:cNvSpPr/>
          <p:nvPr/>
        </p:nvSpPr>
        <p:spPr>
          <a:xfrm>
            <a:off x="4363920" y="-6480"/>
            <a:ext cx="4741920" cy="635040"/>
          </a:xfrm>
          <a:custGeom>
            <a:avLst/>
            <a:gdLst>
              <a:gd name="textAreaLeft" fmla="*/ 0 w 4741920"/>
              <a:gd name="textAreaRight" fmla="*/ 4742280 w 4741920"/>
              <a:gd name="textAreaTop" fmla="*/ 0 h 635040"/>
              <a:gd name="textAreaBottom" fmla="*/ 635400 h 6350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grpSp>
        <p:nvGrpSpPr>
          <p:cNvPr id="104" name="Group 1"/>
          <p:cNvGrpSpPr/>
          <p:nvPr/>
        </p:nvGrpSpPr>
        <p:grpSpPr>
          <a:xfrm>
            <a:off x="-19080" y="201600"/>
            <a:ext cx="9142920" cy="646200"/>
            <a:chOff x="-19080" y="201600"/>
            <a:chExt cx="9142920" cy="646200"/>
          </a:xfrm>
        </p:grpSpPr>
        <p:grpSp>
          <p:nvGrpSpPr>
            <p:cNvPr id="105" name="Freeform 11"/>
            <p:cNvGrpSpPr/>
            <p:nvPr/>
          </p:nvGrpSpPr>
          <p:grpSpPr>
            <a:xfrm>
              <a:off x="-19080" y="201600"/>
              <a:ext cx="9124560" cy="646200"/>
              <a:chOff x="-19080" y="201600"/>
              <a:chExt cx="9124560" cy="646200"/>
            </a:xfrm>
          </p:grpSpPr>
          <p:pic>
            <p:nvPicPr>
              <p:cNvPr id="106" name="Freeform 11" descr=""/>
              <p:cNvPicPr/>
              <p:nvPr/>
            </p:nvPicPr>
            <p:blipFill>
              <a:blip r:embed="rId3"/>
              <a:stretch/>
            </p:blipFill>
            <p:spPr>
              <a:xfrm>
                <a:off x="3960" y="201600"/>
                <a:ext cx="9101520" cy="646200"/>
              </a:xfrm>
              <a:prstGeom prst="rect">
                <a:avLst/>
              </a:prstGeom>
              <a:ln w="0">
                <a:noFill/>
              </a:ln>
            </p:spPr>
          </p:pic>
          <p:sp>
            <p:nvSpPr>
              <p:cNvPr id="107" name=""/>
              <p:cNvSpPr/>
              <p:nvPr/>
            </p:nvSpPr>
            <p:spPr>
              <a:xfrm rot="21435600">
                <a:off x="-18720" y="4766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8" name="Freeform 12"/>
            <p:cNvGrpSpPr/>
            <p:nvPr/>
          </p:nvGrpSpPr>
          <p:grpSpPr>
            <a:xfrm>
              <a:off x="-19080" y="246960"/>
              <a:ext cx="9142920" cy="559440"/>
              <a:chOff x="-19080" y="246960"/>
              <a:chExt cx="9142920" cy="559440"/>
            </a:xfrm>
          </p:grpSpPr>
          <p:pic>
            <p:nvPicPr>
              <p:cNvPr id="109" name="Freeform 12" descr=""/>
              <p:cNvPicPr/>
              <p:nvPr/>
            </p:nvPicPr>
            <p:blipFill>
              <a:blip r:embed="rId4"/>
              <a:stretch/>
            </p:blipFill>
            <p:spPr>
              <a:xfrm>
                <a:off x="-3240" y="246960"/>
                <a:ext cx="9127080" cy="559440"/>
              </a:xfrm>
              <a:prstGeom prst="rect">
                <a:avLst/>
              </a:prstGeom>
              <a:ln w="0">
                <a:noFill/>
              </a:ln>
            </p:spPr>
          </p:pic>
          <p:sp>
            <p:nvSpPr>
              <p:cNvPr id="110" name=""/>
              <p:cNvSpPr/>
              <p:nvPr/>
            </p:nvSpPr>
            <p:spPr>
              <a:xfrm rot="21435600">
                <a:off x="-18720" y="5223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11" name="Rectangle 8"/>
          <p:cNvSpPr/>
          <p:nvPr/>
        </p:nvSpPr>
        <p:spPr>
          <a:xfrm>
            <a:off x="457200" y="6477120"/>
            <a:ext cx="812016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40C0DE6E-EB16-4D6F-A2B3-AE661679A9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7891560" y="6332400"/>
            <a:ext cx="7588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F8FD-0370-42DE-AD1B-E431D7D2D83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52520" y="1102680"/>
            <a:ext cx="5235480" cy="4100400"/>
          </a:xfrm>
          <a:custGeom>
            <a:avLst/>
            <a:gdLst/>
            <a:ahLst/>
            <a:rect l="l" t="t" r="r" b="b"/>
            <a:pathLst>
              <a:path w="5235575" h="4100512">
                <a:moveTo>
                  <a:pt x="0" y="0"/>
                </a:moveTo>
                <a:lnTo>
                  <a:pt x="5086070" y="0"/>
                </a:lnTo>
                <a:lnTo>
                  <a:pt x="5235575" y="149505"/>
                </a:lnTo>
                <a:lnTo>
                  <a:pt x="5235575" y="4100512"/>
                </a:lnTo>
                <a:lnTo>
                  <a:pt x="0" y="4100512"/>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720" rIns="90720" tIns="45360" bIns="45360" anchor="ctr">
            <a:noAutofit/>
          </a:bodyPr>
          <a:p>
            <a:endParaRPr b="0" lang="en-US" sz="2400" spc="-1" strike="noStrike">
              <a:solidFill>
                <a:srgbClr val="000000"/>
              </a:solidFill>
              <a:latin typeface="Times New Roman"/>
            </a:endParaRPr>
          </a:p>
        </p:txBody>
      </p:sp>
      <p:sp>
        <p:nvSpPr>
          <p:cNvPr id="154" name="Right Triangle 15"/>
          <p:cNvSpPr/>
          <p:nvPr/>
        </p:nvSpPr>
        <p:spPr>
          <a:xfrm flipV="1" rot="420000">
            <a:off x="7970760" y="5339520"/>
            <a:ext cx="154080" cy="15408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1080" rIns="910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16"/>
          <p:cNvSpPr/>
          <p:nvPr/>
        </p:nvSpPr>
        <p:spPr>
          <a:xfrm flipV="1">
            <a:off x="-9000" y="5793840"/>
            <a:ext cx="9124920" cy="1038240"/>
          </a:xfrm>
          <a:custGeom>
            <a:avLst/>
            <a:gdLst>
              <a:gd name="textAreaLeft" fmla="*/ 0 w 9124920"/>
              <a:gd name="textAreaRight" fmla="*/ 9125280 w 9124920"/>
              <a:gd name="textAreaTop" fmla="*/ 0 h 1038240"/>
              <a:gd name="textAreaBottom" fmla="*/ 1038240 h 103824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56" name="Freeform 18"/>
          <p:cNvSpPr/>
          <p:nvPr/>
        </p:nvSpPr>
        <p:spPr>
          <a:xfrm flipV="1">
            <a:off x="4363920" y="6195960"/>
            <a:ext cx="4741920" cy="636480"/>
          </a:xfrm>
          <a:custGeom>
            <a:avLst/>
            <a:gdLst>
              <a:gd name="textAreaLeft" fmla="*/ 0 w 4741920"/>
              <a:gd name="textAreaRight" fmla="*/ 4742280 w 4741920"/>
              <a:gd name="textAreaTop" fmla="*/ 360 h 636480"/>
              <a:gd name="textAreaBottom" fmla="*/ 637200 h 6364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5"/>
          <p:cNvSpPr>
            <a:spLocks noGrp="1"/>
          </p:cNvSpPr>
          <p:nvPr>
            <p:ph type="sldNum" idx="12"/>
          </p:nvPr>
        </p:nvSpPr>
        <p:spPr>
          <a:xfrm>
            <a:off x="8043480" y="6332400"/>
            <a:ext cx="60660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EC7D-9A29-4794-AEE6-70A40F6DFF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1360" y="3215880"/>
            <a:ext cx="7821720" cy="1746360"/>
          </a:xfrm>
          <a:prstGeom prst="rect">
            <a:avLst/>
          </a:prstGeom>
          <a:noFill/>
          <a:ln w="0">
            <a:noFill/>
          </a:ln>
        </p:spPr>
        <p:txBody>
          <a:bodyPr lIns="0" rIns="18360" tIns="45360" bIns="45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c9f8"/>
                </a:solidFill>
                <a:latin typeface="Constantia"/>
              </a:rPr>
              <a:t>Lec-5 : Use Case Diagram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5D4F-37CC-4C51-AA7D-227A4E860488}"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A Step-by-Step Guide to Building the Use-Case Model </a:t>
            </a:r>
            <a:endParaRPr b="0" lang="en-US" sz="2800" spc="-1" strike="noStrike">
              <a:solidFill>
                <a:srgbClr val="04617b"/>
              </a:solidFill>
              <a:latin typeface="Calibri"/>
            </a:endParaRPr>
          </a:p>
        </p:txBody>
      </p:sp>
      <p:sp>
        <p:nvSpPr>
          <p:cNvPr id="238"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ep 1: Identify and Describe the Actors</a:t>
            </a:r>
            <a:endParaRPr b="0" lang="en-US" sz="26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uses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gets information from this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provides information to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re in the company is the system used?</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supports and maintains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other systems use this system?</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915F-ABBD-4EB0-B64E-70948317B9C7}"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A Step-by-Step Guide to Building the Use-Case Model</a:t>
            </a:r>
            <a:endParaRPr b="0" lang="en-US" sz="2800" spc="-1" strike="noStrike">
              <a:solidFill>
                <a:srgbClr val="04617b"/>
              </a:solidFill>
              <a:latin typeface="Calibri"/>
            </a:endParaRPr>
          </a:p>
        </p:txBody>
      </p:sp>
      <p:sp>
        <p:nvSpPr>
          <p:cNvPr id="241"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ep 2: Identify the Use Cases and Write a Brief Description</a:t>
            </a:r>
            <a:endParaRPr b="0" lang="en-US" sz="26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will the actor use the system for?</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the actor create, store, change, remove, or read data in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the actor need to inform the system about external events or changes?</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the actor need to be informed about certain occurrences in the system?</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E24F-643A-493D-BF99-B872ED7DF6FD}"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A Step-by-Step Guide to Building the Use-Case Model</a:t>
            </a:r>
            <a:endParaRPr b="0" lang="en-US" sz="2800" spc="-1" strike="noStrike">
              <a:solidFill>
                <a:srgbClr val="04617b"/>
              </a:solidFill>
              <a:latin typeface="Calibri"/>
            </a:endParaRPr>
          </a:p>
        </p:txBody>
      </p:sp>
      <p:sp>
        <p:nvSpPr>
          <p:cNvPr id="244"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ep 3: Identify the Actor and Use-Case Relationships</a:t>
            </a:r>
            <a:endParaRPr b="0" lang="en-US" sz="26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y one actor can initiate a use ca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use cases may involve the participation of multiple actors. </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use case is analyzed to see what actors interact with it</a:t>
            </a:r>
            <a:endParaRPr b="0" lang="en-US" sz="2400" spc="-1" strike="noStrike">
              <a:solidFill>
                <a:srgbClr val="000000"/>
              </a:solidFill>
              <a:latin typeface="Constanti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61440" y="29196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46" name=""/>
          <p:cNvSpPr txBox="1"/>
          <p:nvPr/>
        </p:nvSpPr>
        <p:spPr>
          <a:xfrm>
            <a:off x="285840" y="1434960"/>
            <a:ext cx="8440560" cy="5018400"/>
          </a:xfrm>
          <a:prstGeom prst="rect">
            <a:avLst/>
          </a:prstGeom>
          <a:noFill/>
          <a:ln w="0">
            <a:noFill/>
          </a:ln>
        </p:spPr>
        <p:txBody>
          <a:bodyPr lIns="91080" rIns="91080" tIns="45360" bIns="4536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re is a scenario for a medical clinic.</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0" i="1" lang="en-US" sz="2600" spc="-1" strike="noStrike">
                <a:solidFill>
                  <a:srgbClr val="000000"/>
                </a:solidFill>
                <a:latin typeface="Constantia"/>
              </a:rPr>
              <a:t>patient calls the clinic to make an appointment for a yearly checkup. The receptionist finds the nearest empty time slot in the appointment book and schedules the appointment for that time slot. "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want to write a use case for this scenario.</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member:  A </a:t>
            </a:r>
            <a:r>
              <a:rPr b="1" lang="en-US" sz="2600" spc="-1" strike="noStrike">
                <a:solidFill>
                  <a:srgbClr val="000000"/>
                </a:solidFill>
                <a:latin typeface="Constantia"/>
              </a:rPr>
              <a:t>use case</a:t>
            </a:r>
            <a:r>
              <a:rPr b="0" lang="en-US" sz="2600" spc="-1" strike="noStrike">
                <a:solidFill>
                  <a:srgbClr val="000000"/>
                </a:solidFill>
                <a:latin typeface="Constantia"/>
              </a:rPr>
              <a:t> is a summary of scenarios for a single task or goal and An </a:t>
            </a:r>
            <a:r>
              <a:rPr b="1" lang="en-US" sz="2600" spc="-1" strike="noStrike">
                <a:solidFill>
                  <a:srgbClr val="000000"/>
                </a:solidFill>
                <a:latin typeface="Constantia"/>
              </a:rPr>
              <a:t>actor</a:t>
            </a:r>
            <a:r>
              <a:rPr b="0" lang="en-US" sz="2600" spc="-1" strike="noStrike">
                <a:solidFill>
                  <a:srgbClr val="000000"/>
                </a:solidFill>
                <a:latin typeface="Constantia"/>
              </a:rPr>
              <a:t> is who or what initiates the events involved in the task of the use case.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48"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as we read our scenario, what or who is the act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ctor is a </a:t>
            </a:r>
            <a:r>
              <a:rPr b="1" lang="en-US" sz="2600" spc="-1" strike="noStrike">
                <a:solidFill>
                  <a:srgbClr val="000000"/>
                </a:solidFill>
                <a:latin typeface="Constantia"/>
              </a:rPr>
              <a:t>Patien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What is the Use C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 Case is </a:t>
            </a:r>
            <a:r>
              <a:rPr b="1" lang="en-US" sz="2600" spc="-1" strike="noStrike">
                <a:solidFill>
                  <a:srgbClr val="000000"/>
                </a:solidFill>
                <a:latin typeface="Constantia"/>
              </a:rPr>
              <a:t>Make Appoint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9" name="Picture 7" descr=""/>
          <p:cNvPicPr/>
          <p:nvPr/>
        </p:nvPicPr>
        <p:blipFill>
          <a:blip r:embed="rId1"/>
          <a:stretch/>
        </p:blipFill>
        <p:spPr>
          <a:xfrm>
            <a:off x="6762600" y="2654280"/>
            <a:ext cx="1040040" cy="166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51" name=""/>
          <p:cNvSpPr txBox="1"/>
          <p:nvPr/>
        </p:nvSpPr>
        <p:spPr>
          <a:xfrm>
            <a:off x="0" y="1739520"/>
            <a:ext cx="8726400" cy="4713480"/>
          </a:xfrm>
          <a:prstGeom prst="rect">
            <a:avLst/>
          </a:prstGeom>
          <a:noFill/>
          <a:ln w="0">
            <a:noFill/>
          </a:ln>
        </p:spPr>
        <p:txBody>
          <a:bodyPr lIns="91080" rIns="91080" tIns="45360" bIns="4536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picture below is a </a:t>
            </a:r>
            <a:r>
              <a:rPr b="1" lang="en-US" sz="2100" spc="-1" strike="noStrike">
                <a:solidFill>
                  <a:srgbClr val="000000"/>
                </a:solidFill>
                <a:latin typeface="Constantia"/>
              </a:rPr>
              <a:t>Make Appointment</a:t>
            </a:r>
            <a:r>
              <a:rPr b="0" lang="en-US" sz="2100" spc="-1" strike="noStrike">
                <a:solidFill>
                  <a:srgbClr val="000000"/>
                </a:solidFill>
                <a:latin typeface="Constantia"/>
              </a:rPr>
              <a:t> use case for the medical clinic. </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ctor is a </a:t>
            </a:r>
            <a:r>
              <a:rPr b="1" lang="en-US" sz="2100" spc="-1" strike="noStrike">
                <a:solidFill>
                  <a:srgbClr val="000000"/>
                </a:solidFill>
                <a:latin typeface="Constantia"/>
              </a:rPr>
              <a:t>Patient</a:t>
            </a:r>
            <a:r>
              <a:rPr b="0" lang="en-US" sz="2100" spc="-1" strike="noStrike">
                <a:solidFill>
                  <a:srgbClr val="000000"/>
                </a:solidFill>
                <a:latin typeface="Constantia"/>
              </a:rPr>
              <a:t>. The connection between actor and use case is a </a:t>
            </a:r>
            <a:r>
              <a:rPr b="1" lang="en-US" sz="2100" spc="-1" strike="noStrike">
                <a:solidFill>
                  <a:srgbClr val="000000"/>
                </a:solidFill>
                <a:latin typeface="Constantia"/>
              </a:rPr>
              <a:t>communication association</a:t>
            </a:r>
            <a:r>
              <a:rPr b="0" lang="en-US" sz="2100" spc="-1" strike="noStrike">
                <a:solidFill>
                  <a:srgbClr val="000000"/>
                </a:solidFill>
                <a:latin typeface="Constantia"/>
              </a:rPr>
              <a:t> (or </a:t>
            </a:r>
            <a:r>
              <a:rPr b="1" lang="en-US" sz="2100" spc="-1" strike="noStrike">
                <a:solidFill>
                  <a:srgbClr val="000000"/>
                </a:solidFill>
                <a:latin typeface="Constantia"/>
              </a:rPr>
              <a:t>communication</a:t>
            </a:r>
            <a:r>
              <a:rPr b="0" lang="en-US" sz="2100" spc="-1" strike="noStrike">
                <a:solidFill>
                  <a:srgbClr val="000000"/>
                </a:solidFill>
                <a:latin typeface="Constantia"/>
              </a:rPr>
              <a:t> for short).</a:t>
            </a:r>
            <a:endParaRPr b="0" lang="en-US" sz="2100" spc="-1" strike="noStrike">
              <a:solidFill>
                <a:srgbClr val="000000"/>
              </a:solidFill>
              <a:latin typeface="Constantia"/>
            </a:endParaRPr>
          </a:p>
        </p:txBody>
      </p:sp>
      <p:pic>
        <p:nvPicPr>
          <p:cNvPr id="252" name="Picture 5" descr="Use case"/>
          <p:cNvPicPr/>
          <p:nvPr/>
        </p:nvPicPr>
        <p:blipFill>
          <a:blip r:embed="rId1"/>
          <a:stretch/>
        </p:blipFill>
        <p:spPr>
          <a:xfrm>
            <a:off x="438120" y="3416400"/>
            <a:ext cx="8305920" cy="1704960"/>
          </a:xfrm>
          <a:prstGeom prst="rect">
            <a:avLst/>
          </a:prstGeom>
          <a:ln w="0">
            <a:noFill/>
          </a:ln>
        </p:spPr>
      </p:pic>
      <p:sp>
        <p:nvSpPr>
          <p:cNvPr id="253" name="Text Box 9"/>
          <p:cNvSpPr/>
          <p:nvPr/>
        </p:nvSpPr>
        <p:spPr>
          <a:xfrm>
            <a:off x="133200" y="5473800"/>
            <a:ext cx="882036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ors are stick figures. Use cases are ovals. Communications are lines that link actors to use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27160"/>
            <a:ext cx="8194680" cy="113976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Use Case  </a:t>
            </a:r>
            <a:endParaRPr b="0" lang="en-US" sz="3400" spc="-1" strike="noStrike">
              <a:solidFill>
                <a:srgbClr val="04617b"/>
              </a:solidFill>
              <a:latin typeface="Calibri"/>
            </a:endParaRPr>
          </a:p>
        </p:txBody>
      </p:sp>
      <p:sp>
        <p:nvSpPr>
          <p:cNvPr id="255" name=""/>
          <p:cNvSpPr txBox="1"/>
          <p:nvPr/>
        </p:nvSpPr>
        <p:spPr>
          <a:xfrm>
            <a:off x="0" y="1517400"/>
            <a:ext cx="8726400" cy="4632120"/>
          </a:xfrm>
          <a:prstGeom prst="rect">
            <a:avLst/>
          </a:prstGeom>
          <a:noFill/>
          <a:ln w="0">
            <a:noFill/>
          </a:ln>
        </p:spPr>
        <p:txBody>
          <a:bodyPr lIns="91080" rIns="91080" tIns="45360" bIns="4536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Boundary</a:t>
            </a:r>
            <a:endParaRPr b="0" lang="en-US" sz="32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 boundary rectangle is placed around the perimeter of the system to show how the actors communicate with the system.  </a:t>
            </a:r>
            <a:endParaRPr b="0" lang="en-US" sz="28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56" name="Picture 4" descr=""/>
          <p:cNvPicPr/>
          <p:nvPr/>
        </p:nvPicPr>
        <p:blipFill>
          <a:blip r:embed="rId1"/>
          <a:stretch/>
        </p:blipFill>
        <p:spPr>
          <a:xfrm>
            <a:off x="1276200" y="4483080"/>
            <a:ext cx="1000440" cy="1600200"/>
          </a:xfrm>
          <a:prstGeom prst="rect">
            <a:avLst/>
          </a:prstGeom>
          <a:ln w="0">
            <a:noFill/>
          </a:ln>
        </p:spPr>
      </p:pic>
      <p:sp>
        <p:nvSpPr>
          <p:cNvPr id="257" name="Oval 5"/>
          <p:cNvSpPr/>
          <p:nvPr/>
        </p:nvSpPr>
        <p:spPr>
          <a:xfrm>
            <a:off x="4857840" y="4711680"/>
            <a:ext cx="2200320" cy="1138320"/>
          </a:xfrm>
          <a:prstGeom prst="ellipse">
            <a:avLst/>
          </a:prstGeom>
          <a:noFill/>
          <a:ln w="2844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ointment</a:t>
            </a:r>
            <a:endParaRPr b="0" lang="en-US" sz="2400" spc="-1" strike="noStrike">
              <a:solidFill>
                <a:srgbClr val="000000"/>
              </a:solidFill>
              <a:latin typeface="Times New Roman"/>
            </a:endParaRPr>
          </a:p>
        </p:txBody>
      </p:sp>
      <p:sp>
        <p:nvSpPr>
          <p:cNvPr id="258" name="Line 6"/>
          <p:cNvSpPr/>
          <p:nvPr/>
        </p:nvSpPr>
        <p:spPr>
          <a:xfrm>
            <a:off x="2190600" y="5245200"/>
            <a:ext cx="2590920" cy="0"/>
          </a:xfrm>
          <a:prstGeom prst="line">
            <a:avLst/>
          </a:prstGeom>
          <a:ln w="12600">
            <a:solidFill>
              <a:srgbClr val="ffffff"/>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259" name="Rectangle 7"/>
          <p:cNvSpPr/>
          <p:nvPr/>
        </p:nvSpPr>
        <p:spPr>
          <a:xfrm>
            <a:off x="3257640" y="4254480"/>
            <a:ext cx="4952880" cy="2057400"/>
          </a:xfrm>
          <a:prstGeom prst="rect">
            <a:avLst/>
          </a:prstGeom>
          <a:noFill/>
          <a:ln w="12600">
            <a:solidFill>
              <a:srgbClr val="ff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Rectangle 2" descr=""/>
          <p:cNvPicPr/>
          <p:nvPr/>
        </p:nvPicPr>
        <p:blipFill>
          <a:blip r:embed="rId1"/>
          <a:stretch/>
        </p:blipFill>
        <p:spPr>
          <a:xfrm>
            <a:off x="0" y="-12600"/>
            <a:ext cx="8650440" cy="1633320"/>
          </a:xfrm>
          <a:prstGeom prst="rect">
            <a:avLst/>
          </a:prstGeom>
          <a:ln w="0">
            <a:noFill/>
          </a:ln>
        </p:spPr>
      </p:pic>
      <p:pic>
        <p:nvPicPr>
          <p:cNvPr id="261" name="Picture 3" descr="06-04"/>
          <p:cNvPicPr/>
          <p:nvPr/>
        </p:nvPicPr>
        <p:blipFill>
          <a:blip r:embed="rId2"/>
          <a:stretch/>
        </p:blipFill>
        <p:spPr>
          <a:xfrm>
            <a:off x="1138320" y="1434960"/>
            <a:ext cx="7056360" cy="4660920"/>
          </a:xfrm>
          <a:prstGeom prst="rect">
            <a:avLst/>
          </a:prstGeom>
          <a:ln w="0">
            <a:noFill/>
          </a:ln>
        </p:spPr>
      </p:pic>
      <p:sp>
        <p:nvSpPr>
          <p:cNvPr id="262" name="Rectangle 4"/>
          <p:cNvSpPr/>
          <p:nvPr/>
        </p:nvSpPr>
        <p:spPr>
          <a:xfrm>
            <a:off x="209520" y="6082920"/>
            <a:ext cx="9144000" cy="8233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 use case diagram is a collection of actors, use cases, and their communic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701640"/>
            <a:ext cx="8194680" cy="9619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Use Case Diagram</a:t>
            </a:r>
            <a:endParaRPr b="0" lang="en-US" sz="3400" spc="-1" strike="noStrike">
              <a:solidFill>
                <a:srgbClr val="04617b"/>
              </a:solidFill>
              <a:latin typeface="Calibri"/>
            </a:endParaRPr>
          </a:p>
        </p:txBody>
      </p:sp>
      <p:sp>
        <p:nvSpPr>
          <p:cNvPr id="264" name=""/>
          <p:cNvSpPr txBox="1"/>
          <p:nvPr/>
        </p:nvSpPr>
        <p:spPr>
          <a:xfrm>
            <a:off x="455760" y="1593360"/>
            <a:ext cx="8346960" cy="4100760"/>
          </a:xfrm>
          <a:prstGeom prst="rect">
            <a:avLst/>
          </a:prstGeom>
          <a:noFill/>
          <a:ln w="0">
            <a:noFill/>
          </a:ln>
        </p:spPr>
        <p:txBody>
          <a:bodyPr lIns="91080" rIns="91080" tIns="45360" bIns="4536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Other Types of Relationships for Use Cas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Generalization</a:t>
            </a:r>
            <a:endParaRPr b="0" lang="en-US" sz="28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clude</a:t>
            </a:r>
            <a:endParaRPr b="0" lang="en-US" sz="28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Exten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701640"/>
            <a:ext cx="8194680" cy="9619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Generalization Relationship</a:t>
            </a:r>
            <a:endParaRPr b="0" lang="en-US" sz="3600" spc="-1" strike="noStrike">
              <a:solidFill>
                <a:srgbClr val="04617b"/>
              </a:solidFill>
              <a:latin typeface="Calibri"/>
            </a:endParaRPr>
          </a:p>
        </p:txBody>
      </p:sp>
      <p:sp>
        <p:nvSpPr>
          <p:cNvPr id="266" name=""/>
          <p:cNvSpPr txBox="1"/>
          <p:nvPr/>
        </p:nvSpPr>
        <p:spPr>
          <a:xfrm>
            <a:off x="455760" y="1593720"/>
            <a:ext cx="8423280" cy="5011920"/>
          </a:xfrm>
          <a:prstGeom prst="rect">
            <a:avLst/>
          </a:prstGeom>
          <a:noFill/>
          <a:ln w="0">
            <a:noFill/>
          </a:ln>
        </p:spPr>
        <p:txBody>
          <a:bodyPr lIns="91080" rIns="91080" tIns="45360" bIns="45360" anchor="t">
            <a:normAutofit/>
          </a:bodyPr>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uch like superclasses in a class diagram</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eneralized use case represents </a:t>
            </a:r>
            <a:r>
              <a:rPr b="0" i="1" lang="en-GB" sz="2600" spc="-1" strike="noStrike">
                <a:solidFill>
                  <a:srgbClr val="000000"/>
                </a:solidFill>
                <a:latin typeface="Constantia"/>
              </a:rPr>
              <a:t>several similar</a:t>
            </a:r>
            <a:r>
              <a:rPr b="0" lang="en-GB" sz="2600" spc="-1" strike="noStrike">
                <a:solidFill>
                  <a:srgbClr val="000000"/>
                </a:solidFill>
                <a:latin typeface="Constantia"/>
              </a:rPr>
              <a:t> use case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e or more specializations provides details of the similar use cases</a:t>
            </a:r>
            <a:endParaRPr b="0" lang="en-US" sz="26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Represented by a line and a hollow arrow</a:t>
            </a:r>
            <a:endParaRPr b="0" lang="en-US" sz="2800" spc="-1" strike="noStrike">
              <a:solidFill>
                <a:srgbClr val="000000"/>
              </a:solidFill>
              <a:latin typeface="Constantia"/>
            </a:endParaRPr>
          </a:p>
          <a:p>
            <a:pPr lvl="2" marL="909720" indent="-22716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From child to parent</a:t>
            </a:r>
            <a:endParaRPr b="0" lang="en-US" sz="2100" spc="-1" strike="noStrike">
              <a:solidFill>
                <a:srgbClr val="000000"/>
              </a:solidFill>
              <a:latin typeface="Constantia"/>
            </a:endParaRPr>
          </a:p>
        </p:txBody>
      </p:sp>
      <p:sp>
        <p:nvSpPr>
          <p:cNvPr id="267" name="Oval 5"/>
          <p:cNvSpPr/>
          <p:nvPr/>
        </p:nvSpPr>
        <p:spPr>
          <a:xfrm>
            <a:off x="5235480" y="4554360"/>
            <a:ext cx="2352600" cy="987480"/>
          </a:xfrm>
          <a:prstGeom prst="ellipse">
            <a:avLst/>
          </a:prstGeom>
          <a:noFill/>
          <a:ln w="9360">
            <a:solidFill>
              <a:srgbClr val="ffffff"/>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8" name="Line 6"/>
          <p:cNvSpPr/>
          <p:nvPr/>
        </p:nvSpPr>
        <p:spPr>
          <a:xfrm>
            <a:off x="3262320" y="5162400"/>
            <a:ext cx="1973160" cy="0"/>
          </a:xfrm>
          <a:prstGeom prst="line">
            <a:avLst/>
          </a:prstGeom>
          <a:ln w="9360">
            <a:solidFill>
              <a:srgbClr val="ffffff"/>
            </a:solidFill>
            <a:miter/>
            <a:tail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269" name="Text Box 8"/>
          <p:cNvSpPr/>
          <p:nvPr/>
        </p:nvSpPr>
        <p:spPr>
          <a:xfrm>
            <a:off x="5538960" y="4873680"/>
            <a:ext cx="2049120" cy="365400"/>
          </a:xfrm>
          <a:prstGeom prst="rect">
            <a:avLst/>
          </a:prstGeom>
          <a:noFill/>
          <a:ln w="0">
            <a:noFill/>
          </a:ln>
        </p:spPr>
        <p:style>
          <a:lnRef idx="0"/>
          <a:fillRef idx="0"/>
          <a:effectRef idx="0"/>
          <a:fontRef idx="minor"/>
        </p:style>
        <p:txBody>
          <a:bodyPr lIns="91080" rIns="91080" tIns="45360" bIns="45360" anchor="t">
            <a:spAutoFit/>
          </a:bodyPr>
          <a:p>
            <a:pPr>
              <a:lnSpc>
                <a:spcPct val="100000"/>
              </a:lnSpc>
              <a:spcBef>
                <a:spcPts val="11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800" spc="-1" strike="noStrike">
                <a:solidFill>
                  <a:srgbClr val="ffffff"/>
                </a:solidFill>
                <a:latin typeface="Arial"/>
              </a:rPr>
              <a:t>Parent use case</a:t>
            </a:r>
            <a:endParaRPr b="0" lang="en-US" sz="1800" spc="-1" strike="noStrike">
              <a:solidFill>
                <a:srgbClr val="000000"/>
              </a:solidFill>
              <a:latin typeface="Times New Roman"/>
            </a:endParaRPr>
          </a:p>
        </p:txBody>
      </p:sp>
      <p:sp>
        <p:nvSpPr>
          <p:cNvPr id="270" name="AutoShape 9"/>
          <p:cNvSpPr/>
          <p:nvPr/>
        </p:nvSpPr>
        <p:spPr>
          <a:xfrm flipV="1" rot="16417200">
            <a:off x="5009400" y="5016240"/>
            <a:ext cx="304560" cy="304920"/>
          </a:xfrm>
          <a:prstGeom prst="triangle">
            <a:avLst>
              <a:gd name="adj" fmla="val 50000"/>
            </a:avLst>
          </a:prstGeom>
          <a:noFill/>
          <a:ln w="12600">
            <a:solidFill>
              <a:srgbClr val="ffffff"/>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2"/>
          <p:cNvSpPr/>
          <p:nvPr/>
        </p:nvSpPr>
        <p:spPr>
          <a:xfrm>
            <a:off x="455760" y="6332400"/>
            <a:ext cx="2124000" cy="363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oftware Design (UML)</a:t>
            </a:r>
            <a:endParaRPr b="0" lang="en-US" sz="1200" spc="-1" strike="noStrike">
              <a:solidFill>
                <a:srgbClr val="000000"/>
              </a:solidFill>
              <a:latin typeface="Times New Roman"/>
            </a:endParaRPr>
          </a:p>
        </p:txBody>
      </p:sp>
      <p:sp>
        <p:nvSpPr>
          <p:cNvPr id="203" name="Rectangle 3"/>
          <p:cNvSpPr/>
          <p:nvPr/>
        </p:nvSpPr>
        <p:spPr>
          <a:xfrm>
            <a:off x="682560" y="2733840"/>
            <a:ext cx="7740720" cy="1137960"/>
          </a:xfrm>
          <a:prstGeom prst="rect">
            <a:avLst/>
          </a:prstGeom>
          <a:noFill/>
          <a:ln w="0">
            <a:noFill/>
          </a:ln>
        </p:spPr>
        <p:style>
          <a:lnRef idx="0"/>
          <a:fillRef idx="0"/>
          <a:effectRef idx="0"/>
          <a:fontRef idx="minor"/>
        </p:style>
        <p:txBody>
          <a:bodyPr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4617b"/>
                </a:solidFill>
                <a:latin typeface="Times New Roman"/>
              </a:rPr>
              <a:t>Dynamic Modeling using the Unified Modeling Language (UM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Generalization Relationship</a:t>
            </a:r>
            <a:endParaRPr b="0" lang="en-US" sz="3600" spc="-1" strike="noStrike">
              <a:solidFill>
                <a:srgbClr val="04617b"/>
              </a:solidFill>
              <a:latin typeface="Calibri"/>
            </a:endParaRPr>
          </a:p>
        </p:txBody>
      </p:sp>
      <p:pic>
        <p:nvPicPr>
          <p:cNvPr id="272" name="Picture 2" descr=""/>
          <p:cNvPicPr/>
          <p:nvPr/>
        </p:nvPicPr>
        <p:blipFill>
          <a:blip r:embed="rId1"/>
          <a:srcRect l="38126" t="27888" r="9585" b="19828"/>
          <a:stretch/>
        </p:blipFill>
        <p:spPr>
          <a:xfrm>
            <a:off x="1047600" y="1892160"/>
            <a:ext cx="6705720" cy="419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Include Relationship</a:t>
            </a:r>
            <a:endParaRPr b="0" lang="en-US" sz="3600" spc="-1" strike="noStrike">
              <a:solidFill>
                <a:srgbClr val="04617b"/>
              </a:solidFill>
              <a:latin typeface="Calibri"/>
            </a:endParaRPr>
          </a:p>
        </p:txBody>
      </p:sp>
      <p:sp>
        <p:nvSpPr>
          <p:cNvPr id="274" name=""/>
          <p:cNvSpPr txBox="1"/>
          <p:nvPr/>
        </p:nvSpPr>
        <p:spPr>
          <a:xfrm>
            <a:off x="455760" y="1816200"/>
            <a:ext cx="8423280" cy="4789440"/>
          </a:xfrm>
          <a:prstGeom prst="rect">
            <a:avLst/>
          </a:prstGeom>
          <a:noFill/>
          <a:ln w="0">
            <a:noFill/>
          </a:ln>
        </p:spPr>
        <p:txBody>
          <a:bodyPr lIns="91080" rIns="91080" tIns="45360" bIns="45360" anchor="t">
            <a:normAutofit/>
          </a:bodyPr>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cases that are included as parts of other use cases. </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have a piece of behavior that is similar across many use cases</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this out as a separate use-case and let the other ones </a:t>
            </a:r>
            <a:r>
              <a:rPr b="0" lang="ja-JP" sz="2400" spc="-1" strike="noStrike">
                <a:solidFill>
                  <a:srgbClr val="000000"/>
                </a:solidFill>
                <a:latin typeface="Arial"/>
                <a:ea typeface="HGP明朝E"/>
              </a:rPr>
              <a:t>“</a:t>
            </a:r>
            <a:r>
              <a:rPr b="0" lang="en-US" sz="2400" spc="-1" strike="noStrike">
                <a:solidFill>
                  <a:srgbClr val="000000"/>
                </a:solidFill>
                <a:latin typeface="Constantia"/>
              </a:rPr>
              <a:t>include</a:t>
            </a:r>
            <a:r>
              <a:rPr b="0" lang="ja-JP" sz="2400" spc="-1" strike="noStrike">
                <a:solidFill>
                  <a:srgbClr val="000000"/>
                </a:solidFill>
                <a:latin typeface="Arial"/>
                <a:ea typeface="HGP明朝E"/>
              </a:rPr>
              <a:t>”</a:t>
            </a:r>
            <a:r>
              <a:rPr b="0" lang="en-US" sz="2400" spc="-1" strike="noStrike">
                <a:solidFill>
                  <a:srgbClr val="000000"/>
                </a:solidFill>
                <a:latin typeface="Constantia"/>
              </a:rPr>
              <a:t> it</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rrow is drawn from the base use case to the used use ca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rite &lt;&lt; include &gt;&gt; above arrowhead line</a:t>
            </a:r>
            <a:endParaRPr b="0" lang="en-US" sz="2400" spc="-1" strike="noStrike">
              <a:solidFill>
                <a:srgbClr val="000000"/>
              </a:solidFill>
              <a:latin typeface="Constantia"/>
            </a:endParaRPr>
          </a:p>
        </p:txBody>
      </p:sp>
      <p:grpSp>
        <p:nvGrpSpPr>
          <p:cNvPr id="275" name="Group 14"/>
          <p:cNvGrpSpPr/>
          <p:nvPr/>
        </p:nvGrpSpPr>
        <p:grpSpPr>
          <a:xfrm>
            <a:off x="1809720" y="5702400"/>
            <a:ext cx="4187160" cy="685800"/>
            <a:chOff x="1809720" y="5702400"/>
            <a:chExt cx="4187160" cy="685800"/>
          </a:xfrm>
        </p:grpSpPr>
        <p:grpSp>
          <p:nvGrpSpPr>
            <p:cNvPr id="276" name="Group 4"/>
            <p:cNvGrpSpPr/>
            <p:nvPr/>
          </p:nvGrpSpPr>
          <p:grpSpPr>
            <a:xfrm>
              <a:off x="1809720" y="5702400"/>
              <a:ext cx="914400" cy="685800"/>
              <a:chOff x="1809720" y="5702400"/>
              <a:chExt cx="914400" cy="685800"/>
            </a:xfrm>
          </p:grpSpPr>
          <p:sp>
            <p:nvSpPr>
              <p:cNvPr id="277" name="Oval 5"/>
              <p:cNvSpPr/>
              <p:nvPr/>
            </p:nvSpPr>
            <p:spPr>
              <a:xfrm>
                <a:off x="1809720" y="5702400"/>
                <a:ext cx="9144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6"/>
              <p:cNvSpPr/>
              <p:nvPr/>
            </p:nvSpPr>
            <p:spPr>
              <a:xfrm>
                <a:off x="1886040" y="58546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king use case</a:t>
                </a:r>
                <a:endParaRPr b="0" lang="en-US" sz="1400" spc="-1" strike="noStrike">
                  <a:solidFill>
                    <a:srgbClr val="000000"/>
                  </a:solidFill>
                  <a:latin typeface="Times New Roman"/>
                </a:endParaRPr>
              </a:p>
            </p:txBody>
          </p:sp>
        </p:grpSp>
        <p:grpSp>
          <p:nvGrpSpPr>
            <p:cNvPr id="279" name="Group 7"/>
            <p:cNvGrpSpPr/>
            <p:nvPr/>
          </p:nvGrpSpPr>
          <p:grpSpPr>
            <a:xfrm>
              <a:off x="4700520" y="5702400"/>
              <a:ext cx="1296360" cy="685800"/>
              <a:chOff x="4700520" y="5702400"/>
              <a:chExt cx="1296360" cy="685800"/>
            </a:xfrm>
          </p:grpSpPr>
          <p:sp>
            <p:nvSpPr>
              <p:cNvPr id="280" name="Oval 8"/>
              <p:cNvSpPr/>
              <p:nvPr/>
            </p:nvSpPr>
            <p:spPr>
              <a:xfrm>
                <a:off x="4700520" y="5702400"/>
                <a:ext cx="12945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Text Box 9"/>
              <p:cNvSpPr/>
              <p:nvPr/>
            </p:nvSpPr>
            <p:spPr>
              <a:xfrm>
                <a:off x="4810320" y="5854680"/>
                <a:ext cx="118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d use case</a:t>
                </a:r>
                <a:endParaRPr b="0" lang="en-US" sz="1400" spc="-1" strike="noStrike">
                  <a:solidFill>
                    <a:srgbClr val="000000"/>
                  </a:solidFill>
                  <a:latin typeface="Times New Roman"/>
                </a:endParaRPr>
              </a:p>
            </p:txBody>
          </p:sp>
        </p:grpSp>
        <p:sp>
          <p:nvSpPr>
            <p:cNvPr id="282" name="Line 12"/>
            <p:cNvSpPr/>
            <p:nvPr/>
          </p:nvSpPr>
          <p:spPr>
            <a:xfrm>
              <a:off x="2724120" y="6083280"/>
              <a:ext cx="198108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Text Box 13"/>
            <p:cNvSpPr/>
            <p:nvPr/>
          </p:nvSpPr>
          <p:spPr>
            <a:xfrm>
              <a:off x="2958120" y="57787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include&gt;&g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Extend relationship</a:t>
            </a:r>
            <a:endParaRPr b="0" lang="en-US" sz="3600" spc="-1" strike="noStrike">
              <a:solidFill>
                <a:srgbClr val="04617b"/>
              </a:solidFill>
              <a:latin typeface="Calibri"/>
            </a:endParaRPr>
          </a:p>
        </p:txBody>
      </p:sp>
      <p:sp>
        <p:nvSpPr>
          <p:cNvPr id="285" name=""/>
          <p:cNvSpPr txBox="1"/>
          <p:nvPr/>
        </p:nvSpPr>
        <p:spPr>
          <a:xfrm>
            <a:off x="455400" y="1928880"/>
            <a:ext cx="8194680" cy="4371840"/>
          </a:xfrm>
          <a:prstGeom prst="rect">
            <a:avLst/>
          </a:prstGeom>
          <a:noFill/>
          <a:ln w="0">
            <a:noFill/>
          </a:ln>
        </p:spPr>
        <p:txBody>
          <a:bodyPr lIns="91080" rIns="91080" tIns="45360" bIns="45360" anchor="t">
            <a:normAutofit/>
          </a:bodyPr>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cases that extend the behavior of other core use cases. </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use-case is similar to another one but does a little bit mor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t the normal behavior in one use-case and the exceptional behavior somewhere el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rrow is drawn from the extension use case to the base use ca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rite &lt;&lt; extend &gt;&gt; above arrowhead line</a:t>
            </a:r>
            <a:endParaRPr b="0" lang="en-US" sz="2400" spc="-1" strike="noStrike">
              <a:solidFill>
                <a:srgbClr val="000000"/>
              </a:solidFill>
              <a:latin typeface="Constantia"/>
            </a:endParaRPr>
          </a:p>
        </p:txBody>
      </p:sp>
      <p:grpSp>
        <p:nvGrpSpPr>
          <p:cNvPr id="286" name="Group 12"/>
          <p:cNvGrpSpPr/>
          <p:nvPr/>
        </p:nvGrpSpPr>
        <p:grpSpPr>
          <a:xfrm>
            <a:off x="2190600" y="5626080"/>
            <a:ext cx="4190760" cy="685800"/>
            <a:chOff x="2190600" y="5626080"/>
            <a:chExt cx="4190760" cy="685800"/>
          </a:xfrm>
        </p:grpSpPr>
        <p:grpSp>
          <p:nvGrpSpPr>
            <p:cNvPr id="287" name="Group 4"/>
            <p:cNvGrpSpPr/>
            <p:nvPr/>
          </p:nvGrpSpPr>
          <p:grpSpPr>
            <a:xfrm>
              <a:off x="2190600" y="5626080"/>
              <a:ext cx="914400" cy="685800"/>
              <a:chOff x="2190600" y="5626080"/>
              <a:chExt cx="914400" cy="685800"/>
            </a:xfrm>
          </p:grpSpPr>
          <p:sp>
            <p:nvSpPr>
              <p:cNvPr id="288" name="Oval 5"/>
              <p:cNvSpPr/>
              <p:nvPr/>
            </p:nvSpPr>
            <p:spPr>
              <a:xfrm>
                <a:off x="2190600" y="5626080"/>
                <a:ext cx="9144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Text Box 6"/>
              <p:cNvSpPr/>
              <p:nvPr/>
            </p:nvSpPr>
            <p:spPr>
              <a:xfrm>
                <a:off x="2266920" y="577836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 use case</a:t>
                </a:r>
                <a:endParaRPr b="0" lang="en-US" sz="1400" spc="-1" strike="noStrike">
                  <a:solidFill>
                    <a:srgbClr val="000000"/>
                  </a:solidFill>
                  <a:latin typeface="Times New Roman"/>
                </a:endParaRPr>
              </a:p>
            </p:txBody>
          </p:sp>
        </p:grpSp>
        <p:grpSp>
          <p:nvGrpSpPr>
            <p:cNvPr id="290" name="Group 7"/>
            <p:cNvGrpSpPr/>
            <p:nvPr/>
          </p:nvGrpSpPr>
          <p:grpSpPr>
            <a:xfrm>
              <a:off x="5086080" y="5626080"/>
              <a:ext cx="1295280" cy="685800"/>
              <a:chOff x="5086080" y="5626080"/>
              <a:chExt cx="1295280" cy="685800"/>
            </a:xfrm>
          </p:grpSpPr>
          <p:sp>
            <p:nvSpPr>
              <p:cNvPr id="291" name="Oval 8"/>
              <p:cNvSpPr/>
              <p:nvPr/>
            </p:nvSpPr>
            <p:spPr>
              <a:xfrm>
                <a:off x="5086080" y="5626080"/>
                <a:ext cx="12952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9"/>
              <p:cNvSpPr/>
              <p:nvPr/>
            </p:nvSpPr>
            <p:spPr>
              <a:xfrm>
                <a:off x="5194080" y="5778360"/>
                <a:ext cx="118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ing use case</a:t>
                </a:r>
                <a:endParaRPr b="0" lang="en-US" sz="1400" spc="-1" strike="noStrike">
                  <a:solidFill>
                    <a:srgbClr val="000000"/>
                  </a:solidFill>
                  <a:latin typeface="Times New Roman"/>
                </a:endParaRPr>
              </a:p>
            </p:txBody>
          </p:sp>
        </p:grpSp>
        <p:sp>
          <p:nvSpPr>
            <p:cNvPr id="293" name="Line 10"/>
            <p:cNvSpPr/>
            <p:nvPr/>
          </p:nvSpPr>
          <p:spPr>
            <a:xfrm>
              <a:off x="3105000" y="6006960"/>
              <a:ext cx="198108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Text Box 11"/>
            <p:cNvSpPr/>
            <p:nvPr/>
          </p:nvSpPr>
          <p:spPr>
            <a:xfrm>
              <a:off x="3337920" y="57024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xtend&gt;&g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s</a:t>
            </a:r>
            <a:endParaRPr b="0" lang="en-US" sz="5000" spc="-1" strike="noStrike">
              <a:solidFill>
                <a:srgbClr val="04617b"/>
              </a:solidFill>
              <a:latin typeface="Calibri"/>
            </a:endParaRPr>
          </a:p>
        </p:txBody>
      </p:sp>
      <p:sp>
        <p:nvSpPr>
          <p:cNvPr id="296" name=""/>
          <p:cNvSpPr txBox="1"/>
          <p:nvPr/>
        </p:nvSpPr>
        <p:spPr>
          <a:xfrm>
            <a:off x="455400" y="1913040"/>
            <a:ext cx="4020840" cy="441792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lud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
          <p:cNvSpPr txBox="1"/>
          <p:nvPr/>
        </p:nvSpPr>
        <p:spPr>
          <a:xfrm>
            <a:off x="4629240" y="1913040"/>
            <a:ext cx="4021200" cy="441792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ten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8" name="Content Placeholder 3" descr="Screen shot 2014-02-09 at 9.35.20 PM.png"/>
          <p:cNvPicPr/>
          <p:nvPr/>
        </p:nvPicPr>
        <p:blipFill>
          <a:blip r:embed="rId1"/>
          <a:srcRect l="4119" t="0" r="410" b="-16253"/>
          <a:stretch/>
        </p:blipFill>
        <p:spPr>
          <a:xfrm>
            <a:off x="4835520" y="2519280"/>
            <a:ext cx="2506680" cy="1590840"/>
          </a:xfrm>
          <a:prstGeom prst="rect">
            <a:avLst/>
          </a:prstGeom>
          <a:ln w="0">
            <a:noFill/>
          </a:ln>
        </p:spPr>
      </p:pic>
      <p:grpSp>
        <p:nvGrpSpPr>
          <p:cNvPr id="299" name="Group 17"/>
          <p:cNvGrpSpPr/>
          <p:nvPr/>
        </p:nvGrpSpPr>
        <p:grpSpPr>
          <a:xfrm>
            <a:off x="915840" y="2847960"/>
            <a:ext cx="2855880" cy="1495080"/>
            <a:chOff x="915840" y="2847960"/>
            <a:chExt cx="2855880" cy="1495080"/>
          </a:xfrm>
        </p:grpSpPr>
        <p:sp>
          <p:nvSpPr>
            <p:cNvPr id="300" name="Oval 5"/>
            <p:cNvSpPr/>
            <p:nvPr/>
          </p:nvSpPr>
          <p:spPr>
            <a:xfrm>
              <a:off x="915840" y="2847960"/>
              <a:ext cx="787320" cy="93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Text Box 6"/>
            <p:cNvSpPr/>
            <p:nvPr/>
          </p:nvSpPr>
          <p:spPr>
            <a:xfrm>
              <a:off x="940680" y="3103920"/>
              <a:ext cx="67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  Item</a:t>
              </a:r>
              <a:endParaRPr b="0" lang="en-US" sz="1200" spc="-1" strike="noStrike">
                <a:solidFill>
                  <a:srgbClr val="000000"/>
                </a:solidFill>
                <a:latin typeface="Times New Roman"/>
              </a:endParaRPr>
            </a:p>
          </p:txBody>
        </p:sp>
        <p:sp>
          <p:nvSpPr>
            <p:cNvPr id="302" name="Oval 11"/>
            <p:cNvSpPr/>
            <p:nvPr/>
          </p:nvSpPr>
          <p:spPr>
            <a:xfrm>
              <a:off x="2898360" y="3471840"/>
              <a:ext cx="873360" cy="87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Text Box 12"/>
            <p:cNvSpPr/>
            <p:nvPr/>
          </p:nvSpPr>
          <p:spPr>
            <a:xfrm>
              <a:off x="2898360" y="3636360"/>
              <a:ext cx="800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a:t>
              </a:r>
              <a:endParaRPr b="0" lang="en-US" sz="1200" spc="-1" strike="noStrike">
                <a:solidFill>
                  <a:srgbClr val="000000"/>
                </a:solidFill>
                <a:latin typeface="Times New Roman"/>
              </a:endParaRPr>
            </a:p>
          </p:txBody>
        </p:sp>
        <p:sp>
          <p:nvSpPr>
            <p:cNvPr id="304" name="Line 13"/>
            <p:cNvSpPr/>
            <p:nvPr/>
          </p:nvSpPr>
          <p:spPr>
            <a:xfrm>
              <a:off x="1703160" y="3471840"/>
              <a:ext cx="1195200" cy="5202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Text Box 15"/>
            <p:cNvSpPr/>
            <p:nvPr/>
          </p:nvSpPr>
          <p:spPr>
            <a:xfrm>
              <a:off x="1838520" y="3283560"/>
              <a:ext cx="123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include&gt;&gt;</a:t>
              </a:r>
              <a:endParaRPr b="0" lang="en-US" sz="1600" spc="-1" strike="noStrike">
                <a:solidFill>
                  <a:srgbClr val="000000"/>
                </a:solidFill>
                <a:latin typeface="Times New Roman"/>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665280" y="208080"/>
            <a:ext cx="7772400" cy="1285920"/>
          </a:xfrm>
          <a:prstGeom prst="rect">
            <a:avLst/>
          </a:prstGeom>
          <a:ln w="0">
            <a:noFill/>
          </a:ln>
        </p:spPr>
      </p:pic>
      <p:pic>
        <p:nvPicPr>
          <p:cNvPr id="307" name="Picture 3" descr="06-06"/>
          <p:cNvPicPr/>
          <p:nvPr/>
        </p:nvPicPr>
        <p:blipFill>
          <a:blip r:embed="rId2"/>
          <a:stretch/>
        </p:blipFill>
        <p:spPr>
          <a:xfrm>
            <a:off x="379440" y="1268280"/>
            <a:ext cx="8346960" cy="526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76040" y="701640"/>
            <a:ext cx="8553600" cy="1413000"/>
          </a:xfrm>
          <a:prstGeom prst="rect">
            <a:avLst/>
          </a:prstGeom>
          <a:ln w="0">
            <a:noFill/>
          </a:ln>
        </p:spPr>
      </p:pic>
      <p:pic>
        <p:nvPicPr>
          <p:cNvPr id="309" name="Picture 2" descr=""/>
          <p:cNvPicPr/>
          <p:nvPr/>
        </p:nvPicPr>
        <p:blipFill>
          <a:blip r:embed="rId2"/>
          <a:srcRect l="27475" t="23543" r="31913" b="25000"/>
          <a:stretch/>
        </p:blipFill>
        <p:spPr>
          <a:xfrm>
            <a:off x="1581120" y="1981080"/>
            <a:ext cx="6188040" cy="440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15920" y="701640"/>
            <a:ext cx="8613720" cy="1298520"/>
          </a:xfrm>
          <a:prstGeom prst="rect">
            <a:avLst/>
          </a:prstGeom>
          <a:ln w="0">
            <a:noFill/>
          </a:ln>
        </p:spPr>
      </p:pic>
      <p:pic>
        <p:nvPicPr>
          <p:cNvPr id="311" name="Picture 2" descr=""/>
          <p:cNvPicPr/>
          <p:nvPr/>
        </p:nvPicPr>
        <p:blipFill>
          <a:blip r:embed="rId2"/>
          <a:stretch/>
        </p:blipFill>
        <p:spPr>
          <a:xfrm>
            <a:off x="1123920" y="1968480"/>
            <a:ext cx="7062840" cy="4300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701280"/>
            <a:ext cx="8194680" cy="733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xample</a:t>
            </a:r>
            <a:endParaRPr b="0" lang="en-US" sz="3600" spc="-1" strike="noStrike">
              <a:solidFill>
                <a:srgbClr val="04617b"/>
              </a:solidFill>
              <a:latin typeface="Calibri"/>
            </a:endParaRPr>
          </a:p>
        </p:txBody>
      </p:sp>
      <p:sp>
        <p:nvSpPr>
          <p:cNvPr id="313" name=""/>
          <p:cNvSpPr txBox="1"/>
          <p:nvPr/>
        </p:nvSpPr>
        <p:spPr>
          <a:xfrm>
            <a:off x="455400" y="1587600"/>
            <a:ext cx="8194680" cy="4713120"/>
          </a:xfrm>
          <a:prstGeom prst="rect">
            <a:avLst/>
          </a:prstGeom>
          <a:noFill/>
          <a:ln w="0">
            <a:noFill/>
          </a:ln>
        </p:spPr>
        <p:txBody>
          <a:bodyPr lIns="91080" rIns="91080" tIns="45360" bIns="4536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ppose we want to develop software for an alarm clock. The clock shows the time of day. Using buttons, the user can set the hours and minutes fields individually, and choose between 12 and 24-hour display. It is possible to set one or two alarms. When an alarm fires, it will sound some noise. The user can turn it off, or choose to ’snooze’. If the user does not respond at all, the alarm will turn off itself after 2 minutes. ’Snoozing’ means to turn off the sound, but the alarm will fire again after some minutes of delay.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ry to model it with a use case diagram.</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
          <p:cNvPicPr/>
          <p:nvPr/>
        </p:nvPicPr>
        <p:blipFill>
          <a:blip r:embed="rId1"/>
          <a:srcRect l="31462" t="34926" r="28681" b="18784"/>
          <a:stretch/>
        </p:blipFill>
        <p:spPr>
          <a:xfrm>
            <a:off x="1123920" y="1434960"/>
            <a:ext cx="700236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902880"/>
            <a:ext cx="6627600" cy="615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What</a:t>
            </a:r>
            <a:r>
              <a:rPr b="0" lang="en-GB" sz="4000" spc="-1" strike="noStrike">
                <a:solidFill>
                  <a:srgbClr val="04617b"/>
                </a:solidFill>
                <a:latin typeface="Calibri"/>
                <a:ea typeface="Times New Roman"/>
              </a:rPr>
              <a:t> </a:t>
            </a:r>
            <a:r>
              <a:rPr b="0" lang="en-GB" sz="4000" spc="-1" strike="noStrike">
                <a:solidFill>
                  <a:srgbClr val="04617b"/>
                </a:solidFill>
                <a:latin typeface="Calibri"/>
              </a:rPr>
              <a:t>Is</a:t>
            </a:r>
            <a:r>
              <a:rPr b="0" lang="en-GB" sz="4000" spc="-1" strike="noStrike">
                <a:solidFill>
                  <a:srgbClr val="04617b"/>
                </a:solidFill>
                <a:latin typeface="Calibri"/>
                <a:ea typeface="Times New Roman"/>
              </a:rPr>
              <a:t> </a:t>
            </a:r>
            <a:r>
              <a:rPr b="0" lang="en-GB" sz="4000" spc="-1" strike="noStrike">
                <a:solidFill>
                  <a:srgbClr val="04617b"/>
                </a:solidFill>
                <a:latin typeface="Calibri"/>
              </a:rPr>
              <a:t>System</a:t>
            </a:r>
            <a:r>
              <a:rPr b="0" lang="en-GB" sz="4000" spc="-1" strike="noStrike">
                <a:solidFill>
                  <a:srgbClr val="04617b"/>
                </a:solidFill>
                <a:latin typeface="Calibri"/>
                <a:ea typeface="Times New Roman"/>
              </a:rPr>
              <a:t> </a:t>
            </a:r>
            <a:r>
              <a:rPr b="0" lang="en-GB" sz="4000" spc="-1" strike="noStrike">
                <a:solidFill>
                  <a:srgbClr val="04617b"/>
                </a:solidFill>
                <a:latin typeface="Calibri"/>
              </a:rPr>
              <a:t>Behavior?</a:t>
            </a:r>
            <a:endParaRPr b="0" lang="en-US" sz="4000" spc="-1" strike="noStrike">
              <a:solidFill>
                <a:srgbClr val="04617b"/>
              </a:solidFill>
              <a:latin typeface="Calibri"/>
            </a:endParaRPr>
          </a:p>
        </p:txBody>
      </p:sp>
      <p:sp>
        <p:nvSpPr>
          <p:cNvPr id="205" name="object 4"/>
          <p:cNvSpPr/>
          <p:nvPr/>
        </p:nvSpPr>
        <p:spPr>
          <a:xfrm>
            <a:off x="1047600" y="2168640"/>
            <a:ext cx="6705720" cy="2925000"/>
          </a:xfrm>
          <a:prstGeom prst="rect">
            <a:avLst/>
          </a:prstGeom>
          <a:noFill/>
          <a:ln w="0">
            <a:noFill/>
          </a:ln>
        </p:spPr>
        <p:style>
          <a:lnRef idx="0"/>
          <a:fillRef idx="0"/>
          <a:effectRef idx="0"/>
          <a:fontRef idx="minor"/>
        </p:style>
        <p:txBody>
          <a:bodyPr lIns="0" rIns="0" tIns="0" bIns="0" anchor="t">
            <a:spAutoFit/>
          </a:bodyPr>
          <a:p>
            <a:pPr marL="258840" indent="-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Arial"/>
              </a:rPr>
              <a:t>System behavior is how a system acts and reacts.</a:t>
            </a:r>
            <a:endParaRPr b="0" lang="en-US" sz="2400" spc="-1" strike="noStrike">
              <a:solidFill>
                <a:srgbClr val="000000"/>
              </a:solidFill>
              <a:latin typeface="Times New Roman"/>
            </a:endParaRPr>
          </a:p>
          <a:p>
            <a:pPr marL="258840" indent="-250920">
              <a:lnSpc>
                <a:spcPct val="10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Arial"/>
              </a:rPr>
              <a:t>It is the outwardly visible and testable activity of a system.</a:t>
            </a:r>
            <a:endParaRPr b="0" lang="en-US" sz="2100" spc="-1" strike="noStrike">
              <a:solidFill>
                <a:srgbClr val="000000"/>
              </a:solidFill>
              <a:latin typeface="Times New Roman"/>
            </a:endParaRPr>
          </a:p>
          <a:p>
            <a:pPr marL="258840" indent="-250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System behavior is captured in use cases.</a:t>
            </a:r>
            <a:endParaRPr b="0" lang="en-US" sz="2400" spc="-1" strike="noStrike">
              <a:solidFill>
                <a:srgbClr val="000000"/>
              </a:solidFill>
              <a:latin typeface="Times New Roman"/>
            </a:endParaRPr>
          </a:p>
          <a:p>
            <a:pPr marL="258840" indent="-2509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Arial"/>
              </a:rPr>
              <a:t>Use cases describe the system, its environment, and the relationship between the system and its environment.</a:t>
            </a:r>
            <a:endParaRPr b="0" lang="en-US" sz="2100" spc="-1" strike="noStrike">
              <a:solidFill>
                <a:srgbClr val="000000"/>
              </a:solidFill>
              <a:latin typeface="Times New Roman"/>
            </a:endParaRPr>
          </a:p>
        </p:txBody>
      </p:sp>
      <p:sp>
        <p:nvSpPr>
          <p:cNvPr id="206" name="object 6"/>
          <p:cNvSpPr/>
          <p:nvPr/>
        </p:nvSpPr>
        <p:spPr>
          <a:xfrm>
            <a:off x="4525920" y="6165720"/>
            <a:ext cx="52560" cy="86040"/>
          </a:xfrm>
          <a:prstGeom prst="rect">
            <a:avLst/>
          </a:prstGeom>
          <a:noFill/>
          <a:ln w="0">
            <a:noFill/>
          </a:ln>
        </p:spPr>
        <p:style>
          <a:lnRef idx="0"/>
          <a:fillRef idx="0"/>
          <a:effectRef idx="0"/>
          <a:fontRef idx="minor"/>
        </p:style>
        <p:txBody>
          <a:bodyPr lIns="0" rIns="0" tIns="0" bIns="0" anchor="t">
            <a:spAutoFit/>
          </a:bodyPr>
          <a:p>
            <a:pPr marL="7920">
              <a:lnSpc>
                <a:spcPts val="6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cs typeface="Arial"/>
              </a:rPr>
              <a:t>٨</a:t>
            </a:r>
            <a:endParaRPr b="0" lang="en-US" sz="6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08"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nstantia"/>
              </a:rPr>
              <a:t>What is a Use Case</a:t>
            </a:r>
            <a:endParaRPr b="0" lang="en-US" sz="3100" spc="-1" strike="noStrike">
              <a:solidFill>
                <a:srgbClr val="000000"/>
              </a:solidFill>
              <a:latin typeface="Constantia"/>
            </a:endParaRPr>
          </a:p>
          <a:p>
            <a:pPr lvl="1" marL="636480" indent="-24444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 formal way of representing how a business system interacts with its environment.</a:t>
            </a:r>
            <a:endParaRPr b="0" lang="en-US" sz="2800" spc="-1" strike="noStrike">
              <a:solidFill>
                <a:srgbClr val="000000"/>
              </a:solidFill>
              <a:latin typeface="Constantia"/>
            </a:endParaRPr>
          </a:p>
          <a:p>
            <a:pPr lvl="1" marL="636480" indent="-24444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llustrates the activities that are performed by the users of the system.</a:t>
            </a:r>
            <a:endParaRPr b="0" lang="en-US" sz="2800" spc="-1" strike="noStrike">
              <a:solidFill>
                <a:srgbClr val="000000"/>
              </a:solidFill>
              <a:latin typeface="Constantia"/>
            </a:endParaRPr>
          </a:p>
          <a:p>
            <a:pPr lvl="1" marL="636480" indent="-244440">
              <a:spcBef>
                <a:spcPts val="62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 sequence of actions a system performs that yields a valuable result for a particular actor.</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10"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 case diagrams</a:t>
            </a:r>
            <a:r>
              <a:rPr b="0" lang="en-US" sz="2600" spc="-1" strike="noStrike">
                <a:solidFill>
                  <a:srgbClr val="000000"/>
                </a:solidFill>
                <a:latin typeface="Constantia"/>
              </a:rPr>
              <a:t> depicts the interactions between the system and the external acto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mphasis is on </a:t>
            </a:r>
            <a:r>
              <a:rPr b="0" i="1" lang="en-US" sz="2600" spc="-1" strike="noStrike">
                <a:solidFill>
                  <a:srgbClr val="000000"/>
                </a:solidFill>
                <a:latin typeface="Constantia"/>
              </a:rPr>
              <a:t>what</a:t>
            </a:r>
            <a:r>
              <a:rPr b="0" lang="en-US" sz="2600" spc="-1" strike="noStrike">
                <a:solidFill>
                  <a:srgbClr val="000000"/>
                </a:solidFill>
                <a:latin typeface="Constantia"/>
              </a:rPr>
              <a:t> a system does rather than </a:t>
            </a:r>
            <a:r>
              <a:rPr b="0" i="1" lang="en-US" sz="2600" spc="-1" strike="noStrike">
                <a:solidFill>
                  <a:srgbClr val="000000"/>
                </a:solidFill>
                <a:latin typeface="Constantia"/>
              </a:rPr>
              <a:t>h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s are closely connected to scenarios. A </a:t>
            </a:r>
            <a:r>
              <a:rPr b="1" lang="en-US" sz="2600" spc="-1" strike="noStrike">
                <a:solidFill>
                  <a:srgbClr val="000000"/>
                </a:solidFill>
                <a:latin typeface="Constantia"/>
              </a:rPr>
              <a:t>scenario</a:t>
            </a:r>
            <a:r>
              <a:rPr b="0" lang="en-US" sz="2600" spc="-1" strike="noStrike">
                <a:solidFill>
                  <a:srgbClr val="000000"/>
                </a:solidFill>
                <a:latin typeface="Constantia"/>
              </a:rPr>
              <a:t> is an example of what happens when someone interacts with the system.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ey points</a:t>
            </a:r>
            <a:endParaRPr b="0" lang="en-US" sz="5000" spc="-1" strike="noStrike">
              <a:solidFill>
                <a:srgbClr val="04617b"/>
              </a:solidFill>
              <a:latin typeface="Calibri"/>
            </a:endParaRPr>
          </a:p>
        </p:txBody>
      </p:sp>
      <p:sp>
        <p:nvSpPr>
          <p:cNvPr id="212" name=""/>
          <p:cNvSpPr txBox="1"/>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evelopment team, with stakeholders involvement, writes the use ca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red to traditional requirement methods, use cases are relatively easy to write and easier to re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e of technical or implementation details.</a:t>
            </a:r>
            <a:endParaRPr b="0" lang="en-US" sz="2600" spc="-1" strike="noStrike">
              <a:solidFill>
                <a:srgbClr val="000000"/>
              </a:solidFill>
              <a:latin typeface="Constanti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whi74173_0702"/>
          <p:cNvPicPr/>
          <p:nvPr/>
        </p:nvPicPr>
        <p:blipFill>
          <a:blip r:embed="rId1"/>
          <a:stretch/>
        </p:blipFill>
        <p:spPr>
          <a:xfrm>
            <a:off x="3086280" y="1973160"/>
            <a:ext cx="2933640" cy="3795840"/>
          </a:xfrm>
          <a:prstGeom prst="rect">
            <a:avLst/>
          </a:prstGeom>
          <a:ln w="0">
            <a:noFill/>
          </a:ln>
        </p:spPr>
      </p:pic>
      <p:sp>
        <p:nvSpPr>
          <p:cNvPr id="214"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F432-06C5-464A-BAAF-7DD0CFA3422E}"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15" name="Line Callout 1 3"/>
          <p:cNvSpPr/>
          <p:nvPr/>
        </p:nvSpPr>
        <p:spPr>
          <a:xfrm>
            <a:off x="438120" y="1968480"/>
            <a:ext cx="2119320" cy="1062000"/>
          </a:xfrm>
          <a:prstGeom prst="borderCallout1">
            <a:avLst>
              <a:gd name="adj1" fmla="val 18750"/>
              <a:gd name="adj2" fmla="val -8333"/>
              <a:gd name="adj3" fmla="val 84125"/>
              <a:gd name="adj4" fmla="val 126865"/>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or is a stick figure usually an actual  person using the system</a:t>
            </a:r>
            <a:endParaRPr b="0" lang="en-US" sz="2000" spc="-1" strike="noStrike">
              <a:solidFill>
                <a:srgbClr val="000000"/>
              </a:solidFill>
              <a:latin typeface="Times New Roman"/>
            </a:endParaRPr>
          </a:p>
        </p:txBody>
      </p:sp>
      <p:sp>
        <p:nvSpPr>
          <p:cNvPr id="216" name="Line Callout 1 7"/>
          <p:cNvSpPr/>
          <p:nvPr/>
        </p:nvSpPr>
        <p:spPr>
          <a:xfrm>
            <a:off x="514440" y="5092560"/>
            <a:ext cx="2133360" cy="1143000"/>
          </a:xfrm>
          <a:prstGeom prst="borderCallout1">
            <a:avLst>
              <a:gd name="adj1" fmla="val 18750"/>
              <a:gd name="adj2" fmla="val -8333"/>
              <a:gd name="adj3" fmla="val -26740"/>
              <a:gd name="adj4" fmla="val 143370"/>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nection line shows which actor participate in the use cases</a:t>
            </a:r>
            <a:endParaRPr b="0" lang="en-US" sz="2000" spc="-1" strike="noStrike">
              <a:solidFill>
                <a:srgbClr val="000000"/>
              </a:solidFill>
              <a:latin typeface="Times New Roman"/>
            </a:endParaRPr>
          </a:p>
        </p:txBody>
      </p:sp>
      <p:sp>
        <p:nvSpPr>
          <p:cNvPr id="217" name="Line Callout 1 8"/>
          <p:cNvSpPr/>
          <p:nvPr/>
        </p:nvSpPr>
        <p:spPr>
          <a:xfrm>
            <a:off x="5856120" y="4619520"/>
            <a:ext cx="2013120" cy="1009800"/>
          </a:xfrm>
          <a:prstGeom prst="borderCallout1">
            <a:avLst>
              <a:gd name="adj1" fmla="val 18750"/>
              <a:gd name="adj2" fmla="val -8333"/>
              <a:gd name="adj3" fmla="val 15865"/>
              <a:gd name="adj4" fmla="val -46398"/>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se case</a:t>
            </a:r>
            <a:endParaRPr b="0" lang="en-US" sz="2000" spc="-1" strike="noStrike">
              <a:solidFill>
                <a:srgbClr val="000000"/>
              </a:solidFill>
              <a:latin typeface="Times New Roman"/>
            </a:endParaRPr>
          </a:p>
        </p:txBody>
      </p:sp>
      <p:sp>
        <p:nvSpPr>
          <p:cNvPr id="218" name="Line Callout 1 9"/>
          <p:cNvSpPr/>
          <p:nvPr/>
        </p:nvSpPr>
        <p:spPr>
          <a:xfrm>
            <a:off x="6686640" y="2654280"/>
            <a:ext cx="2012760" cy="1011240"/>
          </a:xfrm>
          <a:prstGeom prst="borderCallout1">
            <a:avLst>
              <a:gd name="adj1" fmla="val 18750"/>
              <a:gd name="adj2" fmla="val -8333"/>
              <a:gd name="adj3" fmla="val -18824"/>
              <a:gd name="adj4" fmla="val -73101"/>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 boundary </a:t>
            </a:r>
            <a:endParaRPr b="0" lang="en-US" sz="2000" spc="-1" strike="noStrike">
              <a:solidFill>
                <a:srgbClr val="000000"/>
              </a:solidFill>
              <a:latin typeface="Times New Roman"/>
            </a:endParaRPr>
          </a:p>
        </p:txBody>
      </p:sp>
      <p:sp>
        <p:nvSpPr>
          <p:cNvPr id="219" name="Line Callout 1 10"/>
          <p:cNvSpPr/>
          <p:nvPr/>
        </p:nvSpPr>
        <p:spPr>
          <a:xfrm>
            <a:off x="6762600" y="1359000"/>
            <a:ext cx="2013120" cy="1011240"/>
          </a:xfrm>
          <a:prstGeom prst="borderCallout1">
            <a:avLst>
              <a:gd name="adj1" fmla="val 18750"/>
              <a:gd name="adj2" fmla="val -8333"/>
              <a:gd name="adj3" fmla="val 74175"/>
              <a:gd name="adj4" fmla="val -93462"/>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 name</a:t>
            </a:r>
            <a:endParaRPr b="0" lang="en-US" sz="2000" spc="-1" strike="noStrike">
              <a:solidFill>
                <a:srgbClr val="000000"/>
              </a:solidFill>
              <a:latin typeface="Times New Roman"/>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1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599760"/>
            <a:ext cx="7170480" cy="554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Use-Case</a:t>
            </a:r>
            <a:r>
              <a:rPr b="0" lang="en-US" sz="3600" spc="-1" strike="noStrike">
                <a:solidFill>
                  <a:srgbClr val="04617b"/>
                </a:solidFill>
                <a:latin typeface="Calibri"/>
                <a:ea typeface="Times New Roman"/>
              </a:rPr>
              <a:t> </a:t>
            </a:r>
            <a:r>
              <a:rPr b="0" lang="en-US" sz="3600" spc="-1" strike="noStrike">
                <a:solidFill>
                  <a:srgbClr val="04617b"/>
                </a:solidFill>
                <a:latin typeface="Calibri"/>
              </a:rPr>
              <a:t>components</a:t>
            </a:r>
            <a:endParaRPr b="0" lang="en-US" sz="3600" spc="-1" strike="noStrike">
              <a:solidFill>
                <a:srgbClr val="04617b"/>
              </a:solidFill>
              <a:latin typeface="Calibri"/>
            </a:endParaRPr>
          </a:p>
        </p:txBody>
      </p:sp>
      <p:sp>
        <p:nvSpPr>
          <p:cNvPr id="221" name=""/>
          <p:cNvSpPr txBox="1"/>
          <p:nvPr/>
        </p:nvSpPr>
        <p:spPr>
          <a:xfrm>
            <a:off x="455760" y="1379160"/>
            <a:ext cx="7170480" cy="4398840"/>
          </a:xfrm>
          <a:prstGeom prst="rect">
            <a:avLst/>
          </a:prstGeom>
          <a:noFill/>
          <a:ln w="0">
            <a:noFill/>
          </a:ln>
        </p:spPr>
        <p:txBody>
          <a:bodyPr lIns="91080" rIns="91080" tIns="45360" bIns="45360" anchor="t">
            <a:normAutofit/>
          </a:bodyPr>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An actor represents anything that interacts with the system.</a:t>
            </a:r>
            <a:endParaRPr b="0" lang="en-US" sz="1600" spc="-1" strike="noStrike">
              <a:solidFill>
                <a:srgbClr val="000000"/>
              </a:solidFill>
              <a:latin typeface="Constantia"/>
            </a:endParaRPr>
          </a:p>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An actor might be:</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 </a:t>
            </a:r>
            <a:r>
              <a:rPr b="0" lang="en-US" sz="1600" spc="-1" strike="noStrike">
                <a:solidFill>
                  <a:srgbClr val="000000"/>
                </a:solidFill>
                <a:latin typeface="Constantia"/>
                <a:ea typeface="Arial Unicode MS"/>
              </a:rPr>
              <a:t>a person</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 </a:t>
            </a:r>
            <a:r>
              <a:rPr b="0" lang="en-US" sz="1600" spc="-1" strike="noStrike">
                <a:solidFill>
                  <a:srgbClr val="000000"/>
                </a:solidFill>
                <a:latin typeface="Constantia"/>
                <a:ea typeface="Arial Unicode MS"/>
              </a:rPr>
              <a:t>a company or organization, </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a computer program, or a computer system</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Hardware </a:t>
            </a:r>
            <a:endParaRPr b="0" lang="en-US" sz="1600" spc="-1" strike="noStrike">
              <a:solidFill>
                <a:srgbClr val="000000"/>
              </a:solidFill>
              <a:latin typeface="Constantia"/>
            </a:endParaRPr>
          </a:p>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 </a:t>
            </a:r>
            <a:r>
              <a:rPr b="0" lang="en-US" sz="1600" spc="-1" strike="noStrike">
                <a:solidFill>
                  <a:srgbClr val="000000"/>
                </a:solidFill>
                <a:latin typeface="Constantia"/>
                <a:ea typeface="Arial Unicode MS"/>
              </a:rPr>
              <a:t>A use case is a sequence of actions a system performs that yields an observable result of value to a particular actor.</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Name each use case using Noun-Verb.</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The communication line to show how the actors communicate with the use case.</a:t>
            </a:r>
            <a:endParaRPr b="0" lang="en-US" sz="1600" spc="-1" strike="noStrike">
              <a:solidFill>
                <a:srgbClr val="000000"/>
              </a:solidFill>
              <a:latin typeface="Constantia"/>
            </a:endParaRPr>
          </a:p>
          <a:p>
            <a:pPr lvl="2" marL="723960" indent="-250920">
              <a:spcBef>
                <a:spcPts val="400"/>
              </a:spcBef>
              <a:buClr>
                <a:srgbClr val="009dd9"/>
              </a:buClr>
              <a:buSzPct val="70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Depicted by line or double-headed arrow line</a:t>
            </a:r>
            <a:endParaRPr b="0" lang="en-US" sz="1600" spc="-1" strike="noStrike">
              <a:solidFill>
                <a:srgbClr val="000000"/>
              </a:solidFill>
              <a:latin typeface="Constantia"/>
            </a:endParaRPr>
          </a:p>
          <a:p>
            <a:pPr lvl="2" marL="723960" indent="-250920">
              <a:spcBef>
                <a:spcPts val="300"/>
              </a:spcBef>
              <a:buClr>
                <a:srgbClr val="009dd9"/>
              </a:buClr>
              <a:buSzPct val="70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450720" indent="-250560">
              <a:lnSpc>
                <a:spcPct val="60000"/>
              </a:lnSpc>
              <a:spcBef>
                <a:spcPts val="3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22" name="object 13"/>
          <p:cNvSpPr/>
          <p:nvPr/>
        </p:nvSpPr>
        <p:spPr>
          <a:xfrm>
            <a:off x="455760" y="6405480"/>
            <a:ext cx="4576680" cy="82800"/>
          </a:xfrm>
          <a:prstGeom prst="rect">
            <a:avLst/>
          </a:prstGeom>
          <a:noFill/>
          <a:ln w="0">
            <a:noFill/>
          </a:ln>
        </p:spPr>
        <p:style>
          <a:lnRef idx="0"/>
          <a:fillRef idx="0"/>
          <a:effectRef idx="0"/>
          <a:fontRef idx="minor"/>
        </p:style>
        <p:txBody>
          <a:bodyPr lIns="0" rIns="0" tIns="0" bIns="0" anchor="b">
            <a:spAutoFit/>
          </a:bodyPr>
          <a:p>
            <a:pPr marL="7920">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45c75"/>
                </a:solidFill>
                <a:latin typeface="Times New Roman"/>
              </a:rPr>
              <a:t>OOAD</a:t>
            </a:r>
            <a:endParaRPr b="0" lang="en-US" sz="1200" spc="-1" strike="noStrike">
              <a:solidFill>
                <a:srgbClr val="000000"/>
              </a:solidFill>
              <a:latin typeface="Times New Roman"/>
            </a:endParaRPr>
          </a:p>
        </p:txBody>
      </p:sp>
      <p:sp>
        <p:nvSpPr>
          <p:cNvPr id="223" name="object 3"/>
          <p:cNvSpPr/>
          <p:nvPr/>
        </p:nvSpPr>
        <p:spPr>
          <a:xfrm>
            <a:off x="819000" y="3843360"/>
            <a:ext cx="5131080" cy="258840"/>
          </a:xfrm>
          <a:prstGeom prst="rect">
            <a:avLst/>
          </a:prstGeom>
          <a:noFill/>
          <a:ln w="0">
            <a:noFill/>
          </a:ln>
        </p:spPr>
        <p:style>
          <a:lnRef idx="0"/>
          <a:fillRef idx="0"/>
          <a:effectRef idx="0"/>
          <a:fontRef idx="minor"/>
        </p:style>
        <p:txBody>
          <a:bodyPr lIns="0" rIns="0" tIns="0" bIns="0" anchor="t">
            <a:spAutoFit/>
          </a:bodyPr>
          <a:p>
            <a:pPr marL="258840" indent="-250920">
              <a:lnSpc>
                <a:spcPct val="80000"/>
              </a:lnSpc>
              <a:tabLst>
                <a:tab algn="l" pos="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bject 4"/>
          <p:cNvSpPr/>
          <p:nvPr/>
        </p:nvSpPr>
        <p:spPr>
          <a:xfrm>
            <a:off x="6991200" y="1816200"/>
            <a:ext cx="293760" cy="390600"/>
          </a:xfrm>
          <a:custGeom>
            <a:avLst/>
            <a:gdLst/>
            <a:ahLst/>
            <a:rect l="l" t="t" r="r" b="b"/>
            <a:pathLst>
              <a:path w="445135" h="445135">
                <a:moveTo>
                  <a:pt x="445007" y="222503"/>
                </a:moveTo>
                <a:lnTo>
                  <a:pt x="440435" y="178307"/>
                </a:lnTo>
                <a:lnTo>
                  <a:pt x="426719" y="135635"/>
                </a:lnTo>
                <a:lnTo>
                  <a:pt x="406907" y="97535"/>
                </a:lnTo>
                <a:lnTo>
                  <a:pt x="379475" y="65531"/>
                </a:lnTo>
                <a:lnTo>
                  <a:pt x="347471" y="38099"/>
                </a:lnTo>
                <a:lnTo>
                  <a:pt x="309371" y="18287"/>
                </a:lnTo>
                <a:lnTo>
                  <a:pt x="266699" y="4571"/>
                </a:lnTo>
                <a:lnTo>
                  <a:pt x="222503" y="0"/>
                </a:lnTo>
                <a:lnTo>
                  <a:pt x="199643" y="1523"/>
                </a:lnTo>
                <a:lnTo>
                  <a:pt x="156971" y="10667"/>
                </a:lnTo>
                <a:lnTo>
                  <a:pt x="115823" y="27431"/>
                </a:lnTo>
                <a:lnTo>
                  <a:pt x="80771" y="51815"/>
                </a:lnTo>
                <a:lnTo>
                  <a:pt x="38099" y="99059"/>
                </a:lnTo>
                <a:lnTo>
                  <a:pt x="18287" y="137159"/>
                </a:lnTo>
                <a:lnTo>
                  <a:pt x="4571" y="178307"/>
                </a:lnTo>
                <a:lnTo>
                  <a:pt x="0" y="222503"/>
                </a:lnTo>
                <a:lnTo>
                  <a:pt x="1523" y="245363"/>
                </a:lnTo>
                <a:lnTo>
                  <a:pt x="4571" y="268223"/>
                </a:lnTo>
                <a:lnTo>
                  <a:pt x="10667" y="289559"/>
                </a:lnTo>
                <a:lnTo>
                  <a:pt x="13715" y="297484"/>
                </a:lnTo>
                <a:lnTo>
                  <a:pt x="13715" y="201167"/>
                </a:lnTo>
                <a:lnTo>
                  <a:pt x="16763" y="179831"/>
                </a:lnTo>
                <a:lnTo>
                  <a:pt x="30479" y="140207"/>
                </a:lnTo>
                <a:lnTo>
                  <a:pt x="48767" y="105155"/>
                </a:lnTo>
                <a:lnTo>
                  <a:pt x="74675" y="74675"/>
                </a:lnTo>
                <a:lnTo>
                  <a:pt x="105155" y="48767"/>
                </a:lnTo>
                <a:lnTo>
                  <a:pt x="141731" y="28955"/>
                </a:lnTo>
                <a:lnTo>
                  <a:pt x="181355" y="16763"/>
                </a:lnTo>
                <a:lnTo>
                  <a:pt x="201167" y="13715"/>
                </a:lnTo>
                <a:lnTo>
                  <a:pt x="243839" y="13715"/>
                </a:lnTo>
                <a:lnTo>
                  <a:pt x="284987" y="22859"/>
                </a:lnTo>
                <a:lnTo>
                  <a:pt x="323087" y="38099"/>
                </a:lnTo>
                <a:lnTo>
                  <a:pt x="356615" y="60959"/>
                </a:lnTo>
                <a:lnTo>
                  <a:pt x="396239" y="105155"/>
                </a:lnTo>
                <a:lnTo>
                  <a:pt x="416051" y="141731"/>
                </a:lnTo>
                <a:lnTo>
                  <a:pt x="428243" y="181355"/>
                </a:lnTo>
                <a:lnTo>
                  <a:pt x="432815" y="222503"/>
                </a:lnTo>
                <a:lnTo>
                  <a:pt x="432815" y="296570"/>
                </a:lnTo>
                <a:lnTo>
                  <a:pt x="435863" y="288035"/>
                </a:lnTo>
                <a:lnTo>
                  <a:pt x="440435" y="266699"/>
                </a:lnTo>
                <a:lnTo>
                  <a:pt x="443483" y="245363"/>
                </a:lnTo>
                <a:lnTo>
                  <a:pt x="445007" y="222503"/>
                </a:lnTo>
                <a:close/>
              </a:path>
              <a:path w="445135" h="445135">
                <a:moveTo>
                  <a:pt x="432815" y="296570"/>
                </a:moveTo>
                <a:lnTo>
                  <a:pt x="432815" y="222503"/>
                </a:lnTo>
                <a:lnTo>
                  <a:pt x="431291" y="243839"/>
                </a:lnTo>
                <a:lnTo>
                  <a:pt x="428243" y="265175"/>
                </a:lnTo>
                <a:lnTo>
                  <a:pt x="416051" y="304799"/>
                </a:lnTo>
                <a:lnTo>
                  <a:pt x="396239" y="339851"/>
                </a:lnTo>
                <a:lnTo>
                  <a:pt x="370331" y="371855"/>
                </a:lnTo>
                <a:lnTo>
                  <a:pt x="339851" y="396239"/>
                </a:lnTo>
                <a:lnTo>
                  <a:pt x="303275" y="416051"/>
                </a:lnTo>
                <a:lnTo>
                  <a:pt x="265175" y="428243"/>
                </a:lnTo>
                <a:lnTo>
                  <a:pt x="222503" y="432815"/>
                </a:lnTo>
                <a:lnTo>
                  <a:pt x="201167" y="431291"/>
                </a:lnTo>
                <a:lnTo>
                  <a:pt x="140207" y="416051"/>
                </a:lnTo>
                <a:lnTo>
                  <a:pt x="105155" y="396239"/>
                </a:lnTo>
                <a:lnTo>
                  <a:pt x="74675" y="370331"/>
                </a:lnTo>
                <a:lnTo>
                  <a:pt x="48767" y="339851"/>
                </a:lnTo>
                <a:lnTo>
                  <a:pt x="28955" y="303275"/>
                </a:lnTo>
                <a:lnTo>
                  <a:pt x="16763" y="265175"/>
                </a:lnTo>
                <a:lnTo>
                  <a:pt x="13715" y="243839"/>
                </a:lnTo>
                <a:lnTo>
                  <a:pt x="13715" y="297484"/>
                </a:lnTo>
                <a:lnTo>
                  <a:pt x="38099" y="347471"/>
                </a:lnTo>
                <a:lnTo>
                  <a:pt x="65531" y="379475"/>
                </a:lnTo>
                <a:lnTo>
                  <a:pt x="99059" y="406907"/>
                </a:lnTo>
                <a:lnTo>
                  <a:pt x="137159" y="428243"/>
                </a:lnTo>
                <a:lnTo>
                  <a:pt x="178307" y="440435"/>
                </a:lnTo>
                <a:lnTo>
                  <a:pt x="222503" y="445007"/>
                </a:lnTo>
                <a:lnTo>
                  <a:pt x="245363" y="443483"/>
                </a:lnTo>
                <a:lnTo>
                  <a:pt x="289559" y="434339"/>
                </a:lnTo>
                <a:lnTo>
                  <a:pt x="329183" y="417575"/>
                </a:lnTo>
                <a:lnTo>
                  <a:pt x="364235" y="394715"/>
                </a:lnTo>
                <a:lnTo>
                  <a:pt x="394715" y="364235"/>
                </a:lnTo>
                <a:lnTo>
                  <a:pt x="417575" y="329183"/>
                </a:lnTo>
                <a:lnTo>
                  <a:pt x="428243" y="309371"/>
                </a:lnTo>
                <a:lnTo>
                  <a:pt x="432815" y="296570"/>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object 5"/>
          <p:cNvSpPr/>
          <p:nvPr/>
        </p:nvSpPr>
        <p:spPr>
          <a:xfrm>
            <a:off x="7143840" y="2197080"/>
            <a:ext cx="360" cy="403200"/>
          </a:xfrm>
          <a:custGeom>
            <a:avLst/>
            <a:gdLst/>
            <a:ahLst/>
            <a:rect l="l" t="t" r="r" b="b"/>
            <a:pathLst>
              <a:path w="0" h="459105">
                <a:moveTo>
                  <a:pt x="0" y="0"/>
                </a:moveTo>
                <a:lnTo>
                  <a:pt x="0" y="458723"/>
                </a:lnTo>
              </a:path>
            </a:pathLst>
          </a:custGeom>
          <a:noFill/>
          <a:ln w="12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6" name="object 6"/>
          <p:cNvSpPr/>
          <p:nvPr/>
        </p:nvSpPr>
        <p:spPr>
          <a:xfrm>
            <a:off x="6915240" y="2349360"/>
            <a:ext cx="501480" cy="360"/>
          </a:xfrm>
          <a:custGeom>
            <a:avLst/>
            <a:gdLst/>
            <a:ahLst/>
            <a:rect l="l" t="t" r="r" b="b"/>
            <a:pathLst>
              <a:path w="762000" h="0">
                <a:moveTo>
                  <a:pt x="0" y="0"/>
                </a:moveTo>
                <a:lnTo>
                  <a:pt x="761999" y="0"/>
                </a:lnTo>
              </a:path>
            </a:pathLst>
          </a:custGeom>
          <a:noFill/>
          <a:ln w="136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7" name="object 7"/>
          <p:cNvSpPr/>
          <p:nvPr/>
        </p:nvSpPr>
        <p:spPr>
          <a:xfrm>
            <a:off x="6915240" y="2577960"/>
            <a:ext cx="515880" cy="357480"/>
          </a:xfrm>
          <a:custGeom>
            <a:avLst/>
            <a:gdLst/>
            <a:ahLst/>
            <a:rect l="l" t="t" r="r" b="b"/>
            <a:pathLst>
              <a:path w="783589" h="405764">
                <a:moveTo>
                  <a:pt x="783335" y="396239"/>
                </a:moveTo>
                <a:lnTo>
                  <a:pt x="387095" y="0"/>
                </a:lnTo>
                <a:lnTo>
                  <a:pt x="384047" y="0"/>
                </a:lnTo>
                <a:lnTo>
                  <a:pt x="0" y="384047"/>
                </a:lnTo>
                <a:lnTo>
                  <a:pt x="9143" y="393191"/>
                </a:lnTo>
                <a:lnTo>
                  <a:pt x="380999" y="21335"/>
                </a:lnTo>
                <a:lnTo>
                  <a:pt x="380999" y="12191"/>
                </a:lnTo>
                <a:lnTo>
                  <a:pt x="390143" y="12191"/>
                </a:lnTo>
                <a:lnTo>
                  <a:pt x="390143" y="21335"/>
                </a:lnTo>
                <a:lnTo>
                  <a:pt x="774191" y="405383"/>
                </a:lnTo>
                <a:lnTo>
                  <a:pt x="783335" y="396239"/>
                </a:lnTo>
                <a:close/>
              </a:path>
              <a:path w="783589" h="405764">
                <a:moveTo>
                  <a:pt x="390143" y="12191"/>
                </a:moveTo>
                <a:lnTo>
                  <a:pt x="380999" y="12191"/>
                </a:lnTo>
                <a:lnTo>
                  <a:pt x="385571" y="16763"/>
                </a:lnTo>
                <a:lnTo>
                  <a:pt x="390143" y="12191"/>
                </a:lnTo>
                <a:close/>
              </a:path>
              <a:path w="783589" h="405764">
                <a:moveTo>
                  <a:pt x="385571" y="16763"/>
                </a:moveTo>
                <a:lnTo>
                  <a:pt x="380999" y="12191"/>
                </a:lnTo>
                <a:lnTo>
                  <a:pt x="380999" y="21335"/>
                </a:lnTo>
                <a:lnTo>
                  <a:pt x="385571" y="16763"/>
                </a:lnTo>
                <a:close/>
              </a:path>
              <a:path w="783589" h="405764">
                <a:moveTo>
                  <a:pt x="390143" y="21335"/>
                </a:moveTo>
                <a:lnTo>
                  <a:pt x="390143" y="12191"/>
                </a:lnTo>
                <a:lnTo>
                  <a:pt x="385571" y="16763"/>
                </a:lnTo>
                <a:lnTo>
                  <a:pt x="390143" y="21335"/>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object 9"/>
          <p:cNvSpPr/>
          <p:nvPr/>
        </p:nvSpPr>
        <p:spPr>
          <a:xfrm>
            <a:off x="1539720" y="6297480"/>
            <a:ext cx="4519800" cy="360"/>
          </a:xfrm>
          <a:custGeom>
            <a:avLst/>
            <a:gdLst/>
            <a:ahLst/>
            <a:rect l="l" t="t" r="r" b="b"/>
            <a:pathLst>
              <a:path w="6858000" h="0">
                <a:moveTo>
                  <a:pt x="0" y="0"/>
                </a:moveTo>
                <a:lnTo>
                  <a:pt x="6857999" y="0"/>
                </a:lnTo>
              </a:path>
            </a:pathLst>
          </a:custGeom>
          <a:noFill/>
          <a:ln w="136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object 11"/>
          <p:cNvSpPr/>
          <p:nvPr/>
        </p:nvSpPr>
        <p:spPr>
          <a:xfrm>
            <a:off x="7219800" y="3949560"/>
            <a:ext cx="1295640" cy="878040"/>
          </a:xfrm>
          <a:custGeom>
            <a:avLst/>
            <a:gdLst/>
            <a:ahLst/>
            <a:rect l="l" t="t" r="r" b="b"/>
            <a:pathLst>
              <a:path w="1965960" h="998220">
                <a:moveTo>
                  <a:pt x="1950719" y="451103"/>
                </a:moveTo>
                <a:lnTo>
                  <a:pt x="1950719" y="397763"/>
                </a:lnTo>
                <a:lnTo>
                  <a:pt x="1920239" y="348995"/>
                </a:lnTo>
                <a:lnTo>
                  <a:pt x="1889759" y="303275"/>
                </a:lnTo>
                <a:lnTo>
                  <a:pt x="1844039" y="260603"/>
                </a:lnTo>
                <a:lnTo>
                  <a:pt x="1813559" y="239267"/>
                </a:lnTo>
                <a:lnTo>
                  <a:pt x="1798319" y="219455"/>
                </a:lnTo>
                <a:lnTo>
                  <a:pt x="1767839" y="199643"/>
                </a:lnTo>
                <a:lnTo>
                  <a:pt x="1676399" y="144779"/>
                </a:lnTo>
                <a:lnTo>
                  <a:pt x="1645919" y="129539"/>
                </a:lnTo>
                <a:lnTo>
                  <a:pt x="1600199" y="114299"/>
                </a:lnTo>
                <a:lnTo>
                  <a:pt x="1569719" y="99059"/>
                </a:lnTo>
                <a:lnTo>
                  <a:pt x="1523999" y="85343"/>
                </a:lnTo>
                <a:lnTo>
                  <a:pt x="1493519" y="71627"/>
                </a:lnTo>
                <a:lnTo>
                  <a:pt x="1447799" y="60959"/>
                </a:lnTo>
                <a:lnTo>
                  <a:pt x="1402079" y="48767"/>
                </a:lnTo>
                <a:lnTo>
                  <a:pt x="1310639" y="30479"/>
                </a:lnTo>
                <a:lnTo>
                  <a:pt x="1264919" y="22859"/>
                </a:lnTo>
                <a:lnTo>
                  <a:pt x="1173479" y="10667"/>
                </a:lnTo>
                <a:lnTo>
                  <a:pt x="1127759" y="6095"/>
                </a:lnTo>
                <a:lnTo>
                  <a:pt x="1082039" y="3047"/>
                </a:lnTo>
                <a:lnTo>
                  <a:pt x="975359" y="0"/>
                </a:lnTo>
                <a:lnTo>
                  <a:pt x="883919" y="3047"/>
                </a:lnTo>
                <a:lnTo>
                  <a:pt x="822959" y="6095"/>
                </a:lnTo>
                <a:lnTo>
                  <a:pt x="777239" y="10667"/>
                </a:lnTo>
                <a:lnTo>
                  <a:pt x="685799" y="22859"/>
                </a:lnTo>
                <a:lnTo>
                  <a:pt x="640079" y="30479"/>
                </a:lnTo>
                <a:lnTo>
                  <a:pt x="548639" y="48767"/>
                </a:lnTo>
                <a:lnTo>
                  <a:pt x="518159" y="60959"/>
                </a:lnTo>
                <a:lnTo>
                  <a:pt x="472439" y="71627"/>
                </a:lnTo>
                <a:lnTo>
                  <a:pt x="426719" y="85343"/>
                </a:lnTo>
                <a:lnTo>
                  <a:pt x="396239" y="99059"/>
                </a:lnTo>
                <a:lnTo>
                  <a:pt x="320039" y="129539"/>
                </a:lnTo>
                <a:lnTo>
                  <a:pt x="243839" y="163067"/>
                </a:lnTo>
                <a:lnTo>
                  <a:pt x="213359" y="181355"/>
                </a:lnTo>
                <a:lnTo>
                  <a:pt x="198119" y="199643"/>
                </a:lnTo>
                <a:lnTo>
                  <a:pt x="137159" y="239267"/>
                </a:lnTo>
                <a:lnTo>
                  <a:pt x="106679" y="260603"/>
                </a:lnTo>
                <a:lnTo>
                  <a:pt x="76199" y="303275"/>
                </a:lnTo>
                <a:lnTo>
                  <a:pt x="45719" y="348995"/>
                </a:lnTo>
                <a:lnTo>
                  <a:pt x="30479" y="373379"/>
                </a:lnTo>
                <a:lnTo>
                  <a:pt x="15239" y="385571"/>
                </a:lnTo>
                <a:lnTo>
                  <a:pt x="0" y="422147"/>
                </a:lnTo>
                <a:lnTo>
                  <a:pt x="0" y="473963"/>
                </a:lnTo>
                <a:lnTo>
                  <a:pt x="15239" y="461771"/>
                </a:lnTo>
                <a:lnTo>
                  <a:pt x="15239" y="414527"/>
                </a:lnTo>
                <a:lnTo>
                  <a:pt x="30479" y="402335"/>
                </a:lnTo>
                <a:lnTo>
                  <a:pt x="30479" y="379475"/>
                </a:lnTo>
                <a:lnTo>
                  <a:pt x="76199" y="310895"/>
                </a:lnTo>
                <a:lnTo>
                  <a:pt x="106679" y="289559"/>
                </a:lnTo>
                <a:lnTo>
                  <a:pt x="121919" y="269747"/>
                </a:lnTo>
                <a:lnTo>
                  <a:pt x="152399" y="248411"/>
                </a:lnTo>
                <a:lnTo>
                  <a:pt x="167639" y="228599"/>
                </a:lnTo>
                <a:lnTo>
                  <a:pt x="259079" y="173735"/>
                </a:lnTo>
                <a:lnTo>
                  <a:pt x="320039" y="140207"/>
                </a:lnTo>
                <a:lnTo>
                  <a:pt x="365759" y="124967"/>
                </a:lnTo>
                <a:lnTo>
                  <a:pt x="426719" y="97535"/>
                </a:lnTo>
                <a:lnTo>
                  <a:pt x="472439" y="83819"/>
                </a:lnTo>
                <a:lnTo>
                  <a:pt x="518159" y="73151"/>
                </a:lnTo>
                <a:lnTo>
                  <a:pt x="594359" y="51815"/>
                </a:lnTo>
                <a:lnTo>
                  <a:pt x="640079" y="42671"/>
                </a:lnTo>
                <a:lnTo>
                  <a:pt x="685799" y="35051"/>
                </a:lnTo>
                <a:lnTo>
                  <a:pt x="777239" y="22859"/>
                </a:lnTo>
                <a:lnTo>
                  <a:pt x="838199" y="18287"/>
                </a:lnTo>
                <a:lnTo>
                  <a:pt x="883919" y="15239"/>
                </a:lnTo>
                <a:lnTo>
                  <a:pt x="929639" y="13715"/>
                </a:lnTo>
                <a:lnTo>
                  <a:pt x="1036319" y="13715"/>
                </a:lnTo>
                <a:lnTo>
                  <a:pt x="1173479" y="22859"/>
                </a:lnTo>
                <a:lnTo>
                  <a:pt x="1264919" y="35051"/>
                </a:lnTo>
                <a:lnTo>
                  <a:pt x="1310639" y="42671"/>
                </a:lnTo>
                <a:lnTo>
                  <a:pt x="1356359" y="51815"/>
                </a:lnTo>
                <a:lnTo>
                  <a:pt x="1402079" y="62483"/>
                </a:lnTo>
                <a:lnTo>
                  <a:pt x="1478279" y="83819"/>
                </a:lnTo>
                <a:lnTo>
                  <a:pt x="1569719" y="111251"/>
                </a:lnTo>
                <a:lnTo>
                  <a:pt x="1630679" y="140207"/>
                </a:lnTo>
                <a:lnTo>
                  <a:pt x="1676399" y="156971"/>
                </a:lnTo>
                <a:lnTo>
                  <a:pt x="1706879" y="173735"/>
                </a:lnTo>
                <a:lnTo>
                  <a:pt x="1767839" y="210311"/>
                </a:lnTo>
                <a:lnTo>
                  <a:pt x="1783079" y="228599"/>
                </a:lnTo>
                <a:lnTo>
                  <a:pt x="1813559" y="248411"/>
                </a:lnTo>
                <a:lnTo>
                  <a:pt x="1844039" y="269747"/>
                </a:lnTo>
                <a:lnTo>
                  <a:pt x="1889759" y="333755"/>
                </a:lnTo>
                <a:lnTo>
                  <a:pt x="1920239" y="379475"/>
                </a:lnTo>
                <a:lnTo>
                  <a:pt x="1935479" y="390143"/>
                </a:lnTo>
                <a:lnTo>
                  <a:pt x="1935479" y="426719"/>
                </a:lnTo>
                <a:lnTo>
                  <a:pt x="1950719" y="451103"/>
                </a:lnTo>
                <a:close/>
              </a:path>
              <a:path w="1965960" h="998220">
                <a:moveTo>
                  <a:pt x="990599" y="995171"/>
                </a:moveTo>
                <a:lnTo>
                  <a:pt x="990599" y="986027"/>
                </a:lnTo>
                <a:lnTo>
                  <a:pt x="975359" y="984503"/>
                </a:lnTo>
                <a:lnTo>
                  <a:pt x="929639" y="984503"/>
                </a:lnTo>
                <a:lnTo>
                  <a:pt x="883919" y="982979"/>
                </a:lnTo>
                <a:lnTo>
                  <a:pt x="838199" y="979931"/>
                </a:lnTo>
                <a:lnTo>
                  <a:pt x="777239" y="975359"/>
                </a:lnTo>
                <a:lnTo>
                  <a:pt x="685799" y="963167"/>
                </a:lnTo>
                <a:lnTo>
                  <a:pt x="640079" y="955547"/>
                </a:lnTo>
                <a:lnTo>
                  <a:pt x="548639" y="937259"/>
                </a:lnTo>
                <a:lnTo>
                  <a:pt x="518159" y="925067"/>
                </a:lnTo>
                <a:lnTo>
                  <a:pt x="472439" y="914399"/>
                </a:lnTo>
                <a:lnTo>
                  <a:pt x="426719" y="900683"/>
                </a:lnTo>
                <a:lnTo>
                  <a:pt x="365759" y="873251"/>
                </a:lnTo>
                <a:lnTo>
                  <a:pt x="320039" y="858011"/>
                </a:lnTo>
                <a:lnTo>
                  <a:pt x="259079" y="824483"/>
                </a:lnTo>
                <a:lnTo>
                  <a:pt x="167639" y="769619"/>
                </a:lnTo>
                <a:lnTo>
                  <a:pt x="152399" y="749807"/>
                </a:lnTo>
                <a:lnTo>
                  <a:pt x="121919" y="728471"/>
                </a:lnTo>
                <a:lnTo>
                  <a:pt x="106679" y="708659"/>
                </a:lnTo>
                <a:lnTo>
                  <a:pt x="76199" y="685799"/>
                </a:lnTo>
                <a:lnTo>
                  <a:pt x="60959" y="664463"/>
                </a:lnTo>
                <a:lnTo>
                  <a:pt x="30479" y="618743"/>
                </a:lnTo>
                <a:lnTo>
                  <a:pt x="30479" y="595883"/>
                </a:lnTo>
                <a:lnTo>
                  <a:pt x="15239" y="583691"/>
                </a:lnTo>
                <a:lnTo>
                  <a:pt x="15239" y="536447"/>
                </a:lnTo>
                <a:lnTo>
                  <a:pt x="0" y="524255"/>
                </a:lnTo>
                <a:lnTo>
                  <a:pt x="0" y="576071"/>
                </a:lnTo>
                <a:lnTo>
                  <a:pt x="15239" y="612647"/>
                </a:lnTo>
                <a:lnTo>
                  <a:pt x="30479" y="624839"/>
                </a:lnTo>
                <a:lnTo>
                  <a:pt x="45719" y="649223"/>
                </a:lnTo>
                <a:lnTo>
                  <a:pt x="91439" y="717803"/>
                </a:lnTo>
                <a:lnTo>
                  <a:pt x="106679" y="739139"/>
                </a:lnTo>
                <a:lnTo>
                  <a:pt x="137159" y="758951"/>
                </a:lnTo>
                <a:lnTo>
                  <a:pt x="167639" y="780287"/>
                </a:lnTo>
                <a:lnTo>
                  <a:pt x="198119" y="798575"/>
                </a:lnTo>
                <a:lnTo>
                  <a:pt x="213359" y="818387"/>
                </a:lnTo>
                <a:lnTo>
                  <a:pt x="243839" y="835151"/>
                </a:lnTo>
                <a:lnTo>
                  <a:pt x="289559" y="853439"/>
                </a:lnTo>
                <a:lnTo>
                  <a:pt x="320039" y="868679"/>
                </a:lnTo>
                <a:lnTo>
                  <a:pt x="350519" y="885443"/>
                </a:lnTo>
                <a:lnTo>
                  <a:pt x="396239" y="899159"/>
                </a:lnTo>
                <a:lnTo>
                  <a:pt x="472439" y="926591"/>
                </a:lnTo>
                <a:lnTo>
                  <a:pt x="518159" y="938783"/>
                </a:lnTo>
                <a:lnTo>
                  <a:pt x="548639" y="949451"/>
                </a:lnTo>
                <a:lnTo>
                  <a:pt x="640079" y="967739"/>
                </a:lnTo>
                <a:lnTo>
                  <a:pt x="685799" y="975359"/>
                </a:lnTo>
                <a:lnTo>
                  <a:pt x="777239" y="987551"/>
                </a:lnTo>
                <a:lnTo>
                  <a:pt x="822959" y="992123"/>
                </a:lnTo>
                <a:lnTo>
                  <a:pt x="883919" y="995171"/>
                </a:lnTo>
                <a:lnTo>
                  <a:pt x="975359" y="998219"/>
                </a:lnTo>
                <a:lnTo>
                  <a:pt x="990599" y="995171"/>
                </a:lnTo>
                <a:close/>
              </a:path>
              <a:path w="1965960" h="998220">
                <a:moveTo>
                  <a:pt x="1950719" y="600455"/>
                </a:moveTo>
                <a:lnTo>
                  <a:pt x="1950719" y="560831"/>
                </a:lnTo>
                <a:lnTo>
                  <a:pt x="1935479" y="573023"/>
                </a:lnTo>
                <a:lnTo>
                  <a:pt x="1935479" y="608075"/>
                </a:lnTo>
                <a:lnTo>
                  <a:pt x="1920239" y="618743"/>
                </a:lnTo>
                <a:lnTo>
                  <a:pt x="1904999" y="643127"/>
                </a:lnTo>
                <a:lnTo>
                  <a:pt x="1889759" y="664463"/>
                </a:lnTo>
                <a:lnTo>
                  <a:pt x="1874519" y="687323"/>
                </a:lnTo>
                <a:lnTo>
                  <a:pt x="1859279" y="708659"/>
                </a:lnTo>
                <a:lnTo>
                  <a:pt x="1828799" y="729995"/>
                </a:lnTo>
                <a:lnTo>
                  <a:pt x="1813559" y="749807"/>
                </a:lnTo>
                <a:lnTo>
                  <a:pt x="1783079" y="769619"/>
                </a:lnTo>
                <a:lnTo>
                  <a:pt x="1767839" y="787907"/>
                </a:lnTo>
                <a:lnTo>
                  <a:pt x="1706879" y="824483"/>
                </a:lnTo>
                <a:lnTo>
                  <a:pt x="1676399" y="841247"/>
                </a:lnTo>
                <a:lnTo>
                  <a:pt x="1630679" y="858011"/>
                </a:lnTo>
                <a:lnTo>
                  <a:pt x="1600199" y="873251"/>
                </a:lnTo>
                <a:lnTo>
                  <a:pt x="1569719" y="886967"/>
                </a:lnTo>
                <a:lnTo>
                  <a:pt x="1478279" y="914399"/>
                </a:lnTo>
                <a:lnTo>
                  <a:pt x="1447799" y="926591"/>
                </a:lnTo>
                <a:lnTo>
                  <a:pt x="1402079" y="937259"/>
                </a:lnTo>
                <a:lnTo>
                  <a:pt x="1310639" y="955547"/>
                </a:lnTo>
                <a:lnTo>
                  <a:pt x="1264919" y="963167"/>
                </a:lnTo>
                <a:lnTo>
                  <a:pt x="1173479" y="975359"/>
                </a:lnTo>
                <a:lnTo>
                  <a:pt x="1127759" y="979931"/>
                </a:lnTo>
                <a:lnTo>
                  <a:pt x="1082039" y="982979"/>
                </a:lnTo>
                <a:lnTo>
                  <a:pt x="1036319" y="984503"/>
                </a:lnTo>
                <a:lnTo>
                  <a:pt x="975359" y="984503"/>
                </a:lnTo>
                <a:lnTo>
                  <a:pt x="990599" y="986027"/>
                </a:lnTo>
                <a:lnTo>
                  <a:pt x="990599" y="997784"/>
                </a:lnTo>
                <a:lnTo>
                  <a:pt x="1082039" y="995171"/>
                </a:lnTo>
                <a:lnTo>
                  <a:pt x="1127759" y="992123"/>
                </a:lnTo>
                <a:lnTo>
                  <a:pt x="1173479" y="987551"/>
                </a:lnTo>
                <a:lnTo>
                  <a:pt x="1264919" y="975359"/>
                </a:lnTo>
                <a:lnTo>
                  <a:pt x="1310639" y="967739"/>
                </a:lnTo>
                <a:lnTo>
                  <a:pt x="1402079" y="949451"/>
                </a:lnTo>
                <a:lnTo>
                  <a:pt x="1447799" y="938783"/>
                </a:lnTo>
                <a:lnTo>
                  <a:pt x="1493519" y="926591"/>
                </a:lnTo>
                <a:lnTo>
                  <a:pt x="1523999" y="912875"/>
                </a:lnTo>
                <a:lnTo>
                  <a:pt x="1600199" y="885443"/>
                </a:lnTo>
                <a:lnTo>
                  <a:pt x="1645919" y="868679"/>
                </a:lnTo>
                <a:lnTo>
                  <a:pt x="1767839" y="798575"/>
                </a:lnTo>
                <a:lnTo>
                  <a:pt x="1828799" y="758951"/>
                </a:lnTo>
                <a:lnTo>
                  <a:pt x="1844039" y="739139"/>
                </a:lnTo>
                <a:lnTo>
                  <a:pt x="1874519" y="716279"/>
                </a:lnTo>
                <a:lnTo>
                  <a:pt x="1889759" y="694943"/>
                </a:lnTo>
                <a:lnTo>
                  <a:pt x="1920239" y="649223"/>
                </a:lnTo>
                <a:lnTo>
                  <a:pt x="1950719" y="600455"/>
                </a:lnTo>
                <a:close/>
              </a:path>
              <a:path w="1965960" h="998220">
                <a:moveTo>
                  <a:pt x="990599" y="997784"/>
                </a:moveTo>
                <a:lnTo>
                  <a:pt x="990599" y="995171"/>
                </a:lnTo>
                <a:lnTo>
                  <a:pt x="975359" y="998219"/>
                </a:lnTo>
                <a:lnTo>
                  <a:pt x="990599" y="997784"/>
                </a:lnTo>
                <a:close/>
              </a:path>
              <a:path w="1965960" h="998220">
                <a:moveTo>
                  <a:pt x="1965959" y="550163"/>
                </a:moveTo>
                <a:lnTo>
                  <a:pt x="1965959" y="448055"/>
                </a:lnTo>
                <a:lnTo>
                  <a:pt x="1950719" y="434339"/>
                </a:lnTo>
                <a:lnTo>
                  <a:pt x="1950719" y="563879"/>
                </a:lnTo>
                <a:lnTo>
                  <a:pt x="1965959" y="550163"/>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object 12"/>
          <p:cNvSpPr/>
          <p:nvPr/>
        </p:nvSpPr>
        <p:spPr>
          <a:xfrm>
            <a:off x="1878120" y="3108240"/>
            <a:ext cx="4821120" cy="154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object 14"/>
          <p:cNvSpPr/>
          <p:nvPr/>
        </p:nvSpPr>
        <p:spPr>
          <a:xfrm>
            <a:off x="4525920" y="6165720"/>
            <a:ext cx="52560" cy="86040"/>
          </a:xfrm>
          <a:prstGeom prst="rect">
            <a:avLst/>
          </a:prstGeom>
          <a:noFill/>
          <a:ln w="0">
            <a:noFill/>
          </a:ln>
        </p:spPr>
        <p:style>
          <a:lnRef idx="0"/>
          <a:fillRef idx="0"/>
          <a:effectRef idx="0"/>
          <a:fontRef idx="minor"/>
        </p:style>
        <p:txBody>
          <a:bodyPr lIns="0" rIns="0" tIns="0" bIns="0" anchor="t">
            <a:spAutoFit/>
          </a:bodyPr>
          <a:p>
            <a:pPr marL="7920">
              <a:lnSpc>
                <a:spcPts val="6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cs typeface="Arial"/>
              </a:rPr>
              <a:t>٩</a:t>
            </a:r>
            <a:endParaRPr b="0" lang="en-US" sz="600" spc="-1" strike="noStrike">
              <a:solidFill>
                <a:srgbClr val="000000"/>
              </a:solidFill>
              <a:latin typeface="Times New Roman"/>
            </a:endParaRPr>
          </a:p>
        </p:txBody>
      </p:sp>
      <p:sp>
        <p:nvSpPr>
          <p:cNvPr id="232" name="Rectangle 15"/>
          <p:cNvSpPr/>
          <p:nvPr/>
        </p:nvSpPr>
        <p:spPr>
          <a:xfrm>
            <a:off x="6458040" y="3111480"/>
            <a:ext cx="1168200" cy="337320"/>
          </a:xfrm>
          <a:prstGeom prst="rect">
            <a:avLst/>
          </a:prstGeom>
          <a:noFill/>
          <a:ln w="0">
            <a:noFill/>
          </a:ln>
        </p:spPr>
        <p:style>
          <a:lnRef idx="0"/>
          <a:fillRef idx="0"/>
          <a:effectRef idx="0"/>
          <a:fontRef idx="minor"/>
        </p:style>
        <p:txBody>
          <a:bodyPr lIns="90000" rIns="90000" tIns="46800" bIns="46800" anchor="t">
            <a:spAutoFit/>
          </a:bodyPr>
          <a:p>
            <a:pPr marL="488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tor</a:t>
            </a:r>
            <a:endParaRPr b="0" lang="en-US" sz="1600" spc="-1" strike="noStrike">
              <a:solidFill>
                <a:srgbClr val="000000"/>
              </a:solidFill>
              <a:latin typeface="Times New Roman"/>
            </a:endParaRPr>
          </a:p>
        </p:txBody>
      </p:sp>
      <p:sp>
        <p:nvSpPr>
          <p:cNvPr id="233" name="Rectangle 16"/>
          <p:cNvSpPr/>
          <p:nvPr/>
        </p:nvSpPr>
        <p:spPr>
          <a:xfrm>
            <a:off x="6655680" y="4254480"/>
            <a:ext cx="2070000" cy="313200"/>
          </a:xfrm>
          <a:prstGeom prst="rect">
            <a:avLst/>
          </a:prstGeom>
          <a:noFill/>
          <a:ln w="0">
            <a:noFill/>
          </a:ln>
        </p:spPr>
        <p:style>
          <a:lnRef idx="0"/>
          <a:fillRef idx="0"/>
          <a:effectRef idx="0"/>
          <a:fontRef idx="minor"/>
        </p:style>
        <p:txBody>
          <a:bodyPr wrap="none" lIns="90000" rIns="90000" tIns="46800" bIns="46800" anchor="t">
            <a:spAutoFit/>
          </a:bodyPr>
          <a:p>
            <a:pPr lvl="1" marL="450720" indent="-250560">
              <a:lnSpc>
                <a:spcPct val="80000"/>
              </a:lnSpc>
              <a:spcBef>
                <a:spcPts val="451"/>
              </a:spcBef>
              <a:tabLst>
                <a:tab algn="l" pos="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Case</a:t>
            </a:r>
            <a:endParaRPr b="0" lang="en-US" sz="18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 Analysis</a:t>
            </a:r>
            <a:endParaRPr b="0" lang="en-US" sz="5000" spc="-1" strike="noStrike">
              <a:solidFill>
                <a:srgbClr val="04617b"/>
              </a:solidFill>
              <a:latin typeface="Calibri"/>
            </a:endParaRPr>
          </a:p>
        </p:txBody>
      </p:sp>
      <p:sp>
        <p:nvSpPr>
          <p:cNvPr id="235"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is an Actor?</a:t>
            </a:r>
            <a:endParaRPr b="0" lang="en-US" sz="2800" spc="-1" strike="noStrike">
              <a:solidFill>
                <a:srgbClr val="000000"/>
              </a:solidFill>
              <a:latin typeface="Constantia"/>
            </a:endParaRPr>
          </a:p>
          <a:p>
            <a:pPr lvl="1" marL="636480" indent="-244440">
              <a:spcBef>
                <a:spcPts val="72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A user or outside system that interacts with the system being designed in order to obtain some value from that interaction</a:t>
            </a:r>
            <a:endParaRPr b="0" lang="en-US" sz="29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Cases describe scenarios that describe the interaction between users of the system (the actor) and the system itself.</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3T03:43:54Z</dcterms:created>
  <dc:creator>Stoecklin</dc:creator>
  <dc:description/>
  <dc:language>en-US</dc:language>
  <cp:lastModifiedBy>USER</cp:lastModifiedBy>
  <cp:lastPrinted>2004-04-23T15:45:57Z</cp:lastPrinted>
  <dcterms:modified xsi:type="dcterms:W3CDTF">2016-10-16T20:28:13Z</dcterms:modified>
  <cp:revision>54</cp:revision>
  <dc:subject/>
  <dc:title>Use Cases</dc:title>
</cp:coreProperties>
</file>