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D2C2D-23A9-410C-A055-516C60258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500F-3A96-4B91-A867-6142CC03F30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B3B0-9E62-4753-9E40-33D5BD0F20D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E80C-D9CA-4540-9914-BE37C16CC6B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99D9-A65E-486F-BF76-3DC009A206E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69E1-A94C-4E74-94A2-D3F09981881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C34D-B83A-4DAF-B264-528049A8590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B13E-6675-42AF-B706-56535D51479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F681-F10A-4757-AD87-65A1D13D455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934D-0F41-4FBC-8C8F-213D13D835F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A7D7-0768-497B-B354-C57B4DAB268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1D8C-7F19-4C1A-B308-F58AD376E08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5F46-D34B-414D-879F-17E24194927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AF97-BC1F-4456-BC77-B80DA2AF633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C552-63FA-427E-B51B-705D777A9E6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95EA-C5B4-425A-A563-005CA319F0B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2CA2-C249-4C76-A4CA-4EEA50E5CBF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8894-2AE6-4020-B3E0-86F3C5F5E68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6E50-2672-4C54-AD11-9BEC6508745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819A-C80C-46B9-9062-06C8C60DFA4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26C4-E9C4-4866-BCDF-4504ECC0D58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960B-A9C0-4E65-A7CB-A256AC09588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00CC-B850-4489-AF90-273E83D170A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5969A1-2FB1-473E-940D-C18724DEE2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EFFF19-557E-47C0-98C1-005AB9697A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FE1D35-A9D0-4DB4-ACD1-20479F03C4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8FCCED-C536-4CE7-A72D-1381758297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3E11E-8FD0-428B-BEAC-AC654B11F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1B047-8650-414B-B332-B90280CE78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1495F-329B-42E7-896A-BFAD01232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46576A-9117-4B79-A203-FA9CFCB2F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06B64B-6020-46B3-B5C3-DECDBEDDDB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274EA-4DBC-46AD-AE9D-5161236AFC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754EC-9F3D-4DF8-90F3-C9DF5D695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1CDCCE-8945-40E6-A584-660BF309AE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0949-2220-4348-BFF4-6DB6F621BE33}"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Insurance" TargetMode="External"/><Relationship Id="rId2" Type="http://schemas.openxmlformats.org/officeDocument/2006/relationships/hyperlink" Target="http://en.wikipedia.org/wiki/Medical_expenses" TargetMode="External"/><Relationship Id="rId3" Type="http://schemas.openxmlformats.org/officeDocument/2006/relationships/hyperlink" Target="http://en.wikipedia.org/wiki/Health_care"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1</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at is The Health Insurance?</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0"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According to the </a:t>
            </a:r>
            <a:r>
              <a:rPr b="0" lang="en-US" sz="3200" spc="-1" strike="noStrike" u="sng">
                <a:solidFill>
                  <a:srgbClr val="ff0000"/>
                </a:solidFill>
                <a:uFillTx/>
                <a:latin typeface="Arial"/>
              </a:rPr>
              <a:t>Health Insurance Association of </a:t>
            </a:r>
            <a:r>
              <a:rPr b="0" lang="en-US" sz="3200" spc="-1" strike="noStrike">
                <a:solidFill>
                  <a:srgbClr val="ff0000"/>
                </a:solidFill>
                <a:latin typeface="Arial"/>
              </a:rPr>
              <a:t>America</a:t>
            </a:r>
            <a:r>
              <a:rPr b="0" lang="en-US" sz="3200" spc="-1" strike="noStrike">
                <a:solidFill>
                  <a:srgbClr val="003366"/>
                </a:solidFill>
                <a:latin typeface="Arial"/>
              </a:rPr>
              <a:t>, health insurance is defined as "</a:t>
            </a:r>
            <a:r>
              <a:rPr b="1" lang="en-US" sz="3200" spc="-1" strike="noStrike">
                <a:solidFill>
                  <a:srgbClr val="003366"/>
                </a:solidFill>
                <a:latin typeface="Arial"/>
              </a:rPr>
              <a:t>coverage that provides for the payments of benefits as a result of sickness or injury. Includes insurance for losses from accident, medical expense, disability, or accidental death and dismemberment" </a:t>
            </a:r>
            <a:endParaRPr b="0" lang="en-US" sz="32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7D33-D4D7-4DA9-B591-57727DFFE24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4"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According to (Black and Skipper, 1999) health insurance can be defined as encompassing a broad range of benefit arrangements that can cover virtually any expenses connected with hospital and medical care and related services for the insured and covered family members.</a:t>
            </a:r>
            <a:endParaRPr b="0" lang="en-US" sz="32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20A8-FE2F-42CE-8916-30A528404B79}"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8"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Plans may be limited to basic benefits for specific kinds of medical services or may provide comprehensive benefits for all major medical expenses associated with severe injury or long-term illness.</a:t>
            </a:r>
            <a:endParaRPr b="0" lang="en-US" sz="32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B06E-22B9-442A-B542-B8A83AB4D0D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42" name=""/>
          <p:cNvSpPr txBox="1"/>
          <p:nvPr/>
        </p:nvSpPr>
        <p:spPr>
          <a:xfrm>
            <a:off x="800280" y="1809360"/>
            <a:ext cx="7410240" cy="35434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Benefits may be paid directly to the health care provider or institution of actual expenses incurred. Some benefits are paid as fixed amounts without regard to the actual costs of care.</a:t>
            </a:r>
            <a:endParaRPr b="0" lang="en-US" sz="3200" spc="-1" strike="noStrike">
              <a:solidFill>
                <a:srgbClr val="003366"/>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E5C8-42F8-495B-BDF1-9745F1A1ABE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57200"/>
            <a:ext cx="86104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y of Health Insurance Benefits</a:t>
            </a:r>
            <a:endParaRPr b="1" lang="en-US" sz="3600" spc="-1" strike="noStrike">
              <a:solidFill>
                <a:srgbClr val="006666"/>
              </a:solidFill>
              <a:latin typeface="Arial"/>
            </a:endParaRPr>
          </a:p>
        </p:txBody>
      </p:sp>
      <p:sp>
        <p:nvSpPr>
          <p:cNvPr id="146"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Germany has the world's oldest national social health insurance system,</a:t>
            </a:r>
            <a:r>
              <a:rPr b="0" lang="en-US" sz="3200" spc="-1" strike="noStrike" baseline="30000">
                <a:solidFill>
                  <a:srgbClr val="003366"/>
                </a:solidFill>
                <a:latin typeface="Arial"/>
              </a:rPr>
              <a:t> </a:t>
            </a:r>
            <a:r>
              <a:rPr b="0" lang="en-US" sz="3200" spc="-1" strike="noStrike">
                <a:solidFill>
                  <a:srgbClr val="003366"/>
                </a:solidFill>
                <a:latin typeface="Arial"/>
              </a:rPr>
              <a:t>with origins dating back to Otto von Bismarck's social legislation, which included the </a:t>
            </a:r>
            <a:r>
              <a:rPr b="0" i="1" lang="en-US" sz="3200" spc="-1" strike="noStrike">
                <a:solidFill>
                  <a:srgbClr val="003366"/>
                </a:solidFill>
                <a:latin typeface="Arial"/>
              </a:rPr>
              <a:t>Health Insurance Bill of 1883</a:t>
            </a:r>
            <a:r>
              <a:rPr b="0" lang="en-US" sz="3200" spc="-1" strike="noStrike">
                <a:solidFill>
                  <a:srgbClr val="003366"/>
                </a:solidFill>
                <a:latin typeface="Arial"/>
              </a:rPr>
              <a:t>, </a:t>
            </a:r>
            <a:r>
              <a:rPr b="0" i="1" lang="en-US" sz="3200" spc="-1" strike="noStrike">
                <a:solidFill>
                  <a:srgbClr val="003366"/>
                </a:solidFill>
                <a:latin typeface="Arial"/>
              </a:rPr>
              <a:t>Accident Insurance Bill of 1884</a:t>
            </a:r>
            <a:r>
              <a:rPr b="0" lang="en-US" sz="3200" spc="-1" strike="noStrike">
                <a:solidFill>
                  <a:srgbClr val="003366"/>
                </a:solidFill>
                <a:latin typeface="Arial"/>
              </a:rPr>
              <a:t>, and </a:t>
            </a:r>
            <a:r>
              <a:rPr b="0" i="1" lang="en-US" sz="3200" spc="-1" strike="noStrike">
                <a:solidFill>
                  <a:srgbClr val="003366"/>
                </a:solidFill>
                <a:latin typeface="Arial"/>
              </a:rPr>
              <a:t>Old Age and Disability Insurance Bill of 1889</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77B2-E424-424F-8F59-DDE02AC7F70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istory of Health Insurance Benefits</a:t>
            </a:r>
            <a:endParaRPr b="1" lang="en-US" sz="3200" spc="-1" strike="noStrike">
              <a:solidFill>
                <a:srgbClr val="006666"/>
              </a:solidFill>
              <a:latin typeface="Arial"/>
            </a:endParaRPr>
          </a:p>
        </p:txBody>
      </p:sp>
      <p:sp>
        <p:nvSpPr>
          <p:cNvPr id="150"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2800" spc="-1" strike="noStrike">
                <a:solidFill>
                  <a:srgbClr val="003366"/>
                </a:solidFill>
                <a:latin typeface="Arial"/>
              </a:rPr>
              <a:t>Bismarck stressed the importance of three key principles; are: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idarity,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government is responsible to ensure access by those who are in need,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sidiarity </a:t>
            </a:r>
            <a:endParaRPr b="0" lang="en-US" sz="28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8613-B8EC-4D3B-BA9F-422F6834132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5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1" lang="en-US" sz="3200" spc="-1" strike="noStrike">
                <a:solidFill>
                  <a:srgbClr val="003366"/>
                </a:solidFill>
                <a:latin typeface="Arial"/>
              </a:rPr>
              <a:t>health care system in Saudi Arabia</a:t>
            </a:r>
            <a:r>
              <a:rPr b="0" lang="en-US" sz="3200" spc="-1" strike="noStrike">
                <a:solidFill>
                  <a:srgbClr val="003366"/>
                </a:solidFill>
                <a:latin typeface="Arial"/>
              </a:rPr>
              <a:t> can be classified as a national health care system in which the government provides health care services through a number of government agencies. In the meantime, there is a growing role and increased participation from the private sector in the provision of health care services.</a:t>
            </a:r>
            <a:endParaRPr b="0" lang="en-US" sz="32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D019-5ADD-4475-8A48-05CAB2BC54C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5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beginning of emphasis on prevention and environmental health was in 1925 by establishing a public health department. It was made by a royal decree from King </a:t>
            </a:r>
            <a:r>
              <a:rPr b="0" lang="en-US" sz="3200" spc="-1" strike="noStrike" u="sng">
                <a:solidFill>
                  <a:srgbClr val="003366"/>
                </a:solidFill>
                <a:uFillTx/>
                <a:latin typeface="Arial"/>
              </a:rPr>
              <a:t>Abdul Aziz Al-Saud</a:t>
            </a:r>
            <a:r>
              <a:rPr b="0" lang="en-US" sz="3200" spc="-1" strike="noStrike">
                <a:solidFill>
                  <a:srgbClr val="003366"/>
                </a:solidFill>
                <a:latin typeface="Arial"/>
              </a:rPr>
              <a:t>. By 1926 the first school of nursing was opened and followed by the school of health and emergencies in 1927.</a:t>
            </a:r>
            <a:endParaRPr b="0" lang="en-US" sz="32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287A-2EFD-407C-8C76-1BA121F2EFE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62"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health services expanded in 1951 by establishing the ministry of health. A ministerial ordinance in 1980, led to the establishment of the administration integrating the existing dispensaries, health centers, health offices and Maternal and Child Health (MCH) centers into one unit.</a:t>
            </a:r>
            <a:endParaRPr b="0" lang="en-US" sz="32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5ADA-640D-4651-BB5D-902A56472D4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6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y the end of the 1980s there were 253 hospitals, 38,955 hospital beds and 1,640 primary health centers. The proportion of these positions filled by Saudi nationals is very low. Saudi nationals represent 13% doctors (22,633 doctors), 11.2% nurses (45,840 nurses) and 38% health technicians (25,192 health technicians).</a:t>
            </a:r>
            <a:endParaRPr b="0" lang="en-US" sz="32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934-9128-4A8B-AED0-9A8575BBDB3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the common factors among the best health care syste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ealth insurance defini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istory of Health Insur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ealth care in Saudi Arabi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D0E2-62EE-49BD-A665-8C0F398BFCA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70"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1993, the total number of hospitals was 281, 41,789 hospital beds and 1,707 primary health centers and the positions filled by Saudi nationals increased to 22.7% doctors, 24.5% nursing staff and 41.8% health technicians.</a:t>
            </a:r>
            <a:endParaRPr b="0" lang="en-US" sz="32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9586-5369-4703-B31B-3BD163A9534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7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end of the 2000, the major indicators provided by the private sector wer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87 hospitals with 8,485 bed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73 pharmaceutical stores and 3,208 pharmaci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622 dispensaries, 785 clinics, 45 medical laboratories and 11 physiotherapy centers</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69F0-2CE1-4B53-8C3D-80B579F4304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Basic Characteristics of Major Medical Insurance:</a:t>
            </a:r>
            <a:endParaRPr b="1" lang="en-US" sz="2800" spc="-1" strike="noStrike">
              <a:solidFill>
                <a:srgbClr val="006666"/>
              </a:solidFill>
              <a:latin typeface="Arial"/>
            </a:endParaRPr>
          </a:p>
        </p:txBody>
      </p:sp>
      <p:sp>
        <p:nvSpPr>
          <p:cNvPr id="17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road coverage</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igh maximum limits</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eductible (typically calendar year)</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insurance (typically 80-20 percent)</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op-loss limit</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clusions</a:t>
            </a:r>
            <a:endParaRPr b="0" lang="en-US" sz="32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A5A0-86FA-400D-89D3-03512FA6B5C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6" name=""/>
          <p:cNvSpPr txBox="1"/>
          <p:nvPr/>
        </p:nvSpPr>
        <p:spPr>
          <a:xfrm>
            <a:off x="799920" y="1962000"/>
            <a:ext cx="7692840" cy="418176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Health care and health insurance are some of the most controversial topics in recent years, where the right of every citizen to have access to health care in his country, it is one of the most important pillars of society and the fundamental basis for stability. </a:t>
            </a:r>
            <a:endParaRPr b="0" lang="en-US" sz="3200" spc="-1" strike="noStrike">
              <a:solidFill>
                <a:srgbClr val="00336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27C1-821A-4FA9-9672-E8C72F90DFB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9" name=""/>
          <p:cNvSpPr txBox="1"/>
          <p:nvPr/>
        </p:nvSpPr>
        <p:spPr>
          <a:xfrm>
            <a:off x="799920" y="1962000"/>
            <a:ext cx="7692840" cy="4610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ost of the countries have extended the concept of health care to include: diagnosis, curative and rehabilitation services for their citizens to preserve the public health within the society’s framework of human developmen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CFE7-23E7-4377-8527-40EAC2A8AFA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12" name=""/>
          <p:cNvSpPr txBox="1"/>
          <p:nvPr/>
        </p:nvSpPr>
        <p:spPr>
          <a:xfrm>
            <a:off x="799920" y="1962000"/>
            <a:ext cx="7692840" cy="461016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600" spc="-1" strike="noStrike">
                <a:solidFill>
                  <a:srgbClr val="003366"/>
                </a:solidFill>
                <a:latin typeface="Arial"/>
              </a:rPr>
              <a:t>The common factors among the best health care systems all over the world is to achieve the following objectives: </a:t>
            </a:r>
            <a:endParaRPr b="0" lang="en-US" sz="36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151F-7421-40D9-AA39-E99CCB59D7F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15" name=""/>
          <p:cNvSpPr txBox="1"/>
          <p:nvPr/>
        </p:nvSpPr>
        <p:spPr>
          <a:xfrm>
            <a:off x="799920" y="1962000"/>
            <a:ext cx="7692840" cy="4610160"/>
          </a:xfrm>
          <a:prstGeom prst="rect">
            <a:avLst/>
          </a:prstGeom>
          <a:noFill/>
          <a:ln w="0">
            <a:noFill/>
          </a:ln>
        </p:spPr>
        <p:txBody>
          <a:bodyPr anchor="t">
            <a:normAutofit fontScale="79000"/>
          </a:bodyPr>
          <a:p>
            <a:pPr marL="406080" indent="-406080" algn="just">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Fully comprehensive coverage for all citizens.</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Fair coverage for all citizens. </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able cost of coverage for both: the state and citizens. </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health coverage based on scientific tools. </a:t>
            </a:r>
            <a:br>
              <a:rPr sz="3600"/>
            </a:br>
            <a:br>
              <a:rPr sz="3600"/>
            </a:br>
            <a:br>
              <a:rPr sz="3600"/>
            </a:br>
            <a:r>
              <a:rPr b="0" lang="en-US" sz="3600" spc="-1" strike="noStrike">
                <a:solidFill>
                  <a:srgbClr val="003366"/>
                </a:solidFill>
                <a:latin typeface="Arial"/>
              </a:rPr>
              <a:t> </a:t>
            </a:r>
            <a:endParaRPr b="0" lang="en-US" sz="3600" spc="-1" strike="noStrike">
              <a:solidFill>
                <a:srgbClr val="003366"/>
              </a:solidFill>
              <a:latin typeface="Arial"/>
            </a:endParaRPr>
          </a:p>
          <a:p>
            <a:pPr marL="406080" indent="-406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406080" indent="-406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06080" indent="-406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1E08-6517-4053-A208-3037BB5CA9C9}"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18" name=""/>
          <p:cNvSpPr txBox="1"/>
          <p:nvPr/>
        </p:nvSpPr>
        <p:spPr>
          <a:xfrm>
            <a:off x="800280" y="2166480"/>
            <a:ext cx="7410240" cy="4100760"/>
          </a:xfrm>
          <a:prstGeom prst="rect">
            <a:avLst/>
          </a:prstGeom>
          <a:noFill/>
          <a:ln w="0">
            <a:noFill/>
          </a:ln>
        </p:spPr>
        <p:txBody>
          <a:bodyPr lIns="92160" rIns="92160" tIns="46080" bIns="46080" anchor="t">
            <a:normAutofit fontScale="99000"/>
          </a:bodyPr>
          <a:p>
            <a:pPr marL="339480" indent="-3394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1" lang="en-US" sz="3200" spc="-1" strike="noStrike">
                <a:solidFill>
                  <a:srgbClr val="003366"/>
                </a:solidFill>
                <a:latin typeface="Arial"/>
              </a:rPr>
              <a:t>Health insurance</a:t>
            </a:r>
            <a:r>
              <a:rPr b="0" lang="en-US" sz="3200" spc="-1" strike="noStrike">
                <a:solidFill>
                  <a:srgbClr val="003366"/>
                </a:solidFill>
                <a:latin typeface="Arial"/>
              </a:rPr>
              <a:t> is </a:t>
            </a:r>
            <a:r>
              <a:rPr b="0" lang="en-US" sz="3200" spc="-1" strike="noStrike" u="sng">
                <a:solidFill>
                  <a:srgbClr val="003366"/>
                </a:solidFill>
                <a:uFillTx/>
                <a:latin typeface="Arial"/>
                <a:hlinkClick r:id="rId1"/>
              </a:rPr>
              <a:t>insurance</a:t>
            </a:r>
            <a:r>
              <a:rPr b="0" lang="en-US" sz="3200" spc="-1" strike="noStrike">
                <a:solidFill>
                  <a:srgbClr val="003366"/>
                </a:solidFill>
                <a:latin typeface="Arial"/>
              </a:rPr>
              <a:t> against the risk of incurring </a:t>
            </a:r>
            <a:r>
              <a:rPr b="0" lang="en-US" sz="3200" spc="-1" strike="noStrike" u="sng">
                <a:solidFill>
                  <a:srgbClr val="003366"/>
                </a:solidFill>
                <a:uFillTx/>
                <a:latin typeface="Arial"/>
                <a:hlinkClick r:id="rId2"/>
              </a:rPr>
              <a:t>medical expenses</a:t>
            </a:r>
            <a:r>
              <a:rPr b="0" lang="en-US" sz="3200" spc="-1" strike="noStrike">
                <a:solidFill>
                  <a:srgbClr val="003366"/>
                </a:solidFill>
                <a:latin typeface="Arial"/>
              </a:rPr>
              <a:t> among individuals. By estimating the overall risk of </a:t>
            </a:r>
            <a:r>
              <a:rPr b="0" lang="en-US" sz="3200" spc="-1" strike="noStrike" u="sng">
                <a:solidFill>
                  <a:srgbClr val="003366"/>
                </a:solidFill>
                <a:uFillTx/>
                <a:latin typeface="Arial"/>
                <a:hlinkClick r:id="rId3"/>
              </a:rPr>
              <a:t>health care</a:t>
            </a:r>
            <a:r>
              <a:rPr b="0" lang="en-US" sz="3200" spc="-1" strike="noStrike">
                <a:solidFill>
                  <a:srgbClr val="003366"/>
                </a:solidFill>
                <a:latin typeface="Arial"/>
              </a:rPr>
              <a:t> and </a:t>
            </a:r>
            <a:r>
              <a:rPr b="0" lang="en-US" sz="3200" spc="-1" strike="noStrike" u="sng">
                <a:solidFill>
                  <a:srgbClr val="003366"/>
                </a:solidFill>
                <a:uFillTx/>
                <a:latin typeface="Arial"/>
              </a:rPr>
              <a:t>health system</a:t>
            </a:r>
            <a:r>
              <a:rPr b="0" lang="en-US" sz="3200" spc="-1" strike="noStrike">
                <a:solidFill>
                  <a:srgbClr val="003366"/>
                </a:solidFill>
                <a:latin typeface="Arial"/>
              </a:rPr>
              <a:t> expenses, among a targeted group, </a:t>
            </a:r>
            <a:r>
              <a:rPr b="0" lang="en-US" sz="3600" spc="-1" strike="noStrike">
                <a:solidFill>
                  <a:srgbClr val="003366"/>
                </a:solidFill>
                <a:latin typeface="Arial"/>
              </a:rPr>
              <a:t>an insurer can develop a routine finance structure, </a:t>
            </a:r>
            <a:endParaRPr b="0" lang="en-US" sz="36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6A06-6CBB-4AB6-A091-1B13726CA57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22" name=""/>
          <p:cNvSpPr txBox="1"/>
          <p:nvPr/>
        </p:nvSpPr>
        <p:spPr>
          <a:xfrm>
            <a:off x="800280" y="2166480"/>
            <a:ext cx="7410240" cy="232884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such as a monthly premium or payroll tax, to ensure that money is available to pay for the health care benefits specified in the insurance agreement. </a:t>
            </a:r>
            <a:endParaRPr b="0" lang="en-US" sz="3200" spc="-1" strike="noStrike">
              <a:solidFill>
                <a:srgbClr val="003366"/>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6E28-D9BB-42E2-AB70-637F8DD9F7A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26" name=""/>
          <p:cNvSpPr txBox="1"/>
          <p:nvPr/>
        </p:nvSpPr>
        <p:spPr>
          <a:xfrm>
            <a:off x="800280" y="2166480"/>
            <a:ext cx="7410240" cy="33958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The benefit is administered by a central organization such as a government agency, private business, or not-for-profit entity. </a:t>
            </a:r>
            <a:endParaRPr b="0" lang="en-US" sz="32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7D7D-6290-4CF8-955E-8E05E8B2ED3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2-10T05:39:21Z</dcterms:modified>
  <cp:revision>136</cp:revision>
  <dc:subject>What is Statistics</dc:subject>
  <dc:title>Chapter 1</dc:title>
</cp:coreProperties>
</file>