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2B19-A37B-4502-9AFA-B532148201C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FCBE-9329-40F7-BB44-3BDC5468E26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311A-0971-466C-9C56-EA671EDDE54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D4D0-35FF-471A-8AFD-F07EBD30C8D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70C1-BF68-486A-A582-AB534E981C9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D5A6-467B-4BBF-AE23-2B99F058437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33E6-17B8-42F5-B31A-FD3B269F96B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1B050-458F-4B3A-B9A4-2F842FE28CC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E2E7-1A08-4285-9B1D-A81800E8D85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0221-75AA-4526-B9DA-844F8F2BB51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E488-9FEB-4E11-BA10-BD5A0FAB3FC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1ED0-59FD-4B64-A0C1-C3F04B68D93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9BDD-9721-4097-913F-6BA44D11E64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42B9-C915-43C4-8D46-14EF3A68395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EB14-71C2-4C9D-A640-E4B71D7CA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95C3-E87B-4EA8-A637-8954B723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F8B1-C333-45FB-8823-98758530F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114D-AC70-4F5D-B1B4-95584E5BB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1841-972A-48A2-BA3E-B92159C3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42CA-F62E-4F50-879E-C8A17480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6454-AE7C-449E-8DBD-98C61D24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C86F-9D67-4F5C-9B18-9A12CCED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A383-EAEC-4079-B405-C7BB15EC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CFA5-5B20-437D-98FB-ECDD633C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6598-18BC-49F6-A8E7-69D5C633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07B1-A86E-46A5-96D8-A0449068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D478-8D25-460A-8053-D12D2AA370A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3982-19DA-4149-A9BD-1312B0B5808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2057400" y="15228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5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ges 96 - 1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8"/>
          <p:cNvGrpSpPr/>
          <p:nvPr/>
        </p:nvGrpSpPr>
        <p:grpSpPr>
          <a:xfrm>
            <a:off x="0" y="0"/>
            <a:ext cx="9144000" cy="6788160"/>
            <a:chOff x="0" y="0"/>
            <a:chExt cx="9144000" cy="6788160"/>
          </a:xfrm>
        </p:grpSpPr>
        <p:sp>
          <p:nvSpPr>
            <p:cNvPr id="52" name="Rectangle 5"/>
            <p:cNvSpPr/>
            <p:nvPr/>
          </p:nvSpPr>
          <p:spPr>
            <a:xfrm>
              <a:off x="0" y="0"/>
              <a:ext cx="9144000" cy="15238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ff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6" descr=""/>
            <p:cNvPicPr/>
            <p:nvPr/>
          </p:nvPicPr>
          <p:blipFill>
            <a:blip r:embed="rId1"/>
            <a:stretch/>
          </p:blipFill>
          <p:spPr>
            <a:xfrm>
              <a:off x="7729560" y="12600"/>
              <a:ext cx="126216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7" descr=""/>
            <p:cNvPicPr/>
            <p:nvPr/>
          </p:nvPicPr>
          <p:blipFill>
            <a:blip r:embed="rId2"/>
            <a:stretch/>
          </p:blipFill>
          <p:spPr>
            <a:xfrm>
              <a:off x="76320" y="81000"/>
              <a:ext cx="1752480" cy="13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2" descr=""/>
            <p:cNvPicPr/>
            <p:nvPr/>
          </p:nvPicPr>
          <p:blipFill>
            <a:blip r:embed="rId3"/>
            <a:srcRect l="4303" t="21667" r="9999" b="21667"/>
            <a:stretch/>
          </p:blipFill>
          <p:spPr>
            <a:xfrm>
              <a:off x="76320" y="4038480"/>
              <a:ext cx="8991360" cy="2749680"/>
            </a:xfrm>
            <a:prstGeom prst="rect">
              <a:avLst/>
            </a:prstGeom>
            <a:ln w="19080">
              <a:solidFill>
                <a:srgbClr val="ff0000"/>
              </a:solidFill>
              <a:miter/>
            </a:ln>
          </p:spPr>
        </p:pic>
        <p:sp>
          <p:nvSpPr>
            <p:cNvPr id="56" name="Text Box 13"/>
            <p:cNvSpPr/>
            <p:nvPr/>
          </p:nvSpPr>
          <p:spPr>
            <a:xfrm>
              <a:off x="2743200" y="76320"/>
              <a:ext cx="38862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CHAPTER 6</a:t>
              </a:r>
              <a:br>
                <a:rPr sz="2800"/>
              </a:b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 AN INTRODUCTION                                      TO METABOLIS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4"/>
            <p:cNvSpPr/>
            <p:nvPr/>
          </p:nvSpPr>
          <p:spPr>
            <a:xfrm>
              <a:off x="228600" y="1690560"/>
              <a:ext cx="876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Section B: Enzym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15"/>
            <p:cNvSpPr/>
            <p:nvPr/>
          </p:nvSpPr>
          <p:spPr>
            <a:xfrm>
              <a:off x="228600" y="2209680"/>
              <a:ext cx="876312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25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nzymes speed up metabolic reactions by lowering energy barr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25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nzymes are substrate specif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25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.  The active site in an enzyme’s catalytic ce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25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.  A cell’s physical and chemical environment affects enzyme activ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7"/>
            <p:cNvSpPr/>
            <p:nvPr/>
          </p:nvSpPr>
          <p:spPr>
            <a:xfrm>
              <a:off x="76320" y="1600200"/>
              <a:ext cx="8991360" cy="23623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9780-537A-4E02-97FA-57AA0A1EE70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304920" y="12193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- The substrate binds to the active cite of enzy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380880" y="190512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- This forms an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Enzyme-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ubstrat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mplex 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vi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ak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hydrogen bond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380880" y="295596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- The active cite catalyses the conversion of the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substrate to final products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iginal component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 by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breaking bo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380880" y="42670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- The resulting products release from the enzy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380880" y="48769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5- The enzyme starts another reaction over and over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380880" y="573084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6- Thus, the enzyme can have a huge metabolic effects in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the catalytic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1066680" y="1522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Catalytic Cycle of Enzy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1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A5F0-0652-4483-A9DA-5EE4A6894BD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76320" y="511200"/>
            <a:ext cx="8991360" cy="55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ingle enzyme molecule can catalyze thousands or more reactions a seco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are unaffected by the reaction and are reusabl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عاد استخدامه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metabolic enzym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نزيمات الأيض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catalyze a reaction in both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rwa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ver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ctual direction depends on the relative concentrations of products and react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zymes catalyze reactions in the direction of equilibrium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عاد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s lower activation energy and speed a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ate that a specific number of enzymes converts substrates to products depends in part on substrate concent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some substrate concentrations, the active sites on all enzymes are engag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شغول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alled enzyme satur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تشبع الإنزيم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9BA0-0C3B-4E62-B2DF-CD1015D868D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rcRect l="0" t="0" r="0" b="51124"/>
          <a:stretch/>
        </p:blipFill>
        <p:spPr>
          <a:xfrm>
            <a:off x="4724280" y="2971800"/>
            <a:ext cx="4419720" cy="3352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686800" cy="12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s in shape influence the reaction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conditions lead to the most active conformation and lead to optimal rate of reaction. These factors are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837720" y="759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ellular factors affecting enzym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76320" y="2895480"/>
            <a:ext cx="4876560" cy="33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emperatur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a major impact on reaction r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temperature increases, reaction between substrate and active sites occur fa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ever, at some point thermal increase begins to denature the subst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ch enzyme has a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optimal tempera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درجة حرارة مُثل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6501960" y="6477120"/>
            <a:ext cx="1570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6.16a, Page 1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EDF6-1BF0-48D6-8CAF-11A14C0E944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"/>
          <p:cNvPicPr/>
          <p:nvPr/>
        </p:nvPicPr>
        <p:blipFill>
          <a:blip r:embed="rId1"/>
          <a:srcRect l="0" t="0" r="0" b="51124"/>
          <a:stretch/>
        </p:blipFill>
        <p:spPr>
          <a:xfrm>
            <a:off x="4724280" y="2971800"/>
            <a:ext cx="4419720" cy="33526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686800" cy="12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s in shape influence the reaction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conditions lead to the most active conformation and lead to optimal rate of reaction. These factors are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837720" y="759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)-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ellular factors affecting enzym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5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76320" y="2895480"/>
            <a:ext cx="4876560" cy="33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emperatur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a major impact on reaction r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temperature increases, reaction between substrate and active sites occur fas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ever, at some point thermal increase begins to denature the subst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ch enzyme has a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optimal tempera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  <a:cs typeface="Arial"/>
              </a:rPr>
              <a:t>درجة حرارة مُثل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6501960" y="6477120"/>
            <a:ext cx="1570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6.16a, Page 1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2127-1EC0-4D96-90B1-A4161486B97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304920" y="4168800"/>
            <a:ext cx="8610480" cy="22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3. Cofacto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enzym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عوامل المساع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non-protein helpers for catalytic activity of enzymes. They bind permanently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دائم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the enzyme and include two typ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a)- Inorgan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cofactors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clu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zinc, iron, and copp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)- Organic cofact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includ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vitam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molecules deriv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from vitam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560" y="1041120"/>
            <a:ext cx="838188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2. p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so influences the reaction rate, each enzyme has an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optimal p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alls between pH 6 - 8 for most enzy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ever, digestive enzymes in the                                                 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oma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designed to work best                                                              at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ile those in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est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are optimal at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 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both matching                                                                    their working environ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9"/>
          <p:cNvGrpSpPr/>
          <p:nvPr/>
        </p:nvGrpSpPr>
        <p:grpSpPr>
          <a:xfrm>
            <a:off x="4800600" y="1905120"/>
            <a:ext cx="4165920" cy="2425320"/>
            <a:chOff x="4800600" y="1905120"/>
            <a:chExt cx="4165920" cy="2425320"/>
          </a:xfrm>
        </p:grpSpPr>
        <p:pic>
          <p:nvPicPr>
            <p:cNvPr id="180" name="Picture 4" descr=""/>
            <p:cNvPicPr/>
            <p:nvPr/>
          </p:nvPicPr>
          <p:blipFill>
            <a:blip r:embed="rId1"/>
            <a:srcRect l="0" t="50129" r="0" b="3219"/>
            <a:stretch/>
          </p:blipFill>
          <p:spPr>
            <a:xfrm>
              <a:off x="4800600" y="1905120"/>
              <a:ext cx="411480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Rectangle 5"/>
            <p:cNvSpPr/>
            <p:nvPr/>
          </p:nvSpPr>
          <p:spPr>
            <a:xfrm>
              <a:off x="7395840" y="4038480"/>
              <a:ext cx="1570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Fig. 6.16b, page 1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Line 8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9218-838F-4AEB-B65B-A4572FC336B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920" y="990720"/>
            <a:ext cx="8534160" cy="19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are molecules that prevent enzymes from catalyzing rea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hy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valently bi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ith enzyme, inhibition is irreversibl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غير منعك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binding is weak, inhibition may be reversibl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ُنعك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the inhibitor binds 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e same site as the substr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then it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etitive inhibi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ثبيط تنافس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rcRect l="0" t="0" r="0" b="68252"/>
          <a:stretch/>
        </p:blipFill>
        <p:spPr>
          <a:xfrm>
            <a:off x="152280" y="2776680"/>
            <a:ext cx="4419720" cy="19810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5"/>
          <p:cNvSpPr/>
          <p:nvPr/>
        </p:nvSpPr>
        <p:spPr>
          <a:xfrm>
            <a:off x="0" y="6537240"/>
            <a:ext cx="2438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6.17a, b &amp; c, Page 10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"/>
          <p:cNvPicPr/>
          <p:nvPr/>
        </p:nvPicPr>
        <p:blipFill>
          <a:blip r:embed="rId2"/>
          <a:srcRect l="0" t="31754" r="0" b="37468"/>
          <a:stretch/>
        </p:blipFill>
        <p:spPr>
          <a:xfrm>
            <a:off x="4572000" y="2776680"/>
            <a:ext cx="4419720" cy="19206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7"/>
          <p:cNvSpPr/>
          <p:nvPr/>
        </p:nvSpPr>
        <p:spPr>
          <a:xfrm>
            <a:off x="1295280" y="15228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B- Enzyme inhibitors: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مُـثبطات الإنزيم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>
            <a:off x="152280" y="7621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9" descr=""/>
          <p:cNvPicPr/>
          <p:nvPr/>
        </p:nvPicPr>
        <p:blipFill>
          <a:blip r:embed="rId3"/>
          <a:srcRect l="0" t="62690" r="0" b="3118"/>
          <a:stretch/>
        </p:blipFill>
        <p:spPr>
          <a:xfrm>
            <a:off x="4952880" y="4681440"/>
            <a:ext cx="4038840" cy="19479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0"/>
          <p:cNvSpPr/>
          <p:nvPr/>
        </p:nvSpPr>
        <p:spPr>
          <a:xfrm>
            <a:off x="304920" y="5089680"/>
            <a:ext cx="472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the inhibitor binds somewher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other than the active site, then i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ncompetitive inhib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D0D9-79AF-4797-9695-F690B4E5CAB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152280" y="763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Enzyme Inhib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838080" y="974880"/>
            <a:ext cx="76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y are certain chemicals that inhibit the action of enzy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380880" y="14922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hibitor attaches either permanently with enzyme by covalent bond (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irreversibl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 or weakly by weak bond (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reversibl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1295280" y="237636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Types of Inhibitors: (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Fig. 6.17, Page 101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380880" y="2909880"/>
            <a:ext cx="7391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- Competitive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at resemble the substrate molecule and thus competes the attach to the active site (blocking the active site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380880" y="3581280"/>
            <a:ext cx="79250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B- Noncompetitive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They do not compete the substrate directly at the active site. Rather, they bind with another part of the enzyme resulting in changing enzyme shape. Finally, deactiv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ـُخمد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active sit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380880" y="464832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The insecticide </a:t>
            </a:r>
            <a:r>
              <a:rPr b="1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DDT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 is inhibitor for key enzymes of nervous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380880" y="510552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Many antibiotics (e.g. </a:t>
            </a:r>
            <a:r>
              <a:rPr b="1" lang="en-GB" sz="2000" spc="-1" strike="noStrike" u="sng">
                <a:solidFill>
                  <a:srgbClr val="0000ff"/>
                </a:solidFill>
                <a:uFillTx/>
                <a:latin typeface="Arial"/>
              </a:rPr>
              <a:t>Penicillin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) inhibits enzymes that help bacteria to make their cell wa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2"/>
          <p:cNvSpPr/>
          <p:nvPr/>
        </p:nvSpPr>
        <p:spPr>
          <a:xfrm>
            <a:off x="1447920" y="5927760"/>
            <a:ext cx="66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ctivation and inhibition of enzymes are essential                        for metabolic contr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4"/>
          <p:cNvSpPr/>
          <p:nvPr/>
        </p:nvSpPr>
        <p:spPr>
          <a:xfrm>
            <a:off x="152280" y="7621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5020-54B3-4372-8496-455237E10DF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655344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Hydrolysis of sucrose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ble sugar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990720" y="13096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20"/>
          <p:cNvGrpSpPr/>
          <p:nvPr/>
        </p:nvGrpSpPr>
        <p:grpSpPr>
          <a:xfrm>
            <a:off x="3809880" y="1066680"/>
            <a:ext cx="4267440" cy="667080"/>
            <a:chOff x="3809880" y="1066680"/>
            <a:chExt cx="4267440" cy="667080"/>
          </a:xfrm>
        </p:grpSpPr>
        <p:sp>
          <p:nvSpPr>
            <p:cNvPr id="64" name="Text Box 7"/>
            <p:cNvSpPr/>
            <p:nvPr/>
          </p:nvSpPr>
          <p:spPr>
            <a:xfrm>
              <a:off x="6705720" y="13348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Sucr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"/>
            <p:cNvGrpSpPr/>
            <p:nvPr/>
          </p:nvGrpSpPr>
          <p:grpSpPr>
            <a:xfrm>
              <a:off x="3809880" y="1066680"/>
              <a:ext cx="2743200" cy="623880"/>
              <a:chOff x="3809880" y="1066680"/>
              <a:chExt cx="2743200" cy="623880"/>
            </a:xfrm>
          </p:grpSpPr>
          <p:sp>
            <p:nvSpPr>
              <p:cNvPr id="66" name="AutoShape 6"/>
              <p:cNvSpPr/>
              <p:nvPr/>
            </p:nvSpPr>
            <p:spPr>
              <a:xfrm>
                <a:off x="3809880" y="1385640"/>
                <a:ext cx="2743200" cy="304920"/>
              </a:xfrm>
              <a:prstGeom prst="rightArrow">
                <a:avLst>
                  <a:gd name="adj1" fmla="val 50000"/>
                  <a:gd name="adj2" fmla="val 224911"/>
                </a:avLst>
              </a:prstGeom>
              <a:solidFill>
                <a:srgbClr val="ff0000"/>
              </a:solidFill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Text Box 8"/>
              <p:cNvSpPr/>
              <p:nvPr/>
            </p:nvSpPr>
            <p:spPr>
              <a:xfrm>
                <a:off x="4191120" y="106668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ff"/>
                    </a:solidFill>
                    <a:latin typeface="Arial"/>
                  </a:rPr>
                  <a:t>Dehydr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" name="Group 21"/>
          <p:cNvGrpSpPr/>
          <p:nvPr/>
        </p:nvGrpSpPr>
        <p:grpSpPr>
          <a:xfrm>
            <a:off x="3733920" y="1523880"/>
            <a:ext cx="4266720" cy="1892160"/>
            <a:chOff x="3733920" y="1523880"/>
            <a:chExt cx="4266720" cy="1892160"/>
          </a:xfrm>
        </p:grpSpPr>
        <p:sp>
          <p:nvSpPr>
            <p:cNvPr id="69" name="Line 12"/>
            <p:cNvSpPr/>
            <p:nvPr/>
          </p:nvSpPr>
          <p:spPr>
            <a:xfrm>
              <a:off x="8000640" y="1523880"/>
              <a:ext cx="0" cy="1447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3"/>
            <p:cNvSpPr/>
            <p:nvPr/>
          </p:nvSpPr>
          <p:spPr>
            <a:xfrm flipH="1">
              <a:off x="3733920" y="2971800"/>
              <a:ext cx="4266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15"/>
            <p:cNvSpPr/>
            <p:nvPr/>
          </p:nvSpPr>
          <p:spPr>
            <a:xfrm>
              <a:off x="5367960" y="2604960"/>
              <a:ext cx="1906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Arial"/>
                </a:rPr>
                <a:t>Hydration </a:t>
              </a:r>
              <a:r>
                <a:rPr b="1" lang="en-GB" sz="1800" spc="-1" strike="noStrike">
                  <a:solidFill>
                    <a:srgbClr val="990000"/>
                  </a:solidFill>
                  <a:latin typeface="Arial"/>
                </a:rPr>
                <a:t>(H</a:t>
              </a:r>
              <a:r>
                <a:rPr b="1" lang="en-GB" sz="1800" spc="-1" strike="noStrike" baseline="-25000">
                  <a:solidFill>
                    <a:srgbClr val="990000"/>
                  </a:solidFill>
                  <a:latin typeface="Arial"/>
                </a:rPr>
                <a:t>2</a:t>
              </a:r>
              <a:r>
                <a:rPr b="1" lang="en-GB" sz="1800" spc="-1" strike="noStrike">
                  <a:solidFill>
                    <a:srgbClr val="990000"/>
                  </a:solidFill>
                  <a:latin typeface="Arial"/>
                </a:rPr>
                <a:t>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6"/>
            <p:cNvSpPr/>
            <p:nvPr/>
          </p:nvSpPr>
          <p:spPr>
            <a:xfrm>
              <a:off x="5277240" y="2895480"/>
              <a:ext cx="190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Arial"/>
                </a:rPr>
                <a:t>Sucra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 Box 17"/>
          <p:cNvSpPr/>
          <p:nvPr/>
        </p:nvSpPr>
        <p:spPr>
          <a:xfrm>
            <a:off x="1066680" y="274320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lucose + Fruct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8"/>
          <p:cNvSpPr/>
          <p:nvPr/>
        </p:nvSpPr>
        <p:spPr>
          <a:xfrm>
            <a:off x="304920" y="3505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ydrolysis of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sucro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n the presence of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Sucra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results in its two monosaccharide compon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2"/>
          <p:cNvSpPr/>
          <p:nvPr/>
        </p:nvSpPr>
        <p:spPr>
          <a:xfrm>
            <a:off x="228600" y="45720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is proces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3"/>
          <p:cNvSpPr/>
          <p:nvPr/>
        </p:nvSpPr>
        <p:spPr>
          <a:xfrm>
            <a:off x="609480" y="518148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- breaking the bond between Glucose and Fructo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609480" y="565308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- Then, forming new bonds with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OH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from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6"/>
          <p:cNvSpPr/>
          <p:nvPr/>
        </p:nvSpPr>
        <p:spPr>
          <a:xfrm>
            <a:off x="609480" y="6172200"/>
            <a:ext cx="800100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his process consumes energy (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Activation Energy;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GB" sz="18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7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DE15-3557-483C-9DDF-B3A32C90CEA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28600" y="1274760"/>
            <a:ext cx="8763120" cy="25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taly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ُحف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chemical agent that changes the rate of a reaction without being consumed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دون أن يُستهل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 enzyme is a catalytic prot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mical reactions between molecules involve bo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nd break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ond form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o hydrolyz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ydra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ucros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the bond between glucose and fructose must be broken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vi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hydrolysis in the presence of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ucras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 catalyst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75960" y="15192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zymes speed up metabolic reactions by lowering energy barrier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حواجز الطاق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5"/>
          <a:srcRect l="0" t="6429" r="1751" b="12593"/>
          <a:stretch/>
        </p:blipFill>
        <p:spPr>
          <a:xfrm>
            <a:off x="152280" y="4132440"/>
            <a:ext cx="8915400" cy="19634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/>
          <p:cNvSpPr/>
          <p:nvPr/>
        </p:nvSpPr>
        <p:spPr>
          <a:xfrm>
            <a:off x="80280" y="6485040"/>
            <a:ext cx="1406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6.11, Page 9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3966120" y="4435560"/>
            <a:ext cx="1118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Sucra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DC10-3552-41C0-AA66-AE50724689A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04920" y="3438360"/>
            <a:ext cx="8534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atalyst</a:t>
            </a:r>
            <a:r>
              <a:rPr b="1" lang="en-GB" sz="2400" spc="-1" strike="noStrike" u="sng">
                <a:solidFill>
                  <a:srgbClr val="990000"/>
                </a:solidFill>
                <a:uFillTx/>
                <a:latin typeface="Arial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is a chemical agent that accelerate the reaction without being consumed by the re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1295280" y="4516560"/>
            <a:ext cx="6019920" cy="581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nzyme is a </a:t>
            </a:r>
            <a:r>
              <a:rPr b="1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catalytic protein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304920" y="1143000"/>
            <a:ext cx="86104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Activation Energy: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is the amount of energy needed for the reaction (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tween enzyme &amp; substrate)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 complete (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break the bond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304920" y="2057400"/>
            <a:ext cx="8686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ising the temperature for these reactions to complete will either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denatur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he compounds or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kil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the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304920" y="2895480"/>
            <a:ext cx="8229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us, organisms must therefore use a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catalys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عامل محفز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1600200" y="7632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Enzymes and Activation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380880" y="5419800"/>
            <a:ext cx="83822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zyme is a specific catalyst for specific reactants at any time in the cell (</a:t>
            </a: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e.g. Sucrase for only Sucro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2"/>
          <p:cNvSpPr/>
          <p:nvPr/>
        </p:nvSpPr>
        <p:spPr>
          <a:xfrm>
            <a:off x="152280" y="9144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5710-BD3A-4B27-8080-B02E859D189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1"/>
          <a:srcRect l="0" t="0" r="0" b="5249"/>
          <a:stretch/>
        </p:blipFill>
        <p:spPr>
          <a:xfrm>
            <a:off x="5105520" y="4129200"/>
            <a:ext cx="3962160" cy="26524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4"/>
          <p:cNvSpPr/>
          <p:nvPr/>
        </p:nvSpPr>
        <p:spPr>
          <a:xfrm>
            <a:off x="3960" y="6477120"/>
            <a:ext cx="1406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6.12, Page 9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2"/>
          <a:srcRect l="0" t="0" r="0" b="3357"/>
          <a:stretch/>
        </p:blipFill>
        <p:spPr>
          <a:xfrm>
            <a:off x="5410080" y="685800"/>
            <a:ext cx="3581640" cy="31622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320" y="228600"/>
            <a:ext cx="8534160" cy="52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ctivation ener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he amount of energy necessary to push the reactants over an energy barr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the transition state, the molecules                                                     are at an unstable 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ifference between free energy                                                 of the products and the free energy                                             of the reactants is the delta 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zyme speed reactions by                                                    lowering 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The transition                                                               state can then be reached                                                        even at moderate temperatu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12F9-BD93-4E6D-A0B0-9101C35A7A6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51920" y="914040"/>
            <a:ext cx="8915400" cy="198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bstrat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ادة المطلوب هضمها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reactant which binds to an enzy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 substrate binds to an enzyme, the enzyme catalyze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سه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nvers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حوي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substrate to the produc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كوناتها البنائ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cra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taly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an enzyme that binds to sucro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ubstr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nd breaks the disaccharide into fructose and gluco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odu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Enzymes are substrate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152280" y="7621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457200" y="3289320"/>
            <a:ext cx="25146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8"/>
          <p:cNvGrpSpPr/>
          <p:nvPr/>
        </p:nvGrpSpPr>
        <p:grpSpPr>
          <a:xfrm>
            <a:off x="6019920" y="3213000"/>
            <a:ext cx="2666880" cy="838080"/>
            <a:chOff x="6019920" y="3213000"/>
            <a:chExt cx="2666880" cy="838080"/>
          </a:xfrm>
        </p:grpSpPr>
        <p:sp>
          <p:nvSpPr>
            <p:cNvPr id="107" name="Oval 9"/>
            <p:cNvSpPr/>
            <p:nvPr/>
          </p:nvSpPr>
          <p:spPr>
            <a:xfrm>
              <a:off x="6019920" y="3213000"/>
              <a:ext cx="1371600" cy="8380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101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0"/>
            <p:cNvSpPr/>
            <p:nvPr/>
          </p:nvSpPr>
          <p:spPr>
            <a:xfrm>
              <a:off x="7315200" y="3213000"/>
              <a:ext cx="1371600" cy="8380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61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 Box 11"/>
          <p:cNvSpPr/>
          <p:nvPr/>
        </p:nvSpPr>
        <p:spPr>
          <a:xfrm>
            <a:off x="6324480" y="336564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Product 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2"/>
          <p:cNvGrpSpPr/>
          <p:nvPr/>
        </p:nvGrpSpPr>
        <p:grpSpPr>
          <a:xfrm>
            <a:off x="3124080" y="3124080"/>
            <a:ext cx="2743200" cy="698400"/>
            <a:chOff x="3124080" y="3124080"/>
            <a:chExt cx="2743200" cy="698400"/>
          </a:xfrm>
        </p:grpSpPr>
        <p:sp>
          <p:nvSpPr>
            <p:cNvPr id="111" name="AutoShape 13"/>
            <p:cNvSpPr/>
            <p:nvPr/>
          </p:nvSpPr>
          <p:spPr>
            <a:xfrm>
              <a:off x="3124080" y="3441600"/>
              <a:ext cx="2743200" cy="380880"/>
            </a:xfrm>
            <a:prstGeom prst="rightArrow">
              <a:avLst>
                <a:gd name="adj1" fmla="val 50000"/>
                <a:gd name="adj2" fmla="val 180057"/>
              </a:avLst>
            </a:pr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4"/>
            <p:cNvSpPr/>
            <p:nvPr/>
          </p:nvSpPr>
          <p:spPr>
            <a:xfrm>
              <a:off x="3124080" y="312408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Enzyme (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 catalyst</a:t>
              </a:r>
              <a:r>
                <a:rPr b="1" lang="en-GB" sz="1800" spc="-1" strike="noStrike">
                  <a:solidFill>
                    <a:srgbClr val="ff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15"/>
          <p:cNvGrpSpPr/>
          <p:nvPr/>
        </p:nvGrpSpPr>
        <p:grpSpPr>
          <a:xfrm>
            <a:off x="380880" y="4267080"/>
            <a:ext cx="8458200" cy="814680"/>
            <a:chOff x="380880" y="4267080"/>
            <a:chExt cx="8458200" cy="814680"/>
          </a:xfrm>
        </p:grpSpPr>
        <p:sp>
          <p:nvSpPr>
            <p:cNvPr id="114" name="Text Box 16"/>
            <p:cNvSpPr/>
            <p:nvPr/>
          </p:nvSpPr>
          <p:spPr>
            <a:xfrm>
              <a:off x="380880" y="4571640"/>
              <a:ext cx="251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Sucrose + H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17"/>
            <p:cNvGrpSpPr/>
            <p:nvPr/>
          </p:nvGrpSpPr>
          <p:grpSpPr>
            <a:xfrm>
              <a:off x="2819520" y="4267080"/>
              <a:ext cx="2743200" cy="609480"/>
              <a:chOff x="2819520" y="4267080"/>
              <a:chExt cx="2743200" cy="609480"/>
            </a:xfrm>
          </p:grpSpPr>
          <p:sp>
            <p:nvSpPr>
              <p:cNvPr id="116" name="AutoShape 18"/>
              <p:cNvSpPr/>
              <p:nvPr/>
            </p:nvSpPr>
            <p:spPr>
              <a:xfrm>
                <a:off x="2819520" y="4724280"/>
                <a:ext cx="2743200" cy="152280"/>
              </a:xfrm>
              <a:prstGeom prst="rightArrow">
                <a:avLst>
                  <a:gd name="adj1" fmla="val 50000"/>
                  <a:gd name="adj2" fmla="val 450355"/>
                </a:avLst>
              </a:prstGeom>
              <a:solidFill>
                <a:srgbClr val="99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 Box 19"/>
              <p:cNvSpPr/>
              <p:nvPr/>
            </p:nvSpPr>
            <p:spPr>
              <a:xfrm>
                <a:off x="3124440" y="4267080"/>
                <a:ext cx="1447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ff"/>
                    </a:solidFill>
                    <a:latin typeface="Arial"/>
                  </a:rPr>
                  <a:t>Sucras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Text Box 20"/>
            <p:cNvSpPr/>
            <p:nvPr/>
          </p:nvSpPr>
          <p:spPr>
            <a:xfrm>
              <a:off x="5715000" y="453384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Glucose + Fructo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21"/>
          <p:cNvSpPr/>
          <p:nvPr/>
        </p:nvSpPr>
        <p:spPr>
          <a:xfrm>
            <a:off x="304920" y="5254560"/>
            <a:ext cx="8610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pecificity of enzym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خصصية الإنزيم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fers to its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ctive Site</a:t>
            </a:r>
            <a:r>
              <a:rPr b="1" lang="en-GB" sz="2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ركز النشط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fit to </a:t>
            </a:r>
            <a:r>
              <a:rPr b="0" lang="ar-EG" sz="1800" spc="-1" strike="noStrike" u="sng">
                <a:solidFill>
                  <a:srgbClr val="000000"/>
                </a:solidFill>
                <a:uFillTx/>
                <a:latin typeface="Arial"/>
              </a:rPr>
              <a:t>يـُناسب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he surfac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of subst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551B-4E79-4002-9513-45447588164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560" y="988560"/>
            <a:ext cx="8381880" cy="21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an enzymes is typically a pocket or groov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جي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the surface of the enzyme into which the substrate f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ecificity of an enzyme is due to the fit between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tive si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at of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ubstr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the substrate binds, the enzyme changes shape 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str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bringing chemical groups in position to catalyze the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4"/>
          <a:srcRect l="4303" t="21667" r="9999" b="21667"/>
          <a:stretch/>
        </p:blipFill>
        <p:spPr>
          <a:xfrm>
            <a:off x="380880" y="3271680"/>
            <a:ext cx="8305920" cy="31370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5"/>
          <p:cNvSpPr/>
          <p:nvPr/>
        </p:nvSpPr>
        <p:spPr>
          <a:xfrm>
            <a:off x="152640" y="6537240"/>
            <a:ext cx="875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6.1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active site is an enzyme’s catalytic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152280" y="7621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ABBC-7487-4B24-91EE-4CF6FA057CA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rcRect l="0" t="0" r="0" b="3155"/>
          <a:stretch/>
        </p:blipFill>
        <p:spPr>
          <a:xfrm>
            <a:off x="1371600" y="555480"/>
            <a:ext cx="6858000" cy="61502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360" y="6400800"/>
            <a:ext cx="875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6.1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76320" y="76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Catalytic Cycle of Enzy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7E1D-AB42-4E11-AFC7-C78C5E6B6ED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04920" y="763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Active site of enzyme and Catalytic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2"/>
          <p:cNvSpPr/>
          <p:nvPr/>
        </p:nvSpPr>
        <p:spPr>
          <a:xfrm>
            <a:off x="2666880" y="2057400"/>
            <a:ext cx="3810240" cy="3048120"/>
          </a:xfrm>
          <a:prstGeom prst="ellipse">
            <a:avLst/>
          </a:prstGeom>
          <a:gradFill rotWithShape="0">
            <a:gsLst>
              <a:gs pos="0">
                <a:srgbClr val="ff00ff"/>
              </a:gs>
              <a:gs pos="100000">
                <a:srgbClr val="99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7"/>
          <p:cNvGrpSpPr/>
          <p:nvPr/>
        </p:nvGrpSpPr>
        <p:grpSpPr>
          <a:xfrm>
            <a:off x="3619440" y="3137040"/>
            <a:ext cx="1676160" cy="685800"/>
            <a:chOff x="3619440" y="3137040"/>
            <a:chExt cx="1676160" cy="685800"/>
          </a:xfrm>
        </p:grpSpPr>
        <p:sp>
          <p:nvSpPr>
            <p:cNvPr id="134" name="AutoShape 18"/>
            <p:cNvSpPr/>
            <p:nvPr/>
          </p:nvSpPr>
          <p:spPr>
            <a:xfrm>
              <a:off x="4609800" y="3137040"/>
              <a:ext cx="685800" cy="6858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9"/>
            <p:cNvSpPr/>
            <p:nvPr/>
          </p:nvSpPr>
          <p:spPr>
            <a:xfrm>
              <a:off x="3619440" y="3137040"/>
              <a:ext cx="685800" cy="6858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20"/>
            <p:cNvSpPr/>
            <p:nvPr/>
          </p:nvSpPr>
          <p:spPr>
            <a:xfrm>
              <a:off x="4305240" y="3365640"/>
              <a:ext cx="30456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16"/>
          <p:cNvGrpSpPr/>
          <p:nvPr/>
        </p:nvGrpSpPr>
        <p:grpSpPr>
          <a:xfrm>
            <a:off x="380880" y="3124080"/>
            <a:ext cx="1676160" cy="685800"/>
            <a:chOff x="380880" y="3124080"/>
            <a:chExt cx="1676160" cy="685800"/>
          </a:xfrm>
        </p:grpSpPr>
        <p:sp>
          <p:nvSpPr>
            <p:cNvPr id="138" name="AutoShape 13"/>
            <p:cNvSpPr/>
            <p:nvPr/>
          </p:nvSpPr>
          <p:spPr>
            <a:xfrm>
              <a:off x="1371240" y="3124080"/>
              <a:ext cx="685800" cy="6858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14"/>
            <p:cNvSpPr/>
            <p:nvPr/>
          </p:nvSpPr>
          <p:spPr>
            <a:xfrm>
              <a:off x="380880" y="3124080"/>
              <a:ext cx="685800" cy="685800"/>
            </a:xfrm>
            <a:prstGeom prst="octagon">
              <a:avLst>
                <a:gd name="adj" fmla="val 29287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5"/>
            <p:cNvSpPr/>
            <p:nvPr/>
          </p:nvSpPr>
          <p:spPr>
            <a:xfrm>
              <a:off x="1066680" y="3352680"/>
              <a:ext cx="304560" cy="228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AutoShape 23"/>
          <p:cNvSpPr/>
          <p:nvPr/>
        </p:nvSpPr>
        <p:spPr>
          <a:xfrm>
            <a:off x="4610160" y="3124080"/>
            <a:ext cx="685800" cy="6858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24"/>
          <p:cNvSpPr/>
          <p:nvPr/>
        </p:nvSpPr>
        <p:spPr>
          <a:xfrm>
            <a:off x="3619440" y="3124080"/>
            <a:ext cx="685800" cy="6858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5"/>
          <p:cNvSpPr/>
          <p:nvPr/>
        </p:nvSpPr>
        <p:spPr>
          <a:xfrm>
            <a:off x="4305240" y="3352680"/>
            <a:ext cx="30492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3657600" y="2057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Suc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380880" y="22096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cr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772400" y="30621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7772400" y="4114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uct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3962520" y="41148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H2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2"/>
          <p:cNvSpPr/>
          <p:nvPr/>
        </p:nvSpPr>
        <p:spPr>
          <a:xfrm>
            <a:off x="152280" y="59436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35834 0.00555 E">
                                      <p:cBhvr>
                                        <p:cTn id="220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55556E-006 L 0.25833 -0.02223 E">
                                      <p:cBhvr>
                                        <p:cTn id="248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36667 0.11111 E">
                                      <p:cBhvr>
                                        <p:cTn id="25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500"/>
                            </p:stCondLst>
                            <p:childTnLst>
                              <p:par>
                                <p:cTn id="2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4:47:08Z</dcterms:created>
  <dc:creator>Ash Ahm</dc:creator>
  <dc:description/>
  <dc:language>en-US</dc:language>
  <cp:lastModifiedBy>Ahmed</cp:lastModifiedBy>
  <dcterms:modified xsi:type="dcterms:W3CDTF">2009-03-03T12:16:59Z</dcterms:modified>
  <cp:revision>202</cp:revision>
  <dc:subject/>
  <dc:title>Enzym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