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4CB-A5AF-461D-8665-FE56633641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B2D-E7F7-4327-84CE-B1FBBA0043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1CE1-BCDB-43E5-9701-9AF8562631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31C-AF9E-4662-B3F9-1F68E5FA5B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79A4-AB2E-4A7D-8D61-BD27F355D9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6F20-79E0-4D85-AF1F-3F84AAE698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21A4-019C-4AD3-9B73-2E8F7999B0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3DEE-032A-406C-B512-6A10C08E0A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1F0E-203E-46A2-BF68-2C95B3473E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7FF8-E393-4F50-852F-7B74ABD165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C436-77A7-4AB0-B4E1-B6A0145F35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86CB-B6E8-432D-811C-0410DB98BA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CFCE-2C60-4E4D-ACC8-AA2407117B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1C1D-A54D-4B6F-8382-4FFD442C41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A43-6F8C-48AB-AFA3-BB438670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D9A-A859-4B64-B67B-0127A031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38C-F8DF-4980-B0A7-C5956A81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FAD-2C7D-4AE1-A904-F7C5D9AA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7D5-3965-4C67-97EF-6EBF4DE7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484-71F0-4257-8840-187F7EB6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5AC-B17E-4E98-A442-FB2ABC5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BF1-93DB-4C9A-B64C-204602A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74B-60DD-4B76-9B5E-E7766DE3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6BA-922A-49EA-AA6D-D7B69D2D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6DE-FC15-4773-BDC3-EA2C252B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99C-5B9A-4E92-932B-4A7133D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A9F0-768D-4FF1-9E07-4BC4DAF7B7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E74E-9EE7-4271-B27F-ADF748C332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0" y="0"/>
            <a:ext cx="9144000" cy="6788160"/>
            <a:chOff x="0" y="0"/>
            <a:chExt cx="9144000" cy="678816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2" descr=""/>
            <p:cNvPicPr/>
            <p:nvPr/>
          </p:nvPicPr>
          <p:blipFill>
            <a:blip r:embed="rId3"/>
            <a:srcRect l="4303" t="21667" r="9999" b="21667"/>
            <a:stretch/>
          </p:blipFill>
          <p:spPr>
            <a:xfrm>
              <a:off x="76320" y="4038480"/>
              <a:ext cx="8991360" cy="27496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56" name="Text Box 13"/>
            <p:cNvSpPr/>
            <p:nvPr/>
          </p:nvSpPr>
          <p:spPr>
            <a:xfrm>
              <a:off x="2743200" y="7632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CHAPTER 6</a:t>
              </a:r>
              <a:br>
                <a:rPr sz="2800"/>
              </a:b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AN INTRODUCTION                                      TO METABOLI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228600" y="169056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ection B: Enzy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228600" y="2209680"/>
              <a:ext cx="87631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zymes speed up metabolic reactions by lowering energy barr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zymes are substrate 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 The active site in an enzyme’s catalytic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.  A cell’s physical and chemical environment affects enzym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76320" y="1600200"/>
              <a:ext cx="8991360" cy="2362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38C7-537E-43DB-9848-A026EF75CF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c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c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80880" y="5730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s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640B-08F9-4A53-9A1B-590D7AB052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DA64-E36D-4542-9E3E-ADA45D3CD5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sub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6501960" y="647712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6a, Page 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9BE-F44C-416A-AB71-2BFBD493DC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7720" y="759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sub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501960" y="647712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6a, Page 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C67-AF9F-4AE2-99C6-FA2EFCBE62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04920" y="4168800"/>
            <a:ext cx="86104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enzy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from vita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104112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800600" y="1905120"/>
            <a:ext cx="4165920" cy="2425320"/>
            <a:chOff x="4800600" y="1905120"/>
            <a:chExt cx="4165920" cy="242532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rcRect l="0" t="50129" r="0" b="3219"/>
            <a:stretch/>
          </p:blipFill>
          <p:spPr>
            <a:xfrm>
              <a:off x="4800600" y="1905120"/>
              <a:ext cx="41148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5"/>
            <p:cNvSpPr/>
            <p:nvPr/>
          </p:nvSpPr>
          <p:spPr>
            <a:xfrm>
              <a:off x="7395840" y="4038480"/>
              <a:ext cx="1570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6.16b, page 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8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ABEE-AB56-4455-8251-6EF023A6F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molecules that prevent enzymes from catalyzing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valently bi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enzyme, inhibition is irreversi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غير منعك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binding is weak, inhibition may be reversi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عك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inhibitor bind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i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etitive inhibi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ثبيط تنافس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776680"/>
            <a:ext cx="4419720" cy="1981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0" y="6537240"/>
            <a:ext cx="243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7a, b &amp; c, Page 1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776680"/>
            <a:ext cx="4419720" cy="19206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295280" y="1522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- Enzyme inhibitors: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ُـثبطات الإنزي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681440"/>
            <a:ext cx="4038840" cy="1947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"/>
          <p:cNvSpPr/>
          <p:nvPr/>
        </p:nvSpPr>
        <p:spPr>
          <a:xfrm>
            <a:off x="304920" y="508968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inhibitor binds somewhe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other than the active site, then i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competitive inhib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EA39-321C-41D7-AB02-C83314FBE3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52280" y="763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38080" y="9748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y are certain chemicals that inhibit the action of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80880" y="149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 attaches either permanently with enzyme by covalent bond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rreversib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or weakly by weak bond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versib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295280" y="2376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Types of Inhibitors: (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Fig. 6.17, Page 101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80880" y="2909880"/>
            <a:ext cx="739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- Competitiv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resemble the substrate molecule and thus competes the attach to the active site (blocking the active si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80880" y="3581280"/>
            <a:ext cx="7925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- Noncompetitiv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y do not compete the substrate directly at the active site. Rather, they bind with another part of the enzyme 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80880" y="46483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is inhibitor for key enzymes of nervous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380880" y="51055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447920" y="592776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ctivation and inhibition of enzymes are essential                        for metabolic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8B08-4BB3-485E-9DFD-442314892D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65534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64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66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9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609480" y="6172200"/>
            <a:ext cx="8001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5EFF-6B37-4F3D-9239-666E9AE4B6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127476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152280" y="4132440"/>
            <a:ext cx="8915400" cy="1963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80280" y="648504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1, Page 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6C3E-DD76-4786-AFE4-2F3BFB4869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04920" y="343836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a chemical agent that accelerate the reaction without being consumed by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95280" y="4516560"/>
            <a:ext cx="601992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04920" y="1143000"/>
            <a:ext cx="8610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the amount of energy needed for the reaction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04920" y="20574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04920" y="28954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600200" y="763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80880" y="5419800"/>
            <a:ext cx="8382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BDC-5F1D-47E9-9C48-F244CD6138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960" y="64771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2, Page 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410080" y="68580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534160" cy="52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of the products and the free energy                                             of the reactants is the delta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 speed reactions by                                                    lowering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The transition                                                               state can then be reached                                                        even at moderate tempera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022-D403-4DFB-9A74-D4931322D7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107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111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14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16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304920" y="5254560"/>
            <a:ext cx="8610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 to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A727-A86D-4A7C-BF9B-109F07E3F4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988560"/>
            <a:ext cx="83818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n enzymes is typically a pocket or groo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271680"/>
            <a:ext cx="8305920" cy="31370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152640" y="653724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6.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1CF0-9B57-48B5-9DF4-63B4D362E9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60" y="64008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6.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3F4A-B723-4CAC-A9C8-C6D4F2527E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04920" y="76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34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38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39625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4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Ahmed</cp:lastModifiedBy>
  <dcterms:modified xsi:type="dcterms:W3CDTF">2009-03-03T12:16:59Z</dcterms:modified>
  <cp:revision>202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