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BE3-50B3-48EF-8B8B-9607B284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DF0-675B-49BF-946A-BD8EF6A3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659E-B46C-4D6C-9024-31D74C31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A27-D870-41C8-9E95-65249BB4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BF5-B382-48E2-99D6-64449F86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C48-8919-4CAE-B0CC-8C3F3CA2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8E7-0CDF-41BC-8D0F-5E01166D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BD3-CB74-42D8-ABC4-A89CCFE1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3D1-6471-4B67-80D6-32274822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D8E-3FC4-4B18-A80E-B3C226AD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67F-9897-4177-9E08-CEAD122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B2A-0B96-4A8B-82A1-B07BC68C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2D78-AE31-4F83-8DA8-D5B3BD79951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nesville.k12.in.us/lcsyellowpages/Tickit/Carl/defpage.html#eukaryotic" TargetMode="External"/><Relationship Id="rId2" Type="http://schemas.openxmlformats.org/officeDocument/2006/relationships/hyperlink" Target="http://www.lanesville.k12.in.us/lcsyellowpages/Tickit/Carl/defpage.html#unicellular" TargetMode="External"/><Relationship Id="rId3" Type="http://schemas.openxmlformats.org/officeDocument/2006/relationships/hyperlink" Target="http://www.lanesville.k12.in.us/lcsyellowpages/Tickit/Carl/defpage.html#multicellular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II.  Kingdom Protist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مملكة الطلائعيات (البروتيست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77864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ar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ukaryotic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have cells with </a:t>
            </a:r>
            <a:r>
              <a:rPr b="1" lang="en-US" sz="2400" spc="-1" strike="noStrike" u="sng">
                <a:solidFill>
                  <a:srgbClr val="3b1cf6"/>
                </a:solidFill>
                <a:uFillTx/>
                <a:latin typeface="Calibri"/>
              </a:rPr>
              <a:t>nuclei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live in moist environme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unicellular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ulticellular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microscopic or over 100 meters long.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ar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heterotroph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others ar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autotroph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684360" y="1341360"/>
            <a:ext cx="7786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جميعها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حقيقية النواة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جميعها الخلايا فيها تحتوي على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الأنوية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جميعها تعيش في بيئات رطبة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الخلايا يمكن أن تكون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أحادي الخلية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أو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متعددة الخلايا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الخلايا يمكن أن تكون مجهرية أو تتعدى أطوالها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100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 متر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بعضها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متغاير التغذية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والبعض الآخر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ذاتي التغذية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ea typeface="Times New Roman"/>
              </a:rPr>
              <a:t>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ubtitle 2"/>
          <p:cNvSpPr/>
          <p:nvPr/>
        </p:nvSpPr>
        <p:spPr>
          <a:xfrm>
            <a:off x="1500120" y="928800"/>
            <a:ext cx="62866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لطلائعيات تصنف إلى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ista that are classified 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14200" y="3286080"/>
            <a:ext cx="40006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طلائعيات الشبيهة بالنبات تسمى </a:t>
            </a:r>
            <a:r>
              <a:rPr b="1" lang="ar-SA" sz="2800" spc="-1" strike="noStrike" u="sng">
                <a:solidFill>
                  <a:srgbClr val="558ed5"/>
                </a:solidFill>
                <a:uFillTx/>
                <a:latin typeface="Calibri"/>
              </a:rPr>
              <a:t>الطحالب الحقيق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-like pro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ed </a:t>
            </a:r>
            <a:r>
              <a:rPr b="1" lang="en-US" sz="3600" spc="-1" strike="noStrike">
                <a:solidFill>
                  <a:srgbClr val="558ed5"/>
                </a:solidFill>
                <a:latin typeface="Calibri"/>
              </a:rPr>
              <a:t>True-alg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4572000" y="3214800"/>
            <a:ext cx="40006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طلائعيات الشبيهة بالحيوان تسمى </a:t>
            </a:r>
            <a:r>
              <a:rPr b="1" lang="ar-SA" sz="3200" spc="-1" strike="noStrike" u="sng">
                <a:solidFill>
                  <a:srgbClr val="558ed5"/>
                </a:solidFill>
                <a:uFillTx/>
                <a:latin typeface="Calibri"/>
              </a:rPr>
              <a:t>الاو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-like pro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7"/>
          <p:cNvCxnSpPr>
            <a:stCxn id="44" idx="2"/>
          </p:cNvCxnSpPr>
          <p:nvPr/>
        </p:nvCxnSpPr>
        <p:spPr>
          <a:xfrm>
            <a:off x="4643280" y="2214360"/>
            <a:ext cx="185832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8"/>
          <p:cNvCxnSpPr>
            <a:stCxn id="44" idx="2"/>
          </p:cNvCxnSpPr>
          <p:nvPr/>
        </p:nvCxnSpPr>
        <p:spPr>
          <a:xfrm flipH="1">
            <a:off x="2571840" y="2214720"/>
            <a:ext cx="20718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76092"/>
                </a:solidFill>
                <a:latin typeface="Calibri"/>
              </a:rPr>
              <a:t>الطلائعيات الشبيهة بالنبات (الطحالب الحقيقية)</a:t>
            </a:r>
            <a:br>
              <a:rPr sz="2800"/>
            </a:b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Plant like Protista (True-alga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393372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Photosynthet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their nutrition is plant-lik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most all of them have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most have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ut only a few have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chlorophyll</a:t>
            </a: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lso have a variety of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caroteno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other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pi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116000" y="1700280"/>
            <a:ext cx="75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عملية البناء الضوئي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ها تشبة التغذية في النب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كل تقريبا قد يحتوي على  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الكلوروفيل أ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، والبعض على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 الكلوروفيل ج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لكن قلة منها تحتوي على 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الكلوروفيل 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طحالب الحقيقية لديها أيضا مجموعة متنوعة من 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الكاروتين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الصبغ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most common are: </a:t>
            </a:r>
            <a:r>
              <a:rPr b="1" lang="ar-SA" sz="2800" spc="-1" strike="noStrike">
                <a:solidFill>
                  <a:srgbClr val="376092"/>
                </a:solidFill>
                <a:latin typeface="Calibri"/>
              </a:rPr>
              <a:t>وأكثرها شيوعا هي</a:t>
            </a:r>
            <a:r>
              <a:rPr b="1" lang="ar-SA" sz="2800" spc="-1" strike="noStrike">
                <a:solidFill>
                  <a:srgbClr val="376092"/>
                </a:solidFill>
                <a:latin typeface="Calibri"/>
              </a:rPr>
              <a:t>: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lorophyta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خضراء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glenophyta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يوجيلين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illariophyta (diatoms)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عصوية ( الدايوتومات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eophyta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بن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hodophyta                                             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حم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600" y="5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طحالب الخضراء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lorophyta (Green algae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2240" y="3665160"/>
            <a:ext cx="8859600" cy="2940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hyll                   main pigmen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live in fresh water, although some marine species exi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 walls are composed of cellulose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een algae can b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cellular                       colonial                                               multicell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hlamydomonas               Volvox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irogy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ight Arrow 3"/>
          <p:cNvSpPr/>
          <p:nvPr/>
        </p:nvSpPr>
        <p:spPr>
          <a:xfrm>
            <a:off x="1835280" y="3797280"/>
            <a:ext cx="730080" cy="71280"/>
          </a:xfrm>
          <a:prstGeom prst="rightArrow">
            <a:avLst>
              <a:gd name="adj1" fmla="val 50000"/>
              <a:gd name="adj2" fmla="val 501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538920" y="4745160"/>
            <a:ext cx="5144400" cy="712800"/>
            <a:chOff x="538920" y="4745160"/>
            <a:chExt cx="5144400" cy="712800"/>
          </a:xfrm>
        </p:grpSpPr>
        <p:cxnSp>
          <p:nvCxnSpPr>
            <p:cNvPr id="57" name="Straight Arrow Connector 5"/>
            <p:cNvCxnSpPr/>
            <p:nvPr/>
          </p:nvCxnSpPr>
          <p:spPr>
            <a:xfrm flipH="1">
              <a:off x="538920" y="4813920"/>
              <a:ext cx="2358360" cy="500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8" name="Straight Arrow Connector 7"/>
            <p:cNvCxnSpPr/>
            <p:nvPr/>
          </p:nvCxnSpPr>
          <p:spPr>
            <a:xfrm flipH="1">
              <a:off x="2895120" y="4745160"/>
              <a:ext cx="2160" cy="643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9" name="Straight Arrow Connector 9"/>
            <p:cNvCxnSpPr/>
            <p:nvPr/>
          </p:nvCxnSpPr>
          <p:spPr>
            <a:xfrm>
              <a:off x="2896920" y="4815000"/>
              <a:ext cx="2786760" cy="643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60" name="Rectangle 6"/>
          <p:cNvSpPr/>
          <p:nvPr/>
        </p:nvSpPr>
        <p:spPr>
          <a:xfrm>
            <a:off x="160200" y="981000"/>
            <a:ext cx="8891640" cy="25628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كلوروفيل         الصبغة الرئيسة في الطحالب الخضر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عيش معظمها في المياه العذبة، بالرغم من وجود بعض الأنواع البحري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جدر الخلوية تتكون من السليلو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ulos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طحالب الخضراء يمكن أن تكون وحيدة الخلي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cellula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ثل طحلب كلاميدومونا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lamydomona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و على شكل مستعم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n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ثل طحلب الفولفوكس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olvo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و عديدة الخلاي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ellula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ثل طحلب السبيروجير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rogy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10"/>
          <p:cNvSpPr/>
          <p:nvPr/>
        </p:nvSpPr>
        <p:spPr>
          <a:xfrm flipV="1" rot="10800000">
            <a:off x="7419960" y="1268280"/>
            <a:ext cx="365040" cy="4608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صورة 20" descr="structure of a Chlamydomonas.jpg"/>
          <p:cNvPicPr/>
          <p:nvPr/>
        </p:nvPicPr>
        <p:blipFill>
          <a:blip r:embed="rId1"/>
          <a:stretch/>
        </p:blipFill>
        <p:spPr>
          <a:xfrm>
            <a:off x="352440" y="1052640"/>
            <a:ext cx="4940280" cy="501624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  <p:sp>
        <p:nvSpPr>
          <p:cNvPr id="63" name="Rectangle 4"/>
          <p:cNvSpPr/>
          <p:nvPr/>
        </p:nvSpPr>
        <p:spPr>
          <a:xfrm>
            <a:off x="2627280" y="18900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hlamydom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484960" y="1004760"/>
            <a:ext cx="31194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http://sm-a1.yimg.com/image/?url=http%3A%2F%2Fupload.wikimedia.org%2Fwikipedia%2Fcommons%2F5%2F5f%2FAlga_volvox.png&amp;t=1255520559&amp;ttl=43200&amp;sig=g_nqFPfU50QfemGei4xlhQ--~B"/>
          <p:cNvPicPr/>
          <p:nvPr/>
        </p:nvPicPr>
        <p:blipFill>
          <a:blip r:embed="rId1"/>
          <a:stretch/>
        </p:blipFill>
        <p:spPr>
          <a:xfrm>
            <a:off x="1785960" y="1214280"/>
            <a:ext cx="5214960" cy="4854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500040" y="64296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olvox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صورة 9" descr="SPIROGYRA.jpg"/>
          <p:cNvPicPr/>
          <p:nvPr/>
        </p:nvPicPr>
        <p:blipFill>
          <a:blip r:embed="rId1"/>
          <a:stretch/>
        </p:blipFill>
        <p:spPr>
          <a:xfrm>
            <a:off x="1500120" y="1428840"/>
            <a:ext cx="5913360" cy="4071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428760" y="50004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pirogyra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7:59:43Z</dcterms:created>
  <dc:creator>DELL</dc:creator>
  <dc:description/>
  <dc:language>en-US</dc:language>
  <cp:lastModifiedBy>Naiyf Alharbi</cp:lastModifiedBy>
  <dcterms:modified xsi:type="dcterms:W3CDTF">2014-04-05T11:11:12Z</dcterms:modified>
  <cp:revision>14</cp:revision>
  <dc:subject/>
  <dc:title>II.  Kingdom Protista</dc:title>
</cp:coreProperties>
</file>