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327-FB02-4F74-A1F6-D0CD6083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D31-A0CA-41ED-B5AB-502BFD9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731-7852-4E8A-A51C-18FC47BA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B61-CB22-4C6C-98A3-DB05207F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AA6-82BA-4C8E-B7F8-781838C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87F-5640-4781-9E9F-FECDA69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7F2-04DB-447C-8C9F-DBBA3136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19D-E0A1-4A71-9967-69AE27E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C9A-31F2-4F58-B889-0B0A36E4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9F8-8CD3-4B09-A7AE-77C1957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911-EF3E-46CB-9EF0-7D334BC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8B2-0540-43B4-AEC9-C21A98A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D8B-8105-4DE7-A19C-34768FFA34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  Kingdom Protis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مملكة الطلائعيات (البروتيست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77864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ave cells with </a:t>
            </a:r>
            <a:r>
              <a:rPr b="1" lang="en-US" sz="2400" spc="-1" strike="noStrike" u="sng">
                <a:solidFill>
                  <a:srgbClr val="3b1cf6"/>
                </a:solidFill>
                <a:uFillTx/>
                <a:latin typeface="Calibri"/>
              </a:rPr>
              <a:t>nuclei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microscopic or over 100 meters long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heter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ut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84360" y="1341360"/>
            <a:ext cx="7786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حقيقية النوا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الخلايا فيها تحتوي على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الأنوي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تعيش في بيئات رطب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أحادي الخل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أو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عددة الخلايا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مجهرية أو تتعدى أطوالها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100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متر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بعض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غاير التغذ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والبعض الآخر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ذاتي التغذية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لائعيات تصنف إلى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نبات تسمى </a:t>
            </a:r>
            <a:r>
              <a:rPr b="1" lang="ar-SA" sz="2800" spc="-1" strike="noStrike" u="sng">
                <a:solidFill>
                  <a:srgbClr val="558ed5"/>
                </a:solidFill>
                <a:uFillTx/>
                <a:latin typeface="Calibri"/>
              </a:rPr>
              <a:t>الطحالب الحقي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حيوان تسمى </a:t>
            </a:r>
            <a:r>
              <a:rPr b="1" lang="ar-SA" sz="3200" spc="-1" strike="noStrike" u="sng">
                <a:solidFill>
                  <a:srgbClr val="558ed5"/>
                </a:solidFill>
                <a:uFillTx/>
                <a:latin typeface="Calibri"/>
              </a:rPr>
              <a:t>الا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7"/>
          <p:cNvCxnSpPr>
            <a:stCxn id="44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8"/>
          <p:cNvCxnSpPr>
            <a:stCxn id="44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الطلائعيات الشبيهة بالنبات (الطحالب الحقيقية)</a:t>
            </a:r>
            <a:br>
              <a:rPr sz="2800"/>
            </a:b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Plant like Protista (True-alga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3933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hotosynthe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their nutrition is plant-lik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of them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st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only a few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lso have a variety of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i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116000" y="170028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ها تشبة التغذية في الن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كل تقريبا قد يحتوي على 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أ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والبعض على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 الكلوروفيل 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لكن قلة منها تحتوي على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طحالب الحقيقية لديها أيضا مجموعة متنوعة من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اروتين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صبغ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most common are: 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وأكثرها شيوعا هي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: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r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glen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illariophyta (diatoms)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عصوية ( الدايوتو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e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ب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ophyta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حم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2240" y="3665160"/>
            <a:ext cx="8859600" cy="29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cellular                       colonial                                               multicel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lamydomonas               Volvox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ight Arrow 3"/>
          <p:cNvSpPr/>
          <p:nvPr/>
        </p:nvSpPr>
        <p:spPr>
          <a:xfrm>
            <a:off x="1835280" y="3797280"/>
            <a:ext cx="730080" cy="71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8920" y="4745160"/>
            <a:ext cx="5144400" cy="712800"/>
            <a:chOff x="538920" y="4745160"/>
            <a:chExt cx="5144400" cy="712800"/>
          </a:xfrm>
        </p:grpSpPr>
        <p:cxnSp>
          <p:nvCxnSpPr>
            <p:cNvPr id="57" name="Straight Arrow Connector 5"/>
            <p:cNvCxnSpPr/>
            <p:nvPr/>
          </p:nvCxnSpPr>
          <p:spPr>
            <a:xfrm flipH="1">
              <a:off x="538920" y="4813920"/>
              <a:ext cx="23583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7"/>
            <p:cNvCxnSpPr/>
            <p:nvPr/>
          </p:nvCxnSpPr>
          <p:spPr>
            <a:xfrm flipH="1">
              <a:off x="2895120" y="4745160"/>
              <a:ext cx="21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9"/>
            <p:cNvCxnSpPr/>
            <p:nvPr/>
          </p:nvCxnSpPr>
          <p:spPr>
            <a:xfrm>
              <a:off x="2896920" y="4815000"/>
              <a:ext cx="27867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6"/>
          <p:cNvSpPr/>
          <p:nvPr/>
        </p:nvSpPr>
        <p:spPr>
          <a:xfrm>
            <a:off x="160200" y="981000"/>
            <a:ext cx="88916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لوروفيل         الصبغة الرئيسة في الطحالب الخضر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عيش معظمها في المياه العذبة، بالرغم من وجود بعض الأنواع البح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جدر الخلوية تتكون من السليلو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طحالب الخضراء يمكن أن تكون وحيدة الخلي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كلاميدومونا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لى شكل مستعم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الفولفوك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lvo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ديدة الخلا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ثل طحلب السبيروجير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0"/>
          <p:cNvSpPr/>
          <p:nvPr/>
        </p:nvSpPr>
        <p:spPr>
          <a:xfrm flipV="1" rot="10800000">
            <a:off x="7419960" y="1268280"/>
            <a:ext cx="365040" cy="460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1052640"/>
            <a:ext cx="4940280" cy="501624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2627280" y="1890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484960" y="1004760"/>
            <a:ext cx="3119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Naiyf Alharbi</cp:lastModifiedBy>
  <dcterms:modified xsi:type="dcterms:W3CDTF">2014-04-05T11:11:12Z</dcterms:modified>
  <cp:revision>14</cp:revision>
  <dc:subject/>
  <dc:title>II.  Kingdom Protista</dc:title>
</cp:coreProperties>
</file>