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C25B8-0640-4BFC-AD34-641246FC4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8D071-DA11-4B09-BC14-FA8A1722B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7DE7A9-CAB3-446F-9889-E15F8EC53B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894A09-2BD0-4D3A-9989-AD763FE9E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04BAD2-8490-4B24-87CF-0E6529B5C5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EA4D2-FC85-4161-A589-4C64CA12D5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CF85D6-1E5F-4EA8-A4DD-A71BB2D50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F5FE1C-95FF-4648-96BD-5A848E1CD5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703BC2-B785-4FCC-8C60-3E5020339E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C27AE3-1EEC-4310-AEE6-5F4B45311F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C21F37-E436-4B95-AFF0-5E7E74FC9E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97109C-431E-4ED0-91A1-D23750A5A6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E88F-7B64-4A87-82D0-FC8A1CBD3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C69251-1193-4DAA-A6AD-1365C351EA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7F044E-9EE2-49C8-98EA-F604417A02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EE010D-1FD3-4578-BEBF-368EC4A394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0FFDC8-CA80-4C42-A1C3-CF5975EAEA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E2E74F-14F2-4054-A617-DAF3ED56D5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52D603-444C-4F86-88A9-65A8444FF6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99CA7E-22B3-487F-98B8-BDDA9DE10A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BF46A2-E371-4926-B6FF-D7DE15674E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126CAC-95D2-4E4E-AB57-8FA880AD3C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9B1745-776B-474D-B30F-096DD669A1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14662-BC6E-4E46-B999-62E7F5EB8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AB5458-341F-4C3E-97DF-B90A6918DA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5FF885-43BF-49E4-A2F8-5B6A9E3032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891FFB-8927-4673-B548-1D378113DB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CA7F37-40DC-448B-AB6B-E58363CBDE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C730E5-AF9D-4F2B-86FE-CEE49459E3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190A96-DB89-4DCA-995E-C270FE16E3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91285F-413D-4C0C-B9B3-EA721EA920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430C1-441E-4862-A3C5-AD7382A525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7524AB-15D3-4158-8E16-47F4A69D0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80F7C8-4672-4024-B234-2022CE8C3C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44C2F-01C9-4350-862C-31B7CE464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7BEBED-927E-4258-A627-A2ACCE5596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E50364-ACA1-4FB2-946E-ABA19C440D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2587F9-6BC8-4D3B-B5C8-40BD18246E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732096-9DE9-4102-B16F-BF80E495D6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EE29A3-097F-4E3A-8711-E7109BF097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EB7062-89DA-460A-9B56-C9280493F0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C69380-D85A-4A01-8111-E086CEA40D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8B2117-7569-40A5-99C0-A95BD54139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450632-F1CC-40E9-A910-A9FC36F006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FB9F13-9783-41F3-94D0-0EDEDD4AD3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F6223-55A5-4EF5-AB6E-1BEED48BF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2E793B-CDDC-4986-AF51-9455E2B80E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69729F-8C4F-4E26-970B-F42E6F9446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291763-A884-4B01-8571-FA577C29BB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967078-E6DA-41A5-9349-3EE6F4B311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9372F4-6776-4262-B7FD-02A1BC8A82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3F2718-E47F-4FD0-8739-B13BB5ED99E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BF8E61-DD46-4A09-B714-AC8C881751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F670C0-EE07-4869-996D-0C4464D843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509908-8F83-4269-A384-E3E46B6B92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0EDB76-9C9B-4C07-88DC-0F35F5E98B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204FA-5D6B-4F94-850A-CB4C0BE34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186029-3D4E-4324-AD04-16E3493CCE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B6748F-C9AD-437D-B9D2-72CB9D4256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5170BF-FAC9-4037-9AE3-24B73DE696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34B358-7947-431B-9A2A-D0366F7664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28EBF0-D447-4D82-A859-31CC991759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A5B523-9619-4FE2-8A18-94EF1739AE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0495B6-B82C-4088-99CF-3BB3201D54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56561D2-88A3-41EE-A3D4-7B3F42D3B9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D1FC2D-04EE-432C-9B54-A69797BEA5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B201AB-63EB-4E4E-B7B1-8E65FFEC6A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AD191-3DD7-4105-97E5-249B4752E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7264EE-7E37-4B4D-85DE-1DB5CCE51F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478E53-40EC-44A6-B4D7-B29286C2FF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F9744E-F969-4D0E-894B-36833DF723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21A570-58E3-4F95-B876-10B0740815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81AACF-BD74-4D5A-BE94-42E2282591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C07B4C-F9E9-40B0-AD88-9B872ADBD9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2FEDDB-C3FF-4130-A2CA-C34B73B3E5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5494F7-A59F-4BF7-B034-8DC69B67A37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6DD2E7E-19C4-44CC-9BE8-CDE8BAE6A95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3E2DBA8-D3E0-4577-BC92-8083E137916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97F85-5D61-44BD-BAE3-8A65467A0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2F85AC-4804-4042-B1D7-DA4E64C4AE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F0B327-D554-4619-B217-8F8892AA19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1FC156-88F5-4839-8CDD-132651DB9D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3202A1-A4BD-458A-9E07-5A647A73C2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113536-30A9-4BC5-BBBA-86EBD4A376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C2E97C-CAC2-4198-AB30-F5ED51CD28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F44088-3636-4CCB-9EDE-D48E942385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8F6F61-FE41-4A4E-9062-793DDB5514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A55DFF-74F8-403E-BF07-13B168FC48D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1F3ECB7-4ED0-4806-9CB7-D5B0F3FBE3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7239F-A5C3-4E79-96C8-8F7F4052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D8B262-9DC6-41B6-B0A2-DAD660E653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9CF83B8-AEA2-49B9-87C6-0C5D91976D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AF2A9C8-7183-4ED7-8770-09CF177EC3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223741-43C4-4BC1-B77A-7A3BD5294BC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906D4C8-8838-4F15-8583-144948BE53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8F3BA3-1C0C-46BA-A93B-F4B69BA7B5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A139FE-7626-4146-A8FE-E83BBE8AC6B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DE980D-966C-4C27-9146-5F017D0DE6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93C9AE-0896-43AA-85AB-A1DA9DE30A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8503F9-713A-4B75-929C-1FA9303C94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1BC28-882B-4193-AEBA-EF925CAFB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7445D6-A4DB-443A-ACD4-9A30BC422E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11C0723-E6A9-4C22-B0E7-A7429D3CA92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03607DC-3705-485F-BCFE-94E03246332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3FAA283-8C80-45EC-BFED-8B0B6ECD3EF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ED004E-5B3F-4FB8-93DD-F34BD477A1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E1C10B-04EB-4CA1-8319-6B4A40557F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2AE0FF-6987-4101-8CC3-B52D84A741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695DA5-262A-49AF-AF2E-768B2DB1B9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3DB702-33AD-4697-82C4-81D806BEB85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3FC5CB-DFCF-4789-BC6C-D2E2D50FD4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B1EC3-7F81-4971-92C9-B424B07DE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F589F-0484-4D27-9656-1F5FCC1F3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0586DF-606A-4388-912F-ECA300F9F3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828EF2-9492-4ED3-8617-3F190D77A8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92A3CAD-E0D4-44C7-A9C4-E3968E0B957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D90F2AD-050F-4609-94AC-7E2D6349129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3C2CB4D-8E33-4B4A-93D7-8A453655C7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4C2E7D7-965D-462A-95B2-16FFEF6D664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12A1638-F471-4B13-A1A9-67C907A221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7BDF19-3196-4E3C-889A-67F3B02E1A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FC50CB-481A-423C-87BD-4E664727E86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343E6B3-4D4F-4A79-8497-C490CF6148A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E8A99-99EF-468D-B927-DFCB4D782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5748EC-E4C5-4CA1-AE0A-C2C7843D152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564DD8B-E34E-4B77-B52C-A55514F222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7F51F6-8107-4B7D-AD18-856A045ABB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67E30D-1392-4C1F-A9DC-31ADFAAFAA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E32BCD-B842-4772-A9B1-62D2EDAD60A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E3F20F0-53E0-4349-A61B-AF964395974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1A88318-B183-49FB-AC80-BC9B98FF98B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62E71-5B67-4EB9-B710-6C78FFC0E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EBFD7-AC61-4699-8DB1-8C5AE064A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22E17-C61A-45E1-8449-AAE0FE3AF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9E20AF-74C9-4BC5-9B28-F6A84CE2E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A89CC-13E8-4899-AEEC-DDD7CDBF0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6F312-C9FB-45AF-92D9-A53CC1958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CDF3C-483A-4B6F-8AB5-93813BD76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97689-80AC-4750-A910-5950658C8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6B363-5384-4AFB-9432-4606EE857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8DE0D-D69D-4AD4-AAF0-8963265A0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BDFC2-8A80-44A0-8C8F-1414FE61C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5EA28-6E9C-4E4A-BD5F-B68C6360A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F3D7D-96DC-47E3-913A-8C4EE0A28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52EA8-E307-4AAB-9467-0EB2003D6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E368F5-698F-42FD-B3C8-BE98E89B2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B6D03F-2A1B-4474-B8C2-66E4381D98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EA1086-1EC8-49E5-8608-CB867740CA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B896E-672B-4E08-B388-655AB26AB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D003E-E0C7-4E30-A094-5FEF57569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BCC7C-C89C-4FE5-A422-39F7E1CFC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6F18C-A4C1-41B9-8ABE-8489FC01E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2D67B-4A7B-45BB-B72C-657428F77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3CE711-2D30-426A-A4A9-C2F86198F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E6A42-F318-477E-98B3-5C52ED8F2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41C89-6CD7-44C6-B24B-911F555C0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FAACA-9E57-4FDE-B3BC-B6817CB4F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9DC92-63A3-4E8B-8688-05164E7AB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77BB07-9F0F-4F15-BF73-E6DFD631A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BD1CCB-0F04-4CB6-A0E3-B530F63C95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9DD642-9D96-41C2-9624-0757CFF7D1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1BE2F-E129-4CDC-BA24-5F1923E2C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233DC-406E-48F3-A313-F8E709491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6D244-D7D6-4F06-98E7-755B5D036B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B21EB-30A2-4921-9BD1-F99B58403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EDAB6-0E10-4771-B55E-FF4118EFC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9751F7-24CB-476C-97F9-D465D5DEB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2F588-14A6-405C-AFDF-5B0154D25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C28A1-3D11-4908-B4BA-072F593E1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879C4-D94D-4AEC-BC32-E1C415EE8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39013-04A7-4259-BDD3-CB9B173E7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0C5066-09EC-4E07-8E40-F0A1769675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4FF95-BB30-426C-ABC6-12EE18EB2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1AFFAA-6259-45BC-A16A-08D5814FA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60A4A8-C1A9-475A-8FEB-E3FECE4EF0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C10FC9-FA63-46B3-A61B-B73684BA97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A7024-9B5E-4DF3-8781-B2F58B7FF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F3888-D2C7-4AA8-9603-2E466081AA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64E78F-CA28-4CD2-9988-7723867900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D7EE0-2F2A-4F4C-B2EB-CD1785B718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6A9CC-7727-40FC-885C-18762A125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14D3B-F787-4C9F-86CE-3FBFB508E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454B6-9013-4055-915C-81BE1A7A5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7BD2-9474-4B92-AECA-C37EACBA2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B82C8-7654-409B-A425-08178A869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DA9136-12BB-4618-87CA-FE25033CA2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32CF9C-DA1E-43FF-9DE0-B92F8EAFDB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7CEACB-6F74-4813-8E93-0DB91DB273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1994E9-CF36-4586-B6B2-8CB2D6BC3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39F44-6FBB-4025-9B96-8EAC7D320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6E984-2790-4945-A949-1CBC8345F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DB1B01-A499-4BCF-A93D-2B8BAD5EE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CD2BFF-06CC-4875-8A42-29EDAA8AA6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42F4A-77FE-496B-B221-1C3EFD589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4360-578F-4457-AEFF-859235C56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BCAAB-96AC-4093-BADE-DBE43FC0F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4A711-40F0-4541-9A44-C16B5CA35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5D572-4AC7-41CD-A8CF-0AEFD8F4B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BB6C51-398C-47B9-8F9E-AC4A9B1A4C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098E92-E9BF-4C07-AB8A-0CB70B8A94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C5DDBC-CA6C-4807-92AC-A66D94B1C1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1F9F84-CB42-4296-B2B5-2B6E3D8415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4461F9-9562-4D6B-AF44-CDC14C85F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9CDF0-EF63-43D5-ABCD-9E7C2570D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7B427B-AC1C-475F-9C0D-2D40A10525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92E9-E32C-4163-9861-D2532B38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56EF4-FCD8-472C-B50D-BCD5A78D85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C986B-4A63-4C71-952D-58211B989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66138-3C32-42F8-96EE-CBB8C63DC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5628D-2458-4BCE-BBC1-83D945D2D0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A15E5-B6F4-4ED2-8FE4-643E7F624F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5FDF5D-E879-4FA4-9073-C29DDFA65E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8F3A6D-ADE1-44D6-9C26-E4800485AC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4E868F-5A73-4BC2-86FD-4AEA3BD7D0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669E47-3E45-4B6C-89B7-CC05D73CE2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FD3E5E-38B9-429E-87C8-E4E3597C14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FBE2-FE72-4832-ADD7-5A55459342A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9"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271E-DE13-4A1C-9DAB-0889F00F312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9"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4EA0-1E92-4CC8-816D-5C30279B8F4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EA7F-A528-4892-9E19-3EC5294AF01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10" descr="Droplets-HD-Content-R1d.png"/>
          <p:cNvPicPr/>
          <p:nvPr/>
        </p:nvPicPr>
        <p:blipFill>
          <a:blip r:embed="rId3"/>
          <a:stretch/>
        </p:blipFill>
        <p:spPr>
          <a:xfrm>
            <a:off x="0" y="0"/>
            <a:ext cx="12192120" cy="6858000"/>
          </a:xfrm>
          <a:prstGeom prst="rect">
            <a:avLst/>
          </a:prstGeom>
          <a:ln w="0">
            <a:noFill/>
          </a:ln>
        </p:spPr>
      </p:pic>
      <p:sp>
        <p:nvSpPr>
          <p:cNvPr id="517" name="TextBox 12"/>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13"/>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950F-5621-4463-AE71-66A008F2747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5209-AB32-4B63-8333-40C9ED8EE34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CC82-0891-441A-AC59-E5F0CEA8464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15"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3F49-39DF-42CC-AF60-F1EB8FB87FF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CA57-13D5-4923-BE02-C832B5D9E0C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8"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E9D6-99B0-4218-A2AD-771E85B9F5E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6"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DBCC-955E-4B2A-BA43-958F621BC1A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2"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FBAE-8830-45B9-AD54-F8CB025034E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8"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913D-0801-44C0-8DC3-482F7BF55FD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9"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430C-49AC-439F-A03E-51FA4D35F37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14"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45D0-D97B-44B6-8E2D-4E3A4D16626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B467-9A92-44F2-AB5F-3D1DB116DB4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6"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8D71-94AE-4781-91DB-8C796BBAF82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10"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1DE8-662C-48F0-A6D2-B91F89F8D00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1299960"/>
            <a:ext cx="8690040" cy="25095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31436"/>
                </a:solidFill>
                <a:latin typeface="Arabic Typesetting"/>
                <a:cs typeface="Arabic Typesetting"/>
              </a:rPr>
              <a:t>التعريب (المحاضرة </a:t>
            </a:r>
            <a:r>
              <a:rPr b="0" lang="ar-SA" sz="3600" spc="-1" strike="noStrike">
                <a:solidFill>
                  <a:srgbClr val="831436"/>
                </a:solidFill>
                <a:latin typeface="Arabic Typesetting"/>
                <a:ea typeface="Arabic Typesetting"/>
              </a:rPr>
              <a:t>10</a:t>
            </a:r>
            <a:r>
              <a:rPr b="0" lang="ar-SA" sz="3600" spc="-1" strike="noStrike">
                <a:solidFill>
                  <a:srgbClr val="831436"/>
                </a:solidFill>
                <a:latin typeface="Arabic Typesetting"/>
                <a:ea typeface="Arabic Typesetting"/>
              </a:rPr>
              <a:t>)</a:t>
            </a:r>
            <a:br>
              <a:rPr sz="3600"/>
            </a:br>
            <a:r>
              <a:rPr b="0" lang="ar-SA" sz="3600" spc="-1" strike="noStrike">
                <a:solidFill>
                  <a:srgbClr val="831436"/>
                </a:solidFill>
                <a:latin typeface="Arabic Typesetting"/>
                <a:cs typeface="Arabic Typesetting"/>
              </a:rPr>
              <a:t>التعريب اللفظي</a:t>
            </a:r>
            <a:endParaRPr b="0" lang="en-US" sz="3600" spc="-1" strike="noStrike">
              <a:solidFill>
                <a:srgbClr val="000000"/>
              </a:solidFill>
              <a:latin typeface="Tw Cen MT"/>
            </a:endParaRPr>
          </a:p>
        </p:txBody>
      </p:sp>
      <p:sp>
        <p:nvSpPr>
          <p:cNvPr id="776" name="PlaceHolder 2"/>
          <p:cNvSpPr>
            <a:spLocks noGrp="1"/>
          </p:cNvSpPr>
          <p:nvPr>
            <p:ph type="subTitle"/>
          </p:nvPr>
        </p:nvSpPr>
        <p:spPr>
          <a:xfrm>
            <a:off x="1750680" y="3886200"/>
            <a:ext cx="8690040" cy="1371600"/>
          </a:xfrm>
          <a:prstGeom prst="rect">
            <a:avLst/>
          </a:prstGeom>
          <a:noFill/>
          <a:ln w="0">
            <a:noFill/>
          </a:ln>
        </p:spPr>
        <p:txBody>
          <a:bodyPr anchor="t">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Arabic Typesetting"/>
                <a:cs typeface="Arabic Typesetting"/>
              </a:rPr>
              <a:t>د. سلوى الحارثي</a:t>
            </a:r>
            <a:endParaRPr b="0" lang="en-US" sz="2200" spc="-1" strike="noStrike">
              <a:solidFill>
                <a:srgbClr val="000000"/>
              </a:solidFill>
              <a:latin typeface="Tw Cen MT"/>
            </a:endParaRPr>
          </a:p>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Arabic Typesetting"/>
                <a:cs typeface="Arabic Typesetting"/>
              </a:rPr>
              <a:t>أستاذ مساعد في قسم اللغة الإنجليزية والترجمة، كلية اللغات والترجمة</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ميادين التعريب اللفظي</a:t>
            </a:r>
            <a:endParaRPr b="0" lang="en-US" sz="3200" spc="-1" strike="noStrike">
              <a:solidFill>
                <a:srgbClr val="000000"/>
              </a:solidFill>
              <a:latin typeface="Tw Cen MT"/>
            </a:endParaRPr>
          </a:p>
        </p:txBody>
      </p:sp>
      <p:sp>
        <p:nvSpPr>
          <p:cNvPr id="794" name=""/>
          <p:cNvSpPr txBox="1"/>
          <p:nvPr/>
        </p:nvSpPr>
        <p:spPr>
          <a:xfrm>
            <a:off x="576360" y="2367000"/>
            <a:ext cx="10362960" cy="342432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شترط مجمع القاهرة إجازة استعمال الألفاظ الأعجمية عند الضرورة فقط مثل ذيوع الكلمة.</a:t>
            </a:r>
            <a:endParaRPr b="0" lang="en-US" sz="2000" spc="-1" strike="noStrike">
              <a:solidFill>
                <a:srgbClr val="000000"/>
              </a:solidFill>
              <a:latin typeface="Tw Cen MT"/>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هناك أعضاء طالبوا بإلغاء شرط الضرورة فيرون أنه لا داعي لاستبدال «بوسطة وصالون وأوتيل» بالكلمات «بريد وردهة وفندق»</a:t>
            </a:r>
            <a:endParaRPr b="0" lang="en-US" sz="2000" spc="-1" strike="noStrike">
              <a:solidFill>
                <a:srgbClr val="000000"/>
              </a:solidFill>
              <a:latin typeface="Tw Cen MT"/>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بينما هناك أعضاء يريدون إلغاء إجازة التعريب أصلا أو تضييق الضرورة إلى أقصى حد.</a:t>
            </a:r>
            <a:endParaRPr b="0" lang="en-US" sz="2000" spc="-1" strike="noStrike">
              <a:solidFill>
                <a:srgbClr val="000000"/>
              </a:solidFill>
              <a:latin typeface="Tw Cen MT"/>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هناك من ينتهج الاعتدال بين هذا الموقف وذاك وهؤلاء هم أغلب أعضاء المجامع.</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2103120" y="603360"/>
            <a:ext cx="8427960" cy="5664240"/>
          </a:xfrm>
          <a:prstGeom prst="rect">
            <a:avLst/>
          </a:prstGeom>
          <a:noFill/>
          <a:ln w="0">
            <a:noFill/>
          </a:ln>
        </p:spPr>
        <p:txBody>
          <a:bodyPr anchor="t">
            <a:normAutofit fontScale="96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31436"/>
                </a:solidFill>
                <a:latin typeface="Arabic Typesetting"/>
                <a:cs typeface="Arabic Typesetting"/>
              </a:rPr>
              <a:t>ما لا بد من تعريبه</a:t>
            </a:r>
            <a:r>
              <a:rPr b="0" lang="ar-SA" sz="2400" spc="-1" strike="noStrike">
                <a:solidFill>
                  <a:srgbClr val="000000"/>
                </a:solidFill>
                <a:latin typeface="Arabic Typesetting"/>
                <a:ea typeface="Arabic Typesetting"/>
              </a:rPr>
              <a:t>:</a:t>
            </a:r>
            <a:r>
              <a:rPr b="0" lang="ar-SA" sz="2400" spc="-1" strike="noStrike">
                <a:solidFill>
                  <a:srgbClr val="000000"/>
                </a:solidFill>
                <a:latin typeface="Arabic Typesetting"/>
                <a:ea typeface="Arabic Typesetting"/>
              </a:rPr>
              <a:t>1</a:t>
            </a:r>
            <a:r>
              <a:rPr b="0" lang="ar-SA" sz="2400" spc="-1" strike="noStrike">
                <a:solidFill>
                  <a:srgbClr val="000000"/>
                </a:solidFill>
                <a:latin typeface="Arabic Typesetting"/>
                <a:ea typeface="Arabic Typesetting"/>
              </a:rPr>
              <a:t> </a:t>
            </a:r>
            <a:r>
              <a:rPr b="0" lang="ar-SA" sz="2800" spc="-1" strike="noStrike">
                <a:solidFill>
                  <a:srgbClr val="000000"/>
                </a:solidFill>
                <a:latin typeface="Arabic Typesetting"/>
                <a:ea typeface="Arabic Typesetting"/>
              </a:rPr>
              <a:t>. </a:t>
            </a:r>
            <a:r>
              <a:rPr b="0" lang="ar-SA" sz="2000" spc="-1" strike="noStrike">
                <a:solidFill>
                  <a:srgbClr val="0070c0"/>
                </a:solidFill>
                <a:latin typeface="Arabic Typesetting"/>
                <a:cs typeface="Arabic Typesetting"/>
              </a:rPr>
              <a:t>أسماء الأعلام </a:t>
            </a:r>
            <a:r>
              <a:rPr b="0" lang="ar-SA" sz="2000" spc="-1" strike="noStrike">
                <a:solidFill>
                  <a:srgbClr val="000000"/>
                </a:solidFill>
                <a:latin typeface="Arabic Typesetting"/>
                <a:ea typeface="Arabic Typesetting"/>
              </a:rPr>
              <a:t>(الأشخاص – البلدان – التضاريس)</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                            </a:t>
            </a:r>
            <a:r>
              <a:rPr b="0" lang="ar-SA" sz="2000" spc="-1" strike="noStrike">
                <a:solidFill>
                  <a:srgbClr val="000000"/>
                </a:solidFill>
                <a:latin typeface="Arabic Typesetting"/>
                <a:ea typeface="Arabic Typesetting"/>
              </a:rPr>
              <a:t>2</a:t>
            </a:r>
            <a:r>
              <a:rPr b="0" lang="ar-SA" sz="2000" spc="-1" strike="noStrike">
                <a:solidFill>
                  <a:srgbClr val="000000"/>
                </a:solidFill>
                <a:latin typeface="Arabic Typesetting"/>
                <a:ea typeface="Arabic Typesetting"/>
              </a:rPr>
              <a:t>. الأدوية </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                            </a:t>
            </a: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المعادن والعناصر الكيميائية</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31436"/>
                </a:solidFill>
                <a:latin typeface="Arabic Typesetting"/>
                <a:cs typeface="Arabic Typesetting"/>
              </a:rPr>
              <a:t>و أما ما سوى ذلك فيحتاج إلى تفصيل:</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1</a:t>
            </a:r>
            <a:r>
              <a:rPr b="0" lang="ar-SA" sz="2000" spc="-1" strike="noStrike">
                <a:solidFill>
                  <a:srgbClr val="000000"/>
                </a:solidFill>
                <a:latin typeface="Arabic Typesetting"/>
                <a:ea typeface="Arabic Typesetting"/>
              </a:rPr>
              <a:t>. </a:t>
            </a:r>
            <a:r>
              <a:rPr b="0" lang="ar-SA" sz="2000" spc="-1" strike="noStrike">
                <a:solidFill>
                  <a:srgbClr val="0070c0"/>
                </a:solidFill>
                <a:latin typeface="Arabic Typesetting"/>
                <a:cs typeface="Arabic Typesetting"/>
              </a:rPr>
              <a:t>أسماء الحيوان والنبات التي لم تعرفها العرب </a:t>
            </a:r>
            <a:r>
              <a:rPr b="0" lang="ar-SA" sz="2000" spc="-1" strike="noStrike">
                <a:solidFill>
                  <a:srgbClr val="000000"/>
                </a:solidFill>
                <a:latin typeface="Arabic Typesetting"/>
                <a:cs typeface="Arabic Typesetting"/>
              </a:rPr>
              <a:t>يمكن وضع أسماء عربية لها لاسيما إذا كانت غير مشهورة، وقد يكون لها اسم في العربية مثل الكرفس البري والجزر البري ولحية التيس.</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قد حاول ابن البيطار إيجاد أسماء عربية للنباتات التي لا تنبت عند العرب مثل:</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قوطوليدون: أذن التيس</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وش أوطا: آذان الفأر</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abic Typesetting"/>
                <a:cs typeface="Arabic Typesetting"/>
              </a:rPr>
              <a:t>وفي معجم الألفاظ الزراعية</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زهرة </a:t>
            </a:r>
            <a:r>
              <a:rPr b="0" lang="en-US" sz="2000" spc="-1" strike="noStrike">
                <a:solidFill>
                  <a:srgbClr val="000000"/>
                </a:solidFill>
                <a:latin typeface="Arabic Typesetting"/>
                <a:ea typeface="Arabic Typesetting"/>
              </a:rPr>
              <a:t>ARENARIA</a:t>
            </a:r>
            <a:r>
              <a:rPr b="0" lang="ar-SA" sz="2000" spc="-1" strike="noStrike">
                <a:solidFill>
                  <a:srgbClr val="000000"/>
                </a:solidFill>
                <a:latin typeface="Arabic Typesetting"/>
                <a:ea typeface="Arabic Typesetting"/>
              </a:rPr>
              <a:t> ترجمت إلى «رملية»</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زهرة </a:t>
            </a:r>
            <a:r>
              <a:rPr b="0" lang="en-US" sz="2000" spc="-1" strike="noStrike">
                <a:solidFill>
                  <a:srgbClr val="000000"/>
                </a:solidFill>
                <a:latin typeface="Arabic Typesetting"/>
                <a:ea typeface="Arabic Typesetting"/>
              </a:rPr>
              <a:t>CAMPAMULA</a:t>
            </a:r>
            <a:r>
              <a:rPr b="0" lang="en-US" sz="2000" spc="-1" strike="noStrike">
                <a:solidFill>
                  <a:srgbClr val="000000"/>
                </a:solidFill>
                <a:latin typeface="Arabic Typesetting"/>
                <a:ea typeface="Arabic Typesetting"/>
              </a:rPr>
              <a:t> </a:t>
            </a:r>
            <a:r>
              <a:rPr b="0" lang="ar-SA" sz="2000" spc="-1" strike="noStrike">
                <a:solidFill>
                  <a:srgbClr val="000000"/>
                </a:solidFill>
                <a:latin typeface="Arabic Typesetting"/>
                <a:ea typeface="Arabic Typesetting"/>
              </a:rPr>
              <a:t> ترجمت إلى «جريس»</a:t>
            </a:r>
            <a:endParaRPr b="0" lang="en-US" sz="2000" spc="-1" strike="noStrike">
              <a:solidFill>
                <a:srgbClr val="000000"/>
              </a:solidFill>
              <a:latin typeface="Tw Cen MT"/>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سمك </a:t>
            </a:r>
            <a:r>
              <a:rPr b="0" lang="en-US" sz="2000" spc="-1" strike="noStrike">
                <a:solidFill>
                  <a:srgbClr val="000000"/>
                </a:solidFill>
                <a:latin typeface="Arabic Typesetting"/>
                <a:ea typeface="Arabic Typesetting"/>
              </a:rPr>
              <a:t>TORPILLE</a:t>
            </a:r>
            <a:r>
              <a:rPr b="0" lang="ar-SA" sz="2000" spc="-1" strike="noStrike">
                <a:solidFill>
                  <a:srgbClr val="000000"/>
                </a:solidFill>
                <a:latin typeface="Arabic Typesetting"/>
                <a:ea typeface="Arabic Typesetting"/>
              </a:rPr>
              <a:t> ترجمت إلى «رعادة»</a:t>
            </a:r>
            <a:endParaRPr b="0" lang="en-US" sz="2000" spc="-1" strike="noStrike">
              <a:solidFill>
                <a:srgbClr val="000000"/>
              </a:solidFill>
              <a:latin typeface="Tw Cen MT"/>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7" name=""/>
          <p:cNvSpPr txBox="1"/>
          <p:nvPr/>
        </p:nvSpPr>
        <p:spPr>
          <a:xfrm>
            <a:off x="914040" y="1091880"/>
            <a:ext cx="10363320" cy="46990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2</a:t>
            </a:r>
            <a:r>
              <a:rPr b="0" lang="ar-SA" sz="2000" spc="-1" strike="noStrike">
                <a:solidFill>
                  <a:srgbClr val="0070c0"/>
                </a:solidFill>
                <a:latin typeface="Arabic Typesetting"/>
                <a:ea typeface="Arabic Typesetting"/>
              </a:rPr>
              <a:t>. اللباس والشراب والطعام والأثاث (ألفاظ الحضارة)</a:t>
            </a:r>
            <a:r>
              <a:rPr b="0" lang="ar-SA" sz="2000" spc="-1" strike="noStrike">
                <a:solidFill>
                  <a:srgbClr val="000000"/>
                </a:solidFill>
                <a:latin typeface="Arabic Typesetting"/>
                <a:cs typeface="Arabic Typesetting"/>
              </a:rPr>
              <a:t>، وهذه لا تعرب على كل حال وإنما يمكن إيجاد أو توليد مقابلات عربية لها ولكن يتساهل في تعريب أسماء الطعام والشراب لأن لكل شعب أطعمته وأشربته، ولكن ينبغي الحذر من هذه الأسماء لأنها تذيع بين الناس. </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فمثلا استطاع الأستاذ محمود تيمور مؤلف </a:t>
            </a:r>
            <a:r>
              <a:rPr b="0" lang="ar-SA" sz="2000" spc="-1" strike="noStrike" u="sng">
                <a:solidFill>
                  <a:srgbClr val="000000"/>
                </a:solidFill>
                <a:uFillTx/>
                <a:latin typeface="Arabic Typesetting"/>
                <a:cs typeface="Arabic Typesetting"/>
              </a:rPr>
              <a:t>معجم ألفاظ الحضارة أن ي</a:t>
            </a:r>
            <a:r>
              <a:rPr b="0" lang="ar-SA" sz="2000" spc="-1" strike="noStrike">
                <a:solidFill>
                  <a:srgbClr val="000000"/>
                </a:solidFill>
                <a:latin typeface="Arabic Typesetting"/>
                <a:cs typeface="Arabic Typesetting"/>
              </a:rPr>
              <a:t>ترجم ويولد الكلمات التال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شرفة والمستشرَف ل (</a:t>
            </a:r>
            <a:r>
              <a:rPr b="0" lang="en-US" sz="2000" spc="-1" strike="noStrike">
                <a:solidFill>
                  <a:srgbClr val="000000"/>
                </a:solidFill>
                <a:latin typeface="Arabic Typesetting"/>
                <a:ea typeface="Arabic Typesetting"/>
              </a:rPr>
              <a:t>TERRACE</a:t>
            </a:r>
            <a:r>
              <a:rPr b="0" lang="ar-SA" sz="2000" spc="-1" strike="noStrike">
                <a:solidFill>
                  <a:srgbClr val="000000"/>
                </a:solidFill>
                <a:latin typeface="Arabic Typesetting"/>
                <a:ea typeface="Arabic Typesetting"/>
              </a:rPr>
              <a:t>)</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 أريكة، متكأ ل (</a:t>
            </a:r>
            <a:r>
              <a:rPr b="0" lang="en-US" sz="2000" spc="-1" strike="noStrike">
                <a:solidFill>
                  <a:srgbClr val="000000"/>
                </a:solidFill>
                <a:latin typeface="Arabic Typesetting"/>
                <a:ea typeface="Arabic Typesetting"/>
              </a:rPr>
              <a:t>CANAPE CHAISE LONGUE</a:t>
            </a:r>
            <a:r>
              <a:rPr b="0" lang="ar-SA" sz="2000" spc="-1" strike="noStrike">
                <a:solidFill>
                  <a:srgbClr val="000000"/>
                </a:solidFill>
                <a:latin typeface="Arabic Typesetting"/>
                <a:ea typeface="Arabic Typesetting"/>
              </a:rPr>
              <a:t>)</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 قابس ومقبس ل (</a:t>
            </a:r>
            <a:r>
              <a:rPr b="0" lang="en-US" sz="2000" spc="-1" strike="noStrike">
                <a:solidFill>
                  <a:srgbClr val="000000"/>
                </a:solidFill>
                <a:latin typeface="Arabic Typesetting"/>
                <a:ea typeface="Arabic Typesetting"/>
              </a:rPr>
              <a:t>PRISE + FICHE</a:t>
            </a:r>
            <a:r>
              <a:rPr b="0" lang="ar-SA" sz="2000" spc="-1" strike="noStrike">
                <a:solidFill>
                  <a:srgbClr val="000000"/>
                </a:solidFill>
                <a:latin typeface="Arabic Typesetting"/>
                <a:ea typeface="Arabic Typesetting"/>
              </a:rPr>
              <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9" name=""/>
          <p:cNvSpPr txBox="1"/>
          <p:nvPr/>
        </p:nvSpPr>
        <p:spPr>
          <a:xfrm>
            <a:off x="914040" y="977400"/>
            <a:ext cx="10363320" cy="481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abic Typesetting"/>
                <a:ea typeface="Arabic Typesetting"/>
              </a:rPr>
              <a:t>3</a:t>
            </a:r>
            <a:r>
              <a:rPr b="0" lang="ar-SA" sz="2000" spc="-1" strike="noStrike">
                <a:solidFill>
                  <a:srgbClr val="0070c0"/>
                </a:solidFill>
                <a:latin typeface="Arabic Typesetting"/>
                <a:ea typeface="Arabic Typesetting"/>
              </a:rPr>
              <a:t>. أسماء الأمراض الوافدة</a:t>
            </a:r>
            <a:r>
              <a:rPr b="0" lang="ar-SA" sz="2000" spc="-1" strike="noStrike">
                <a:solidFill>
                  <a:srgbClr val="000000"/>
                </a:solidFill>
                <a:latin typeface="Arabic Typesetting"/>
                <a:ea typeface="Arabic Typesetting"/>
              </a:rPr>
              <a:t>: يمكن ترجمة بعض أسماء الأمراض مثل (</a:t>
            </a:r>
            <a:r>
              <a:rPr b="0" lang="en-US" sz="2000" spc="-1" strike="noStrike">
                <a:solidFill>
                  <a:srgbClr val="000000"/>
                </a:solidFill>
                <a:latin typeface="Arabic Typesetting"/>
                <a:ea typeface="Arabic Typesetting"/>
              </a:rPr>
              <a:t>AIDS </a:t>
            </a:r>
            <a:r>
              <a:rPr b="0" lang="ar-SA" sz="2000" spc="-1" strike="noStrike">
                <a:solidFill>
                  <a:srgbClr val="000000"/>
                </a:solidFill>
                <a:latin typeface="Arabic Typesetting"/>
                <a:ea typeface="Arabic Typesetting"/>
              </a:rPr>
              <a:t> = </a:t>
            </a:r>
            <a:r>
              <a:rPr b="0" lang="en-US" sz="2000" spc="-1" strike="noStrike">
                <a:solidFill>
                  <a:srgbClr val="000000"/>
                </a:solidFill>
                <a:latin typeface="Arabic Typesetting"/>
                <a:ea typeface="Arabic Typesetting"/>
              </a:rPr>
              <a:t>CIDA</a:t>
            </a:r>
            <a:r>
              <a:rPr b="0" lang="ar-SA" sz="2000" spc="-1" strike="noStrike">
                <a:solidFill>
                  <a:srgbClr val="000000"/>
                </a:solidFill>
                <a:latin typeface="Arabic Typesetting"/>
                <a:ea typeface="Arabic Typesetting"/>
              </a:rPr>
              <a:t>) بمتلازمة نقص المناعة المكتسب، رغم أنه كان يسمى (الهزال) في اللغات الأفريقية حيث كان موطن المرض وكان يمكن توليد كلمة «التهزال» ولكنه شاع بين الناس ب«نقص المناعة».</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abic Typesetting"/>
                <a:ea typeface="Arabic Typesetting"/>
              </a:rPr>
              <a:t>4</a:t>
            </a:r>
            <a:r>
              <a:rPr b="0" lang="ar-SA" sz="2000" spc="-1" strike="noStrike">
                <a:solidFill>
                  <a:srgbClr val="0070c0"/>
                </a:solidFill>
                <a:latin typeface="Arabic Typesetting"/>
                <a:ea typeface="Arabic Typesetting"/>
              </a:rPr>
              <a:t>. الألفاظ ذات الصفة العالمية </a:t>
            </a:r>
            <a:r>
              <a:rPr b="0" lang="ar-SA" sz="2000" spc="-1" strike="noStrike">
                <a:solidFill>
                  <a:srgbClr val="000000"/>
                </a:solidFill>
                <a:latin typeface="Arabic Typesetting"/>
                <a:cs typeface="Arabic Typesetting"/>
              </a:rPr>
              <a:t>يمكن وضع مرادفات لها مثل المتر والغرام ومضاعفاتهما مثل:</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abic Typesetting"/>
                <a:ea typeface="Arabic Typesetting"/>
              </a:rPr>
              <a:t>CALORY</a:t>
            </a:r>
            <a:r>
              <a:rPr b="0" lang="ar-SA" sz="2000" spc="-1" strike="noStrike">
                <a:solidFill>
                  <a:srgbClr val="000000"/>
                </a:solidFill>
                <a:latin typeface="Arabic Typesetting"/>
                <a:ea typeface="Arabic Typesetting"/>
              </a:rPr>
              <a:t>  الحريرة أو السعر</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abic Typesetting"/>
                <a:ea typeface="Arabic Typesetting"/>
              </a:rPr>
              <a:t>WATT</a:t>
            </a:r>
            <a:r>
              <a:rPr b="0" lang="ar-SA" sz="2000" spc="-1" strike="noStrike">
                <a:solidFill>
                  <a:srgbClr val="000000"/>
                </a:solidFill>
                <a:latin typeface="Arabic Typesetting"/>
                <a:ea typeface="Arabic Typesetting"/>
              </a:rPr>
              <a:t>  الشمعة</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abic Typesetting"/>
                <a:ea typeface="Arabic Typesetting"/>
              </a:rPr>
              <a:t>COMPUTER</a:t>
            </a:r>
            <a:r>
              <a:rPr b="0" lang="ar-SA" sz="2000" spc="-1" strike="noStrike">
                <a:solidFill>
                  <a:srgbClr val="000000"/>
                </a:solidFill>
                <a:latin typeface="Arabic Typesetting"/>
                <a:ea typeface="Arabic Typesetting"/>
              </a:rPr>
              <a:t>  الحاسوب</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1" name=""/>
          <p:cNvSpPr txBox="1"/>
          <p:nvPr/>
        </p:nvSpPr>
        <p:spPr>
          <a:xfrm>
            <a:off x="914040" y="990360"/>
            <a:ext cx="10363320" cy="480060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abic Typesetting"/>
                <a:ea typeface="Arabic Typesetting"/>
              </a:rPr>
              <a:t>5</a:t>
            </a:r>
            <a:r>
              <a:rPr b="0" lang="ar-SA" sz="2000" spc="-1" strike="noStrike">
                <a:solidFill>
                  <a:srgbClr val="0070c0"/>
                </a:solidFill>
                <a:latin typeface="Arabic Typesetting"/>
                <a:ea typeface="Arabic Typesetting"/>
              </a:rPr>
              <a:t>. المركبات الكيميائية: </a:t>
            </a:r>
            <a:r>
              <a:rPr b="0" lang="ar-SA" sz="2000" spc="-1" strike="noStrike">
                <a:solidFill>
                  <a:srgbClr val="000000"/>
                </a:solidFill>
                <a:latin typeface="Arabic Typesetting"/>
                <a:cs typeface="Arabic Typesetting"/>
              </a:rPr>
              <a:t>اختلف العلماء في نقل ألفاظ الكيمياء إلى العربية، فهناك محاولات للترجمة والتوليد مثل محاولات الشيخ أحمد الإسكندري كما يلي:</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أكسجين ← المصدئ</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هيدروجين ← المميه</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كلور ← المحور</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يث قدمها الشيخ أحمد إلى مجمع القاهرة الذي أحالها إلى مصلحة الكيمياء في مصر فرفضتها نظراً لعدم ذيوعها. بينما رأى آخرون بأنه لا مانع من المزج بين الترجمة والتعريب مثل قول (حمض الكلور) بدلا من (الهيدروكلوريك).</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مستطيل 1"/>
          <p:cNvSpPr/>
          <p:nvPr/>
        </p:nvSpPr>
        <p:spPr>
          <a:xfrm>
            <a:off x="1089000" y="658800"/>
            <a:ext cx="991080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علامات عجمة اللفظ:</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ea typeface="Arabic Typesetting"/>
              </a:rPr>
              <a:t>1</a:t>
            </a:r>
            <a:r>
              <a:rPr b="0" lang="ar-SA" sz="2400" spc="-1" strike="noStrike">
                <a:solidFill>
                  <a:srgbClr val="000000"/>
                </a:solidFill>
                <a:latin typeface="Arabic Typesetting"/>
                <a:ea typeface="Arabic Typesetting"/>
              </a:rPr>
              <a:t>. النقل</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وذلك بأن ينقل عن أحد أئمة العربية كالأصمعي أو غيره بأن هذه الكلمة ليست عربية</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2</a:t>
            </a:r>
            <a:r>
              <a:rPr b="0" lang="ar-SA" sz="2400" spc="-1" strike="noStrike">
                <a:solidFill>
                  <a:srgbClr val="000000"/>
                </a:solidFill>
                <a:latin typeface="Arabic Typesetting"/>
                <a:ea typeface="Arabic Typesetting"/>
              </a:rPr>
              <a:t>. مخالفة الكلمة للأوزان العربية</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وذلك بأن يخرج الاسم عن أوزان الأسماء العربية، نحو إبْرِيسم؛ فإن مثل هذا الوزن مفقود في أبنية الأسماء في اللسان العربي</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3</a:t>
            </a:r>
            <a:r>
              <a:rPr b="0" lang="ar-SA" sz="2400" spc="-1" strike="noStrike">
                <a:solidFill>
                  <a:srgbClr val="000000"/>
                </a:solidFill>
                <a:latin typeface="Arabic Typesetting"/>
                <a:ea typeface="Arabic Typesetting"/>
              </a:rPr>
              <a:t>. أن يكون أوله نون ثم راء: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نرجس؛ فإن ذلك لا يكون في كلمة عربية، وكذلك (نرس) و (نورج) و (نرسيان) و (نَرْجه</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4</a:t>
            </a:r>
            <a:r>
              <a:rPr b="0" lang="ar-SA" sz="2400" spc="-1" strike="noStrike">
                <a:solidFill>
                  <a:srgbClr val="000000"/>
                </a:solidFill>
                <a:latin typeface="Arabic Typesetting"/>
                <a:ea typeface="Arabic Typesetting"/>
              </a:rPr>
              <a:t>. أن يكون آخره زاياً بعد دال: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مهندز؛ فإن ذلك لا يكون في كلمة عربية</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5</a:t>
            </a:r>
            <a:r>
              <a:rPr b="0" lang="ar-SA" sz="2400" spc="-1" strike="noStrike">
                <a:solidFill>
                  <a:srgbClr val="000000"/>
                </a:solidFill>
                <a:latin typeface="Arabic Typesetting"/>
                <a:ea typeface="Arabic Typesetting"/>
              </a:rPr>
              <a:t>. أن يجتمع في الكلمة الصاد والجيم: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الصولجان، والجص، والصنجق</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 أن يجتمع في الكلمة الجيم والقاف: نحو</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المنجنيق</a:t>
            </a:r>
            <a:r>
              <a:rPr b="0" lang="en-US" sz="2400" spc="-1" strike="noStrike">
                <a:solidFill>
                  <a:srgbClr val="000000"/>
                </a:solidFill>
                <a:latin typeface="Arabic Typesetting"/>
                <a:ea typeface="Arabic Typesetting"/>
              </a:rPr>
              <a:t>. </a:t>
            </a:r>
            <a:br>
              <a:rPr sz="2400"/>
            </a:b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مستطيل 1"/>
          <p:cNvSpPr/>
          <p:nvPr/>
        </p:nvSpPr>
        <p:spPr>
          <a:xfrm>
            <a:off x="1116000" y="1317600"/>
            <a:ext cx="993780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7</a:t>
            </a:r>
            <a:r>
              <a:rPr b="0" lang="ar-SA" sz="2400" spc="-1" strike="noStrike">
                <a:solidFill>
                  <a:srgbClr val="000000"/>
                </a:solidFill>
                <a:latin typeface="Arabic Typesetting"/>
                <a:ea typeface="Arabic Typesetting"/>
              </a:rPr>
              <a:t>.  خلو الكلمة الرباعية أو الخماسية من أحرف الذلاقة: وسميت بذلك _ كما مر في الحديث عن صفات الحروف ومخارجها _ لخروج بعضها من ذلق اللسان _ أي طرفه _ وخروج بعضها من ذلق الشفة.</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وهي مجموعة في قولك: (مُرَّ بنفل) ؛ فإنه متى كان اللفظ عربياً فلا بد أن يكون فيه شيء منها نحو: سفرجل، وقُذعمل، وقِرْطَعْب، وجَحْمَرش؛ فإذا جاءك مثال خماسي، أو رباعي بغير حرف أو حرفين من أحرف الذلاقة فاعلم أنه ليس من كلامهم _ أي العرب _ مثل: (عفجش) و (خظائج). </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8</a:t>
            </a:r>
            <a:r>
              <a:rPr b="0" lang="ar-SA" sz="2400" spc="-1" strike="noStrike">
                <a:solidFill>
                  <a:srgbClr val="000000"/>
                </a:solidFill>
                <a:latin typeface="Arabic Typesetting"/>
                <a:ea typeface="Arabic Typesetting"/>
              </a:rPr>
              <a:t>. اجتماع الباء، والتاء، والسين: مثل: بستان. </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9</a:t>
            </a:r>
            <a:r>
              <a:rPr b="0" lang="ar-SA" sz="2400" spc="-1" strike="noStrike">
                <a:solidFill>
                  <a:srgbClr val="000000"/>
                </a:solidFill>
                <a:latin typeface="Arabic Typesetting"/>
                <a:ea typeface="Arabic Typesetting"/>
              </a:rPr>
              <a:t>. اجتماع الجيم والطاء: نحو: الطاجن، والطيجن. </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a:t>
            </a:r>
            <a:r>
              <a:rPr b="0" lang="ar-SA" sz="2400" spc="-1" strike="noStrike">
                <a:solidFill>
                  <a:srgbClr val="000000"/>
                </a:solidFill>
                <a:latin typeface="Arabic Typesetting"/>
                <a:ea typeface="Arabic Typesetting"/>
              </a:rPr>
              <a:t>. يندر اجتماع الراء مع اللام إلا في ألفاظ محصورة: مثل: ورل.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مستطيل 1"/>
          <p:cNvSpPr/>
          <p:nvPr/>
        </p:nvSpPr>
        <p:spPr>
          <a:xfrm>
            <a:off x="1371600" y="1533600"/>
            <a:ext cx="936000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a:t>
            </a:r>
            <a:r>
              <a:rPr b="0" lang="ar-SA" sz="2400" spc="-1" strike="noStrike">
                <a:solidFill>
                  <a:srgbClr val="000000"/>
                </a:solidFill>
                <a:latin typeface="Arabic Typesetting"/>
                <a:ea typeface="Arabic Typesetting"/>
              </a:rPr>
              <a:t>. لا يوجد في كلام العرب دال بعدها ذال إلا قليل: ولذلك أبى البصريون أن يقال بغداذ.</a:t>
            </a:r>
            <a:endParaRPr b="0" lang="en-US" sz="2400" spc="-1" strike="noStrike">
              <a:solidFill>
                <a:srgbClr val="000000"/>
              </a:solidFill>
              <a:latin typeface="Tw Cen MT"/>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2</a:t>
            </a:r>
            <a:r>
              <a:rPr b="0" lang="ar-SA" sz="2400" spc="-1" strike="noStrike">
                <a:solidFill>
                  <a:srgbClr val="000000"/>
                </a:solidFill>
                <a:latin typeface="Arabic Typesetting"/>
                <a:ea typeface="Arabic Typesetting"/>
              </a:rPr>
              <a:t>. مجيء الشين بعد اللام: قال ابن سيدة في المحكم</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ليس في كلام العرب شين بعد لام في كلمة عربية محضة؛ الشينات كلها في كلام العرب قبل اللامات</a:t>
            </a:r>
            <a:r>
              <a:rPr b="0" lang="en-US" sz="2400" spc="-1" strike="noStrike">
                <a:solidFill>
                  <a:srgbClr val="000000"/>
                </a:solidFill>
                <a:latin typeface="Arabic Typesetting"/>
                <a:ea typeface="Arabic Typesetting"/>
              </a:rPr>
              <a:t>. </a:t>
            </a:r>
            <a:br>
              <a:rPr sz="2400"/>
            </a:br>
            <a:r>
              <a:rPr b="0" lang="ar-SA" sz="2400" spc="-1" strike="noStrike">
                <a:solidFill>
                  <a:srgbClr val="000000"/>
                </a:solidFill>
                <a:latin typeface="Arabic Typesetting"/>
                <a:ea typeface="Arabic Typesetting"/>
              </a:rPr>
              <a:t>13</a:t>
            </a:r>
            <a:r>
              <a:rPr b="0" lang="ar-SA" sz="2400" spc="-1" strike="noStrike">
                <a:solidFill>
                  <a:srgbClr val="000000"/>
                </a:solidFill>
                <a:latin typeface="Arabic Typesetting"/>
                <a:ea typeface="Arabic Typesetting"/>
              </a:rPr>
              <a:t>. </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الدراسات التاريخية والبحوث العلمية</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فبذلك يمكن القول</a:t>
            </a:r>
            <a:r>
              <a:rPr b="0" lang="en-US" sz="2400" spc="-1" strike="noStrike">
                <a:solidFill>
                  <a:srgbClr val="000000"/>
                </a:solidFill>
                <a:latin typeface="Arabic Typesetting"/>
                <a:ea typeface="Arabic Typesetting"/>
              </a:rPr>
              <a:t>: </a:t>
            </a:r>
            <a:r>
              <a:rPr b="0" lang="ar-SA" sz="2400" spc="-1" strike="noStrike">
                <a:solidFill>
                  <a:srgbClr val="000000"/>
                </a:solidFill>
                <a:latin typeface="Arabic Typesetting"/>
                <a:cs typeface="Arabic Typesetting"/>
              </a:rPr>
              <a:t>إن هذا الحيوان، أو النبات، أو الدواء ليس موجوداً في جزيرة العرب، وبذلك نعرف أن الكلمة ليست بعربية</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3692160" y="938160"/>
            <a:ext cx="588636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6194d"/>
                </a:solidFill>
                <a:latin typeface="Arabic Typesetting"/>
                <a:cs typeface="Arabic Typesetting"/>
              </a:rPr>
              <a:t>وأخيرا ...</a:t>
            </a:r>
            <a:endParaRPr b="0" lang="en-US" sz="3200" spc="-1" strike="noStrike">
              <a:solidFill>
                <a:srgbClr val="000000"/>
              </a:solidFill>
              <a:latin typeface="Tw Cen MT"/>
            </a:endParaRPr>
          </a:p>
        </p:txBody>
      </p:sp>
      <p:sp>
        <p:nvSpPr>
          <p:cNvPr id="806" name=""/>
          <p:cNvSpPr txBox="1"/>
          <p:nvPr/>
        </p:nvSpPr>
        <p:spPr>
          <a:xfrm>
            <a:off x="1243080" y="2465280"/>
            <a:ext cx="10362960" cy="703440"/>
          </a:xfrm>
          <a:prstGeom prst="rect">
            <a:avLst/>
          </a:prstGeom>
          <a:noFill/>
          <a:ln w="0">
            <a:noFill/>
          </a:ln>
        </p:spPr>
        <p:txBody>
          <a:bodyPr anchor="t">
            <a:norm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معرب حقيقة واقعة ولكن لا يجوز إطلاقه دون أن نقيده بالضرور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8" name=""/>
          <p:cNvSpPr txBox="1"/>
          <p:nvPr/>
        </p:nvSpPr>
        <p:spPr>
          <a:xfrm>
            <a:off x="914040" y="1523880"/>
            <a:ext cx="10363320" cy="426744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4b7a"/>
                </a:solidFill>
                <a:latin typeface="Arabic Typesetting"/>
                <a:cs typeface="Arabic Typesetting"/>
              </a:rPr>
              <a:t>المراجع </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د. ممدوح خسارة (</a:t>
            </a:r>
            <a:r>
              <a:rPr b="0" lang="ar-SA" sz="2000" spc="-1" strike="noStrike">
                <a:solidFill>
                  <a:srgbClr val="000000"/>
                </a:solidFill>
                <a:latin typeface="Arabic Typesetting"/>
                <a:ea typeface="Arabic Typesetting"/>
              </a:rPr>
              <a:t>1998</a:t>
            </a:r>
            <a:r>
              <a:rPr b="0" lang="ar-SA" sz="2000" spc="-1" strike="noStrike">
                <a:solidFill>
                  <a:srgbClr val="000000"/>
                </a:solidFill>
                <a:latin typeface="Arabic Typesetting"/>
                <a:ea typeface="Arabic Typesetting"/>
              </a:rPr>
              <a:t>) </a:t>
            </a:r>
            <a:r>
              <a:rPr b="0" lang="ar-SA" sz="2000" spc="-1" strike="noStrike" u="sng">
                <a:solidFill>
                  <a:srgbClr val="000000"/>
                </a:solidFill>
                <a:uFillTx/>
                <a:latin typeface="Arabic Typesetting"/>
                <a:cs typeface="Arabic Typesetting"/>
              </a:rPr>
              <a:t>منهجية تعريب الألفاظ في القديم والحديث</a:t>
            </a:r>
            <a:r>
              <a:rPr b="0" lang="ar-SA" sz="2000" spc="-1" strike="noStrike">
                <a:solidFill>
                  <a:srgbClr val="000000"/>
                </a:solidFill>
                <a:latin typeface="Arabic Typesetting"/>
                <a:ea typeface="Arabic Typesetting"/>
              </a:rPr>
              <a:t>. بيروت: مؤسسة الرسال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طرق وضع المصطلح العربي المقابل</a:t>
            </a:r>
            <a:endParaRPr b="0" lang="en-US" sz="3200" spc="-1" strike="noStrike">
              <a:solidFill>
                <a:srgbClr val="000000"/>
              </a:solidFill>
              <a:latin typeface="Tw Cen MT"/>
            </a:endParaRPr>
          </a:p>
        </p:txBody>
      </p:sp>
      <p:sp>
        <p:nvSpPr>
          <p:cNvPr id="778" name=""/>
          <p:cNvSpPr txBox="1"/>
          <p:nvPr/>
        </p:nvSpPr>
        <p:spPr>
          <a:xfrm>
            <a:off x="914040" y="2367000"/>
            <a:ext cx="10363320" cy="3424320"/>
          </a:xfrm>
          <a:prstGeom prst="rect">
            <a:avLst/>
          </a:prstGeom>
          <a:noFill/>
          <a:ln w="0">
            <a:noFill/>
          </a:ln>
        </p:spPr>
        <p:txBody>
          <a:bodyPr anchor="t">
            <a:normAutofit fontScale="89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1</a:t>
            </a:r>
            <a:r>
              <a:rPr b="0" lang="ar-SA" sz="2000" spc="-1" strike="noStrike">
                <a:solidFill>
                  <a:srgbClr val="000000"/>
                </a:solidFill>
                <a:latin typeface="Arabic Typesetting"/>
                <a:ea typeface="Arabic Typesetting"/>
              </a:rPr>
              <a:t>. قد يجد المعرب في المعاجم والمراجع العربية مدلول ذلك المصطلح لأنه مما عرفته العرب أو عرفت مثيلا له</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2</a:t>
            </a:r>
            <a:r>
              <a:rPr b="0" lang="ar-SA" sz="2000" spc="-1" strike="noStrike">
                <a:solidFill>
                  <a:srgbClr val="000000"/>
                </a:solidFill>
                <a:latin typeface="Arabic Typesetting"/>
                <a:ea typeface="Arabic Typesetting"/>
              </a:rPr>
              <a:t>. إذا لم يكن مدلول المصطلح مما عرفته العرب، يضع المعرب كلمة عربية جديدة وفق قوانين التوليد اللغوي وهي قوانين الاشتقاق والتجوز.</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إذا عجز المعرب عن التوليد لجأ إلى اقتراض اللفظ الأجنبي ويخضعه للقوانين الصوتية العربية لتسهيل النطق به ومن ثم انتشاره </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4</a:t>
            </a:r>
            <a:r>
              <a:rPr b="0" lang="ar-SA" sz="2000" spc="-1" strike="noStrike">
                <a:solidFill>
                  <a:srgbClr val="000000"/>
                </a:solidFill>
                <a:latin typeface="Arabic Typesetting"/>
                <a:ea typeface="Arabic Typesetting"/>
              </a:rPr>
              <a:t>. قد يستعصي الكلم الأجنبي المقترض على القوانين الصوتية العربية فيعمد المعرب حينئذ إلى التدخيل وهو السماح للفظ الأجنبي بالدخول المؤقت إلى الاستعمال اليومي على صورته إلى أن ترى اللغة فيه رأيا.</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ظاهرة الاقتراض</a:t>
            </a:r>
            <a:endParaRPr b="0" lang="en-US" sz="3200" spc="-1" strike="noStrike">
              <a:solidFill>
                <a:srgbClr val="000000"/>
              </a:solidFill>
              <a:latin typeface="Tw Cen MT"/>
            </a:endParaRPr>
          </a:p>
        </p:txBody>
      </p:sp>
      <p:pic>
        <p:nvPicPr>
          <p:cNvPr id="780" name="عنصر نائب للمحتوى 2" descr=""/>
          <p:cNvPicPr/>
          <p:nvPr/>
        </p:nvPicPr>
        <p:blipFill>
          <a:blip r:embed="rId1"/>
          <a:stretch/>
        </p:blipFill>
        <p:spPr>
          <a:xfrm>
            <a:off x="914400" y="2359080"/>
            <a:ext cx="10423440" cy="343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82" name=""/>
          <p:cNvSpPr txBox="1"/>
          <p:nvPr/>
        </p:nvSpPr>
        <p:spPr>
          <a:xfrm>
            <a:off x="1012680" y="1535040"/>
            <a:ext cx="10058400" cy="3276720"/>
          </a:xfrm>
          <a:prstGeom prst="rect">
            <a:avLst/>
          </a:prstGeom>
          <a:noFill/>
          <a:ln w="0">
            <a:noFill/>
          </a:ln>
        </p:spPr>
        <p:txBody>
          <a:bodyPr anchor="t">
            <a:normAutofit fontScale="92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12674"/>
                </a:solidFill>
                <a:latin typeface="Arabic Typesetting"/>
                <a:cs typeface="Arabic Typesetting"/>
              </a:rPr>
              <a:t>لم يكن الاقتراض قديما ظاهرة لغوية مقلقة أما اليوم فهي كذلك للأسباب التال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كانت العربية في القديم في موقف العطاء والسيادة، فقد كانت تقرض أكثر مما تقترض</a:t>
            </a:r>
            <a:endParaRPr b="0" lang="en-US" sz="24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كمية الهائلة من الألفاظ والمصطلحات التي تولد كل يوم وسهولة نفاذها إلى العربية بحكم الاتصالات </a:t>
            </a:r>
            <a:endParaRPr b="0" lang="en-US" sz="24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غياب سلامة اللغة العربية لدى مستخدميها مما يسهل تأثرهم السلبي باللغات الأخرى</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31436"/>
                </a:solidFill>
                <a:latin typeface="Arabic Typesetting"/>
                <a:cs typeface="Arabic Typesetting"/>
              </a:rPr>
              <a:t>المعرب والدخيل</a:t>
            </a:r>
            <a:endParaRPr b="0" lang="en-US" sz="3600" spc="-1" strike="noStrike">
              <a:solidFill>
                <a:srgbClr val="000000"/>
              </a:solidFill>
              <a:latin typeface="Tw Cen MT"/>
            </a:endParaRPr>
          </a:p>
        </p:txBody>
      </p:sp>
      <p:sp>
        <p:nvSpPr>
          <p:cNvPr id="784" name=""/>
          <p:cNvSpPr txBox="1"/>
          <p:nvPr/>
        </p:nvSpPr>
        <p:spPr>
          <a:xfrm>
            <a:off x="2077920" y="2084040"/>
            <a:ext cx="8299440" cy="418140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إذا شذت الكلمة المدخلة لمعايير العربية الصوتية والصرفية تسمى «الدخيل».</a:t>
            </a:r>
            <a:endParaRPr b="0" lang="en-US" sz="2400" spc="-1" strike="noStrike">
              <a:solidFill>
                <a:srgbClr val="000000"/>
              </a:solidFill>
              <a:latin typeface="Tw Cen MT"/>
            </a:endParaRPr>
          </a:p>
          <a:p>
            <a:pPr lvl="1"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ظن القدماء أن بإمكانهم أن ينفوا من العربية الفصحى ما شاؤوا ويغلقوا أبواب المعاجم دونه </a:t>
            </a:r>
            <a:endParaRPr b="0" lang="en-US" sz="2400" spc="-1" strike="noStrike">
              <a:solidFill>
                <a:srgbClr val="000000"/>
              </a:solidFill>
              <a:latin typeface="Tw Cen MT"/>
            </a:endParaRPr>
          </a:p>
          <a:p>
            <a:pPr lvl="1"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ما المحدثين فلا يدعون أن بإمكانهم فعل ذلك لأن هدفهم ليس الحفاظ على </a:t>
            </a:r>
            <a:r>
              <a:rPr b="0" lang="ar-SA" sz="2400" spc="-1" strike="noStrike" u="sng">
                <a:solidFill>
                  <a:srgbClr val="000000"/>
                </a:solidFill>
                <a:uFillTx/>
                <a:latin typeface="Arabic Typesetting"/>
                <a:cs typeface="Arabic Typesetting"/>
              </a:rPr>
              <a:t>مفردات اللغة </a:t>
            </a:r>
            <a:r>
              <a:rPr b="0" lang="ar-SA" sz="2400" spc="-1" strike="noStrike">
                <a:solidFill>
                  <a:srgbClr val="000000"/>
                </a:solidFill>
                <a:latin typeface="Arabic Typesetting"/>
                <a:cs typeface="Arabic Typesetting"/>
              </a:rPr>
              <a:t>لأنها من المتحولات وإنما الحفاظ على </a:t>
            </a:r>
            <a:r>
              <a:rPr b="0" lang="ar-SA" sz="2400" spc="-1" strike="noStrike" u="sng">
                <a:solidFill>
                  <a:srgbClr val="000000"/>
                </a:solidFill>
                <a:uFillTx/>
                <a:latin typeface="Arabic Typesetting"/>
                <a:cs typeface="Arabic Typesetting"/>
              </a:rPr>
              <a:t>نظام اللغة </a:t>
            </a:r>
            <a:r>
              <a:rPr b="0" lang="ar-SA" sz="2400" spc="-1" strike="noStrike">
                <a:solidFill>
                  <a:srgbClr val="000000"/>
                </a:solidFill>
                <a:latin typeface="Arabic Typesetting"/>
                <a:cs typeface="Arabic Typesetting"/>
              </a:rPr>
              <a:t>لأنه من الثوابت.</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16120" y="204840"/>
            <a:ext cx="10362960" cy="1100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31436"/>
                </a:solidFill>
                <a:latin typeface="Tw Cen MT"/>
              </a:rPr>
              <a:t>التعريب اللفظي</a:t>
            </a:r>
            <a:endParaRPr b="0" lang="en-US" sz="2800" spc="-1" strike="noStrike">
              <a:solidFill>
                <a:srgbClr val="000000"/>
              </a:solidFill>
              <a:latin typeface="Tw Cen MT"/>
            </a:endParaRPr>
          </a:p>
        </p:txBody>
      </p:sp>
      <p:sp>
        <p:nvSpPr>
          <p:cNvPr id="786" name=""/>
          <p:cNvSpPr txBox="1"/>
          <p:nvPr/>
        </p:nvSpPr>
        <p:spPr>
          <a:xfrm>
            <a:off x="950400" y="995040"/>
            <a:ext cx="9364680" cy="5326200"/>
          </a:xfrm>
          <a:prstGeom prst="rect">
            <a:avLst/>
          </a:prstGeom>
          <a:noFill/>
          <a:ln w="0">
            <a:noFill/>
          </a:ln>
        </p:spPr>
        <p:txBody>
          <a:bodyPr anchor="t">
            <a:normAutofit fontScale="85000"/>
          </a:bodyPr>
          <a:p>
            <a:pPr marL="194040" indent="-19404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ثار وجود كلمات معربة في القرآن الكريم جدلا بين الفقهاء فقال بعضهم بوجود المعرب وبعضهم أنكروه.</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ن أمثلة معربات القرآن: </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اليم والطور والربانيون (من السريان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الصراط والقسطاس والفردوس (من الروم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مشكاة وكفلين (من الحبش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abic Typesetting"/>
                <a:cs typeface="Arabic Typesetting"/>
              </a:rPr>
              <a:t>سجيل (من الفارسية)</a:t>
            </a:r>
            <a:endParaRPr b="0" lang="en-US" sz="2000" spc="-1" strike="noStrike">
              <a:solidFill>
                <a:srgbClr val="000000"/>
              </a:solidFill>
              <a:latin typeface="Tw Cen MT"/>
            </a:endParaRPr>
          </a:p>
          <a:p>
            <a:pPr marL="194040" indent="-1940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رد على هذه الأقوال:</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نزل القرآن الكريم  «بلسان عربي مبين»</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ن هذه الألفاظ أصولها أعجمية ولكنها اختلطت بكلام العرب قبل نزول القرآن، فمن قال أنها عربية فهو صادق ومن قال أنها أعجمية فهو صادق (المذهب التوفيقي للجواليقي)</a:t>
            </a:r>
            <a:r>
              <a:rPr b="0" lang="ar-SA" sz="2000" spc="-1" strike="noStrike">
                <a:solidFill>
                  <a:srgbClr val="000000"/>
                </a:solidFill>
                <a:latin typeface="Tw Cen MT"/>
              </a:rPr>
              <a:t>.</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صل اللغات لغة واحدة هي لغة آدم تباعدت إلى لهجات تباينت حتى أصبحت لغات مستقلة، فلا غرابة في وجود بعض الكلمات المشتركة، مثلا كلمة «مسك» عدها بعض العرب فارسية وعدها الفرس عربية.</a:t>
            </a:r>
            <a:endParaRPr b="0" lang="en-US" sz="2000" spc="-1" strike="noStrike">
              <a:solidFill>
                <a:srgbClr val="000000"/>
              </a:solidFill>
              <a:latin typeface="Tw Cen MT"/>
            </a:endParaRPr>
          </a:p>
          <a:p>
            <a:pPr marL="194040" indent="-194040"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47240" y="87624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كتب المعرّب</a:t>
            </a:r>
            <a:endParaRPr b="0" lang="en-US" sz="3200" spc="-1" strike="noStrike">
              <a:solidFill>
                <a:srgbClr val="000000"/>
              </a:solidFill>
              <a:latin typeface="Tw Cen MT"/>
            </a:endParaRPr>
          </a:p>
        </p:txBody>
      </p:sp>
      <p:sp>
        <p:nvSpPr>
          <p:cNvPr id="788" name=""/>
          <p:cNvSpPr txBox="1"/>
          <p:nvPr/>
        </p:nvSpPr>
        <p:spPr>
          <a:xfrm>
            <a:off x="256680" y="2367000"/>
            <a:ext cx="10363320" cy="342432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أُلفت في المعرب كتب على مر العصور أهمها:</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معرب من الكلام الأعجمي على حروف المعجم، للجواليقي، </a:t>
            </a:r>
            <a:r>
              <a:rPr b="0" lang="ar-SA" sz="2000" spc="-1" strike="noStrike">
                <a:solidFill>
                  <a:srgbClr val="000000"/>
                </a:solidFill>
                <a:latin typeface="Arabic Typesetting"/>
                <a:ea typeface="Arabic Typesetting"/>
              </a:rPr>
              <a:t>540</a:t>
            </a:r>
            <a:r>
              <a:rPr b="0" lang="ar-SA" sz="2000" spc="-1" strike="noStrike">
                <a:solidFill>
                  <a:srgbClr val="000000"/>
                </a:solidFill>
                <a:latin typeface="Arabic Typesetting"/>
                <a:cs typeface="Arabic Typesetting"/>
              </a:rPr>
              <a:t>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تذليل والتكميل لما استعمل من اللفظ الدخيل، للبشبيشي، </a:t>
            </a:r>
            <a:r>
              <a:rPr b="0" lang="ar-SA" sz="2000" spc="-1" strike="noStrike">
                <a:solidFill>
                  <a:srgbClr val="000000"/>
                </a:solidFill>
                <a:latin typeface="Arabic Typesetting"/>
                <a:ea typeface="Arabic Typesetting"/>
              </a:rPr>
              <a:t>820</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رسالة في تحقيق الكلمة الأعجمية، لابن كمال باشا، </a:t>
            </a:r>
            <a:r>
              <a:rPr b="0" lang="ar-SA" sz="2000" spc="-1" strike="noStrike">
                <a:solidFill>
                  <a:srgbClr val="000000"/>
                </a:solidFill>
                <a:latin typeface="Arabic Typesetting"/>
                <a:ea typeface="Arabic Typesetting"/>
              </a:rPr>
              <a:t>940</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قصد السبيل فيما في العربية من الدخيل، لمحمد الدمشقي، </a:t>
            </a:r>
            <a:r>
              <a:rPr b="0" lang="ar-SA" sz="2000" spc="-1" strike="noStrike">
                <a:solidFill>
                  <a:srgbClr val="000000"/>
                </a:solidFill>
                <a:latin typeface="Arabic Typesetting"/>
                <a:ea typeface="Arabic Typesetting"/>
              </a:rPr>
              <a:t>1111</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a:p>
            <a:pPr algn="r" rtl="1">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طراز المذهب في الدخيل والمعرب، لمحمد الحلبي، </a:t>
            </a:r>
            <a:r>
              <a:rPr b="0" lang="ar-SA" sz="2000" spc="-1" strike="noStrike">
                <a:solidFill>
                  <a:srgbClr val="000000"/>
                </a:solidFill>
                <a:latin typeface="Arabic Typesetting"/>
                <a:ea typeface="Arabic Typesetting"/>
              </a:rPr>
              <a:t>1174</a:t>
            </a:r>
            <a:r>
              <a:rPr b="0" lang="ar-SA" sz="2000" spc="-1" strike="noStrike">
                <a:solidFill>
                  <a:srgbClr val="000000"/>
                </a:solidFill>
                <a:latin typeface="Arabic Typesetting"/>
                <a:ea typeface="Arabic Typesetting"/>
              </a:rPr>
              <a:t> هـ</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0" name=""/>
          <p:cNvSpPr txBox="1"/>
          <p:nvPr/>
        </p:nvSpPr>
        <p:spPr>
          <a:xfrm>
            <a:off x="1073160" y="1260360"/>
            <a:ext cx="9742320" cy="4788000"/>
          </a:xfrm>
          <a:prstGeom prst="rect">
            <a:avLst/>
          </a:prstGeom>
          <a:noFill/>
          <a:ln w="0">
            <a:noFill/>
          </a:ln>
        </p:spPr>
        <p:txBody>
          <a:bodyPr anchor="t">
            <a:normAutofit fontScale="84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31436"/>
                </a:solidFill>
                <a:latin typeface="Arabic Typesetting"/>
                <a:cs typeface="Arabic Typesetting"/>
              </a:rPr>
              <a:t>مآخذ على هذه الكتب:</a:t>
            </a:r>
            <a:endParaRPr b="0" lang="en-US" sz="32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1</a:t>
            </a:r>
            <a:r>
              <a:rPr b="0" lang="ar-SA" sz="2000" spc="-1" strike="noStrike">
                <a:solidFill>
                  <a:srgbClr val="000000"/>
                </a:solidFill>
                <a:latin typeface="Arabic Typesetting"/>
                <a:ea typeface="Arabic Typesetting"/>
              </a:rPr>
              <a:t>. اعتمدت النقل دون تمحيص أو نقد مثل نقل الجواليقي عن ابن عزيز قوله أن كلمة «طوبى» هي اسم الجنة بالهندية ولم يذكر الجواليقي قول النحاة أن «طوبى» على وزن «فعلى» من «الطيب» وأصلها «طُيبى» فقلبت الياء واواً بسبب الضمة التي سبقتها.</a:t>
            </a:r>
            <a:endParaRPr b="0" lang="en-US" sz="2000" spc="-1" strike="noStrike">
              <a:solidFill>
                <a:srgbClr val="000000"/>
              </a:solidFill>
              <a:latin typeface="Tw Cen MT"/>
            </a:endParaRPr>
          </a:p>
          <a:p>
            <a:pPr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2</a:t>
            </a:r>
            <a:r>
              <a:rPr b="0" lang="ar-SA" sz="2000" spc="-1" strike="noStrike">
                <a:solidFill>
                  <a:srgbClr val="000000"/>
                </a:solidFill>
                <a:latin typeface="Arabic Typesetting"/>
                <a:ea typeface="Arabic Typesetting"/>
              </a:rPr>
              <a:t>. عدم اعتماد المنهج الصوتي في الحكم على أصالة الكلمات وعدم الدقة في تأصيل الكلمات، مثلا نسبت «قنطار» إلى السريانية والبربرية والرومية لذلك يجب ألا نعتمد على وجود نظائر في اللغات الأخرى وإنما على منهج صوتي صرفي.</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التسرع في ادعاء التعريب مثل قول الجواليقي في كلمة «كنز» أنها فارسية معربة بينما علق محقق الكتاب الأستاذ أحمد شاكر أنها كلمة عربية لم يدع عجمتها غير المؤلف، وأصلها من «كنزت التمر في الوعاء».</a:t>
            </a: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2" name=""/>
          <p:cNvSpPr txBox="1"/>
          <p:nvPr/>
        </p:nvSpPr>
        <p:spPr>
          <a:xfrm>
            <a:off x="1643040" y="1485720"/>
            <a:ext cx="9144000" cy="4863960"/>
          </a:xfrm>
          <a:prstGeom prst="rect">
            <a:avLst/>
          </a:prstGeom>
          <a:noFill/>
          <a:ln w="0">
            <a:noFill/>
          </a:ln>
        </p:spPr>
        <p:txBody>
          <a:bodyPr anchor="t">
            <a:normAutofit fontScale="96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ذكر السيوطي مجموعة من الكلمات التي وردت في القرآن زاعماً أنها من لغات أخرى:</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يصدون، حرام (من الحبش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قيوم، سجداً (من السريان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رحمن (من العبرية)</a:t>
            </a:r>
            <a:endParaRPr b="0" lang="en-US" sz="2000" spc="-1" strike="noStrike">
              <a:solidFill>
                <a:srgbClr val="000000"/>
              </a:solidFill>
              <a:latin typeface="Tw Cen MT"/>
            </a:endParaRPr>
          </a:p>
          <a:p>
            <a:pPr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بلعي (من الهندية)</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abic Typesetting"/>
                <a:cs typeface="Arabic Typesetting"/>
              </a:rPr>
              <a:t>الرد على هذا الزعم: </a:t>
            </a:r>
            <a:r>
              <a:rPr b="0" lang="ar-SA" sz="2000" spc="-1" strike="noStrike">
                <a:solidFill>
                  <a:srgbClr val="000000"/>
                </a:solidFill>
                <a:latin typeface="Arabic Typesetting"/>
                <a:cs typeface="Arabic Typesetting"/>
              </a:rPr>
              <a:t>كيف نعرف أن العربية هي التي أخذت وليس العكس، خاصة وأن في العربية اشتقاقات كثيرة لهذه الكلمات من (صد، حرم، قام، سجد، رحم، بلع)</a:t>
            </a:r>
            <a:endParaRPr b="0" lang="en-US" sz="20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وأصل اللغات لغة واحدة هي لغة آدم تباعدت إلى لهجات تباينت حتى أصبحت لغات مستقلة، فلا غرابة في وجود بعض الكلمات المشتركة، مثلا كلمة «مسك» عدها بعض العرب فارسية وعدها الفرس عربي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4T10:52:59Z</dcterms:created>
  <dc:creator>Reem Alsalem</dc:creator>
  <dc:description/>
  <dc:language>en-US</dc:language>
  <cp:lastModifiedBy>user</cp:lastModifiedBy>
  <dcterms:modified xsi:type="dcterms:W3CDTF">2017-11-27T05:02:35Z</dcterms:modified>
  <cp:revision>37</cp:revision>
  <dc:subject/>
  <dc:title>التعريب (المحاضرة 10) التعريب اللفظي</dc:title>
</cp:coreProperties>
</file>