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3E6-090C-41D9-A97F-D1613649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755-BB67-4B4E-B492-41C31192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19C-4EEB-40B7-966A-3C5E2DF7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54F-C4BB-47B5-9F49-8DDF4A7E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FB7-801D-47A1-9CB9-37F9DDE5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A75-E476-43D4-A8AD-9EEEE1D3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718-953D-4B41-9942-610FC824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B1B-B6E1-406C-B623-BCFD0E0A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BEF8-EA21-4D26-8BA0-B5F9AA9F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90B-7094-4FB8-995E-DEE4EB3C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367-9269-4BDA-8E77-B8567DA9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4C1-241E-4640-9E88-86F92A45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1F2D-4DDB-48F6-88BE-3850999FDE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33cc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EBA-D53D-4DB0-9A90-6AE11C9D00C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980720" y="300240"/>
            <a:ext cx="4038840" cy="3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 one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one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7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0" name="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" name="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2" name="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FF7-F4ED-4B1A-89B3-8BEF716AD7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9B29-8BA3-4305-ABEC-259E6C155D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311-EAF5-42C5-94F1-CCEAAE3722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,                                                  binding by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e to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572000" y="1197000"/>
            <a:ext cx="4572000" cy="3222720"/>
          </a:xfrm>
          <a:prstGeom prst="rect">
            <a:avLst/>
          </a:prstGeom>
          <a:ln w="0">
            <a:noFill/>
          </a:ln>
        </p:spPr>
      </p:pic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505-9773-4F31-92E9-629C9A123A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4100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                                                      subunits to make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800" y="609588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8A6-D69B-4CF0-8A44-508AB48788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ash</cp:lastModifiedBy>
  <dcterms:modified xsi:type="dcterms:W3CDTF">2013-01-09T23:05:37Z</dcterms:modified>
  <cp:revision>59</cp:revision>
  <dc:subject/>
  <dc:title>Slide 1</dc:title>
</cp:coreProperties>
</file>