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F20-2DD9-4DF9-AD07-E650C799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C61-1E9A-4FDE-B364-9456C0B5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77D-A284-43E5-956A-E000AA0D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A98-F09C-4111-9E39-A4469C50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AEB-ADCF-423C-A508-72F25666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B86-2F81-4950-B090-D2FF5530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FED-5F98-4C8D-8EEC-462E301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FB0-4608-4D33-8EAB-7F867F4C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94F-25EB-47DB-8981-2CD681B7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DE3-093A-464E-B069-3A18D85B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188-3ED2-4372-A016-19ACBD4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B0C-D38D-446B-802D-1549875D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4F43-F426-4D0B-9E07-90BB5CAFEF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33cc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DD5-C223-427D-AB35-A3277A6A822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980720" y="300240"/>
            <a:ext cx="4038840" cy="3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 one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one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7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2" name="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1FB-64BF-432D-9165-AF76FD822F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011-41FD-4C36-B1FE-004282DC79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E5C-1E3F-45D4-8C91-8B794B3CD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,                                                  binding by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e to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572000" y="1197000"/>
            <a:ext cx="4572000" cy="322272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EFD-F115-4F49-BCE0-7479156F90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54100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                                                      subunits to make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800" y="609588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CE6-F01E-45F3-A17C-6E22827153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ash</cp:lastModifiedBy>
  <dcterms:modified xsi:type="dcterms:W3CDTF">2013-01-09T23:05:37Z</dcterms:modified>
  <cp:revision>59</cp:revision>
  <dc:subject/>
  <dc:title>Slide 1</dc:title>
</cp:coreProperties>
</file>