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FD21-F230-4F62-9DC1-649C9F8C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5785-63EC-494F-AFCD-BC50B8F8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6427-9818-4029-A439-F0DAD4A9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436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7640" y="182520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714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436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7640" y="4098240"/>
            <a:ext cx="23644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9368-889E-4F21-AF67-AF2CE4DA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6F7-667C-4DFD-97D6-66050698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B420-458E-4785-92F7-8DE3F4AF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7E9A-1F6F-466E-AFEF-903696DD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84F-95E2-419D-B2CB-0CFE77AB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43120" y="365040"/>
            <a:ext cx="677232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50B9-5E75-4332-8D54-76BAB387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0B4-6CB3-4C40-AF70-74E93261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880" y="409824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9F33-972B-4E73-A260-A9B91B4B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144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880" y="1825200"/>
            <a:ext cx="3583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1440" y="4098240"/>
            <a:ext cx="73440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7882-6160-4FB1-96EF-F29574BB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171080" y="6356520"/>
            <a:ext cx="1914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12B9-355E-43AA-87F1-CF605A7E4892}" type="datetime">
              <a:rPr b="0" lang="ar-SA" sz="1200" spc="-1" strike="noStrike">
                <a:solidFill>
                  <a:srgbClr val="898989"/>
                </a:solidFill>
                <a:latin typeface="Arial"/>
              </a:rPr>
              <a:t>١٤٤٨/٠٢/١٤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86240" y="635652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evelopment of Internet Application 1501CT - Sara Almudau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0801-B5DB-422E-B28C-BB3E1391000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71440" y="1825200"/>
            <a:ext cx="73440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a5a5a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743120" y="36504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9bd5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381880" cy="37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5b9bd5"/>
                </a:solidFill>
                <a:latin typeface="Cambria"/>
              </a:rPr>
              <a:t>ASP.NET Relationships between tables</a:t>
            </a:r>
            <a:br>
              <a:rPr sz="3200"/>
            </a:br>
            <a:r>
              <a:rPr b="0" lang="en-US" sz="3200" spc="-1" strike="noStrike">
                <a:solidFill>
                  <a:srgbClr val="5b9bd5"/>
                </a:solidFill>
                <a:latin typeface="Cambria"/>
              </a:rPr>
              <a:t>Report viewer </a:t>
            </a:r>
            <a:br>
              <a:rPr sz="3200"/>
            </a:br>
            <a:r>
              <a:rPr b="0" lang="en-US" sz="3200" spc="-1" strike="noStrike">
                <a:solidFill>
                  <a:srgbClr val="5b9bd5"/>
                </a:solidFill>
                <a:latin typeface="Cambria"/>
              </a:rPr>
              <a:t>RadioButton List &amp; Dropdown List</a:t>
            </a:r>
            <a:br>
              <a:rPr sz="3200"/>
            </a:br>
            <a:endParaRPr b="0" lang="en-US" sz="32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42" name="Slide Number Placeholder 4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B91A-AA01-46AC-98D5-CE036A64C46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rcRect l="0" t="9000" r="27499" b="29003"/>
          <a:stretch/>
        </p:blipFill>
        <p:spPr>
          <a:xfrm>
            <a:off x="152280" y="1447920"/>
            <a:ext cx="8839440" cy="47242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304920" y="6145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ly select the delete r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639F-B67E-4DC4-B48A-D09EF4275E5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66688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9bd5"/>
                </a:solidFill>
                <a:latin typeface="Cambria"/>
              </a:rPr>
              <a:t>Report viewer</a:t>
            </a:r>
            <a:endParaRPr b="0" lang="en-US" sz="44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B9EB-4C5E-455D-B93C-20E65E1C023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228600" y="685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“reportview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rcRect l="0" t="12619" r="44905" b="29078"/>
          <a:stretch/>
        </p:blipFill>
        <p:spPr>
          <a:xfrm>
            <a:off x="990720" y="1371600"/>
            <a:ext cx="7026120" cy="4648320"/>
          </a:xfrm>
          <a:prstGeom prst="rect">
            <a:avLst/>
          </a:prstGeom>
          <a:ln w="0">
            <a:noFill/>
          </a:ln>
        </p:spPr>
      </p:pic>
      <p:sp>
        <p:nvSpPr>
          <p:cNvPr id="73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5D53-5CB8-4EC9-91BD-80B6E9B4B64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0" t="12770" r="46252" b="37540"/>
          <a:stretch/>
        </p:blipFill>
        <p:spPr>
          <a:xfrm>
            <a:off x="1295280" y="1828800"/>
            <a:ext cx="6553440" cy="37861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228600" y="6858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“Script Manag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9D1E-20A6-4856-B309-62FE57AA90E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287280" y="46836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New Item &gt; Add a repor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rcRect l="12886" t="9694" r="12788" b="13691"/>
          <a:stretch/>
        </p:blipFill>
        <p:spPr>
          <a:xfrm>
            <a:off x="152280" y="914400"/>
            <a:ext cx="8602920" cy="5541840"/>
          </a:xfrm>
          <a:prstGeom prst="rect">
            <a:avLst/>
          </a:prstGeom>
          <a:ln w="0">
            <a:noFill/>
          </a:ln>
        </p:spPr>
      </p:pic>
      <p:sp>
        <p:nvSpPr>
          <p:cNvPr id="79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BB17-5D73-4E7D-BDC8-A8330EBA2BD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287280" y="8492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Data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rcRect l="0" t="13573" r="26155" b="48155"/>
          <a:stretch/>
        </p:blipFill>
        <p:spPr>
          <a:xfrm>
            <a:off x="11160" y="1676520"/>
            <a:ext cx="9004320" cy="29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ED63-EF0C-4917-B436-ADCA7CCBE36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87280" y="4572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wizard and select the data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15760" r="18903" b="18619"/>
          <a:stretch/>
        </p:blipFill>
        <p:spPr>
          <a:xfrm>
            <a:off x="73080" y="1243080"/>
            <a:ext cx="8907480" cy="450360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CA37-3998-45D0-B78C-738BBE5A8E39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0" t="12000" r="18558" b="19233"/>
          <a:stretch/>
        </p:blipFill>
        <p:spPr>
          <a:xfrm>
            <a:off x="52560" y="1143000"/>
            <a:ext cx="8939160" cy="4718160"/>
          </a:xfrm>
          <a:prstGeom prst="rect">
            <a:avLst/>
          </a:prstGeom>
          <a:ln w="0">
            <a:noFill/>
          </a:ln>
        </p:spPr>
      </p:pic>
      <p:sp>
        <p:nvSpPr>
          <p:cNvPr id="87" name="Slide Number Placeholder 2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6372-48B9-47F1-9AAB-F9AF1DB909C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rcRect l="0" t="12576" r="18558" b="18619"/>
          <a:stretch/>
        </p:blipFill>
        <p:spPr>
          <a:xfrm>
            <a:off x="152280" y="1143000"/>
            <a:ext cx="9091800" cy="4800600"/>
          </a:xfrm>
          <a:prstGeom prst="rect">
            <a:avLst/>
          </a:prstGeom>
          <a:ln w="0">
            <a:noFill/>
          </a:ln>
        </p:spPr>
      </p:pic>
      <p:sp>
        <p:nvSpPr>
          <p:cNvPr id="89" name="Slide Number Placeholder 2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3E9D-9DCA-4DA2-9938-BD9064E12DCF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228600" y="45720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ing the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2463" r="24038" b="41692"/>
          <a:stretch/>
        </p:blipFill>
        <p:spPr>
          <a:xfrm>
            <a:off x="228600" y="2666880"/>
            <a:ext cx="8745480" cy="3299040"/>
          </a:xfrm>
          <a:prstGeom prst="rect">
            <a:avLst/>
          </a:prstGeom>
          <a:ln w="0">
            <a:noFill/>
          </a:ln>
        </p:spPr>
      </p:pic>
      <p:sp>
        <p:nvSpPr>
          <p:cNvPr id="92" name="مربع نص 3"/>
          <p:cNvSpPr/>
          <p:nvPr/>
        </p:nvSpPr>
        <p:spPr>
          <a:xfrm>
            <a:off x="304920" y="9144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Click&gt; Insert &gt; Table &gt;  then add  each column  by Right click on each c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C03FC-A648-49E8-9304-B19D4A6BAA8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514600"/>
            <a:ext cx="85341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9bd5"/>
                </a:solidFill>
                <a:latin typeface="Cambria"/>
              </a:rPr>
              <a:t>ASP.NET Relationships between tables</a:t>
            </a:r>
            <a:endParaRPr b="0" lang="en-US" sz="40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44" name="Slide Number Placeholder 4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6433-2D40-406A-97D9-7400DED1B272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590920"/>
            <a:ext cx="8001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9bd5"/>
                </a:solidFill>
                <a:latin typeface="Cambria"/>
              </a:rPr>
              <a:t>RadioButton List &amp; Dropdown List</a:t>
            </a:r>
            <a:endParaRPr b="0" lang="en-US" sz="40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8741-465F-4F07-8C94-C7C0FB0206BE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182600" y="0"/>
            <a:ext cx="6043680" cy="6759720"/>
          </a:xfrm>
          <a:prstGeom prst="rect">
            <a:avLst/>
          </a:prstGeom>
          <a:ln w="0">
            <a:noFill/>
          </a:ln>
        </p:spPr>
      </p:pic>
      <p:cxnSp>
        <p:nvCxnSpPr>
          <p:cNvPr id="97" name="Straight Arrow Connector 4"/>
          <p:cNvCxnSpPr/>
          <p:nvPr/>
        </p:nvCxnSpPr>
        <p:spPr>
          <a:xfrm flipH="1">
            <a:off x="3080520" y="2822040"/>
            <a:ext cx="1591560" cy="31950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8" name="TextBox 5"/>
          <p:cNvSpPr/>
          <p:nvPr/>
        </p:nvSpPr>
        <p:spPr>
          <a:xfrm>
            <a:off x="3956040" y="3141360"/>
            <a:ext cx="308160" cy="58140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7"/>
          <p:cNvCxnSpPr/>
          <p:nvPr/>
        </p:nvCxnSpPr>
        <p:spPr>
          <a:xfrm flipH="1">
            <a:off x="4998600" y="834840"/>
            <a:ext cx="659520" cy="75636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0" name="TextBox 8"/>
          <p:cNvSpPr/>
          <p:nvPr/>
        </p:nvSpPr>
        <p:spPr>
          <a:xfrm>
            <a:off x="5657760" y="734040"/>
            <a:ext cx="308160" cy="58140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6967440" y="655560"/>
            <a:ext cx="2506680" cy="36828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adio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10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A28A-81F5-4B9F-87E5-2C26C5B670A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192320" y="593640"/>
            <a:ext cx="6162480" cy="5905440"/>
          </a:xfrm>
          <a:prstGeom prst="rect">
            <a:avLst/>
          </a:prstGeom>
          <a:ln w="0">
            <a:noFill/>
          </a:ln>
        </p:spPr>
      </p:pic>
      <p:cxnSp>
        <p:nvCxnSpPr>
          <p:cNvPr id="104" name="Straight Arrow Connector 4"/>
          <p:cNvCxnSpPr/>
          <p:nvPr/>
        </p:nvCxnSpPr>
        <p:spPr>
          <a:xfrm flipV="1">
            <a:off x="883800" y="5658840"/>
            <a:ext cx="726120" cy="424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TextBox 5"/>
          <p:cNvSpPr/>
          <p:nvPr/>
        </p:nvSpPr>
        <p:spPr>
          <a:xfrm>
            <a:off x="804960" y="5329440"/>
            <a:ext cx="38736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6"/>
          <p:cNvCxnSpPr/>
          <p:nvPr/>
        </p:nvCxnSpPr>
        <p:spPr>
          <a:xfrm flipV="1">
            <a:off x="3911400" y="2844360"/>
            <a:ext cx="726120" cy="424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7" name="TextBox 7"/>
          <p:cNvSpPr/>
          <p:nvPr/>
        </p:nvSpPr>
        <p:spPr>
          <a:xfrm>
            <a:off x="3886200" y="2594880"/>
            <a:ext cx="38736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8"/>
          <p:cNvCxnSpPr/>
          <p:nvPr/>
        </p:nvCxnSpPr>
        <p:spPr>
          <a:xfrm flipV="1">
            <a:off x="4437000" y="6143040"/>
            <a:ext cx="727560" cy="425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9" name="TextBox 9"/>
          <p:cNvSpPr/>
          <p:nvPr/>
        </p:nvSpPr>
        <p:spPr>
          <a:xfrm>
            <a:off x="4660920" y="5697000"/>
            <a:ext cx="38880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0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8372-D9AD-43D0-AB7B-B9D62C03E423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292400" y="698400"/>
            <a:ext cx="5841720" cy="5421240"/>
          </a:xfrm>
          <a:prstGeom prst="rect">
            <a:avLst/>
          </a:prstGeom>
          <a:ln w="0">
            <a:noFill/>
          </a:ln>
        </p:spPr>
      </p:pic>
      <p:cxnSp>
        <p:nvCxnSpPr>
          <p:cNvPr id="112" name="Straight Arrow Connector 6"/>
          <p:cNvCxnSpPr/>
          <p:nvPr/>
        </p:nvCxnSpPr>
        <p:spPr>
          <a:xfrm>
            <a:off x="2763720" y="1816200"/>
            <a:ext cx="1372320" cy="21470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3" name="TextBox 7"/>
          <p:cNvSpPr/>
          <p:nvPr/>
        </p:nvSpPr>
        <p:spPr>
          <a:xfrm>
            <a:off x="2992320" y="3083400"/>
            <a:ext cx="45720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8"/>
          <p:cNvCxnSpPr/>
          <p:nvPr/>
        </p:nvCxnSpPr>
        <p:spPr>
          <a:xfrm flipH="1">
            <a:off x="5014800" y="3312720"/>
            <a:ext cx="255960" cy="10735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5" name="TextBox 10"/>
          <p:cNvSpPr/>
          <p:nvPr/>
        </p:nvSpPr>
        <p:spPr>
          <a:xfrm>
            <a:off x="5405400" y="3083400"/>
            <a:ext cx="45720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1"/>
          <p:cNvSpPr/>
          <p:nvPr/>
        </p:nvSpPr>
        <p:spPr>
          <a:xfrm>
            <a:off x="2763720" y="139680"/>
            <a:ext cx="2506680" cy="36828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opDown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9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79E6-1A4C-4074-B14E-5191FA44932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143000" y="625320"/>
            <a:ext cx="6232680" cy="5913720"/>
          </a:xfrm>
          <a:prstGeom prst="rect">
            <a:avLst/>
          </a:prstGeom>
          <a:ln w="0">
            <a:noFill/>
          </a:ln>
        </p:spPr>
      </p:pic>
      <p:cxnSp>
        <p:nvCxnSpPr>
          <p:cNvPr id="119" name="Straight Arrow Connector 4"/>
          <p:cNvCxnSpPr/>
          <p:nvPr/>
        </p:nvCxnSpPr>
        <p:spPr>
          <a:xfrm flipV="1">
            <a:off x="883800" y="5658840"/>
            <a:ext cx="726120" cy="42444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0" name="TextBox 5"/>
          <p:cNvSpPr/>
          <p:nvPr/>
        </p:nvSpPr>
        <p:spPr>
          <a:xfrm>
            <a:off x="804960" y="5329440"/>
            <a:ext cx="38736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6"/>
          <p:cNvCxnSpPr/>
          <p:nvPr/>
        </p:nvCxnSpPr>
        <p:spPr>
          <a:xfrm flipV="1">
            <a:off x="3911400" y="2844360"/>
            <a:ext cx="726120" cy="4248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TextBox 7"/>
          <p:cNvSpPr/>
          <p:nvPr/>
        </p:nvSpPr>
        <p:spPr>
          <a:xfrm>
            <a:off x="3886200" y="2594880"/>
            <a:ext cx="38736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8"/>
          <p:cNvCxnSpPr/>
          <p:nvPr/>
        </p:nvCxnSpPr>
        <p:spPr>
          <a:xfrm flipV="1">
            <a:off x="4437000" y="6143040"/>
            <a:ext cx="727560" cy="425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4" name="TextBox 9"/>
          <p:cNvSpPr/>
          <p:nvPr/>
        </p:nvSpPr>
        <p:spPr>
          <a:xfrm>
            <a:off x="4660920" y="5697000"/>
            <a:ext cx="388800" cy="45972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0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663C-506F-4F40-BF5B-5CE2748B7A4A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01840" y="579600"/>
            <a:ext cx="5810040" cy="5776920"/>
          </a:xfrm>
          <a:prstGeom prst="rect">
            <a:avLst/>
          </a:prstGeom>
          <a:ln w="0">
            <a:noFill/>
          </a:ln>
        </p:spPr>
      </p:pic>
      <p:sp>
        <p:nvSpPr>
          <p:cNvPr id="127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1FA9-C491-464D-B691-73AEB2247B1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2"/>
          <p:cNvSpPr/>
          <p:nvPr/>
        </p:nvSpPr>
        <p:spPr>
          <a:xfrm>
            <a:off x="609480" y="959400"/>
            <a:ext cx="7925040" cy="39888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click the button you need to retrieve all selected i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609480" y="2222280"/>
            <a:ext cx="8305920" cy="1465560"/>
          </a:xfrm>
          <a:prstGeom prst="rect">
            <a:avLst/>
          </a:prstGeom>
          <a:noFill/>
          <a:ln w="9360">
            <a:solidFill>
              <a:srgbClr val="e7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ed Sub Button1_Click(ByVal sender As Object, ByVal e As System.EventArgs) Handles Button1.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1.Text = " You are :   " &amp; RadioButtonList1.SelectedValue &amp; "  and your age is between:   " &amp; DropDownList1.Selected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1FC3-127D-4A85-944C-C449FC6278CD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98440" y="716040"/>
            <a:ext cx="8210520" cy="434808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1465-0AA9-425F-8551-47FB794B9EE7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89040" y="1755720"/>
            <a:ext cx="67723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5b9bd5"/>
                </a:solidFill>
                <a:latin typeface="Cambria"/>
              </a:rPr>
              <a:t>Questions !!</a:t>
            </a:r>
            <a:br>
              <a:rPr sz="6000"/>
            </a:br>
            <a:r>
              <a:rPr b="1" lang="en-GB" sz="6000" spc="-1" strike="noStrike">
                <a:solidFill>
                  <a:srgbClr val="5b9bd5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5b9bd5"/>
              </a:solidFill>
              <a:latin typeface="Cambri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0439-A195-4D5C-ACBD-811CC958D545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0" t="9000" r="43125" b="58001"/>
          <a:stretch/>
        </p:blipFill>
        <p:spPr>
          <a:xfrm>
            <a:off x="380880" y="3160800"/>
            <a:ext cx="7772400" cy="3011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04920" y="531720"/>
            <a:ext cx="77724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a35"/>
                </a:solidFill>
                <a:latin typeface="Arial"/>
              </a:rPr>
              <a:t>The Relationships Between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database as usual and as we already knew from the previous lectures. Click on View, and select Server Explorer window. Double-click on your database then all files which are stored in this database will appear. Right-click on Table folder and choose Add New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ields you desire and choose their data types. Don’t forget to save your table. For example, create 3 fields “StudentID” , “StudentName” and “te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D516-93AA-45E6-B955-53C33209DD0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9000" r="48126" b="58001"/>
          <a:stretch/>
        </p:blipFill>
        <p:spPr>
          <a:xfrm>
            <a:off x="216000" y="2538360"/>
            <a:ext cx="7924680" cy="3151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304920" y="766800"/>
            <a:ext cx="78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Table folder again and choose Add New Table to Create a new table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ields you desire and choose their data types. Don’t forget to save your table. For example, create 3 fields “CourseID” , “title” and “hour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6597-4F8C-4705-B66F-002ED945ABC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9000" r="43751" b="56002"/>
          <a:stretch/>
        </p:blipFill>
        <p:spPr>
          <a:xfrm>
            <a:off x="228600" y="2438280"/>
            <a:ext cx="7924680" cy="32004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04920" y="843120"/>
            <a:ext cx="78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Table folder again and choose Add New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ields you desire and choose their data types. Don’t forget to save your table. For example, create 3 fields “StudentID” , “CourseID” and “scor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BEE3-A4CA-40D4-AEAC-9A647EB5CEB4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0" t="9000" r="26876" b="28001"/>
          <a:stretch/>
        </p:blipFill>
        <p:spPr>
          <a:xfrm>
            <a:off x="76320" y="1600200"/>
            <a:ext cx="8915400" cy="4800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04920" y="6145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sign a foreign key for a table when you in the table definition click on table designer toolbar and choose relationships ic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B380-7E40-46EC-B7C0-46C97DC66E6C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0" t="9000" r="27499" b="28001"/>
          <a:stretch/>
        </p:blipFill>
        <p:spPr>
          <a:xfrm>
            <a:off x="152280" y="137160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04920" y="6145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ables And Columns Specification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57AA-A905-4D1B-AA90-C366D4938D7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0" t="9000" r="27499" b="28001"/>
          <a:stretch/>
        </p:blipFill>
        <p:spPr>
          <a:xfrm>
            <a:off x="152280" y="1219320"/>
            <a:ext cx="8839440" cy="4800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04920" y="6145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primary key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B5F5-CACD-4BD9-A81D-D4E8BC790A7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rcRect l="0" t="9000" r="28125" b="29003"/>
          <a:stretch/>
        </p:blipFill>
        <p:spPr>
          <a:xfrm>
            <a:off x="152280" y="1523880"/>
            <a:ext cx="8763120" cy="4724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04920" y="6145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the field to be foreign key in this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058080" y="6356520"/>
            <a:ext cx="2457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384B-AA16-4720-A690-210AB52C71F6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0:57:36Z</dcterms:created>
  <dc:creator>User</dc:creator>
  <dc:description/>
  <dc:language>en-US</dc:language>
  <cp:lastModifiedBy>User</cp:lastModifiedBy>
  <dcterms:modified xsi:type="dcterms:W3CDTF">2016-11-05T18:38:41Z</dcterms:modified>
  <cp:revision>51</cp:revision>
  <dc:subject/>
  <dc:title>الشريحة 1</dc:title>
</cp:coreProperties>
</file>