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D992-6ABA-42E8-8923-1A9A9EE4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1440" y="1825200"/>
            <a:ext cx="734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1440" y="4098240"/>
            <a:ext cx="734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96F6-7590-484A-ABC7-0056236C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1440" y="182520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880" y="182520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1440" y="409824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880" y="409824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6C2D-C4B1-4D9D-A93F-468AF6B6A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1440" y="1825200"/>
            <a:ext cx="2364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4360" y="1825200"/>
            <a:ext cx="2364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7640" y="1825200"/>
            <a:ext cx="2364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1440" y="4098240"/>
            <a:ext cx="2364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4360" y="4098240"/>
            <a:ext cx="2364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7640" y="4098240"/>
            <a:ext cx="2364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A4C6-DA02-4B02-81E2-F21E2B2A2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1440" y="1825200"/>
            <a:ext cx="73440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172F-1EC1-42C8-B5D9-CE4ED70D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1440" y="1825200"/>
            <a:ext cx="734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E77F-3419-4DBA-80DE-66BE6EA2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1440" y="1825200"/>
            <a:ext cx="35838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880" y="1825200"/>
            <a:ext cx="35838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89CF-95CE-41CD-ACDD-E34E47EE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5028-F529-4841-A368-FE3025DF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43120" y="365040"/>
            <a:ext cx="677232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5D24-AE5F-4AC5-AA3E-1FBEE353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1440" y="182520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880" y="1825200"/>
            <a:ext cx="35838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1440" y="409824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306C-4B9D-45FD-BAF1-AA9635D7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1440" y="1825200"/>
            <a:ext cx="35838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880" y="182520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880" y="409824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68D3-5733-489A-8C3F-3A308A05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1440" y="182520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880" y="182520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1440" y="4098240"/>
            <a:ext cx="734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8FA7-CAD0-465B-AE94-5247D5D7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171080" y="6356520"/>
            <a:ext cx="1914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8E27-3622-405F-885D-C37C08D12DE6}" type="datetime">
              <a:rPr b="0" lang="ar-SA" sz="1200" spc="-1" strike="noStrike">
                <a:solidFill>
                  <a:srgbClr val="898989"/>
                </a:solidFill>
                <a:latin typeface="Arial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486240" y="6356520"/>
            <a:ext cx="217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evelopment of Internet Application 1501CT - Sara Almudau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FFB8-568D-49FE-B961-92B959AFC0AF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71440" y="1825200"/>
            <a:ext cx="734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9bd5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1447920"/>
            <a:ext cx="8381880" cy="37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5b9bd5"/>
                </a:solidFill>
                <a:latin typeface="Cambria"/>
              </a:rPr>
              <a:t>ASP.NET Relationships between tables</a:t>
            </a:r>
            <a:br>
              <a:rPr sz="3200"/>
            </a:br>
            <a:r>
              <a:rPr b="0" lang="en-US" sz="3200" spc="-1" strike="noStrike">
                <a:solidFill>
                  <a:srgbClr val="5b9bd5"/>
                </a:solidFill>
                <a:latin typeface="Cambria"/>
              </a:rPr>
              <a:t>Report viewer </a:t>
            </a:r>
            <a:br>
              <a:rPr sz="3200"/>
            </a:br>
            <a:r>
              <a:rPr b="0" lang="en-US" sz="3200" spc="-1" strike="noStrike">
                <a:solidFill>
                  <a:srgbClr val="5b9bd5"/>
                </a:solidFill>
                <a:latin typeface="Cambria"/>
              </a:rPr>
              <a:t>RadioButton List &amp; Dropdown List</a:t>
            </a:r>
            <a:br>
              <a:rPr sz="3200"/>
            </a:br>
            <a:endParaRPr b="0" lang="en-US" sz="32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42" name="Slide Number Placeholder 4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3F80-0840-4B08-BD30-C2A0180560BB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rcRect l="0" t="9000" r="27499" b="29003"/>
          <a:stretch/>
        </p:blipFill>
        <p:spPr>
          <a:xfrm>
            <a:off x="152280" y="1447920"/>
            <a:ext cx="8839440" cy="47242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304920" y="6145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ly select the delete r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94DA-5B3D-4C0A-A096-BC856704C0E8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266688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9bd5"/>
                </a:solidFill>
                <a:latin typeface="Cambria"/>
              </a:rPr>
              <a:t>Report viewer</a:t>
            </a: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70" name="Slide Number Placeholder 2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44DA-790A-431E-B743-D3C08A265DDF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228600" y="68580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“reportviewer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rcRect l="0" t="12619" r="44905" b="29078"/>
          <a:stretch/>
        </p:blipFill>
        <p:spPr>
          <a:xfrm>
            <a:off x="990720" y="1371600"/>
            <a:ext cx="7026120" cy="4648320"/>
          </a:xfrm>
          <a:prstGeom prst="rect">
            <a:avLst/>
          </a:prstGeom>
          <a:ln w="0">
            <a:noFill/>
          </a:ln>
        </p:spPr>
      </p:pic>
      <p:sp>
        <p:nvSpPr>
          <p:cNvPr id="73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3BBC-E17D-4901-BEFE-4AF4D84660DE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0" t="12770" r="46252" b="37540"/>
          <a:stretch/>
        </p:blipFill>
        <p:spPr>
          <a:xfrm>
            <a:off x="1295280" y="1828800"/>
            <a:ext cx="6553440" cy="37861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228600" y="68580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“Script Manager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B6C1-AD98-4713-A86D-1811CCA4FDE3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287280" y="468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New Item &gt; Add a report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rcRect l="12886" t="9694" r="12788" b="13691"/>
          <a:stretch/>
        </p:blipFill>
        <p:spPr>
          <a:xfrm>
            <a:off x="152280" y="914400"/>
            <a:ext cx="8602920" cy="554184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69BD-EADA-45E1-90D2-6F3E6738CF61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287280" y="84924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DataS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rcRect l="0" t="13573" r="26155" b="48155"/>
          <a:stretch/>
        </p:blipFill>
        <p:spPr>
          <a:xfrm>
            <a:off x="11160" y="1676520"/>
            <a:ext cx="9004320" cy="2916000"/>
          </a:xfrm>
          <a:prstGeom prst="rect">
            <a:avLst/>
          </a:prstGeom>
          <a:ln w="0">
            <a:noFill/>
          </a:ln>
        </p:spPr>
      </p:pic>
      <p:sp>
        <p:nvSpPr>
          <p:cNvPr id="82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5464-0366-4B5C-970D-D6A2A583BB27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287280" y="45720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the wizard and select the data conn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15760" r="18903" b="18619"/>
          <a:stretch/>
        </p:blipFill>
        <p:spPr>
          <a:xfrm>
            <a:off x="73080" y="1243080"/>
            <a:ext cx="8907480" cy="4503600"/>
          </a:xfrm>
          <a:prstGeom prst="rect">
            <a:avLst/>
          </a:prstGeom>
          <a:ln w="0">
            <a:noFill/>
          </a:ln>
        </p:spPr>
      </p:pic>
      <p:sp>
        <p:nvSpPr>
          <p:cNvPr id="85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1304-2197-4658-8172-13F9424FB9DA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rcRect l="0" t="12000" r="18558" b="19233"/>
          <a:stretch/>
        </p:blipFill>
        <p:spPr>
          <a:xfrm>
            <a:off x="52560" y="1143000"/>
            <a:ext cx="8939160" cy="471816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2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5F88-A248-41E5-9678-3EAEDA86C6B0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rcRect l="0" t="12576" r="18558" b="18619"/>
          <a:stretch/>
        </p:blipFill>
        <p:spPr>
          <a:xfrm>
            <a:off x="152280" y="1143000"/>
            <a:ext cx="9091800" cy="4800600"/>
          </a:xfrm>
          <a:prstGeom prst="rect">
            <a:avLst/>
          </a:prstGeom>
          <a:ln w="0">
            <a:noFill/>
          </a:ln>
        </p:spPr>
      </p:pic>
      <p:sp>
        <p:nvSpPr>
          <p:cNvPr id="89" name="Slide Number Placeholder 2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2DBF-96FF-49F9-9F8E-598BD3FAEF8A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228600" y="45720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nging the rep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2463" r="24038" b="41692"/>
          <a:stretch/>
        </p:blipFill>
        <p:spPr>
          <a:xfrm>
            <a:off x="228600" y="2666880"/>
            <a:ext cx="8745480" cy="3299040"/>
          </a:xfrm>
          <a:prstGeom prst="rect">
            <a:avLst/>
          </a:prstGeom>
          <a:ln w="0">
            <a:noFill/>
          </a:ln>
        </p:spPr>
      </p:pic>
      <p:sp>
        <p:nvSpPr>
          <p:cNvPr id="92" name="مربع نص 3"/>
          <p:cNvSpPr/>
          <p:nvPr/>
        </p:nvSpPr>
        <p:spPr>
          <a:xfrm>
            <a:off x="304920" y="9144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&gt; Insert &gt; Table &gt;  then add  each column  by Right click on each ce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FE19-38E9-49DF-A4C8-3AFCBF9B6B7A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514600"/>
            <a:ext cx="85341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9bd5"/>
                </a:solidFill>
                <a:latin typeface="Cambria"/>
              </a:rPr>
              <a:t>ASP.NET Relationships between tables</a:t>
            </a:r>
            <a:endParaRPr b="0" lang="en-US" sz="40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44" name="Slide Number Placeholder 4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1908-63F6-4CD0-82D6-23C36214F6E6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2590920"/>
            <a:ext cx="8001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9bd5"/>
                </a:solidFill>
                <a:latin typeface="Cambria"/>
              </a:rPr>
              <a:t>RadioButton List &amp; Dropdown List</a:t>
            </a:r>
            <a:endParaRPr b="0" lang="en-US" sz="40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18D6-6368-4A02-B461-27195FBFBA82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182600" y="0"/>
            <a:ext cx="6043680" cy="6759720"/>
          </a:xfrm>
          <a:prstGeom prst="rect">
            <a:avLst/>
          </a:prstGeom>
          <a:ln w="0">
            <a:noFill/>
          </a:ln>
        </p:spPr>
      </p:pic>
      <p:cxnSp>
        <p:nvCxnSpPr>
          <p:cNvPr id="97" name="Straight Arrow Connector 4"/>
          <p:cNvCxnSpPr/>
          <p:nvPr/>
        </p:nvCxnSpPr>
        <p:spPr>
          <a:xfrm flipH="1">
            <a:off x="3080520" y="2822040"/>
            <a:ext cx="1591560" cy="31950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98" name="TextBox 5"/>
          <p:cNvSpPr/>
          <p:nvPr/>
        </p:nvSpPr>
        <p:spPr>
          <a:xfrm>
            <a:off x="3956040" y="3141360"/>
            <a:ext cx="308160" cy="581400"/>
          </a:xfrm>
          <a:prstGeom prst="rect">
            <a:avLst/>
          </a:prstGeom>
          <a:noFill/>
          <a:ln w="9360">
            <a:solidFill>
              <a:srgbClr val="e7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Straight Arrow Connector 7"/>
          <p:cNvCxnSpPr/>
          <p:nvPr/>
        </p:nvCxnSpPr>
        <p:spPr>
          <a:xfrm flipH="1">
            <a:off x="4998600" y="834840"/>
            <a:ext cx="659520" cy="75636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0" name="TextBox 8"/>
          <p:cNvSpPr/>
          <p:nvPr/>
        </p:nvSpPr>
        <p:spPr>
          <a:xfrm>
            <a:off x="5657760" y="734040"/>
            <a:ext cx="308160" cy="581400"/>
          </a:xfrm>
          <a:prstGeom prst="rect">
            <a:avLst/>
          </a:prstGeom>
          <a:noFill/>
          <a:ln w="9360">
            <a:solidFill>
              <a:srgbClr val="e7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6967440" y="655560"/>
            <a:ext cx="2506680" cy="368280"/>
          </a:xfrm>
          <a:prstGeom prst="rect">
            <a:avLst/>
          </a:prstGeom>
          <a:noFill/>
          <a:ln w="9360">
            <a:solidFill>
              <a:srgbClr val="e7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adio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10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580A-B237-4858-92BF-CAF31CF01F90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192320" y="593640"/>
            <a:ext cx="6162480" cy="5905440"/>
          </a:xfrm>
          <a:prstGeom prst="rect">
            <a:avLst/>
          </a:prstGeom>
          <a:ln w="0">
            <a:noFill/>
          </a:ln>
        </p:spPr>
      </p:pic>
      <p:cxnSp>
        <p:nvCxnSpPr>
          <p:cNvPr id="104" name="Straight Arrow Connector 4"/>
          <p:cNvCxnSpPr/>
          <p:nvPr/>
        </p:nvCxnSpPr>
        <p:spPr>
          <a:xfrm flipV="1">
            <a:off x="883800" y="5658840"/>
            <a:ext cx="726120" cy="4244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5" name="TextBox 5"/>
          <p:cNvSpPr/>
          <p:nvPr/>
        </p:nvSpPr>
        <p:spPr>
          <a:xfrm>
            <a:off x="804960" y="5329440"/>
            <a:ext cx="387360" cy="459720"/>
          </a:xfrm>
          <a:prstGeom prst="rect">
            <a:avLst/>
          </a:prstGeom>
          <a:noFill/>
          <a:ln w="9360">
            <a:solidFill>
              <a:srgbClr val="e7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Straight Arrow Connector 6"/>
          <p:cNvCxnSpPr/>
          <p:nvPr/>
        </p:nvCxnSpPr>
        <p:spPr>
          <a:xfrm flipV="1">
            <a:off x="3911400" y="2844360"/>
            <a:ext cx="726120" cy="4248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7" name="TextBox 7"/>
          <p:cNvSpPr/>
          <p:nvPr/>
        </p:nvSpPr>
        <p:spPr>
          <a:xfrm>
            <a:off x="3886200" y="2594880"/>
            <a:ext cx="387360" cy="459720"/>
          </a:xfrm>
          <a:prstGeom prst="rect">
            <a:avLst/>
          </a:prstGeom>
          <a:noFill/>
          <a:ln w="9360">
            <a:solidFill>
              <a:srgbClr val="e7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Straight Arrow Connector 8"/>
          <p:cNvCxnSpPr/>
          <p:nvPr/>
        </p:nvCxnSpPr>
        <p:spPr>
          <a:xfrm flipV="1">
            <a:off x="4437000" y="6143040"/>
            <a:ext cx="727560" cy="4258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9" name="TextBox 9"/>
          <p:cNvSpPr/>
          <p:nvPr/>
        </p:nvSpPr>
        <p:spPr>
          <a:xfrm>
            <a:off x="4660920" y="5697000"/>
            <a:ext cx="388800" cy="459720"/>
          </a:xfrm>
          <a:prstGeom prst="rect">
            <a:avLst/>
          </a:prstGeom>
          <a:noFill/>
          <a:ln w="9360">
            <a:solidFill>
              <a:srgbClr val="e7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10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028E-115C-4081-8975-9AB683EA7D75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292400" y="698400"/>
            <a:ext cx="5841720" cy="5421240"/>
          </a:xfrm>
          <a:prstGeom prst="rect">
            <a:avLst/>
          </a:prstGeom>
          <a:ln w="0">
            <a:noFill/>
          </a:ln>
        </p:spPr>
      </p:pic>
      <p:cxnSp>
        <p:nvCxnSpPr>
          <p:cNvPr id="112" name="Straight Arrow Connector 6"/>
          <p:cNvCxnSpPr/>
          <p:nvPr/>
        </p:nvCxnSpPr>
        <p:spPr>
          <a:xfrm>
            <a:off x="2763720" y="1816200"/>
            <a:ext cx="1372320" cy="21470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13" name="TextBox 7"/>
          <p:cNvSpPr/>
          <p:nvPr/>
        </p:nvSpPr>
        <p:spPr>
          <a:xfrm>
            <a:off x="2992320" y="3083400"/>
            <a:ext cx="457200" cy="459720"/>
          </a:xfrm>
          <a:prstGeom prst="rect">
            <a:avLst/>
          </a:prstGeom>
          <a:noFill/>
          <a:ln w="9360">
            <a:solidFill>
              <a:srgbClr val="e7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Straight Arrow Connector 8"/>
          <p:cNvCxnSpPr/>
          <p:nvPr/>
        </p:nvCxnSpPr>
        <p:spPr>
          <a:xfrm flipH="1">
            <a:off x="5014800" y="3312720"/>
            <a:ext cx="255960" cy="10735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15" name="TextBox 10"/>
          <p:cNvSpPr/>
          <p:nvPr/>
        </p:nvSpPr>
        <p:spPr>
          <a:xfrm>
            <a:off x="5405400" y="3083400"/>
            <a:ext cx="457200" cy="459720"/>
          </a:xfrm>
          <a:prstGeom prst="rect">
            <a:avLst/>
          </a:prstGeom>
          <a:noFill/>
          <a:ln w="9360">
            <a:solidFill>
              <a:srgbClr val="e7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1"/>
          <p:cNvSpPr/>
          <p:nvPr/>
        </p:nvSpPr>
        <p:spPr>
          <a:xfrm>
            <a:off x="2763720" y="139680"/>
            <a:ext cx="2506680" cy="368280"/>
          </a:xfrm>
          <a:prstGeom prst="rect">
            <a:avLst/>
          </a:prstGeom>
          <a:noFill/>
          <a:ln w="9360">
            <a:solidFill>
              <a:srgbClr val="e7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ropDown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9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1990-7A4D-4EBB-A0A7-0097FCB88373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143000" y="625320"/>
            <a:ext cx="6232680" cy="5913720"/>
          </a:xfrm>
          <a:prstGeom prst="rect">
            <a:avLst/>
          </a:prstGeom>
          <a:ln w="0">
            <a:noFill/>
          </a:ln>
        </p:spPr>
      </p:pic>
      <p:cxnSp>
        <p:nvCxnSpPr>
          <p:cNvPr id="119" name="Straight Arrow Connector 4"/>
          <p:cNvCxnSpPr/>
          <p:nvPr/>
        </p:nvCxnSpPr>
        <p:spPr>
          <a:xfrm flipV="1">
            <a:off x="883800" y="5658840"/>
            <a:ext cx="726120" cy="4244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0" name="TextBox 5"/>
          <p:cNvSpPr/>
          <p:nvPr/>
        </p:nvSpPr>
        <p:spPr>
          <a:xfrm>
            <a:off x="804960" y="5329440"/>
            <a:ext cx="387360" cy="459720"/>
          </a:xfrm>
          <a:prstGeom prst="rect">
            <a:avLst/>
          </a:prstGeom>
          <a:noFill/>
          <a:ln w="9360">
            <a:solidFill>
              <a:srgbClr val="e7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Straight Arrow Connector 6"/>
          <p:cNvCxnSpPr/>
          <p:nvPr/>
        </p:nvCxnSpPr>
        <p:spPr>
          <a:xfrm flipV="1">
            <a:off x="3911400" y="2844360"/>
            <a:ext cx="726120" cy="4248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2" name="TextBox 7"/>
          <p:cNvSpPr/>
          <p:nvPr/>
        </p:nvSpPr>
        <p:spPr>
          <a:xfrm>
            <a:off x="3886200" y="2594880"/>
            <a:ext cx="387360" cy="459720"/>
          </a:xfrm>
          <a:prstGeom prst="rect">
            <a:avLst/>
          </a:prstGeom>
          <a:noFill/>
          <a:ln w="9360">
            <a:solidFill>
              <a:srgbClr val="e7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Straight Arrow Connector 8"/>
          <p:cNvCxnSpPr/>
          <p:nvPr/>
        </p:nvCxnSpPr>
        <p:spPr>
          <a:xfrm flipV="1">
            <a:off x="4437000" y="6143040"/>
            <a:ext cx="727560" cy="4258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4" name="TextBox 9"/>
          <p:cNvSpPr/>
          <p:nvPr/>
        </p:nvSpPr>
        <p:spPr>
          <a:xfrm>
            <a:off x="4660920" y="5697000"/>
            <a:ext cx="388800" cy="459720"/>
          </a:xfrm>
          <a:prstGeom prst="rect">
            <a:avLst/>
          </a:prstGeom>
          <a:noFill/>
          <a:ln w="9360">
            <a:solidFill>
              <a:srgbClr val="e7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10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58F9-F331-43CE-BFA7-4231E0419E39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01840" y="579600"/>
            <a:ext cx="5810040" cy="5776920"/>
          </a:xfrm>
          <a:prstGeom prst="rect">
            <a:avLst/>
          </a:prstGeom>
          <a:ln w="0">
            <a:noFill/>
          </a:ln>
        </p:spPr>
      </p:pic>
      <p:sp>
        <p:nvSpPr>
          <p:cNvPr id="127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E29D-F0AC-48F6-8CA9-E70E96A4007F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2"/>
          <p:cNvSpPr/>
          <p:nvPr/>
        </p:nvSpPr>
        <p:spPr>
          <a:xfrm>
            <a:off x="609480" y="959400"/>
            <a:ext cx="7925040" cy="398880"/>
          </a:xfrm>
          <a:prstGeom prst="rect">
            <a:avLst/>
          </a:prstGeom>
          <a:noFill/>
          <a:ln w="9360">
            <a:solidFill>
              <a:srgbClr val="e7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click the button you need to retrieve all selected ite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609480" y="2222280"/>
            <a:ext cx="8305920" cy="1465560"/>
          </a:xfrm>
          <a:prstGeom prst="rect">
            <a:avLst/>
          </a:prstGeom>
          <a:noFill/>
          <a:ln w="9360">
            <a:solidFill>
              <a:srgbClr val="e7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ed Sub Button1_Click(ByVal sender As Object, ByVal e As System.EventArgs) Handles Button1.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1.Text = " You are :   " &amp; RadioButtonList1.SelectedValue &amp; "  and your age is between:   " &amp; DropDownList1.Selected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C8A2-F05E-499C-8053-4D5F8CCA57AF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298440" y="716040"/>
            <a:ext cx="8210520" cy="4348080"/>
          </a:xfrm>
          <a:prstGeom prst="rect">
            <a:avLst/>
          </a:prstGeom>
          <a:ln w="0">
            <a:noFill/>
          </a:ln>
        </p:spPr>
      </p:pic>
      <p:sp>
        <p:nvSpPr>
          <p:cNvPr id="132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113D-E790-4A95-B648-3E99CEC5435C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89040" y="175572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5b9bd5"/>
                </a:solidFill>
                <a:latin typeface="Cambria"/>
              </a:rPr>
              <a:t>Questions !!</a:t>
            </a:r>
            <a:br>
              <a:rPr sz="6000"/>
            </a:br>
            <a:r>
              <a:rPr b="1" lang="en-GB" sz="6000" spc="-1" strike="noStrike">
                <a:solidFill>
                  <a:srgbClr val="5b9bd5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6F64-97DB-41D6-854C-80F87994B108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rcRect l="0" t="9000" r="43125" b="58001"/>
          <a:stretch/>
        </p:blipFill>
        <p:spPr>
          <a:xfrm>
            <a:off x="380880" y="3160800"/>
            <a:ext cx="7772400" cy="30114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304920" y="531720"/>
            <a:ext cx="777240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a35"/>
                </a:solidFill>
                <a:latin typeface="Arial"/>
              </a:rPr>
              <a:t>The Relationships Between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database as usual and as we already knew from the previous lectures. Click on View, and select Server Explorer window. Double-click on your database then all files which are stored in this database will appear. Right-click on Table folder and choose Add New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fields you desire and choose their data types. Don’t forget to save your table. For example, create 3 fields “StudentID” , “StudentName” and “tel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792F-F282-4627-B50F-78DA2354BDF2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0" t="9000" r="48126" b="58001"/>
          <a:stretch/>
        </p:blipFill>
        <p:spPr>
          <a:xfrm>
            <a:off x="216000" y="2538360"/>
            <a:ext cx="7924680" cy="3151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304920" y="766800"/>
            <a:ext cx="7848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Table folder again and choose Add New Table to Create a new table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fields you desire and choose their data types. Don’t forget to save your table. For example, create 3 fields “CourseID” , “title” and “hour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4036-8513-4DBC-93DB-7312EF40374C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rcRect l="0" t="9000" r="43751" b="56002"/>
          <a:stretch/>
        </p:blipFill>
        <p:spPr>
          <a:xfrm>
            <a:off x="228600" y="2438280"/>
            <a:ext cx="7924680" cy="3200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304920" y="843120"/>
            <a:ext cx="7848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Table folder again and choose Add New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fields you desire and choose their data types. Don’t forget to save your table. For example, create 3 fields “StudentID” , “CourseID” and “scor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E3A5-243C-4EFA-BA46-9849B58137AA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rcRect l="0" t="9000" r="26876" b="28001"/>
          <a:stretch/>
        </p:blipFill>
        <p:spPr>
          <a:xfrm>
            <a:off x="76320" y="1600200"/>
            <a:ext cx="8915400" cy="4800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304920" y="6145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ssign a foreign key for a table when you in the table definition click on table designer toolbar and choose relationships ic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7A34-737D-40EB-9886-7326C4820AF7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0" t="9000" r="27499" b="28001"/>
          <a:stretch/>
        </p:blipFill>
        <p:spPr>
          <a:xfrm>
            <a:off x="152280" y="1371600"/>
            <a:ext cx="8839440" cy="48006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304920" y="6145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ables And Columns Specification cho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A633-CB91-46F8-AE2D-CC8013BAC4F8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rcRect l="0" t="9000" r="27499" b="28001"/>
          <a:stretch/>
        </p:blipFill>
        <p:spPr>
          <a:xfrm>
            <a:off x="152280" y="1219320"/>
            <a:ext cx="8839440" cy="4800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304920" y="6145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primary key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9EE3-0CC3-43B1-9C75-AD2AD9B06D46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"/>
          <p:cNvPicPr/>
          <p:nvPr/>
        </p:nvPicPr>
        <p:blipFill>
          <a:blip r:embed="rId1"/>
          <a:srcRect l="0" t="9000" r="28125" b="29003"/>
          <a:stretch/>
        </p:blipFill>
        <p:spPr>
          <a:xfrm>
            <a:off x="152280" y="1523880"/>
            <a:ext cx="8763120" cy="47246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304920" y="6145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field to be foreign key in this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8657-39A7-4BDC-A273-69622C24C580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20:57:36Z</dcterms:created>
  <dc:creator>User</dc:creator>
  <dc:description/>
  <dc:language>en-US</dc:language>
  <cp:lastModifiedBy>User</cp:lastModifiedBy>
  <dcterms:modified xsi:type="dcterms:W3CDTF">2016-11-05T18:38:41Z</dcterms:modified>
  <cp:revision>51</cp:revision>
  <dc:subject/>
  <dc:title>الشريحة 1</dc:title>
</cp:coreProperties>
</file>